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3C2A0-183C-4A89-B222-51A145C04E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F99DA-9D01-455E-9EFD-730B5C774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F0DD-114A-4144-9492-5E6405C64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35AA-40D6-4686-B46E-03D7CC373C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91B9A4-F929-494E-A363-BEB7AA966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34766-67A2-4482-84EE-39456F594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82EC59-6C98-4AF4-A533-0DBAFBF99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8A3A3-6F82-4A6B-936D-3B74AAD04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49422-9A7D-4481-BC7D-A91525694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8BFA1-C7B8-4A3C-8AFD-A26CCC25A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CE652-2288-4B6C-B44D-52D7853F1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5FA39-CB05-4750-AB79-6FFB20D26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97A1B-C114-4342-AD4C-A956D81F0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05F6E-D5F9-48BF-90BB-489874B82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7EC79B-C256-45CA-99C9-D7342A00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577CF-7FBB-4E1D-B60A-08F95817A1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1F53B-EF7E-4078-8188-3F1CF3008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76FB-AE24-4885-960E-D91FB89D8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07E4D-26BA-4D5B-831F-9A329018C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B93C-C98C-4966-8328-968ADCA08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691AD-F90A-4FF8-BA41-595154EA3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70CD6-D625-422C-B2F4-F2E53C05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A9E37-B248-42CD-99F1-F5136AF9D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40C38-FB4E-492A-9507-E6FD59DB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" Target="slide2.xm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094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2A1E8-5376-4110-BE83-D064EE9A7BC9}" type="datetime">
              <a:rPr b="0" lang="hu-HU" sz="1200" spc="-1" strike="noStrike">
                <a:solidFill>
                  <a:srgbClr val="ffffcc"/>
                </a:solidFill>
                <a:latin typeface="Arial"/>
              </a:rPr>
              <a:t>26.07.28.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u-HU" sz="12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C194B-3BB8-4956-A521-CFA66D138B0C}" type="slidenum">
              <a:rPr b="0" lang="hu-H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>
            <a:hlinkClick r:id="rId2" action="ppaction://hlinksldjump"/>
          </p:cNvPr>
          <p:cNvSpPr/>
          <p:nvPr/>
        </p:nvSpPr>
        <p:spPr>
          <a:xfrm>
            <a:off x="2556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" name="szp_alr" descr=""/>
          <p:cNvPicPr/>
          <p:nvPr/>
        </p:nvPicPr>
        <p:blipFill>
          <a:blip r:embed="rId3">
            <a:lum contrast="20000"/>
          </a:blip>
          <a:stretch/>
        </p:blipFill>
        <p:spPr>
          <a:xfrm>
            <a:off x="0" y="0"/>
            <a:ext cx="1066680" cy="219240"/>
          </a:xfrm>
          <a:prstGeom prst="rect">
            <a:avLst/>
          </a:prstGeom>
          <a:ln w="0">
            <a:noFill/>
          </a:ln>
        </p:spPr>
      </p:pic>
      <p:sp>
        <p:nvSpPr>
          <p:cNvPr id="12" name="">
            <a:hlinkClick r:id="" action="ppaction://hlinkshowjump?jump=previousslide"/>
          </p:cNvPr>
          <p:cNvSpPr/>
          <p:nvPr/>
        </p:nvSpPr>
        <p:spPr>
          <a:xfrm>
            <a:off x="8771040" y="25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50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FD0BE-232D-44E9-8D16-976D30D0529B}" type="datetime">
              <a:rPr b="0" lang="hu-HU" sz="1400" spc="-1" strike="noStrike">
                <a:solidFill>
                  <a:srgbClr val="ffff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CCE7A1-338A-4B0F-AA2A-C78316F15EE3}" type="slidenum">
              <a:rPr b="0" lang="hu-H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zzo.inf.elte.hu/~szlavi" TargetMode="External"/><Relationship Id="rId3" Type="http://schemas.openxmlformats.org/officeDocument/2006/relationships/hyperlink" Target="http://izzo.inf.elte.hu/~szlavi" TargetMode="External"/><Relationship Id="rId4" Type="http://schemas.openxmlformats.org/officeDocument/2006/relationships/hyperlink" Target="http://izzo.inf.elte.hu/~szlavi" TargetMode="External"/><Relationship Id="rId5" Type="http://schemas.openxmlformats.org/officeDocument/2006/relationships/hyperlink" Target="http://izzo.inf.elte.hu/~szlavi" TargetMode="External"/><Relationship Id="rId6" Type="http://schemas.openxmlformats.org/officeDocument/2006/relationships/hyperlink" Target="http://izzo.inf.elte.hu/~szlavi" TargetMode="External"/><Relationship Id="rId7" Type="http://schemas.openxmlformats.org/officeDocument/2006/relationships/hyperlink" Target="http://izzo.inf.elte.hu/~szlavi" TargetMode="External"/><Relationship Id="rId8" Type="http://schemas.openxmlformats.org/officeDocument/2006/relationships/hyperlink" Target="http://izzo.inf.elte.hu/~szlavi" TargetMode="External"/><Relationship Id="rId9" Type="http://schemas.openxmlformats.org/officeDocument/2006/relationships/hyperlink" Target="http://izzo.inf.elte.hu/~szlavi" TargetMode="External"/><Relationship Id="rId10" Type="http://schemas.openxmlformats.org/officeDocument/2006/relationships/hyperlink" Target="http://izzo.inf.elte.hu/~szlavi" TargetMode="External"/><Relationship Id="rId11" Type="http://schemas.openxmlformats.org/officeDocument/2006/relationships/hyperlink" Target="http://izzo.inf.elte.hu/~szlavi" TargetMode="External"/><Relationship Id="rId12" Type="http://schemas.openxmlformats.org/officeDocument/2006/relationships/hyperlink" Target="http://izzo.inf.elte.hu/~szlavi" TargetMode="External"/><Relationship Id="rId1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adfelea1.ppt#Slide 4" TargetMode="External"/><Relationship Id="rId2" Type="http://schemas.openxmlformats.org/officeDocument/2006/relationships/slide" Target="slide4.xml"/><Relationship Id="rId3" Type="http://schemas.openxmlformats.org/officeDocument/2006/relationships/hyperlink" Target="file:///adfelea3.ppt#4. 3. Id&#337;szer&#369;s&#237;t&#233;s" TargetMode="External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file:///adfelea3.ppt#19. 4. K&#252;ls&#337; rendez&#233;sek" TargetMode="External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ffcc66"/>
                </a:solidFill>
                <a:latin typeface="Times New Roman"/>
              </a:rPr>
              <a:t>Adatfeldolgozás 2.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6" name="szp_alr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6615000"/>
            <a:ext cx="1184400" cy="2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3821040"/>
            <a:ext cx="7620120" cy="16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cc66"/>
                </a:solidFill>
                <a:latin typeface="Times New Roman"/>
              </a:rPr>
              <a:t>Szlávi Pé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cc66"/>
                </a:solidFill>
                <a:latin typeface="Times New Roman"/>
              </a:rPr>
              <a:t>ELTE Informatika Szakmódszertani Csopor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Courier New"/>
              </a:rPr>
              <a:t>szlavi@ludens.elte.hu</a:t>
            </a:r>
            <a:br>
              <a:rPr sz="2000"/>
            </a:br>
            <a:r>
              <a:rPr b="0" lang="hu-HU" sz="2000" spc="-1" strike="noStrike" u="sng">
                <a:solidFill>
                  <a:srgbClr val="ff99ff"/>
                </a:solidFill>
                <a:uFillTx/>
                <a:latin typeface="Courier New"/>
                <a:hlinkClick r:id="rId2"/>
              </a:rPr>
              <a:t>http: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3"/>
              </a:rPr>
              <a:t>//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4"/>
              </a:rPr>
              <a:t>izzo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6"/>
              </a:rPr>
              <a:t>inf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7"/>
              </a:rPr>
              <a:t>.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8"/>
              </a:rPr>
              <a:t>elte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10"/>
              </a:rPr>
              <a:t>hu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11"/>
              </a:rPr>
              <a:t>/~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12"/>
              </a:rPr>
              <a:t>szlav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 Struktúramegfeleltetés konfliktusai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Rendezetlenségi konfliktu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a lényeg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általános megoldás:</a:t>
            </a:r>
            <a:br>
              <a:rPr sz="3200"/>
            </a:b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(külső) rendez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029200" y="1900080"/>
            <a:ext cx="3048120" cy="3738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9E9BD-B441-4606-BFA5-F0DA9ED6CF2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AAD25F-0724-4E63-8599-DC928FF2BC21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 Struktúramegfeleltetés konfliktusai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Speciális rendezetlenségi konfliktu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a lényeg:</a:t>
            </a:r>
            <a:br>
              <a:rPr sz="32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fordított sorrend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megoldás:</a:t>
            </a:r>
            <a:br>
              <a:rPr sz="3200"/>
            </a:b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(külső) </a:t>
            </a:r>
            <a:r>
              <a:rPr b="1" i="1" lang="hu-HU" sz="28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veremkezelés”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5003640" y="1766880"/>
            <a:ext cx="2387880" cy="4024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CB72-4D0B-4EC6-B479-C0000837E5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27E453-CCE6-4A35-A71D-860A7D6CAB4F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 Struktúramegfeleltetés konfliktusai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Speciális rendezetlenségi konfliktu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a lényeg:</a:t>
            </a:r>
            <a:br>
              <a:rPr sz="32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csoportokban rossz sorrendben,</a:t>
            </a:r>
            <a:br>
              <a:rPr sz="28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de a csoportok helyes sorrendben</a:t>
            </a:r>
            <a:br>
              <a:rPr sz="28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(a csoportméret ismert, nem túl</a:t>
            </a:r>
            <a:br>
              <a:rPr sz="28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nagy).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megoldás:</a:t>
            </a:r>
            <a:br>
              <a:rPr sz="3200"/>
            </a:b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pufferbe másolás + belső rendez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114960" y="1981080"/>
            <a:ext cx="2571840" cy="3962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B02B9-0AA5-4D15-930D-6FCFABDA6A8A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A0EB1F-448E-4C1A-B8B3-604217447A70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1 Tagolási konfliktus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Feloldás:</a:t>
            </a:r>
            <a:br>
              <a:rPr sz="3200"/>
            </a:b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a típusok </a:t>
            </a:r>
            <a:r>
              <a:rPr b="0" i="1" lang="hu-HU" sz="3200" spc="-1" strike="noStrike">
                <a:solidFill>
                  <a:srgbClr val="ffffcc"/>
                </a:solidFill>
                <a:latin typeface="Times New Roman"/>
              </a:rPr>
              <a:t>„összebékítése” virtuális típus(ok) bevezetéséve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Típusmódosítá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Reprezentációmódosí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Implementál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Virtuális elem olvasása (bemeneti oldal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Virtuális elem írása (kimeneti oldalon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Sokszor még: nyitás és zárás 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szertartása”,</a:t>
            </a:r>
            <a:br>
              <a:rPr sz="28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vég-érzékelése i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719B-C460-4050-9975-9A109DF6099D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D32CE0-479E-4384-BB00-3C7A60207CFA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1 Tagolás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52560"/>
                <a:tab algn="ctr" pos="4191120"/>
                <a:tab algn="l" pos="4863960"/>
                <a:tab algn="l" pos="6378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Példa:</a:t>
            </a:r>
            <a:br>
              <a:rPr sz="3200"/>
            </a:b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File nyomtatása lapozottan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fej=File-név, láb=lapsorszám)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52560"/>
                <a:tab algn="ctr" pos="4191120"/>
                <a:tab algn="l" pos="4863960"/>
                <a:tab algn="l" pos="63784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Megoldás:</a:t>
            </a:r>
            <a:br>
              <a:rPr sz="3200"/>
            </a:br>
            <a:r>
              <a:rPr b="1" lang="da-DK" sz="2400" spc="-1" strike="noStrike">
                <a:solidFill>
                  <a:srgbClr val="ffffcc"/>
                </a:solidFill>
                <a:latin typeface="Times New Roman"/>
              </a:rPr>
              <a:t>Típus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Bemenet=</a:t>
            </a:r>
            <a:r>
              <a:rPr b="1" lang="da-DK" sz="2400" spc="-1" strike="noStrike">
                <a:solidFill>
                  <a:srgbClr val="ffffcc"/>
                </a:solidFill>
                <a:latin typeface="Times New Roman"/>
              </a:rPr>
              <a:t>File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(TElem)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Kimenet=</a:t>
            </a:r>
            <a:r>
              <a:rPr b="1" lang="da-DK" sz="2400" spc="-1" strike="noStrike">
                <a:solidFill>
                  <a:srgbClr val="ffffcc"/>
                </a:solidFill>
                <a:latin typeface="Times New Roman"/>
              </a:rPr>
              <a:t>File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(TLap)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TElem=?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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TLap=</a:t>
            </a:r>
            <a:r>
              <a:rPr b="1" lang="da-DK" sz="2400" spc="-1" strike="noStrike">
                <a:solidFill>
                  <a:srgbClr val="ffffcc"/>
                </a:solidFill>
                <a:latin typeface="Times New Roman"/>
              </a:rPr>
              <a:t>Rekord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(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fej: TFej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törzs: TSorok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láb: TLáb)</a:t>
            </a:r>
            <a:br>
              <a:rPr sz="2400"/>
            </a:br>
            <a:r>
              <a:rPr b="1" i="1" lang="da-DK" sz="2400" spc="-1" strike="noStrike">
                <a:solidFill>
                  <a:srgbClr val="ff99ff"/>
                </a:solidFill>
                <a:latin typeface="Times New Roman"/>
              </a:rPr>
              <a:t>Konfliktus!!! Feloldása: virtuális típus a bemeneti oldalon.</a:t>
            </a:r>
            <a:br>
              <a:rPr sz="2400"/>
            </a:br>
            <a:r>
              <a:rPr b="1" i="1" lang="da-DK" sz="2400" spc="-1" strike="noStrike">
                <a:solidFill>
                  <a:srgbClr val="ffffcc"/>
                </a:solidFill>
                <a:latin typeface="Times New Roman"/>
              </a:rPr>
              <a:t>Reprezentáció:</a:t>
            </a:r>
            <a:br>
              <a:rPr sz="2400"/>
            </a:br>
            <a:r>
              <a:rPr b="1" i="1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Bemenet=</a:t>
            </a:r>
            <a:r>
              <a:rPr b="1" lang="da-DK" sz="2400" spc="-1" strike="noStrike">
                <a:solidFill>
                  <a:srgbClr val="ffffcc"/>
                </a:solidFill>
                <a:latin typeface="Times New Roman"/>
              </a:rPr>
              <a:t>File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(VLap)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VLap=TLapnyiDbElem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           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TUtolsóLap  [</a:t>
            </a:r>
            <a:r>
              <a:rPr b="1" i="1" lang="da-DK" sz="2400" spc="-1" strike="noStrike">
                <a:solidFill>
                  <a:srgbClr val="ffffcc"/>
                </a:solidFill>
                <a:latin typeface="Times New Roman"/>
              </a:rPr>
              <a:t>Unio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933800" y="3048120"/>
            <a:ext cx="0" cy="15238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7A0D2-7AB0-4FC4-BCA8-11770327ACBE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191409-3A94-4351-BB0F-3942EFE8167A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1 Tagolás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851040"/>
                <a:tab algn="l" pos="1139760"/>
                <a:tab algn="l" pos="1905120"/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400" spc="-1" strike="noStrike">
                <a:solidFill>
                  <a:srgbClr val="ffffcc"/>
                </a:solidFill>
                <a:latin typeface="Times New Roman"/>
              </a:rPr>
              <a:t>Implementáció:</a:t>
            </a:r>
            <a:br>
              <a:rPr sz="24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Konstans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DB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:Egész(?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Típus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TSorok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Tömb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1..DB:TSor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TSor= </a:t>
            </a:r>
            <a:r>
              <a:rPr b="0" i="1" lang="da-DK" sz="2000" spc="-1" strike="noStrike">
                <a:solidFill>
                  <a:srgbClr val="ffffcc"/>
                </a:solidFill>
                <a:latin typeface="Courier New"/>
              </a:rPr>
              <a:t>… sor …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851040"/>
                <a:tab algn="l" pos="1139760"/>
                <a:tab algn="l" pos="1905120"/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VLapOlvasás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X:Bemenet, s:TSorok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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i:=0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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i&lt;DB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és nem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Vége?(X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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Olvas(X,adat); i:+1; s(i):=</a:t>
            </a:r>
            <a:r>
              <a:rPr b="0" i="1" lang="da-DK" sz="2400" spc="-1" strike="noStrike">
                <a:solidFill>
                  <a:srgbClr val="ffffcc"/>
                </a:solidFill>
                <a:latin typeface="Arial"/>
              </a:rPr>
              <a:t>f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adat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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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j=i+1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-től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DB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-ig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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(j):=ÜresSor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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851040"/>
                <a:tab algn="l" pos="1139760"/>
                <a:tab algn="l" pos="1905120"/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105520" y="4038480"/>
            <a:ext cx="3657600" cy="1191240"/>
          </a:xfrm>
          <a:prstGeom prst="rect">
            <a:avLst/>
          </a:prstGeom>
          <a:solidFill>
            <a:srgbClr val="969696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ffffcc"/>
                </a:solidFill>
                <a:latin typeface="Times New Roman"/>
              </a:rPr>
              <a:t>A maradék kitöltése. Világos utalás arra, hogy a VLap unióként lett definiálva, ti. i&lt;DB feltétel mellett jelent egyáltalán végrehajtás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5F3F6-D3AE-45B3-A163-A0DE5402170A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C45111F-8852-4784-B3F7-2FE7751FD31C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1 Tagolás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851040"/>
                <a:tab algn="l" pos="1139760"/>
                <a:tab algn="l" pos="1905120"/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400" spc="-1" strike="noStrike">
                <a:solidFill>
                  <a:srgbClr val="ff99ff"/>
                </a:solidFill>
                <a:latin typeface="Times New Roman"/>
              </a:rPr>
              <a:t>A Kimenet típus implementálandó, hiszen TLap típus nem standard típu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851040"/>
                <a:tab algn="l" pos="1139760"/>
                <a:tab algn="l" pos="1905120"/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400" spc="-1" strike="noStrike">
                <a:solidFill>
                  <a:srgbClr val="ffffcc"/>
                </a:solidFill>
                <a:latin typeface="Times New Roman"/>
              </a:rPr>
              <a:t>Implementáció:</a:t>
            </a:r>
            <a:br>
              <a:rPr sz="24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LapÍrás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Z:Szövegfil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 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Konstan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:TSorok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99ff"/>
                </a:solidFill>
                <a:latin typeface="Courier New"/>
              </a:rPr>
              <a:t>FejlécNyomtatás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i=1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-től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DB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-ig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Ír(Z,s(i)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99ff"/>
                </a:solidFill>
                <a:latin typeface="Courier New"/>
              </a:rPr>
              <a:t>LáblécNyomtatás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99ff"/>
                </a:solidFill>
                <a:latin typeface="Courier New"/>
              </a:rPr>
              <a:t>[lapsz:+1 és kiírás]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851040"/>
                <a:tab algn="l" pos="1139760"/>
                <a:tab algn="l" pos="1905120"/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da-DK" sz="2400" spc="-1" strike="noStrike">
                <a:solidFill>
                  <a:srgbClr val="ffffcc"/>
                </a:solidFill>
                <a:latin typeface="Times New Roman"/>
              </a:rPr>
              <a:t>A megoldá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851040"/>
                <a:tab algn="l" pos="1139760"/>
                <a:tab algn="l" pos="1905120"/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Symbol"/>
                <a:ea typeface="Symbol"/>
              </a:rPr>
              <a:t>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Nyit(X,…); </a:t>
            </a:r>
            <a:r>
              <a:rPr b="0" lang="da-DK" sz="2000" spc="-1" strike="noStrike">
                <a:solidFill>
                  <a:srgbClr val="ff99ff"/>
                </a:solidFill>
                <a:latin typeface="Courier New"/>
              </a:rPr>
              <a:t>Nyitás(Z)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da-DK" sz="2000" spc="-1" strike="noStrike">
                <a:solidFill>
                  <a:srgbClr val="ff99ff"/>
                </a:solidFill>
                <a:latin typeface="Courier New"/>
              </a:rPr>
              <a:t>[lapsz:=0]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 nem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Vége?(X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VLapOlvasás(X,sor); LapÍrás(Z,sor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Zár(X); Zár(Z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662880" y="1676520"/>
            <a:ext cx="2438280" cy="11912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cc"/>
                </a:solidFill>
                <a:latin typeface="Times New Roman"/>
              </a:rPr>
              <a:t>TLap=</a:t>
            </a:r>
            <a:r>
              <a:rPr b="1" lang="da-DK" sz="1800" spc="-1" strike="noStrike">
                <a:solidFill>
                  <a:srgbClr val="ffffcc"/>
                </a:solidFill>
                <a:latin typeface="Times New Roman"/>
              </a:rPr>
              <a:t>Rekord</a:t>
            </a:r>
            <a:r>
              <a:rPr b="0" lang="da-DK" sz="1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da-DK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1800" spc="-1" strike="noStrike">
                <a:solidFill>
                  <a:srgbClr val="ffffcc"/>
                </a:solidFill>
                <a:latin typeface="Times New Roman"/>
              </a:rPr>
              <a:t>fej: TFej</a:t>
            </a:r>
            <a:r>
              <a:rPr b="0" lang="da-DK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1800" spc="-1" strike="noStrike">
                <a:solidFill>
                  <a:srgbClr val="ffffcc"/>
                </a:solidFill>
                <a:latin typeface="Times New Roman"/>
              </a:rPr>
              <a:t>törzs: TSorok</a:t>
            </a:r>
            <a:br>
              <a:rPr sz="1800"/>
            </a:br>
            <a:r>
              <a:rPr b="0" lang="da-DK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1800" spc="-1" strike="noStrike">
                <a:solidFill>
                  <a:srgbClr val="ffffcc"/>
                </a:solidFill>
                <a:latin typeface="Times New Roman"/>
              </a:rPr>
              <a:t>láb: TLáb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2871720"/>
            <a:ext cx="1523880" cy="381240"/>
          </a:xfrm>
          <a:prstGeom prst="wedgeRoundRectCallout">
            <a:avLst>
              <a:gd name="adj1" fmla="val -118231"/>
              <a:gd name="adj2" fmla="val -7083"/>
              <a:gd name="adj3" fmla="val 16667"/>
            </a:avLst>
          </a:prstGeom>
          <a:solidFill>
            <a:srgbClr val="ffff99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95680" y="4343400"/>
            <a:ext cx="1524240" cy="380880"/>
          </a:xfrm>
          <a:prstGeom prst="wedgeRoundRectCallout">
            <a:avLst>
              <a:gd name="adj1" fmla="val -98439"/>
              <a:gd name="adj2" fmla="val -98333"/>
              <a:gd name="adj3" fmla="val 16667"/>
            </a:avLst>
          </a:prstGeom>
          <a:solidFill>
            <a:srgbClr val="ffff99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5680" y="4348080"/>
            <a:ext cx="1524240" cy="381240"/>
          </a:xfrm>
          <a:prstGeom prst="wedgeRoundRectCallout">
            <a:avLst>
              <a:gd name="adj1" fmla="val -132500"/>
              <a:gd name="adj2" fmla="val 166666"/>
              <a:gd name="adj3" fmla="val 16667"/>
            </a:avLst>
          </a:prstGeom>
          <a:solidFill>
            <a:srgbClr val="ffff99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0B741-CB7A-4EFC-8A56-2701C52E9BF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F5F8E1-BDFC-446F-9CC1-3F7C5842E885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1 Tagolás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52560"/>
                <a:tab algn="l" pos="1717560"/>
                <a:tab algn="ctr" pos="4473720"/>
                <a:tab algn="l" pos="4762440"/>
                <a:tab algn="l" pos="5527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Példa:</a:t>
            </a:r>
            <a:br>
              <a:rPr sz="3200"/>
            </a:b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SzövegFile sorokra tördelése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szó nem törhet el)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52560"/>
                <a:tab algn="l" pos="1717560"/>
                <a:tab algn="ctr" pos="4473720"/>
                <a:tab algn="l" pos="4762440"/>
                <a:tab algn="l" pos="5527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Megoldás:</a:t>
            </a:r>
            <a:br>
              <a:rPr sz="3200"/>
            </a:br>
            <a:r>
              <a:rPr b="1" lang="da-DK" sz="2400" spc="-1" strike="noStrike">
                <a:solidFill>
                  <a:srgbClr val="ffffcc"/>
                </a:solidFill>
                <a:latin typeface="Times New Roman"/>
              </a:rPr>
              <a:t>Típus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Bemenet=</a:t>
            </a:r>
            <a:r>
              <a:rPr b="1" lang="da-DK" sz="2400" spc="-1" strike="noStrike">
                <a:solidFill>
                  <a:srgbClr val="ffffcc"/>
                </a:solidFill>
                <a:latin typeface="Times New Roman"/>
              </a:rPr>
              <a:t>File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(Karakter)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Kimenet=</a:t>
            </a:r>
            <a:r>
              <a:rPr b="1" lang="da-DK" sz="2400" spc="-1" strike="noStrike">
                <a:solidFill>
                  <a:srgbClr val="ffffcc"/>
                </a:solidFill>
                <a:latin typeface="Times New Roman"/>
              </a:rPr>
              <a:t>File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(TSor)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Karakter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Symbol"/>
                <a:ea typeface="Symbol"/>
              </a:rPr>
              <a:t>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TSor=(Szó </a:t>
            </a:r>
            <a:r>
              <a:rPr b="0" lang="da-DK" sz="20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SzóElválasztó)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br>
              <a:rPr sz="2400"/>
            </a:br>
            <a:r>
              <a:rPr b="1" i="1" lang="da-DK" sz="2400" spc="-1" strike="noStrike">
                <a:solidFill>
                  <a:srgbClr val="ff99ff"/>
                </a:solidFill>
                <a:latin typeface="Times New Roman"/>
              </a:rPr>
              <a:t>Konfliktus!!! Feloldása: virtuális típus a bemeneti oldalon.</a:t>
            </a:r>
            <a:br>
              <a:rPr sz="2400"/>
            </a:br>
            <a:r>
              <a:rPr b="1" i="1" lang="da-DK" sz="2400" spc="-1" strike="noStrike">
                <a:solidFill>
                  <a:srgbClr val="ffffcc"/>
                </a:solidFill>
                <a:latin typeface="Times New Roman"/>
              </a:rPr>
              <a:t>Reprezentáció:</a:t>
            </a:r>
            <a:br>
              <a:rPr sz="2400"/>
            </a:br>
            <a:r>
              <a:rPr b="1" i="1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Bemenet=</a:t>
            </a:r>
            <a:r>
              <a:rPr b="1" lang="da-DK" sz="2400" spc="-1" strike="noStrike">
                <a:solidFill>
                  <a:srgbClr val="ffffcc"/>
                </a:solidFill>
                <a:latin typeface="Times New Roman"/>
              </a:rPr>
              <a:t>File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(TSor)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TSor=(Szó </a:t>
            </a:r>
            <a:r>
              <a:rPr b="0" lang="da-DK" sz="20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SzóElválasztó)</a:t>
            </a:r>
            <a:r>
              <a:rPr b="0" lang="da-DK" sz="24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2400"/>
            </a:b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[</a:t>
            </a:r>
            <a:r>
              <a:rPr b="1" lang="hu-HU" sz="2400" spc="-1" strike="noStrike">
                <a:solidFill>
                  <a:srgbClr val="ffffcc"/>
                </a:solidFill>
                <a:latin typeface="Times New Roman"/>
              </a:rPr>
              <a:t>Típusinvariáns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SzóElválasztó=Üres </a:t>
            </a:r>
            <a:r>
              <a:rPr b="0" lang="hu-HU" sz="24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 {‘ ‘} </a:t>
            </a:r>
            <a:r>
              <a:rPr b="0" lang="hu-HU" sz="24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br>
              <a:rPr sz="2400"/>
            </a:b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Hossz(Szó+SzóElválasztó)</a:t>
            </a:r>
            <a:r>
              <a:rPr b="0" lang="hu-HU" sz="24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SorHossz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952560"/>
                <a:tab algn="l" pos="1717560"/>
                <a:tab algn="ctr" pos="4473720"/>
                <a:tab algn="l" pos="4762440"/>
                <a:tab algn="l" pos="55278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205240" y="3048120"/>
            <a:ext cx="0" cy="6858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0081E-E197-4CCD-9AF8-382AD3AF5046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30A97D-D057-4BC2-858E-43EFC7101EEB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1 Tagolás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11282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10800" bIns="10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851040"/>
                <a:tab algn="l" pos="1139760"/>
                <a:tab algn="l" pos="1905120"/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400" spc="-1" strike="noStrike">
                <a:solidFill>
                  <a:srgbClr val="ffffcc"/>
                </a:solidFill>
                <a:latin typeface="Times New Roman"/>
              </a:rPr>
              <a:t>Implementáció:</a:t>
            </a:r>
            <a:br>
              <a:rPr sz="24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Típus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TSor=Szöveg [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Típusinvariáns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: …]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Konstan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MaxSHossz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:Egész(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?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)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[Sorhossz]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 algn="ctr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851040"/>
                <a:tab algn="l" pos="1139760"/>
                <a:tab algn="l" pos="1905120"/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000" spc="-1" strike="noStrike">
                <a:solidFill>
                  <a:srgbClr val="ff99ff"/>
                </a:solidFill>
                <a:latin typeface="Times New Roman"/>
              </a:rPr>
              <a:t>Előreolvasási technika</a:t>
            </a:r>
            <a:r>
              <a:rPr b="0" i="1" lang="en-US" sz="2000" spc="-1" strike="noStrike">
                <a:solidFill>
                  <a:srgbClr val="ff99ff"/>
                </a:solidFill>
                <a:latin typeface="Times New Roman"/>
              </a:rPr>
              <a:t>!!!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851040"/>
                <a:tab algn="l" pos="1139760"/>
                <a:tab algn="l" pos="1905120"/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szó,elv:Szöveg [előreolvasott szó/elv.]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851040"/>
                <a:tab algn="l" pos="1139760"/>
                <a:tab algn="l" pos="1905120"/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SorNyitás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X:Bemenet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SzóOlvasás(X,szó,elv) [Vége?(X) 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szó/elv:=’’]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851040"/>
                <a:tab algn="l" pos="1139760"/>
                <a:tab algn="l" pos="1905120"/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SorOlvasás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X:Bemenet,sor:TSor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:=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’’   [szó+elv </a:t>
            </a:r>
            <a:r>
              <a:rPr b="0" i="1" lang="hu-HU" sz="2000" spc="-1" strike="noStrike">
                <a:solidFill>
                  <a:srgbClr val="ffffcc"/>
                </a:solidFill>
                <a:latin typeface="Times New Roman"/>
              </a:rPr>
              <a:t>előreolvasva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]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 nem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Vége?(X)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és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Hossz(sor)+Hossz(szó+elv)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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MaxSHossz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sor:+szó+elv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SzóOlvasás(X,szó,elv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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Ha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Hossz(sor)+Hossz(</a:t>
            </a:r>
            <a:r>
              <a:rPr b="0" lang="da-DK" sz="2000" spc="-1" strike="noStrike">
                <a:solidFill>
                  <a:srgbClr val="ff99ff"/>
                </a:solidFill>
                <a:latin typeface="Courier New"/>
              </a:rPr>
              <a:t>szó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)&lt;MaxSHossz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 akkor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:+</a:t>
            </a:r>
            <a:r>
              <a:rPr b="0" lang="da-DK" sz="2000" spc="-1" strike="noStrike">
                <a:solidFill>
                  <a:srgbClr val="ff99ff"/>
                </a:solidFill>
                <a:latin typeface="Courier New"/>
              </a:rPr>
              <a:t>szó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; SzóOlvasás(X,szó,elv)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029200" y="4952880"/>
            <a:ext cx="4038480" cy="533520"/>
          </a:xfrm>
          <a:prstGeom prst="wedgeRoundRectCallout">
            <a:avLst>
              <a:gd name="adj1" fmla="val -56564"/>
              <a:gd name="adj2" fmla="val 99703"/>
              <a:gd name="adj3" fmla="val 16667"/>
            </a:avLst>
          </a:prstGeom>
          <a:solidFill>
            <a:srgbClr val="ffff99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Elválasztók a sor végéről elhagyható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AF8C-9222-4E3A-8DED-B1AD30E7950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9C96F5-183D-49BF-B635-E04A9A8BBA66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1 Tagolás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spcAft>
                <a:spcPts val="300"/>
              </a:spcAft>
              <a:buNone/>
              <a:tabLst>
                <a:tab algn="l" pos="0"/>
                <a:tab algn="l" pos="851040"/>
                <a:tab algn="l" pos="1139760"/>
                <a:tab algn="l" pos="1905120"/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SzóOlvasás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…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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… 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Zárás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…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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… </a:t>
            </a:r>
            <a:br>
              <a:rPr sz="2000"/>
            </a:br>
            <a:r>
              <a:rPr b="1" i="1" lang="da-DK" sz="2400" spc="-1" strike="noStrike">
                <a:solidFill>
                  <a:srgbClr val="ff99ff"/>
                </a:solidFill>
                <a:latin typeface="Times New Roman"/>
              </a:rPr>
              <a:t>A Kimenet típus könnyen implementálható, hiszen a TSor típus bár nem standard típus, de Szöveg leszármazott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851040"/>
                <a:tab algn="l" pos="1139760"/>
                <a:tab algn="l" pos="1905120"/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400" spc="-1" strike="noStrike">
                <a:solidFill>
                  <a:srgbClr val="ffffcc"/>
                </a:solidFill>
                <a:latin typeface="Times New Roman"/>
              </a:rPr>
              <a:t>Implementáció:</a:t>
            </a:r>
            <a:br>
              <a:rPr sz="24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Írás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Z:Szövegfil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 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Konstan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:TSor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Ír(Z,s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851040"/>
                <a:tab algn="l" pos="1139760"/>
                <a:tab algn="l" pos="1905120"/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i="1" lang="da-DK" sz="2400" spc="-1" strike="noStrike">
                <a:solidFill>
                  <a:srgbClr val="ffffcc"/>
                </a:solidFill>
                <a:latin typeface="Times New Roman"/>
              </a:rPr>
              <a:t>A megoldás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25"/>
              </a:spcBef>
              <a:spcAft>
                <a:spcPts val="201"/>
              </a:spcAft>
              <a:buNone/>
              <a:tabLst>
                <a:tab algn="l" pos="0"/>
                <a:tab algn="l" pos="851040"/>
                <a:tab algn="l" pos="1139760"/>
                <a:tab algn="l" pos="1905120"/>
                <a:tab algn="l" pos="34354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Symbol"/>
                <a:ea typeface="Symbol"/>
              </a:rPr>
              <a:t>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Nyitás(X); Nyit(Z,…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 nem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Vége?(X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Olvasás(X,sor); SorÍrás(Z,sor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Zárás(X); Zár(Z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410080" y="2862360"/>
            <a:ext cx="3733920" cy="368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4000" rIns="18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851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ffffcc"/>
                </a:solidFill>
                <a:latin typeface="Times New Roman"/>
              </a:rPr>
              <a:t>TSor=(Szó </a:t>
            </a:r>
            <a:r>
              <a:rPr b="0" lang="da-DK" sz="16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da-DK" sz="1800" spc="-1" strike="noStrike">
                <a:solidFill>
                  <a:srgbClr val="ffffcc"/>
                </a:solidFill>
                <a:latin typeface="Times New Roman"/>
              </a:rPr>
              <a:t> SzóElválasztó)</a:t>
            </a:r>
            <a:r>
              <a:rPr b="0" lang="da-DK" sz="1800" spc="-1" strike="noStrike" baseline="30000">
                <a:solidFill>
                  <a:srgbClr val="ffffcc"/>
                </a:solidFill>
                <a:latin typeface="Times New Roman"/>
              </a:rPr>
              <a:t>* </a:t>
            </a:r>
            <a:r>
              <a:rPr b="0" lang="da-DK" sz="1800" spc="-1" strike="noStrike">
                <a:solidFill>
                  <a:srgbClr val="ffffcc"/>
                </a:solidFill>
                <a:latin typeface="Symbol"/>
                <a:ea typeface="Symbol"/>
              </a:rPr>
              <a:t></a:t>
            </a:r>
            <a:r>
              <a:rPr b="0" lang="da-DK" sz="1800" spc="-1" strike="noStrike">
                <a:solidFill>
                  <a:srgbClr val="ffffcc"/>
                </a:solidFill>
                <a:latin typeface="Times New Roman"/>
              </a:rPr>
              <a:t>Szöveg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0" y="1447920"/>
            <a:ext cx="1143000" cy="380880"/>
          </a:xfrm>
          <a:prstGeom prst="wedgeRoundRectCallout">
            <a:avLst>
              <a:gd name="adj1" fmla="val -325972"/>
              <a:gd name="adj2" fmla="val -41250"/>
              <a:gd name="adj3" fmla="val 16667"/>
            </a:avLst>
          </a:prstGeom>
          <a:solidFill>
            <a:srgbClr val="ffff99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858000" y="1447920"/>
            <a:ext cx="1143000" cy="380880"/>
          </a:xfrm>
          <a:prstGeom prst="wedgeRoundRectCallout">
            <a:avLst>
              <a:gd name="adj1" fmla="val -352361"/>
              <a:gd name="adj2" fmla="val 57499"/>
              <a:gd name="adj3" fmla="val 16667"/>
            </a:avLst>
          </a:prstGeom>
          <a:solidFill>
            <a:srgbClr val="ffff99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1600" spc="-1" strike="noStrike">
                <a:solidFill>
                  <a:srgbClr val="000000"/>
                </a:solidFill>
                <a:latin typeface="Times New Roman"/>
              </a:rPr>
              <a:t>Hf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C3B65-F8B7-4370-BC73-B4F5D018FF6D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28EB79B-29EC-47C1-960D-2075A29DCBA5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ffcc66"/>
                </a:solidFill>
                <a:latin typeface="Times New Roman"/>
              </a:rPr>
              <a:t>Tartalom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1. </a:t>
            </a:r>
            <a:r>
              <a:rPr b="0" lang="hu-HU" sz="2400" spc="-1" strike="noStrike" u="sng">
                <a:solidFill>
                  <a:srgbClr val="ff99ff"/>
                </a:solidFill>
                <a:uFillTx/>
                <a:latin typeface="Times New Roman"/>
                <a:hlinkClick r:id="rId1"/>
              </a:rPr>
              <a:t>Adatfeldolgozás problémája, alapfogalma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1.1 Adatfeldolgozás típusfeladata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1.2 Elemenkénti feldolgozhatósá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1.3 A Z=F(X) tét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1.4 Típusfinomítás, struktúramegfeleltet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0" lang="hu-HU" sz="2400" spc="-1" strike="noStrike" u="sng">
                <a:solidFill>
                  <a:srgbClr val="ff99ff"/>
                </a:solidFill>
                <a:uFillTx/>
                <a:latin typeface="Times New Roman"/>
                <a:hlinkClick r:id="rId2" action="ppaction://hlinksldjump"/>
              </a:rPr>
              <a:t>Struktúramegfeleltetés konfliktusa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2.1 Tagolási konflikt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2.2 Összefonódási konflikt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2.3 Rendezetlenségi konflikt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3. </a:t>
            </a:r>
            <a:r>
              <a:rPr b="0" lang="hu-HU" sz="2400" spc="-1" strike="noStrike" u="sng">
                <a:solidFill>
                  <a:srgbClr val="ff99ff"/>
                </a:solidFill>
                <a:uFillTx/>
                <a:latin typeface="Times New Roman"/>
                <a:hlinkClick r:id="rId3"/>
              </a:rPr>
              <a:t>Időszerűsít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3.1 Megoldása a Z=F(x) tétel alapjá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3.2 Megoldása összefuttatáss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BEA80-BC0F-404D-8A92-9C5D0098054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5D8019-4D71-4FFF-9611-E751C4799AE1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2 Összefonódási konfliktus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A probléma:</a:t>
            </a:r>
            <a:br>
              <a:rPr sz="32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Két vagy több sorozat keveredése úgy, hogy a részso-rozatok elemei a feldolgozásnak megfelelő sorrendben vannak.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 feldolgozáshoz a részsorozatok azonos sorszámú elemei alkotnak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egységet”.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Feloldás: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Szétválogatás, majd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párhuzamos” feldolgozá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Speciális feladatok: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2.2.1 Szétválogatás és egymásutánírás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2.2.2 Szétválogatás és párosítás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2.2.1 Szétválogatás és időszerűsítés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20A7-5A4F-4A4F-9A06-F376223CAC8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0CDEBE-53B7-4888-BCB5-1C63304078B3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2 Összefonódás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  </a:t>
            </a:r>
            <a:br>
              <a:rPr sz="2400"/>
            </a:br>
            <a:r>
              <a:rPr b="1" i="1" lang="hu-H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da-DK" sz="2800" spc="-1" strike="noStrike">
                <a:solidFill>
                  <a:srgbClr val="ffcc66"/>
                </a:solidFill>
                <a:latin typeface="Times New Roman"/>
              </a:rPr>
              <a:t>2.2.1 Szétválogatás és egymásutánírás</a:t>
            </a:r>
            <a:endParaRPr b="1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Példa:</a:t>
            </a:r>
            <a:br>
              <a:rPr sz="2800"/>
            </a:b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Egy egyirányú utcában két jelzőlámpánál figyelik az áthaladó autókat: </a:t>
            </a:r>
            <a:r>
              <a:rPr b="0" i="1" lang="da-DK" sz="2600" spc="-1" strike="noStrike">
                <a:solidFill>
                  <a:srgbClr val="ffffcc"/>
                </a:solidFill>
                <a:latin typeface="Times New Roman"/>
              </a:rPr>
              <a:t>mikor </a:t>
            </a: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haladt át a </a:t>
            </a:r>
            <a:r>
              <a:rPr b="0" i="1" lang="da-DK" sz="2600" spc="-1" strike="noStrike">
                <a:solidFill>
                  <a:srgbClr val="ffffcc"/>
                </a:solidFill>
                <a:latin typeface="Times New Roman"/>
              </a:rPr>
              <a:t>lámpá</a:t>
            </a: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nál. Az adatok megfigyelési </a:t>
            </a:r>
            <a:r>
              <a:rPr b="0" i="1" lang="da-DK" sz="2600" spc="-1" strike="noStrike">
                <a:solidFill>
                  <a:srgbClr val="ffffcc"/>
                </a:solidFill>
                <a:latin typeface="Times New Roman"/>
              </a:rPr>
              <a:t>idő szerinti </a:t>
            </a: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sorrendben érkeznek. N db autót figyeltek meg. Csoportosítsuk az adatokat, hogy az </a:t>
            </a:r>
            <a:r>
              <a:rPr b="0" i="1" lang="da-DK" sz="2600" spc="-1" strike="noStrike">
                <a:solidFill>
                  <a:srgbClr val="ffffcc"/>
                </a:solidFill>
                <a:latin typeface="Times New Roman"/>
              </a:rPr>
              <a:t>első </a:t>
            </a: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lámpánál történt megfigyelések –időbeli sorrendjüket megtartva</a:t>
            </a:r>
            <a:r>
              <a:rPr b="1" lang="da-DK" sz="2600" spc="-1" strike="noStrike">
                <a:solidFill>
                  <a:srgbClr val="ffffcc"/>
                </a:solidFill>
                <a:latin typeface="Times New Roman"/>
              </a:rPr>
              <a:t>– </a:t>
            </a: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előzzék meg a </a:t>
            </a:r>
            <a:r>
              <a:rPr b="0" i="1" lang="da-DK" sz="2600" spc="-1" strike="noStrike">
                <a:solidFill>
                  <a:srgbClr val="ffffcc"/>
                </a:solidFill>
                <a:latin typeface="Times New Roman"/>
              </a:rPr>
              <a:t>második </a:t>
            </a: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lámpánál megfigyelt adatokat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Megoldás:</a:t>
            </a:r>
            <a:br>
              <a:rPr sz="28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Típus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Bemenet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Forgalom)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imenet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Forgalom)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Courier New"/>
              </a:rPr>
              <a:t> </a:t>
            </a:r>
            <a:br>
              <a:rPr sz="2000"/>
            </a:br>
            <a:r>
              <a:rPr b="0" lang="da-DK" sz="2000" spc="-1" strike="noStrike" baseline="-25000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[Idő szerint rendezve]</a:t>
            </a: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    [Lámpa+Idő szerint rendezve] </a:t>
            </a:r>
            <a:br>
              <a:rPr sz="2000"/>
            </a:b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Forgalom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Forgalom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Lámpa:</a:t>
            </a:r>
            <a:r>
              <a:rPr b="0" lang="en-US" sz="2000" spc="-1" strike="noStrike">
                <a:solidFill>
                  <a:srgbClr val="ffffcc"/>
                </a:solidFill>
                <a:latin typeface="Courier New"/>
              </a:rPr>
              <a:t>{1,2}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Lámpa:</a:t>
            </a:r>
            <a:r>
              <a:rPr b="0" lang="en-US" sz="2000" spc="-1" strike="noStrike">
                <a:solidFill>
                  <a:srgbClr val="ffffcc"/>
                </a:solidFill>
                <a:latin typeface="Courier New"/>
              </a:rPr>
              <a:t>{1,2}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Idő:Egész)</a:t>
            </a: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Idő:Egész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876920" y="4724280"/>
            <a:ext cx="0" cy="175284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579F-50E8-415A-8DCD-0A8E0358DF24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932242-7E54-41D7-84B2-1B528C5C2DC9}" type="datetime1">
              <a:rPr lang="en-US"/>
              <a:t>07/28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2 Összefonódás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  </a:t>
            </a:r>
            <a:br>
              <a:rPr sz="2400"/>
            </a:br>
            <a:r>
              <a:rPr b="1" i="1" lang="hu-H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da-DK" sz="2800" spc="-1" strike="noStrike">
                <a:solidFill>
                  <a:srgbClr val="ffcc66"/>
                </a:solidFill>
                <a:latin typeface="Times New Roman"/>
              </a:rPr>
              <a:t>2.2.1 Szétválogatás és egymásutánírás</a:t>
            </a:r>
            <a:endParaRPr b="1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952560"/>
                <a:tab algn="l" pos="1241280"/>
                <a:tab algn="l" pos="1530360"/>
                <a:tab algn="l" pos="1803240"/>
                <a:tab algn="l" pos="219384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ForgalomCsoportosítás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X:Bemenet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Z:Kimenet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</a:t>
            </a:r>
            <a:r>
              <a:rPr b="1" lang="hu-HU" sz="2000" spc="-1" strike="noStrike">
                <a:solidFill>
                  <a:srgbClr val="ffffcc"/>
                </a:solidFill>
                <a:latin typeface="Courier New"/>
              </a:rPr>
              <a:t>áltozó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 Y:</a:t>
            </a:r>
            <a:r>
              <a:rPr b="1" lang="hu-HU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(Forgalom) [segédfile]</a:t>
            </a:r>
            <a:br>
              <a:rPr sz="2000"/>
            </a:b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adat:Forgalom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...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[file nyitások]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i:=0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i&lt;N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Olvas(X,ada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Ha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adat.lámpa=1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akkor 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Ír(Z,adat); i:+1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         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különben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Ír(Y,ada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Zár(Y); Nyit(Y,…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 nem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Vége?(Y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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Olvas(Y,adat); Ír(Z,ada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 nem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Vége?(X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Olvas(X,adat); Ír(Z,ada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Zár(X); Zár(Z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629400" y="3429000"/>
            <a:ext cx="2514600" cy="1523880"/>
          </a:xfrm>
          <a:prstGeom prst="wedgeEllipseCallout">
            <a:avLst>
              <a:gd name="adj1" fmla="val -146462"/>
              <a:gd name="adj2" fmla="val -12083"/>
            </a:avLst>
          </a:prstGeom>
          <a:solidFill>
            <a:srgbClr val="ffff99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Az első lámpával végeztünk, a má-sodik eddigi adatai az eredménybe má-solhatók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915160" y="4952880"/>
            <a:ext cx="2666880" cy="1371600"/>
          </a:xfrm>
          <a:prstGeom prst="wedgeEllipseCallout">
            <a:avLst>
              <a:gd name="adj1" fmla="val -74402"/>
              <a:gd name="adj2" fmla="val -48495"/>
            </a:avLst>
          </a:prstGeom>
          <a:solidFill>
            <a:srgbClr val="ffff99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1600" spc="-1" strike="noStrike">
                <a:solidFill>
                  <a:srgbClr val="000000"/>
                </a:solidFill>
                <a:latin typeface="Times New Roman"/>
              </a:rPr>
              <a:t>X-ben már csak a második lámpa ada-tai maradhattak, egy-szerűen másolhatók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2819520"/>
            <a:ext cx="1600200" cy="12189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0" lang="hu-HU" sz="1600" spc="-1" strike="noStrike">
                <a:solidFill>
                  <a:srgbClr val="ffffcc"/>
                </a:solidFill>
                <a:latin typeface="Symbol"/>
                <a:ea typeface="Symbol"/>
              </a:rPr>
              <a:t>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0" lang="hu-HU" sz="16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</a:t>
            </a:r>
            <a:br>
              <a:rPr sz="1600"/>
            </a:b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x.lámpa=1)</a:t>
            </a:r>
            <a:br>
              <a:rPr sz="1600"/>
            </a:b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hu-HU" sz="1600" spc="-1" strike="noStrike">
                <a:solidFill>
                  <a:srgbClr val="ffffcc"/>
                </a:solidFill>
                <a:latin typeface="Symbol"/>
                <a:ea typeface="Symbol"/>
              </a:rPr>
              <a:t>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0" lang="hu-HU" sz="16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</a:t>
            </a:r>
            <a:br>
              <a:rPr sz="1600"/>
            </a:b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x.lámpa=2 </a:t>
            </a:r>
            <a:r>
              <a:rPr b="0" lang="hu-HU" sz="16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br>
              <a:rPr sz="1600"/>
            </a:b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x.idő&lt;z</a:t>
            </a:r>
            <a:r>
              <a:rPr b="0" lang="hu-HU" sz="1600" spc="-1" strike="noStrike" baseline="-25000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.idő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4267080"/>
            <a:ext cx="1600200" cy="5335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Z+</a:t>
            </a:r>
            <a:r>
              <a:rPr b="0" lang="hu-HU" sz="1600" spc="-1" strike="noStrike">
                <a:solidFill>
                  <a:srgbClr val="ffffcc"/>
                </a:solidFill>
                <a:latin typeface="Symbol"/>
                <a:ea typeface="Symbol"/>
              </a:rPr>
              <a:t>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680" y="4967280"/>
            <a:ext cx="1600200" cy="7621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3747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Z+</a:t>
            </a:r>
            <a:r>
              <a:rPr b="0" lang="hu-HU" sz="1600" spc="-1" strike="noStrike">
                <a:solidFill>
                  <a:srgbClr val="ffffcc"/>
                </a:solidFill>
                <a:latin typeface="Symbol"/>
                <a:ea typeface="Symbol"/>
              </a:rPr>
              <a:t>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0" lang="hu-HU" sz="16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  <a:ea typeface="Times New Roman"/>
              </a:rPr>
              <a:t>|</a:t>
            </a:r>
            <a:br>
              <a:rPr sz="1600"/>
            </a:b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x.lámpa=2 </a:t>
            </a:r>
            <a:r>
              <a:rPr b="0" lang="hu-HU" sz="1600" spc="-1" strike="noStrike">
                <a:solidFill>
                  <a:srgbClr val="ffffcc"/>
                </a:solidFill>
                <a:latin typeface="Symbol"/>
                <a:ea typeface="Symbol"/>
              </a:rPr>
              <a:t>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x.idő&gt;z</a:t>
            </a:r>
            <a:r>
              <a:rPr b="0" lang="hu-HU" sz="1600" spc="-1" strike="noStrike" baseline="-25000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.idő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8B333-8506-4D32-B014-A2AC33653353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38DF0A-E240-43BF-8C4E-CEEFBE189F95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2 Összefonódás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  </a:t>
            </a:r>
            <a:br>
              <a:rPr sz="2400"/>
            </a:br>
            <a:r>
              <a:rPr b="1" i="1" lang="hu-H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da-DK" sz="2800" spc="-1" strike="noStrike">
                <a:solidFill>
                  <a:srgbClr val="ffcc66"/>
                </a:solidFill>
                <a:latin typeface="Times New Roman"/>
              </a:rPr>
              <a:t>2.2.2 Szétválogatás és párosítás</a:t>
            </a:r>
            <a:endParaRPr b="1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1. példa:</a:t>
            </a:r>
            <a:br>
              <a:rPr sz="3200"/>
            </a:b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Egy vasútvonal két állomásán </a:t>
            </a:r>
            <a:r>
              <a:rPr b="0" i="1" lang="da-DK" sz="2600" spc="-1" strike="noStrike">
                <a:solidFill>
                  <a:srgbClr val="ffffcc"/>
                </a:solidFill>
                <a:latin typeface="Times New Roman"/>
              </a:rPr>
              <a:t>egy nap </a:t>
            </a: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feljegyeztük, az ösz-szes </a:t>
            </a:r>
            <a:r>
              <a:rPr b="0" i="1" lang="da-DK" sz="2600" spc="-1" strike="noStrike">
                <a:solidFill>
                  <a:srgbClr val="ffffcc"/>
                </a:solidFill>
                <a:latin typeface="Times New Roman"/>
              </a:rPr>
              <a:t>egyik irányba </a:t>
            </a: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áthaladó vonat indulási, illetve érkezési idejét (</a:t>
            </a:r>
            <a:r>
              <a:rPr b="0" i="1" lang="da-DK" sz="2600" spc="-1" strike="noStrike">
                <a:solidFill>
                  <a:srgbClr val="ffffcc"/>
                </a:solidFill>
                <a:latin typeface="Times New Roman"/>
              </a:rPr>
              <a:t>időszerinti sorrendben</a:t>
            </a: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). Adjuk meg az áthaladt vo-natok menetidőit a két állomás között! (Nincs előzés.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Megoldá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Típus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Bemenet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Állomás)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imenet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Vona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Állomás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Vonat=Egész [menetidő]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sorszám:</a:t>
            </a:r>
            <a:r>
              <a:rPr b="0" lang="en-US" sz="2000" spc="-1" strike="noStrike">
                <a:solidFill>
                  <a:srgbClr val="ffffcc"/>
                </a:solidFill>
                <a:latin typeface="Courier New"/>
              </a:rPr>
              <a:t>{1,2}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,idő:TIdő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 algn="ctr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000" spc="-1" strike="noStrike">
                <a:solidFill>
                  <a:srgbClr val="ff99ff"/>
                </a:solidFill>
                <a:latin typeface="Times New Roman"/>
              </a:rPr>
              <a:t>Egy alkalmas „belső állapotv</a:t>
            </a:r>
            <a:r>
              <a:rPr b="1" i="1" lang="hu-HU" sz="2000" spc="-1" strike="noStrike">
                <a:solidFill>
                  <a:srgbClr val="ff99ff"/>
                </a:solidFill>
                <a:latin typeface="Times New Roman"/>
              </a:rPr>
              <a:t>áltozás</a:t>
            </a:r>
            <a:r>
              <a:rPr b="1" i="1" lang="da-DK" sz="2000" spc="-1" strike="noStrike">
                <a:solidFill>
                  <a:srgbClr val="ff99ff"/>
                </a:solidFill>
                <a:latin typeface="Times New Roman"/>
              </a:rPr>
              <a:t>” tipizálása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Bemenet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Állomás)</a:t>
            </a:r>
            <a:r>
              <a:rPr b="0" lang="da-DK" sz="20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Sor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imenet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Vonat)</a:t>
            </a:r>
            <a:r>
              <a:rPr b="0" lang="da-DK" sz="20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Sor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Állomás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Vonat=Egész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sorszám:</a:t>
            </a:r>
            <a:r>
              <a:rPr b="0" lang="en-US" sz="2000" spc="-1" strike="noStrike">
                <a:solidFill>
                  <a:srgbClr val="ffffcc"/>
                </a:solidFill>
                <a:latin typeface="Courier New"/>
              </a:rPr>
              <a:t>{1,2}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,idő:TIdő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Sor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Sor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Vonat [1. idő])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TSor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Sor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Vonat [1. idő])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92560" y="3278160"/>
            <a:ext cx="1751040" cy="615960"/>
          </a:xfrm>
          <a:prstGeom prst="wedgeRoundRectCallout">
            <a:avLst>
              <a:gd name="adj1" fmla="val -70120"/>
              <a:gd name="adj2" fmla="val 162671"/>
              <a:gd name="adj3" fmla="val 16667"/>
            </a:avLst>
          </a:prstGeom>
          <a:solidFill>
            <a:srgbClr val="ffff99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Miért nem kell vonatazonosító?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86080" y="3282840"/>
            <a:ext cx="1751040" cy="615960"/>
          </a:xfrm>
          <a:prstGeom prst="wedgeRoundRectCallout">
            <a:avLst>
              <a:gd name="adj1" fmla="val 140828"/>
              <a:gd name="adj2" fmla="val 71435"/>
              <a:gd name="adj3" fmla="val 16667"/>
            </a:avLst>
          </a:prstGeom>
          <a:solidFill>
            <a:srgbClr val="ffff99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Miért nem kell vonatazonosító?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181480" y="5295960"/>
            <a:ext cx="0" cy="12952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181480" y="3962520"/>
            <a:ext cx="0" cy="8380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0C59-6C03-401C-9ED7-7C99F2CA6B2D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26D843-3A80-4E9A-95CE-EB69E892DEF8}" type="datetime1">
              <a:rPr lang="en-US"/>
              <a:t>07/28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2 Összefonódás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  </a:t>
            </a:r>
            <a:br>
              <a:rPr sz="2400"/>
            </a:br>
            <a:r>
              <a:rPr b="1" i="1" lang="hu-H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da-DK" sz="2800" spc="-1" strike="noStrike">
                <a:solidFill>
                  <a:srgbClr val="ffcc66"/>
                </a:solidFill>
                <a:latin typeface="Times New Roman"/>
              </a:rPr>
              <a:t>2.2.2 Szétválogatás és párosítás</a:t>
            </a:r>
            <a:endParaRPr b="1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 fontScale="94000"/>
          </a:bodyPr>
          <a:p>
            <a:pPr marL="322200" indent="0" algn="ctr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000" spc="-1" strike="noStrike">
                <a:solidFill>
                  <a:srgbClr val="ff99ff"/>
                </a:solidFill>
                <a:latin typeface="Times New Roman"/>
              </a:rPr>
              <a:t>Két tipikus állapotváltozás:</a:t>
            </a: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Előtte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Után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75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BeFile 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2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TSor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hu-HU" sz="2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2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da-DK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KiFile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BeFile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1" lang="hu-HU" sz="2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or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da-DK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KiFil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(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1,x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,(y,z),...)   (s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s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u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   (v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v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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(y,z),...)   (s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s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u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x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   (v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v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(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2,x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,(y,z),...)   (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s</a:t>
            </a:r>
            <a:r>
              <a:rPr b="0" lang="da-DK" sz="2000" spc="-1" strike="noStrike" baseline="-25000">
                <a:solidFill>
                  <a:srgbClr val="ff99ff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s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u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   (v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v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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(y,z),...)   (s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s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u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      (v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v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x–s</a:t>
            </a:r>
            <a:r>
              <a:rPr b="0" lang="da-DK" sz="2000" spc="-1" strike="noStrike" baseline="-25000">
                <a:solidFill>
                  <a:srgbClr val="ff99ff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Vonatidők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X:Bemenet,V:Kimenet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… [file nyitások]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Inicializálás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 nem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Vége?(X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Olvas(X,ada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Ha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adat.sorszám=1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akkor 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ba(adat.idő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különben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ból(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Ír(V,adat.idő-t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… [file zárások]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2200" indent="0">
              <a:lnSpc>
                <a:spcPct val="90000"/>
              </a:lnSpc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6720" y="2395440"/>
            <a:ext cx="807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5800" y="2781360"/>
            <a:ext cx="807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85800" y="3138480"/>
            <a:ext cx="8077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75AE-B57C-436A-A65C-07D57D21148B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272D2D-650C-49B0-A67B-34BB16F3EFFE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2 Összefonódás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  </a:t>
            </a:r>
            <a:br>
              <a:rPr sz="2400"/>
            </a:br>
            <a:r>
              <a:rPr b="1" i="1" lang="hu-H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da-DK" sz="2800" spc="-1" strike="noStrike">
                <a:solidFill>
                  <a:srgbClr val="ffcc66"/>
                </a:solidFill>
                <a:latin typeface="Times New Roman"/>
              </a:rPr>
              <a:t>2.2.2 Szétválogatás és párosítás</a:t>
            </a:r>
            <a:endParaRPr b="1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2. példa:</a:t>
            </a:r>
            <a:br>
              <a:rPr sz="3200"/>
            </a:b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Egy vasútvonal két állomásán </a:t>
            </a:r>
            <a:r>
              <a:rPr b="0" i="1" lang="da-DK" sz="2600" spc="-1" strike="noStrike">
                <a:solidFill>
                  <a:srgbClr val="ffffcc"/>
                </a:solidFill>
                <a:latin typeface="Times New Roman"/>
              </a:rPr>
              <a:t>egy nap </a:t>
            </a: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feljegyeztük, az ösz-szes, </a:t>
            </a:r>
            <a:r>
              <a:rPr b="0" i="1" lang="da-DK" sz="2600" spc="-1" strike="noStrike">
                <a:solidFill>
                  <a:srgbClr val="ffffcc"/>
                </a:solidFill>
                <a:latin typeface="Times New Roman"/>
              </a:rPr>
              <a:t>mindkét irányba </a:t>
            </a: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áthaladó vonat indulási, illetve érke-zési idejét (</a:t>
            </a:r>
            <a:r>
              <a:rPr b="0" i="1" lang="da-DK" sz="2600" spc="-1" strike="noStrike">
                <a:solidFill>
                  <a:srgbClr val="ffffcc"/>
                </a:solidFill>
                <a:latin typeface="Times New Roman"/>
              </a:rPr>
              <a:t>időszerinti sorrendben</a:t>
            </a: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). Adjuk meg az áthaladt vonatok menetidőit a két állomás között! (Előzés nincs, csak egy sínpár van.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26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43876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Megoldás: </a:t>
            </a:r>
            <a:br>
              <a:rPr sz="3200"/>
            </a:b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Az </a:t>
            </a:r>
            <a:r>
              <a:rPr b="0" lang="hu-HU" sz="26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extraprobléma”, hogy nem 2, hanem 4 részsorozat ke-veredik (</a:t>
            </a:r>
            <a:r>
              <a:rPr b="0" i="1" lang="da-DK" sz="2200" spc="-1" strike="noStrike">
                <a:solidFill>
                  <a:srgbClr val="ffffcc"/>
                </a:solidFill>
                <a:latin typeface="Times New Roman"/>
              </a:rPr>
              <a:t>(oda+vissza)*(indulás+érkezés)</a:t>
            </a:r>
            <a:r>
              <a:rPr b="0" lang="da-DK" sz="2600" spc="-1" strike="noStrike">
                <a:solidFill>
                  <a:srgbClr val="ffffcc"/>
                </a:solidFill>
                <a:latin typeface="Times New Roman"/>
              </a:rPr>
              <a:t>). Ötlet: azt kell vissza-tartani, amelyikben előbbre haladtunk, azaz érzékelni kell, hogy ez melyik.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29000" y="5111640"/>
            <a:ext cx="5715000" cy="146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5000"/>
              </a:lnSpc>
              <a:tabLst>
                <a:tab algn="l" pos="0"/>
                <a:tab algn="l" pos="289080"/>
                <a:tab algn="l" pos="663480"/>
                <a:tab algn="l" pos="1054080"/>
                <a:tab algn="l" pos="227952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Ciklus amíg nem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Vége?(X)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Olvas(X,adat)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Ha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SorÜres?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akkor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tip:=adat.sorszám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Ha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adat.sorszám=tip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akkor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Sorba(adat.idő)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különben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Sorból(t)</a:t>
            </a:r>
            <a:br>
              <a:rPr sz="1600"/>
            </a:b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000000"/>
                </a:solidFill>
                <a:latin typeface="Courier New"/>
              </a:rPr>
              <a:t>Ír(V,adat.idő-t)</a:t>
            </a:r>
            <a:br>
              <a:rPr sz="1600"/>
            </a:b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Ciklus vége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902B2-729A-49A2-98E4-33602C56426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7FE1EC-7DE5-4C06-A7F7-343D44317E38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2 Összefonódás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 </a:t>
            </a:r>
            <a:br>
              <a:rPr sz="3600"/>
            </a:br>
            <a:r>
              <a:rPr b="1" i="1" lang="hu-H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da-DK" sz="2800" spc="-1" strike="noStrike">
                <a:solidFill>
                  <a:srgbClr val="ffcc66"/>
                </a:solidFill>
                <a:latin typeface="Times New Roman"/>
              </a:rPr>
              <a:t>2.2.3 Szétválogatás és időszerűsítés</a:t>
            </a:r>
            <a:endParaRPr b="1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275"/>
              </a:spcBef>
              <a:spcAft>
                <a:spcPts val="300"/>
              </a:spcAft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1. példa:</a:t>
            </a:r>
            <a:br>
              <a:rPr sz="3200"/>
            </a:br>
            <a:r>
              <a:rPr b="0" lang="da-DK" sz="2200" spc="-1" strike="noStrike">
                <a:solidFill>
                  <a:srgbClr val="ffffcc"/>
                </a:solidFill>
                <a:latin typeface="Times New Roman"/>
              </a:rPr>
              <a:t>Egy számítógéphálózaton az </a:t>
            </a:r>
            <a:r>
              <a:rPr b="0" i="1" lang="da-DK" sz="2200" spc="-1" strike="noStrike">
                <a:solidFill>
                  <a:srgbClr val="ffffcc"/>
                </a:solidFill>
                <a:latin typeface="Times New Roman"/>
              </a:rPr>
              <a:t>üzenetek</a:t>
            </a:r>
            <a:r>
              <a:rPr b="0" lang="da-DK" sz="2200" spc="-1" strike="noStrike">
                <a:solidFill>
                  <a:srgbClr val="ffffcc"/>
                </a:solidFill>
                <a:latin typeface="Times New Roman"/>
              </a:rPr>
              <a:t>et csomagokra bontva küldik. Minden csomag tartalmaz </a:t>
            </a:r>
            <a:r>
              <a:rPr b="0" lang="hu-HU" sz="2200" spc="-1" strike="noStrike">
                <a:solidFill>
                  <a:srgbClr val="ffffcc"/>
                </a:solidFill>
                <a:latin typeface="Times New Roman"/>
              </a:rPr>
              <a:t>(a csomagsorszám mellett) </a:t>
            </a:r>
            <a:r>
              <a:rPr b="0" lang="da-DK" sz="2200" spc="-1" strike="noStrike">
                <a:solidFill>
                  <a:srgbClr val="ffffcc"/>
                </a:solidFill>
                <a:latin typeface="Times New Roman"/>
              </a:rPr>
              <a:t>egy </a:t>
            </a:r>
            <a:r>
              <a:rPr b="0" i="1" lang="da-DK" sz="2200" spc="-1" strike="noStrike">
                <a:solidFill>
                  <a:srgbClr val="ffffcc"/>
                </a:solidFill>
                <a:latin typeface="Times New Roman"/>
              </a:rPr>
              <a:t>ellenőrző összeg</a:t>
            </a:r>
            <a:r>
              <a:rPr b="0" lang="da-DK" sz="2200" spc="-1" strike="noStrike">
                <a:solidFill>
                  <a:srgbClr val="ffffcc"/>
                </a:solidFill>
                <a:latin typeface="Times New Roman"/>
              </a:rPr>
              <a:t>et</a:t>
            </a:r>
            <a:r>
              <a:rPr b="0" lang="hu-HU" sz="2200" spc="-1" strike="noStrike">
                <a:solidFill>
                  <a:srgbClr val="ffffcc"/>
                </a:solidFill>
                <a:latin typeface="Times New Roman"/>
              </a:rPr>
              <a:t>.</a:t>
            </a:r>
            <a:r>
              <a:rPr b="0" lang="da-DK" sz="2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2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da-DK" sz="2200" spc="-1" strike="noStrike">
                <a:solidFill>
                  <a:srgbClr val="ffffcc"/>
                </a:solidFill>
                <a:latin typeface="Times New Roman"/>
              </a:rPr>
              <a:t>a a vevő valamelyiket </a:t>
            </a:r>
            <a:r>
              <a:rPr b="0" i="1" lang="da-DK" sz="2200" spc="-1" strike="noStrike">
                <a:solidFill>
                  <a:srgbClr val="ffffcc"/>
                </a:solidFill>
                <a:latin typeface="Times New Roman"/>
              </a:rPr>
              <a:t>hibás</a:t>
            </a:r>
            <a:r>
              <a:rPr b="0" lang="da-DK" sz="2200" spc="-1" strike="noStrike">
                <a:solidFill>
                  <a:srgbClr val="ffffcc"/>
                </a:solidFill>
                <a:latin typeface="Times New Roman"/>
              </a:rPr>
              <a:t>nak találja, akkor annak </a:t>
            </a:r>
            <a:r>
              <a:rPr b="0" i="1" lang="da-DK" sz="2200" spc="-1" strike="noStrike">
                <a:solidFill>
                  <a:srgbClr val="ffffcc"/>
                </a:solidFill>
                <a:latin typeface="Times New Roman"/>
              </a:rPr>
              <a:t>meg</a:t>
            </a:r>
            <a:r>
              <a:rPr b="0" i="1" lang="hu-HU" sz="22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i="1" lang="da-DK" sz="2200" spc="-1" strike="noStrike">
                <a:solidFill>
                  <a:srgbClr val="ffffcc"/>
                </a:solidFill>
                <a:latin typeface="Times New Roman"/>
              </a:rPr>
              <a:t>ismétlés</a:t>
            </a:r>
            <a:r>
              <a:rPr b="0" lang="da-DK" sz="2200" spc="-1" strike="noStrike">
                <a:solidFill>
                  <a:srgbClr val="ffffcc"/>
                </a:solidFill>
                <a:latin typeface="Times New Roman"/>
              </a:rPr>
              <a:t>ét kéri a küldőtől. A javító csomag kivételével a csomagok </a:t>
            </a:r>
            <a:r>
              <a:rPr b="0" i="1" lang="da-DK" sz="2200" spc="-1" strike="noStrike">
                <a:solidFill>
                  <a:srgbClr val="ffffcc"/>
                </a:solidFill>
                <a:latin typeface="Times New Roman"/>
              </a:rPr>
              <a:t>jó sorrendben </a:t>
            </a:r>
            <a:r>
              <a:rPr b="0" lang="da-DK" sz="2200" spc="-1" strike="noStrike">
                <a:solidFill>
                  <a:srgbClr val="ffffcc"/>
                </a:solidFill>
                <a:latin typeface="Times New Roman"/>
              </a:rPr>
              <a:t>érkeznek. A vevő feladata az üzenetek csomagjainak ja</a:t>
            </a:r>
            <a:r>
              <a:rPr b="0" lang="hu-HU" sz="2200" spc="-1" strike="noStrike">
                <a:solidFill>
                  <a:srgbClr val="ffffcc"/>
                </a:solidFill>
                <a:latin typeface="Times New Roman"/>
              </a:rPr>
              <a:t>-</a:t>
            </a:r>
            <a:r>
              <a:rPr b="0" lang="da-DK" sz="2200" spc="-1" strike="noStrike">
                <a:solidFill>
                  <a:srgbClr val="ffffcc"/>
                </a:solidFill>
                <a:latin typeface="Times New Roman"/>
              </a:rPr>
              <a:t>vítások utáni helyes sorrendbe állítása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Megoldás: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i="1" lang="da-DK" sz="2400" spc="-1" strike="noStrike">
                <a:solidFill>
                  <a:srgbClr val="ffffcc"/>
                </a:solidFill>
                <a:latin typeface="Times New Roman"/>
              </a:rPr>
              <a:t>az előzőhöz hasonlóan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…</a:t>
            </a:r>
            <a:br>
              <a:rPr sz="2800"/>
            </a:br>
            <a:r>
              <a:rPr b="1" i="1" lang="da-DK" sz="2000" spc="-1" strike="noStrike">
                <a:solidFill>
                  <a:srgbClr val="ff99ff"/>
                </a:solidFill>
                <a:latin typeface="Times New Roman"/>
              </a:rPr>
              <a:t>Egy alkalmas „belső állapotv</a:t>
            </a:r>
            <a:r>
              <a:rPr b="1" i="1" lang="hu-HU" sz="2000" spc="-1" strike="noStrike">
                <a:solidFill>
                  <a:srgbClr val="ff99ff"/>
                </a:solidFill>
                <a:latin typeface="Times New Roman"/>
              </a:rPr>
              <a:t>áltozás</a:t>
            </a:r>
            <a:r>
              <a:rPr b="1" i="1" lang="da-DK" sz="2000" spc="-1" strike="noStrike">
                <a:solidFill>
                  <a:srgbClr val="ff99ff"/>
                </a:solidFill>
                <a:latin typeface="Times New Roman"/>
              </a:rPr>
              <a:t>” tipizálása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Bemenet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Üzenet)</a:t>
            </a:r>
            <a:r>
              <a:rPr b="0" lang="da-DK" sz="20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Sor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imenet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Üzenet)</a:t>
            </a:r>
            <a:r>
              <a:rPr b="0" lang="da-DK" sz="20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Sor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Üzenet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Üzenet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 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sorsz:Egész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sorsz:Egész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tart:Szöveg,ell:TEll)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tart:Szöveg,ell:TEll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Sor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Sor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Üzenet)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TSor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Sor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Üzenet)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952880" y="4762440"/>
            <a:ext cx="0" cy="1600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13F5-392E-4FCA-BDFE-1FD25AFF389D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5A32BE-277C-4A01-AD2A-2967B09185C5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2 Összefonódás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  </a:t>
            </a:r>
            <a:br>
              <a:rPr sz="2400"/>
            </a:br>
            <a:r>
              <a:rPr b="1" i="1" lang="hu-H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da-DK" sz="2800" spc="-1" strike="noStrike">
                <a:solidFill>
                  <a:srgbClr val="ffcc66"/>
                </a:solidFill>
                <a:latin typeface="Times New Roman"/>
              </a:rPr>
              <a:t>2.2.3 Szétválogatás és időszerűsítés</a:t>
            </a:r>
            <a:endParaRPr b="1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 fontScale="87000"/>
          </a:bodyPr>
          <a:p>
            <a:pPr marL="298440" indent="0" algn="ctr">
              <a:lnSpc>
                <a:spcPct val="60000"/>
              </a:lnSpc>
              <a:spcBef>
                <a:spcPts val="275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2000" spc="-1" strike="noStrike">
                <a:solidFill>
                  <a:srgbClr val="ff99ff"/>
                </a:solidFill>
                <a:latin typeface="Times New Roman"/>
              </a:rPr>
              <a:t>Tipikus állapotváltozások:</a:t>
            </a: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br>
              <a:rPr sz="3200"/>
            </a:b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Előtte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Után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lnSpc>
                <a:spcPct val="70000"/>
              </a:lnSpc>
              <a:spcBef>
                <a:spcPts val="275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BeFile 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TSor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da-DK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KiFile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BeFile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T</a:t>
            </a:r>
            <a:r>
              <a:rPr b="1" lang="hu-HU" sz="2200" spc="-1" strike="noStrike">
                <a:solidFill>
                  <a:srgbClr val="ffffcc"/>
                </a:solidFill>
                <a:latin typeface="Times New Roman"/>
              </a:rPr>
              <a:t>S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or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da-DK" sz="22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1" lang="da-DK" sz="2200" spc="-1" strike="noStrike">
                <a:solidFill>
                  <a:srgbClr val="ffffcc"/>
                </a:solidFill>
                <a:latin typeface="Times New Roman"/>
              </a:rPr>
              <a:t>KiFil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(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i/</a:t>
            </a:r>
            <a:r>
              <a:rPr b="0" lang="da-DK" sz="2000" spc="-1" strike="noStrike">
                <a:solidFill>
                  <a:srgbClr val="ff99ff"/>
                </a:solidFill>
                <a:latin typeface="Symbol"/>
                <a:ea typeface="Symbol"/>
              </a:rPr>
              <a:t>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,x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)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)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()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()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  (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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(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i/</a:t>
            </a:r>
            <a:r>
              <a:rPr b="0" lang="da-DK" sz="2000" spc="-1" strike="noStrike">
                <a:solidFill>
                  <a:srgbClr val="ff99ff"/>
                </a:solidFill>
                <a:latin typeface="Symbol"/>
                <a:ea typeface="Symbol"/>
              </a:rPr>
              <a:t>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(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i/</a:t>
            </a:r>
            <a:r>
              <a:rPr b="0" lang="da-DK" sz="2000" spc="-1" strike="noStrike">
                <a:solidFill>
                  <a:srgbClr val="ff99ff"/>
                </a:solidFill>
                <a:latin typeface="Symbol"/>
                <a:ea typeface="Symbol"/>
              </a:rPr>
              <a:t>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,x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)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)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   ((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i/</a:t>
            </a:r>
            <a:r>
              <a:rPr b="0" lang="da-DK" sz="2000" spc="-1" strike="noStrike">
                <a:solidFill>
                  <a:srgbClr val="ff99ff"/>
                </a:solidFill>
                <a:latin typeface="Symbol"/>
                <a:ea typeface="Symbol"/>
              </a:rPr>
              <a:t>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,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s</a:t>
            </a:r>
            <a:r>
              <a:rPr b="0" lang="da-DK" sz="2000" spc="-1" strike="noStrike" baseline="-25000">
                <a:solidFill>
                  <a:srgbClr val="ff99ff"/>
                </a:solidFill>
                <a:latin typeface="Times New Roman"/>
              </a:rPr>
              <a:t>e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,...s</a:t>
            </a:r>
            <a:r>
              <a:rPr b="0" lang="da-DK" sz="2000" spc="-1" strike="noStrike" baseline="-25000">
                <a:solidFill>
                  <a:srgbClr val="ff99ff"/>
                </a:solidFill>
                <a:latin typeface="Times New Roman"/>
              </a:rPr>
              <a:t>u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(j/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,...)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(j/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,...)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  (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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       (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(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i/</a:t>
            </a:r>
            <a:r>
              <a:rPr b="0" lang="da-DK" sz="2000" spc="-1" strike="noStrike">
                <a:solidFill>
                  <a:srgbClr val="ff99ff"/>
                </a:solidFill>
                <a:latin typeface="Symbol"/>
                <a:ea typeface="Symbol"/>
              </a:rPr>
              <a:t>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,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s</a:t>
            </a:r>
            <a:r>
              <a:rPr b="0" lang="da-DK" sz="2000" spc="-1" strike="noStrike" baseline="-25000">
                <a:solidFill>
                  <a:srgbClr val="ff99ff"/>
                </a:solidFill>
                <a:latin typeface="Times New Roman"/>
              </a:rPr>
              <a:t>e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,...,s</a:t>
            </a:r>
            <a:r>
              <a:rPr b="0" lang="da-DK" sz="2000" spc="-1" strike="noStrike" baseline="-25000">
                <a:solidFill>
                  <a:srgbClr val="ff99ff"/>
                </a:solidFill>
                <a:latin typeface="Times New Roman"/>
              </a:rPr>
              <a:t>u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(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i/</a:t>
            </a:r>
            <a:r>
              <a:rPr b="0" lang="da-DK" sz="2000" spc="-1" strike="noStrike">
                <a:solidFill>
                  <a:srgbClr val="ff99ff"/>
                </a:solidFill>
                <a:latin typeface="Symbol"/>
                <a:ea typeface="Symbol"/>
              </a:rPr>
              <a:t>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,x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,...)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)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    ((j/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,...,s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i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j (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i&gt;j)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(j/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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,…,s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(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i/</a:t>
            </a:r>
            <a:r>
              <a:rPr b="0" lang="da-DK" sz="2000" spc="-1" strike="noStrike">
                <a:solidFill>
                  <a:srgbClr val="ff99ff"/>
                </a:solidFill>
                <a:latin typeface="Symbol"/>
                <a:ea typeface="Symbol"/>
              </a:rPr>
              <a:t>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)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  (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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   (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(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i/</a:t>
            </a:r>
            <a:r>
              <a:rPr b="0" lang="da-DK" sz="2000" spc="-1" strike="noStrike">
                <a:solidFill>
                  <a:srgbClr val="ff99ff"/>
                </a:solidFill>
                <a:latin typeface="Symbol"/>
                <a:ea typeface="Symbol"/>
              </a:rPr>
              <a:t>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,x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)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)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    (...,s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  i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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...,s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…,s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(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i/</a:t>
            </a:r>
            <a:r>
              <a:rPr b="0" lang="da-DK" sz="2000" spc="-1" strike="noStrike">
                <a:solidFill>
                  <a:srgbClr val="ff99ff"/>
                </a:solidFill>
                <a:latin typeface="Symbol"/>
                <a:ea typeface="Symbol"/>
              </a:rPr>
              <a:t>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)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  (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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   (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(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i/</a:t>
            </a:r>
            <a:r>
              <a:rPr b="0" lang="da-DK" sz="2000" spc="-1" strike="noStrike">
                <a:solidFill>
                  <a:srgbClr val="ff99ff"/>
                </a:solidFill>
                <a:latin typeface="Symbol"/>
                <a:ea typeface="Symbol"/>
              </a:rPr>
              <a:t>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,x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)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x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)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    (...,s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  i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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...,s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(…,s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m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  (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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      (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,...,z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k</a:t>
            </a:r>
            <a:r>
              <a:rPr b="0" lang="da-DK" sz="20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001000" y="3238560"/>
            <a:ext cx="1219320" cy="266760"/>
          </a:xfrm>
          <a:prstGeom prst="wedgeRoundRectCallout">
            <a:avLst>
              <a:gd name="adj1" fmla="val -6250"/>
              <a:gd name="adj2" fmla="val 150000"/>
              <a:gd name="adj3" fmla="val 16667"/>
            </a:avLst>
          </a:prstGeom>
          <a:solidFill>
            <a:srgbClr val="ffff99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jó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3100320"/>
            <a:ext cx="8229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09480" y="3995640"/>
            <a:ext cx="8229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09480" y="4871880"/>
            <a:ext cx="8229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09480" y="5767560"/>
            <a:ext cx="8229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133720" y="3009960"/>
            <a:ext cx="1218960" cy="228600"/>
          </a:xfrm>
          <a:prstGeom prst="wedgeRoundRectCallout">
            <a:avLst>
              <a:gd name="adj1" fmla="val -6250"/>
              <a:gd name="adj2" fmla="val 166666"/>
              <a:gd name="adj3" fmla="val 16667"/>
            </a:avLst>
          </a:prstGeom>
          <a:solidFill>
            <a:srgbClr val="ffff99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jók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09480" y="2185920"/>
            <a:ext cx="82296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9080" y="914400"/>
            <a:ext cx="1981080" cy="838080"/>
          </a:xfrm>
          <a:prstGeom prst="wedgeRoundRectCallout">
            <a:avLst>
              <a:gd name="adj1" fmla="val -4569"/>
              <a:gd name="adj2" fmla="val 97347"/>
              <a:gd name="adj3" fmla="val 16667"/>
            </a:avLst>
          </a:prstGeom>
          <a:solidFill>
            <a:srgbClr val="ffff99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(i:Egész /jó-e:{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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hu-HU" sz="1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}</a:t>
            </a: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1800"/>
            </a:b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z i. csomag jó-e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648320" y="1619280"/>
            <a:ext cx="0" cy="4965840"/>
          </a:xfrm>
          <a:prstGeom prst="line">
            <a:avLst/>
          </a:prstGeom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EC40C-E4D2-4E3F-ACC9-A5F1364CD93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5E0068-0BB9-4B6E-B9BA-41289A93E520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2 Összefonódás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  </a:t>
            </a:r>
            <a:br>
              <a:rPr sz="2400"/>
            </a:br>
            <a:r>
              <a:rPr b="1" i="1" lang="hu-H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da-DK" sz="2800" spc="-1" strike="noStrike">
                <a:solidFill>
                  <a:srgbClr val="ffcc66"/>
                </a:solidFill>
                <a:latin typeface="Times New Roman"/>
              </a:rPr>
              <a:t>2.2.3 Szétválogatás és időszerűsítés</a:t>
            </a:r>
            <a:endParaRPr b="1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 fontScale="98000"/>
          </a:bodyPr>
          <a:p>
            <a:pPr marL="335880" indent="0">
              <a:lnSpc>
                <a:spcPct val="95000"/>
              </a:lnSpc>
              <a:spcBef>
                <a:spcPts val="374"/>
              </a:spcBef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Üzenetek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X:Bemenet,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V:Kimenet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… [file nyitások]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Inicializálás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 nem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Vége?(X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Olvas(X,a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Ha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a.ell=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akkor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JóÜz(a,V)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különben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HibásÜz(a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…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[file zárások]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JóÜz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Konstan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ad:Üzenet,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V:Kimenet):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ágazás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Üres?(s)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setén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Ír(V,ad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ad.sorsz=Első(s).sorsz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  [azaz javító csomag]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    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setén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ból(s,x); Ír(V,ad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            SorÜrítés(V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gyéb  esetben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ba(s,ad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ágazás vé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5000"/>
              </a:lnSpc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800600" y="1981080"/>
            <a:ext cx="2209680" cy="533520"/>
          </a:xfrm>
          <a:prstGeom prst="wedgeRoundRectCallout">
            <a:avLst>
              <a:gd name="adj1" fmla="val -155819"/>
              <a:gd name="adj2" fmla="val 115180"/>
              <a:gd name="adj3" fmla="val 16667"/>
            </a:avLst>
          </a:prstGeom>
          <a:solidFill>
            <a:srgbClr val="ffff99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z ‘a’ megfelelő?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F07A2-D083-4BE4-A4C2-FA51519D5EA7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4FBECD-61FA-4147-BFCA-F18ADDA5CA7C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2 Összefonódás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  </a:t>
            </a:r>
            <a:br>
              <a:rPr sz="2400"/>
            </a:br>
            <a:r>
              <a:rPr b="1" i="1" lang="hu-H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da-DK" sz="2800" spc="-1" strike="noStrike">
                <a:solidFill>
                  <a:srgbClr val="ffcc66"/>
                </a:solidFill>
                <a:latin typeface="Times New Roman"/>
              </a:rPr>
              <a:t>2.2.3 Szétválogatás és időszerűsítés</a:t>
            </a:r>
            <a:endParaRPr b="1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HibásÜzenet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Konstan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ad:Üzenet):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Ha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ad.sorsz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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akkor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ba(s,ad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IsmétlésKérés(ad.sorsz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Ürítés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V:Kimenet):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 nem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Üres?(s)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é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Első(s).ell=</a:t>
            </a:r>
            <a:r>
              <a:rPr b="0" lang="da-DK" sz="2000" spc="-1" strike="noStrike">
                <a:solidFill>
                  <a:srgbClr val="ffffcc"/>
                </a:solidFill>
                <a:latin typeface="Symbol"/>
                <a:ea typeface="Symbol"/>
              </a:rPr>
              <a:t>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Sorból(s,ad); Ír(V,ad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Aft>
                <a:spcPts val="601"/>
              </a:spcAft>
              <a:buNone/>
              <a:tabLst>
                <a:tab algn="l" pos="0"/>
                <a:tab algn="l" pos="663480"/>
                <a:tab algn="l" pos="1327320"/>
                <a:tab algn="l" pos="1616040"/>
                <a:tab algn="l" pos="2381400"/>
                <a:tab algn="l" pos="2755800"/>
                <a:tab algn="l" pos="3809880"/>
                <a:tab algn="l" pos="4286160"/>
                <a:tab algn="l" pos="5238720"/>
                <a:tab algn="l" pos="5527800"/>
                <a:tab algn="l" pos="6191280"/>
                <a:tab algn="l" pos="65660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5956200" y="1587600"/>
            <a:ext cx="2210040" cy="533160"/>
          </a:xfrm>
          <a:prstGeom prst="wedgeRoundRectCallout">
            <a:avLst>
              <a:gd name="adj1" fmla="val 1652"/>
              <a:gd name="adj2" fmla="val 229462"/>
              <a:gd name="adj3" fmla="val 16667"/>
            </a:avLst>
          </a:prstGeom>
          <a:solidFill>
            <a:srgbClr val="ffff99"/>
          </a:solidFill>
          <a:ln w="1260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000000"/>
                </a:solidFill>
                <a:latin typeface="Times New Roman"/>
              </a:rPr>
              <a:t>Az ‘Első(s)’ megfelelő?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62AE-BE5A-4ED4-BFDA-82C2D82316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DDBAF-3E0B-4D72-9C70-B91B99938E49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ffcc66"/>
                </a:solidFill>
                <a:latin typeface="Times New Roman"/>
              </a:rPr>
              <a:t>Tartalom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4. </a:t>
            </a:r>
            <a:r>
              <a:rPr b="0" lang="hu-HU" sz="2400" spc="-1" strike="noStrike" u="sng">
                <a:solidFill>
                  <a:srgbClr val="ff99ff"/>
                </a:solidFill>
                <a:uFillTx/>
                <a:latin typeface="Times New Roman"/>
                <a:hlinkClick r:id="rId1"/>
              </a:rPr>
              <a:t>Külső rendezés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4.1 Négy munkafile-os rendez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4.2 Három munkafile-os rendez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4.3 Prioritási soros rendezé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7936D-D0A2-49AB-BD2E-E9EC737B632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5B1615-4E7E-4360-B30D-354BDBA8648C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2 Összefonódás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 </a:t>
            </a:r>
            <a:br>
              <a:rPr sz="3600"/>
            </a:br>
            <a:r>
              <a:rPr b="1" i="1" lang="hu-H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da-DK" sz="2800" spc="-1" strike="noStrike">
                <a:solidFill>
                  <a:srgbClr val="ffcc66"/>
                </a:solidFill>
                <a:latin typeface="Times New Roman"/>
              </a:rPr>
              <a:t>2.2.3 Szétválogatás és időszerűsítés</a:t>
            </a:r>
            <a:endParaRPr b="1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2. példa:</a:t>
            </a:r>
            <a:br>
              <a:rPr sz="3200"/>
            </a:br>
            <a:r>
              <a:rPr b="0" lang="da-DK" sz="2400" spc="-1" strike="noStrike">
                <a:solidFill>
                  <a:srgbClr val="ffffcc"/>
                </a:solidFill>
                <a:latin typeface="Times New Roman"/>
              </a:rPr>
              <a:t>… mint előbb, de a csomagok sorrendje is megváltozhat 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Megoldás: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i="1" lang="da-DK" sz="2400" spc="-1" strike="noStrike">
                <a:solidFill>
                  <a:srgbClr val="ffffcc"/>
                </a:solidFill>
                <a:latin typeface="Times New Roman"/>
              </a:rPr>
              <a:t>az előzőhöz hasonlóan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)</a:t>
            </a:r>
            <a:br>
              <a:rPr sz="32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…</a:t>
            </a:r>
            <a:br>
              <a:rPr sz="2800"/>
            </a:br>
            <a:r>
              <a:rPr b="1" i="1" lang="da-DK" sz="2000" spc="-1" strike="noStrike">
                <a:solidFill>
                  <a:srgbClr val="ff99ff"/>
                </a:solidFill>
                <a:latin typeface="Times New Roman"/>
              </a:rPr>
              <a:t>Egy alkalmas „belső állapotv</a:t>
            </a:r>
            <a:r>
              <a:rPr b="1" i="1" lang="hu-HU" sz="2000" spc="-1" strike="noStrike">
                <a:solidFill>
                  <a:srgbClr val="ff99ff"/>
                </a:solidFill>
                <a:latin typeface="Times New Roman"/>
              </a:rPr>
              <a:t>áltozás</a:t>
            </a:r>
            <a:r>
              <a:rPr b="1" i="1" lang="da-DK" sz="2000" spc="-1" strike="noStrike">
                <a:solidFill>
                  <a:srgbClr val="ff99ff"/>
                </a:solidFill>
                <a:latin typeface="Times New Roman"/>
              </a:rPr>
              <a:t>” tipizálása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249"/>
              </a:spcBef>
              <a:spcAft>
                <a:spcPts val="300"/>
              </a:spcAft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Bemenet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Üzenet)</a:t>
            </a:r>
            <a:r>
              <a:rPr b="0" lang="da-DK" sz="20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Sor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imenet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Üzenet)</a:t>
            </a:r>
            <a:r>
              <a:rPr b="0" lang="da-DK" sz="20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Sor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Üzenet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Üzenet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 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sorsz:Egész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sorsz:Egész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tart:Szöveg,ell:TEll)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tart:Szöveg,ell:TEll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TSor=</a:t>
            </a:r>
            <a:r>
              <a:rPr b="1" lang="da-DK" sz="2000" spc="-1" strike="noStrike">
                <a:solidFill>
                  <a:srgbClr val="ff99ff"/>
                </a:solidFill>
                <a:latin typeface="Courier New"/>
              </a:rPr>
              <a:t>Pr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Sor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Üzenet)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TSor=</a:t>
            </a:r>
            <a:r>
              <a:rPr b="1" lang="da-DK" sz="2000" spc="-1" strike="noStrike">
                <a:solidFill>
                  <a:srgbClr val="ff99ff"/>
                </a:solidFill>
                <a:latin typeface="Courier New"/>
              </a:rPr>
              <a:t>Pr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Sor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Üzene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További ötlet: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… ha jön egy új csomag, akkor a prioritási sorba beillesztjük őt, s az addigi utolsó és ő közte levőket, mintha rosszul jöttek volna tesszük be…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4D36-B9B6-4E58-8AD7-3F28A375BCB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C46616F-E67D-472C-9C52-C2A1D646D156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3 Rendezetlenségi konfliktus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A probléma:</a:t>
            </a:r>
            <a:br>
              <a:rPr sz="32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 sorozat elemeinek rossz sorrendj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Feloldás: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Rendezé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Speciális feladatok: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2.3.1 Megfordítás</a:t>
            </a:r>
            <a:br>
              <a:rPr sz="28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2.3.2 Részleges rendezetlenség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05AC-3E3C-4A41-B27C-D1C107E44449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6DD1B57-9C87-4096-B5E5-88E795FDFCE3}" type="datetime1">
              <a:rPr lang="en-US"/>
              <a:t>07/28/26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3 Rendezetlenség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 </a:t>
            </a:r>
            <a:br>
              <a:rPr sz="3600"/>
            </a:br>
            <a:r>
              <a:rPr b="1" i="1" lang="hu-H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da-DK" sz="2800" spc="-1" strike="noStrike">
                <a:solidFill>
                  <a:srgbClr val="ffcc66"/>
                </a:solidFill>
                <a:latin typeface="Times New Roman"/>
              </a:rPr>
              <a:t>2.3.1 Megfordítás</a:t>
            </a:r>
            <a:endParaRPr b="1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A probléma:</a:t>
            </a:r>
            <a:br>
              <a:rPr sz="32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 bemenet pontosan ellenkező sorrendű, mint a --kívánatos-- kimene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A megoldás:</a:t>
            </a:r>
            <a:br>
              <a:rPr sz="32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Veremként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működő” file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609480" y="3152880"/>
            <a:ext cx="4318200" cy="33242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1143000"/>
                <a:tab algn="l" pos="2190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Típus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TElem=?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Megfordít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(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X:Bemenet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Y:Kimenet):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v: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Verem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(TElem)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… [file nyitások]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Üres(v)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Ciklus amíg nem 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Vége?(X)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  Olvas(X,adat); Verembe(v,adat)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  Ciklus amíg nem 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Üres?(v)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  Veremb</a:t>
            </a:r>
            <a:r>
              <a:rPr b="0" lang="hu-HU" sz="1600" spc="-1" strike="noStrike">
                <a:solidFill>
                  <a:srgbClr val="ffffcc"/>
                </a:solidFill>
                <a:latin typeface="Courier New"/>
              </a:rPr>
              <a:t>ő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l(v,adat); Ír(Y,adat)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… [file zárások]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Eljárás vége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29200" y="3124080"/>
            <a:ext cx="4114800" cy="3124440"/>
          </a:xfrm>
          <a:prstGeom prst="wedgeRectCallout">
            <a:avLst>
              <a:gd name="adj1" fmla="val -109722"/>
              <a:gd name="adj2" fmla="val -1534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019840" y="3138480"/>
            <a:ext cx="4190760" cy="308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Modul 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Verem(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Típus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TElem):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Reprezentáció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f: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DirektFile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(TElem)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Implemetáció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Eljárás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Üres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(Változó 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v:Verem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) 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Verembe(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v:Verem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Konstans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e:TElem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)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…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    Függvény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Üres?(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Konstans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v:Verem)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  Inicializálás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    …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Modul vége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. 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D9B74-C64B-49EE-9AC2-85550C9CE93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577395C-BC62-48F5-BB06-3B50C7B058F5}" type="datetime1">
              <a:rPr lang="en-US"/>
              <a:t>07/28/26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3 Rendezetlenségi konfliktu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 </a:t>
            </a:r>
            <a:br>
              <a:rPr sz="3600"/>
            </a:br>
            <a:r>
              <a:rPr b="1" i="1" lang="hu-HU" sz="28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da-DK" sz="2800" spc="-1" strike="noStrike">
                <a:solidFill>
                  <a:srgbClr val="ffcc66"/>
                </a:solidFill>
                <a:latin typeface="Times New Roman"/>
              </a:rPr>
              <a:t>2.3.1 Megfordítás</a:t>
            </a:r>
            <a:endParaRPr b="1" i="1" lang="en-US" sz="2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0948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Egy másik megoldás:</a:t>
            </a:r>
            <a:br>
              <a:rPr sz="3200"/>
            </a:b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Memóriabeli verem+szekvenciális fil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09480" y="3152880"/>
            <a:ext cx="4318200" cy="318744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Típus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TElem=?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Megfordít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(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X:Bemenet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Y:Kimenet):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v: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Verem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(TElem)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… [file nyitások]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Üres(v)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… hf.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… [file zárások]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Eljárás vége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52560"/>
                <a:tab algn="l" pos="20955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600" spc="-1" strike="noStrike">
                <a:solidFill>
                  <a:srgbClr val="ffffcc"/>
                </a:solidFill>
                <a:latin typeface="Times New Roman"/>
              </a:rPr>
              <a:t>Ötlet: amikor a memóriabeli verem betelik, akkor a szekvenciális file-ba mint futamot írjuk ki (=értsd: az előbbiek „mellé”)…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029200" y="3124080"/>
            <a:ext cx="4114800" cy="3124440"/>
          </a:xfrm>
          <a:prstGeom prst="wedgeRectCallout">
            <a:avLst>
              <a:gd name="adj1" fmla="val -109722"/>
              <a:gd name="adj2" fmla="val -15347"/>
            </a:avLst>
          </a:prstGeom>
          <a:solidFill>
            <a:srgbClr val="ffffff">
              <a:alpha val="50000"/>
            </a:srgbClr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99ff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019840" y="3138480"/>
            <a:ext cx="4190760" cy="308628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90000"/>
              </a:lnSpc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Modul 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Verem(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Típus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TElem):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Reprezentáció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1" lang="da-DK" sz="1600" spc="-1" strike="noStrike">
                <a:solidFill>
                  <a:srgbClr val="000000"/>
                </a:solidFill>
                <a:latin typeface="Courier New"/>
              </a:rPr>
              <a:t>v:...(TElem) [memóriában]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Implemetáció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Eljárás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Üres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(Változó 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v:Verem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) 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Verembe(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v:Verem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Konstans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e:TElem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)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…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    Függvény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Üres?(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Konstans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v:Verem)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  Inicializálás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    …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Modul vége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. 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CDE3B-DF3B-48D9-BEA6-DE74FE2FF9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E7E67-08B8-4C94-9EB9-8151432E4220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 Struktúramegfeleltetés konfliktusai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Mikor van „konfliktus”?</a:t>
            </a:r>
            <a:br>
              <a:rPr sz="3200"/>
            </a:b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Ha nem egyesíthető természetes módon szuperstruktúrák hierarchiájává a bemeneti és kimeneti adatok finomítás-struktúrája.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Konfliktus fajták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tagolás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összefonódás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rendezetlenségi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4191120" y="3200400"/>
          <a:ext cx="4883040" cy="149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191120" y="3200400"/>
                    <a:ext cx="4883040" cy="1495440"/>
                  </a:xfrm>
                  <a:prstGeom prst="rect">
                    <a:avLst/>
                  </a:prstGeom>
                  <a:ln w="12600">
                    <a:solidFill>
                      <a:srgbClr val="3366ff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8789D-4CE2-4F38-A0D4-26EE610CCD4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65947C-968C-4B40-B137-0E3C3F2DE51B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 Struktúramegfeleltetés konfliktusai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Tagolási konfliktu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a lényeg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általános megoldás:</a:t>
            </a:r>
            <a:br>
              <a:rPr sz="3200"/>
            </a:b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virtuális típus bevezetése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729400" y="1371600"/>
            <a:ext cx="2195280" cy="4495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404B-7BB8-40B8-B256-5789F4BC5F0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46258A-226C-4131-B9EF-5F2632DDF138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 Struktúramegfeleltetés konfliktusai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Összefonódási konfliktu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a lényeg: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általános megoldás:</a:t>
            </a:r>
            <a:br>
              <a:rPr sz="3200"/>
            </a:b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szétválogatá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81800" y="1790640"/>
            <a:ext cx="2266920" cy="45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82926-4C73-4F32-9DC4-83124B5C3AC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CE7A0-6D74-46FD-8C08-F5F84C27242F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 Struktúramegfeleltetés konfliktusai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Speciális összefonódási konfliktu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a lényeg:</a:t>
            </a:r>
            <a:br>
              <a:rPr sz="32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a két 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keveredő” sorozat </a:t>
            </a:r>
            <a:br>
              <a:rPr sz="28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elemeit egymás mögé kell</a:t>
            </a:r>
            <a:br>
              <a:rPr sz="28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elhelyezni</a:t>
            </a: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megoldás:</a:t>
            </a:r>
            <a:br>
              <a:rPr sz="3200"/>
            </a:b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kiválogatás (X) + másolásKiválogatva(Y)</a:t>
            </a:r>
            <a:br>
              <a:rPr sz="3200"/>
            </a:b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  (</a:t>
            </a:r>
            <a:r>
              <a:rPr b="1" i="1" lang="da-DK" sz="2800" spc="-1" strike="noStrike">
                <a:solidFill>
                  <a:srgbClr val="ffffcc"/>
                </a:solidFill>
                <a:latin typeface="Times New Roman"/>
              </a:rPr>
              <a:t>egymásutánírás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586480" y="1676520"/>
            <a:ext cx="2512800" cy="3962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ED9D8-3A17-486C-BD83-C3AE446DA2C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0D16C2-AA81-44FC-8A04-A26E7493F6EB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 Struktúramegfeleltetés konfliktusai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Speciális összefonódási konfliktu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a lényeg:</a:t>
            </a:r>
            <a:br>
              <a:rPr sz="32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a két párosan 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keveredő” </a:t>
            </a:r>
            <a:br>
              <a:rPr sz="28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sorozat elemeit csak a második </a:t>
            </a:r>
            <a:br>
              <a:rPr sz="28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megérkezésekor lehet feldolgozni</a:t>
            </a:r>
            <a:br>
              <a:rPr sz="2800"/>
            </a:b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0" i="1" lang="hu-HU" sz="2800" spc="-1" strike="noStrike">
                <a:solidFill>
                  <a:srgbClr val="ff0000"/>
                </a:solidFill>
                <a:latin typeface="Times New Roman"/>
              </a:rPr>
              <a:t>előzés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hu-HU" sz="2800" spc="-1" strike="noStrike">
                <a:solidFill>
                  <a:srgbClr val="ff0000"/>
                </a:solidFill>
                <a:latin typeface="Times New Roman"/>
              </a:rPr>
              <a:t>nincs!)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i="1" lang="da-DK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megoldás:</a:t>
            </a:r>
            <a:br>
              <a:rPr sz="3200"/>
            </a:b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szétválogatás + párosítás/másolás</a:t>
            </a:r>
            <a:br>
              <a:rPr sz="3200"/>
            </a:b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i="1" lang="da-DK" sz="2800" spc="-1" strike="noStrike">
                <a:solidFill>
                  <a:srgbClr val="ffffcc"/>
                </a:solidFill>
                <a:latin typeface="Times New Roman"/>
              </a:rPr>
              <a:t>szétválogatás:sorokban várakoztatás + másolás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6362640" y="1771560"/>
            <a:ext cx="2260800" cy="3886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8DA18-EAEC-478F-8A42-D32496E9CBC8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EE3997C-DE64-4CE3-AB6D-0E8C32C6F26D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2. Struktúramegfeleltetés konfliktusai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Speciális összefonódási konfliktu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a lényeg:</a:t>
            </a:r>
            <a:br>
              <a:rPr sz="32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a két egykén vagy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 p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árosan </a:t>
            </a:r>
            <a:br>
              <a:rPr sz="2800"/>
            </a:b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keveredő” sorozat elemeit </a:t>
            </a:r>
            <a:br>
              <a:rPr sz="28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csak a második megérkezésekor </a:t>
            </a:r>
            <a:br>
              <a:rPr sz="28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lehet feldolgozni, de a </a:t>
            </a:r>
            <a:r>
              <a:rPr b="0" i="1" lang="da-DK" sz="2800" spc="-1" strike="noStrike">
                <a:solidFill>
                  <a:srgbClr val="ff0000"/>
                </a:solidFill>
                <a:latin typeface="Times New Roman"/>
              </a:rPr>
              <a:t>követési</a:t>
            </a:r>
            <a:br>
              <a:rPr sz="2800"/>
            </a:br>
            <a:r>
              <a:rPr b="0" i="1" lang="da-DK" sz="2800" spc="-1" strike="noStrike">
                <a:solidFill>
                  <a:srgbClr val="ff0000"/>
                </a:solidFill>
                <a:latin typeface="Times New Roman"/>
              </a:rPr>
              <a:t>távolság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 (ismert) </a:t>
            </a:r>
            <a:r>
              <a:rPr b="0" i="1" lang="da-DK" sz="2800" spc="-1" strike="noStrike">
                <a:solidFill>
                  <a:srgbClr val="ff0000"/>
                </a:solidFill>
                <a:latin typeface="Times New Roman"/>
              </a:rPr>
              <a:t>nem nagy</a:t>
            </a:r>
            <a:br>
              <a:rPr sz="2800"/>
            </a:b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(a pár része az elsőnek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br>
              <a:rPr sz="2800"/>
            </a:b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hu-HU" sz="2800" spc="-1" strike="noStrike">
                <a:solidFill>
                  <a:srgbClr val="ff0000"/>
                </a:solidFill>
                <a:latin typeface="Times New Roman"/>
              </a:rPr>
              <a:t>előzés van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;</a:t>
            </a:r>
            <a:br>
              <a:rPr sz="2800"/>
            </a:b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pl. hálózaton a csomagok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megoldás:</a:t>
            </a:r>
            <a:br>
              <a:rPr sz="3200"/>
            </a:b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pufferbe másolás + időszerűsíté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248520" y="2019240"/>
            <a:ext cx="2209680" cy="3695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4071-C6EF-4FCE-BBE7-6BB8C6BCE16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79E0BC-80F2-413A-A831-1698A0805938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1T18:03:21Z</dcterms:created>
  <dc:creator>Szlávi Péter</dc:creator>
  <dc:description/>
  <dc:language>en-US</dc:language>
  <cp:lastModifiedBy>Szlávi Péter</cp:lastModifiedBy>
  <cp:lastPrinted>1999-11-01T10:20:34Z</cp:lastPrinted>
  <dcterms:modified xsi:type="dcterms:W3CDTF">2002-10-30T12:59:21Z</dcterms:modified>
  <cp:revision>204</cp:revision>
  <dc:subject/>
  <dc:title>Adatfeldolgozás előadás 2.</dc:title>
</cp:coreProperties>
</file>