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8350-06D7-4E87-BBA9-5640F5C73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F40C7-FEA0-4488-A4D9-4DAA287E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BB0E6-0F3D-4D23-9810-C9CF51C1B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685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313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594144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DC67-7BC9-48C8-864F-25BDF68B7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17306-67F9-4CA6-B4D4-6F6BE28E9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35C3D-7CC7-44DE-9C4A-68D536D5A8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41501-FE34-4449-914E-E942F92B6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1D577-5E15-460D-96BC-74E7D3326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FD89C-D6AD-4C92-8A2F-530BBA514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685800" y="114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31D42-F816-4CB3-B238-AEB864ED1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BF42-77A6-4FFB-B5BF-F3FF0EB9E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B844-F7DE-475D-91E0-1BC602803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2C3E0-16AC-4683-8A26-A10F3BCC0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EDF90-A83A-4ECB-AE1A-169D8A630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0468A-BAD4-4DE2-A0C3-BD898754C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E55A-AFB2-4899-86E9-8CB2141F2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31380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941440" y="14475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685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31380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5941440" y="3915360"/>
            <a:ext cx="250236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DA378-B2FE-483C-AEC4-51E3B687EC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75C17-EFB0-47D8-876A-8721E5AED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E3D51-090F-4EAB-AB02-3BF3C684B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39E9-D15D-4CA4-BD71-EC897F901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685800" y="114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4556C-F5E7-4213-9C09-D147A0BFF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839C-379F-42CC-9F35-C877166BD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68480" y="39153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1118-4B4E-4D27-905C-F7C67FB8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447560"/>
            <a:ext cx="37926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3915360"/>
            <a:ext cx="777240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D020-A643-4CB0-8362-D50168BA2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457200" y="992160"/>
            <a:ext cx="8152920" cy="1599840"/>
            <a:chOff x="457200" y="992160"/>
            <a:chExt cx="8152920" cy="1599840"/>
          </a:xfrm>
        </p:grpSpPr>
        <p:sp>
          <p:nvSpPr>
            <p:cNvPr id="1" name=""/>
            <p:cNvSpPr/>
            <p:nvPr/>
          </p:nvSpPr>
          <p:spPr>
            <a:xfrm>
              <a:off x="2886480" y="9921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2811960" y="11574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71280" y="13780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14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44756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0948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BBBE7-D901-4155-9558-84F6FF2AEAE9}" type="datetime">
              <a:rPr b="0" lang="hu-HU" sz="1200" spc="-1" strike="noStrike">
                <a:solidFill>
                  <a:srgbClr val="ffffcc"/>
                </a:solidFill>
                <a:latin typeface="Arial"/>
              </a:rPr>
              <a:t>26.07.28.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4771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hu-HU" sz="12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12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629400" y="64771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F15761-993E-4AEF-BE76-A2DA7ECAF82A}" type="slidenum">
              <a:rPr b="0" lang="hu-HU" sz="12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5560" y="64008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  <a:path fill="darken" w="21600" h="25924">
                <a:moveTo>
                  <a:pt x="7301" y="12962"/>
                </a:moveTo>
                <a:lnTo>
                  <a:pt x="17806" y="5956"/>
                </a:lnTo>
                <a:lnTo>
                  <a:pt x="17806" y="19969"/>
                </a:lnTo>
                <a:close/>
              </a:path>
              <a:path fill="darken" w="21600" h="25924">
                <a:moveTo>
                  <a:pt x="3794" y="5956"/>
                </a:moveTo>
                <a:lnTo>
                  <a:pt x="5456" y="5956"/>
                </a:lnTo>
                <a:lnTo>
                  <a:pt x="5456" y="19969"/>
                </a:lnTo>
                <a:lnTo>
                  <a:pt x="3794" y="19969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1" name="szp_alr" descr=""/>
          <p:cNvPicPr/>
          <p:nvPr/>
        </p:nvPicPr>
        <p:blipFill>
          <a:blip r:embed="rId2">
            <a:lum contrast="20000"/>
          </a:blip>
          <a:stretch/>
        </p:blipFill>
        <p:spPr>
          <a:xfrm>
            <a:off x="0" y="0"/>
            <a:ext cx="1066680" cy="219240"/>
          </a:xfrm>
          <a:prstGeom prst="rect">
            <a:avLst/>
          </a:prstGeom>
          <a:ln w="0">
            <a:noFill/>
          </a:ln>
        </p:spPr>
      </p:pic>
      <p:sp>
        <p:nvSpPr>
          <p:cNvPr id="12" name="">
            <a:hlinkClick r:id="" action="ppaction://hlinkshowjump?jump=previousslide"/>
          </p:cNvPr>
          <p:cNvSpPr/>
          <p:nvPr/>
        </p:nvSpPr>
        <p:spPr>
          <a:xfrm>
            <a:off x="8771040" y="25560"/>
            <a:ext cx="360360" cy="360360"/>
          </a:xfrm>
          <a:custGeom>
            <a:avLst/>
            <a:gdLst>
              <a:gd name="textAreaLeft" fmla="*/ 23040 w 360360"/>
              <a:gd name="textAreaRight" fmla="*/ 337320 w 36036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969696"/>
          </a:solidFill>
          <a:ln w="1908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ctr">
            <a:noAutofit/>
          </a:bodyPr>
          <a:p>
            <a:pPr algn="ctr"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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57200" y="2363760"/>
            <a:ext cx="8152920" cy="1599840"/>
            <a:chOff x="457200" y="2363760"/>
            <a:chExt cx="8152920" cy="1599840"/>
          </a:xfrm>
        </p:grpSpPr>
        <p:sp>
          <p:nvSpPr>
            <p:cNvPr id="50" name=""/>
            <p:cNvSpPr/>
            <p:nvPr/>
          </p:nvSpPr>
          <p:spPr>
            <a:xfrm>
              <a:off x="2886480" y="2363760"/>
              <a:ext cx="5723640" cy="1599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811960" y="2529000"/>
              <a:ext cx="5726880" cy="1269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771280" y="2749680"/>
              <a:ext cx="5722920" cy="828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A80E45-D7F4-474D-B5E6-D21C4D719B57}" type="datetime">
              <a:rPr b="0" lang="hu-HU" sz="1400" spc="-1" strike="noStrike">
                <a:solidFill>
                  <a:srgbClr val="ffffcc"/>
                </a:solidFill>
                <a:latin typeface="Arial"/>
              </a:rPr>
              <a:t>26.07.28.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42D9D-5215-4D3B-B4AD-BE139A423B39}" type="slidenum">
              <a:rPr b="0" lang="hu-HU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izzo.inf.elte.hu/~szlavi" TargetMode="External"/><Relationship Id="rId3" Type="http://schemas.openxmlformats.org/officeDocument/2006/relationships/hyperlink" Target="http://izzo.inf.elte.hu/~szlavi" TargetMode="External"/><Relationship Id="rId4" Type="http://schemas.openxmlformats.org/officeDocument/2006/relationships/hyperlink" Target="http://izzo.inf.elte.hu/~szlavi" TargetMode="External"/><Relationship Id="rId5" Type="http://schemas.openxmlformats.org/officeDocument/2006/relationships/hyperlink" Target="http://izzo.inf.elte.hu/~szlavi" TargetMode="External"/><Relationship Id="rId6" Type="http://schemas.openxmlformats.org/officeDocument/2006/relationships/hyperlink" Target="http://izzo.inf.elte.hu/~szlavi" TargetMode="External"/><Relationship Id="rId7" Type="http://schemas.openxmlformats.org/officeDocument/2006/relationships/hyperlink" Target="http://izzo.inf.elte.hu/~szlavi" TargetMode="External"/><Relationship Id="rId8" Type="http://schemas.openxmlformats.org/officeDocument/2006/relationships/hyperlink" Target="http://izzo.inf.elte.hu/~szlavi" TargetMode="External"/><Relationship Id="rId9" Type="http://schemas.openxmlformats.org/officeDocument/2006/relationships/hyperlink" Target="http://izzo.inf.elte.hu/~szlavi" TargetMode="External"/><Relationship Id="rId10" Type="http://schemas.openxmlformats.org/officeDocument/2006/relationships/hyperlink" Target="http://izzo.inf.elte.hu/~szlavi" TargetMode="External"/><Relationship Id="rId11" Type="http://schemas.openxmlformats.org/officeDocument/2006/relationships/hyperlink" Target="http://izzo.inf.elte.hu/~szlavi" TargetMode="External"/><Relationship Id="rId1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ffcc66"/>
                </a:solidFill>
                <a:latin typeface="Times New Roman"/>
              </a:rPr>
              <a:t>Adatfeldolgozás 3.</a:t>
            </a: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pic>
        <p:nvPicPr>
          <p:cNvPr id="96" name="szp_alr" descr=""/>
          <p:cNvPicPr/>
          <p:nvPr/>
        </p:nvPicPr>
        <p:blipFill>
          <a:blip r:embed="rId1">
            <a:lum contrast="20000"/>
          </a:blip>
          <a:stretch/>
        </p:blipFill>
        <p:spPr>
          <a:xfrm>
            <a:off x="0" y="6615000"/>
            <a:ext cx="1184400" cy="24300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066680" y="3821040"/>
            <a:ext cx="7620120" cy="162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cc66"/>
                </a:solidFill>
                <a:latin typeface="Times New Roman"/>
              </a:rPr>
              <a:t>Szlávi Pé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800" spc="-1" strike="noStrike">
                <a:solidFill>
                  <a:srgbClr val="ffcc66"/>
                </a:solidFill>
                <a:latin typeface="Times New Roman"/>
              </a:rPr>
              <a:t>ELTE Informatika Szakmódszertani Csopor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cc66"/>
                </a:solidFill>
                <a:latin typeface="Courier New"/>
              </a:rPr>
              <a:t>szlavi@ludens.elte.hu</a:t>
            </a:r>
            <a:br>
              <a:rPr sz="2000"/>
            </a:br>
            <a:r>
              <a:rPr b="0" lang="hu-HU" sz="2000" spc="-1" strike="noStrike" u="sng">
                <a:solidFill>
                  <a:srgbClr val="ff99ff"/>
                </a:solidFill>
                <a:uFillTx/>
                <a:latin typeface="Courier New"/>
                <a:hlinkClick r:id="rId2"/>
              </a:rPr>
              <a:t>http: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3"/>
              </a:rPr>
              <a:t>//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4"/>
              </a:rPr>
              <a:t>izzo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5"/>
              </a:rPr>
              <a:t>.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6"/>
              </a:rPr>
              <a:t>inf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7"/>
              </a:rPr>
              <a:t>.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8"/>
              </a:rPr>
              <a:t>elte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9"/>
              </a:rPr>
              <a:t>.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10"/>
              </a:rPr>
              <a:t>hu</a:t>
            </a:r>
            <a:r>
              <a:rPr b="0" lang="en-US" sz="2000" spc="-1" strike="noStrike" u="sng">
                <a:solidFill>
                  <a:srgbClr val="ff99ff"/>
                </a:solidFill>
                <a:uFillTx/>
                <a:latin typeface="Courier New"/>
                <a:hlinkClick r:id="rId11"/>
              </a:rPr>
              <a:t>/~</a:t>
            </a:r>
            <a:r>
              <a:rPr b="0" lang="en-US" sz="2000" spc="-1" strike="noStrike">
                <a:solidFill>
                  <a:srgbClr val="ffcc66"/>
                </a:solidFill>
                <a:latin typeface="Courier New"/>
              </a:rPr>
              <a:t>szlav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600" spc="-1" strike="noStrike">
                <a:solidFill>
                  <a:srgbClr val="ffcc66"/>
                </a:solidFill>
                <a:latin typeface="Times New Roman"/>
              </a:rPr>
              <a:t>3.1 Megoldása a </a:t>
            </a: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„</a:t>
            </a:r>
            <a:r>
              <a:rPr b="1" i="1" lang="da-DK" sz="3600" spc="-1" strike="noStrike">
                <a:solidFill>
                  <a:srgbClr val="ffcc66"/>
                </a:solidFill>
                <a:latin typeface="Times New Roman"/>
              </a:rPr>
              <a:t>Z=F(X)” tétel alapján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 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10800" bIns="10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Implementáció:</a:t>
            </a:r>
            <a:br>
              <a:rPr sz="32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Időszerűsítés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X:Adatok,Y:Módosítók, Z:Adatok):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adpár:Elempár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     kiad:KiElem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Nyit(X,Y,...); 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adpár.bem.kész:=Igaz; adpár.mod.kész:=Iga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Nyit(Z,...)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 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amíg nem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Vége?(X,Y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Olvas(X,Y,adpár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Feldolgoz(adpár,kiad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Ír(Z,kiad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Zár(X,Y); Zár(Z)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6019920" y="4495680"/>
            <a:ext cx="2895480" cy="685800"/>
          </a:xfrm>
          <a:prstGeom prst="wedgeRoundRectCallout">
            <a:avLst>
              <a:gd name="adj1" fmla="val 8550"/>
              <a:gd name="adj2" fmla="val -144907"/>
              <a:gd name="adj3" fmla="val 1666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A következők beolvashatók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523880" y="3338640"/>
            <a:ext cx="6553440" cy="609480"/>
          </a:xfrm>
          <a:prstGeom prst="rect">
            <a:avLst/>
          </a:prstGeom>
          <a:noFill/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1EA35-DB35-4319-B676-220C9C07785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C7DB22-D4CC-46C4-B854-532AB4CE6409}" type="datetime1">
              <a:rPr lang="en-US"/>
              <a:t>07/28/26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600" spc="-1" strike="noStrike">
                <a:solidFill>
                  <a:srgbClr val="ffcc66"/>
                </a:solidFill>
                <a:latin typeface="Times New Roman"/>
              </a:rPr>
              <a:t>3.1 Megoldása a </a:t>
            </a: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„</a:t>
            </a:r>
            <a:r>
              <a:rPr b="1" i="1" lang="da-DK" sz="3600" spc="-1" strike="noStrike">
                <a:solidFill>
                  <a:srgbClr val="ffcc66"/>
                </a:solidFill>
                <a:latin typeface="Times New Roman"/>
              </a:rPr>
              <a:t>Z=F(X)” tétel alapján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 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10800" bIns="10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Olvas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X:Adatok, Y:Módosítók,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 adpár:Elempár);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Ha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adpár.bem.kész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akkor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Ha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nem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Vége?(X)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akkor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Olvas(X,adpár.bem.tar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                   adpár.bem.kész:=Hamis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[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különben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adpár.bem.kész:=Igaz]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ágazás vége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ágazás vége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Ha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adpár.mód.kész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akkor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Ha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nem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Vége?(Y)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akkor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Olvas(Y,adpár.mód.tar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                   adpár.mód.kész:=Hamis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         [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különben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adpár.mód.kész:=Igaz]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ágazás vége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ágazás vég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304920" y="2819520"/>
            <a:ext cx="4038480" cy="305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X</a:t>
            </a:r>
            <a:r>
              <a:rPr b="1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{Üres}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 Y</a:t>
            </a:r>
            <a:r>
              <a:rPr b="1" lang="hu-HU" sz="20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{Üres} </a:t>
            </a:r>
            <a:r>
              <a:rPr b="1" lang="hu-HU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 Z</a:t>
            </a:r>
            <a:r>
              <a:rPr b="1" lang="hu-HU" sz="20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{Üres}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4648320"/>
            <a:ext cx="4038480" cy="305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hu-HU" sz="20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{Üres}</a:t>
            </a: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 x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Y</a:t>
            </a:r>
            <a:r>
              <a:rPr b="1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{Üres}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 Z</a:t>
            </a:r>
            <a:r>
              <a:rPr b="1" lang="hu-HU" sz="20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{Üres}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04DD-ED0E-4F95-9FE0-1B64D5CF254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854CBB-057E-42AD-A09E-FAA71F04BEB9}" type="datetime1">
              <a:rPr lang="en-US"/>
              <a:t>07/28/26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600" spc="-1" strike="noStrike">
                <a:solidFill>
                  <a:srgbClr val="ffcc66"/>
                </a:solidFill>
                <a:latin typeface="Times New Roman"/>
              </a:rPr>
              <a:t>3.1 Megoldása a </a:t>
            </a: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„</a:t>
            </a:r>
            <a:r>
              <a:rPr b="1" i="1" lang="da-DK" sz="3600" spc="-1" strike="noStrike">
                <a:solidFill>
                  <a:srgbClr val="ffcc66"/>
                </a:solidFill>
                <a:latin typeface="Times New Roman"/>
              </a:rPr>
              <a:t>Z=F(X)” tétel alapján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 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10800" bIns="10800" anchor="t">
            <a:normAutofit/>
          </a:bodyPr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Ír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Z:Adatok,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Konstan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kiad:KiElem):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Ha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nem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kiad.üres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akkor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Ír(Z,kiad.tar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          [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különben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Ír(Sehová,kiad.tart)]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Feldolgoz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adpár:Elempár,kiad:KiElem):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ágazás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adpár.bem.kész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setén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kiad:=KiElem(Hamis,adpár.mód.tart.tar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adpár.mód.kész:=Igaz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adpár.mód.kész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setén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kiad:=KiElem(Hamis,adpár.bem.tar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adpár.bem.kész:=Igaz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lang="da-DK" sz="1900" spc="-1" strike="noStrike">
                <a:solidFill>
                  <a:srgbClr val="ffffcc"/>
                </a:solidFill>
                <a:latin typeface="Courier New"/>
              </a:rPr>
              <a:t>adpár.bem.tart.kulcs&lt;adpár.mód.tart.tart.kulcs </a:t>
            </a:r>
            <a:r>
              <a:rPr b="1" lang="da-DK" sz="1900" spc="-1" strike="noStrike">
                <a:solidFill>
                  <a:srgbClr val="ffffcc"/>
                </a:solidFill>
                <a:latin typeface="Courier New"/>
              </a:rPr>
              <a:t>esetén</a:t>
            </a:r>
            <a:br>
              <a:rPr sz="19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kiad:=KiElem(Hamis,adpár.bem.tar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adpár.bem.kész:=Igaz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6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800" spc="-1" strike="noStrike">
                <a:solidFill>
                  <a:srgbClr val="ffffcc"/>
                </a:solidFill>
                <a:latin typeface="Courier New"/>
              </a:rPr>
              <a:t>  …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248520" y="3124080"/>
            <a:ext cx="2354040" cy="435240"/>
          </a:xfrm>
          <a:prstGeom prst="wedgeRoundRectCallout">
            <a:avLst>
              <a:gd name="adj1" fmla="val -179861"/>
              <a:gd name="adj2" fmla="val 36129"/>
              <a:gd name="adj3" fmla="val 1666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X vége utáni beszúrá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76960" y="4129200"/>
            <a:ext cx="3670200" cy="395280"/>
          </a:xfrm>
          <a:prstGeom prst="wedgeRoundRectCallout">
            <a:avLst>
              <a:gd name="adj1" fmla="val -109125"/>
              <a:gd name="adj2" fmla="val 7027"/>
              <a:gd name="adj3" fmla="val 1666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Y vége: módosítás nélküli másolás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269040" y="4786200"/>
            <a:ext cx="2771640" cy="360360"/>
          </a:xfrm>
          <a:prstGeom prst="wedgeRoundRectCallout">
            <a:avLst>
              <a:gd name="adj1" fmla="val -74453"/>
              <a:gd name="adj2" fmla="val 70078"/>
              <a:gd name="adj3" fmla="val 1666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incs módosítás: másolá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29200" y="2529000"/>
            <a:ext cx="4038480" cy="305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hu-HU" sz="20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{Üres} </a:t>
            </a:r>
            <a:r>
              <a:rPr b="1" lang="hu-HU" sz="20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1" lang="hu-HU" sz="20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{Üres} </a:t>
            </a:r>
            <a:r>
              <a:rPr b="1" lang="hu-HU" sz="20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hu-HU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Z</a:t>
            </a:r>
            <a:r>
              <a:rPr b="1" lang="hu-HU" sz="2000" spc="-1" strike="noStrike">
                <a:solidFill>
                  <a:srgbClr val="ffffff"/>
                </a:solidFill>
                <a:latin typeface="Symbol"/>
                <a:ea typeface="Symbol"/>
              </a:rPr>
              <a:t></a:t>
            </a:r>
            <a:r>
              <a:rPr b="1" lang="hu-HU" sz="2000" spc="-1" strike="noStrike">
                <a:solidFill>
                  <a:srgbClr val="ffffff"/>
                </a:solidFill>
                <a:latin typeface="Times New Roman"/>
              </a:rPr>
              <a:t>{Üres}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C18EE-5D8C-481C-9316-B165282ED141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C1D11-A20C-4BC4-93BF-21417D2F92FC}" type="datetime1">
              <a:rPr lang="en-US"/>
              <a:t>07/28/26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600" spc="-1" strike="noStrike">
                <a:solidFill>
                  <a:srgbClr val="ffcc66"/>
                </a:solidFill>
                <a:latin typeface="Times New Roman"/>
              </a:rPr>
              <a:t>3.1 Megoldása a </a:t>
            </a: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„</a:t>
            </a:r>
            <a:r>
              <a:rPr b="1" i="1" lang="da-DK" sz="3600" spc="-1" strike="noStrike">
                <a:solidFill>
                  <a:srgbClr val="ffcc66"/>
                </a:solidFill>
                <a:latin typeface="Times New Roman"/>
              </a:rPr>
              <a:t>Z=F(X)” tétel alapján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 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10800" bIns="10800" anchor="t">
            <a:normAutofit/>
          </a:bodyPr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ffffcc"/>
                </a:solidFill>
                <a:latin typeface="Courier New"/>
              </a:rPr>
              <a:t>  …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19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lang="da-DK" sz="1900" spc="-1" strike="noStrike">
                <a:solidFill>
                  <a:srgbClr val="ffffcc"/>
                </a:solidFill>
                <a:latin typeface="Courier New"/>
              </a:rPr>
              <a:t>adpár.bem.tart.kulcs&gt;adpár.mód.tart.tart.kulcs </a:t>
            </a:r>
            <a:r>
              <a:rPr b="1" lang="da-DK" sz="1900" spc="-1" strike="noStrike">
                <a:solidFill>
                  <a:srgbClr val="ffffcc"/>
                </a:solidFill>
                <a:latin typeface="Courier New"/>
              </a:rPr>
              <a:t>esetén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kiad:=KiElem(Hamis,adpár.mód.tart.tar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adpár.mód.kész:=Igaz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lang="da-DK" sz="1900" spc="-1" strike="noStrike">
                <a:solidFill>
                  <a:srgbClr val="ffffcc"/>
                </a:solidFill>
                <a:latin typeface="Courier New"/>
              </a:rPr>
              <a:t>adpár.bem.tart.kulcs</a:t>
            </a:r>
            <a:r>
              <a:rPr b="0" i="1" lang="da-DK" sz="1900" spc="-1" strike="noStrike">
                <a:solidFill>
                  <a:srgbClr val="ffffcc"/>
                </a:solidFill>
                <a:latin typeface="Courier New"/>
              </a:rPr>
              <a:t>=</a:t>
            </a:r>
            <a:r>
              <a:rPr b="0" lang="da-DK" sz="1900" spc="-1" strike="noStrike">
                <a:solidFill>
                  <a:srgbClr val="ffffcc"/>
                </a:solidFill>
                <a:latin typeface="Courier New"/>
              </a:rPr>
              <a:t>adpár.mód.tart.tart.kulcs </a:t>
            </a:r>
            <a:r>
              <a:rPr b="1" lang="da-DK" sz="1900" spc="-1" strike="noStrike">
                <a:solidFill>
                  <a:srgbClr val="ffffcc"/>
                </a:solidFill>
                <a:latin typeface="Courier New"/>
              </a:rPr>
              <a:t>és</a:t>
            </a:r>
            <a:br>
              <a:rPr sz="1900"/>
            </a:br>
            <a:r>
              <a:rPr b="0" lang="da-DK" sz="19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1900" spc="-1" strike="noStrike">
                <a:solidFill>
                  <a:srgbClr val="ffffcc"/>
                </a:solidFill>
                <a:latin typeface="Courier New"/>
              </a:rPr>
              <a:t>adpár.mód.tart.módtip=Törlés </a:t>
            </a:r>
            <a:r>
              <a:rPr b="1" lang="da-DK" sz="1900" spc="-1" strike="noStrike">
                <a:solidFill>
                  <a:srgbClr val="ffffcc"/>
                </a:solidFill>
                <a:latin typeface="Courier New"/>
              </a:rPr>
              <a:t>esetén</a:t>
            </a:r>
            <a:br>
              <a:rPr sz="19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kiad:=KiElem(Igaz,</a:t>
            </a:r>
            <a:r>
              <a:rPr b="0" i="1" lang="da-DK" sz="2000" spc="-1" strike="noStrike">
                <a:solidFill>
                  <a:srgbClr val="ffffcc"/>
                </a:solidFill>
                <a:latin typeface="Courier New"/>
              </a:rPr>
              <a:t>akármi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adpár.mód.kész:=Igaz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adpár.bem.kész:=Igaz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lang="da-DK" sz="1900" spc="-1" strike="noStrike">
                <a:solidFill>
                  <a:srgbClr val="ffffcc"/>
                </a:solidFill>
                <a:latin typeface="Courier New"/>
              </a:rPr>
              <a:t>adpár.bem.tart.kulcs</a:t>
            </a:r>
            <a:r>
              <a:rPr b="0" i="1" lang="da-DK" sz="1900" spc="-1" strike="noStrike">
                <a:solidFill>
                  <a:srgbClr val="ffffcc"/>
                </a:solidFill>
                <a:latin typeface="Courier New"/>
              </a:rPr>
              <a:t>=</a:t>
            </a:r>
            <a:r>
              <a:rPr b="0" lang="da-DK" sz="1900" spc="-1" strike="noStrike">
                <a:solidFill>
                  <a:srgbClr val="ffffcc"/>
                </a:solidFill>
                <a:latin typeface="Courier New"/>
              </a:rPr>
              <a:t>adpár.mód.tart.tart.kulcs </a:t>
            </a:r>
            <a:r>
              <a:rPr b="1" lang="da-DK" sz="1900" spc="-1" strike="noStrike">
                <a:solidFill>
                  <a:srgbClr val="ffffcc"/>
                </a:solidFill>
                <a:latin typeface="Courier New"/>
              </a:rPr>
              <a:t>és</a:t>
            </a:r>
            <a:br>
              <a:rPr sz="1900"/>
            </a:br>
            <a:r>
              <a:rPr b="0" lang="da-DK" sz="19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1900" spc="-1" strike="noStrike">
                <a:solidFill>
                  <a:srgbClr val="ffffcc"/>
                </a:solidFill>
                <a:latin typeface="Courier New"/>
              </a:rPr>
              <a:t>adpár.mód.tart.módtip=Javítás </a:t>
            </a:r>
            <a:r>
              <a:rPr b="1" lang="da-DK" sz="1900" spc="-1" strike="noStrike">
                <a:solidFill>
                  <a:srgbClr val="ffffcc"/>
                </a:solidFill>
                <a:latin typeface="Courier New"/>
              </a:rPr>
              <a:t>esetén</a:t>
            </a:r>
            <a:br>
              <a:rPr sz="19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kiad:=KiElem(Hamis,adpár.mód.tart.tar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adpár.mód.kész:=Igaz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adpár.bem.kész:=Igaz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ágazás vége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8600" y="2286000"/>
            <a:ext cx="1644480" cy="385920"/>
          </a:xfrm>
          <a:prstGeom prst="wedgeRoundRectCallout">
            <a:avLst>
              <a:gd name="adj1" fmla="val 78185"/>
              <a:gd name="adj2" fmla="val -87037"/>
              <a:gd name="adj3" fmla="val 1666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eszúrá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8600" y="3505320"/>
            <a:ext cx="1644480" cy="385560"/>
          </a:xfrm>
          <a:prstGeom prst="wedgeRoundRectCallout">
            <a:avLst>
              <a:gd name="adj1" fmla="val 78185"/>
              <a:gd name="adj2" fmla="val -87037"/>
              <a:gd name="adj3" fmla="val 1666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Törlé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8600" y="5024520"/>
            <a:ext cx="1644480" cy="385560"/>
          </a:xfrm>
          <a:prstGeom prst="wedgeRoundRectCallout">
            <a:avLst>
              <a:gd name="adj1" fmla="val 78185"/>
              <a:gd name="adj2" fmla="val -87037"/>
              <a:gd name="adj3" fmla="val 1666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Javítás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943600" y="5486400"/>
            <a:ext cx="2286000" cy="825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3300"/>
                </a:solidFill>
                <a:latin typeface="Times New Roman"/>
              </a:rPr>
              <a:t>Ellenőrzések nincsenek</a:t>
            </a:r>
            <a:r>
              <a:rPr b="1" i="1" lang="en-US" sz="2400" spc="-1" strike="noStrike">
                <a:solidFill>
                  <a:srgbClr val="ff3300"/>
                </a:solidFill>
                <a:latin typeface="Times New Roman"/>
              </a:rPr>
              <a:t>!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7133F-D855-49D2-A194-CFCA6081794C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665493-573B-475E-8C15-FE9095CC9C6A}" type="datetime1">
              <a:rPr lang="en-US"/>
              <a:t>07/28/26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600" spc="-1" strike="noStrike">
                <a:solidFill>
                  <a:srgbClr val="ffcc66"/>
                </a:solidFill>
                <a:latin typeface="Times New Roman"/>
              </a:rPr>
              <a:t>3.2 Megoldása az </a:t>
            </a: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„</a:t>
            </a:r>
            <a:r>
              <a:rPr b="1" i="1" lang="da-DK" sz="3600" spc="-1" strike="noStrike">
                <a:solidFill>
                  <a:srgbClr val="ffcc66"/>
                </a:solidFill>
                <a:latin typeface="Times New Roman"/>
              </a:rPr>
              <a:t>Összefuttatás” tétel alapján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  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Analógiák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2025720" y="1987560"/>
          <a:ext cx="6661080" cy="4386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25720" y="1987560"/>
                    <a:ext cx="666108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87881-6B75-4A89-A41B-7D736F507A0D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9D46C0-C7DC-45F6-BAB7-8D97F75F0267}" type="datetime1">
              <a:rPr lang="en-US"/>
              <a:t>07/28/26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600" spc="-1" strike="noStrike">
                <a:solidFill>
                  <a:srgbClr val="ffcc66"/>
                </a:solidFill>
                <a:latin typeface="Times New Roman"/>
              </a:rPr>
              <a:t>3.2 Megoldása az </a:t>
            </a: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„</a:t>
            </a:r>
            <a:r>
              <a:rPr b="1" i="1" lang="da-DK" sz="3600" spc="-1" strike="noStrike">
                <a:solidFill>
                  <a:srgbClr val="ffcc66"/>
                </a:solidFill>
                <a:latin typeface="Times New Roman"/>
              </a:rPr>
              <a:t>Összefuttatás” tétel alapján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 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Típus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Puffer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MódPuffer=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Rekord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(kész:Logikai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(kész:Logikai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tart:Elem)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tart:MódElem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Időszerűsítés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X:Adatok, Y:Módosítók,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Z:Adatok):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i:Puffer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     j:MódPuffer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Nyit(X,...); ElőreOlvasX(X,i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Nyit(Y,...); ElőreOlvasY(Y,j) 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Nyit(Z,...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5880" y="3581280"/>
            <a:ext cx="2438640" cy="1922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ff3300"/>
                </a:solidFill>
                <a:latin typeface="Times New Roman"/>
              </a:rPr>
              <a:t>Csak módszertani okok miatt nem „ágyazzuk be” az előreolvasást a nyitásokba..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990720" y="4052880"/>
            <a:ext cx="4419360" cy="333360"/>
          </a:xfrm>
          <a:prstGeom prst="rect">
            <a:avLst/>
          </a:prstGeom>
          <a:noFill/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990720" y="4362480"/>
            <a:ext cx="4419360" cy="333360"/>
          </a:xfrm>
          <a:prstGeom prst="rect">
            <a:avLst/>
          </a:prstGeom>
          <a:noFill/>
          <a:ln w="12600">
            <a:solidFill>
              <a:srgbClr val="ffff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066680"/>
            <a:ext cx="2971800" cy="381240"/>
          </a:xfrm>
          <a:prstGeom prst="wedgeRectCallout">
            <a:avLst>
              <a:gd name="adj1" fmla="val -19976"/>
              <a:gd name="adj2" fmla="val 25625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cc"/>
                </a:solidFill>
                <a:latin typeface="Times New Roman"/>
              </a:rPr>
              <a:t>Ti. a bemeneti file kész-e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5943600" y="1066680"/>
            <a:ext cx="2971800" cy="381240"/>
          </a:xfrm>
          <a:prstGeom prst="wedgeRectCallout">
            <a:avLst>
              <a:gd name="adj1" fmla="val -19976"/>
              <a:gd name="adj2" fmla="val 25625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000" spc="-1" strike="noStrike">
                <a:solidFill>
                  <a:srgbClr val="ffffcc"/>
                </a:solidFill>
                <a:latin typeface="Times New Roman"/>
              </a:rPr>
              <a:t>Ti. a módosító file kész-e?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1B49-0EF8-4439-B385-E7F6F751B41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E20B0F4-F5FE-426E-93EE-85F47AE337F8}" type="datetime1">
              <a:rPr lang="en-US"/>
              <a:t>07/28/26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600" spc="-1" strike="noStrike">
                <a:solidFill>
                  <a:srgbClr val="ffcc66"/>
                </a:solidFill>
                <a:latin typeface="Times New Roman"/>
              </a:rPr>
              <a:t>3.2 Megoldása az </a:t>
            </a: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„</a:t>
            </a:r>
            <a:r>
              <a:rPr b="1" i="1" lang="da-DK" sz="3600" spc="-1" strike="noStrike">
                <a:solidFill>
                  <a:srgbClr val="ffcc66"/>
                </a:solidFill>
                <a:latin typeface="Times New Roman"/>
              </a:rPr>
              <a:t>Összefuttatás” tétel alapján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 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 fontScale="99000"/>
          </a:bodyPr>
          <a:p>
            <a:pPr marL="3394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… 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amíg nem </a:t>
            </a:r>
            <a:r>
              <a:rPr b="0" lang="da-DK" sz="2000" spc="-1" strike="noStrike">
                <a:solidFill>
                  <a:srgbClr val="ff9933"/>
                </a:solidFill>
                <a:latin typeface="Courier New"/>
              </a:rPr>
              <a:t>i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.kész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és nem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j.kész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ágazás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9933"/>
                </a:solidFill>
                <a:latin typeface="Courier New"/>
              </a:rPr>
              <a:t>i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.tart.kulcs&lt;j.tart.tart.kulcs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setén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Ír(Z,</a:t>
            </a:r>
            <a:r>
              <a:rPr b="0" lang="da-DK" sz="2000" spc="-1" strike="noStrike">
                <a:solidFill>
                  <a:srgbClr val="ff9933"/>
                </a:solidFill>
                <a:latin typeface="Courier New"/>
              </a:rPr>
              <a:t>i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.tart); ElőreOlvasX(X,</a:t>
            </a:r>
            <a:r>
              <a:rPr b="0" lang="da-DK" sz="2000" spc="-1" strike="noStrike">
                <a:solidFill>
                  <a:srgbClr val="ff9933"/>
                </a:solidFill>
                <a:latin typeface="Courier New"/>
              </a:rPr>
              <a:t>i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9933"/>
                </a:solidFill>
                <a:latin typeface="Courier New"/>
              </a:rPr>
              <a:t>i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.tart.kulcs=j.tart.tart.kulcs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setén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Ha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j.tart.módTip=Javítás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akkor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Ír(Z,j.tart.tar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ElőreOlvasX(X,</a:t>
            </a:r>
            <a:r>
              <a:rPr b="0" lang="da-DK" sz="2000" spc="-1" strike="noStrike">
                <a:solidFill>
                  <a:srgbClr val="ff9933"/>
                </a:solidFill>
                <a:latin typeface="Courier New"/>
              </a:rPr>
              <a:t>i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ElőreOlvasY(Y,j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ágazás vége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9933"/>
                </a:solidFill>
                <a:latin typeface="Courier New"/>
              </a:rPr>
              <a:t>i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.tart.kulcs&gt;j.tart.tart.kulcs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setén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Ír(Z,j.tart.tart); ElőreOlvasY(Y,j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ágazás vége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…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320" y="3857760"/>
            <a:ext cx="2209680" cy="171900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MódPuffer=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Rekord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(kész:Logikai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  tart:MódElem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MódElem=</a:t>
            </a: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Rekord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(módTip:Módosítás</a:t>
            </a:r>
            <a:br>
              <a:rPr sz="1600"/>
            </a:br>
            <a:r>
              <a:rPr b="1" lang="da-DK" sz="1600" spc="-1" strike="noStrike">
                <a:solidFill>
                  <a:srgbClr val="ffffcc"/>
                </a:solidFill>
                <a:latin typeface="Courier New"/>
              </a:rPr>
              <a:t>  </a:t>
            </a: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tart:Elem) </a:t>
            </a:r>
            <a:br>
              <a:rPr sz="1600"/>
            </a:br>
            <a:r>
              <a:rPr b="0" lang="da-DK" sz="1600" spc="-1" strike="noStrike">
                <a:solidFill>
                  <a:srgbClr val="ffffcc"/>
                </a:solidFill>
                <a:latin typeface="Courier New"/>
              </a:rPr>
              <a:t>Módosítás=(…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320" y="2409840"/>
            <a:ext cx="2209680" cy="14479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1600" spc="-1" strike="noStrike">
                <a:solidFill>
                  <a:srgbClr val="ff3300"/>
                </a:solidFill>
                <a:latin typeface="Courier New"/>
              </a:rPr>
              <a:t>Emlékeztető:</a:t>
            </a:r>
            <a:br>
              <a:rPr sz="1600"/>
            </a:br>
            <a:r>
              <a:rPr b="0" lang="da-DK" sz="1600" spc="-1" strike="noStrike">
                <a:solidFill>
                  <a:srgbClr val="ff9933"/>
                </a:solidFill>
                <a:latin typeface="Courier New"/>
              </a:rPr>
              <a:t>Puffer=</a:t>
            </a:r>
            <a:r>
              <a:rPr b="1" lang="da-DK" sz="1600" spc="-1" strike="noStrike">
                <a:solidFill>
                  <a:srgbClr val="ff9933"/>
                </a:solidFill>
                <a:latin typeface="Courier New"/>
              </a:rPr>
              <a:t>Rekord</a:t>
            </a:r>
            <a:br>
              <a:rPr sz="1600"/>
            </a:br>
            <a:r>
              <a:rPr b="0" lang="da-DK" sz="1600" spc="-1" strike="noStrike">
                <a:solidFill>
                  <a:srgbClr val="ff9933"/>
                </a:solidFill>
                <a:latin typeface="Courier New"/>
              </a:rPr>
              <a:t> (kész:Logikai</a:t>
            </a:r>
            <a:br>
              <a:rPr sz="1600"/>
            </a:br>
            <a:r>
              <a:rPr b="0" lang="da-DK" sz="1600" spc="-1" strike="noStrike">
                <a:solidFill>
                  <a:srgbClr val="ff9933"/>
                </a:solidFill>
                <a:latin typeface="Courier New"/>
              </a:rPr>
              <a:t>  tart:Elem)</a:t>
            </a:r>
            <a:br>
              <a:rPr sz="1600"/>
            </a:br>
            <a:r>
              <a:rPr b="0" lang="da-DK" sz="1600" spc="-1" strike="noStrike">
                <a:solidFill>
                  <a:srgbClr val="ff9933"/>
                </a:solidFill>
                <a:latin typeface="Courier New"/>
              </a:rPr>
              <a:t>Elem=</a:t>
            </a:r>
            <a:r>
              <a:rPr b="1" lang="da-DK" sz="1600" spc="-1" strike="noStrike">
                <a:solidFill>
                  <a:srgbClr val="ff9933"/>
                </a:solidFill>
                <a:latin typeface="Courier New"/>
              </a:rPr>
              <a:t>Rekord</a:t>
            </a:r>
            <a:br>
              <a:rPr sz="1600"/>
            </a:br>
            <a:r>
              <a:rPr b="1" lang="da-DK" sz="1600" spc="-1" strike="noStrike">
                <a:solidFill>
                  <a:srgbClr val="ff9933"/>
                </a:solidFill>
                <a:latin typeface="Courier New"/>
              </a:rPr>
              <a:t> </a:t>
            </a:r>
            <a:r>
              <a:rPr b="0" lang="da-DK" sz="1600" spc="-1" strike="noStrike">
                <a:solidFill>
                  <a:srgbClr val="ff9933"/>
                </a:solidFill>
                <a:latin typeface="Courier New"/>
              </a:rPr>
              <a:t>(kulcs:?,egyéb:?)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AAAA1-C10A-4B2D-81FF-9E3D6A0C55A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BED32C-7666-49EC-B49D-FB5C7347585D}" type="datetime1">
              <a:rPr lang="en-US"/>
              <a:t>07/28/2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600" spc="-1" strike="noStrike">
                <a:solidFill>
                  <a:srgbClr val="ffcc66"/>
                </a:solidFill>
                <a:latin typeface="Times New Roman"/>
              </a:rPr>
              <a:t>3.2 Megoldása az </a:t>
            </a: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„</a:t>
            </a:r>
            <a:r>
              <a:rPr b="1" i="1" lang="da-DK" sz="3600" spc="-1" strike="noStrike">
                <a:solidFill>
                  <a:srgbClr val="ffcc66"/>
                </a:solidFill>
                <a:latin typeface="Times New Roman"/>
              </a:rPr>
              <a:t>Összefuttatás” tétel alapján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 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… 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ágazás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nem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i.kész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setén Ciklus amíg nem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i.kész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Ír(Z,i.tar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ElőreOlvasX(X,i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            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nem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j.kész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setén Ciklus amíg nem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j.kész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Ír(Z,j.tart.tart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ElőreOlvasY(Y,j)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Ciklus vége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ágazás vége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Zár(X); Zár(Y); Zár(Z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4DA4-8D58-41C0-A8FD-78D6283ACAA4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DBD7EF-B916-4F7B-B777-E8310B4F43C5}" type="datetime1">
              <a:rPr lang="en-US"/>
              <a:t>07/28/26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600" spc="-1" strike="noStrike">
                <a:solidFill>
                  <a:srgbClr val="ffcc66"/>
                </a:solidFill>
                <a:latin typeface="Times New Roman"/>
              </a:rPr>
              <a:t>3.2 Megoldása az </a:t>
            </a: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„</a:t>
            </a:r>
            <a:r>
              <a:rPr b="1" i="1" lang="da-DK" sz="3600" spc="-1" strike="noStrike">
                <a:solidFill>
                  <a:srgbClr val="ffcc66"/>
                </a:solidFill>
                <a:latin typeface="Times New Roman"/>
              </a:rPr>
              <a:t>Összefuttatás” tétel alapján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 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ElőreOlvasX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X:Adatok, i:Puffer):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Ha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Vége?(X)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akkor 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i.kész:=Igaz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különben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i.kész:=Hamis; Olvas(X,i.tar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ElőreOlvasY(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Változó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Y:Módosítók,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j:MódPuffer):</a:t>
            </a:r>
            <a:br>
              <a:rPr sz="2000"/>
            </a:b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Ha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Vége?(Y)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akkor 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j.kész:=Igaz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különben 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j.kész:=Hamis</a:t>
            </a:r>
            <a:br>
              <a:rPr sz="2000"/>
            </a:b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   Olvas(Y,j.tart.tart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ffffcc"/>
                </a:solidFill>
                <a:latin typeface="Courier New"/>
              </a:rPr>
              <a:t>Eljárás vége</a:t>
            </a:r>
            <a:r>
              <a:rPr b="0" lang="da-DK" sz="2000" spc="-1" strike="noStrike">
                <a:solidFill>
                  <a:srgbClr val="ffffcc"/>
                </a:solidFill>
                <a:latin typeface="Courier New"/>
              </a:rPr>
              <a:t>. 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4A4F-BED7-43C6-9B01-476EECE7583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710AA1-7FC1-4151-8E9C-76AB59D54BD3}" type="datetime1">
              <a:rPr lang="en-US"/>
              <a:t>07/28/26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4. Külső rendezések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cc"/>
                </a:solidFill>
                <a:latin typeface="Times New Roman"/>
              </a:rPr>
              <a:t>Probléma  az adatsorozat</a:t>
            </a:r>
            <a:br>
              <a:rPr sz="3200"/>
            </a:b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. </a:t>
            </a:r>
            <a:r>
              <a:rPr b="0" i="1" lang="hu-HU" sz="2800" spc="-1" strike="noStrike">
                <a:solidFill>
                  <a:srgbClr val="ff3300"/>
                </a:solidFill>
                <a:latin typeface="Times New Roman"/>
              </a:rPr>
              <a:t>terjedelmessége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(nem fér a memóriába),</a:t>
            </a:r>
            <a:br>
              <a:rPr sz="2800"/>
            </a:b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2. </a:t>
            </a:r>
            <a:r>
              <a:rPr b="0" i="1" lang="hu-HU" sz="2800" spc="-1" strike="noStrike">
                <a:solidFill>
                  <a:srgbClr val="ff3300"/>
                </a:solidFill>
                <a:latin typeface="Times New Roman"/>
              </a:rPr>
              <a:t>szekvencialitása</a:t>
            </a:r>
            <a:r>
              <a:rPr b="0" lang="hu-HU" sz="2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(nincs közvetlen hozzáférés)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cc"/>
                </a:solidFill>
                <a:latin typeface="Times New Roman"/>
              </a:rPr>
              <a:t>Megoldásvázlat:</a:t>
            </a:r>
            <a:br>
              <a:rPr sz="2800"/>
            </a:b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d 1. A memóriába beférő darabot belső rendezéssel rendezni, így kapunk egy </a:t>
            </a:r>
            <a:r>
              <a:rPr b="1" i="1" lang="hu-HU" sz="2800" spc="-1" strike="noStrike">
                <a:solidFill>
                  <a:srgbClr val="ffcc66"/>
                </a:solidFill>
                <a:latin typeface="Times New Roman"/>
              </a:rPr>
              <a:t>futamot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br>
              <a:rPr sz="2800"/>
            </a:b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d 2. Egy szekvenciális módszerrel fokozatosan nö-velni a futamok hosszát, amíg egyetlen rendezett so-rozattá nem lesz, ez a módszer lehet az </a:t>
            </a:r>
            <a:r>
              <a:rPr b="1" i="1" lang="hu-HU" sz="2800" spc="-1" strike="noStrike">
                <a:solidFill>
                  <a:srgbClr val="ffcc66"/>
                </a:solidFill>
                <a:latin typeface="Times New Roman"/>
              </a:rPr>
              <a:t>összefésülés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86907-26F8-4AA6-968D-C0586CBB5FC3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134CCF-EA5A-4CA5-A37B-AD8C697880EF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ffcc66"/>
                </a:solidFill>
                <a:latin typeface="Times New Roman"/>
              </a:rPr>
              <a:t>Tartalom</a:t>
            </a: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1. Adatfeldolgozás problémája, alapfogalma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1.1 Adatfeldolgozás típusfeladatai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1.2 Elemenkénti feldolgozhatóság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1.3 A Z=F(X) tét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1.4 Típusfinomítás, struktúramegfeleltet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2. Struktúramegfeleltetés konfliktusai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2.1 Tagolási konflikt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2.2 Összefonódási konflikt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2.3 Rendezetlenségi konfliktu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3. Időszerűsíté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3.1 Megoldása a Z=F(x) tétel alapjá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3.2 Megoldása összefuttatáss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">
            <a:hlinkClick r:id="" action="ppaction://hlinkshowjump?jump=previous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A038-E780-46D9-B8C9-35287A031E00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50E48E-1FE1-499F-AEB0-561EA789A6A6}" type="datetime1">
              <a:rPr lang="en-US"/>
              <a:t>07/28/26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4.1 Négy munkafile-os rendezés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A lényeg:</a:t>
            </a:r>
            <a:br>
              <a:rPr sz="2400"/>
            </a:b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A rendezés (</a:t>
            </a: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): a bemenet futamokra szedése 2 munkafile-ban (</a:t>
            </a: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), majd a file-beli futamok összefésülése (</a:t>
            </a: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G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). 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1. A </a:t>
            </a: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megkonstruálás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Tagolási konfliktus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32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Virtuális típus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futamonként egy file (</a:t>
            </a:r>
            <a:r>
              <a:rPr b="0" lang="da-DK" sz="3200" spc="-1" strike="noStrike">
                <a:solidFill>
                  <a:srgbClr val="ff3300"/>
                </a:solidFill>
                <a:latin typeface="Wingdings"/>
                <a:ea typeface="Wingdings"/>
              </a:rPr>
              <a:t>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kivitelezhetetlen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sok futam egy file-ban (</a:t>
            </a:r>
            <a:r>
              <a:rPr b="0" lang="da-DK" sz="3200" spc="-1" strike="noStrike">
                <a:solidFill>
                  <a:srgbClr val="ff9933"/>
                </a:solidFill>
                <a:latin typeface="Wingdings"/>
                <a:ea typeface="Wingdings"/>
              </a:rPr>
              <a:t>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virtuális file-kezelés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4419720" y="2847960"/>
            <a:ext cx="205740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i="1" lang="da-DK" sz="2400" spc="-1" strike="noStrike">
                <a:solidFill>
                  <a:srgbClr val="000000"/>
                </a:solidFill>
                <a:latin typeface="Times New Roman"/>
              </a:rPr>
              <a:t>H•G(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3828960"/>
            <a:ext cx="838224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74760"/>
                <a:tab algn="ctr" pos="399744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Típus 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[</a:t>
            </a:r>
            <a:r>
              <a:rPr b="0" i="1" lang="hu-HU" sz="20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]</a:t>
            </a:r>
            <a:br>
              <a:rPr sz="2000"/>
            </a:b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Bemenet=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(Elem)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Kimenet=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(Futam)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Elem=?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Futam=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(Elem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162920" y="4967280"/>
            <a:ext cx="1800000" cy="4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Futam</a:t>
            </a:r>
            <a:r>
              <a:rPr b="1" lang="da-DK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da-DK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775C5-B51D-402D-970D-5A078C98549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A85E9-7F83-4441-A8C2-9125CCFF25DD}" type="datetime1">
              <a:rPr lang="en-US"/>
              <a:t>07/28/26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4.1 Négy munkafile-os rendez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G</a:t>
            </a:r>
            <a:r>
              <a:rPr b="0" i="1" lang="hu-HU" sz="3200" spc="-1" strike="noStrike">
                <a:solidFill>
                  <a:srgbClr val="ffffcc"/>
                </a:solidFill>
                <a:latin typeface="Times New Roman"/>
              </a:rPr>
              <a:t>=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összefésülés </a:t>
            </a:r>
            <a:r>
              <a:rPr b="0" lang="da-DK" sz="32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legalább 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2 file</a:t>
            </a: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 kell hozzá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• </a:t>
            </a:r>
            <a:r>
              <a:rPr b="0" lang="da-DK" sz="3200" spc="-1" strike="noStrike">
                <a:solidFill>
                  <a:srgbClr val="ffcc66"/>
                </a:solidFill>
                <a:latin typeface="Times New Roman"/>
              </a:rPr>
              <a:t>2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file-ba választjuk szét a futamok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A futamok felv</a:t>
            </a:r>
            <a:r>
              <a:rPr b="0" i="1" lang="hu-HU" sz="3200" spc="-1" strike="noStrike">
                <a:solidFill>
                  <a:srgbClr val="ffffcc"/>
                </a:solidFill>
                <a:latin typeface="Times New Roman"/>
              </a:rPr>
              <a:t>áltva hol egyikbe, hol másikba…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2. A </a:t>
            </a: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G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megkonstruálása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Tagolási 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+ r</a:t>
            </a: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endezetlenségi konfliktu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09480" y="2486160"/>
            <a:ext cx="8382240" cy="1313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9080"/>
                <a:tab algn="ctr" pos="2959200"/>
                <a:tab algn="l" pos="3333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Típus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0" i="1" lang="da-DK" sz="2000" spc="-1" strike="noStrike">
                <a:solidFill>
                  <a:srgbClr val="000000"/>
                </a:solidFill>
                <a:latin typeface="Courier New"/>
              </a:rPr>
              <a:t>H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]</a:t>
            </a:r>
            <a:br>
              <a:rPr sz="2000"/>
            </a:b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Bemenet=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(Elem)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Kimenet=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(Futam)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(Futam) 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Elem=?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Futam=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(Elem)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4591080"/>
            <a:ext cx="8382240" cy="1008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89080"/>
                <a:tab algn="ctr" pos="476244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Típus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0" i="1" lang="da-DK" sz="20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]</a:t>
            </a:r>
            <a:br>
              <a:rPr sz="2000"/>
            </a:b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Bemenet=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(Futam)</a:t>
            </a:r>
            <a:r>
              <a:rPr b="0" lang="da-DK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(Futam) Kimenet=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(Elem)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Futam=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(Elem) 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Elem=?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672C0-6594-402C-8EBC-C550ACDD20A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AD983-A70D-4E7B-BC7E-A9EE60D97B0E}" type="datetime1">
              <a:rPr lang="en-US"/>
              <a:t>07/28/26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4.1 Négy munkafile-os rendez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G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mint </a:t>
            </a: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futam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okon értelmezett leképezés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Teh</a:t>
            </a: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át </a:t>
            </a:r>
            <a:r>
              <a:rPr b="0" i="1" lang="hu-HU" sz="3200" spc="-1" strike="noStrike">
                <a:solidFill>
                  <a:srgbClr val="ffffcc"/>
                </a:solidFill>
                <a:latin typeface="Times New Roman"/>
              </a:rPr>
              <a:t>4 munkafile </a:t>
            </a: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szükséges a megvalósításhoz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981080"/>
            <a:ext cx="8610840" cy="19918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88"/>
              </a:spcBef>
              <a:tabLst>
                <a:tab algn="l" pos="0"/>
                <a:tab algn="l" pos="190512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Symbol"/>
                <a:ea typeface="Symbol"/>
              </a:rPr>
              <a:t></a:t>
            </a: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X</a:t>
            </a: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,ha FutamSzám(X)=1 FutamSzám(Y)=0 </a:t>
            </a:r>
            <a:br>
              <a:rPr sz="1900"/>
            </a:b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G(X,Y):=</a:t>
            </a: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Symbol"/>
                <a:ea typeface="Symbol"/>
              </a:rPr>
              <a:t></a:t>
            </a:r>
            <a:br>
              <a:rPr sz="1900"/>
            </a:b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Symbol"/>
                <a:ea typeface="Symbol"/>
              </a:rPr>
              <a:t></a:t>
            </a: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 G(G</a:t>
            </a:r>
            <a:r>
              <a:rPr b="0" lang="hu-HU" sz="19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(X,Y))</a:t>
            </a: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,egyébként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188"/>
              </a:spcBef>
              <a:tabLst>
                <a:tab algn="l" pos="0"/>
                <a:tab algn="l" pos="190512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Symbol"/>
                <a:ea typeface="Symbol"/>
              </a:rPr>
              <a:t></a:t>
            </a: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(z</a:t>
            </a:r>
            <a:r>
              <a:rPr b="0" lang="hu-HU" sz="19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,Üres)</a:t>
            </a: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,ha i páratlan futambeli elem </a:t>
            </a:r>
            <a:br>
              <a:rPr sz="1900"/>
            </a:b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hu-HU" sz="19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:(x</a:t>
            </a:r>
            <a:r>
              <a:rPr b="0" lang="hu-HU" sz="19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,y</a:t>
            </a:r>
            <a:r>
              <a:rPr b="0" lang="hu-HU" sz="19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1" lang="hu-HU" sz="1900" spc="-1" strike="noStrike" baseline="-2000">
                <a:solidFill>
                  <a:srgbClr val="000000"/>
                </a:solidFill>
                <a:latin typeface="Symbol"/>
                <a:ea typeface="Symbol"/>
              </a:rPr>
              <a:t></a:t>
            </a:r>
            <a:r>
              <a:rPr b="1" lang="hu-HU" sz="19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hu-HU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Symbol"/>
                <a:ea typeface="Symbol"/>
              </a:rPr>
              <a:t></a:t>
            </a:r>
            <a:br>
              <a:rPr sz="1900"/>
            </a:b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Symbol"/>
                <a:ea typeface="Symbol"/>
              </a:rPr>
              <a:t></a:t>
            </a: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 (Üres,z</a:t>
            </a:r>
            <a:r>
              <a:rPr b="0" lang="hu-HU" sz="1900" spc="-1" strike="noStrike" baseline="-25000">
                <a:solidFill>
                  <a:srgbClr val="000000"/>
                </a:solidFill>
                <a:latin typeface="Courier New"/>
              </a:rPr>
              <a:t>i</a:t>
            </a: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)</a:t>
            </a: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,ha i páros futambeli elem</a:t>
            </a:r>
            <a:endParaRPr b="0" lang="en-US" sz="19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3809880"/>
            <a:ext cx="8610840" cy="165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187200"/>
                <a:tab algn="ctr" pos="476244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Típus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0" lang="hu-HU" sz="1900" spc="-1" strike="noStrike">
                <a:solidFill>
                  <a:srgbClr val="000000"/>
                </a:solidFill>
                <a:latin typeface="Courier New"/>
              </a:rPr>
              <a:t>G</a:t>
            </a:r>
            <a:r>
              <a:rPr b="0" lang="hu-HU" sz="1900" spc="-1" strike="noStrike" baseline="-25000">
                <a:solidFill>
                  <a:srgbClr val="000000"/>
                </a:solidFill>
                <a:latin typeface="Courier New"/>
              </a:rPr>
              <a:t>1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]</a:t>
            </a:r>
            <a:br>
              <a:rPr sz="2000"/>
            </a:b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Bemenet=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(Futam)x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(Futam)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Kimenet=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(Futam)x 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(Futam) 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Futam=</a:t>
            </a:r>
            <a:r>
              <a:rPr b="1" lang="da-DK" sz="20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(Elem) </a:t>
            </a:r>
            <a:r>
              <a:rPr b="0" lang="da-DK" sz="2000" spc="-1" strike="noStrike">
                <a:solidFill>
                  <a:srgbClr val="000000"/>
                </a:solidFill>
                <a:latin typeface="Symbol"/>
                <a:ea typeface="Symbol"/>
              </a:rPr>
              <a:t>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 {Üres}</a:t>
            </a:r>
            <a:br>
              <a:rPr sz="2000"/>
            </a:b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2000" spc="-1" strike="noStrike">
                <a:solidFill>
                  <a:srgbClr val="000000"/>
                </a:solidFill>
                <a:latin typeface="Courier New"/>
              </a:rPr>
              <a:t>Elem=?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F826-9E62-46D9-A30D-8847DFD7F5D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3BDDE9-1E1F-4D8D-A029-BC7F9AEF70CA}" type="datetime1">
              <a:rPr lang="en-US"/>
              <a:t>07/28/26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4.1 Négy munkafile-os rendez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Példa a részletezés elé: </a:t>
            </a:r>
            <a:br>
              <a:rPr sz="3200"/>
            </a:b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Legyen X=(x</a:t>
            </a:r>
            <a:r>
              <a:rPr b="0" lang="hu-HU" sz="32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, ..., x</a:t>
            </a:r>
            <a:r>
              <a:rPr b="0" lang="hu-HU" sz="3200" spc="-1" strike="noStrike" baseline="-25000">
                <a:solidFill>
                  <a:srgbClr val="ffffcc"/>
                </a:solidFill>
                <a:latin typeface="Times New Roman"/>
              </a:rPr>
              <a:t>N</a:t>
            </a: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) a rendezendő sorozat; M</a:t>
            </a:r>
            <a:r>
              <a:rPr b="0" lang="hu-HU" sz="32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, M</a:t>
            </a:r>
            <a:r>
              <a:rPr b="0" lang="hu-HU" sz="32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, M</a:t>
            </a:r>
            <a:r>
              <a:rPr b="0" lang="hu-HU" sz="3200" spc="-1" strike="noStrike" baseline="-25000">
                <a:solidFill>
                  <a:srgbClr val="ffffcc"/>
                </a:solidFill>
                <a:latin typeface="Times New Roman"/>
              </a:rPr>
              <a:t>3</a:t>
            </a: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 és M</a:t>
            </a:r>
            <a:r>
              <a:rPr b="0" lang="hu-HU" sz="3200" spc="-1" strike="noStrike" baseline="-25000">
                <a:solidFill>
                  <a:srgbClr val="ffffcc"/>
                </a:solidFill>
                <a:latin typeface="Times New Roman"/>
              </a:rPr>
              <a:t>4</a:t>
            </a: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 a munkafile-ok; a memóriá-ba K db fér be. Kezdetben M</a:t>
            </a:r>
            <a:r>
              <a:rPr b="0" lang="hu-HU" sz="3200" spc="-1" strike="noStrike" baseline="-25000">
                <a:solidFill>
                  <a:srgbClr val="ffffcc"/>
                </a:solidFill>
                <a:latin typeface="Times New Roman"/>
              </a:rPr>
              <a:t>1..4</a:t>
            </a: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=( 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80880" y="3352680"/>
            <a:ext cx="8610840" cy="297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Aft>
                <a:spcPts val="601"/>
              </a:spcAft>
              <a:tabLst>
                <a:tab algn="l" pos="0"/>
                <a:tab algn="l" pos="190512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0. lépés: M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1..2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előállítása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...,x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2k+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...,x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3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...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90512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k+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...,x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2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3k+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...,x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4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...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90512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1. lépés: M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1..2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összefésülése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...,x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2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 x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4k+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...,x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6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... 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90512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(x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2k+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...,x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4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6k+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...,x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8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...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90512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..i. lépés: M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1..2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3..4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szerepcserés összefésülése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just">
              <a:spcAft>
                <a:spcPts val="601"/>
              </a:spcAft>
              <a:tabLst>
                <a:tab algn="l" pos="0"/>
                <a:tab algn="l" pos="190512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i. lépésben a futamhossz: 2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 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max(i)=n: 2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 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n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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og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N/k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B8CEE-69F2-45B2-9B6C-CD8447F8A12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6C8876-448D-48DA-ABB7-D335D67B0552}" type="datetime1">
              <a:rPr lang="en-US"/>
              <a:t>07/28/26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4.1 Négy munkafile-os rendez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Reprezentáció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Implementáció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80880" y="2014560"/>
            <a:ext cx="8610840" cy="7801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Típus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SFV=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Tömb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(1..4:SF) [SFV=SegédfileVektor]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952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SF=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(file:Kimenet, db:Egész) [SF=Segédfile]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0880" y="3581280"/>
            <a:ext cx="8610840" cy="192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63480"/>
                <a:tab algn="l" pos="952560"/>
                <a:tab algn="l" pos="190512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Eljárás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NégyFileosRendezés(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Változó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X:Bemenet,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M:SFV, K:Egész):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Szétrak(X,M,K)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SoxorÖsszefésül(M,K)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Töröl(M(2).file,M(3).file,M(4).file)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Eljárás vége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172200" y="2971800"/>
            <a:ext cx="2971800" cy="457200"/>
          </a:xfrm>
          <a:prstGeom prst="wedgeEllipseCallout">
            <a:avLst>
              <a:gd name="adj1" fmla="val -74412"/>
              <a:gd name="adj2" fmla="val -126736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6600ff"/>
                </a:solidFill>
                <a:latin typeface="Times New Roman"/>
              </a:rPr>
              <a:t>File-beli futamszám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0080" y="5715000"/>
            <a:ext cx="2667240" cy="380880"/>
          </a:xfrm>
          <a:prstGeom prst="wedgeEllipseCallout">
            <a:avLst>
              <a:gd name="adj1" fmla="val 18273"/>
              <a:gd name="adj2" fmla="val -484166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6600ff"/>
                </a:solidFill>
                <a:latin typeface="Times New Roman"/>
              </a:rPr>
              <a:t>Kezdő futamhossz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78D04-4C85-4C26-A5F9-BAD12CD135C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26CBD2-ED18-4563-82C8-A1DF5E4987C6}" type="datetime1">
              <a:rPr lang="en-US"/>
              <a:t>07/28/26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4.1 Négy munkafile-os rendez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80880" y="1600200"/>
            <a:ext cx="8610840" cy="483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663480"/>
                <a:tab algn="l" pos="952560"/>
                <a:tab algn="l" pos="190512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Eljárás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Szétrak(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Változó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X:Bemenet, M:SFV, K:Egész):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… [file nyitások] M(1).db:=0; M(2).db:=0; MI:=1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iklus amíg nem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Vége?(X)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Futamolvasás(X,R,K) [R=puffer]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Futamrendezés(R)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Ír(M(MI).file,R); M(MI).db:+1; MI:=3-MI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iklus vége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… [file zárások]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Eljárás vé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663480"/>
                <a:tab algn="l" pos="952560"/>
                <a:tab algn="l" pos="190512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Eljárás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SoxorÖsszefésül(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Változó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M:SFV, K:Egész):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iklus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Páronként(M,K)  [(1,2)</a:t>
            </a:r>
            <a:r>
              <a:rPr b="0" lang="hu-H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(3,4)]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Csere(1,3) [„megcseréli” a file-okat]; K:=2*K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amíg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M(1).db+M(2).db¹1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iklus vége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Eljárás vé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853240" y="4037040"/>
            <a:ext cx="3124080" cy="3988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i="1" lang="hu-HU" sz="2000" spc="-1" strike="noStrike">
                <a:solidFill>
                  <a:srgbClr val="ffffcc"/>
                </a:solidFill>
                <a:latin typeface="Times New Roman"/>
              </a:rPr>
              <a:t>G</a:t>
            </a: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 függvény kiszámítás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6172200" y="2286000"/>
            <a:ext cx="1676520" cy="380880"/>
          </a:xfrm>
          <a:prstGeom prst="wedgeEllipseCallout">
            <a:avLst>
              <a:gd name="adj1" fmla="val -242236"/>
              <a:gd name="adj2" fmla="val 64583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6600ff"/>
                </a:solidFill>
                <a:latin typeface="Times New Roman"/>
              </a:rPr>
              <a:t>h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24480" y="2819520"/>
            <a:ext cx="1676520" cy="380880"/>
          </a:xfrm>
          <a:prstGeom prst="wedgeEllipseCallout">
            <a:avLst>
              <a:gd name="adj1" fmla="val -242236"/>
              <a:gd name="adj2" fmla="val 3749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6600ff"/>
                </a:solidFill>
                <a:latin typeface="Times New Roman"/>
              </a:rPr>
              <a:t>h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853240" y="1295280"/>
            <a:ext cx="3124080" cy="3988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i="1" lang="hu-HU" sz="20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 függvény kiszámítás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0C61-A0A4-425C-A678-782A5439F8D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CF65DE-9379-4D25-8F60-EE86B96CB749}" type="datetime1">
              <a:rPr lang="en-US"/>
              <a:t>07/28/26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4.1 Négy munkafile-os rendez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28600" y="1600200"/>
            <a:ext cx="8763120" cy="436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01"/>
              </a:spcAft>
              <a:tabLst>
                <a:tab algn="l" pos="0"/>
                <a:tab algn="l" pos="476280"/>
                <a:tab algn="l" pos="851040"/>
                <a:tab algn="l" pos="1905120"/>
                <a:tab algn="l" pos="36226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Eljárás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Páronként(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Változó 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M:SFV,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Konstans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K:Egész):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… [file nyitások] HOVA:=3; HONNAN:=1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M(HOVA).db:=0; M(HOVA+1).db:=0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iklus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I=1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-től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M(HONNAN+1).db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-ig 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[a „rövidebbig”]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Ha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I Mod 2=1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akkor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CÉL:=HOVA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különben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CÉL:=HOVA+1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KétFutamotÖsszefésül(M,K,HONNAN,CÉL); M(CÉL).db:+1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Ciklus vége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Ha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M(HONNAN).db&gt;M(HONNAN+1).db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akkor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[utolsó egyke]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 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Ha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M(HONNAN).db Mod 2=1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akkor 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CÉL:=HOVA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                      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különben 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CÉL:=HOVA+1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Másol(M(HONNAN).file,M(CÉL).file); M(CÉL).db:+1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Elágazás vége</a:t>
            </a:r>
            <a:br>
              <a:rPr sz="2000"/>
            </a:b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Courier New"/>
              </a:rPr>
              <a:t>… [file zárások] </a:t>
            </a:r>
            <a:br>
              <a:rPr sz="2000"/>
            </a:br>
            <a:r>
              <a:rPr b="1" lang="hu-HU" sz="2000" spc="-1" strike="noStrike">
                <a:solidFill>
                  <a:srgbClr val="000000"/>
                </a:solidFill>
                <a:latin typeface="Courier New"/>
              </a:rPr>
              <a:t>Eljárás vé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867280" y="1281240"/>
            <a:ext cx="3124440" cy="44064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i="1" lang="hu-HU" sz="2000" spc="-1" strike="noStrike">
                <a:solidFill>
                  <a:srgbClr val="ffffcc"/>
                </a:solidFill>
                <a:latin typeface="Times New Roman"/>
              </a:rPr>
              <a:t>G</a:t>
            </a:r>
            <a:r>
              <a:rPr b="0" lang="hu-HU" sz="20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 függvény kiszámítása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971800" y="3505320"/>
            <a:ext cx="1143000" cy="304560"/>
          </a:xfrm>
          <a:prstGeom prst="wedgeEllipseCallout">
            <a:avLst>
              <a:gd name="adj1" fmla="val -159861"/>
              <a:gd name="adj2" fmla="val -105731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6600ff"/>
                </a:solidFill>
                <a:latin typeface="Times New Roman"/>
              </a:rPr>
              <a:t>h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3048120" y="4343400"/>
            <a:ext cx="1143000" cy="304920"/>
          </a:xfrm>
          <a:prstGeom prst="wedgeEllipseCallout">
            <a:avLst>
              <a:gd name="adj1" fmla="val -170000"/>
              <a:gd name="adj2" fmla="val 122398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6600ff"/>
                </a:solidFill>
                <a:latin typeface="Times New Roman"/>
              </a:rPr>
              <a:t>h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D8EFE-718D-448B-A7DD-37E5597C81F5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A991FC-EDD9-4DB1-8022-1C10F7044A21}" type="datetime1">
              <a:rPr lang="en-US"/>
              <a:t>07/28/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4.2 Három munkafile-os rendezés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A lényeg:</a:t>
            </a:r>
            <a:br>
              <a:rPr sz="2400"/>
            </a:b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Az előzőhöz hasonlóan a rendezés (</a:t>
            </a: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): a bemenet futamokra szedése 2 munkafile-ban (</a:t>
            </a:r>
            <a:r>
              <a:rPr b="0" i="1" lang="hu-HU" sz="3200" spc="-1" strike="noStrike">
                <a:solidFill>
                  <a:srgbClr val="ffffcc"/>
                </a:solidFill>
                <a:latin typeface="Times New Roman"/>
              </a:rPr>
              <a:t>H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), majd a file-beli futamok összefésülése (</a:t>
            </a:r>
            <a:r>
              <a:rPr b="0" i="1" lang="hu-HU" sz="3200" spc="-1" strike="noStrike">
                <a:solidFill>
                  <a:srgbClr val="ffffcc"/>
                </a:solidFill>
                <a:latin typeface="Times New Roman"/>
              </a:rPr>
              <a:t>G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).  A részletek</a:t>
            </a: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 megértéséhez egy példa: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048440" y="1481040"/>
            <a:ext cx="205740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a-DK" sz="24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da-DK" sz="2400" spc="-1" strike="noStrike">
                <a:solidFill>
                  <a:srgbClr val="000000"/>
                </a:solidFill>
                <a:latin typeface="Times New Roman"/>
              </a:rPr>
              <a:t>:=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H</a:t>
            </a:r>
            <a:r>
              <a:rPr b="0" i="1" lang="da-DK" sz="2400" spc="-1" strike="noStrike">
                <a:solidFill>
                  <a:srgbClr val="000000"/>
                </a:solidFill>
                <a:latin typeface="Times New Roman"/>
              </a:rPr>
              <a:t>•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i="1" lang="da-DK" sz="2400" spc="-1" strike="noStrike">
                <a:solidFill>
                  <a:srgbClr val="000000"/>
                </a:solidFill>
                <a:latin typeface="Times New Roman"/>
              </a:rPr>
              <a:t>(X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09480" y="3736800"/>
            <a:ext cx="8382240" cy="26550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ctr" pos="374760"/>
                <a:tab algn="ctr" pos="1905120"/>
                <a:tab algn="ctr" pos="333360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</a:rPr>
              <a:t>Visszafelé követve a file-okbeli futamszám alakulásá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ctr" pos="374760"/>
                <a:tab algn="ctr" pos="1905120"/>
                <a:tab algn="ctr" pos="333360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Times New Roman"/>
              </a:rPr>
              <a:t>1. file</a:t>
            </a:r>
            <a:r>
              <a:rPr b="1" i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Times New Roman"/>
              </a:rPr>
              <a:t>2. file</a:t>
            </a:r>
            <a:r>
              <a:rPr b="1" i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Times New Roman"/>
              </a:rPr>
              <a:t>3. file</a:t>
            </a:r>
            <a:r>
              <a:rPr b="1" i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ctr" pos="374760"/>
                <a:tab algn="ctr" pos="1905120"/>
                <a:tab algn="ctr" pos="333360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Végállapot</a:t>
            </a:r>
            <a:r>
              <a:rPr b="0" i="1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ctr" pos="374760"/>
                <a:tab algn="ctr" pos="1905120"/>
                <a:tab algn="ctr" pos="333360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Összefésülés: </a:t>
            </a:r>
            <a:r>
              <a:rPr b="0" lang="hu-HU" sz="2000" spc="-1" strike="noStrike">
                <a:solidFill>
                  <a:srgbClr val="6600ff"/>
                </a:solidFill>
                <a:latin typeface="Times New Roman"/>
              </a:rPr>
              <a:t>(2,3)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ctr" pos="374760"/>
                <a:tab algn="ctr" pos="1905120"/>
                <a:tab algn="ctr" pos="333360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Összefésülés: </a:t>
            </a:r>
            <a:r>
              <a:rPr b="0" lang="hu-HU" sz="2000" spc="-1" strike="noStrike">
                <a:solidFill>
                  <a:srgbClr val="ff3300"/>
                </a:solidFill>
                <a:latin typeface="Times New Roman"/>
              </a:rPr>
              <a:t>(3,1)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ctr" pos="374760"/>
                <a:tab algn="ctr" pos="1905120"/>
                <a:tab algn="ctr" pos="333360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Összefésülés: </a:t>
            </a:r>
            <a:r>
              <a:rPr b="0" lang="hu-HU" sz="2000" spc="-1" strike="noStrike">
                <a:solidFill>
                  <a:srgbClr val="6600ff"/>
                </a:solidFill>
                <a:latin typeface="Times New Roman"/>
              </a:rPr>
              <a:t>(1,2)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3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ctr" pos="374760"/>
                <a:tab algn="ctr" pos="1905120"/>
                <a:tab algn="ctr" pos="333360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Összefésülés: </a:t>
            </a:r>
            <a:r>
              <a:rPr b="0" lang="hu-HU" sz="2000" spc="-1" strike="noStrike">
                <a:solidFill>
                  <a:srgbClr val="ff3300"/>
                </a:solidFill>
                <a:latin typeface="Times New Roman"/>
              </a:rPr>
              <a:t>(2,3)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1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ctr" pos="374760"/>
                <a:tab algn="ctr" pos="1905120"/>
                <a:tab algn="ctr" pos="3333600"/>
                <a:tab algn="l" pos="428616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i="1" lang="hu-HU" sz="2000" spc="-1" strike="noStrike">
                <a:solidFill>
                  <a:srgbClr val="000000"/>
                </a:solidFill>
                <a:latin typeface="Times New Roman"/>
              </a:rPr>
              <a:t>Összefésülés: </a:t>
            </a:r>
            <a:r>
              <a:rPr b="0" lang="hu-HU" sz="2000" spc="-1" strike="noStrike">
                <a:solidFill>
                  <a:srgbClr val="6600ff"/>
                </a:solidFill>
                <a:latin typeface="Times New Roman"/>
              </a:rPr>
              <a:t>(3,1)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2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H="1" flipV="1">
            <a:off x="1209240" y="4733640"/>
            <a:ext cx="1295640" cy="228600"/>
          </a:xfrm>
          <a:prstGeom prst="line">
            <a:avLst/>
          </a:prstGeom>
          <a:ln w="19080">
            <a:solidFill>
              <a:srgbClr val="66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 flipV="1">
            <a:off x="1209600" y="4733640"/>
            <a:ext cx="2743200" cy="228600"/>
          </a:xfrm>
          <a:prstGeom prst="line">
            <a:avLst/>
          </a:prstGeom>
          <a:ln w="19080">
            <a:solidFill>
              <a:srgbClr val="66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flipV="1">
            <a:off x="1209600" y="5038200"/>
            <a:ext cx="137160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2638440" y="5047920"/>
            <a:ext cx="1295280" cy="228600"/>
          </a:xfrm>
          <a:prstGeom prst="line">
            <a:avLst/>
          </a:prstGeom>
          <a:ln w="1908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1209600" y="5343120"/>
            <a:ext cx="2743200" cy="228600"/>
          </a:xfrm>
          <a:prstGeom prst="line">
            <a:avLst/>
          </a:prstGeom>
          <a:ln w="19080">
            <a:solidFill>
              <a:srgbClr val="66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V="1">
            <a:off x="2714760" y="5343120"/>
            <a:ext cx="1238040" cy="257400"/>
          </a:xfrm>
          <a:prstGeom prst="line">
            <a:avLst/>
          </a:prstGeom>
          <a:ln w="19080">
            <a:solidFill>
              <a:srgbClr val="66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H="1" flipV="1">
            <a:off x="1143000" y="5638320"/>
            <a:ext cx="1371600" cy="30492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1162080" y="5638320"/>
            <a:ext cx="2743200" cy="304920"/>
          </a:xfrm>
          <a:prstGeom prst="line">
            <a:avLst/>
          </a:prstGeom>
          <a:ln w="19080">
            <a:solidFill>
              <a:srgbClr val="ff33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1219320" y="5952600"/>
            <a:ext cx="1285920" cy="219240"/>
          </a:xfrm>
          <a:prstGeom prst="line">
            <a:avLst/>
          </a:prstGeom>
          <a:ln w="19080">
            <a:solidFill>
              <a:srgbClr val="66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 flipV="1">
            <a:off x="2657160" y="5952600"/>
            <a:ext cx="1228680" cy="219240"/>
          </a:xfrm>
          <a:prstGeom prst="line">
            <a:avLst/>
          </a:prstGeom>
          <a:ln w="19080">
            <a:solidFill>
              <a:srgbClr val="66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79A5-12CE-48F1-A6EB-697FE70645DF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A040F-E4FA-4C0F-A7FE-097342E83AAC}" type="datetime1">
              <a:rPr lang="en-US"/>
              <a:t>07/28/26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4.2 Három munkafile-os rendez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Megfigyelés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Az összefésülésben résztvevő file-ok 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ciklikusan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következnek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A futamok száma az egymást követő </a:t>
            </a:r>
            <a:r>
              <a:rPr b="0" i="1" lang="da-DK" sz="2800" spc="-1" strike="noStrike">
                <a:solidFill>
                  <a:srgbClr val="ffffcc"/>
                </a:solidFill>
                <a:latin typeface="Times New Roman"/>
              </a:rPr>
              <a:t>Fibonacci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-számok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349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Következmény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A kezdeti Fibonacci-futamszám 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„mesterséges” (0 hosszúságú) futamok hozzáillesztésével érhető e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349"/>
              </a:spcBef>
              <a:spcAft>
                <a:spcPts val="300"/>
              </a:spcAft>
              <a:buClr>
                <a:srgbClr val="ffcc66"/>
              </a:buClr>
              <a:buFont typeface="Times New Roman"/>
              <a:buChar char="•"/>
              <a:tabLst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Nem azonos hosszúak a futamok: tárolni kell a futamhosszat vagy egy futamvégjele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C5B88-7556-495D-A64D-213248BFBAE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134A8E-2365-45A2-BCC3-9E6F808B322E}" type="datetime1">
              <a:rPr lang="en-US"/>
              <a:t>07/28/26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4.2 Három munkafile-os rendez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G</a:t>
            </a: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1" i="1" lang="da-DK" sz="3200" spc="-1" strike="noStrike">
                <a:solidFill>
                  <a:srgbClr val="ffffcc"/>
                </a:solidFill>
                <a:latin typeface="Times New Roman"/>
              </a:rPr>
              <a:t>G</a:t>
            </a:r>
            <a:r>
              <a:rPr b="1" i="1" lang="da-DK" sz="32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 megfontolása:</a:t>
            </a:r>
            <a:br>
              <a:rPr sz="3200"/>
            </a:b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l. korábba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Implementáció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2990880"/>
            <a:ext cx="8382240" cy="192348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374760"/>
                <a:tab algn="l" pos="663480"/>
                <a:tab algn="ctr" pos="3997440"/>
                <a:tab algn="l" pos="52387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Eljárás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SoxorÖsszefésül(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Változó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M:SFV):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iklus amíg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M(1).db+M(2).db+M(3).db¹1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Páronként(M)  [(1,2)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3]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CiklikusLéptetés(M)  [1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2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3</a:t>
            </a:r>
            <a:r>
              <a:rPr b="0" sz="20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1]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iklus vége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Eljárás vége.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8C942-E856-4525-B67D-D7A4668A25F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9B2220-A31A-4D63-8010-4C9ABB4CBD41}" type="datetime1">
              <a:rPr lang="en-US"/>
              <a:t>07/28/26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0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400" spc="-1" strike="noStrike">
                <a:solidFill>
                  <a:srgbClr val="ffcc66"/>
                </a:solidFill>
                <a:latin typeface="Times New Roman"/>
              </a:rPr>
              <a:t>Tartalom</a:t>
            </a:r>
            <a:endParaRPr b="1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4. Külső rendezések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4.1 Négy munkafile-os rendez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4.2 Három munkafile-os rendezé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4.3 Prioritási soros rendezé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3" name="">
            <a:hlinkClick r:id="" action="ppaction://hlinkshowjump?jump=previousslide"/>
          </p:cNvPr>
          <p:cNvSpPr/>
          <p:nvPr/>
        </p:nvSpPr>
        <p:spPr>
          <a:xfrm>
            <a:off x="8763120" y="6172200"/>
            <a:ext cx="380880" cy="3808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4299" y="10800"/>
                </a:moveTo>
                <a:lnTo>
                  <a:pt x="3794" y="17806"/>
                </a:lnTo>
                <a:lnTo>
                  <a:pt x="3794" y="3794"/>
                </a:lnTo>
                <a:close/>
              </a:path>
              <a:path fill="darken" w="21600" h="21600">
                <a:moveTo>
                  <a:pt x="16144" y="3794"/>
                </a:moveTo>
                <a:lnTo>
                  <a:pt x="16144" y="17806"/>
                </a:lnTo>
                <a:lnTo>
                  <a:pt x="17806" y="17806"/>
                </a:lnTo>
                <a:lnTo>
                  <a:pt x="17806" y="3794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B234-1AC7-4774-A592-494F828C5E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51B75A-A5E6-4F27-B8F9-A5F66033E014}" type="datetime1">
              <a:rPr lang="en-US"/>
              <a:t>07/28/26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4.3 Prioritási soros rendezés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447560"/>
            <a:ext cx="8229600" cy="510516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A lényeg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Symbol"/>
                <a:ea typeface="Symbol"/>
              </a:rPr>
              <a:t>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 memóriában egy 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rendezett (prioritási) sor 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van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Symbol"/>
                <a:ea typeface="Symbol"/>
              </a:rPr>
              <a:t>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 legkisebb 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elem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ét kiírjuk a munkafile-ba, é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Symbol"/>
                <a:ea typeface="Symbol"/>
              </a:rPr>
              <a:t>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rendezettségnek (prioritásának) megfelelő helyre, beillesztjük 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következőként a beolvasott 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elem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e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Symbol"/>
                <a:ea typeface="Symbol"/>
              </a:rPr>
              <a:t>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mikor a file-t végigolvastuk,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Symbol"/>
                <a:ea typeface="Symbol"/>
              </a:rPr>
              <a:t>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 memóriában a 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legnagyobbak 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találhatók, é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0">
              <a:lnSpc>
                <a:spcPct val="90000"/>
              </a:lnSpc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ffffcc"/>
                </a:solidFill>
                <a:latin typeface="Symbol"/>
                <a:ea typeface="Symbol"/>
              </a:rPr>
              <a:t>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kiírt file-ban minden elem 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(legalább  a memó-riabeli darabszám-1-gyel) </a:t>
            </a:r>
            <a:r>
              <a:rPr b="0" i="1" lang="hu-HU" sz="2800" spc="-1" strike="noStrike">
                <a:solidFill>
                  <a:srgbClr val="ffffcc"/>
                </a:solidFill>
                <a:latin typeface="Times New Roman"/>
              </a:rPr>
              <a:t>közelebb kerül 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a vég-leges helyéhez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742E-82DC-4EF3-BF43-8259F25E0A9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6116A6-EC49-434B-AC25-D741282A0647}" type="datetime1">
              <a:rPr lang="en-US"/>
              <a:t>07/28/26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4.3 Prioritási soros rendez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09480" y="141912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1054080"/>
                <a:tab algn="ctr" pos="391176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Implemetáció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09480" y="1909800"/>
            <a:ext cx="8382240" cy="467820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289080"/>
                <a:tab algn="l" pos="577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Eljárás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PrSorosRendezés(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Változó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X:Bemenet,Y:Kimenet):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iklus amíg … </a:t>
            </a:r>
            <a:r>
              <a:rPr b="0" i="1" sz="2000" spc="-1" strike="noStrike">
                <a:solidFill>
                  <a:srgbClr val="000000"/>
                </a:solidFill>
                <a:latin typeface="Courier New"/>
              </a:rPr>
              <a:t>kell? …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… [file nyitások]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db:=0; ÜresPrSor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iklus amíg nem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Vége?(X) 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és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db&lt;K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Olvas(X,adat); PrSorba(adat); db:+1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iklus vége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iklus amíg nem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Vége?(X)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PrSorból(adat); Ír(Y,adat)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Olvas(X,adat); PrSorba(adat)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iklus vége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iklus amíg nem 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ÜresPrSor?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  PrSorból(adat); Ír(Y,adat)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iklus vége</a:t>
            </a:r>
            <a:br>
              <a:rPr sz="2000"/>
            </a:b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sz="2000" spc="-1" strike="noStrike">
                <a:solidFill>
                  <a:srgbClr val="000000"/>
                </a:solidFill>
                <a:latin typeface="Courier New"/>
              </a:rPr>
              <a:t>… [file zárások]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Ciklus vége</a:t>
            </a:r>
            <a:br>
              <a:rPr sz="2000"/>
            </a:br>
            <a:r>
              <a:rPr b="1" sz="2000" spc="-1" strike="noStrike">
                <a:solidFill>
                  <a:srgbClr val="000000"/>
                </a:solidFill>
                <a:latin typeface="Courier New"/>
              </a:rPr>
              <a:t>Eljárás vége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029200" y="2438280"/>
            <a:ext cx="1143000" cy="304920"/>
          </a:xfrm>
          <a:prstGeom prst="wedgeEllipseCallout">
            <a:avLst>
              <a:gd name="adj1" fmla="val -185277"/>
              <a:gd name="adj2" fmla="val -105731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6600ff"/>
                </a:solidFill>
                <a:latin typeface="Times New Roman"/>
              </a:rPr>
              <a:t>h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043600" y="2428920"/>
            <a:ext cx="1143000" cy="304920"/>
          </a:xfrm>
          <a:prstGeom prst="wedgeEllipseCallout">
            <a:avLst>
              <a:gd name="adj1" fmla="val -234722"/>
              <a:gd name="adj2" fmla="val 18231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6600ff"/>
                </a:solidFill>
                <a:latin typeface="Times New Roman"/>
              </a:rPr>
              <a:t>hf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74FB-9214-4EF0-B13E-EB3EF67A1C41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055225-6EF8-4560-A180-9F916DF2CBEA}" type="datetime1">
              <a:rPr lang="en-US"/>
              <a:t>07/28/26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3. Időszerűsítés</a:t>
            </a:r>
            <a:endParaRPr b="1" i="1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440" y="1371240"/>
            <a:ext cx="80010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cc"/>
                </a:solidFill>
                <a:latin typeface="Times New Roman"/>
              </a:rPr>
              <a:t>A feladat:</a:t>
            </a:r>
            <a:br>
              <a:rPr sz="3200"/>
            </a:br>
            <a:r>
              <a:rPr b="0" lang="da-DK" sz="3000" spc="-1" strike="noStrike">
                <a:solidFill>
                  <a:srgbClr val="ffffcc"/>
                </a:solidFill>
                <a:latin typeface="Arial"/>
              </a:rPr>
              <a:t>Időszerűsítés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: 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égi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24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Módosító</a:t>
            </a:r>
            <a:r>
              <a:rPr b="0" lang="da-DK" sz="2400" spc="-1" strike="noStrike">
                <a:solidFill>
                  <a:srgbClr val="ff99ff"/>
                </a:solidFill>
                <a:latin typeface="Arial"/>
              </a:rPr>
              <a:t> </a:t>
            </a:r>
            <a:r>
              <a:rPr b="0" lang="da-DK" sz="28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Új</a:t>
            </a:r>
            <a:br>
              <a:rPr sz="2800"/>
            </a:br>
            <a:r>
              <a:rPr b="0" lang="da-DK" sz="2800" spc="-1" strike="noStrike" baseline="30000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Régi=TBeElem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da-DK" sz="2800" spc="-1" strike="noStrike" baseline="30000">
                <a:solidFill>
                  <a:srgbClr val="ffffcc"/>
                </a:solidFill>
                <a:latin typeface="Times New Roman"/>
              </a:rPr>
              <a:t>*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, </a:t>
            </a:r>
            <a:r>
              <a:rPr b="0" lang="da-DK" sz="2800" spc="-1" strike="noStrike" baseline="30000">
                <a:solidFill>
                  <a:srgbClr val="ffffcc"/>
                </a:solidFill>
                <a:latin typeface="Times New Roman"/>
              </a:rPr>
              <a:t>  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Módosító=TBeElem</a:t>
            </a:r>
            <a:r>
              <a:rPr b="0" lang="da-DK" sz="28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da-DK" sz="2800" spc="-1" strike="noStrike" baseline="-25000">
                <a:solidFill>
                  <a:srgbClr val="ff99ff"/>
                </a:solidFill>
                <a:latin typeface="Times New Roman"/>
              </a:rPr>
              <a:t> </a:t>
            </a:r>
            <a:r>
              <a:rPr b="0" lang="da-DK" sz="2800" spc="-1" strike="noStrike" baseline="30000">
                <a:solidFill>
                  <a:srgbClr val="ffffcc"/>
                </a:solidFill>
                <a:latin typeface="Times New Roman"/>
              </a:rPr>
              <a:t>*</a:t>
            </a:r>
            <a:r>
              <a:rPr b="0" lang="da-DK" sz="2800" spc="-1" strike="noStrike" baseline="-25000">
                <a:solidFill>
                  <a:srgbClr val="ff99ff"/>
                </a:solidFill>
                <a:latin typeface="Times New Roman"/>
              </a:rPr>
              <a:t> </a:t>
            </a:r>
            <a:br>
              <a:rPr sz="2800"/>
            </a:br>
            <a:r>
              <a:rPr b="0" lang="da-DK" sz="2800" spc="-1" strike="noStrike">
                <a:solidFill>
                  <a:srgbClr val="ff99ff"/>
                </a:solidFill>
                <a:latin typeface="Times New Roman"/>
              </a:rPr>
              <a:t>  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Új=TKiElem</a:t>
            </a:r>
            <a:r>
              <a:rPr b="0" lang="da-DK" sz="2800" spc="-1" strike="noStrike" baseline="30000">
                <a:solidFill>
                  <a:srgbClr val="ffffcc"/>
                </a:solidFill>
                <a:latin typeface="Times New Roman"/>
              </a:rPr>
              <a:t>*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hu-HU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Időszerűsítési funkciók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adott elem törlés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adott elem javítá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adott elem beszúrása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ffffcc"/>
                </a:solidFill>
                <a:latin typeface="Times New Roman"/>
              </a:rPr>
              <a:t>Adott mező: „kulcs” (-mező)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762520" y="2895480"/>
            <a:ext cx="3229200" cy="93528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no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TBeElem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1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99ff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TBeElem</a:t>
            </a:r>
            <a:r>
              <a:rPr b="0" lang="da-DK" sz="2000" spc="-1" strike="noStrike" baseline="-25000">
                <a:solidFill>
                  <a:srgbClr val="ffffcc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</a:t>
            </a: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Symbol"/>
                <a:ea typeface="Symbol"/>
              </a:rPr>
              <a:t>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TBeElem=TKiElem</a:t>
            </a:r>
            <a:br>
              <a:rPr sz="2000"/>
            </a:b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ff99ff"/>
                </a:solidFill>
                <a:latin typeface="Symbol"/>
                <a:ea typeface="Symbol"/>
              </a:rPr>
              <a:t></a:t>
            </a:r>
            <a:r>
              <a:rPr b="0" lang="en-US" sz="2000" spc="-1" strike="noStrike">
                <a:solidFill>
                  <a:srgbClr val="ff99ff"/>
                </a:solidFill>
                <a:latin typeface="Times New Roman"/>
              </a:rPr>
              <a:t>: közös mez</a:t>
            </a:r>
            <a:r>
              <a:rPr b="0" lang="da-DK" sz="2000" spc="-1" strike="noStrike">
                <a:solidFill>
                  <a:srgbClr val="ff99ff"/>
                </a:solidFill>
                <a:latin typeface="Times New Roman"/>
              </a:rPr>
              <a:t>ő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DDDA-3E34-4B5D-B8A4-3222C669AA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7E7C25-F6F1-41A0-B568-03079A3E5369}" type="datetime1">
              <a:rPr lang="en-US"/>
              <a:t>07/28/26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Időszerűsít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A ’Z=F(X)’ tétel alkalmazható?</a:t>
            </a: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A </a:t>
            </a:r>
            <a:r>
              <a:rPr b="0" lang="hu-HU" sz="3200" spc="-1" strike="noStrike">
                <a:solidFill>
                  <a:srgbClr val="ffffcc"/>
                </a:solidFill>
                <a:latin typeface="Times New Roman"/>
              </a:rPr>
              <a:t>„keresztbe kasul” hivatkozás miatt</a:t>
            </a:r>
            <a:br>
              <a:rPr sz="3200"/>
            </a:br>
            <a:r>
              <a:rPr b="0" lang="da-DK" sz="3200" spc="-1" strike="noStrike">
                <a:solidFill>
                  <a:srgbClr val="ffffcc"/>
                </a:solidFill>
                <a:latin typeface="Symbol"/>
                <a:ea typeface="Symbol"/>
              </a:rPr>
              <a:t></a:t>
            </a: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: X</a:t>
            </a:r>
            <a:r>
              <a:rPr b="0" lang="da-DK" sz="32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da-DK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Z  :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cc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1851120" y="1724040"/>
          <a:ext cx="5692680" cy="304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851120" y="1724040"/>
                    <a:ext cx="5692680" cy="304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3836880" y="5354640"/>
                <a:ext cx="2662200" cy="1009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: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  <m:r>
                      <m:t xml:space="preserve">→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1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.</m:t>
                              </m:r>
                            </m:e>
                          </m:mr>
                          <m:mr>
                            <m:e>
                              <m:r>
                                <m:t xml:space="preserve">f</m:t>
                              </m:r>
                              <m:r>
                                <m:t xml:space="preserve">(</m:t>
                              </m:r>
                              <m:sSub>
                                <m:e>
                                  <m:r>
                                    <m:t xml:space="preserve">x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,</m:t>
                              </m:r>
                              <m:sSub>
                                <m:e>
                                  <m:r>
                                    <m:t xml:space="preserve">y</m:t>
                                  </m:r>
                                </m:e>
                                <m:sub>
                                  <m:r>
                                    <m:t xml:space="preserve">n</m:t>
                                  </m:r>
                                </m:sub>
                              </m:sSub>
                              <m:r>
                                <m:t xml:space="preserve">)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7E7E1-59A4-4AFD-9A69-B0584A52DD2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45D1601-129C-4F40-B06C-F26FBFED3619}" type="datetime1">
              <a:rPr lang="en-US"/>
              <a:t>07/28/26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Időszerűsít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471320"/>
            <a:ext cx="8229600" cy="50814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Konfliktus:</a:t>
            </a:r>
            <a:br>
              <a:rPr sz="3200"/>
            </a:b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Összefonódási (elsősorban) a bemeneti olda-lon, X és Y elemei között, továbbá az Y és Z elemei közöt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Feloldása:</a:t>
            </a:r>
            <a:br>
              <a:rPr sz="3200"/>
            </a:b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1. Szétválogatás -- X-Y </a:t>
            </a:r>
            <a:r>
              <a:rPr b="0" i="1" lang="hu-HU" sz="3200" spc="-1" strike="noStrike">
                <a:solidFill>
                  <a:srgbClr val="ffffcc"/>
                </a:solidFill>
                <a:latin typeface="Times New Roman"/>
              </a:rPr>
              <a:t>„párba illeszkedő” (azonos kulcsú v. </a:t>
            </a:r>
            <a:r>
              <a:rPr b="0" i="1" lang="hu-HU" sz="3200" spc="-1" strike="noStrike">
                <a:solidFill>
                  <a:srgbClr val="ff99ff"/>
                </a:solidFill>
                <a:latin typeface="Times New Roman"/>
              </a:rPr>
              <a:t>üres</a:t>
            </a:r>
            <a:r>
              <a:rPr b="0" i="1" lang="hu-HU" sz="3200" spc="-1" strike="noStrike">
                <a:solidFill>
                  <a:srgbClr val="ffffcc"/>
                </a:solidFill>
                <a:latin typeface="Times New Roman"/>
              </a:rPr>
              <a:t>) </a:t>
            </a: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elemei.</a:t>
            </a:r>
            <a:br>
              <a:rPr sz="3200"/>
            </a:b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2. Ef: kulcs-szerinti rendezettség + párosítás (kulcs-szerint v. </a:t>
            </a:r>
            <a:r>
              <a:rPr b="0" i="1" lang="da-DK" sz="3200" spc="-1" strike="noStrike">
                <a:solidFill>
                  <a:srgbClr val="ff99ff"/>
                </a:solidFill>
                <a:latin typeface="Times New Roman"/>
              </a:rPr>
              <a:t>üres</a:t>
            </a: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26C6-F770-4F9A-90F1-37452D2E8C9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A5A42A8-43DE-42EE-8A85-B9FCB48B1981}" type="datetime1">
              <a:rPr lang="en-US"/>
              <a:t>07/28/2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Időszerűsítés 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/>
          </a:bodyPr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Algoritmus:</a:t>
            </a:r>
            <a:br>
              <a:rPr sz="3200"/>
            </a:b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1. Z=F(X) tétel alapján;</a:t>
            </a:r>
            <a:br>
              <a:rPr sz="3200"/>
            </a:b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2. Összefuttatás tétel alapján.  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560" y="1814400"/>
            <a:ext cx="8259840" cy="222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Típu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Adatok=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(Elem)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Módosítók=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File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(MódElem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i="1" lang="da-DK" sz="1800" spc="-1" strike="noStrike">
                <a:solidFill>
                  <a:srgbClr val="000000"/>
                </a:solidFill>
                <a:latin typeface="Courier New"/>
              </a:rPr>
              <a:t>Finomítá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18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Elem=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Rekord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MódElem=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Rekord</a:t>
            </a:r>
            <a:br>
              <a:rPr sz="1800"/>
            </a:b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(kulcs:?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(módTip:Módosítás</a:t>
            </a:r>
            <a:br>
              <a:rPr sz="1800"/>
            </a:b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egyéb:?)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tart:Elem) </a:t>
            </a:r>
            <a:br>
              <a:rPr sz="1800"/>
            </a:b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Módosítás=(Törlés,</a:t>
            </a:r>
            <a:br>
              <a:rPr sz="1800"/>
            </a:b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da-DK" sz="1800" spc="-1" strike="noStrike">
                <a:solidFill>
                  <a:srgbClr val="000000"/>
                </a:solidFill>
                <a:latin typeface="Courier New"/>
              </a:rPr>
              <a:t> Javítás,Beszúrás)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15F6C-5C58-4584-9CB6-F33A0CED87B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936BC1-611A-47E8-8CCF-A6112183DD95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600" spc="-1" strike="noStrike">
                <a:solidFill>
                  <a:srgbClr val="ffcc66"/>
                </a:solidFill>
                <a:latin typeface="Times New Roman"/>
              </a:rPr>
              <a:t>3.1 Megoldása a </a:t>
            </a: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„</a:t>
            </a:r>
            <a:r>
              <a:rPr b="1" i="1" lang="da-DK" sz="3600" spc="-1" strike="noStrike">
                <a:solidFill>
                  <a:srgbClr val="ffcc66"/>
                </a:solidFill>
                <a:latin typeface="Times New Roman"/>
              </a:rPr>
              <a:t>Z=F(X)” tétel alapján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 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57600" rIns="57600" tIns="46080" bIns="46080" anchor="t">
            <a:normAutofit fontScale="97000"/>
          </a:bodyPr>
          <a:p>
            <a:pPr marL="332640"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A párosítás elvégezhető az </a:t>
            </a:r>
            <a:r>
              <a:rPr b="1" lang="hu-HU" sz="2800" spc="-1" strike="noStrike">
                <a:solidFill>
                  <a:srgbClr val="ffffcc"/>
                </a:solidFill>
                <a:latin typeface="Times New Roman"/>
              </a:rPr>
              <a:t>„</a:t>
            </a:r>
            <a:r>
              <a:rPr b="1" lang="da-DK" sz="2800" spc="-1" strike="noStrike">
                <a:solidFill>
                  <a:srgbClr val="ffffcc"/>
                </a:solidFill>
                <a:latin typeface="Times New Roman"/>
              </a:rPr>
              <a:t>Üres” elem bevezeté-sével</a:t>
            </a: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, ui. </a:t>
            </a:r>
            <a:br>
              <a:rPr sz="2800"/>
            </a:br>
            <a:r>
              <a:rPr b="0" lang="da-DK" sz="3200" spc="-1" strike="noStrike">
                <a:solidFill>
                  <a:srgbClr val="ffffcc"/>
                </a:solidFill>
                <a:latin typeface="Symbol"/>
                <a:ea typeface="Symbol"/>
              </a:rPr>
              <a:t></a:t>
            </a: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f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: X</a:t>
            </a:r>
            <a:r>
              <a:rPr b="0" lang="da-DK" sz="3200" spc="-1" strike="noStrike">
                <a:solidFill>
                  <a:srgbClr val="ffffcc"/>
                </a:solidFill>
                <a:latin typeface="Arial"/>
              </a:rPr>
              <a:t>x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da-DK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Z :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0">
              <a:spcBef>
                <a:spcPts val="7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800" spc="-1" strike="noStrike">
                <a:solidFill>
                  <a:srgbClr val="ffffcc"/>
                </a:solidFill>
                <a:latin typeface="Times New Roman"/>
              </a:rPr>
              <a:t>Az 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„Üres” elem bevezetése egy „gyenge” </a:t>
            </a:r>
            <a:r>
              <a:rPr b="1" lang="hu-HU" sz="2800" spc="-1" strike="noStrike">
                <a:solidFill>
                  <a:srgbClr val="ffffcc"/>
                </a:solidFill>
                <a:latin typeface="Times New Roman"/>
              </a:rPr>
              <a:t>tagolási konfliktus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ra utal </a:t>
            </a:r>
            <a:r>
              <a:rPr b="0" lang="hu-HU" sz="28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hu-HU" sz="2800" spc="-1" strike="noStrike">
                <a:solidFill>
                  <a:srgbClr val="ffffcc"/>
                </a:solidFill>
                <a:latin typeface="Times New Roman"/>
              </a:rPr>
              <a:t>virtuális típus 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mind a </a:t>
            </a:r>
            <a:r>
              <a:rPr b="1" lang="hu-HU" sz="2800" spc="-1" strike="noStrike">
                <a:solidFill>
                  <a:srgbClr val="ffffcc"/>
                </a:solidFill>
                <a:latin typeface="Times New Roman"/>
              </a:rPr>
              <a:t>be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-, mind a </a:t>
            </a:r>
            <a:r>
              <a:rPr b="1" lang="hu-HU" sz="2800" spc="-1" strike="noStrike">
                <a:solidFill>
                  <a:srgbClr val="ffffcc"/>
                </a:solidFill>
                <a:latin typeface="Times New Roman"/>
              </a:rPr>
              <a:t>kimeneti oldal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on. Ui. kell tudni X-Y-beli </a:t>
            </a:r>
            <a:r>
              <a:rPr b="1" lang="hu-HU" sz="2800" spc="-1" strike="noStrike">
                <a:solidFill>
                  <a:srgbClr val="ffffcc"/>
                </a:solidFill>
                <a:latin typeface="Times New Roman"/>
              </a:rPr>
              <a:t>elempár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t (esetleg </a:t>
            </a:r>
            <a:r>
              <a:rPr b="1" lang="hu-HU" sz="2800" spc="-1" strike="noStrike">
                <a:solidFill>
                  <a:srgbClr val="ffffcc"/>
                </a:solidFill>
                <a:latin typeface="Times New Roman"/>
              </a:rPr>
              <a:t>üres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et) olvasni, és kell tudni Z-belit (esetleg </a:t>
            </a:r>
            <a:r>
              <a:rPr b="1" lang="hu-HU" sz="2800" spc="-1" strike="noStrike">
                <a:solidFill>
                  <a:srgbClr val="ffffcc"/>
                </a:solidFill>
                <a:latin typeface="Times New Roman"/>
              </a:rPr>
              <a:t>üres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et) írni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3479760" y="2016000"/>
          <a:ext cx="5283360" cy="2556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479760" y="2016000"/>
                    <a:ext cx="5283360" cy="255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2743200" y="2895480"/>
            <a:ext cx="6400800" cy="780120"/>
          </a:xfrm>
          <a:prstGeom prst="rect">
            <a:avLst/>
          </a:prstGeom>
          <a:solidFill>
            <a:srgbClr val="5f5f5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0" bIns="0" anchor="t">
            <a:spAutoFit/>
          </a:bodyPr>
          <a:p>
            <a:pPr>
              <a:lnSpc>
                <a:spcPct val="160000"/>
              </a:lnSpc>
              <a:spcBef>
                <a:spcPts val="2401"/>
              </a:spcBef>
              <a:spcAft>
                <a:spcPts val="24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1" lang="hu-HU" sz="32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1" lang="hu-HU" sz="3200" spc="-1" strike="noStrike">
                <a:solidFill>
                  <a:srgbClr val="ffffcc"/>
                </a:solidFill>
                <a:latin typeface="Times New Roman"/>
              </a:rPr>
              <a:t>{Üres} </a:t>
            </a:r>
            <a:r>
              <a:rPr b="1" lang="hu-HU" sz="3200" spc="-1" strike="noStrike">
                <a:solidFill>
                  <a:srgbClr val="ffffcc"/>
                </a:solidFill>
                <a:latin typeface="Arial"/>
              </a:rPr>
              <a:t>x </a:t>
            </a:r>
            <a:r>
              <a:rPr b="1" lang="hu-HU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1" lang="hu-HU" sz="32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1" lang="hu-HU" sz="3200" spc="-1" strike="noStrike">
                <a:solidFill>
                  <a:srgbClr val="ffffcc"/>
                </a:solidFill>
                <a:latin typeface="Times New Roman"/>
              </a:rPr>
              <a:t>{Üres} </a:t>
            </a:r>
            <a:r>
              <a:rPr b="1" lang="hu-HU" sz="3200" spc="-1" strike="noStrike">
                <a:solidFill>
                  <a:srgbClr val="ffffcc"/>
                </a:solidFill>
                <a:latin typeface="Symbol"/>
                <a:ea typeface="Symbol"/>
              </a:rPr>
              <a:t></a:t>
            </a:r>
            <a:r>
              <a:rPr b="1" lang="hu-HU" sz="3200" spc="-1" strike="noStrike">
                <a:solidFill>
                  <a:srgbClr val="ffffcc"/>
                </a:solidFill>
                <a:latin typeface="Times New Roman"/>
              </a:rPr>
              <a:t> Z</a:t>
            </a:r>
            <a:r>
              <a:rPr b="1" lang="hu-HU" sz="32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1" lang="hu-HU" sz="3200" spc="-1" strike="noStrike">
                <a:solidFill>
                  <a:srgbClr val="ffffcc"/>
                </a:solidFill>
                <a:latin typeface="Times New Roman"/>
              </a:rPr>
              <a:t>{Üres}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5B29-24BD-44AE-A426-F326903B9546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091BC3-6CB9-4A5F-AE6E-6E545337892F}" type="datetime1">
              <a:rPr lang="en-US"/>
              <a:t>07/28/26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76320"/>
            <a:ext cx="7772400" cy="10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da-DK" sz="3600" spc="-1" strike="noStrike">
                <a:solidFill>
                  <a:srgbClr val="ffcc66"/>
                </a:solidFill>
                <a:latin typeface="Times New Roman"/>
              </a:rPr>
              <a:t>3.1 Megoldása a </a:t>
            </a:r>
            <a:r>
              <a:rPr b="1" i="1" lang="hu-HU" sz="3600" spc="-1" strike="noStrike">
                <a:solidFill>
                  <a:srgbClr val="ffcc66"/>
                </a:solidFill>
                <a:latin typeface="Times New Roman"/>
              </a:rPr>
              <a:t>„</a:t>
            </a:r>
            <a:r>
              <a:rPr b="1" i="1" lang="da-DK" sz="3600" spc="-1" strike="noStrike">
                <a:solidFill>
                  <a:srgbClr val="ffcc66"/>
                </a:solidFill>
                <a:latin typeface="Times New Roman"/>
              </a:rPr>
              <a:t>Z=F(X)” tétel alapján</a:t>
            </a:r>
            <a:r>
              <a:rPr b="1" i="1" lang="hu-HU" sz="2400" spc="-1" strike="noStrike">
                <a:solidFill>
                  <a:srgbClr val="ffcc66"/>
                </a:solidFill>
                <a:latin typeface="Times New Roman"/>
              </a:rPr>
              <a:t> (folytatás)</a:t>
            </a:r>
            <a:endParaRPr b="1" i="1" lang="en-US" sz="2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21600" rIns="21600" tIns="10800" bIns="10800" anchor="t">
            <a:normAutofit/>
          </a:bodyPr>
          <a:p>
            <a:pPr marL="343080"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A feldolgozás vázlata:</a:t>
            </a:r>
            <a:br>
              <a:rPr sz="3200"/>
            </a:b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X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,</a:t>
            </a: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Y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) </a:t>
            </a:r>
            <a:r>
              <a:rPr b="0" lang="da-DK" sz="32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Olvas </a:t>
            </a:r>
            <a:r>
              <a:rPr b="0" lang="da-DK" sz="32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elempár</a:t>
            </a:r>
            <a:r>
              <a:rPr b="1" lang="da-DK" sz="32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da-DK" sz="32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Feldolgoz </a:t>
            </a:r>
            <a:r>
              <a:rPr b="0" lang="da-DK" sz="3200" spc="-1" strike="noStrike">
                <a:solidFill>
                  <a:srgbClr val="ffffcc"/>
                </a:solidFill>
                <a:latin typeface="Symbol"/>
                <a:ea typeface="Symbol"/>
              </a:rPr>
              <a:t></a:t>
            </a: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kielem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da-DK" sz="3200" spc="-1" strike="noStrike">
                <a:solidFill>
                  <a:srgbClr val="ffffcc"/>
                </a:solidFill>
                <a:latin typeface="Symbol"/>
                <a:ea typeface="Symbol"/>
              </a:rPr>
              <a:t>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i="1" lang="da-DK" sz="3200" spc="-1" strike="noStrike">
                <a:solidFill>
                  <a:srgbClr val="ffffcc"/>
                </a:solidFill>
                <a:latin typeface="Times New Roman"/>
              </a:rPr>
              <a:t>Ír </a:t>
            </a:r>
            <a:r>
              <a:rPr b="0" lang="da-DK" sz="3200" spc="-1" strike="noStrike">
                <a:solidFill>
                  <a:srgbClr val="ffffcc"/>
                </a:solidFill>
                <a:latin typeface="Symbol"/>
                <a:ea typeface="Symbol"/>
              </a:rPr>
              <a:t>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(</a:t>
            </a: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Z</a:t>
            </a:r>
            <a:r>
              <a:rPr b="1" lang="da-DK" sz="3200" spc="-1" strike="noStrike">
                <a:solidFill>
                  <a:srgbClr val="ffffcc"/>
                </a:solidFill>
                <a:latin typeface="Symbol"/>
                <a:ea typeface="Symbol"/>
              </a:rPr>
              <a:t></a:t>
            </a:r>
            <a:r>
              <a:rPr b="1" lang="da-DK" sz="3200" spc="-1" strike="noStrike">
                <a:solidFill>
                  <a:srgbClr val="ffffcc"/>
                </a:solidFill>
                <a:latin typeface="Times New Roman"/>
              </a:rPr>
              <a:t>Sehová</a:t>
            </a:r>
            <a:r>
              <a:rPr b="0" lang="da-DK" sz="3200" spc="-1" strike="noStrike">
                <a:solidFill>
                  <a:srgbClr val="ffffcc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a-DK" sz="2400" spc="-1" strike="noStrike">
                <a:solidFill>
                  <a:srgbClr val="ffffcc"/>
                </a:solidFill>
                <a:latin typeface="Courier New"/>
              </a:rPr>
              <a:t>Típu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Elempár=</a:t>
            </a:r>
            <a:r>
              <a:rPr b="1" lang="da-DK" sz="2400" spc="-1" strike="noStrike">
                <a:solidFill>
                  <a:srgbClr val="ffffcc"/>
                </a:solidFill>
                <a:latin typeface="Courier New"/>
              </a:rPr>
              <a:t>Rekord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Kielem=</a:t>
            </a:r>
            <a:r>
              <a:rPr b="1" lang="da-DK" sz="2400" spc="-1" strike="noStrike">
                <a:solidFill>
                  <a:srgbClr val="ffffcc"/>
                </a:solidFill>
                <a:latin typeface="Courier New"/>
              </a:rPr>
              <a:t>Rekord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 (bem:</a:t>
            </a:r>
            <a:r>
              <a:rPr b="1" lang="da-DK" sz="2400" spc="-1" strike="noStrike">
                <a:solidFill>
                  <a:srgbClr val="ffffcc"/>
                </a:solidFill>
                <a:latin typeface="Courier New"/>
              </a:rPr>
              <a:t>Rekord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   (üres:Logikai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(kész:Logikai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    tart:Elem)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 tart:Elem)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  mód:</a:t>
            </a:r>
            <a:r>
              <a:rPr b="1" lang="da-DK" sz="2400" spc="-1" strike="noStrike">
                <a:solidFill>
                  <a:srgbClr val="ffffcc"/>
                </a:solidFill>
                <a:latin typeface="Courier New"/>
              </a:rPr>
              <a:t>Rekord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(kész:Logikai</a:t>
            </a:r>
            <a:br>
              <a:rPr sz="2400"/>
            </a:b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da-DK" sz="2400" spc="-1" strike="noStrike">
                <a:solidFill>
                  <a:srgbClr val="ffffcc"/>
                </a:solidFill>
                <a:latin typeface="Courier New"/>
              </a:rPr>
              <a:t> tart:MódElem))</a:t>
            </a:r>
            <a:r>
              <a:rPr b="0" lang="hu-HU" sz="2800" spc="-1" strike="noStrike">
                <a:solidFill>
                  <a:srgbClr val="ffffcc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062680" y="4724280"/>
            <a:ext cx="2252520" cy="609840"/>
          </a:xfrm>
          <a:prstGeom prst="wedgeRoundRectCallout">
            <a:avLst>
              <a:gd name="adj1" fmla="val -4111"/>
              <a:gd name="adj2" fmla="val -152606"/>
              <a:gd name="adj3" fmla="val 1666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Nincs output elem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43000" y="4219560"/>
            <a:ext cx="1904760" cy="838080"/>
          </a:xfrm>
          <a:prstGeom prst="wedgeRoundRectCallout">
            <a:avLst>
              <a:gd name="adj1" fmla="val 79583"/>
              <a:gd name="adj2" fmla="val -27462"/>
              <a:gd name="adj3" fmla="val 1666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el lett dolgozva az elem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76120" y="5410080"/>
            <a:ext cx="1905120" cy="838440"/>
          </a:xfrm>
          <a:prstGeom prst="wedgeRoundRectCallout">
            <a:avLst>
              <a:gd name="adj1" fmla="val 79583"/>
              <a:gd name="adj2" fmla="val -27462"/>
              <a:gd name="adj3" fmla="val 1666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Fel lett dolgozva az elem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Adatfedolgozá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5BB5B-8507-4137-B680-A5B1D9DB2EBE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74099C3-76A8-44DD-A876-EC860C16BC87}" type="datetime1">
              <a:rPr lang="en-US"/>
              <a:t>07/28/26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1T18:03:21Z</dcterms:created>
  <dc:creator>Szlávi Péter</dc:creator>
  <dc:description/>
  <dc:language>en-US</dc:language>
  <cp:lastModifiedBy>Szlávi Péter</cp:lastModifiedBy>
  <cp:lastPrinted>1999-11-01T10:20:34Z</cp:lastPrinted>
  <dcterms:modified xsi:type="dcterms:W3CDTF">2002-10-30T13:01:16Z</dcterms:modified>
  <cp:revision>252</cp:revision>
  <dc:subject/>
  <dc:title>Adatfeldolgozás előadás 3.</dc:title>
</cp:coreProperties>
</file>