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_rels/notesSlide3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4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  <p:custShowLst>
    <p:custShow name="Megjegyzés: Felbontás" id="0">
      <p:sldLst>
        <p:sld r:id="rId36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EA27-A3F6-438C-AFF3-126544D9F797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da-DK" sz="800" spc="-1" strike="noStrike">
                <a:solidFill>
                  <a:srgbClr val="000000"/>
                </a:solidFill>
                <a:latin typeface="Courier New"/>
              </a:rPr>
              <a:t>finomítási sorrendben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]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Egyetem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</a:t>
            </a: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zöveg,</a:t>
            </a:r>
            <a:br>
              <a:rPr sz="800"/>
            </a:br>
            <a:r>
              <a:rPr b="0" lang="hu-HU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k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Kar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Kar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c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Cs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Cs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ev:Szöveg,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t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TSz)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TSz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dAdat: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TDolgozó)) 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Dolgozó=</a:t>
            </a:r>
            <a:r>
              <a:rPr b="1" lang="da-DK" sz="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(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név:Szöveg,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beoszt:TBeosztás, fizu:Egész)</a:t>
            </a:r>
            <a:br>
              <a:rPr sz="800"/>
            </a:br>
            <a:r>
              <a:rPr b="0" lang="da-DK" sz="800" spc="-1" strike="noStrike">
                <a:solidFill>
                  <a:srgbClr val="000000"/>
                </a:solidFill>
                <a:latin typeface="Courier New"/>
              </a:rPr>
              <a:t> TBeosztás=(Tanseg,Adj,Doc,Egytan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* a kékkel jelölteken át nem vezet út a kimenőél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* a kékkel jelölteken át nem vezet út a kimenőél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* a kékkel jelölteken át nem vezet út a kimenőél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* a kékkel jelölteken át nem vezet út a kimenőélhez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CC2B-62B5-405F-9E95-F04F83DCB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998B-2675-48D0-8DAF-C964C82F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52A5-D209-4F6D-85E4-CDB19731C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568E3-F96C-47BA-9D92-B6C1FB851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44E6F-79F7-4E5A-8267-A810582D4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422FC-0CCA-4114-AA7B-DB9E928F7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48999-DFF3-479E-8D18-B097AECB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7CB85-4522-4407-96F1-3F464CD65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154C3-4E8E-4F02-9AF0-8E373A471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3E2A3-A9BD-4160-A8F0-F72AEE403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1BA0B-7874-4082-AF46-281F2669E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C601E-0C28-44CF-9404-302AC1C9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35174-EDB5-480A-9E78-B3F165411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F50EC-7D89-4850-992E-AC4E3994E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775C9-D074-442C-A1FD-BBABDAD0B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583C-5C0C-4FDE-A8AB-81E5BEFC9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41F1A-403E-497D-9651-9349499B60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B859B-F7BD-4115-916F-F3B965ABD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5792-5B89-495C-AD61-6BA96F502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057C2-053A-4585-9988-81B26C4EA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ED96B-3E25-491B-B7D3-4A4123840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ABE2E-3CE8-43BA-A007-5E900E77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B4C80-AA83-42FB-B285-E67033B8F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9CF1-E571-418E-9EB3-E2F1E3AF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9CE04-91F2-45FE-B388-91621BB25907}" type="datetime">
              <a:rPr b="0" lang="hu-HU" sz="1200" spc="-1" strike="noStrike">
                <a:solidFill>
                  <a:srgbClr val="ffffcc"/>
                </a:solidFill>
                <a:latin typeface="Arial"/>
              </a:rPr>
              <a:t>26.07.28.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19B-FEFB-4D83-B49D-821782C9D4F1}" type="slidenum">
              <a:rPr b="0" lang="hu-H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56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" name="szp_alr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1066680" cy="219240"/>
          </a:xfrm>
          <a:prstGeom prst="rect">
            <a:avLst/>
          </a:prstGeom>
          <a:ln w="0">
            <a:noFill/>
          </a:ln>
        </p:spPr>
      </p:pic>
      <p:sp>
        <p:nvSpPr>
          <p:cNvPr id="12" name="">
            <a:hlinkClick r:id="" action="ppaction://hlinkshowjump?jump=previousslide"/>
          </p:cNvPr>
          <p:cNvSpPr/>
          <p:nvPr/>
        </p:nvSpPr>
        <p:spPr>
          <a:xfrm>
            <a:off x="8771040" y="25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2B4D0-A31E-4CDA-881E-F83B645AA031}" type="datetime">
              <a:rPr b="0" lang="hu-HU" sz="1400" spc="-1" strike="noStrike">
                <a:solidFill>
                  <a:srgbClr val="ffff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DE16D-DBD4-4F76-94DC-B3C4366AF4BC}" type="slidenum">
              <a:rPr b="0" lang="hu-H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zzo.inf.elte.hu/~szlavi" TargetMode="External"/><Relationship Id="rId3" Type="http://schemas.openxmlformats.org/officeDocument/2006/relationships/hyperlink" Target="http://izzo.inf.elte.hu/~szlavi" TargetMode="External"/><Relationship Id="rId4" Type="http://schemas.openxmlformats.org/officeDocument/2006/relationships/hyperlink" Target="http://izzo.inf.elte.hu/~szlavi" TargetMode="External"/><Relationship Id="rId5" Type="http://schemas.openxmlformats.org/officeDocument/2006/relationships/hyperlink" Target="http://izzo.inf.elte.hu/~szlavi" TargetMode="External"/><Relationship Id="rId6" Type="http://schemas.openxmlformats.org/officeDocument/2006/relationships/hyperlink" Target="http://izzo.inf.elte.hu/~szlavi" TargetMode="External"/><Relationship Id="rId7" Type="http://schemas.openxmlformats.org/officeDocument/2006/relationships/hyperlink" Target="http://izzo.inf.elte.hu/~szlavi" TargetMode="External"/><Relationship Id="rId8" Type="http://schemas.openxmlformats.org/officeDocument/2006/relationships/hyperlink" Target="http://izzo.inf.elte.hu/~szlavi" TargetMode="External"/><Relationship Id="rId9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Adatfeldolgozás 1.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103" name="szp_alr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6615000"/>
            <a:ext cx="1184400" cy="2430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1066680" y="3821040"/>
            <a:ext cx="762012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cc66"/>
                </a:solidFill>
                <a:latin typeface="Times New Roman"/>
              </a:rPr>
              <a:t>Szlávi Pé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cc66"/>
                </a:solidFill>
                <a:latin typeface="Times New Roman"/>
              </a:rPr>
              <a:t>ELTE Informatika Szakmódszertani Cso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Courier New"/>
              </a:rPr>
              <a:t>szlavi@ludens.elte.hu</a:t>
            </a:r>
            <a:br>
              <a:rPr sz="2000"/>
            </a:br>
            <a:r>
              <a:rPr b="0" lang="hu-HU" sz="2000" spc="-1" strike="noStrike" u="sng">
                <a:solidFill>
                  <a:srgbClr val="ff99ff"/>
                </a:solidFill>
                <a:uFillTx/>
                <a:latin typeface="Courier New"/>
                <a:hlinkClick r:id="rId2"/>
              </a:rPr>
              <a:t>http</a:t>
            </a:r>
            <a:r>
              <a:rPr b="0" lang="hu-HU" sz="2000" spc="-1" strike="noStrike" u="sng">
                <a:solidFill>
                  <a:srgbClr val="ff99ff"/>
                </a:solidFill>
                <a:uFillTx/>
                <a:latin typeface="Courier New"/>
                <a:hlinkClick r:id="rId3"/>
              </a:rPr>
              <a:t>: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4"/>
              </a:rPr>
              <a:t>//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5"/>
              </a:rPr>
              <a:t>izzo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6"/>
              </a:rPr>
              <a:t>.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7"/>
              </a:rPr>
              <a:t>inf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8"/>
              </a:rPr>
              <a:t>.</a:t>
            </a:r>
            <a:r>
              <a:rPr b="0" lang="en-US" sz="2000" spc="-1" strike="noStrike">
                <a:solidFill>
                  <a:srgbClr val="ffcc66"/>
                </a:solidFill>
                <a:latin typeface="Courier New"/>
              </a:rPr>
              <a:t>elte.hu/~szlav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2 Elemenkénti feldolgozhatóság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15328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85000"/>
          </a:bodyPr>
          <a:p>
            <a:pPr marL="291600" indent="0"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0"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a definíció alapján kreáljuk meg f-t….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L.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TBeElem: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x):=z , ha F((x))=(z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0"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Teljes indukcióval belátjuk az állítást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) X=(x)-re igaz 1. miatt.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b) (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indukciós lépés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Tfh. X=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,.., 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-re igaz;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X’:=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,.., 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+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=Egymásután(X,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+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el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ő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feltétel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F(X’)=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gymásután(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F(X)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,F(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+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))=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indukciós feltétel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=Egymásután(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f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,..,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),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f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+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))=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Egymásután def.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=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f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,..,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,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f(x</a:t>
            </a:r>
            <a:r>
              <a:rPr b="0" lang="hu-HU" sz="2800" spc="-1" strike="noStrike" baseline="-25000">
                <a:solidFill>
                  <a:srgbClr val="ffffcc"/>
                </a:solidFill>
                <a:latin typeface="Times New Roman"/>
              </a:rPr>
              <a:t>k+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91600" indent="0"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7650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BAF59-BBA8-4699-BC90-4D9815D46590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09781-2CFB-4FAF-BA61-FDF944C85B02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3 A Z=F(X) tétel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Állítás: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Ha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Z=F(X) feladat elemenként feldolgozható, akkor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 TBeElem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TKiElem,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mellyel a feldolgozó program a következő szerkezetűként fogalmazható meg: </a:t>
            </a:r>
            <a:br>
              <a:rPr sz="2800"/>
            </a:b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362320" y="3165480"/>
            <a:ext cx="5105160" cy="2288520"/>
          </a:xfrm>
          <a:prstGeom prst="rect">
            <a:avLst/>
          </a:prstGeom>
          <a:solidFill>
            <a:srgbClr val="5f5f5f"/>
          </a:solidFill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Üres(Z)</a:t>
            </a:r>
            <a:br>
              <a:rPr sz="2400"/>
            </a:br>
            <a:r>
              <a:rPr b="1" lang="da-DK" sz="24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Üres?(X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(adat,X):=Elejéről(X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újadat:=</a:t>
            </a:r>
            <a:r>
              <a:rPr b="0" i="1" lang="da-DK" sz="2400" spc="-1" strike="noStrike">
                <a:solidFill>
                  <a:srgbClr val="ffffcc"/>
                </a:solidFill>
                <a:latin typeface="Courier New"/>
              </a:rPr>
              <a:t>f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(adat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Z:=Végére(Z,újadat)</a:t>
            </a:r>
            <a:br>
              <a:rPr sz="2400"/>
            </a:br>
            <a:r>
              <a:rPr b="1" lang="da-DK" sz="24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D8CA8-5F9F-4958-8EF4-C6A003376400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E2E3445-D6BB-4888-A8E8-4B392EBBA8DB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3 A Z=F(X) tétel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Bizonyítás: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f 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létezése következik a korábbi állításból;</a:t>
            </a: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Kövessük nyomon a program transzformá-cióját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Következmény:</a:t>
            </a:r>
            <a:br>
              <a:rPr sz="3200"/>
            </a:b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probléma „csak” 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megragadása mara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4191120" y="2813040"/>
          <a:ext cx="3657600" cy="2825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2813040"/>
                    <a:ext cx="3657600" cy="2825640"/>
                  </a:xfrm>
                  <a:prstGeom prst="rect">
                    <a:avLst/>
                  </a:prstGeom>
                  <a:ln w="12600">
                    <a:solidFill>
                      <a:srgbClr val="0000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21F4-A565-4062-A7CD-33E68595739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365422-01DD-4D85-8C02-A2154ACE691B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Típusfinomítás: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z algoritmus „felülről-lefelé”  elvének adatokra vonatkozó párja, vagyis az adatok dekomponálása megengedett struk-túrák felhasználásáva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Megengedett struktúrá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Direktszorzat-képzés (pl. rekor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Unió (pl. alternatív rekord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okaságképzés (pl. halmaz; tömb, file stb.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‘</a:t>
            </a: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Struktúra szerinti feldolgozás’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elve …</a:t>
            </a:r>
            <a:br>
              <a:rPr sz="3200"/>
            </a:b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8F00-6491-49BF-A0AF-F7151F0DE95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C65CF7-F545-4A23-9277-DDE42D659856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 algn="just"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Példa: 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egy személynyilvántartás..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just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. 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Típu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zemélyiÁllomány = 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SzemélyiAdat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 algn="ctr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Finomítás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Típu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zemélyiAdat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Rekord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név: Szöveg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 szsz: SzemélyiSzám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 osztály: OsztályNév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57360" y="4114800"/>
            <a:ext cx="8381880" cy="23918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B. </a:t>
            </a:r>
            <a:r>
              <a:rPr b="1" lang="da-DK" sz="2800" spc="-1" strike="noStrike">
                <a:solidFill>
                  <a:srgbClr val="000000"/>
                </a:solidFill>
                <a:latin typeface="Times New Roman"/>
              </a:rPr>
              <a:t>Típus 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SzemélyiÁllomány = </a:t>
            </a:r>
            <a:r>
              <a:rPr b="1" lang="da-DK" sz="2800" spc="-1" strike="noStrike">
                <a:solidFill>
                  <a:srgbClr val="000000"/>
                </a:solidFill>
                <a:latin typeface="Times New Roman"/>
              </a:rPr>
              <a:t>Tömb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(OsztályKód: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 Osztály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000000"/>
                </a:solidFill>
                <a:latin typeface="Times New Roman"/>
              </a:rPr>
              <a:t>Finomítása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spcBef>
                <a:spcPts val="349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da-DK" sz="2800" spc="-1" strike="noStrike">
                <a:solidFill>
                  <a:srgbClr val="000000"/>
                </a:solidFill>
                <a:latin typeface="Times New Roman"/>
              </a:rPr>
              <a:t>Típus 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Osztály=</a:t>
            </a:r>
            <a:r>
              <a:rPr b="1" lang="da-DK" sz="2800" spc="-1" strike="noStrike">
                <a:solidFill>
                  <a:srgbClr val="000000"/>
                </a:solidFill>
                <a:latin typeface="Times New Roman"/>
              </a:rPr>
              <a:t>Rekord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(oszt: OsztályNév</a:t>
            </a:r>
            <a:br>
              <a:rPr sz="2800"/>
            </a:b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   dolgozók: </a:t>
            </a:r>
            <a:r>
              <a:rPr b="1" lang="da-DK" sz="28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da-DK" sz="2800" spc="-1" strike="noStrike">
                <a:solidFill>
                  <a:srgbClr val="000000"/>
                </a:solidFill>
                <a:latin typeface="Times New Roman"/>
              </a:rPr>
              <a:t>(Személy)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394B-7C18-435C-87FA-41647E8D0F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EC2B437-0D27-401F-9499-CFC539BF2309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eladat: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dott nevű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‘Nagy István’)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zemélyek kigyűjtése…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1" i="1" lang="hu-HU" sz="2800" spc="-1" strike="noStrike">
                <a:solidFill>
                  <a:srgbClr val="ffffcc"/>
                </a:solidFill>
                <a:latin typeface="Times New Roman"/>
              </a:rPr>
              <a:t>Uf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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X.osztály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     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Hossz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=</a:t>
            </a: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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i="1" lang="hu-HU" sz="28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.név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’Nagy István’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…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Típus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Bemenet=SzemélyiÁllomány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   Kimenet=NagyIk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ahol  NagyIk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OsztályNév)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Majdnem </a:t>
            </a:r>
            <a:r>
              <a:rPr b="1" i="1" lang="da-DK" sz="2800" spc="-1" strike="noStrike">
                <a:solidFill>
                  <a:srgbClr val="ffffcc"/>
                </a:solidFill>
                <a:latin typeface="Times New Roman"/>
              </a:rPr>
              <a:t>Típusinvariáns”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Y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NagyIk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X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Bement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y=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x.osztály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x.név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’Nagy István’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Változó</a:t>
            </a:r>
            <a:br>
              <a:rPr sz="2800"/>
            </a:b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X:SzemélyiÁllomány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Y:NagyIk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50B49-53DA-4819-BE93-04C8509DAC63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D146B1-1CFC-49E1-B702-C95801889B63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/1. megoldás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Struktúra szerinti feldolgozá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elvét a </a:t>
            </a:r>
            <a:r>
              <a:rPr b="0" lang="da-DK" sz="2800" spc="-1" strike="noStrike">
                <a:solidFill>
                  <a:srgbClr val="ff99ff"/>
                </a:solidFill>
                <a:latin typeface="Times New Roman"/>
              </a:rPr>
              <a:t>bemenet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re alkalmazva az algoritmus finomítása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zemélyiÁllomány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Ciklus amíg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zemélyiAdat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Rekord 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0000ff"/>
                </a:solidFill>
                <a:latin typeface="Times New Roman"/>
              </a:rPr>
              <a:t>mezők </a:t>
            </a:r>
            <a:r>
              <a:rPr b="1" lang="da-DK" sz="2800" spc="-1" strike="noStrike">
                <a:solidFill>
                  <a:srgbClr val="0000ff"/>
                </a:solidFill>
                <a:latin typeface="Times New Roman"/>
              </a:rPr>
              <a:t>szekvenciá</a:t>
            </a:r>
            <a:r>
              <a:rPr b="0" lang="da-DK" sz="2800" spc="-1" strike="noStrike">
                <a:solidFill>
                  <a:srgbClr val="0000ff"/>
                </a:solidFill>
                <a:latin typeface="Times New Roman"/>
              </a:rPr>
              <a:t>ja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33520" y="3276720"/>
            <a:ext cx="6324480" cy="32673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Nyit(X,...); Nyit(Y,...)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iklus amíg nem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ége?(X)</a:t>
            </a:r>
            <a:br>
              <a:rPr sz="1800"/>
            </a:br>
            <a:r>
              <a:rPr b="0" lang="da-DK" sz="1800" spc="-1" strike="noStrike" baseline="30000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800" spc="-1" strike="noStrike">
                <a:solidFill>
                  <a:srgbClr val="0000ff"/>
                </a:solidFill>
                <a:latin typeface="Courier New"/>
              </a:rPr>
              <a:t>Olvas(X,szem)</a:t>
            </a:r>
            <a:br>
              <a:rPr sz="1800"/>
            </a:br>
            <a:r>
              <a:rPr b="0" lang="da-DK" sz="1800" spc="-1" strike="noStrike" baseline="-25000">
                <a:solidFill>
                  <a:srgbClr val="0000ff"/>
                </a:solidFill>
                <a:latin typeface="Courier New"/>
              </a:rPr>
              <a:t>   </a:t>
            </a:r>
            <a:r>
              <a:rPr b="0" lang="da-DK" sz="1800" spc="-1" strike="noStrike">
                <a:solidFill>
                  <a:srgbClr val="0000ff"/>
                </a:solidFill>
                <a:latin typeface="Courier New"/>
              </a:rPr>
              <a:t>neve:=szem.név</a:t>
            </a:r>
            <a:br>
              <a:rPr sz="1800"/>
            </a:br>
            <a:r>
              <a:rPr b="0" lang="hu-HU" sz="1800" spc="-1" strike="noStrike">
                <a:solidFill>
                  <a:srgbClr val="0000ff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ff"/>
                </a:solidFill>
                <a:latin typeface="Courier New"/>
              </a:rPr>
              <a:t>oszt:=szem.osztály</a:t>
            </a:r>
            <a:br>
              <a:rPr sz="1800"/>
            </a:br>
            <a:r>
              <a:rPr b="0" lang="da-DK" sz="1800" spc="-1" strike="noStrike">
                <a:solidFill>
                  <a:srgbClr val="0000ff"/>
                </a:solidFill>
                <a:latin typeface="Courier New"/>
              </a:rPr>
              <a:t>  ÍrHaKell(neve,oszt)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Zár(X);</a:t>
            </a:r>
            <a:r>
              <a:rPr b="0" lang="da-DK" sz="1800" spc="-1" strike="noStrike" baseline="30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Zár(Y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ljárás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ÍrHaKell(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Konstans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n:Szöveg, 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hu-H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oszt:OsztályNév):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Ha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n='Nagy István'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akkor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Ír(Y,oszt)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Eljárás vég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3355920"/>
            <a:ext cx="4572000" cy="13269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ípus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SzemélyiÁllomány=</a:t>
            </a: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SzemélyiAdat)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SzemélyiAdat=</a:t>
            </a: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Rekord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név: Szöveg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szsz: SzemélyiSzám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       osztály: OsztályNév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33520" y="5381640"/>
            <a:ext cx="6172200" cy="1440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86400" y="5072040"/>
            <a:ext cx="3643200" cy="9014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TI+Uf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név</a:t>
            </a:r>
            <a:r>
              <a:rPr b="0" lang="da-DK" sz="1800" spc="-1" strike="noStrike">
                <a:solidFill>
                  <a:srgbClr val="663300"/>
                </a:solidFill>
                <a:latin typeface="Symbol"/>
                <a:ea typeface="Symbol"/>
              </a:rPr>
              <a:t>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’Nagy István’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663300"/>
                </a:solidFill>
                <a:latin typeface="Symbol"/>
                <a:ea typeface="Symbol"/>
              </a:rPr>
              <a:t>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név</a:t>
            </a:r>
            <a:r>
              <a:rPr b="0" lang="hu-HU" sz="1800" spc="-1" strike="noStrike">
                <a:solidFill>
                  <a:srgbClr val="663300"/>
                </a:solidFill>
                <a:latin typeface="Times New Roman"/>
              </a:rPr>
              <a:t>=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’Nagy István’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i="1" lang="hu-HU" sz="1800" spc="-1" strike="noStrike">
                <a:solidFill>
                  <a:srgbClr val="663300"/>
                </a:solidFill>
                <a:latin typeface="Times New Roman"/>
              </a:rPr>
              <a:t>osztály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28880" y="5915160"/>
            <a:ext cx="4991040" cy="33336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77D9-540B-4F87-B9D3-835C8C49A26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EF8A18-B1DC-49C8-B361-B11AA8339255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./2 megoldás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Struktúra szerinti feldolgozá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elvét a </a:t>
            </a:r>
            <a:r>
              <a:rPr b="0" lang="da-DK" sz="2800" spc="-1" strike="noStrike">
                <a:solidFill>
                  <a:srgbClr val="ff99ff"/>
                </a:solidFill>
                <a:latin typeface="Times New Roman"/>
              </a:rPr>
              <a:t>kimenet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re alkalmazva az algoritmus finomítása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NagyIk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Ciklus amíg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OsztályNév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Unio 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0000ff"/>
                </a:solidFill>
                <a:latin typeface="Times New Roman"/>
              </a:rPr>
              <a:t>elágazás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Típusinv.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+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Uf.)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14520" y="3432240"/>
            <a:ext cx="7310160" cy="16912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95000"/>
              </a:lnSpc>
              <a:spcBef>
                <a:spcPts val="11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Nyit(X,...); Nyit(Y,...)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iklus amíg nem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Vége?(</a:t>
            </a:r>
            <a:r>
              <a:rPr b="1" lang="da-DK" sz="1800" spc="-1" strike="noStrike">
                <a:solidFill>
                  <a:srgbClr val="ff3300"/>
                </a:solidFill>
                <a:latin typeface="Courier New"/>
              </a:rPr>
              <a:t>X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800"/>
            </a:br>
            <a:r>
              <a:rPr b="0" lang="da-DK" sz="1800" spc="-1" strike="noStrike" baseline="30000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Olvas(X,szem)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800" spc="-1" strike="noStrike" baseline="-25000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800" spc="-1" strike="noStrike">
                <a:solidFill>
                  <a:srgbClr val="0000ff"/>
                </a:solidFill>
                <a:latin typeface="Courier New"/>
              </a:rPr>
              <a:t>Ha </a:t>
            </a:r>
            <a:r>
              <a:rPr b="0" lang="da-DK" sz="1800" spc="-1" strike="noStrike">
                <a:solidFill>
                  <a:srgbClr val="0000ff"/>
                </a:solidFill>
                <a:latin typeface="Courier New"/>
              </a:rPr>
              <a:t>szem.név='Nagy István' </a:t>
            </a:r>
            <a:r>
              <a:rPr b="1" lang="da-DK" sz="1800" spc="-1" strike="noStrike">
                <a:solidFill>
                  <a:srgbClr val="0000ff"/>
                </a:solidFill>
                <a:latin typeface="Courier New"/>
              </a:rPr>
              <a:t>akkor </a:t>
            </a:r>
            <a:r>
              <a:rPr b="0" lang="da-DK" sz="1800" spc="-1" strike="noStrike">
                <a:solidFill>
                  <a:srgbClr val="0000ff"/>
                </a:solidFill>
                <a:latin typeface="Courier New"/>
              </a:rPr>
              <a:t>Ír(Y,szem.oszt)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Zár(X);</a:t>
            </a:r>
            <a:r>
              <a:rPr b="0" lang="da-DK" sz="1800" spc="-1" strike="noStrike" baseline="30000">
                <a:solidFill>
                  <a:srgbClr val="000000"/>
                </a:solidFill>
                <a:latin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Zár(Y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6500880" y="4529160"/>
            <a:ext cx="2509920" cy="146232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374760"/>
                <a:tab algn="l" pos="76500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TI+Uf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név</a:t>
            </a:r>
            <a:r>
              <a:rPr b="0" lang="da-DK" sz="1800" spc="-1" strike="noStrike">
                <a:solidFill>
                  <a:srgbClr val="663300"/>
                </a:solidFill>
                <a:latin typeface="Symbol"/>
                <a:ea typeface="Symbol"/>
              </a:rPr>
              <a:t>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’Nagy István’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663300"/>
                </a:solidFill>
                <a:latin typeface="Symbol"/>
                <a:ea typeface="Symbol"/>
              </a:rPr>
              <a:t>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név</a:t>
            </a:r>
            <a:r>
              <a:rPr b="0" lang="hu-HU" sz="1800" spc="-1" strike="noStrike">
                <a:solidFill>
                  <a:srgbClr val="663300"/>
                </a:solidFill>
                <a:latin typeface="Times New Roman"/>
              </a:rPr>
              <a:t>=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’Nagy István’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i="1" lang="hu-HU" sz="1800" spc="-1" strike="noStrike">
                <a:solidFill>
                  <a:srgbClr val="663300"/>
                </a:solidFill>
                <a:latin typeface="Times New Roman"/>
              </a:rPr>
              <a:t>osztál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114560" y="4224240"/>
            <a:ext cx="6581520" cy="3049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43760" y="3294000"/>
            <a:ext cx="2895480" cy="83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ípus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NagyIk = </a:t>
            </a: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OsztályNév)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[</a:t>
            </a: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TI: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..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3697E-9837-4108-9C86-67C057E7CBE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FDBC79-E8BB-4736-9F86-751F01F05E56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B/1. megoldás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Struktúra szerinti feldolgozá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elve a </a:t>
            </a:r>
            <a:r>
              <a:rPr b="0" lang="da-DK" sz="2800" spc="-1" strike="noStrike">
                <a:solidFill>
                  <a:srgbClr val="ff99ff"/>
                </a:solidFill>
                <a:latin typeface="Times New Roman"/>
              </a:rPr>
              <a:t>bemenet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re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zemélyiÁllomány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Tömb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Ciklu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Osztály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Rekord 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0000ff"/>
                </a:solidFill>
                <a:latin typeface="Times New Roman"/>
              </a:rPr>
              <a:t>mezők </a:t>
            </a:r>
            <a:r>
              <a:rPr b="1" lang="da-DK" sz="2800" spc="-1" strike="noStrike">
                <a:solidFill>
                  <a:srgbClr val="0000ff"/>
                </a:solidFill>
                <a:latin typeface="Times New Roman"/>
              </a:rPr>
              <a:t>szekvenciá</a:t>
            </a:r>
            <a:r>
              <a:rPr b="0" lang="da-DK" sz="2800" spc="-1" strike="noStrike">
                <a:solidFill>
                  <a:srgbClr val="0000ff"/>
                </a:solidFill>
                <a:latin typeface="Times New Roman"/>
              </a:rPr>
              <a:t>ja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 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dolgozók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ile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ff9933"/>
                </a:solidFill>
                <a:latin typeface="Times New Roman"/>
              </a:rPr>
              <a:t>Ciklus amíg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3520" y="3429000"/>
            <a:ext cx="7315200" cy="2729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10800" bIns="10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Nyit(Y,</a:t>
            </a:r>
            <a:r>
              <a:rPr b="0" lang="da-DK" sz="1700" spc="-1" strike="noStrike" baseline="-25000">
                <a:solidFill>
                  <a:srgbClr val="000000"/>
                </a:solidFill>
                <a:latin typeface="Courier New"/>
              </a:rPr>
              <a:t>-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Ciklus 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o=</a:t>
            </a: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Min'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OsztályKód</a:t>
            </a: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-tól Max'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OsztályKód</a:t>
            </a: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-ig</a:t>
            </a:r>
            <a:br>
              <a:rPr sz="1700"/>
            </a:br>
            <a:r>
              <a:rPr b="0" lang="da-DK" sz="1700" spc="-1" strike="noStrike" baseline="30000">
                <a:solidFill>
                  <a:srgbClr val="000000"/>
                </a:solidFill>
                <a:latin typeface="Courier New"/>
              </a:rPr>
              <a:t>  </a:t>
            </a:r>
            <a:r>
              <a:rPr b="0" lang="hu-HU" sz="1700" spc="-1" strike="noStrike">
                <a:solidFill>
                  <a:srgbClr val="0000ff"/>
                </a:solidFill>
                <a:latin typeface="Courier New"/>
              </a:rPr>
              <a:t>on:=X(o).oszt; o:=X</a:t>
            </a:r>
            <a:r>
              <a:rPr b="0" lang="da-DK" sz="1700" spc="-1" strike="noStrike">
                <a:solidFill>
                  <a:srgbClr val="0000ff"/>
                </a:solidFill>
                <a:latin typeface="Courier New"/>
              </a:rPr>
              <a:t>(o)</a:t>
            </a:r>
            <a:r>
              <a:rPr b="0" lang="hu-HU" sz="1700" spc="-1" strike="noStrike">
                <a:solidFill>
                  <a:srgbClr val="0000ff"/>
                </a:solidFill>
                <a:latin typeface="Courier New"/>
              </a:rPr>
              <a:t>.dolgozók; N</a:t>
            </a:r>
            <a:r>
              <a:rPr b="0" lang="da-DK" sz="1700" spc="-1" strike="noStrike">
                <a:solidFill>
                  <a:srgbClr val="0000ff"/>
                </a:solidFill>
                <a:latin typeface="Courier New"/>
              </a:rPr>
              <a:t>agyokKiírása(</a:t>
            </a:r>
            <a:r>
              <a:rPr b="0" lang="hu-HU" sz="1700" spc="-1" strike="noStrike">
                <a:solidFill>
                  <a:srgbClr val="0000ff"/>
                </a:solidFill>
                <a:latin typeface="Courier New"/>
              </a:rPr>
              <a:t>o</a:t>
            </a:r>
            <a:r>
              <a:rPr b="0" lang="da-DK" sz="17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0" lang="hu-HU" sz="1700" spc="-1" strike="noStrike">
                <a:solidFill>
                  <a:srgbClr val="0000ff"/>
                </a:solidFill>
                <a:latin typeface="Courier New"/>
              </a:rPr>
              <a:t>on,</a:t>
            </a:r>
            <a:r>
              <a:rPr b="0" lang="da-DK" sz="1700" spc="-1" strike="noStrike">
                <a:solidFill>
                  <a:srgbClr val="0000ff"/>
                </a:solidFill>
                <a:latin typeface="Courier New"/>
              </a:rPr>
              <a:t>Y)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Ciklus</a:t>
            </a:r>
            <a:r>
              <a:rPr b="1" lang="hu-HU" sz="17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vége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Zár(Y)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Eljárás 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NagyokKiírása(</a:t>
            </a:r>
            <a:r>
              <a:rPr b="1" lang="hu-HU" sz="1700" spc="-1" strike="noStrike">
                <a:solidFill>
                  <a:srgbClr val="000000"/>
                </a:solidFill>
                <a:latin typeface="Courier New"/>
              </a:rPr>
              <a:t>… 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: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…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on:…, 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Y… ):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   Nyit(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,input)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a-DK" sz="1700" spc="-1" strike="noStrike">
                <a:solidFill>
                  <a:srgbClr val="ff9933"/>
                </a:solidFill>
                <a:latin typeface="Courier New"/>
              </a:rPr>
              <a:t>Ciklus amíg nem </a:t>
            </a:r>
            <a:r>
              <a:rPr b="0" lang="da-DK" sz="1700" spc="-1" strike="noStrike">
                <a:solidFill>
                  <a:srgbClr val="ff9933"/>
                </a:solidFill>
                <a:latin typeface="Courier New"/>
              </a:rPr>
              <a:t>Vége?(</a:t>
            </a:r>
            <a:r>
              <a:rPr b="0" lang="hu-HU" sz="1700" spc="-1" strike="noStrike">
                <a:solidFill>
                  <a:srgbClr val="ff9933"/>
                </a:solidFill>
                <a:latin typeface="Courier New"/>
              </a:rPr>
              <a:t>f</a:t>
            </a:r>
            <a:r>
              <a:rPr b="0" lang="da-DK" sz="1700" spc="-1" strike="noStrike">
                <a:solidFill>
                  <a:srgbClr val="ff9933"/>
                </a:solidFill>
                <a:latin typeface="Courier New"/>
              </a:rPr>
              <a:t>)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700" spc="-1" strike="noStrike">
                <a:solidFill>
                  <a:srgbClr val="ff9933"/>
                </a:solidFill>
                <a:latin typeface="Courier New"/>
              </a:rPr>
              <a:t>      … 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ff9933"/>
                </a:solidFill>
                <a:latin typeface="Courier New"/>
              </a:rPr>
              <a:t>   </a:t>
            </a:r>
            <a:r>
              <a:rPr b="1" lang="da-DK" sz="1700" spc="-1" strike="noStrike">
                <a:solidFill>
                  <a:srgbClr val="ff9933"/>
                </a:solidFill>
                <a:latin typeface="Courier New"/>
              </a:rPr>
              <a:t>Ciklus vége</a:t>
            </a:r>
            <a:br>
              <a:rPr sz="1700"/>
            </a:br>
            <a:r>
              <a:rPr b="0" lang="da-DK" sz="1700" spc="-1" strike="noStrike" baseline="-25000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 Zár(</a:t>
            </a:r>
            <a:r>
              <a:rPr b="0" lang="hu-HU" sz="1700" spc="-1" strike="noStrike">
                <a:solidFill>
                  <a:srgbClr val="000000"/>
                </a:solidFill>
                <a:latin typeface="Courier New"/>
              </a:rPr>
              <a:t>f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)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Eljárás vége.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181480" y="4876920"/>
            <a:ext cx="3981600" cy="15588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spcBef>
                <a:spcPts val="213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700" spc="-1" strike="noStrike">
                <a:solidFill>
                  <a:srgbClr val="000000"/>
                </a:solidFill>
                <a:latin typeface="Times New Roman"/>
              </a:rPr>
              <a:t>Típus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SzemélyiÁllomány = </a:t>
            </a:r>
            <a:r>
              <a:rPr b="1" lang="da-DK" sz="1700" spc="-1" strike="noStrike">
                <a:solidFill>
                  <a:srgbClr val="000000"/>
                </a:solidFill>
                <a:latin typeface="Times New Roman"/>
              </a:rPr>
              <a:t>Tömb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(OsztályKód: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Osztály)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213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Osztály=</a:t>
            </a:r>
            <a:r>
              <a:rPr b="1" lang="da-DK" sz="1700" spc="-1" strike="noStrike">
                <a:solidFill>
                  <a:srgbClr val="000000"/>
                </a:solidFill>
                <a:latin typeface="Times New Roman"/>
              </a:rPr>
              <a:t>Rekord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(oszt: OsztályNév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               dolgozók: </a:t>
            </a:r>
            <a:r>
              <a:rPr b="1" lang="da-DK" sz="17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da-DK" sz="1700" spc="-1" strike="noStrike">
                <a:solidFill>
                  <a:srgbClr val="000000"/>
                </a:solidFill>
                <a:latin typeface="Times New Roman"/>
              </a:rPr>
              <a:t>(Személy))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33520" y="4595760"/>
            <a:ext cx="7315200" cy="0"/>
          </a:xfrm>
          <a:prstGeom prst="line">
            <a:avLst/>
          </a:prstGeom>
          <a:ln cap="rnd" w="38160">
            <a:solidFill>
              <a:srgbClr val="ff99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00008-9BCA-44A5-B8A9-8E27C391AD08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EB223C-6F58-474E-BCDB-C406EC7BBDB1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B./2 megoldás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Struktúra szerinti feldolgozá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elve a </a:t>
            </a:r>
            <a:r>
              <a:rPr b="0" lang="da-DK" sz="2800" spc="-1" strike="noStrike">
                <a:solidFill>
                  <a:srgbClr val="ff99ff"/>
                </a:solidFill>
                <a:latin typeface="Times New Roman"/>
              </a:rPr>
              <a:t>kimenet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 NagyIk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Ciklus amíg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OsztályNév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Unio 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0000ff"/>
                </a:solidFill>
                <a:latin typeface="Times New Roman"/>
              </a:rPr>
              <a:t>elágazás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Típusinv.+Uf.)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80880" y="2895480"/>
            <a:ext cx="6096240" cy="23868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Nyit(Y,..)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o:=Min'OsztályKód; Nyit(X(o).dolgozók,input)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Ciklus amíg 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o&lt;Max'OsztályKód </a:t>
            </a: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vagy</a:t>
            </a:r>
            <a:br>
              <a:rPr sz="1700"/>
            </a:br>
            <a:r>
              <a:rPr b="0" lang="da-DK" sz="1700" spc="-1" strike="noStrike" baseline="30000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700" spc="-1" strike="noStrike" baseline="30000">
                <a:solidFill>
                  <a:srgbClr val="000000"/>
                </a:solidFill>
                <a:latin typeface="Courier New"/>
              </a:rPr>
              <a:t>           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o=Max'OsztályKód </a:t>
            </a: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és nem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Vége?(X(o).dolgozók)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    KövetkezőSzem(szem,osztály,o)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    neve:=szem.név</a:t>
            </a:r>
            <a:br>
              <a:rPr sz="1700"/>
            </a:br>
            <a:r>
              <a:rPr b="0" lang="da-DK" sz="1700" spc="-1" strike="noStrike" baseline="-25000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a-DK" sz="1700" spc="-1" strike="noStrike">
                <a:solidFill>
                  <a:srgbClr val="0000ff"/>
                </a:solidFill>
                <a:latin typeface="Courier New"/>
              </a:rPr>
              <a:t>ÍrHaKell(neve,osztály)</a:t>
            </a:r>
            <a:br>
              <a:rPr sz="1700"/>
            </a:br>
            <a:r>
              <a:rPr b="1" lang="da-DK" sz="17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1700"/>
            </a:br>
            <a:r>
              <a:rPr b="0" lang="da-DK" sz="1700" spc="-1" strike="noStrike">
                <a:solidFill>
                  <a:srgbClr val="000000"/>
                </a:solidFill>
                <a:latin typeface="Courier New"/>
              </a:rPr>
              <a:t>Zár(Y); Zár(X(o).dolgozók)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172200" y="2943360"/>
            <a:ext cx="2895480" cy="83376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Típus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NagyIk = </a:t>
            </a:r>
            <a:r>
              <a:rPr b="1" lang="da-DK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(OsztályNév)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   [</a:t>
            </a: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TI: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...]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5033880" y="4116240"/>
            <a:ext cx="4038840" cy="177192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0" tIns="10800" bIns="10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Eljárás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KövetkezőSzem(sz..,on..,o..):</a:t>
            </a:r>
            <a:br>
              <a:rPr sz="1400"/>
            </a:br>
            <a:r>
              <a:rPr b="0" lang="da-DK" sz="1400" spc="-1" strike="noStrike" baseline="-25000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Ha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Vége?(X(o).dolgozók)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akkor</a:t>
            </a:r>
            <a:br>
              <a:rPr sz="1400"/>
            </a:b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Zár(X(o).dolgozók)</a:t>
            </a:r>
            <a:br>
              <a:rPr sz="1400"/>
            </a:b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o:=Köv(o)</a:t>
            </a:r>
            <a:br>
              <a:rPr sz="1400"/>
            </a:b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     Nyit(X(o).dolgozók,input)</a:t>
            </a:r>
            <a:br>
              <a:rPr sz="1400"/>
            </a:b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Elágazás vége</a:t>
            </a:r>
            <a:br>
              <a:rPr sz="1400"/>
            </a:b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Olvas(X(o).dolgozók,sz) [</a:t>
            </a:r>
            <a:r>
              <a:rPr b="0" lang="da-DK" sz="1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1 elem]</a:t>
            </a:r>
            <a:br>
              <a:rPr sz="1400"/>
            </a:br>
            <a:r>
              <a:rPr b="0" lang="da-DK" sz="1400" spc="-1" strike="noStrike">
                <a:solidFill>
                  <a:srgbClr val="000000"/>
                </a:solidFill>
                <a:latin typeface="Courier New"/>
              </a:rPr>
              <a:t>   on:=X(o).oszt</a:t>
            </a:r>
            <a:br>
              <a:rPr sz="1400"/>
            </a:br>
            <a:r>
              <a:rPr b="1" lang="da-DK" sz="1400" spc="-1" strike="noStrike">
                <a:solidFill>
                  <a:srgbClr val="000000"/>
                </a:solidFill>
                <a:latin typeface="Courier New"/>
              </a:rPr>
              <a:t>Eljárás vége. 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5365800"/>
            <a:ext cx="2895480" cy="130968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800" spc="-1" strike="noStrike">
                <a:solidFill>
                  <a:srgbClr val="000000"/>
                </a:solidFill>
                <a:latin typeface="Times New Roman"/>
              </a:rPr>
              <a:t>TI+Uf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név</a:t>
            </a:r>
            <a:r>
              <a:rPr b="0" lang="da-DK" sz="1800" spc="-1" strike="noStrike">
                <a:solidFill>
                  <a:srgbClr val="663300"/>
                </a:solidFill>
                <a:latin typeface="Symbol"/>
                <a:ea typeface="Symbol"/>
              </a:rPr>
              <a:t>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’Nagy István’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da-DK" sz="1800" spc="-1" strike="noStrike">
                <a:solidFill>
                  <a:srgbClr val="663300"/>
                </a:solidFill>
                <a:latin typeface="Symbol"/>
                <a:ea typeface="Symbol"/>
              </a:rPr>
              <a:t></a:t>
            </a:r>
            <a:br>
              <a:rPr sz="1800"/>
            </a:b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név</a:t>
            </a:r>
            <a:r>
              <a:rPr b="0" lang="hu-HU" sz="1800" spc="-1" strike="noStrike">
                <a:solidFill>
                  <a:srgbClr val="663300"/>
                </a:solidFill>
                <a:latin typeface="Times New Roman"/>
              </a:rPr>
              <a:t>=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’Nagy István’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 y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1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i="1" lang="hu-HU" sz="1800" spc="-1" strike="noStrike" baseline="-25000">
                <a:solidFill>
                  <a:srgbClr val="000000"/>
                </a:solidFill>
                <a:latin typeface="Times New Roman"/>
              </a:rPr>
              <a:t>i </a:t>
            </a:r>
            <a:r>
              <a:rPr b="0" i="1" lang="da-DK" sz="1800" spc="-1" strike="noStrike">
                <a:solidFill>
                  <a:srgbClr val="663300"/>
                </a:solidFill>
                <a:latin typeface="Times New Roman"/>
              </a:rPr>
              <a:t>.</a:t>
            </a:r>
            <a:r>
              <a:rPr b="0" i="1" lang="hu-HU" sz="1800" spc="-1" strike="noStrike">
                <a:solidFill>
                  <a:srgbClr val="663300"/>
                </a:solidFill>
                <a:latin typeface="Times New Roman"/>
              </a:rPr>
              <a:t>osztály</a:t>
            </a:r>
            <a:r>
              <a:rPr b="0" lang="da-DK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62120" y="4495680"/>
            <a:ext cx="3200400" cy="304920"/>
          </a:xfrm>
          <a:prstGeom prst="rect">
            <a:avLst/>
          </a:prstGeom>
          <a:noFill/>
          <a:ln w="2844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3952800" y="4786200"/>
            <a:ext cx="0" cy="609840"/>
          </a:xfrm>
          <a:prstGeom prst="line">
            <a:avLst/>
          </a:prstGeom>
          <a:ln w="28440">
            <a:solidFill>
              <a:srgbClr val="ffcc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A0DFB-40C3-472E-B8C7-D0049CA00D0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F57A89-61D5-49DD-8D68-DDB436F1F92F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Tartalom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1. Adatfeldolgozás problémája, alapfogalm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1 Adatfeldolgozás típusfeladata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2 Elemenkénti feldolgozhatósá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3 A Z=F(X) tét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4 Típusfinomítás, struktúramegfelelte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2. Struktúramegfeleltetés konfliktusa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1 Tagolás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2 Összefonódás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3 Rendezetlenség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3. Időszerűsít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3.1 Megoldása a Z=F(x) tétel alapjá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3.2 Megoldása összefuttatáss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FC6F-6377-4619-8B12-F49B8BA39234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C436EC-C550-4F0B-86A3-FAADAE4BFD27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Következtetése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nem egyértelmű a típusfinomítás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program szerkezete függ a típusfinomítástól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kár az input, akár az output alapján végezhető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felismerhető a Z=F(X) algoritmusa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lyiket válasszuk?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legtöbb információt hordozó finomítást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leghatékonyabban megvalósítható adatszer-kezetet…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64D52-871F-4451-B92A-E8D6500477C8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FD681B-BA17-4B10-8CA6-7F0FAA86AFF7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Különbségekről, hasonlatosságokró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z A-megoldások közeliek, a B-beliek n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Ok:</a:t>
            </a: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z A-beli típusfinomításban a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bemenet és a kimenet közel állnak strukturálisan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, míg a B-beliben ne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219320" y="4191120"/>
          <a:ext cx="7176960" cy="21970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4191120"/>
                    <a:ext cx="7176960" cy="2197080"/>
                  </a:xfrm>
                  <a:prstGeom prst="rect">
                    <a:avLst/>
                  </a:prstGeom>
                  <a:ln w="1260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80" name=""/>
          <p:cNvSpPr/>
          <p:nvPr/>
        </p:nvSpPr>
        <p:spPr>
          <a:xfrm>
            <a:off x="685800" y="1295280"/>
            <a:ext cx="7916760" cy="269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74760" indent="-3747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74760" indent="-374760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Struktúramegfeleltetés:</a:t>
            </a:r>
            <a:br>
              <a:rPr sz="32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a bemenet és a kimenet összes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datstruktúráinak szintenkénti „szuperstruktúrává”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egyesíté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5DE98-2B0D-4B91-B836-9AF75C97E96B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9A02FB-429F-4C02-96C7-87B6A5DAF085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Struktúramegfeleltetéses példa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Feladat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Egy egyetem személyi adatnyilvántartásának kilistázás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1. Megoldás: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hierarchikus szerkezet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da-DK" sz="2000" spc="-1" strike="noStrike">
                <a:solidFill>
                  <a:srgbClr val="ffffcc"/>
                </a:solidFill>
                <a:latin typeface="Courier New"/>
              </a:rPr>
              <a:t>finomítási sorrendben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]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Egyetem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zöveg,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Kar)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Ka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 c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TCs)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TCs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 t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TSz)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TSz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 d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Dolgozó)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Dolgozó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beoszt:TBeosztás, fizu:Egész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Beosztás=(Tanseg,Adj,Doc,Egyta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6F936-8699-4B74-934D-E4FB96EC8DF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D9D656-0EFF-49C1-B414-53E243D6E0AE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362240"/>
            <a:ext cx="8229600" cy="496224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istáz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e:TEgyetem, lNév:Szöveg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Ef: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i="1" lang="da-DK" sz="2000" spc="-1" strike="noStrike">
                <a:solidFill>
                  <a:srgbClr val="ffffcc"/>
                </a:solidFill>
                <a:latin typeface="Courier New"/>
              </a:rPr>
              <a:t>e.név: ki van töltv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:TKa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:OutSzövegFi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l,lNév); SorÍr(l, ’Egyetem: ’+e.né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e.kAdat,e.név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Vége?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e.k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Olvas(e.kAdat,k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KariLista(k,l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e.k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76440" y="1523880"/>
            <a:ext cx="792468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Egyetem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Szöveg,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Kar)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AA9F-2622-45AA-BBF9-3820A457019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BFD20B-8092-4375-A6C7-4B2C18830216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ariLista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:TKar, l:OutSzövegFile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Ef: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k.név ki van töltve, l meg van nyitva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c:TTC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Kar: ’+k.név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k.cAdat,k.név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Vége?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k.c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Olvas(k.cAdat,tc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TanszékcsoportiLista(tc,l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k.c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l nyitva marad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76440" y="1584360"/>
            <a:ext cx="792468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Ka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c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TCs)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0B032-4BA9-4420-BE4C-803750B1F03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C3108-9032-4ACC-9E28-03D134D749A8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440" y="1366920"/>
            <a:ext cx="8458200" cy="48816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anszékcsoportiLista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c:TTCs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l:OutSzövegFile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Ef: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tc.név ki van töltve, l meg van nyitva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:TTS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tc.tAdat,tc.né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Tanszékcsoport: ’+tc.név)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Vége?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c.t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Olvas(tc.tAdat,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TanszékiLista(t,l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tc.t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l nyitva marad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76440" y="1523880"/>
            <a:ext cx="792468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TCs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t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TSz)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75E1-E96E-4DCF-9C16-91B570CB5C06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0C1742-DDF4-4339-AE5A-8A7402424D61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380600"/>
            <a:ext cx="8229600" cy="48675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anszékiLista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:TTSz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:OutSzövegFile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Ef: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t.név ki van töltve, l meg van nyitva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d:TDolgozó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t.dAdat,t.né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Tanszék: ’+t.név)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Vége?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.d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Olvas(t.dAdat,d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DolgozóiLista(d,l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t,d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l nyitva marad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76440" y="1427040"/>
            <a:ext cx="808668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TSz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d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Dolgozó)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54F9E-69B0-4810-BA17-2D292F43975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51276A-11CF-4809-8AB0-F3877AAD35AE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85800" y="13237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DolgozóiLista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d:TDolgozó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:OutSzövegFile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400" spc="-1" strike="noStrike">
                <a:solidFill>
                  <a:srgbClr val="ffffcc"/>
                </a:solidFill>
                <a:latin typeface="Courier New"/>
              </a:rPr>
              <a:t>Ef:</a:t>
            </a:r>
            <a:r>
              <a:rPr b="0" lang="hu-HU" sz="24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d ki van töltve, l meg van nyitva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Dolgozó: ’+d.név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         ’+d.beosztás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         ’+d.fizu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l nyitva marad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676440" y="1552680"/>
            <a:ext cx="8086680" cy="703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Dolgozó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zöveg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beoszt:TBeosztás,fizu:Egész)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3A0E-8BF2-4D02-9CF2-7D21AD9F912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B7363B-2ADD-46CB-B0D2-6B100A0820B2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2. Megoldás: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[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„monolitikus”,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~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1-szintes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]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Egyetem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S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zöveg </a:t>
            </a:r>
            <a:br>
              <a:rPr sz="2000"/>
            </a:b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d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Dolgozó)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Dolgozó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kNév,cNév,tNév:Szöveg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név:Szöveg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beoszt:TBeosztás, fizu:Egész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Beosztás=(Tanseg,Adj,Doc,Egytan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FCCE-5824-4941-B787-AE8A8A6FA02E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B53B5C-F2F2-433F-9576-123C57083557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istáz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e:TEgyetem, lNév:Szöveg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Ef: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i="1" lang="da-DK" sz="2000" spc="-1" strike="noStrike">
                <a:solidFill>
                  <a:srgbClr val="ffffcc"/>
                </a:solidFill>
                <a:latin typeface="Courier New"/>
              </a:rPr>
              <a:t>e.név: ki van töltv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d:TDologozó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:OutSzövegFi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l,lNév); SorÍr(l, ’Egyetem: ’+e.né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e.dAdat,e.név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Vége?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e.d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Olvas(e.dAdat,d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DolgozóiLista(k,l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e.d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l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76440" y="1432080"/>
            <a:ext cx="8238960" cy="39888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Egyetem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név: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Szöveg,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dAdat: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TDolgozó)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5771-5CA1-488F-BDCC-13131224587F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44BEBBF-52C9-449B-AF4C-A30855724875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Tartalom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4. Külső rendezés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1 Négy munkafile-os rendez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2 Három munkafile-os rendez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3 Prioritási soros rendezé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0" name="">
            <a:hlinkClick r:id="" action="ppaction://hlinkshowjump?jump=previous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44ABB-963F-49F9-A09F-D313C66A9F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7132D2-A4B0-412E-91F1-F017AD0F96FA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DolgozóiLista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d:TDolgozó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:OutSzövegFile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400" spc="-1" strike="noStrike">
                <a:solidFill>
                  <a:srgbClr val="ffffcc"/>
                </a:solidFill>
                <a:latin typeface="Courier New"/>
              </a:rPr>
              <a:t>Ef:</a:t>
            </a:r>
            <a:r>
              <a:rPr b="0" lang="hu-HU" sz="24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d ki van töltve, l meg van nyitva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Dolgozó: ’+d.név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         ’+d.kNé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         ’+d.cNé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         ’+d.tNé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         ’+d.beosztás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l, ’         ’+d.fizu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ffffcc"/>
                </a:solidFill>
                <a:latin typeface="Courier New"/>
              </a:rPr>
              <a:t>l nyitva marad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76440" y="1355760"/>
            <a:ext cx="8238960" cy="7038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Dolgozó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kNév,cNév,tNév:Szöveg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név:Szöveg,beoszt:TBeosztás,fizu:Egész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A3CDF-8697-4999-9A18-555D9484770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39C87C-36DD-4F1A-88A2-201168CFD93C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4 Típusfinomítás, struktúramegfelelte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Következteté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Más inputstruktúra, más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illeszekedő” output-, más programstruktúra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Kérdé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De mi van, ha a feladat az inputhoz nem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illeszkedő” ou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putot ír elő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Válasz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megtudjuk legközelebb!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B762E-F35C-4732-8F6B-BF8BDDF61BC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19D5CE8-5E30-4603-A13D-ACF74996CE2F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Megjegyzés: Felbontá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61048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X,Y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{BeElemTip}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*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InpSzekvFile-ok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70000"/>
              </a:lnSpc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Z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{KiElemTip}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OutSzekvFi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X-nek (X</a:t>
            </a:r>
            <a:r>
              <a:rPr b="1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, X</a:t>
            </a:r>
            <a:r>
              <a:rPr b="1" lang="da-DK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) egy </a:t>
            </a:r>
            <a:r>
              <a:rPr b="1" i="1" lang="da-DK" sz="2800" spc="-1" strike="noStrike">
                <a:solidFill>
                  <a:srgbClr val="ffffcc"/>
                </a:solidFill>
                <a:latin typeface="Times New Roman"/>
              </a:rPr>
              <a:t>felbontása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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X=Egymásután(X</a:t>
            </a:r>
            <a:r>
              <a:rPr b="1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1" lang="da-DK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hol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X=(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 ... , 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  és  Y=(y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 ... , y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Egymásután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X,Y)=(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 ... , 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 y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 ... ,y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6E3FA-5C3B-4847-B249-AE0D61C7E77D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2BC4FD0-6FB0-4E2B-B77E-426279B914A8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 Adatfeldolgozás problémája, alapfogalmak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Adatfeldolgozási feladat:</a:t>
            </a:r>
            <a:br>
              <a:rPr sz="3200"/>
            </a:b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A bemenet és a kimenet 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szekvenciális file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-o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Típus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TBe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?…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TBemenet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InpSzekvFile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TBe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...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TKi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?…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TKimenet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OutSzekvFile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TKi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Program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datFeld(</a:t>
            </a:r>
            <a:r>
              <a:rPr b="1" lang="da-DK" sz="2800" spc="-1" strike="noStrike">
                <a:solidFill>
                  <a:srgbClr val="ff3300"/>
                </a:solidFill>
                <a:latin typeface="Times New Roman"/>
              </a:rPr>
              <a:t>Változó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TBemenet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…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    Z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TKimenet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...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feladatot megoldó program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programfüggvény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e:</a:t>
            </a:r>
            <a:br>
              <a:rPr sz="2800"/>
            </a:br>
            <a:r>
              <a:rPr b="0" lang="da-DK" sz="30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TBe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...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TKi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* 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..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BBCA5-534F-4992-B103-1DA506EC121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02C29E-B18A-44D3-B5C7-4655AA676CC1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1 Adatfeldolgozás típusfeladatai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6648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Tipikus feladato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Másolá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Másolás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TBe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br>
              <a:rPr sz="2400"/>
            </a:b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TBeElem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Elem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Például: 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* 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i="1" lang="hu-HU" sz="24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konverzió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Szöveg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belső ábrázolás (v.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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adatrögzítés,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„űrlapozás”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, listázás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* TKiElem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400" spc="-1" strike="noStrike">
                <a:solidFill>
                  <a:srgbClr val="ff3300"/>
                </a:solidFill>
                <a:latin typeface="Symbol"/>
                <a:ea typeface="Symbol"/>
              </a:rPr>
              <a:t>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BeElem: „horizontális projekció”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 TKiElem </a:t>
            </a:r>
            <a:r>
              <a:rPr b="1" lang="da-DK" sz="2400" spc="-1" strike="noStrike">
                <a:solidFill>
                  <a:srgbClr val="ff3300"/>
                </a:solidFill>
                <a:latin typeface="Symbol"/>
                <a:ea typeface="Symbol"/>
              </a:rPr>
              <a:t>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BeElem: „kiterjesztés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Szűrés (kiválogatás)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Szűrés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TBe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br>
              <a:rPr sz="2400"/>
            </a:b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TBeElem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Elem </a:t>
            </a:r>
            <a:r>
              <a:rPr b="1" lang="da-DK" sz="2400" spc="-1" strike="noStrike">
                <a:solidFill>
                  <a:srgbClr val="ff3300"/>
                </a:solidFill>
                <a:latin typeface="Symbol"/>
                <a:ea typeface="Symbol"/>
              </a:rPr>
              <a:t>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 {</a:t>
            </a:r>
            <a:r>
              <a:rPr b="1" lang="da-DK" sz="2400" spc="-1" strike="noStrike">
                <a:solidFill>
                  <a:srgbClr val="ff3300"/>
                </a:solidFill>
                <a:latin typeface="Symbol"/>
                <a:ea typeface="Symbol"/>
              </a:rPr>
              <a:t>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}</a:t>
            </a:r>
            <a:br>
              <a:rPr sz="2400"/>
            </a:b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 TBeElem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 TBeElem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Elem </a:t>
            </a:r>
            <a:br>
              <a:rPr sz="24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„vertikális projekció”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19880" y="4876920"/>
            <a:ext cx="2590920" cy="10087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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, ha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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x)</a:t>
            </a:r>
            <a:br>
              <a:rPr sz="2000"/>
            </a:b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x):= 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x), ha </a:t>
            </a:r>
            <a:r>
              <a:rPr b="0" i="1" lang="en-US" sz="20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(x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210440" y="4881600"/>
            <a:ext cx="152280" cy="990720"/>
          </a:xfrm>
          <a:custGeom>
            <a:avLst/>
            <a:gdLst>
              <a:gd name="textAreaLeft" fmla="*/ 97200 w 152280"/>
              <a:gd name="textAreaRight" fmla="*/ 152640 w 15228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238880" y="4267080"/>
            <a:ext cx="1600200" cy="381240"/>
          </a:xfrm>
          <a:prstGeom prst="rect">
            <a:avLst/>
          </a:pr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ff99ff"/>
                </a:solidFill>
                <a:latin typeface="Symbol"/>
                <a:ea typeface="Symbol"/>
              </a:rPr>
              <a:t></a:t>
            </a:r>
            <a:r>
              <a:rPr b="0" lang="hu-HU" sz="2000" spc="-1" strike="noStrike">
                <a:solidFill>
                  <a:srgbClr val="ff99ff"/>
                </a:solidFill>
                <a:latin typeface="Times New Roman"/>
              </a:rPr>
              <a:t>: üres érté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467480" y="4648320"/>
            <a:ext cx="0" cy="38088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15874-086C-4A09-880B-F557774709F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7B5841-5CA9-42F0-B0E6-D27900E9D1D4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1 Adatfeldolgozás típusfeladat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lvl="1" marL="720720" indent="-277200">
              <a:lnSpc>
                <a:spcPct val="9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Keresés, sorozatszámítás, megszámlálá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9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Általánosított” másolás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ÁltMásolás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TBeCsop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TKiCsop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br>
              <a:rPr sz="2400"/>
            </a:b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BeCsop=TBeElem</a:t>
            </a:r>
            <a:r>
              <a:rPr b="1" lang="da-DK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, TKiCsop=TKiElem</a:t>
            </a:r>
            <a:r>
              <a:rPr b="1" lang="da-DK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TBeCsop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Csop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Például: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* sűrítés/Tab-osítás, LZW-esítés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* Huffman-kódolás (TBeCsop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=Byte, TKiElem=Bit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*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ö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sszegfokozatos listázás (jelentéskészítés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lnSpc>
                <a:spcPct val="8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Szétválogatás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Szétválogatás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TBe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TKiElem</a:t>
            </a:r>
            <a:r>
              <a:rPr b="1" lang="da-DK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da-DK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x</a:t>
            </a:r>
            <a:br>
              <a:rPr sz="2000"/>
            </a:b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         x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TKiElem</a:t>
            </a:r>
            <a:r>
              <a:rPr b="1" lang="da-DK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da-DK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x …</a:t>
            </a:r>
            <a:br>
              <a:rPr sz="2000"/>
            </a:b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en-US" sz="24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: TBeElem</a:t>
            </a:r>
            <a:r>
              <a:rPr b="0" lang="en-US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KiElem</a:t>
            </a:r>
            <a:r>
              <a:rPr b="0" lang="da-DK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...</a:t>
            </a:r>
            <a:br>
              <a:rPr sz="2000"/>
            </a:b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	</a:t>
            </a: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i="1" lang="da-DK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TBeElem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ffffcc"/>
                </a:solidFill>
                <a:latin typeface="Arial"/>
              </a:rPr>
              <a:t>L</a:t>
            </a:r>
            <a:br>
              <a:rPr sz="2800"/>
            </a:b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   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da-DK" sz="20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i="1" lang="da-DK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teljes eseményrendszer”)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276880" y="5681520"/>
            <a:ext cx="3795840" cy="755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0" tIns="10800" bIns="0" anchor="t">
            <a:noAutofit/>
          </a:bodyPr>
          <a:p>
            <a:pPr>
              <a:spcBef>
                <a:spcPts val="1001"/>
              </a:spcBef>
              <a:tabLst>
                <a:tab algn="l" pos="0"/>
                <a:tab algn="l" pos="142884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TKiElem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1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da-DK" sz="1600" spc="-1" strike="noStrike">
                <a:solidFill>
                  <a:srgbClr val="ff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,…),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ha </a:t>
            </a: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x)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: TBeElem</a:t>
            </a:r>
            <a:r>
              <a:rPr b="0" lang="en-US" sz="16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da-DK" sz="1600" spc="-1" strike="noStrike">
                <a:solidFill>
                  <a:srgbClr val="ff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,TKiElem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16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da-DK" sz="1600" spc="-1" strike="noStrike">
                <a:solidFill>
                  <a:srgbClr val="ffffcc"/>
                </a:solidFill>
                <a:latin typeface="Symbol"/>
                <a:ea typeface="Symbol"/>
              </a:rPr>
              <a:t>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,…),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ha </a:t>
            </a:r>
            <a:r>
              <a:rPr b="0" i="1" lang="en-US" sz="16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0" lang="en-US" sz="16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(x)</a:t>
            </a:r>
            <a:br>
              <a:rPr sz="1600"/>
            </a:b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...  </a:t>
            </a: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524640" y="5695920"/>
            <a:ext cx="152280" cy="755640"/>
          </a:xfrm>
          <a:custGeom>
            <a:avLst/>
            <a:gdLst>
              <a:gd name="textAreaLeft" fmla="*/ 97200 w 152280"/>
              <a:gd name="textAreaRight" fmla="*/ 152640 w 152280"/>
              <a:gd name="textAreaTop" fmla="*/ 19440 h 755640"/>
              <a:gd name="textAreaBottom" fmla="*/ 736200 h 7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10522-D374-4DB2-A005-65E0631D416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0C47D5-AB10-4EDE-B069-2E02AF2851C0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1 Adatfeldolgozás típusfeladat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4475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Összefuttatás”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Összefuttatás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TBeElem</a:t>
            </a:r>
            <a:r>
              <a:rPr b="1" lang="da-DK" sz="2400" spc="-1" strike="noStrike" baseline="-25000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da-DK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TKiElem</a:t>
            </a:r>
            <a:r>
              <a:rPr b="1" lang="da-DK" sz="2400" spc="-1" strike="noStrike" baseline="-25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da-DK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x …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 </a:t>
            </a:r>
            <a:br>
              <a:rPr sz="20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Például: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* nem rendezett input esetén: keverés, egymásutánírás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* páros input esetén: párosítás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* rendezett input és azonosak többpéldányban: 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     összefésül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Időszerűsít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Időszerűsítés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égi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000" spc="-1" strike="noStrike">
                <a:solidFill>
                  <a:srgbClr val="ff3300"/>
                </a:solidFill>
                <a:latin typeface="Arial"/>
              </a:rPr>
              <a:t>x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Módosító</a:t>
            </a: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Új</a:t>
            </a:r>
            <a:br>
              <a:rPr sz="2400"/>
            </a:b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Régi=TBeElem</a:t>
            </a:r>
            <a:r>
              <a:rPr b="0" lang="da-DK" sz="24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   </a:t>
            </a:r>
            <a:r>
              <a:rPr b="1" lang="da-DK" sz="2400" spc="-1" strike="noStrike">
                <a:solidFill>
                  <a:srgbClr val="ff3300"/>
                </a:solidFill>
                <a:latin typeface="Times New Roman"/>
              </a:rPr>
              <a:t>Módosító=TBeElem</a:t>
            </a:r>
            <a:r>
              <a:rPr b="1" lang="da-DK" sz="2400" spc="-1" strike="noStrike" baseline="-25000">
                <a:solidFill>
                  <a:srgbClr val="ff3300"/>
                </a:solidFill>
                <a:latin typeface="Times New Roman"/>
              </a:rPr>
              <a:t>2 </a:t>
            </a:r>
            <a:r>
              <a:rPr b="1" lang="da-DK" sz="24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da-DK" sz="2400" spc="-1" strike="noStrike" baseline="-25000">
                <a:solidFill>
                  <a:srgbClr val="ff99ff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da-DK" sz="2400" spc="-1" strike="noStrike">
                <a:solidFill>
                  <a:srgbClr val="ff99ff"/>
                </a:solidFill>
                <a:latin typeface="Times New Roman"/>
              </a:rPr>
              <a:t> 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Új=TKi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5705640" y="5460840"/>
            <a:ext cx="3228840" cy="935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BeElem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TBeElem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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TBeElem=TKiElem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3300"/>
                </a:solidFill>
                <a:latin typeface="Symbol"/>
                <a:ea typeface="Symbol"/>
              </a:rPr>
              <a:t></a:t>
            </a:r>
            <a:r>
              <a:rPr b="1" lang="en-US" sz="2000" spc="-1" strike="noStrike">
                <a:solidFill>
                  <a:srgbClr val="ff3300"/>
                </a:solidFill>
                <a:latin typeface="Times New Roman"/>
              </a:rPr>
              <a:t>: közös mez</a:t>
            </a:r>
            <a:r>
              <a:rPr b="1" lang="da-DK" sz="2000" spc="-1" strike="noStrike">
                <a:solidFill>
                  <a:srgbClr val="ff3300"/>
                </a:solidFill>
                <a:latin typeface="Times New Roman"/>
              </a:rPr>
              <a:t>ő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AE9E-F6EF-4893-A70E-7102B96F1E8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1B7BBE-5D52-4779-8457-AF607645455C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1 Adatfeldolgozás típusfeladat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90000"/>
              </a:lnSpc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Rendezés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Rendez</a:t>
            </a:r>
            <a:r>
              <a:rPr b="0" lang="hu-HU" sz="2600" spc="-1" strike="noStrike">
                <a:solidFill>
                  <a:srgbClr val="ffffcc"/>
                </a:solidFill>
                <a:latin typeface="Arial"/>
              </a:rPr>
              <a:t>é</a:t>
            </a:r>
            <a:r>
              <a:rPr b="0" lang="da-DK" sz="2600" spc="-1" strike="noStrike">
                <a:solidFill>
                  <a:srgbClr val="ffffcc"/>
                </a:solidFill>
                <a:latin typeface="Arial"/>
              </a:rPr>
              <a:t>s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: TBe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KiElem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br>
              <a:rPr sz="2400"/>
            </a:b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BeElem=TKiElem,</a:t>
            </a: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 </a:t>
            </a:r>
            <a:br>
              <a:rPr sz="2000"/>
            </a:br>
            <a:r>
              <a:rPr b="0" lang="da-DK" sz="2000" spc="-1" strike="noStrike">
                <a:solidFill>
                  <a:srgbClr val="ff99ff"/>
                </a:solidFill>
                <a:latin typeface="Arial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&lt;: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BeElem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 x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BeElem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Arial"/>
              </a:rPr>
              <a:t>L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rendezési reláció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[Rendezés(x)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Permutáció(x)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13B5-8E5F-406E-BA00-7C893C52EFF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AD5A0CD-3863-4024-9A5B-67C53DE1D671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1.2 Elemenkénti feldolgozhatóság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Definíció: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Z=F(X) feladat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elemenkénti feldolgozás-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al megoldható, ha az X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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(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 felbontása esetén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Z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Z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 olyan Z-felbontás, hogy Z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F(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,  Z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F(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 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Lemma: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Z=F(X) feladat elemenként feldolgozható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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 TBeElem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TKiElem</a:t>
            </a:r>
            <a:r>
              <a:rPr b="1" lang="da-DK" sz="2800" spc="-1" strike="noStrike" baseline="30000">
                <a:solidFill>
                  <a:srgbClr val="ff3300"/>
                </a:solidFill>
                <a:latin typeface="Times New Roman"/>
              </a:rPr>
              <a:t>*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   z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 (i=1..Hossz(X))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    (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i="1" lang="da-DK" sz="2400" spc="-1" strike="noStrike" baseline="-25000">
                <a:solidFill>
                  <a:srgbClr val="ffffcc"/>
                </a:solidFill>
                <a:latin typeface="Times New Roman"/>
              </a:rPr>
              <a:t>i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 lehet akár </a:t>
            </a:r>
            <a:r>
              <a:rPr b="0" i="1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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, akár több elem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6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800" spc="-1" strike="noStrike">
                <a:solidFill>
                  <a:srgbClr val="ffffcc"/>
                </a:solidFill>
                <a:latin typeface="Times New Roman"/>
              </a:rPr>
              <a:t>Bizonyítás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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: Triv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943600" y="403848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562720" y="3581280"/>
                <a:ext cx="3163680" cy="1808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F7DBB-EAF7-47B0-AC3A-550D7503629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600BB81-B266-43C5-B33B-D93B4C427818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18:03:21Z</dcterms:created>
  <dc:creator>Szlávi Péter</dc:creator>
  <dc:description/>
  <dc:language>en-US</dc:language>
  <cp:lastModifiedBy>Szlávi Péter</cp:lastModifiedBy>
  <cp:lastPrinted>1999-11-01T10:24:50Z</cp:lastPrinted>
  <dcterms:modified xsi:type="dcterms:W3CDTF">2002-10-30T12:56:06Z</dcterms:modified>
  <cp:revision>165</cp:revision>
  <dc:subject/>
  <dc:title>Adatfeldolgozás előadás 1.</dc:title>
</cp:coreProperties>
</file>