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411048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582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411048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8200" y="411048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6480" y="198072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18560" y="198072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411048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6480" y="411048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18560" y="411048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555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8200" y="1980720"/>
            <a:ext cx="37555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418680"/>
            <a:ext cx="76960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8200" y="1980720"/>
            <a:ext cx="37555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11048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555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82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58200" y="411048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82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11048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99960" y="209520"/>
            <a:ext cx="1525680" cy="1525680"/>
            <a:chOff x="399960" y="209520"/>
            <a:chExt cx="1525680" cy="1525680"/>
          </a:xfrm>
        </p:grpSpPr>
        <p:sp>
          <p:nvSpPr>
            <p:cNvPr id="1" name=""/>
            <p:cNvSpPr/>
            <p:nvPr/>
          </p:nvSpPr>
          <p:spPr>
            <a:xfrm>
              <a:off x="552600" y="36180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4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99960" y="209520"/>
              <a:ext cx="1525680" cy="1525680"/>
              <a:chOff x="399960" y="209520"/>
              <a:chExt cx="1525680" cy="1525680"/>
            </a:xfrm>
          </p:grpSpPr>
          <p:sp>
            <p:nvSpPr>
              <p:cNvPr id="3" name=""/>
              <p:cNvSpPr/>
              <p:nvPr/>
            </p:nvSpPr>
            <p:spPr>
              <a:xfrm>
                <a:off x="116208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20952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c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16208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99960" y="97164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c0128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7560" y="6500880"/>
            <a:ext cx="2627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BA: Interface Definition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Interface Definition Language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274320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ornerstone of interoperability and 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rtin S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nger@EBI.ac.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OMG IDL Pre-processing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ro substit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file inclusion (</a:t>
            </a:r>
            <a:r>
              <a:rPr b="0" lang="en-GB" sz="3200" spc="-1" strike="noStrike">
                <a:solidFill>
                  <a:srgbClr val="00279f"/>
                </a:solidFill>
                <a:latin typeface="Times New Roman"/>
              </a:rPr>
              <a:t>primary u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agmas (used for IDL Repository I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fix pr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ion pr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D pr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OMG IDL Example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46483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odule Shopping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fc0128"/>
                </a:solidFill>
                <a:latin typeface="Courier New"/>
              </a:rPr>
              <a:t>/* structure of an item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truct Item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tring item_nam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loat  item_pric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ypedef sequence &lt;Item&gt; Baske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fc0128"/>
                </a:solidFill>
                <a:latin typeface="Courier New"/>
              </a:rPr>
              <a:t>/* class GoShopping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GoShopping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ception NotEnoughMon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{float needed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ttribute float mone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void buy (in Basket, out Bask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aises (NotEnoughMone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5520" y="2133720"/>
            <a:ext cx="3504960" cy="32004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es a naming 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es a CORBA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es a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es parameters, attributes, exceptions and return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More examples...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523880"/>
            <a:ext cx="3944880" cy="4662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79f"/>
                </a:solidFill>
                <a:latin typeface="Courier New"/>
              </a:rPr>
              <a:t>module Example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 boolean  truth = TRU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 char     aChar = 'A'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 short    aShort = -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 unsigned short anUnsignedShort = 15907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 long     aLong = -12345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 unsigned long anUnsignedLong = 981008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 float    aFloat = 3.14159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 double   aDouble = 2.718281828459045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nst string   aString = "Java"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fc0128"/>
                </a:solidFill>
                <a:latin typeface="Courier New"/>
              </a:rPr>
              <a:t>interface anOctet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oid foo (in octet x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fc0128"/>
                </a:solidFill>
                <a:latin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num EnumType { none, one, two 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truct StructType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ong thes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tring thos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union UnionType switch (EnumTyp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none:  long aNon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one:   long aOn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se two:   long aTwo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efault:    long other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1523880"/>
            <a:ext cx="4419720" cy="4662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ypedef sequence &lt; StructType &gt; StructSequenc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ypedef sequence &lt; StructType,42 &gt; StructSequence4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truct SequenceContainer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tructSequence   contained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tructSequence42 contained4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hort            array [3][4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xception That { string reason; 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fc0128"/>
                </a:solidFill>
                <a:latin typeface="Courier New"/>
              </a:rPr>
              <a:t>interface Operations {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tring opNormal (in    StructType inPa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ut   string outPa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out short inoutPar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any opAny 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oneway void opOneWay 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fc0128"/>
                </a:solidFill>
                <a:latin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fc0128"/>
                </a:solidFill>
                <a:latin typeface="Courier New"/>
              </a:rPr>
              <a:t>interface Attribute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attribute          long assignabl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only attribute long fetchabl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fc0128"/>
                </a:solidFill>
                <a:latin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fc0128"/>
                </a:solidFill>
                <a:latin typeface="Courier New"/>
              </a:rPr>
              <a:t>interface Derivated : Operation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tring opAdditional 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fc0128"/>
                </a:solidFill>
                <a:latin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79f"/>
                </a:solidFill>
                <a:latin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279f"/>
                </a:solidFill>
                <a:latin typeface="Times New Roman"/>
              </a:rPr>
              <a:t>Names and Scoping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IDL file forms a naming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coped nam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identifier::identifier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definitions forming nested sco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ule, interface, structure, union, operation, ex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BA Module (in file </a:t>
            </a:r>
            <a:r>
              <a:rPr b="0" lang="en-GB" sz="3200" spc="-1" strike="noStrike">
                <a:solidFill>
                  <a:srgbClr val="00279f"/>
                </a:solidFill>
                <a:latin typeface="Times New Roman"/>
              </a:rPr>
              <a:t>orb.id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s defined by CORBA spec are in CORBA module, but do not use it for keywor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BA::Obje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/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BA::TypeCod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/ ok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Type Declaration I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asic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Integ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ype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long, short, long long;  unsigned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Floating-Poi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ype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float, double, long dou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Cha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ype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char, wcha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Boolea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ype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TRUE, FAL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Octe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ype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never conver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An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Times New Roman"/>
              <a:buChar char="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gically contains </a:t>
            </a: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TypeCod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Times New Roman"/>
              <a:buChar char="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nguage mapping provides operations for accessing b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Type Declaration II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tructed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Un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always discrimina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Enumera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ordered li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mplate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Sequenc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one-dimensional arrays, maximum size, leng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String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sequences of chars, no null char, wstrin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r>
              <a:rPr b="0" lang="en-GB" sz="32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multidimensional, fixed-siz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Type Declaration III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c0128"/>
                </a:solidFill>
                <a:latin typeface="Times New Roman"/>
              </a:rPr>
              <a:t>typede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associates an identifier with a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lthough it is syntactically possible to generate recursive type specifications, such </a:t>
            </a:r>
            <a:r>
              <a:rPr b="0" lang="en-GB" sz="1800" spc="-1" strike="noStrike">
                <a:solidFill>
                  <a:srgbClr val="fc0128"/>
                </a:solidFill>
                <a:latin typeface="Times New Roman"/>
              </a:rPr>
              <a:t>recursion is semantically constrain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The only permissible form of recursive type is through the use of the sequence..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ruct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ng 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equence &lt;foo&gt; chai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Inheritance of interface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A { ...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B:A { ...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multiple inheritanc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ov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overlo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Operation Declaration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turn value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can be 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ameter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Times New Roman"/>
              </a:rPr>
              <a:t>i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passed from client to 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Times New Roman"/>
              </a:rPr>
              <a:t>ou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passed from server to cli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Times New Roman"/>
              </a:rPr>
              <a:t>inou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passed in both dire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aises 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oneway”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Exception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-defined 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 can raise these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not defined in idl files but can 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include “minor code” and “completion statu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re specified in module COR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IDL - the questions to answer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OMG I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is its place in 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o stor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 and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...and few more thing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c0128"/>
                </a:solidFill>
                <a:latin typeface="Times New Roman"/>
              </a:rPr>
              <a:t>Attribu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ecl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quivalent to a pair of accesso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ead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c0128"/>
                </a:solidFill>
                <a:latin typeface="Times New Roman"/>
              </a:rPr>
              <a:t>Consta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ecl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B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es operations provided by O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ule COR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...and even more thing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Objects By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CORBA Components changes of I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Forms of invoking a request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o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nly form for the static inv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waits for the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 Synchron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is returned without waiting for a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must ask for the response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hing returned at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The Interface Repository (IR)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persistent storag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f interface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s of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operability between different OR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ype-checking of request sign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eck the correctness of inheritanc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lexibility: Every ORB has </a:t>
            </a: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at least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e 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que Repository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Self-describ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IDL Style Guide/1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G document ab/98-06-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yle and usage convention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 n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ting (appeara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: requirements and 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IDL Style - Modules and File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use modules (no global sp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ame = module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“guar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ifndef _FILE_NAME_IDL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_FILE_NAME_IDL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mainder of the 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endif // _FILE_NAME_IDL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prag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pragma “omg.or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IDL Style - Identifier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Mixed Case, Beginning Upper, No Undersc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, interface, typedef, struct, union, enum, exception (eg.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 NameCompon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Lower Case with Undersc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, attribute, parameter name, structure member (eg. 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a_nice_me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Upper Case with Undersc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 value, constants (eg. 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RED_COL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IDL and Performance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 versus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Object Adapters (POA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server activation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o remov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ing on the “polite”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side “pool”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IDL and Extensibility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versus flex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enu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const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data, control vocabularie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B independence and vendor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you need to deal with it in your ID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What is the OMG IDL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language for expressing the </a:t>
            </a:r>
            <a:r>
              <a:rPr b="0" lang="en-GB" sz="3200" spc="-1" strike="noStrike">
                <a:solidFill>
                  <a:srgbClr val="fc0128"/>
                </a:solidFill>
                <a:latin typeface="Times New Roman"/>
              </a:rPr>
              <a:t>functionality and usa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an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Jon Sieg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...to the client or user, the interface represents </a:t>
            </a:r>
            <a:r>
              <a:rPr b="0" lang="en-GB" sz="3200" spc="-1" strike="noStrike">
                <a:solidFill>
                  <a:srgbClr val="fc0128"/>
                </a:solidFill>
                <a:latin typeface="Times New Roman"/>
              </a:rPr>
              <a:t>a promi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... to the object implementator, the interface represents </a:t>
            </a:r>
            <a:r>
              <a:rPr b="0" lang="en-GB" sz="3200" spc="-1" strike="noStrike">
                <a:solidFill>
                  <a:srgbClr val="fc0128"/>
                </a:solidFill>
                <a:latin typeface="Times New Roman"/>
              </a:rPr>
              <a:t>an oblig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How to be CORBA-compliant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69644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RBA Core 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RBA Object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RBA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OMG IDL syntax and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ORB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ynamic Invocation Interface (D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ynamic Skeleton Interface (D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terface Repository (I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RB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ic Object Adapter/the Portable Object Ad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nd at le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one Language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419040"/>
            <a:ext cx="152424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 </a:t>
            </a:r>
            <a:br>
              <a:rPr sz="4400"/>
            </a:b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How to use IDL</a:t>
            </a:r>
            <a:br>
              <a:rPr sz="4400"/>
            </a:b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35480" y="463680"/>
            <a:ext cx="1434960" cy="825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Book Antiqua"/>
              </a:rPr>
              <a:t>OMG I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Book Antiqua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9680" y="1682640"/>
            <a:ext cx="2730240" cy="90180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DL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560" y="3054240"/>
            <a:ext cx="2882880" cy="1511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02160" y="3054240"/>
            <a:ext cx="2882880" cy="1511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82640" y="3206880"/>
            <a:ext cx="1206720" cy="12063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40240" y="3206880"/>
            <a:ext cx="1130400" cy="12063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kele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4560" y="4959360"/>
            <a:ext cx="2882880" cy="825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Book Antiqu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ready to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02160" y="4959360"/>
            <a:ext cx="2882880" cy="825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Book Antiqu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ready to 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9160" y="3282840"/>
            <a:ext cx="1587600" cy="10540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rot="16200000">
            <a:off x="4006800" y="1339560"/>
            <a:ext cx="215640" cy="292320"/>
          </a:xfrm>
          <a:prstGeom prst="rightArrow">
            <a:avLst>
              <a:gd name="adj1" fmla="val 50000"/>
              <a:gd name="adj2" fmla="val 5000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rot="16200000">
            <a:off x="4996080" y="2635200"/>
            <a:ext cx="216000" cy="291960"/>
          </a:xfrm>
          <a:prstGeom prst="rightArrow">
            <a:avLst>
              <a:gd name="adj1" fmla="val 50000"/>
              <a:gd name="adj2" fmla="val 5000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rot="16200000">
            <a:off x="3015000" y="2635200"/>
            <a:ext cx="216000" cy="291960"/>
          </a:xfrm>
          <a:prstGeom prst="rightArrow">
            <a:avLst>
              <a:gd name="adj1" fmla="val 50000"/>
              <a:gd name="adj2" fmla="val 5000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rot="16200000">
            <a:off x="5835600" y="4616280"/>
            <a:ext cx="216000" cy="292320"/>
          </a:xfrm>
          <a:prstGeom prst="rightArrow">
            <a:avLst>
              <a:gd name="adj1" fmla="val 50000"/>
              <a:gd name="adj2" fmla="val 5000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rot="16200000">
            <a:off x="2178000" y="4616280"/>
            <a:ext cx="216000" cy="292320"/>
          </a:xfrm>
          <a:prstGeom prst="rightArrow">
            <a:avLst>
              <a:gd name="adj1" fmla="val 50000"/>
              <a:gd name="adj2" fmla="val 5000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rot="19560000">
            <a:off x="5644800" y="2215800"/>
            <a:ext cx="977760" cy="368280"/>
          </a:xfrm>
          <a:prstGeom prst="rightArrow">
            <a:avLst>
              <a:gd name="adj1" fmla="val 50000"/>
              <a:gd name="adj2" fmla="val 132759"/>
            </a:avLst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05200" y="1555920"/>
            <a:ext cx="1310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40040" y="4959360"/>
            <a:ext cx="520920" cy="368280"/>
          </a:xfrm>
          <a:prstGeom prst="rightArrow">
            <a:avLst>
              <a:gd name="adj1" fmla="val 75000"/>
              <a:gd name="adj2" fmla="val 70730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967920" y="5416560"/>
            <a:ext cx="520920" cy="368280"/>
          </a:xfrm>
          <a:prstGeom prst="rightArrow">
            <a:avLst>
              <a:gd name="adj1" fmla="val 75000"/>
              <a:gd name="adj2" fmla="val 70730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OMG IDL and OO design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main l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Times New Roman"/>
              </a:rPr>
              <a:t>Class/Object = IDL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lieve th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c0128"/>
                </a:solidFill>
                <a:latin typeface="Times New Roman"/>
              </a:rPr>
              <a:t>IDL contains (almost) no data, only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s is rare, therefo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 documentation (idldoc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aware of OCL (Object Constraint Langu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try metadata approaches (MOF, XMI…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OMG IDL Basic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gramming </a:t>
            </a:r>
            <a:r>
              <a:rPr b="0" lang="en-GB" sz="3200" spc="-1" strike="noStrike">
                <a:solidFill>
                  <a:srgbClr val="fc0128"/>
                </a:solidFill>
                <a:latin typeface="Times New Roman"/>
              </a:rPr>
              <a:t>language-indepen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ppearance but </a:t>
            </a:r>
            <a:r>
              <a:rPr b="0" lang="en-GB" sz="32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semantics of ANSI 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rongly </a:t>
            </a:r>
            <a:r>
              <a:rPr b="0" lang="en-GB" sz="3200" spc="-1" strike="noStrike">
                <a:solidFill>
                  <a:srgbClr val="fc0128"/>
                </a:solidFill>
                <a:latin typeface="Times New Roman"/>
              </a:rPr>
              <a:t>type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iers, keywords, literals, operators, sepa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iers are case-in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ments: // and /* … *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Escaped identifiers &amp; keyword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aped” identif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coper + identifier = ident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only turns off keyword check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36160" y="3733920"/>
            <a:ext cx="6627240" cy="22885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M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th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tribute boolean abstract;  //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tribute boolean _abstract; // ok, we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‘abstract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41868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Times New Roman"/>
              </a:rPr>
              <a:t>Literals</a:t>
            </a:r>
            <a:endParaRPr b="0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elve” can be written as : 12, 014, 0X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quotes (‘x’), escaped sequence (‘\b’, ‘\uhhh’), wide chars (L’X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quotes (“hello”), wide string (L”m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ing-point, Fixed-point dec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5T10:16:06Z</dcterms:created>
  <dc:creator>Martin Senger</dc:creator>
  <dc:description/>
  <cp:keywords/>
  <dc:language>en-US</dc:language>
  <cp:lastModifiedBy>atoke.inf.elte.hu</cp:lastModifiedBy>
  <cp:lastPrinted>1997-09-03T11:00:32Z</cp:lastPrinted>
  <dcterms:modified xsi:type="dcterms:W3CDTF">2005-02-20T15:24:15Z</dcterms:modified>
  <cp:revision>43</cp:revision>
  <dc:subject>CORBA Workshop</dc:subject>
  <dc:title>Interface Definition Langu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industry.ebi.ac.uk/~senger</vt:lpwstr>
  </property>
  <property fmtid="{D5CDD505-2E9C-101B-9397-08002B2CF9AE}" pid="9" name="LinkColor">
    <vt:r8>16711782</vt:r8>
  </property>
  <property fmtid="{D5CDD505-2E9C-101B-9397-08002B2CF9AE}" pid="10" name="MailAddress">
    <vt:lpwstr>senger@ebi.ac.uk</vt:lpwstr>
  </property>
  <property fmtid="{D5CDD505-2E9C-101B-9397-08002B2CF9AE}" pid="11" name="NavBtnPos">
    <vt:r8>1</vt:r8>
  </property>
  <property fmtid="{D5CDD505-2E9C-101B-9397-08002B2CF9AE}" pid="12" name="Other">
    <vt:lpwstr>A presentation for a CORBA workshop,
organised by the European Bioinformatics Institute, U.K.</vt:lpwstr>
  </property>
  <property fmtid="{D5CDD505-2E9C-101B-9397-08002B2CF9AE}" pid="13" name="OutputDir">
    <vt:lpwstr>F:\Martin\talks\corba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