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E9F-681A-4135-8B2C-4E40C412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604-99C5-45BA-B93F-AB61EBA3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9E1-FBDA-4B10-84DD-06C36866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C6B-7F53-4325-91D2-E1F5B268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DFD-139B-4F82-9D26-6CE3D0CE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FEE-2D36-477B-AB49-AED34C97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99A-E602-4734-AF2A-E23D7C33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A85-3221-42FE-B12E-ABB45981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621-E428-4E60-A89C-7A3732D5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272-AD44-4813-BEAC-D9ABFB4A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17F-79DB-4878-9217-442992E6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AB1-DDA7-4674-9154-F81CF126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C8A6-4CF4-4EA9-BA96-5FA6C167C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RBA Any’s and TypeC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tin Se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ger@ebi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contents of a Type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“kind”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enum TCKin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null, tk_voi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short, tk_long, tk_ushort, tk_ulo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float, tk_double, tk_boolean, tk_cha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octet, tk_any, tk_TypeCode, tk_Principal, tk_objref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struct, tk_union, tk_enum, tk_str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sequence, tk_array, tk_alias, tk_excep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longlong, tk_ulonglong, tk_longdoubl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wchar, tk_wstring, tk_fix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value, tk_value_bo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nativ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tk_abstract_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et of parameters appropriate for that “ki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064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Cod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47920" y="1870200"/>
          <a:ext cx="6248160" cy="39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70200"/>
                    <a:ext cx="624816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750400" y="6477120"/>
            <a:ext cx="627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book: “Advanced CORBA Programming with C++” by Michi Henning and Steve Vino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14280" y="519120"/>
            <a:ext cx="1651320" cy="1522440"/>
            <a:chOff x="314280" y="519120"/>
            <a:chExt cx="1651320" cy="1522440"/>
          </a:xfrm>
        </p:grpSpPr>
        <p:sp>
          <p:nvSpPr>
            <p:cNvPr id="81" name=""/>
            <p:cNvSpPr/>
            <p:nvPr/>
          </p:nvSpPr>
          <p:spPr>
            <a:xfrm>
              <a:off x="314280" y="519120"/>
              <a:ext cx="1651320" cy="9169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ch Typ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s a “ki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eld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red" descr=""/>
            <p:cNvPicPr/>
            <p:nvPr/>
          </p:nvPicPr>
          <p:blipFill>
            <a:blip r:embed="rId3"/>
            <a:stretch/>
          </p:blipFill>
          <p:spPr>
            <a:xfrm>
              <a:off x="1636560" y="19270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3" name=""/>
            <p:cNvCxnSpPr>
              <a:stCxn id="81" idx="2"/>
              <a:endCxn id="82" idx="1"/>
            </p:cNvCxnSpPr>
            <p:nvPr/>
          </p:nvCxnSpPr>
          <p:spPr>
            <a:xfrm flipH="1" rot="16200000">
              <a:off x="1127880" y="1475280"/>
              <a:ext cx="52128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" name=""/>
          <p:cNvGrpSpPr/>
          <p:nvPr/>
        </p:nvGrpSpPr>
        <p:grpSpPr>
          <a:xfrm>
            <a:off x="5715000" y="380880"/>
            <a:ext cx="3152880" cy="1660680"/>
            <a:chOff x="5715000" y="380880"/>
            <a:chExt cx="3152880" cy="1660680"/>
          </a:xfrm>
        </p:grpSpPr>
        <p:pic>
          <p:nvPicPr>
            <p:cNvPr id="85" name="red" descr=""/>
            <p:cNvPicPr/>
            <p:nvPr/>
          </p:nvPicPr>
          <p:blipFill>
            <a:blip r:embed="rId4"/>
            <a:stretch/>
          </p:blipFill>
          <p:spPr>
            <a:xfrm>
              <a:off x="5715000" y="1927080"/>
              <a:ext cx="11448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324560" y="380880"/>
              <a:ext cx="1543320" cy="119124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d for e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ind” field 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s diffe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6" idx="2"/>
              <a:endCxn id="85" idx="3"/>
            </p:cNvCxnSpPr>
            <p:nvPr/>
          </p:nvCxnSpPr>
          <p:spPr>
            <a:xfrm rot="5400000">
              <a:off x="6770160" y="658440"/>
              <a:ext cx="384840" cy="226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TypeCode’s special ki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1981080"/>
            <a:ext cx="69343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k_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C does not describe anything (“not-there” 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k_Typ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sert TypeCodes into an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k_a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typedef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k_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an Any can contain another 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k_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the Interface Repository (never in Any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ere TypeCodes come f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’t bother, usually they are created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er classes have method returning T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TypeCode tc = MyClassHelper.typ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B has methods for creating TC’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examples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TypeCode create_struct_tc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in RepositoryId i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in Identifier 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in StructMemberSeq membe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TypeCode get_primitive_tc (in TCKind tcKin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s on hands-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[skipping Any’s =&gt; will be done in Property Service hands-o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 to directory “</a:t>
            </a:r>
            <a:r>
              <a:rPr b="0" lang="en-GB" sz="2800" spc="-1" strike="noStrike">
                <a:solidFill>
                  <a:srgbClr val="000099"/>
                </a:solidFill>
                <a:latin typeface="Arial Narrow"/>
              </a:rPr>
              <a:t>TypeCod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ile “</a:t>
            </a:r>
            <a:r>
              <a:rPr b="0" lang="en-GB" sz="2800" spc="-1" strike="noStrike">
                <a:solidFill>
                  <a:srgbClr val="000099"/>
                </a:solidFill>
                <a:latin typeface="Arial Narrow"/>
              </a:rPr>
              <a:t>ExerciseTypeCodes.id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lement conversion methods “</a:t>
            </a:r>
            <a:r>
              <a:rPr b="0" lang="en-GB" sz="2800" spc="-1" strike="noStrike">
                <a:solidFill>
                  <a:srgbClr val="000099"/>
                </a:solidFill>
                <a:latin typeface="Arial Narrow"/>
              </a:rPr>
              <a:t>stringToEn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,  “</a:t>
            </a:r>
            <a:r>
              <a:rPr b="0" lang="en-GB" sz="2800" spc="-1" strike="noStrike">
                <a:solidFill>
                  <a:srgbClr val="000099"/>
                </a:solidFill>
                <a:latin typeface="Arial Narrow"/>
              </a:rPr>
              <a:t>enumToStr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, and “</a:t>
            </a:r>
            <a:r>
              <a:rPr b="0" lang="en-GB" sz="2800" spc="-1" strike="noStrike">
                <a:solidFill>
                  <a:srgbClr val="000099"/>
                </a:solidFill>
                <a:latin typeface="Arial Narrow"/>
              </a:rPr>
              <a:t>printAl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in the example “</a:t>
            </a:r>
            <a:r>
              <a:rPr b="0" lang="en-GB" sz="2800" spc="-1" strike="noStrike">
                <a:solidFill>
                  <a:srgbClr val="000099"/>
                </a:solidFill>
                <a:latin typeface="Arial Narrow"/>
              </a:rPr>
              <a:t>ReadingColors.jav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nt: look what parameters are available for “kind” 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 want something, but we do not know w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-safety vs. 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-safe are objects with type known at the compile time - but it limits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ten the type-safe problems end by crashing programs - but not break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heritance is (probably) also sort of type-un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hods to find the “real” ty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-casting, narrowing, testing a variable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 CORBA, there a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.omg.CORBA.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per-class to all CORBA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resents (only)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rrowing to the “real” type can be cos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Times New Roman"/>
              </a:rPr>
              <a:t>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we are going to talk about it in detail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yn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at’s a new story… - an extension of Any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place of Any’s in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784680"/>
            <a:ext cx="860400" cy="39888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1857240"/>
            <a:ext cx="1997280" cy="39888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Object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6640" y="2820960"/>
            <a:ext cx="1433520" cy="39888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Valu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3400" y="3784680"/>
            <a:ext cx="2184840" cy="39888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bstrac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6640" y="4748040"/>
            <a:ext cx="1460880" cy="39888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asic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3760" y="5711760"/>
            <a:ext cx="2326680" cy="39888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onstructe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85600" y="5372280"/>
            <a:ext cx="991440" cy="1067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1880" y="1959120"/>
            <a:ext cx="1253520" cy="44744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Long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U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U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ULong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Long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W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W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Oc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3"/>
            <a:endCxn id="55" idx="1"/>
          </p:cNvCxnSpPr>
          <p:nvPr/>
        </p:nvCxnSpPr>
        <p:spPr>
          <a:xfrm flipV="1">
            <a:off x="3196800" y="4204800"/>
            <a:ext cx="3204360" cy="74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 flipV="1">
            <a:off x="4057560" y="5906880"/>
            <a:ext cx="4262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8" idx="3"/>
            <a:endCxn id="53" idx="1"/>
          </p:cNvCxnSpPr>
          <p:nvPr/>
        </p:nvCxnSpPr>
        <p:spPr>
          <a:xfrm>
            <a:off x="1241280" y="3982680"/>
            <a:ext cx="496080" cy="192780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3"/>
            <a:endCxn id="52" idx="1"/>
          </p:cNvCxnSpPr>
          <p:nvPr/>
        </p:nvCxnSpPr>
        <p:spPr>
          <a:xfrm>
            <a:off x="1241280" y="3982680"/>
            <a:ext cx="496080" cy="96444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3"/>
            <a:endCxn id="51" idx="1"/>
          </p:cNvCxnSpPr>
          <p:nvPr/>
        </p:nvCxnSpPr>
        <p:spPr>
          <a:xfrm>
            <a:off x="1241280" y="3982680"/>
            <a:ext cx="496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8" idx="3"/>
            <a:endCxn id="50" idx="1"/>
          </p:cNvCxnSpPr>
          <p:nvPr/>
        </p:nvCxnSpPr>
        <p:spPr>
          <a:xfrm flipV="1">
            <a:off x="1241280" y="3018600"/>
            <a:ext cx="496080" cy="96444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8" idx="3"/>
            <a:endCxn id="49" idx="1"/>
          </p:cNvCxnSpPr>
          <p:nvPr/>
        </p:nvCxnSpPr>
        <p:spPr>
          <a:xfrm flipV="1">
            <a:off x="1241280" y="2055240"/>
            <a:ext cx="496080" cy="192780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248520" y="6019920"/>
            <a:ext cx="106668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featur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;Arial"/>
              </a:rPr>
              <a:t>an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 permits the specification of values that can express </a:t>
            </a:r>
            <a:r>
              <a:rPr b="0" lang="en-GB" sz="3200" spc="-1" strike="noStrike" u="sng">
                <a:solidFill>
                  <a:srgbClr val="000099"/>
                </a:solidFill>
                <a:uFillTx/>
                <a:latin typeface="Times New Roman"/>
              </a:rPr>
              <a:t>any OMG IDL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Times New Roman;Arial"/>
              </a:rPr>
              <a:t>an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lang="en-GB" sz="3200" spc="-1" strike="noStrike" u="sng">
                <a:solidFill>
                  <a:srgbClr val="000099"/>
                </a:solidFill>
                <a:uFillTx/>
                <a:latin typeface="Times New Roman"/>
              </a:rPr>
              <a:t>a TypeCode and a valu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is described by the Type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ch IDL language mapping provides </a:t>
            </a:r>
            <a:r>
              <a:rPr b="0" lang="en-GB" sz="3200" spc="-1" strike="noStrike" u="sng">
                <a:solidFill>
                  <a:srgbClr val="000099"/>
                </a:solidFill>
                <a:uFillTx/>
                <a:latin typeface="Times New Roman"/>
              </a:rPr>
              <a:t>operat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allow </a:t>
            </a:r>
            <a:r>
              <a:rPr b="0" lang="en-GB" sz="3200" spc="-1" strike="noStrike" u="sng">
                <a:solidFill>
                  <a:srgbClr val="000099"/>
                </a:solidFill>
                <a:uFillTx/>
                <a:latin typeface="Times New Roman"/>
              </a:rPr>
              <a:t>to insert and acce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TypeCode and value contained in an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he golden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can pass in Any only “things” whose types are known to the receiving program already </a:t>
            </a:r>
            <a:r>
              <a:rPr b="0" lang="en-GB" sz="3200" spc="-1" strike="noStrike" u="sng">
                <a:solidFill>
                  <a:srgbClr val="000099"/>
                </a:solidFill>
                <a:uFillTx/>
                <a:latin typeface="Times New Roman"/>
              </a:rPr>
              <a:t>in time of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the “things” in Any can be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c IDL types (boolean, float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quences of (most) basic IDL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ing and WString are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defined in IDL files known to both sites of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eating Any’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n J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an empty An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Any any = orb.create_an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ert the value into the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basic ID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String str = “Hello World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any.insert_string (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compiled IDL types use their Helper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MyClass myClass = new MyClass 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MyClassHelper.insert (any, myClas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sequences of basic IDL types use their Helper classes that are provided by O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int[] myNumbers = new int[] { 1, 2, 3, 4, 6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ShortSeqHelper.insert (any, myNumbe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tracting from Any’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n J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ract the value from an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basic IDL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int number = any.extract_sh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compiled IDL types use their Helper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MyClass myClass = MyClassHelper.extract (an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sequences of basic IDL types use their Helper classes that are provided by O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Narrow"/>
              </a:rPr>
              <a:t>int[] myNumbers = ShortSeqHelper.extract (an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course, first you have to know what type you have got in the An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RBA TypeC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ype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are values that represent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Code is described as a CORBA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 methods to enquire what type it represe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sk if two TypeCodes are equal or equivale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with some exceptions (BadParam, Bou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Codes are used in Any’s, by Interface Repository, by DII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8:02Z</dcterms:created>
  <dc:creator>Martin Senger</dc:creator>
  <dc:description/>
  <dc:language>en-US</dc:language>
  <cp:lastModifiedBy>Martin Senger</cp:lastModifiedBy>
  <dcterms:modified xsi:type="dcterms:W3CDTF">2000-06-22T13:24:08Z</dcterms:modified>
  <cp:revision>40</cp:revision>
  <dc:subject/>
  <dc:title>CORBA Any’s and TypeCo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senger</vt:lpwstr>
  </property>
  <property fmtid="{D5CDD505-2E9C-101B-9397-08002B2CF9AE}" pid="9" name="LinkColor">
    <vt:r8>16711782</vt:r8>
  </property>
  <property fmtid="{D5CDD505-2E9C-101B-9397-08002B2CF9AE}" pid="10" name="MailAddress">
    <vt:lpwstr>senger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Martin\talks\ws-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