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49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7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3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7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3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609480"/>
            <a:ext cx="7467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49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26480" cy="530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2880" indent="-33660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95440" indent="-33660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7720" indent="-34596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7720" indent="-345960">
              <a:spcBef>
                <a:spcPts val="799"/>
              </a:spcBef>
              <a:buClr>
                <a:srgbClr val="000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7720" indent="-345960">
              <a:spcBef>
                <a:spcPts val="799"/>
              </a:spcBef>
              <a:buClr>
                <a:srgbClr val="000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Robi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724280" y="6156360"/>
            <a:ext cx="44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anks to Ewan Birney for encapsulating parts of this on the bioperl mai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oses methods not data - virtual seq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icient transport and (de)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L has strong 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les object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les security and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accessible t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construction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IDL design is not-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of whole object can b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 (HT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 based around HTTP - use Ap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all data to be publish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request gets al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11040" indent="-31104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920" indent="-3114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ing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920" indent="-3114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e object model and subtle relationships and forced into hierarchical description (ID/ID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920" indent="-3114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icient if only want a small piece of X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920" indent="-3114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DTD is not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920" indent="-3114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methods easier to use than parse data and DI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ss is Green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XML and CORBA have each made forays into the others terr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RBA structs are a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as middleware: XML-RPC and 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s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has some limitations that make its use as middleware somewhat insane (IMHO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transactions, security, error handling, session management, inheritance, object identity and state, plus text is inefficient compared to machine-readable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calls are more useful than tagged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cannot understand th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a string in XML (DTD is limi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 object model in forced tre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maybe no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can handle very large data files as it need not build an object in memory (S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approach is piece at a time a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vers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has no versioning of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can easily “serialise”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XML file as persistent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using HTTP overcomes firewal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enter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Object Access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to exchange XML data betwee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compatibility of Windows 2000 and COM with othe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2880" indent="-3366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- COM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or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s of XML in CORBA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figuration (CORBA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rtable documen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ign metadata (X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in-system applicati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the OMG-LSR B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2360" indent="-3423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omolecular Sequen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tandard specification adopted by OMG for accessing analysis tools and related bio-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has two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chinery for analysis (uses 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ption of bio-objects (no XML invol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industry.ebi.ac.uk/openB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ed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BI’s implementation of the BSA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alysis is defined b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BA IDL methods an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by metadata defined in XM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XML data are accessible by calling CORBA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70120" y="4514760"/>
            <a:ext cx="6550200" cy="1189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nst string AnalysisTypeTag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= "TAG_ANALYSIS_TYPE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nst string InputPropertiesTag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= "TAG_INPUT_PROPERTIES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onst string OutputPropertiesTag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= "TAG_OUTPUT_PROPERTIES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adonly attribute StringList metadata_tag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taData describe (in string tagname) raises (DoesNotExistExceptio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2080" y="3886200"/>
            <a:ext cx="2547000" cy="916920"/>
            <a:chOff x="82080" y="3886200"/>
            <a:chExt cx="2547000" cy="916920"/>
          </a:xfrm>
        </p:grpSpPr>
        <p:pic>
          <p:nvPicPr>
            <p:cNvPr id="84" name="red" descr=""/>
            <p:cNvPicPr/>
            <p:nvPr/>
          </p:nvPicPr>
          <p:blipFill>
            <a:blip r:embed="rId1"/>
            <a:stretch/>
          </p:blipFill>
          <p:spPr>
            <a:xfrm>
              <a:off x="2514600" y="457200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80" y="3886200"/>
              <a:ext cx="1410480" cy="91692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etadata c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e asked 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"in pieces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5" idx="3"/>
              <a:endCxn id="84" idx="1"/>
            </p:cNvCxnSpPr>
            <p:nvPr/>
          </p:nvCxnSpPr>
          <p:spPr>
            <a:xfrm>
              <a:off x="1472760" y="4351320"/>
              <a:ext cx="1042200" cy="278280"/>
            </a:xfrm>
            <a:prstGeom prst="straightConnector1">
              <a:avLst/>
            </a:prstGeom>
            <a:ln cap="sq" w="19080">
              <a:solidFill>
                <a:srgbClr val="808080"/>
              </a:solidFill>
              <a:miter/>
              <a:tailEnd len="sm" type="triangle" w="sm"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81720" y="5396040"/>
            <a:ext cx="2547360" cy="916920"/>
            <a:chOff x="81720" y="5396040"/>
            <a:chExt cx="2547360" cy="916920"/>
          </a:xfrm>
        </p:grpSpPr>
        <p:pic>
          <p:nvPicPr>
            <p:cNvPr id="88" name="red" descr=""/>
            <p:cNvPicPr/>
            <p:nvPr/>
          </p:nvPicPr>
          <p:blipFill>
            <a:blip r:embed="rId2"/>
            <a:stretch/>
          </p:blipFill>
          <p:spPr>
            <a:xfrm>
              <a:off x="2514600" y="556272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1720" y="5396040"/>
              <a:ext cx="1354320" cy="91692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ings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the 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3"/>
              <a:endCxn id="88" idx="1"/>
            </p:cNvCxnSpPr>
            <p:nvPr/>
          </p:nvCxnSpPr>
          <p:spPr>
            <a:xfrm flipV="1">
              <a:off x="1441080" y="5618880"/>
              <a:ext cx="1073520" cy="242280"/>
            </a:xfrm>
            <a:prstGeom prst="straightConnector1">
              <a:avLst/>
            </a:prstGeom>
            <a:ln cap="sq" w="19080">
              <a:solidFill>
                <a:srgbClr val="808080"/>
              </a:solidFill>
              <a:miter/>
              <a:tailEnd len="sm" type="triangle" w="sm"/>
            </a:ln>
          </p:spPr>
        </p:cxnSp>
      </p:grpSp>
      <p:grpSp>
        <p:nvGrpSpPr>
          <p:cNvPr id="91" name=""/>
          <p:cNvGrpSpPr/>
          <p:nvPr/>
        </p:nvGrpSpPr>
        <p:grpSpPr>
          <a:xfrm>
            <a:off x="2746440" y="5791320"/>
            <a:ext cx="4683240" cy="522000"/>
            <a:chOff x="2746440" y="5791320"/>
            <a:chExt cx="4683240" cy="522000"/>
          </a:xfrm>
        </p:grpSpPr>
        <p:pic>
          <p:nvPicPr>
            <p:cNvPr id="92" name="red" descr=""/>
            <p:cNvPicPr/>
            <p:nvPr/>
          </p:nvPicPr>
          <p:blipFill>
            <a:blip r:embed="rId3"/>
            <a:stretch/>
          </p:blipFill>
          <p:spPr>
            <a:xfrm>
              <a:off x="7315200" y="579132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46440" y="5945040"/>
              <a:ext cx="3568680" cy="3682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viding metadata is not manda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3" idx="3"/>
              <a:endCxn id="92" idx="1"/>
            </p:cNvCxnSpPr>
            <p:nvPr/>
          </p:nvCxnSpPr>
          <p:spPr>
            <a:xfrm flipV="1">
              <a:off x="6305040" y="5847480"/>
              <a:ext cx="1010520" cy="288360"/>
            </a:xfrm>
            <a:prstGeom prst="straightConnector1">
              <a:avLst/>
            </a:prstGeom>
            <a:ln cap="sq" w="19080">
              <a:solidFill>
                <a:srgbClr val="80808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IDL are mappe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7840" y="1600200"/>
            <a:ext cx="4979880" cy="4356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?xml version = “1.0”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!DOCTYPE DsLSRAnalysis SYSTEM “DsLSRAnalysis.dtd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sLSRAnalysi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analysis type = “search.list” name = “blast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me = “query_sequenc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ype = “IDL:omg.org/DsLSRBioObjects/BioSequence:1.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datory = “tru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inpu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me = “sequence_lis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ype = “IDL:omg.org/DsLSRBioObjects/BioSequenceList:1.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datory = “tru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inpu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me = “search_resul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ype = “IDL:omg.org/DsLSRBioObjects/SearchResult:1.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outpu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analysi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/DsLSRAnalysi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2280" y="1625760"/>
            <a:ext cx="2995560" cy="4832640"/>
            <a:chOff x="152280" y="1625760"/>
            <a:chExt cx="2995560" cy="4832640"/>
          </a:xfrm>
        </p:grpSpPr>
        <p:sp>
          <p:nvSpPr>
            <p:cNvPr id="98" name=""/>
            <p:cNvSpPr/>
            <p:nvPr/>
          </p:nvSpPr>
          <p:spPr>
            <a:xfrm>
              <a:off x="152280" y="1625760"/>
              <a:ext cx="2514600" cy="1798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uetype AnalysisType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nam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supplie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versio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installatio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descriptio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3720" y="3675240"/>
              <a:ext cx="2994120" cy="1585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uetype InputPropertySpec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nam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CORBA::TypeCode 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boolean mandatory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any default_valu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any possible_value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3720" y="5511960"/>
              <a:ext cx="2994120" cy="946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uetype OutputPropertySpec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string nam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ublic CORBA::TypeCode typ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09680" y="1752480"/>
            <a:ext cx="1943280" cy="733320"/>
            <a:chOff x="2209680" y="1752480"/>
            <a:chExt cx="1943280" cy="733320"/>
          </a:xfrm>
        </p:grpSpPr>
        <p:pic>
          <p:nvPicPr>
            <p:cNvPr id="102" name="red" descr=""/>
            <p:cNvPicPr/>
            <p:nvPr/>
          </p:nvPicPr>
          <p:blipFill>
            <a:blip r:embed="rId1"/>
            <a:stretch/>
          </p:blipFill>
          <p:spPr>
            <a:xfrm>
              <a:off x="2209680" y="17524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red" descr=""/>
            <p:cNvPicPr/>
            <p:nvPr/>
          </p:nvPicPr>
          <p:blipFill>
            <a:blip r:embed="rId2"/>
            <a:stretch/>
          </p:blipFill>
          <p:spPr>
            <a:xfrm>
              <a:off x="4038480" y="236232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4" name=""/>
            <p:cNvCxnSpPr>
              <a:stCxn id="102" idx="3"/>
              <a:endCxn id="103" idx="1"/>
            </p:cNvCxnSpPr>
            <p:nvPr/>
          </p:nvCxnSpPr>
          <p:spPr>
            <a:xfrm>
              <a:off x="2324160" y="1809360"/>
              <a:ext cx="1715040" cy="610200"/>
            </a:xfrm>
            <a:prstGeom prst="straightConnector1">
              <a:avLst/>
            </a:prstGeom>
            <a:ln cap="sq" w="19080">
              <a:solidFill>
                <a:srgbClr val="80808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05" name=""/>
            <p:cNvSpPr/>
            <p:nvPr/>
          </p:nvSpPr>
          <p:spPr>
            <a:xfrm>
              <a:off x="2782800" y="1905120"/>
              <a:ext cx="971640" cy="5806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14600" y="2590920"/>
            <a:ext cx="1638360" cy="1333440"/>
            <a:chOff x="2514600" y="2590920"/>
            <a:chExt cx="1638360" cy="1333440"/>
          </a:xfrm>
        </p:grpSpPr>
        <p:pic>
          <p:nvPicPr>
            <p:cNvPr id="107" name="red" descr=""/>
            <p:cNvPicPr/>
            <p:nvPr/>
          </p:nvPicPr>
          <p:blipFill>
            <a:blip r:embed="rId3"/>
            <a:stretch/>
          </p:blipFill>
          <p:spPr>
            <a:xfrm>
              <a:off x="2514600" y="38098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red" descr=""/>
            <p:cNvPicPr/>
            <p:nvPr/>
          </p:nvPicPr>
          <p:blipFill>
            <a:blip r:embed="rId4"/>
            <a:stretch/>
          </p:blipFill>
          <p:spPr>
            <a:xfrm>
              <a:off x="4038480" y="259092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red" descr=""/>
            <p:cNvPicPr/>
            <p:nvPr/>
          </p:nvPicPr>
          <p:blipFill>
            <a:blip r:embed="rId5"/>
            <a:stretch/>
          </p:blipFill>
          <p:spPr>
            <a:xfrm>
              <a:off x="4038480" y="365760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0" name=""/>
            <p:cNvCxnSpPr>
              <a:stCxn id="107" idx="3"/>
              <a:endCxn id="108" idx="1"/>
            </p:cNvCxnSpPr>
            <p:nvPr/>
          </p:nvCxnSpPr>
          <p:spPr>
            <a:xfrm flipV="1">
              <a:off x="2628720" y="2647080"/>
              <a:ext cx="1410120" cy="1220040"/>
            </a:xfrm>
            <a:prstGeom prst="straightConnector1">
              <a:avLst/>
            </a:prstGeom>
            <a:ln cap="sq" w="19080">
              <a:solidFill>
                <a:srgbClr val="80808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11" name=""/>
            <p:cNvCxnSpPr>
              <a:stCxn id="107" idx="3"/>
              <a:endCxn id="109" idx="1"/>
            </p:cNvCxnSpPr>
            <p:nvPr/>
          </p:nvCxnSpPr>
          <p:spPr>
            <a:xfrm flipV="1">
              <a:off x="2628720" y="3714120"/>
              <a:ext cx="1410120" cy="153000"/>
            </a:xfrm>
            <a:prstGeom prst="straightConnector1">
              <a:avLst/>
            </a:prstGeom>
            <a:ln cap="sq" w="19080">
              <a:solidFill>
                <a:srgbClr val="80808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12" name=""/>
            <p:cNvSpPr/>
            <p:nvPr/>
          </p:nvSpPr>
          <p:spPr>
            <a:xfrm>
              <a:off x="2752200" y="3063960"/>
              <a:ext cx="1032480" cy="5806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66880" y="4724280"/>
            <a:ext cx="1486080" cy="1028880"/>
            <a:chOff x="2666880" y="4724280"/>
            <a:chExt cx="1486080" cy="1028880"/>
          </a:xfrm>
        </p:grpSpPr>
        <p:pic>
          <p:nvPicPr>
            <p:cNvPr id="114" name="red" descr=""/>
            <p:cNvPicPr/>
            <p:nvPr/>
          </p:nvPicPr>
          <p:blipFill>
            <a:blip r:embed="rId6"/>
            <a:stretch/>
          </p:blipFill>
          <p:spPr>
            <a:xfrm>
              <a:off x="2666880" y="56386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red" descr=""/>
            <p:cNvPicPr/>
            <p:nvPr/>
          </p:nvPicPr>
          <p:blipFill>
            <a:blip r:embed="rId7"/>
            <a:stretch/>
          </p:blipFill>
          <p:spPr>
            <a:xfrm>
              <a:off x="4038480" y="47242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6" name=""/>
            <p:cNvCxnSpPr>
              <a:stCxn id="114" idx="3"/>
              <a:endCxn id="115" idx="1"/>
            </p:cNvCxnSpPr>
            <p:nvPr/>
          </p:nvCxnSpPr>
          <p:spPr>
            <a:xfrm flipV="1">
              <a:off x="2781360" y="4781160"/>
              <a:ext cx="1257840" cy="915120"/>
            </a:xfrm>
            <a:prstGeom prst="straightConnector1">
              <a:avLst/>
            </a:prstGeom>
            <a:ln cap="sq" w="19080">
              <a:solidFill>
                <a:srgbClr val="80808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17" name=""/>
            <p:cNvSpPr/>
            <p:nvPr/>
          </p:nvSpPr>
          <p:spPr>
            <a:xfrm>
              <a:off x="2701080" y="4724280"/>
              <a:ext cx="1134720" cy="5806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 of (often biased) debate as to whether CORBA and XML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160" y="3460680"/>
            <a:ext cx="37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EBI’s BSA implementation and XM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8760" indent="-3387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s an extended BSA D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000" indent="-3391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BI’s “clever” clients will benefit from additional metda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000" indent="-3391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the “normal” clients will not recognise any difference and will be served “traditionall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760" indent="-3387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itionally it uses XML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000" indent="-3391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figuration of client-side “pipe-line”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78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ee: http://industry.ebi.ac.uk/albeanb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000" indent="-3391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between Java and Perl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/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and CORBA should be compleme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y appear competitive is usually due to uncertainty in the problem statement and differences in the soluti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beliefs rather than technical me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 of (often biased) debate as to whether CORBA and XML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160" y="3460680"/>
            <a:ext cx="37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52578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45957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standards to define inter-operation of applications, often running on different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 X and app Y can talk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IDL to define standard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handled by 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2880" indent="-3366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Java, python, C, C++,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e and stabl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4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eXtensible Markup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derived from SGML for marking-up non-binary text an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 X and app Y can exchang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DTD to define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http as transpor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s handle (de)marsh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2880" indent="-3366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Java, python, C, C++,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still develo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Aud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is loved by computer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no sense outside of an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design and implementation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based on II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for mission critic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loved by “hacke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format - Can write XML in an 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-steps some important desig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based on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Fallaci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5520" indent="-33552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BA is more complex than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33588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imes - but is XSL/XSLT simp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520" indent="-33552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riting XML is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33588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ing well-formed and valid XML is h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520" indent="-33552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ML is easy to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33588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if we understand th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520" indent="-33552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ML will allow us to easily shar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33588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if we use the same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33588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TD is text centric (no int, double, float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BA is for communication of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ML is for markup of (textual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RBA vs. XML in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2360" indent="-3423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BA and XML seen as competing in bioinformatics because we can have different approaches to solve the sam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ces - Objects vs.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95600" indent="-3330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want to interrogate a sequence object for my 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95600" indent="-333000">
              <a:spcBef>
                <a:spcPts val="601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 me a data file - I’ll use a pars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classes of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440" indent="-342720">
              <a:spcBef>
                <a:spcPts val="700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never the twain shall meet”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9:01:53Z</dcterms:created>
  <dc:creator>Alan J. Robinson</dc:creator>
  <dc:description/>
  <dc:language>en-US</dc:language>
  <cp:lastModifiedBy>Martin Senger</cp:lastModifiedBy>
  <dcterms:modified xsi:type="dcterms:W3CDTF">2000-06-22T16:10:36Z</dcterms:modified>
  <cp:revision>11</cp:revision>
  <dc:subject/>
  <dc:title>XML and CORB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alan</vt:lpwstr>
  </property>
  <property fmtid="{D5CDD505-2E9C-101B-9397-08002B2CF9AE}" pid="9" name="LinkColor">
    <vt:r8>16711782</vt:r8>
  </property>
  <property fmtid="{D5CDD505-2E9C-101B-9397-08002B2CF9AE}" pid="10" name="MailAddress">
    <vt:lpwstr>alan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