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498-E8B6-49D1-A697-6800D901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2000" y="4054680"/>
            <a:ext cx="912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BDA-48EF-4CB3-B4BC-7F585F89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588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2000" y="405468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5880" y="405468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DAA-7C0C-4493-A0E1-69B102A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120" y="190512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0240" y="190512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2000" y="405468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120" y="405468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0240" y="4054680"/>
            <a:ext cx="2936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9E2-CCC4-46E8-9EC8-6791937F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C67-E6EA-4060-A11A-756B3B2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58F-A8C4-4842-861C-271C7C0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445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5880" y="1905120"/>
            <a:ext cx="445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229-EB73-4C2E-A17E-2EE9CD87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539-95BF-43E3-97E1-002B797B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90440" y="304560"/>
            <a:ext cx="817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A24-73BD-4F35-AD55-DBE7E02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5880" y="1905120"/>
            <a:ext cx="445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2000" y="405468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E27-0D93-4CF6-8C92-EA92E9C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445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588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5880" y="405468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20E-53BE-49A8-AEC7-33DD5D6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5880" y="1905120"/>
            <a:ext cx="4451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2000" y="4054680"/>
            <a:ext cx="912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173-F1A8-4ACA-8953-E6D1C75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685360" y="6248520"/>
            <a:ext cx="1223640" cy="47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61640" y="6248520"/>
            <a:ext cx="2235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4360" y="6248520"/>
            <a:ext cx="33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48080" y="6248520"/>
            <a:ext cx="2235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FA4266-D3EE-4CB7-8B1C-FDAC5A6235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ilip Lijnz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; serv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A activation can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demand (servant mana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ser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ervant for many CORBA objec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ant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: inheritance-based or ti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keleton Interface (DSI)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599840"/>
            <a:ext cx="842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ID Uniqu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ant Re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Ac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-by-Value (OB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7680" y="175248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ing gap betwee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transmitted in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xten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 are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U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V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 functionality (meth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-like (can be N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of state cumber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of life cycle is mo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betwe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alue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1640" y="1905120"/>
            <a:ext cx="974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ave metho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ingle oth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are ‘truncation’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mplemen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pp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nnot be instanti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type SeqRegion: Interval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StrandType strand_typ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public boolean  start_relative_to_seq_end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IDL key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, private, public, supports, truncatable, abstract, native, cus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/supported b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as eith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ustom valuetype { …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rule GIOP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mapping specifies how to obtain fac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must obtai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if there are no methods nor inheritance from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: loss of language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ly slower than 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describe themselves ‘on the wi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 is no longer the only contract between client and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3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hings, most already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-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-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 data and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-re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2000" y="14479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ly need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le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ing initi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ming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s semantic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i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oes ma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nvention for object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Unix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L conven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baloc:/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baloc:/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NamingContexts +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s now 1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keeps m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2.3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3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F, UML, X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 tolerant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time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-re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xtensions to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programming providing services such as persistence, security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 data represented using XMI (=UML+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version of E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istribution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: create componen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ble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describing data format for structur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of data given by its Document Type Definition (DT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tructure; can be vali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tools available, e.g. for parsing XML into C++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/or COR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21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or c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y: objects and language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 objects and applications &lt;-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ing 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a format, CORBA an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stateless; CORBA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flexible, simple and verb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 full-fledged, can be mi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&amp; XML a good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data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3200400"/>
          <a:ext cx="8254800" cy="28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200400"/>
                    <a:ext cx="825480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F: Meta Object Fac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1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: Unified Model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 example of lay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I: Xml Metadata Inter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and exchanging of layers 1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F: representing models using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des in a server as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three top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semantics, O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data types describing user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Class, Association,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y for generating IDL from a MOF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type mappings and name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1640" y="1905120"/>
            <a:ext cx="94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for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, sequence, state dia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 and deploy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that can translate model to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, C++, DDL, ID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 ‘standard’ for describing data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 instance of MOF layer 1 (meta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tandard for textually representing MOF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models in particul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from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DTDs for meta-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importantly, the UML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XML describing a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dhering to the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anguage ma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ervices and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&lt;= 2.3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0 : standardized IDL and 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0: standardized II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version for most O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A, Dyn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2.3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-by-Value (OB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able Object Ad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adaptors are the layer between CORBA objects and programming language objects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-side on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bje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te/deactivat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ncarnate/etherilize serv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/start serv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atch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000" y="16765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smaller, simpler ORB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Object Adaptor (BO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available, but now depre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B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-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visions for servan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A abstra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292480"/>
            <a:ext cx="386712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4520" y="2292480"/>
            <a:ext cx="172080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2440" y="5270400"/>
            <a:ext cx="120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4840" y="5270400"/>
            <a:ext cx="120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440" y="1689120"/>
            <a:ext cx="2117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83480" y="2749680"/>
            <a:ext cx="399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83480" y="3282840"/>
            <a:ext cx="399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83480" y="4425840"/>
            <a:ext cx="3999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2920" y="2597040"/>
            <a:ext cx="4527360" cy="2730600"/>
          </a:xfrm>
          <a:prstGeom prst="roundRect">
            <a:avLst>
              <a:gd name="adj" fmla="val 12458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72280" y="2749680"/>
            <a:ext cx="1143000" cy="901440"/>
          </a:xfrm>
          <a:prstGeom prst="roundRect">
            <a:avLst>
              <a:gd name="adj" fmla="val 12458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72280" y="4273560"/>
            <a:ext cx="1143000" cy="596880"/>
          </a:xfrm>
          <a:prstGeom prst="roundRect">
            <a:avLst>
              <a:gd name="adj" fmla="val 12458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80200" y="275580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80200" y="4280040"/>
            <a:ext cx="89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4960" y="2901960"/>
            <a:ext cx="1526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4960" y="3359160"/>
            <a:ext cx="1526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4960" y="4502160"/>
            <a:ext cx="1526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73280" y="2679840"/>
            <a:ext cx="89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92200" y="3206880"/>
            <a:ext cx="1522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57440" y="3276720"/>
            <a:ext cx="180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657080" y="2063880"/>
            <a:ext cx="406440" cy="1136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5080" y="1765440"/>
            <a:ext cx="145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91280" y="2063880"/>
            <a:ext cx="0" cy="831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3060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13600" y="1536840"/>
            <a:ext cx="162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supplied ser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2240" y="213984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80200" y="29718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80200" y="34290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80200" y="45720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A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creates new POAs in order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specific policy choices for the serv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different AdapterActi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different ServantManager or DefaultSer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 the name space of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Life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9760" y="2057400"/>
            <a:ext cx="71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9760" y="3657600"/>
            <a:ext cx="71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9760" y="5105520"/>
            <a:ext cx="71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2200" y="2139840"/>
            <a:ext cx="25462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1800" y="2146320"/>
            <a:ext cx="1704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 Object 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50080" y="2139840"/>
            <a:ext cx="25462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41800" y="3746520"/>
            <a:ext cx="1704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 Object Deactiv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1800" y="5194440"/>
            <a:ext cx="1704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 Object Non-ex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8640" y="4648320"/>
            <a:ext cx="414360" cy="763560"/>
          </a:xfrm>
          <a:custGeom>
            <a:avLst/>
            <a:gdLst/>
            <a:ahLst/>
            <a:rect l="l" t="t" r="r" b="b"/>
            <a:pathLst>
              <a:path w="261" h="481">
                <a:moveTo>
                  <a:pt x="130" y="0"/>
                </a:moveTo>
                <a:lnTo>
                  <a:pt x="260" y="205"/>
                </a:lnTo>
                <a:lnTo>
                  <a:pt x="195" y="205"/>
                </a:lnTo>
                <a:lnTo>
                  <a:pt x="195" y="480"/>
                </a:lnTo>
                <a:lnTo>
                  <a:pt x="65" y="480"/>
                </a:lnTo>
                <a:lnTo>
                  <a:pt x="65" y="205"/>
                </a:lnTo>
                <a:lnTo>
                  <a:pt x="0" y="205"/>
                </a:lnTo>
                <a:lnTo>
                  <a:pt x="13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59800" y="4648320"/>
            <a:ext cx="414360" cy="763560"/>
          </a:xfrm>
          <a:custGeom>
            <a:avLst/>
            <a:gdLst/>
            <a:ahLst/>
            <a:rect l="l" t="t" r="r" b="b"/>
            <a:pathLst>
              <a:path w="261" h="481">
                <a:moveTo>
                  <a:pt x="130" y="480"/>
                </a:moveTo>
                <a:lnTo>
                  <a:pt x="260" y="275"/>
                </a:lnTo>
                <a:lnTo>
                  <a:pt x="195" y="275"/>
                </a:lnTo>
                <a:lnTo>
                  <a:pt x="195" y="0"/>
                </a:lnTo>
                <a:lnTo>
                  <a:pt x="65" y="0"/>
                </a:lnTo>
                <a:lnTo>
                  <a:pt x="65" y="275"/>
                </a:lnTo>
                <a:lnTo>
                  <a:pt x="0" y="275"/>
                </a:lnTo>
                <a:lnTo>
                  <a:pt x="130" y="4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7680" y="4280040"/>
            <a:ext cx="14572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BA Object 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96040" y="4280040"/>
            <a:ext cx="14572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BA Object De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96920" y="3436920"/>
            <a:ext cx="403560" cy="617400"/>
          </a:xfrm>
          <a:custGeom>
            <a:avLst/>
            <a:gdLst/>
            <a:ahLst/>
            <a:rect l="l" t="t" r="r" b="b"/>
            <a:pathLst>
              <a:path w="255" h="389">
                <a:moveTo>
                  <a:pt x="167" y="0"/>
                </a:moveTo>
                <a:lnTo>
                  <a:pt x="254" y="187"/>
                </a:lnTo>
                <a:lnTo>
                  <a:pt x="191" y="173"/>
                </a:lnTo>
                <a:lnTo>
                  <a:pt x="137" y="388"/>
                </a:lnTo>
                <a:lnTo>
                  <a:pt x="10" y="361"/>
                </a:lnTo>
                <a:lnTo>
                  <a:pt x="64" y="146"/>
                </a:lnTo>
                <a:lnTo>
                  <a:pt x="0" y="133"/>
                </a:lnTo>
                <a:lnTo>
                  <a:pt x="167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54800" y="3436920"/>
            <a:ext cx="403200" cy="617400"/>
          </a:xfrm>
          <a:custGeom>
            <a:avLst/>
            <a:gdLst/>
            <a:ahLst/>
            <a:rect l="l" t="t" r="r" b="b"/>
            <a:pathLst>
              <a:path w="255" h="389">
                <a:moveTo>
                  <a:pt x="167" y="0"/>
                </a:moveTo>
                <a:lnTo>
                  <a:pt x="254" y="187"/>
                </a:lnTo>
                <a:lnTo>
                  <a:pt x="191" y="173"/>
                </a:lnTo>
                <a:lnTo>
                  <a:pt x="137" y="388"/>
                </a:lnTo>
                <a:lnTo>
                  <a:pt x="10" y="361"/>
                </a:lnTo>
                <a:lnTo>
                  <a:pt x="64" y="146"/>
                </a:lnTo>
                <a:lnTo>
                  <a:pt x="0" y="133"/>
                </a:lnTo>
                <a:lnTo>
                  <a:pt x="167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2880" y="3436920"/>
            <a:ext cx="403200" cy="617400"/>
          </a:xfrm>
          <a:custGeom>
            <a:avLst/>
            <a:gdLst/>
            <a:ahLst/>
            <a:rect l="l" t="t" r="r" b="b"/>
            <a:pathLst>
              <a:path w="255" h="389">
                <a:moveTo>
                  <a:pt x="167" y="388"/>
                </a:moveTo>
                <a:lnTo>
                  <a:pt x="254" y="201"/>
                </a:lnTo>
                <a:lnTo>
                  <a:pt x="191" y="215"/>
                </a:lnTo>
                <a:lnTo>
                  <a:pt x="137" y="0"/>
                </a:lnTo>
                <a:lnTo>
                  <a:pt x="10" y="27"/>
                </a:lnTo>
                <a:lnTo>
                  <a:pt x="64" y="242"/>
                </a:lnTo>
                <a:lnTo>
                  <a:pt x="0" y="255"/>
                </a:lnTo>
                <a:lnTo>
                  <a:pt x="167" y="3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5640" y="3436920"/>
            <a:ext cx="403200" cy="617400"/>
          </a:xfrm>
          <a:custGeom>
            <a:avLst/>
            <a:gdLst/>
            <a:ahLst/>
            <a:rect l="l" t="t" r="r" b="b"/>
            <a:pathLst>
              <a:path w="255" h="389">
                <a:moveTo>
                  <a:pt x="167" y="388"/>
                </a:moveTo>
                <a:lnTo>
                  <a:pt x="254" y="201"/>
                </a:lnTo>
                <a:lnTo>
                  <a:pt x="191" y="215"/>
                </a:lnTo>
                <a:lnTo>
                  <a:pt x="137" y="0"/>
                </a:lnTo>
                <a:lnTo>
                  <a:pt x="10" y="27"/>
                </a:lnTo>
                <a:lnTo>
                  <a:pt x="64" y="242"/>
                </a:lnTo>
                <a:lnTo>
                  <a:pt x="0" y="255"/>
                </a:lnTo>
                <a:lnTo>
                  <a:pt x="167" y="38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81080" y="244152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244476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00120" y="2146320"/>
            <a:ext cx="9619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ant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3040" y="3060720"/>
            <a:ext cx="12096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ant ethere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3400" y="2527200"/>
            <a:ext cx="71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244152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244476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58000" y="2146320"/>
            <a:ext cx="9619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ant inca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0560" y="3060720"/>
            <a:ext cx="12096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ant ethere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61280" y="2527200"/>
            <a:ext cx="71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0440" y="3045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IDs; lifes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912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e object key inside reference  or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ed by implementor or by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within a P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many object ids incarnated by a single servant (default serv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/Persisten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er guaranteed to be re-instant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6:16:04Z</dcterms:created>
  <dc:creator>asterix</dc:creator>
  <dc:description/>
  <dc:language>en-US</dc:language>
  <cp:lastModifiedBy>atoke.inf.elte.hu</cp:lastModifiedBy>
  <dcterms:modified xsi:type="dcterms:W3CDTF">2005-02-20T15:31:39Z</dcterms:modified>
  <cp:revision>46</cp:revision>
  <dc:subject/>
  <dc:title>Future develop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ebi.ac.uk/~lijnzaad</vt:lpwstr>
  </property>
  <property fmtid="{D5CDD505-2E9C-101B-9397-08002B2CF9AE}" pid="9" name="LinkColor">
    <vt:r8>16711782</vt:r8>
  </property>
  <property fmtid="{D5CDD505-2E9C-101B-9397-08002B2CF9AE}" pid="10" name="MailAddress">
    <vt:lpwstr>lijnzaad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Users\senger\ws-corba\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