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8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688680" y="741240"/>
            <a:ext cx="5367240" cy="3716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98200" y="4707000"/>
            <a:ext cx="4946760" cy="4457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4B24939-2238-477D-8CA0-1CE6A9BB15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4941910-0EFA-446D-BE4B-FE6D4BE4AB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701640" y="749160"/>
            <a:ext cx="5345280" cy="370224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898200" y="4707000"/>
            <a:ext cx="494676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20C34E0-12DB-47F6-990F-2093945533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 type="sldImg"/>
          </p:nvPr>
        </p:nvSpPr>
        <p:spPr>
          <a:xfrm>
            <a:off x="701640" y="749160"/>
            <a:ext cx="5345280" cy="3702240"/>
          </a:xfrm>
          <a:prstGeom prst="rect">
            <a:avLst/>
          </a:prstGeom>
          <a:ln w="0">
            <a:noFill/>
          </a:ln>
        </p:spPr>
      </p:sp>
      <p:sp>
        <p:nvSpPr>
          <p:cNvPr id="1474" name="PlaceHolder 2"/>
          <p:cNvSpPr>
            <a:spLocks noGrp="1"/>
          </p:cNvSpPr>
          <p:nvPr>
            <p:ph type="body"/>
          </p:nvPr>
        </p:nvSpPr>
        <p:spPr>
          <a:xfrm>
            <a:off x="898200" y="4707000"/>
            <a:ext cx="494676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CC2010C-2307-4E5A-B079-4801CDEFAA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sldImg"/>
          </p:nvPr>
        </p:nvSpPr>
        <p:spPr>
          <a:xfrm>
            <a:off x="701640" y="749160"/>
            <a:ext cx="5345280" cy="3702240"/>
          </a:xfrm>
          <a:prstGeom prst="rect">
            <a:avLst/>
          </a:prstGeom>
          <a:ln w="0">
            <a:noFill/>
          </a:ln>
        </p:spPr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898200" y="4707000"/>
            <a:ext cx="494676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D558DBD-A130-432C-9212-8F32E108D1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PlaceHolder 1"/>
          <p:cNvSpPr>
            <a:spLocks noGrp="1"/>
          </p:cNvSpPr>
          <p:nvPr>
            <p:ph type="sldImg"/>
          </p:nvPr>
        </p:nvSpPr>
        <p:spPr>
          <a:xfrm>
            <a:off x="701640" y="749160"/>
            <a:ext cx="5345280" cy="3702240"/>
          </a:xfrm>
          <a:prstGeom prst="rect">
            <a:avLst/>
          </a:prstGeom>
          <a:ln w="0">
            <a:noFill/>
          </a:ln>
        </p:spPr>
      </p:sp>
      <p:sp>
        <p:nvSpPr>
          <p:cNvPr id="1486" name="PlaceHolder 2"/>
          <p:cNvSpPr>
            <a:spLocks noGrp="1"/>
          </p:cNvSpPr>
          <p:nvPr>
            <p:ph type="body"/>
          </p:nvPr>
        </p:nvSpPr>
        <p:spPr>
          <a:xfrm>
            <a:off x="898200" y="4707000"/>
            <a:ext cx="494676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C627DA8-C1FD-45B8-9E61-48B7FD9836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sldImg"/>
          </p:nvPr>
        </p:nvSpPr>
        <p:spPr>
          <a:xfrm>
            <a:off x="701640" y="749160"/>
            <a:ext cx="5345280" cy="3702240"/>
          </a:xfrm>
          <a:prstGeom prst="rect">
            <a:avLst/>
          </a:prstGeom>
          <a:ln w="0">
            <a:noFill/>
          </a:ln>
        </p:spPr>
      </p:sp>
      <p:sp>
        <p:nvSpPr>
          <p:cNvPr id="1492" name="PlaceHolder 2"/>
          <p:cNvSpPr>
            <a:spLocks noGrp="1"/>
          </p:cNvSpPr>
          <p:nvPr>
            <p:ph type="body"/>
          </p:nvPr>
        </p:nvSpPr>
        <p:spPr>
          <a:xfrm>
            <a:off x="898200" y="4707000"/>
            <a:ext cx="494676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B99D501-2A32-4837-BDC9-9E897B2357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1"/>
          <p:cNvSpPr>
            <a:spLocks noGrp="1"/>
          </p:cNvSpPr>
          <p:nvPr>
            <p:ph type="sldImg"/>
          </p:nvPr>
        </p:nvSpPr>
        <p:spPr>
          <a:xfrm>
            <a:off x="701640" y="749160"/>
            <a:ext cx="5345280" cy="3702240"/>
          </a:xfrm>
          <a:prstGeom prst="rect">
            <a:avLst/>
          </a:prstGeom>
          <a:ln w="0">
            <a:noFill/>
          </a:ln>
        </p:spPr>
      </p:sp>
      <p:sp>
        <p:nvSpPr>
          <p:cNvPr id="1498" name="PlaceHolder 2"/>
          <p:cNvSpPr>
            <a:spLocks noGrp="1"/>
          </p:cNvSpPr>
          <p:nvPr>
            <p:ph type="body"/>
          </p:nvPr>
        </p:nvSpPr>
        <p:spPr>
          <a:xfrm>
            <a:off x="898200" y="4707000"/>
            <a:ext cx="494676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5AAA841-8C54-4E46-B3F9-B5BBA3A71D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PlaceHolder 1"/>
          <p:cNvSpPr>
            <a:spLocks noGrp="1"/>
          </p:cNvSpPr>
          <p:nvPr>
            <p:ph type="sldImg"/>
          </p:nvPr>
        </p:nvSpPr>
        <p:spPr>
          <a:xfrm>
            <a:off x="701640" y="749160"/>
            <a:ext cx="5345280" cy="3702240"/>
          </a:xfrm>
          <a:prstGeom prst="rect">
            <a:avLst/>
          </a:prstGeom>
          <a:ln w="0">
            <a:noFill/>
          </a:ln>
        </p:spPr>
      </p:sp>
      <p:sp>
        <p:nvSpPr>
          <p:cNvPr id="1504" name="PlaceHolder 2"/>
          <p:cNvSpPr>
            <a:spLocks noGrp="1"/>
          </p:cNvSpPr>
          <p:nvPr>
            <p:ph type="body"/>
          </p:nvPr>
        </p:nvSpPr>
        <p:spPr>
          <a:xfrm>
            <a:off x="898200" y="4707000"/>
            <a:ext cx="494676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05CE85A-3E53-4203-8F99-491ADB80E7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PlaceHolder 1"/>
          <p:cNvSpPr>
            <a:spLocks noGrp="1"/>
          </p:cNvSpPr>
          <p:nvPr>
            <p:ph type="sldImg"/>
          </p:nvPr>
        </p:nvSpPr>
        <p:spPr>
          <a:xfrm>
            <a:off x="701640" y="749160"/>
            <a:ext cx="5345280" cy="3702240"/>
          </a:xfrm>
          <a:prstGeom prst="rect">
            <a:avLst/>
          </a:prstGeom>
          <a:ln w="0">
            <a:noFill/>
          </a:ln>
        </p:spPr>
      </p:sp>
      <p:sp>
        <p:nvSpPr>
          <p:cNvPr id="1510" name="PlaceHolder 2"/>
          <p:cNvSpPr>
            <a:spLocks noGrp="1"/>
          </p:cNvSpPr>
          <p:nvPr>
            <p:ph type="body"/>
          </p:nvPr>
        </p:nvSpPr>
        <p:spPr>
          <a:xfrm>
            <a:off x="898200" y="4707000"/>
            <a:ext cx="494676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2DE94A2-D5C2-4A6D-B42B-3C62A58F82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1"/>
          <p:cNvSpPr>
            <a:spLocks noGrp="1"/>
          </p:cNvSpPr>
          <p:nvPr>
            <p:ph type="sldImg"/>
          </p:nvPr>
        </p:nvSpPr>
        <p:spPr>
          <a:xfrm>
            <a:off x="701640" y="749160"/>
            <a:ext cx="5345280" cy="3702240"/>
          </a:xfrm>
          <a:prstGeom prst="rect">
            <a:avLst/>
          </a:prstGeom>
          <a:ln w="0">
            <a:noFill/>
          </a:ln>
        </p:spPr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898200" y="4707000"/>
            <a:ext cx="494676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F2B4014-12E2-4001-9315-2D7366D321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PlaceHolder 1"/>
          <p:cNvSpPr>
            <a:spLocks noGrp="1"/>
          </p:cNvSpPr>
          <p:nvPr>
            <p:ph type="sldImg"/>
          </p:nvPr>
        </p:nvSpPr>
        <p:spPr>
          <a:xfrm>
            <a:off x="700200" y="750960"/>
            <a:ext cx="5343480" cy="3700440"/>
          </a:xfrm>
          <a:prstGeom prst="rect">
            <a:avLst/>
          </a:prstGeom>
          <a:ln w="0">
            <a:noFill/>
          </a:ln>
        </p:spPr>
      </p:sp>
      <p:sp>
        <p:nvSpPr>
          <p:cNvPr id="1522" name="PlaceHolder 2"/>
          <p:cNvSpPr>
            <a:spLocks noGrp="1"/>
          </p:cNvSpPr>
          <p:nvPr>
            <p:ph type="body"/>
          </p:nvPr>
        </p:nvSpPr>
        <p:spPr>
          <a:xfrm>
            <a:off x="898200" y="4707000"/>
            <a:ext cx="494676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3D43C39-1B85-44AA-8671-355577D4A3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1"/>
          <p:cNvSpPr>
            <a:spLocks noGrp="1"/>
          </p:cNvSpPr>
          <p:nvPr>
            <p:ph type="sldImg"/>
          </p:nvPr>
        </p:nvSpPr>
        <p:spPr>
          <a:xfrm>
            <a:off x="700200" y="750960"/>
            <a:ext cx="5343480" cy="3700440"/>
          </a:xfrm>
          <a:prstGeom prst="rect">
            <a:avLst/>
          </a:prstGeom>
          <a:ln w="0">
            <a:noFill/>
          </a:ln>
        </p:spPr>
      </p:sp>
      <p:sp>
        <p:nvSpPr>
          <p:cNvPr id="1528" name="PlaceHolder 2"/>
          <p:cNvSpPr>
            <a:spLocks noGrp="1"/>
          </p:cNvSpPr>
          <p:nvPr>
            <p:ph type="body"/>
          </p:nvPr>
        </p:nvSpPr>
        <p:spPr>
          <a:xfrm>
            <a:off x="898200" y="4707000"/>
            <a:ext cx="494676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20530C1-8104-41AE-A409-264FF9D829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PlaceHolder 1"/>
          <p:cNvSpPr>
            <a:spLocks noGrp="1"/>
          </p:cNvSpPr>
          <p:nvPr>
            <p:ph type="sldImg"/>
          </p:nvPr>
        </p:nvSpPr>
        <p:spPr>
          <a:xfrm>
            <a:off x="700200" y="750960"/>
            <a:ext cx="5343480" cy="3700440"/>
          </a:xfrm>
          <a:prstGeom prst="rect">
            <a:avLst/>
          </a:prstGeom>
          <a:ln w="0">
            <a:noFill/>
          </a:ln>
        </p:spPr>
      </p:sp>
      <p:sp>
        <p:nvSpPr>
          <p:cNvPr id="1534" name="PlaceHolder 2"/>
          <p:cNvSpPr>
            <a:spLocks noGrp="1"/>
          </p:cNvSpPr>
          <p:nvPr>
            <p:ph type="body"/>
          </p:nvPr>
        </p:nvSpPr>
        <p:spPr>
          <a:xfrm>
            <a:off x="898200" y="4707000"/>
            <a:ext cx="494676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B90F3D5-FC3F-49EB-8837-9BA1A47677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sldImg"/>
          </p:nvPr>
        </p:nvSpPr>
        <p:spPr>
          <a:xfrm>
            <a:off x="700200" y="750960"/>
            <a:ext cx="5343480" cy="3700440"/>
          </a:xfrm>
          <a:prstGeom prst="rect">
            <a:avLst/>
          </a:prstGeom>
          <a:ln w="0">
            <a:noFill/>
          </a:ln>
        </p:spPr>
      </p:sp>
      <p:sp>
        <p:nvSpPr>
          <p:cNvPr id="1540" name="PlaceHolder 2"/>
          <p:cNvSpPr>
            <a:spLocks noGrp="1"/>
          </p:cNvSpPr>
          <p:nvPr>
            <p:ph type="body"/>
          </p:nvPr>
        </p:nvSpPr>
        <p:spPr>
          <a:xfrm>
            <a:off x="898200" y="4707000"/>
            <a:ext cx="494676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C82D6BD-C85B-484A-819E-9E94707F03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1"/>
          <p:cNvSpPr>
            <a:spLocks noGrp="1"/>
          </p:cNvSpPr>
          <p:nvPr>
            <p:ph type="sldImg"/>
          </p:nvPr>
        </p:nvSpPr>
        <p:spPr>
          <a:xfrm>
            <a:off x="700200" y="750960"/>
            <a:ext cx="5343480" cy="3700440"/>
          </a:xfrm>
          <a:prstGeom prst="rect">
            <a:avLst/>
          </a:prstGeom>
          <a:ln w="0">
            <a:noFill/>
          </a:ln>
        </p:spPr>
      </p:sp>
      <p:sp>
        <p:nvSpPr>
          <p:cNvPr id="1546" name="PlaceHolder 2"/>
          <p:cNvSpPr>
            <a:spLocks noGrp="1"/>
          </p:cNvSpPr>
          <p:nvPr>
            <p:ph type="body"/>
          </p:nvPr>
        </p:nvSpPr>
        <p:spPr>
          <a:xfrm>
            <a:off x="898200" y="4707000"/>
            <a:ext cx="494676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4475BF6-A7D4-4F25-BF6A-D275A51F83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PlaceHolder 1"/>
          <p:cNvSpPr>
            <a:spLocks noGrp="1"/>
          </p:cNvSpPr>
          <p:nvPr>
            <p:ph type="sldImg"/>
          </p:nvPr>
        </p:nvSpPr>
        <p:spPr>
          <a:xfrm>
            <a:off x="700200" y="750960"/>
            <a:ext cx="5343480" cy="3700440"/>
          </a:xfrm>
          <a:prstGeom prst="rect">
            <a:avLst/>
          </a:prstGeom>
          <a:ln w="0">
            <a:noFill/>
          </a:ln>
        </p:spPr>
      </p:sp>
      <p:sp>
        <p:nvSpPr>
          <p:cNvPr id="1552" name="PlaceHolder 2"/>
          <p:cNvSpPr>
            <a:spLocks noGrp="1"/>
          </p:cNvSpPr>
          <p:nvPr>
            <p:ph type="body"/>
          </p:nvPr>
        </p:nvSpPr>
        <p:spPr>
          <a:xfrm>
            <a:off x="898200" y="4707000"/>
            <a:ext cx="494676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sldImg"/>
          </p:nvPr>
        </p:nvSpPr>
        <p:spPr>
          <a:xfrm>
            <a:off x="689040" y="741240"/>
            <a:ext cx="5367240" cy="3716640"/>
          </a:xfrm>
          <a:prstGeom prst="rect">
            <a:avLst/>
          </a:prstGeom>
          <a:ln w="0">
            <a:noFill/>
          </a:ln>
        </p:spPr>
      </p:sp>
      <p:sp>
        <p:nvSpPr>
          <p:cNvPr id="1462" name="PlaceHolder 2"/>
          <p:cNvSpPr>
            <a:spLocks noGrp="1"/>
          </p:cNvSpPr>
          <p:nvPr>
            <p:ph type="body"/>
          </p:nvPr>
        </p:nvSpPr>
        <p:spPr>
          <a:xfrm>
            <a:off x="898200" y="4707000"/>
            <a:ext cx="4946760" cy="4457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 - like a filesystem dire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 - like a filesystem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sldImg"/>
          </p:nvPr>
        </p:nvSpPr>
        <p:spPr>
          <a:xfrm>
            <a:off x="689040" y="741240"/>
            <a:ext cx="5367240" cy="3716640"/>
          </a:xfrm>
          <a:prstGeom prst="rect">
            <a:avLst/>
          </a:prstGeom>
          <a:ln w="0">
            <a:noFill/>
          </a:ln>
        </p:spPr>
      </p:sp>
      <p:sp>
        <p:nvSpPr>
          <p:cNvPr id="1554" name="PlaceHolder 2"/>
          <p:cNvSpPr>
            <a:spLocks noGrp="1"/>
          </p:cNvSpPr>
          <p:nvPr>
            <p:ph type="body"/>
          </p:nvPr>
        </p:nvSpPr>
        <p:spPr>
          <a:xfrm>
            <a:off x="898200" y="4707000"/>
            <a:ext cx="4946760" cy="4457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riteri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re name-value pairs. Suggested uses include initialisation parameters, constraints, policies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y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re names as defined in the Naming Service. Suggested uses include name of object interface, name of object implementation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689040" y="741240"/>
            <a:ext cx="5367240" cy="37166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898200" y="4707000"/>
            <a:ext cx="4946760" cy="4457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hips are characterised along the following dimens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ity 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gree (e.g. binary, ternary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in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antics (i.e. relationship attributes/operat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sldImg"/>
          </p:nvPr>
        </p:nvSpPr>
        <p:spPr>
          <a:xfrm>
            <a:off x="689040" y="741240"/>
            <a:ext cx="5367240" cy="3716640"/>
          </a:xfrm>
          <a:prstGeom prst="rect">
            <a:avLst/>
          </a:prstGeom>
          <a:ln w="0">
            <a:noFill/>
          </a:ln>
        </p:spPr>
      </p:sp>
      <p:sp>
        <p:nvSpPr>
          <p:cNvPr id="1558" name="PlaceHolder 2"/>
          <p:cNvSpPr>
            <a:spLocks noGrp="1"/>
          </p:cNvSpPr>
          <p:nvPr>
            <p:ph type="body"/>
          </p:nvPr>
        </p:nvSpPr>
        <p:spPr>
          <a:xfrm>
            <a:off x="898200" y="4707000"/>
            <a:ext cx="4946760" cy="4457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used when information is associated with an object but it is not part of the object’s 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y storage is an implementation 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sldImg"/>
          </p:nvPr>
        </p:nvSpPr>
        <p:spPr>
          <a:xfrm>
            <a:off x="689040" y="741240"/>
            <a:ext cx="5367240" cy="3716640"/>
          </a:xfrm>
          <a:prstGeom prst="rect">
            <a:avLst/>
          </a:prstGeom>
          <a:ln w="0">
            <a:noFill/>
          </a:ln>
        </p:spPr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898200" y="4707000"/>
            <a:ext cx="4946760" cy="4457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model: a supplier of an event initiates the transfer the event data to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model: a consumer of an event requests the event data from a suppl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423720" y="831960"/>
            <a:ext cx="5821560" cy="403200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898200" y="5118120"/>
            <a:ext cx="4870440" cy="478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atomi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if interrupted by failure, all effects are undone (rolled bac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duce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sist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sults: the effects of a transaction preserve invariant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ola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its intermediate states are not visible to other transactions; transactions appear to execute serially, even if they are performed concurren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b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the effects of a completed transaction are persistent; they are never l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ansaction can be terminated in 2 ways: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mitt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hanges are made permanent), o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olled back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hanges are undon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sldImg"/>
          </p:nvPr>
        </p:nvSpPr>
        <p:spPr>
          <a:xfrm>
            <a:off x="423720" y="831960"/>
            <a:ext cx="5821560" cy="4032000"/>
          </a:xfrm>
          <a:prstGeom prst="rect">
            <a:avLst/>
          </a:prstGeom>
          <a:ln w="0">
            <a:noFill/>
          </a:ln>
        </p:spPr>
      </p:sp>
      <p:sp>
        <p:nvSpPr>
          <p:cNvPr id="1564" name="PlaceHolder 2"/>
          <p:cNvSpPr>
            <a:spLocks noGrp="1"/>
          </p:cNvSpPr>
          <p:nvPr>
            <p:ph type="body"/>
          </p:nvPr>
        </p:nvSpPr>
        <p:spPr>
          <a:xfrm>
            <a:off x="898200" y="5118120"/>
            <a:ext cx="4870440" cy="478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sldImg"/>
          </p:nvPr>
        </p:nvSpPr>
        <p:spPr>
          <a:xfrm>
            <a:off x="423720" y="831960"/>
            <a:ext cx="5821560" cy="4032000"/>
          </a:xfrm>
          <a:prstGeom prst="rect">
            <a:avLst/>
          </a:prstGeom>
          <a:ln w="0">
            <a:noFill/>
          </a:ln>
        </p:spPr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898200" y="5118120"/>
            <a:ext cx="4870440" cy="478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lat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transactions: A top level transaction that has no child trans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este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transactions (optional): They provide for a finer granularity of recovery. Terms defined: parent, child, siblings, ancestors, descendants, transaction fami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y are used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solate failures; a failure in a subtransaction can be trapped and retried using an alternative method, still allowing the main transaction to succ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form sub-operations of a transaction in parall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-transactions are strictly nes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transaction cannot commit unless all of its children have comple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en a transaction is rolled back, all of its children are rolled b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423720" y="831960"/>
            <a:ext cx="5821560" cy="403200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898200" y="5118120"/>
            <a:ext cx="4870440" cy="478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ansactional Cli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A program that can invoke operations of many transactional objects in a single transaction. Not necessarily th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ransaction Originat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ansactional Objec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An object whose operations (not necessarily all) are affected by being invoked within the scope of a trans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coverable Objec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An object whose data is affected by committing or rolling back a transaction. A recoverable object registers an object called a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sour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ith the Transaction Service. The Transaction Service issues commit requests to the resour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ansactional Serv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A collection of objects whose behaviour is affected by the transaction, but which have no recoverable states of their own. It implements transactional changes using other recoverable objec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coverable Serv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A collection of objects, at least one of which is recoverable. It registers one or mor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sour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bjects with the Transaction Service in order to participate in transaction comple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ansaction Contex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The transaction information associated with a specific thread (e.g. the client threa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sldImg"/>
          </p:nvPr>
        </p:nvSpPr>
        <p:spPr>
          <a:xfrm>
            <a:off x="689040" y="741240"/>
            <a:ext cx="5367240" cy="3716640"/>
          </a:xfrm>
          <a:prstGeom prst="rect">
            <a:avLst/>
          </a:prstGeom>
          <a:ln w="0">
            <a:noFill/>
          </a:ln>
        </p:spPr>
      </p:sp>
      <p:sp>
        <p:nvSpPr>
          <p:cNvPr id="1570" name="PlaceHolder 2"/>
          <p:cNvSpPr>
            <a:spLocks noGrp="1"/>
          </p:cNvSpPr>
          <p:nvPr>
            <p:ph type="body"/>
          </p:nvPr>
        </p:nvSpPr>
        <p:spPr>
          <a:xfrm>
            <a:off x="898200" y="4707000"/>
            <a:ext cx="4946760" cy="4457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-phase lock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- growing phase (obtaining lock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d - shrinking phase (releasing lock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3862-CB3F-4856-BDF4-7B8A5ECB3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0546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BD52-4894-4D15-AA85-C8A93653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68F2-4A86-496A-A421-88C29011F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8066-F6EF-4A5F-8D4A-12C00DB0E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8DAD-926C-48DA-8D35-49347173F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E8D0-2303-4311-ADD6-D68C7426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BC99-6233-43F4-8703-374FF35B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DED2-61D8-4B05-9A68-087B482F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B705-02F5-4481-9619-7045FADF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42680" y="3805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89D7-45E2-4F51-B706-D0C6B0A4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4268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F653-8989-4A5A-95B1-76A53C26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F64C-D071-4713-92FB-9EC30423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728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E253-48B2-45CE-AD6E-87A62349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42680" y="40546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AD49-7DC4-49C1-91E9-7B11964B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42680" y="40546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8957-8A53-408F-80A7-8561B13A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4268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728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167F-4B70-44A3-97D6-27EC8152C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992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3680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4268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992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3680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B28C-11DC-4D55-B770-02BF29444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5933-A860-43B4-BFC1-9316F83D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A7BB-4D25-42A1-9773-C5B13B05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9B1A-9085-4B35-A4DC-607921B9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3805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D806-2AFD-4534-B48E-7F442B90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C992-DDAC-45AD-AB97-CBA17E80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0A0A-5C0C-4A4D-BEE8-158E49C2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0546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F70B-2CB4-4CA4-AAAC-3E2EAE89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41E09B7-B7E1-4878-B5C3-8DF9324281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56D0431-499F-4C59-B097-2D85E608C4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and not domain specif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interface and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ic (do not depend on the client obje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find services is a different 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: Common Object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rbanam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URL Sch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742680" y="152388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 allows URLs to denote entries in a Naming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corbanam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corbaname&gt;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rbaname:” &lt;corbaloc_obj&gt; [“#” &lt;string_name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rbaname://555xyz.com/dev/Ncontext1#a/b/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rbaname://555xyz.com#a/b/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rbaname:///#a/b/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rbaname://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ing Service Interfaces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368080" y="2706120"/>
            <a:ext cx="5228280" cy="228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ingContex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ringName to_string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ame to_name(String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RLString to_url(Address, String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resolve_str(String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taining Initial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olv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obj = ORB::resolve_initial_references( “NameService”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rrow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ingContext nc = NamingContextHelper.narrow(obj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figuring Initial Service Ref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60240" y="190512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B-specific config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ing ORBInitR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mat: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-ORBInitRef &lt;ObjectID&gt;=&lt;ObjectUR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-ORBInitRef NameService=IOR:00230021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ing ORBDefaultInitR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mat: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-ORBDefaultInitRef &lt;UR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-ORBDefaultInitRef corbaname://555obj.com/d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rting/Connecting to ORBacus Basic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CLASSPATH to OBNaming.j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ing the servi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 com.ooc.CosNaming.Server -i -OAport 10000 &gt; nameserv.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ing to the servi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 MyClient -ORBservice NameService `cat nameserv.ior`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742680" y="2514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ing Object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ing Object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 is the CORB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Yellow P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dvertises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scovers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Trader and its U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214880" y="2519280"/>
            <a:ext cx="1473120" cy="51768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210200" y="2527200"/>
            <a:ext cx="1485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235240" y="4349880"/>
            <a:ext cx="1555560" cy="596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197760" y="4349880"/>
            <a:ext cx="1555560" cy="596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228760" y="4432320"/>
            <a:ext cx="1568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191280" y="4432320"/>
            <a:ext cx="1568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3057480" y="3051000"/>
            <a:ext cx="1481040" cy="1290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 flipV="1">
            <a:off x="5369040" y="3051000"/>
            <a:ext cx="1481040" cy="1290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618160" y="3052800"/>
            <a:ext cx="1481040" cy="1290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3801600" y="4572000"/>
            <a:ext cx="238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801960" y="4724280"/>
            <a:ext cx="238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068640" y="3365640"/>
            <a:ext cx="96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x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288120" y="3137040"/>
            <a:ext cx="1044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mport Rep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132520" y="3441600"/>
            <a:ext cx="1044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mport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059360" y="4203720"/>
            <a:ext cx="2117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ervice Inv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224240" y="4737240"/>
            <a:ext cx="170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ervice Rep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ing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784840" y="2292480"/>
            <a:ext cx="482760" cy="36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875200" y="2298600"/>
            <a:ext cx="301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518240" y="2292480"/>
            <a:ext cx="482760" cy="36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608960" y="2298600"/>
            <a:ext cx="301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372280" y="3664080"/>
            <a:ext cx="482400" cy="36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462640" y="3670200"/>
            <a:ext cx="301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344080" y="3740040"/>
            <a:ext cx="482400" cy="36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434440" y="3746520"/>
            <a:ext cx="301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940440" y="4883040"/>
            <a:ext cx="482760" cy="36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031160" y="4889520"/>
            <a:ext cx="301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5618160" y="2671920"/>
            <a:ext cx="325440" cy="98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846920" y="2671920"/>
            <a:ext cx="738360" cy="106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865840" y="3890880"/>
            <a:ext cx="2471760" cy="7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618160" y="4043520"/>
            <a:ext cx="1398600" cy="909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H="1">
            <a:off x="7351200" y="4119480"/>
            <a:ext cx="1150920" cy="833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743040" y="2666880"/>
            <a:ext cx="420984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distribute the trading object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contextualise the offer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Descri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4304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rvice is described by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rvice ty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ich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terface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ro or more property type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161560" y="52560"/>
            <a:ext cx="14356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67000" y="552600"/>
            <a:ext cx="5778720" cy="14605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12920" y="476280"/>
            <a:ext cx="5793120" cy="146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63720" y="4114800"/>
            <a:ext cx="8157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63720" y="4457880"/>
            <a:ext cx="8157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49640" y="4119480"/>
            <a:ext cx="34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26760" y="4119480"/>
            <a:ext cx="359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21160" y="4119480"/>
            <a:ext cx="34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99000" y="4119480"/>
            <a:ext cx="34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76840" y="4119480"/>
            <a:ext cx="34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42080" y="4119480"/>
            <a:ext cx="245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411948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48360" y="4119480"/>
            <a:ext cx="245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22880" y="4119480"/>
            <a:ext cx="359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13680" y="4119480"/>
            <a:ext cx="321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119480"/>
            <a:ext cx="245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34000" y="411948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1160" y="411948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06520" y="4119480"/>
            <a:ext cx="257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88240" y="4119480"/>
            <a:ext cx="245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61680" y="4119480"/>
            <a:ext cx="34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8800" y="411948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77040" y="4119480"/>
            <a:ext cx="321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27880" y="4119480"/>
            <a:ext cx="321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79440" y="411948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15880" y="411948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53760" y="4119480"/>
            <a:ext cx="257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35120" y="4119480"/>
            <a:ext cx="245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08560" y="4119480"/>
            <a:ext cx="34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84600" y="4119480"/>
            <a:ext cx="270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82880" y="4119480"/>
            <a:ext cx="321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34080" y="411948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72320" y="411948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06960" y="4119480"/>
            <a:ext cx="270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716040" y="3975120"/>
            <a:ext cx="371160" cy="596880"/>
            <a:chOff x="716040" y="3975120"/>
            <a:chExt cx="371160" cy="596880"/>
          </a:xfrm>
        </p:grpSpPr>
        <p:sp>
          <p:nvSpPr>
            <p:cNvPr id="126" name=""/>
            <p:cNvSpPr/>
            <p:nvPr/>
          </p:nvSpPr>
          <p:spPr>
            <a:xfrm>
              <a:off x="716040" y="4292640"/>
              <a:ext cx="37116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716040" y="3975120"/>
              <a:ext cx="371160" cy="342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8983440" y="3975120"/>
            <a:ext cx="426600" cy="596880"/>
            <a:chOff x="8983440" y="3975120"/>
            <a:chExt cx="426600" cy="596880"/>
          </a:xfrm>
        </p:grpSpPr>
        <p:sp>
          <p:nvSpPr>
            <p:cNvPr id="129" name=""/>
            <p:cNvSpPr/>
            <p:nvPr/>
          </p:nvSpPr>
          <p:spPr>
            <a:xfrm flipH="1">
              <a:off x="8983440" y="4292640"/>
              <a:ext cx="42660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8983440" y="3975120"/>
              <a:ext cx="426600" cy="342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712880" y="446400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89040" y="4921200"/>
            <a:ext cx="23328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19120" y="5116680"/>
            <a:ext cx="2728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16320" y="511668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94800" y="5116680"/>
            <a:ext cx="2865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05320" y="5116680"/>
            <a:ext cx="2088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38440" y="511668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14040" y="511668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84400" y="4464000"/>
            <a:ext cx="0" cy="11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60560" y="5607000"/>
            <a:ext cx="23328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19080" y="5802480"/>
            <a:ext cx="2653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8360" y="5802480"/>
            <a:ext cx="2455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78200" y="580248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4520" y="580248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29400" y="5802480"/>
            <a:ext cx="2163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55920" y="446400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32080" y="4921200"/>
            <a:ext cx="23328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50920" y="5116680"/>
            <a:ext cx="2653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40200" y="511668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17600" y="5116680"/>
            <a:ext cx="2242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64040" y="5116680"/>
            <a:ext cx="2455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33160" y="5116680"/>
            <a:ext cx="2088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5116680"/>
            <a:ext cx="2455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30000" y="5116680"/>
            <a:ext cx="2163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70320" y="511668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45920" y="511668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22960" y="5116680"/>
            <a:ext cx="2163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59680" y="5116680"/>
            <a:ext cx="18144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57480" y="5256360"/>
            <a:ext cx="2804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64040" y="525636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39280" y="5256360"/>
            <a:ext cx="2088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71320" y="525636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46560" y="5256360"/>
            <a:ext cx="2455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14240" y="5256360"/>
            <a:ext cx="2163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7440" y="4464000"/>
            <a:ext cx="0" cy="11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03600" y="5607000"/>
            <a:ext cx="23328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35400" y="580248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0" y="5802480"/>
            <a:ext cx="2088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40520" y="5802480"/>
            <a:ext cx="2163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79760" y="580248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655720" y="5802480"/>
            <a:ext cx="2163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695680" y="5802480"/>
            <a:ext cx="2728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94320" y="5802480"/>
            <a:ext cx="2455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60920" y="5802480"/>
            <a:ext cx="2455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31480" y="5802480"/>
            <a:ext cx="2088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61000" y="580248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98960" y="446400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75120" y="4921200"/>
            <a:ext cx="23328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52560" y="5114880"/>
            <a:ext cx="2638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144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40400" y="5114880"/>
            <a:ext cx="2455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14400"/>
                </a:solidFill>
                <a:latin typeface="Arial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09520" y="5114880"/>
            <a:ext cx="2455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14400"/>
                </a:solidFill>
                <a:latin typeface="Arial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77560" y="5114880"/>
            <a:ext cx="2394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144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39480" y="5114880"/>
            <a:ext cx="2455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14400"/>
                </a:solidFill>
                <a:latin typeface="Arial"/>
              </a:rPr>
              <a:t>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07880" y="5114880"/>
            <a:ext cx="2196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14400"/>
                </a:solidFill>
                <a:latin typeface="Aria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49280" y="5114880"/>
            <a:ext cx="2196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14400"/>
                </a:solidFill>
                <a:latin typeface="Aria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91040" y="5114880"/>
            <a:ext cx="2455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14400"/>
                </a:solidFill>
                <a:latin typeface="Arial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61960" y="5114880"/>
            <a:ext cx="2455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14400"/>
                </a:solidFill>
                <a:latin typeface="Arial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28200" y="5114880"/>
            <a:ext cx="2394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144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90120" y="5114880"/>
            <a:ext cx="2394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14400"/>
                </a:solidFill>
                <a:latin typeface="Arial"/>
              </a:rPr>
              <a:t>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70120" y="4464000"/>
            <a:ext cx="0" cy="11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46640" y="5607000"/>
            <a:ext cx="23328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00680" y="5813280"/>
            <a:ext cx="2577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14400"/>
                </a:solidFill>
                <a:latin typeface="Arial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82040" y="5813280"/>
            <a:ext cx="2394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14400"/>
                </a:solidFill>
                <a:latin typeface="Arial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43600" y="5813280"/>
            <a:ext cx="2134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14400"/>
                </a:solidFill>
                <a:latin typeface="Arial"/>
              </a:rPr>
              <a:t>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78520" y="5813280"/>
            <a:ext cx="2455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14400"/>
                </a:solidFill>
                <a:latin typeface="Arial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347640" y="5813280"/>
            <a:ext cx="2196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14400"/>
                </a:solidFill>
                <a:latin typeface="Aria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89400" y="5813280"/>
            <a:ext cx="2455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14400"/>
                </a:solidFill>
                <a:latin typeface="Arial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57800" y="5813280"/>
            <a:ext cx="2455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144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24400" y="5813280"/>
            <a:ext cx="207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14400"/>
                </a:solidFill>
                <a:latin typeface="Arial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53200" y="5813280"/>
            <a:ext cx="207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14400"/>
                </a:solidFill>
                <a:latin typeface="Arial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81640" y="5813280"/>
            <a:ext cx="2394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14400"/>
                </a:solidFill>
                <a:latin typeface="Arial"/>
              </a:rPr>
              <a:t>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43560" y="5813280"/>
            <a:ext cx="2455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144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10880" y="5813280"/>
            <a:ext cx="2134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14400"/>
                </a:solidFill>
                <a:latin typeface="Arial"/>
              </a:rPr>
              <a:t>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44360" y="5813280"/>
            <a:ext cx="207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14400"/>
                </a:solidFill>
                <a:latin typeface="Arial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73520" y="5813280"/>
            <a:ext cx="2455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14400"/>
                </a:solidFill>
                <a:latin typeface="Arial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43360" y="5813280"/>
            <a:ext cx="2455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14400"/>
                </a:solidFill>
                <a:latin typeface="Arial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41640" y="446400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17800" y="4921200"/>
            <a:ext cx="233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22240" y="5114880"/>
            <a:ext cx="2638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14400"/>
                </a:solidFill>
                <a:latin typeface="Aria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11160" y="5114880"/>
            <a:ext cx="2455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14400"/>
                </a:solidFill>
                <a:latin typeface="Arial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78480" y="5114880"/>
            <a:ext cx="207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14400"/>
                </a:solidFill>
                <a:latin typeface="Arial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06920" y="5114880"/>
            <a:ext cx="2455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144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75320" y="5114880"/>
            <a:ext cx="2134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14400"/>
                </a:solidFill>
                <a:latin typeface="Arial"/>
              </a:rPr>
              <a:t>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0" y="5114880"/>
            <a:ext cx="207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14400"/>
                </a:solidFill>
                <a:latin typeface="Arial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37960" y="5114880"/>
            <a:ext cx="2455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14400"/>
                </a:solidFill>
                <a:latin typeface="Arial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07080" y="5114880"/>
            <a:ext cx="2455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14400"/>
                </a:solidFill>
                <a:latin typeface="Arial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74400" y="5114880"/>
            <a:ext cx="2394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14400"/>
                </a:solidFill>
                <a:latin typeface="Arial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37040" y="5114880"/>
            <a:ext cx="2455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144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04720" y="5114880"/>
            <a:ext cx="207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14400"/>
                </a:solidFill>
                <a:latin typeface="Arial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33880" y="5114880"/>
            <a:ext cx="2455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14400"/>
                </a:solidFill>
                <a:latin typeface="Arial"/>
              </a:rPr>
              <a:t>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13160" y="4464000"/>
            <a:ext cx="0" cy="11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89320" y="5607000"/>
            <a:ext cx="23328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70440" y="5813280"/>
            <a:ext cx="2516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14400"/>
                </a:solidFill>
                <a:latin typeface="Arial"/>
              </a:rPr>
              <a:t>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39920" y="5813280"/>
            <a:ext cx="2196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14400"/>
                </a:solidFill>
                <a:latin typeface="Aria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81680" y="5813280"/>
            <a:ext cx="2455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144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52960" y="5813280"/>
            <a:ext cx="2455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14400"/>
                </a:solidFill>
                <a:latin typeface="Arial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21360" y="5813280"/>
            <a:ext cx="2394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14400"/>
                </a:solidFill>
                <a:latin typeface="Arial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83280" y="5813280"/>
            <a:ext cx="2455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144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51320" y="5813280"/>
            <a:ext cx="2394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144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2880" y="5813280"/>
            <a:ext cx="2134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14400"/>
                </a:solidFill>
                <a:latin typeface="Arial"/>
              </a:rPr>
              <a:t>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46720" y="5813280"/>
            <a:ext cx="207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14400"/>
                </a:solidFill>
                <a:latin typeface="Arial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75520" y="5813280"/>
            <a:ext cx="2455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14400"/>
                </a:solidFill>
                <a:latin typeface="Arial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45360" y="5813280"/>
            <a:ext cx="2455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14400"/>
                </a:solidFill>
                <a:latin typeface="Arial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684680" y="446400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60840" y="4921200"/>
            <a:ext cx="23328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39520" y="5116680"/>
            <a:ext cx="2804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45360" y="511668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623120" y="511668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98000" y="5116680"/>
            <a:ext cx="2242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43720" y="5116680"/>
            <a:ext cx="2455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56200" y="4464000"/>
            <a:ext cx="0" cy="11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32360" y="5607000"/>
            <a:ext cx="23328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52640" y="5802480"/>
            <a:ext cx="2653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40840" y="5802480"/>
            <a:ext cx="2242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89800" y="580248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64320" y="580248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42080" y="580248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016960" y="5802480"/>
            <a:ext cx="2242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63040" y="5802480"/>
            <a:ext cx="2163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01560" y="5802480"/>
            <a:ext cx="2088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32520" y="580248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10280" y="5802480"/>
            <a:ext cx="2455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27720" y="446400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03880" y="4921200"/>
            <a:ext cx="23328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78520" y="511668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52680" y="5116680"/>
            <a:ext cx="2088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85080" y="5116680"/>
            <a:ext cx="2455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253120" y="511668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0880" y="511668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06480" y="5116680"/>
            <a:ext cx="2455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74880" y="5116680"/>
            <a:ext cx="2088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506560" y="511668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81800" y="511668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99240" y="4464000"/>
            <a:ext cx="0" cy="11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675400" y="5607000"/>
            <a:ext cx="23328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60840" y="5802480"/>
            <a:ext cx="2653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51560" y="580248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27880" y="5802480"/>
            <a:ext cx="2455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97720" y="580248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771880" y="5802480"/>
            <a:ext cx="2242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20120" y="5802480"/>
            <a:ext cx="2088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48920" y="5802480"/>
            <a:ext cx="2163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88160" y="5802480"/>
            <a:ext cx="2455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170760" y="446400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46920" y="4921200"/>
            <a:ext cx="23328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58360" y="5116680"/>
            <a:ext cx="2592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36840" y="5116680"/>
            <a:ext cx="2088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71760" y="5116680"/>
            <a:ext cx="2865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81920" y="511668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541920" y="4464000"/>
            <a:ext cx="0" cy="11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18440" y="5607000"/>
            <a:ext cx="23328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160" y="5802480"/>
            <a:ext cx="2592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325920" y="5802480"/>
            <a:ext cx="2242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373440" y="580248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448680" y="580248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527160" y="580248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600600" y="5802480"/>
            <a:ext cx="2242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84960" y="4464000"/>
            <a:ext cx="0" cy="11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1120" y="5607000"/>
            <a:ext cx="23328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9800" y="5802480"/>
            <a:ext cx="2728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956640" y="580248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032240" y="5802480"/>
            <a:ext cx="2088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063920" y="5802480"/>
            <a:ext cx="2088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093080" y="580248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170840" y="5802480"/>
            <a:ext cx="2455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239600" y="5802480"/>
            <a:ext cx="2163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276680" y="5802480"/>
            <a:ext cx="2088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309080" y="580248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384680" y="580248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61360" y="5802480"/>
            <a:ext cx="2455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937200" y="444672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13720" y="4903920"/>
            <a:ext cx="23472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35960" y="5940360"/>
            <a:ext cx="29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516360" y="5099040"/>
            <a:ext cx="2865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627960" y="509904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04280" y="5099040"/>
            <a:ext cx="2455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74120" y="5099040"/>
            <a:ext cx="2455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41800" y="509904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918480" y="509904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995520" y="5099040"/>
            <a:ext cx="2088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26480" y="509904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102800" y="509904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144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66560" y="6024600"/>
            <a:ext cx="34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144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245120" y="6024600"/>
            <a:ext cx="359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144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38440" y="6024600"/>
            <a:ext cx="34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144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616280" y="6024600"/>
            <a:ext cx="34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144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795920" y="6024600"/>
            <a:ext cx="34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144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972680" y="602460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144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110200" y="602460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144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246640" y="6024600"/>
            <a:ext cx="270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144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44200" y="602460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144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78480" y="6024600"/>
            <a:ext cx="245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144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0840" y="602460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144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88000" y="602460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144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25880" y="602460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144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7520" y="366408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65200" y="2749680"/>
            <a:ext cx="23328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589040" y="2978280"/>
            <a:ext cx="0" cy="113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93680" y="3435480"/>
            <a:ext cx="23364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60560" y="366408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08240" y="2749680"/>
            <a:ext cx="23328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32080" y="2978280"/>
            <a:ext cx="0" cy="113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36720" y="3435480"/>
            <a:ext cx="23328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666080" y="3059280"/>
            <a:ext cx="2728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764000" y="305928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39960" y="3059280"/>
            <a:ext cx="2455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906920" y="3059280"/>
            <a:ext cx="2163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47960" y="305928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26800" y="3059280"/>
            <a:ext cx="2865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136240" y="3059280"/>
            <a:ext cx="18144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97320" y="3198960"/>
            <a:ext cx="2163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36920" y="319896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713240" y="3198960"/>
            <a:ext cx="2163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752120" y="319896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828440" y="3198960"/>
            <a:ext cx="2242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873080" y="3198960"/>
            <a:ext cx="2163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13040" y="319896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89360" y="3198960"/>
            <a:ext cx="2455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760" y="319896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135520" y="3198960"/>
            <a:ext cx="2455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80960" y="3071880"/>
            <a:ext cx="2653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372040" y="3071880"/>
            <a:ext cx="2242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418120" y="307188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495160" y="307188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570040" y="3071880"/>
            <a:ext cx="2242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15760" y="3071880"/>
            <a:ext cx="2088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648160" y="307188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23040" y="3071880"/>
            <a:ext cx="2163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61920" y="307188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38240" y="3071880"/>
            <a:ext cx="2242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884680" y="3071880"/>
            <a:ext cx="2455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51640" y="3071880"/>
            <a:ext cx="18144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13360" y="3211560"/>
            <a:ext cx="2163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352960" y="321156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28560" y="3211560"/>
            <a:ext cx="2163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67080" y="321156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44480" y="3211560"/>
            <a:ext cx="2242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588040" y="3211560"/>
            <a:ext cx="2163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629080" y="321156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704680" y="3211560"/>
            <a:ext cx="2455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774520" y="321156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851200" y="3211560"/>
            <a:ext cx="2455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69960" y="2373480"/>
            <a:ext cx="2728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69320" y="2373480"/>
            <a:ext cx="2804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76240" y="2373480"/>
            <a:ext cx="2728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975960" y="2373480"/>
            <a:ext cx="2653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066680" y="2373480"/>
            <a:ext cx="2653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156680" y="2373480"/>
            <a:ext cx="2455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226520" y="237348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302120" y="2373480"/>
            <a:ext cx="2242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49640" y="2373480"/>
            <a:ext cx="2455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16960" y="2373480"/>
            <a:ext cx="2088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447920" y="2373480"/>
            <a:ext cx="2455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16320" y="237348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94080" y="2373480"/>
            <a:ext cx="2455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660320" y="2373480"/>
            <a:ext cx="18144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7760" y="2513160"/>
            <a:ext cx="2653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97040" y="251316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74800" y="251316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950400" y="2513160"/>
            <a:ext cx="2455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018800" y="2513160"/>
            <a:ext cx="2088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050480" y="251316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26440" y="2513160"/>
            <a:ext cx="2088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156680" y="2513160"/>
            <a:ext cx="2088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187640" y="2513160"/>
            <a:ext cx="2455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56760" y="251316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333080" y="2513160"/>
            <a:ext cx="2163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71240" y="2513160"/>
            <a:ext cx="2088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404360" y="251316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478160" y="251316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555920" y="2513160"/>
            <a:ext cx="2455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894680" y="2373480"/>
            <a:ext cx="2728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994040" y="2373480"/>
            <a:ext cx="2804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00960" y="2373480"/>
            <a:ext cx="2728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199240" y="2373480"/>
            <a:ext cx="2653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293560" y="2373480"/>
            <a:ext cx="2653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381760" y="2373480"/>
            <a:ext cx="2163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421000" y="237348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498040" y="2373480"/>
            <a:ext cx="2455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566440" y="2373480"/>
            <a:ext cx="2088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595960" y="2373480"/>
            <a:ext cx="2088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626920" y="2373480"/>
            <a:ext cx="2088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57160" y="2373480"/>
            <a:ext cx="2163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694960" y="2373480"/>
            <a:ext cx="2088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727720" y="237348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802240" y="2373480"/>
            <a:ext cx="2455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69200" y="2373480"/>
            <a:ext cx="18144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925280" y="2513160"/>
            <a:ext cx="2653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015640" y="251316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092680" y="251316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167920" y="2513160"/>
            <a:ext cx="2455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37040" y="2513160"/>
            <a:ext cx="2088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268000" y="251316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44320" y="2513160"/>
            <a:ext cx="2088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374200" y="2513160"/>
            <a:ext cx="2088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405160" y="2513160"/>
            <a:ext cx="2455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474280" y="251316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50960" y="2513160"/>
            <a:ext cx="2163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588760" y="2513160"/>
            <a:ext cx="2088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621160" y="251316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695680" y="251316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775240" y="2513160"/>
            <a:ext cx="2455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998640" y="1681200"/>
            <a:ext cx="34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175040" y="1681200"/>
            <a:ext cx="321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327320" y="1681200"/>
            <a:ext cx="321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474920" y="1681200"/>
            <a:ext cx="245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543320" y="1681200"/>
            <a:ext cx="245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616040" y="168120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753560" y="168120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888920" y="1681200"/>
            <a:ext cx="257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970280" y="1681200"/>
            <a:ext cx="245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041920" y="1681200"/>
            <a:ext cx="321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194200" y="1681200"/>
            <a:ext cx="321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339640" y="1681200"/>
            <a:ext cx="181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082880" y="1922400"/>
            <a:ext cx="245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154520" y="1922400"/>
            <a:ext cx="321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303920" y="1922400"/>
            <a:ext cx="257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388880" y="192240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524600" y="1922400"/>
            <a:ext cx="270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620360" y="1922400"/>
            <a:ext cx="257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704960" y="192240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842840" y="192240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981080" y="192240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117520" y="192240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079640" y="4807080"/>
            <a:ext cx="6707160" cy="1574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15880" y="1606680"/>
            <a:ext cx="2544840" cy="215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693960" y="3321000"/>
            <a:ext cx="0" cy="78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941640" y="366408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189320" y="3321000"/>
            <a:ext cx="0" cy="78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817800" y="3435480"/>
            <a:ext cx="23364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37000" y="366408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313160" y="3435480"/>
            <a:ext cx="23328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476880" y="2517840"/>
            <a:ext cx="2912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594600" y="2517840"/>
            <a:ext cx="257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677400" y="251784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767040" y="2517840"/>
            <a:ext cx="2318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822480" y="2517840"/>
            <a:ext cx="22428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868560" y="2517840"/>
            <a:ext cx="22428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915360" y="251784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005720" y="2517840"/>
            <a:ext cx="22428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053600" y="251784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144680" y="2517840"/>
            <a:ext cx="2318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198680" y="2517840"/>
            <a:ext cx="22428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45480" y="251784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337640" y="2517840"/>
            <a:ext cx="257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420080" y="251784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508280" y="2517840"/>
            <a:ext cx="1814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514680" y="2682720"/>
            <a:ext cx="3078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648600" y="268272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740760" y="268272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32920" y="268272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924360" y="268272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015440" y="268272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11560" y="2682720"/>
            <a:ext cx="3078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45480" y="268272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337640" y="268272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427280" y="2682720"/>
            <a:ext cx="22428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056200" y="3321000"/>
            <a:ext cx="0" cy="78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03880" y="366408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551560" y="3321000"/>
            <a:ext cx="0" cy="78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180040" y="3435480"/>
            <a:ext cx="23328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799240" y="366408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75400" y="3435480"/>
            <a:ext cx="23328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941720" y="2517840"/>
            <a:ext cx="22428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988520" y="251784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078880" y="2517840"/>
            <a:ext cx="22428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126760" y="251784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217120" y="2517840"/>
            <a:ext cx="2318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275080" y="2517840"/>
            <a:ext cx="3078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410800" y="251784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00440" y="2517840"/>
            <a:ext cx="22428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546160" y="2517840"/>
            <a:ext cx="2149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583960" y="251784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677560" y="251784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765400" y="2517840"/>
            <a:ext cx="1814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876560" y="2682720"/>
            <a:ext cx="3078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010840" y="268272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103000" y="268272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194800" y="268272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286960" y="268272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377320" y="268272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473440" y="2682720"/>
            <a:ext cx="3078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607720" y="268272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699880" y="268272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789160" y="2682720"/>
            <a:ext cx="22428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418440" y="3321000"/>
            <a:ext cx="0" cy="78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665760" y="366408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913440" y="3321000"/>
            <a:ext cx="0" cy="78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541920" y="3435480"/>
            <a:ext cx="23364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161120" y="366408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037280" y="3435480"/>
            <a:ext cx="23364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443640" y="2517840"/>
            <a:ext cx="28368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552720" y="2517840"/>
            <a:ext cx="257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635520" y="2517840"/>
            <a:ext cx="257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716520" y="2517840"/>
            <a:ext cx="22428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763320" y="251784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858000" y="2517840"/>
            <a:ext cx="3078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989400" y="2517840"/>
            <a:ext cx="1814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238800" y="2682720"/>
            <a:ext cx="3078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372720" y="268272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464880" y="268272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557040" y="268272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49200" y="268272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739560" y="268272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35680" y="2682720"/>
            <a:ext cx="3078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969600" y="268272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061760" y="268272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150680" y="2682720"/>
            <a:ext cx="22428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780320" y="3321000"/>
            <a:ext cx="0" cy="78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028000" y="366408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275680" y="3321000"/>
            <a:ext cx="0" cy="78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904160" y="3435480"/>
            <a:ext cx="23328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523360" y="366408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8399520" y="3435480"/>
            <a:ext cx="23328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910640" y="2517840"/>
            <a:ext cx="2743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992720" y="251784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084880" y="2517840"/>
            <a:ext cx="257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167320" y="2517840"/>
            <a:ext cx="257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246520" y="2517840"/>
            <a:ext cx="1814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601040" y="2682720"/>
            <a:ext cx="3078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734960" y="268272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827120" y="268272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918920" y="268272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011080" y="268272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101800" y="268272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8197920" y="2682720"/>
            <a:ext cx="3078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8331840" y="268272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424000" y="268272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513640" y="2682720"/>
            <a:ext cx="22428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043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198960" y="2178000"/>
            <a:ext cx="5805360" cy="1701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322800" y="1949400"/>
            <a:ext cx="0" cy="215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113880" y="1108080"/>
            <a:ext cx="2912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232320" y="1108080"/>
            <a:ext cx="3002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361560" y="1108080"/>
            <a:ext cx="2912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478560" y="1108080"/>
            <a:ext cx="28368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589800" y="1108080"/>
            <a:ext cx="28368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700680" y="1108080"/>
            <a:ext cx="3078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36400" y="110808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28560" y="110808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008840" y="1106640"/>
            <a:ext cx="262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73920" y="1123920"/>
            <a:ext cx="122544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611480" y="1133640"/>
            <a:ext cx="2912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731000" y="1133640"/>
            <a:ext cx="3002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859160" y="1133640"/>
            <a:ext cx="2912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977240" y="1133640"/>
            <a:ext cx="28368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086680" y="1133640"/>
            <a:ext cx="28368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195040" y="1133640"/>
            <a:ext cx="22428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242920" y="113364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332200" y="1133640"/>
            <a:ext cx="2149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358120" y="1131840"/>
            <a:ext cx="2635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491240" y="1111320"/>
            <a:ext cx="1224000" cy="24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049720" y="576360"/>
            <a:ext cx="34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4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229360" y="576360"/>
            <a:ext cx="359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4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421240" y="576360"/>
            <a:ext cx="34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4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600880" y="576360"/>
            <a:ext cx="34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4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779440" y="576360"/>
            <a:ext cx="34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4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956560" y="576360"/>
            <a:ext cx="321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4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107400" y="576360"/>
            <a:ext cx="321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4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262560" y="576360"/>
            <a:ext cx="384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4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479280" y="57636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4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613560" y="576360"/>
            <a:ext cx="245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4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685200" y="576360"/>
            <a:ext cx="321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4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837120" y="57636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4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968880" y="576360"/>
            <a:ext cx="181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03600" y="824040"/>
            <a:ext cx="2242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400"/>
                </a:solidFill>
                <a:latin typeface="Arial"/>
              </a:rPr>
              <a:t>(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451480" y="824040"/>
            <a:ext cx="2728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4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549400" y="82404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4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628960" y="824040"/>
            <a:ext cx="2865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4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740560" y="82404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4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816160" y="824040"/>
            <a:ext cx="2088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4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848560" y="82404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4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923440" y="824040"/>
            <a:ext cx="2163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4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60880" y="824040"/>
            <a:ext cx="2163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4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002640" y="82404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4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76800" y="824040"/>
            <a:ext cx="2163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4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115320" y="82404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4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191640" y="824040"/>
            <a:ext cx="2242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4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236280" y="824040"/>
            <a:ext cx="2163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4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277320" y="82404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4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351840" y="824040"/>
            <a:ext cx="2455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4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421680" y="82404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4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498000" y="824040"/>
            <a:ext cx="2455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4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567120" y="824040"/>
            <a:ext cx="2242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54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102360" y="1962000"/>
            <a:ext cx="0" cy="215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880480" y="1949400"/>
            <a:ext cx="0" cy="215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292640" y="2247840"/>
            <a:ext cx="3564000" cy="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057640" y="2214720"/>
            <a:ext cx="34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e0043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235840" y="2214720"/>
            <a:ext cx="359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e0043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428440" y="2214720"/>
            <a:ext cx="34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e0043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607000" y="2214720"/>
            <a:ext cx="34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e0043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785560" y="2214720"/>
            <a:ext cx="34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e0043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960880" y="2214720"/>
            <a:ext cx="257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e0043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45840" y="221472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e0043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183360" y="221472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e0043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318360" y="2214720"/>
            <a:ext cx="245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e0043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386760" y="2214720"/>
            <a:ext cx="245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e0043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454800" y="2214720"/>
            <a:ext cx="245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e0043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525000" y="2214720"/>
            <a:ext cx="257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e0043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607440" y="2214720"/>
            <a:ext cx="245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e0043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678360" y="221472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e0043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816600" y="221472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e0043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808520" y="2521080"/>
            <a:ext cx="1224000" cy="1244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170760" y="2521080"/>
            <a:ext cx="1223640" cy="1244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628040" y="1657440"/>
            <a:ext cx="9777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601040" y="1631880"/>
            <a:ext cx="9777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574040" y="1593720"/>
            <a:ext cx="9763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547040" y="1568520"/>
            <a:ext cx="9763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540560" y="1552680"/>
            <a:ext cx="3002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665840" y="1552680"/>
            <a:ext cx="22428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712640" y="155268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804800" y="155268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894440" y="1552680"/>
            <a:ext cx="2318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950600" y="1552680"/>
            <a:ext cx="257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032320" y="1552680"/>
            <a:ext cx="22428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8078400" y="1552680"/>
            <a:ext cx="22428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8123760" y="1552680"/>
            <a:ext cx="22428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8169120" y="1552680"/>
            <a:ext cx="22428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215920" y="1552680"/>
            <a:ext cx="22428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262720" y="1552680"/>
            <a:ext cx="22428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307000" y="1552680"/>
            <a:ext cx="22428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532640" y="2521080"/>
            <a:ext cx="1224000" cy="1244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446640" y="2521080"/>
            <a:ext cx="1223640" cy="1244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584520" y="1047600"/>
            <a:ext cx="85248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09360" y="1057320"/>
            <a:ext cx="2912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728880" y="1057320"/>
            <a:ext cx="3002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857040" y="1057320"/>
            <a:ext cx="2912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975120" y="1057320"/>
            <a:ext cx="28368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084560" y="1057320"/>
            <a:ext cx="28368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194000" y="1057320"/>
            <a:ext cx="2318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246200" y="1057320"/>
            <a:ext cx="1814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551760" y="1222200"/>
            <a:ext cx="22428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596040" y="1222200"/>
            <a:ext cx="2149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636000" y="122220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726360" y="122220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817800" y="122220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912120" y="1222200"/>
            <a:ext cx="257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991320" y="1222200"/>
            <a:ext cx="2149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029840" y="122220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20560" y="1222200"/>
            <a:ext cx="2149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159080" y="1222200"/>
            <a:ext cx="257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229280" y="1220760"/>
            <a:ext cx="2635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487680" y="1606680"/>
            <a:ext cx="107316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458160" y="1603440"/>
            <a:ext cx="2912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578040" y="1603440"/>
            <a:ext cx="3002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705480" y="1603440"/>
            <a:ext cx="2912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824280" y="1603440"/>
            <a:ext cx="28368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934080" y="1603440"/>
            <a:ext cx="28368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045680" y="1603440"/>
            <a:ext cx="3078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180680" y="160344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274280" y="160344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352760" y="1601640"/>
            <a:ext cx="2635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822920" y="1467000"/>
            <a:ext cx="9763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881600" y="1450800"/>
            <a:ext cx="28368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989960" y="145080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082120" y="1450800"/>
            <a:ext cx="257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162760" y="1450800"/>
            <a:ext cx="2149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202720" y="145080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293440" y="145080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384520" y="1450800"/>
            <a:ext cx="257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466960" y="1450800"/>
            <a:ext cx="257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546520" y="1450800"/>
            <a:ext cx="1814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905360" y="1616040"/>
            <a:ext cx="3002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031360" y="161604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121720" y="1616040"/>
            <a:ext cx="2149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161680" y="161604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252760" y="1616040"/>
            <a:ext cx="257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333760" y="1616040"/>
            <a:ext cx="22428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381280" y="1616040"/>
            <a:ext cx="257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451480" y="1614600"/>
            <a:ext cx="2635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417120" y="2871720"/>
            <a:ext cx="23616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475080" y="2871720"/>
            <a:ext cx="19836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494520" y="2871720"/>
            <a:ext cx="21960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535560" y="2871720"/>
            <a:ext cx="2026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557880" y="2871720"/>
            <a:ext cx="20736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585240" y="2871720"/>
            <a:ext cx="19836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03240" y="287172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b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649320" y="287172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695040" y="2871720"/>
            <a:ext cx="2026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719160" y="287172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765240" y="287172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09520" y="2871720"/>
            <a:ext cx="18144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427560" y="2960640"/>
            <a:ext cx="23616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484440" y="296064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530880" y="2960640"/>
            <a:ext cx="21960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572280" y="296064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619800" y="2960640"/>
            <a:ext cx="24552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687480" y="296064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731760" y="296064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777480" y="2960640"/>
            <a:ext cx="2026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799440" y="2960640"/>
            <a:ext cx="18144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380760" y="3049560"/>
            <a:ext cx="23616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438360" y="304956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484800" y="3049560"/>
            <a:ext cx="24552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554280" y="304956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p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600000" y="304956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646080" y="304956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690720" y="304956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737520" y="304956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783240" y="3049560"/>
            <a:ext cx="2026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806640" y="3049560"/>
            <a:ext cx="21960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570120" y="3193920"/>
            <a:ext cx="233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065480" y="3193920"/>
            <a:ext cx="23364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932360" y="3193920"/>
            <a:ext cx="23328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427720" y="3193920"/>
            <a:ext cx="23328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294600" y="3193920"/>
            <a:ext cx="23328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89600" y="3193920"/>
            <a:ext cx="23364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656480" y="3193920"/>
            <a:ext cx="23328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8151840" y="3193920"/>
            <a:ext cx="23328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179400" y="2948040"/>
            <a:ext cx="23616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237000" y="294804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283440" y="2948040"/>
            <a:ext cx="24552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351840" y="2948040"/>
            <a:ext cx="24552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420240" y="294804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66320" y="294804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509880" y="2948040"/>
            <a:ext cx="18144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104160" y="3036960"/>
            <a:ext cx="24552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172560" y="303696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217920" y="303696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264000" y="303696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310800" y="303696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356880" y="303696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402600" y="3036960"/>
            <a:ext cx="24552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470280" y="303696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516360" y="303696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562080" y="3036960"/>
            <a:ext cx="2026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470920" y="2935440"/>
            <a:ext cx="18144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754520" y="1949400"/>
            <a:ext cx="0" cy="215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464600" y="1962000"/>
            <a:ext cx="0" cy="215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571400" y="4167360"/>
            <a:ext cx="23184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625400" y="416736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670400" y="416736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717560" y="416736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762200" y="4167360"/>
            <a:ext cx="2026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785600" y="416736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31680" y="416736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75600" y="4167360"/>
            <a:ext cx="2026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900800" y="416736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46160" y="416736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991880" y="416736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037960" y="416736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084760" y="416736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130120" y="416736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176920" y="416736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222280" y="416736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265480" y="4167360"/>
            <a:ext cx="2026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291760" y="4167360"/>
            <a:ext cx="24552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360160" y="416736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404800" y="416736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450880" y="416736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496960" y="4167360"/>
            <a:ext cx="19836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514240" y="416736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561040" y="416736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607120" y="4167360"/>
            <a:ext cx="21960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648160" y="4167360"/>
            <a:ext cx="2026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669760" y="4167360"/>
            <a:ext cx="18144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660680" y="4255920"/>
            <a:ext cx="23616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716840" y="4255920"/>
            <a:ext cx="2026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741680" y="4255920"/>
            <a:ext cx="2026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766880" y="4255920"/>
            <a:ext cx="23616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825560" y="4255920"/>
            <a:ext cx="22572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873080" y="4255920"/>
            <a:ext cx="22572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920240" y="4255920"/>
            <a:ext cx="2026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942560" y="4255920"/>
            <a:ext cx="2026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966680" y="4255920"/>
            <a:ext cx="23184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023560" y="4255920"/>
            <a:ext cx="24552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090520" y="425592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135880" y="4255920"/>
            <a:ext cx="19836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154240" y="4255920"/>
            <a:ext cx="19836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173320" y="4255920"/>
            <a:ext cx="2026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196720" y="425592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241360" y="4255920"/>
            <a:ext cx="19836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260080" y="4255920"/>
            <a:ext cx="21960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300400" y="4255920"/>
            <a:ext cx="2026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324160" y="4255920"/>
            <a:ext cx="2026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342880" y="4255920"/>
            <a:ext cx="23184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399400" y="425592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444400" y="425592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490480" y="425592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535120" y="425592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545600" y="4167360"/>
            <a:ext cx="2026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569000" y="416736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614720" y="4167360"/>
            <a:ext cx="2026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637040" y="416736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683840" y="4167360"/>
            <a:ext cx="20736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711920" y="416736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758720" y="416736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805520" y="416736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848720" y="4167360"/>
            <a:ext cx="20736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876800" y="416736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923600" y="416736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969320" y="4167360"/>
            <a:ext cx="19836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986600" y="4167360"/>
            <a:ext cx="19836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8005680" y="4167360"/>
            <a:ext cx="19836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8023320" y="4167360"/>
            <a:ext cx="2026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8047440" y="4167360"/>
            <a:ext cx="21960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8087760" y="4167360"/>
            <a:ext cx="2026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111880" y="4167360"/>
            <a:ext cx="23184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8164080" y="4167360"/>
            <a:ext cx="20736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8193600" y="416736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8238600" y="4167360"/>
            <a:ext cx="2026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8262720" y="416736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8308440" y="4167360"/>
            <a:ext cx="21960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349840" y="416736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395560" y="4167360"/>
            <a:ext cx="19836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413560" y="4167360"/>
            <a:ext cx="21960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453520" y="4167360"/>
            <a:ext cx="2026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476920" y="4167360"/>
            <a:ext cx="18144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361280" y="4255920"/>
            <a:ext cx="2026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384680" y="425592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430400" y="4255920"/>
            <a:ext cx="2026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454520" y="425592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499520" y="4255920"/>
            <a:ext cx="20736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526880" y="425592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571880" y="4255920"/>
            <a:ext cx="2242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617600" y="4255920"/>
            <a:ext cx="2026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639920" y="4255920"/>
            <a:ext cx="2026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664760" y="4255920"/>
            <a:ext cx="20736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691760" y="4255920"/>
            <a:ext cx="2026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713720" y="4255920"/>
            <a:ext cx="2026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738560" y="4255920"/>
            <a:ext cx="24084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804080" y="4255920"/>
            <a:ext cx="23184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855200" y="4255920"/>
            <a:ext cx="2026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878960" y="4255920"/>
            <a:ext cx="24084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943040" y="4255920"/>
            <a:ext cx="2026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967160" y="4255920"/>
            <a:ext cx="24084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8030880" y="4255920"/>
            <a:ext cx="23184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8083800" y="4255920"/>
            <a:ext cx="20736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8111520" y="4255920"/>
            <a:ext cx="2026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8136360" y="4255920"/>
            <a:ext cx="20736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8163360" y="4255920"/>
            <a:ext cx="20736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8188560" y="4255920"/>
            <a:ext cx="2026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8215560" y="4255920"/>
            <a:ext cx="23616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8273520" y="4255920"/>
            <a:ext cx="23616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8333280" y="4255920"/>
            <a:ext cx="23184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8386920" y="4255920"/>
            <a:ext cx="2026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8412120" y="4255920"/>
            <a:ext cx="23184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8467560" y="4255920"/>
            <a:ext cx="23184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8521920" y="4255920"/>
            <a:ext cx="2026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544960" y="4255920"/>
            <a:ext cx="24084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8608680" y="4255920"/>
            <a:ext cx="23184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730600" y="365112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606760" y="3422520"/>
            <a:ext cx="23472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1440" y="3059280"/>
            <a:ext cx="2728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51160" y="3059280"/>
            <a:ext cx="2804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58080" y="3059280"/>
            <a:ext cx="2728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57080" y="3059280"/>
            <a:ext cx="2653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850680" y="3059280"/>
            <a:ext cx="2653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939960" y="305928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016280" y="305928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097280" y="3059280"/>
            <a:ext cx="2865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208160" y="305928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283760" y="3059280"/>
            <a:ext cx="2088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314000" y="305928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390680" y="3059280"/>
            <a:ext cx="2455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456920" y="3059280"/>
            <a:ext cx="18144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98960" y="3198960"/>
            <a:ext cx="2653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87520" y="319896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65280" y="319896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39080" y="3198960"/>
            <a:ext cx="2455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809280" y="3198960"/>
            <a:ext cx="2088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839880" y="319896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916920" y="3198960"/>
            <a:ext cx="2088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945720" y="3198960"/>
            <a:ext cx="2088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978120" y="3198960"/>
            <a:ext cx="2455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046520" y="319896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123560" y="3198960"/>
            <a:ext cx="2163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161360" y="3198960"/>
            <a:ext cx="2088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193400" y="319896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268640" y="3198960"/>
            <a:ext cx="25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346400" y="3198960"/>
            <a:ext cx="2455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054040" y="3014640"/>
            <a:ext cx="44208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Interne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562880" y="2960640"/>
            <a:ext cx="4190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Mobi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Agen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080040" y="1467000"/>
            <a:ext cx="121140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240600" y="1463760"/>
            <a:ext cx="9266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Electro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400"/>
                </a:solidFill>
                <a:latin typeface="Arial"/>
              </a:rPr>
              <a:t>Comme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217000" y="5178600"/>
            <a:ext cx="23472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8459640" y="5508720"/>
            <a:ext cx="7574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ec N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8210520" y="5511960"/>
            <a:ext cx="23328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8453160" y="5184720"/>
            <a:ext cx="6433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8328960" y="4853160"/>
            <a:ext cx="5076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ty Streng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151080" y="2298600"/>
            <a:ext cx="1870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efaul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087560" y="3594240"/>
            <a:ext cx="186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297400" y="3594240"/>
            <a:ext cx="1870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ad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490840" y="4965840"/>
            <a:ext cx="3190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datory, read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677000" y="2824200"/>
            <a:ext cx="0" cy="2052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773840" y="3517920"/>
            <a:ext cx="1540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ing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2068200" y="2671920"/>
            <a:ext cx="1893960" cy="98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297320" y="2671920"/>
            <a:ext cx="1893960" cy="98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068560" y="3967200"/>
            <a:ext cx="1728720" cy="106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4544640" y="4043520"/>
            <a:ext cx="1646280" cy="98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L for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perties a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name-value pair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ypedef Istring PropertyN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ypedef any PropertyVal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truct Propert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opertyName n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opertyValue val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fering a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443640" y="3814920"/>
            <a:ext cx="1473120" cy="59832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535800" y="3898800"/>
            <a:ext cx="1292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822320" y="3816360"/>
            <a:ext cx="1555920" cy="596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816200" y="3898800"/>
            <a:ext cx="1568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H="1">
            <a:off x="3389040" y="4191120"/>
            <a:ext cx="3049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389400" y="4038480"/>
            <a:ext cx="3049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797280" y="3124080"/>
            <a:ext cx="2228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5360" indent="-2253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t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797280" y="4343400"/>
            <a:ext cx="22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5360" indent="-22536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er 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ing a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160640" y="2443320"/>
            <a:ext cx="1473120" cy="75060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170000" y="2451240"/>
            <a:ext cx="14572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tential O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132440" y="2443320"/>
            <a:ext cx="1473120" cy="75060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141800" y="2451240"/>
            <a:ext cx="14572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ed O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351560" y="2443320"/>
            <a:ext cx="1473480" cy="75060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361280" y="2451240"/>
            <a:ext cx="14572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d O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351560" y="4500720"/>
            <a:ext cx="1473480" cy="75060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7361280" y="4508640"/>
            <a:ext cx="14572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ed O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132440" y="4500720"/>
            <a:ext cx="1473120" cy="75060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141800" y="4508640"/>
            <a:ext cx="14572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ed O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646360" y="2819520"/>
            <a:ext cx="1481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618160" y="2819520"/>
            <a:ext cx="1728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>
            <a:off x="5618160" y="4876920"/>
            <a:ext cx="1728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8089920" y="3205080"/>
            <a:ext cx="0" cy="1290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641680" y="23623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5360" indent="-225360"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530680" y="2514600"/>
            <a:ext cx="1403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5360" indent="-225360"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8089920" y="3657600"/>
            <a:ext cx="148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5360" indent="-225360"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refer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720960" y="2521080"/>
            <a:ext cx="152640" cy="520560"/>
          </a:xfrm>
          <a:prstGeom prst="rect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6940440" y="2521080"/>
            <a:ext cx="152640" cy="520560"/>
          </a:xfrm>
          <a:prstGeom prst="rect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867280" y="4578480"/>
            <a:ext cx="152640" cy="520560"/>
          </a:xfrm>
          <a:prstGeom prst="rect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137040" y="3200400"/>
            <a:ext cx="132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5360" indent="-225360"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din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356520" y="3200400"/>
            <a:ext cx="132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5360" indent="-225360"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din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365800" y="5257800"/>
            <a:ext cx="132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5360" indent="-225360"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din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er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-al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-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742680" y="2514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/Collection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742680" y="2491920"/>
            <a:ext cx="8420040" cy="352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supports query operations on arbitrary CORBA objects (individually or in a collec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Languages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Q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QL 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Evalu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467160" y="5867280"/>
            <a:ext cx="13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714840" y="2743200"/>
            <a:ext cx="246204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Evalu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210200" y="1600200"/>
            <a:ext cx="1554120" cy="59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811680" y="5423040"/>
            <a:ext cx="563400" cy="444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26960" y="4889520"/>
            <a:ext cx="13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375080" y="327672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861160" y="3276720"/>
            <a:ext cx="189864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1238400" y="3276720"/>
            <a:ext cx="255888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127400" y="4724280"/>
            <a:ext cx="0" cy="609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889360" y="4191120"/>
            <a:ext cx="2462040" cy="444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Evalu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603840" y="4191120"/>
            <a:ext cx="2462400" cy="444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Evalu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952880" y="22096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825480" y="4191120"/>
            <a:ext cx="563760" cy="444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247520" y="5442840"/>
            <a:ext cx="1335240" cy="4899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7924680" y="4673520"/>
            <a:ext cx="0" cy="660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eryable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742680" y="4800600"/>
            <a:ext cx="842004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s may fo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cope to which a query is appl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ult of a 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914400" y="2063880"/>
            <a:ext cx="246384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Evalu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996840" y="3435480"/>
            <a:ext cx="2133720" cy="901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ery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398760" y="1841400"/>
            <a:ext cx="1059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794120" y="3435480"/>
            <a:ext cx="2133720" cy="901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ery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959360" y="2063880"/>
            <a:ext cx="1803240" cy="444240"/>
          </a:xfrm>
          <a:prstGeom prst="roundRect">
            <a:avLst>
              <a:gd name="adj" fmla="val 1245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390840" y="2286000"/>
            <a:ext cx="1562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063880" y="2521080"/>
            <a:ext cx="0" cy="90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143160" y="3886200"/>
            <a:ext cx="1644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940440" y="3886200"/>
            <a:ext cx="1644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151080" y="3441600"/>
            <a:ext cx="1059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948360" y="3441600"/>
            <a:ext cx="1059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077920" y="2603520"/>
            <a:ext cx="1059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>
            <a:off x="998640" y="578484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639960" y="5784840"/>
            <a:ext cx="313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618240" y="1612800"/>
            <a:ext cx="1801800" cy="234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11200" y="2133720"/>
            <a:ext cx="4278240" cy="4025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d_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d_all_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ert_element_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place_element_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move_element_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trieve_element_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eate_it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7099200" y="4267080"/>
            <a:ext cx="2710080" cy="1892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Fa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e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V="1">
            <a:off x="4987800" y="3015720"/>
            <a:ext cx="1351080" cy="6606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H="1" flipV="1">
            <a:off x="4935600" y="4692600"/>
            <a:ext cx="2116080" cy="432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llection Inte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742680" y="2514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ing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197760" y="5029200"/>
            <a:ext cx="2965320" cy="907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able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811600" y="3289320"/>
            <a:ext cx="3622680" cy="1282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Evalu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66720" y="5340240"/>
            <a:ext cx="3295800" cy="1136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e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023240" y="1612800"/>
            <a:ext cx="2546280" cy="1130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rot="16440000">
            <a:off x="7356240" y="3628800"/>
            <a:ext cx="1974960" cy="520920"/>
          </a:xfrm>
          <a:prstGeom prst="rightArrow">
            <a:avLst>
              <a:gd name="adj1" fmla="val 50000"/>
              <a:gd name="adj2" fmla="val 12930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rot="13740000">
            <a:off x="5486760" y="4629240"/>
            <a:ext cx="939960" cy="468360"/>
          </a:xfrm>
          <a:prstGeom prst="rightArrow">
            <a:avLst>
              <a:gd name="adj1" fmla="val 50000"/>
              <a:gd name="adj2" fmla="val 10035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54160" y="1612800"/>
            <a:ext cx="2298600" cy="2882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p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ec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_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_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2747880" y="2108160"/>
            <a:ext cx="4079880" cy="279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 flipV="1">
            <a:off x="1733400" y="4495680"/>
            <a:ext cx="379440" cy="8128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V="1">
            <a:off x="6134040" y="2565360"/>
            <a:ext cx="1023840" cy="736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rot="17340000">
            <a:off x="2964960" y="4586040"/>
            <a:ext cx="854280" cy="641160"/>
          </a:xfrm>
          <a:prstGeom prst="rightArrow">
            <a:avLst>
              <a:gd name="adj1" fmla="val 50000"/>
              <a:gd name="adj2" fmla="val 6436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Query Inte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742680" y="2491920"/>
            <a:ext cx="8420040" cy="352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supports the creation and manipulation of groups of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ollections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que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ueu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c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ag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ing of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by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 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queness of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ery vs. Collection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742680" y="2419200"/>
            <a:ext cx="8420040" cy="36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query service only supports a minimalist collec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742680" y="2514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ifeCycle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eCycle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ing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ing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pying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ing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473480" y="3277800"/>
            <a:ext cx="975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573320" y="3239640"/>
            <a:ext cx="1161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992160" y="1752480"/>
            <a:ext cx="2146320" cy="901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43040" y="4191120"/>
            <a:ext cx="84200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 of new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ty contacted for cre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ing that e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ing/Copying an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473480" y="3277800"/>
            <a:ext cx="975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200840" y="3233520"/>
            <a:ext cx="2109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594560" y="3200400"/>
            <a:ext cx="1116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992160" y="1752480"/>
            <a:ext cx="2146320" cy="901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210200" y="1752480"/>
            <a:ext cx="2149200" cy="901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43040" y="4191120"/>
            <a:ext cx="84200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 of copied/migrated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ty contacted for copying/mig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ing that e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473480" y="4344840"/>
            <a:ext cx="975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573320" y="4306680"/>
            <a:ext cx="1161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992160" y="2819520"/>
            <a:ext cx="2146320" cy="901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016760" y="2832120"/>
            <a:ext cx="2149560" cy="901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137040" y="3276720"/>
            <a:ext cx="3879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106600" y="3352680"/>
            <a:ext cx="1810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_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ng an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473480" y="4344840"/>
            <a:ext cx="975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594480" y="4300200"/>
            <a:ext cx="2109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992160" y="2819520"/>
            <a:ext cx="2146320" cy="901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603840" y="2819520"/>
            <a:ext cx="2149560" cy="901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137040" y="3276720"/>
            <a:ext cx="3466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464800" y="3352680"/>
            <a:ext cx="1097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ing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74268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ite p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ding: name-to-object assoc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ing context: set of bindings with unique n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olving: name  =&gt; 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xts can be bound in contex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ing Graph: directed graph where nodes are contex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und name: path in naming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ing/Copying an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1306800" y="5411520"/>
            <a:ext cx="975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034160" y="5366880"/>
            <a:ext cx="2109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7406640" y="5373360"/>
            <a:ext cx="1161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825480" y="3886200"/>
            <a:ext cx="2146320" cy="901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043520" y="3886200"/>
            <a:ext cx="2149200" cy="901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850080" y="2209680"/>
            <a:ext cx="2149560" cy="901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y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970360" y="4343400"/>
            <a:ext cx="10731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2722680" y="2666880"/>
            <a:ext cx="412740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091320" y="4342680"/>
            <a:ext cx="9450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eCycle Service Inte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2476440" y="1447920"/>
            <a:ext cx="495324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y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ctori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nd_factories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650960" y="2895480"/>
            <a:ext cx="6604200" cy="166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icFa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rts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eate_object(Key, Crite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825480" y="4724280"/>
            <a:ext cx="8255160" cy="196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Cycle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feCycleObje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py(FactoryFinder, Crite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ve(FactoryFinder, Crite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move()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ing/Copying an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306800" y="5411520"/>
            <a:ext cx="975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034160" y="5366880"/>
            <a:ext cx="2109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406640" y="5373360"/>
            <a:ext cx="1161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825480" y="3886200"/>
            <a:ext cx="2146320" cy="901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043520" y="3886200"/>
            <a:ext cx="2149200" cy="901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850080" y="2209680"/>
            <a:ext cx="2149560" cy="901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y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2970360" y="4343400"/>
            <a:ext cx="107316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2722680" y="2666880"/>
            <a:ext cx="412740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7180200" y="3886200"/>
            <a:ext cx="2149560" cy="901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189840" y="434340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923240" y="3124080"/>
            <a:ext cx="33012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5116680" y="2819160"/>
            <a:ext cx="1815840" cy="106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742680" y="2514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ternalization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ternalization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riting and reading an object’s state to/from an external medium (disk, memory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ternalised form c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ist for arbitrary amounts of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transported by means outside of the OR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internalised in a different OR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ndard externalisation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lated to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ifeCycl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ternalization Service Inte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1797120" y="3493800"/>
            <a:ext cx="1275840" cy="556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V="1">
            <a:off x="2724120" y="2742840"/>
            <a:ext cx="206388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773400" y="1214280"/>
            <a:ext cx="2874960" cy="556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able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475440" y="1333080"/>
            <a:ext cx="2975760" cy="556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amableFa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800240" y="2433960"/>
            <a:ext cx="1715760" cy="513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eam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28160" y="4339080"/>
            <a:ext cx="1834200" cy="987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110880" y="2370600"/>
            <a:ext cx="1357560" cy="987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28320" y="1714320"/>
            <a:ext cx="2652840" cy="556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Cycle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165720" y="5709960"/>
            <a:ext cx="2075400" cy="556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48280" y="6306840"/>
            <a:ext cx="935280" cy="556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729600" y="5709960"/>
            <a:ext cx="1038600" cy="556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991760" y="4490640"/>
            <a:ext cx="1657440" cy="556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am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521400" y="2211840"/>
            <a:ext cx="34671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ey external_form_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rnalize_to_stream(Stream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nalize_from_stream(StreamIO, FactoryFind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137040" y="3202560"/>
            <a:ext cx="371448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rnalize(Streamab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amable internalize(FactoryFind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gin_context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_context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6686640" y="3918600"/>
            <a:ext cx="330192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rite_&lt;type&gt;(&lt;type&gt;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rite_object(Streamab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rite_graph(No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type&gt; read_&lt;type&gt;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d_object(FactoryFinder, Streamab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d_graph(Node, FactoryFind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944280" y="3200760"/>
            <a:ext cx="798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70160" y="4010400"/>
            <a:ext cx="1261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(str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610800" y="1905480"/>
            <a:ext cx="1917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_uninitialized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H="1" flipV="1">
            <a:off x="2228400" y="2209320"/>
            <a:ext cx="165240" cy="129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403280" y="3124080"/>
            <a:ext cx="74304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V="1">
            <a:off x="1486080" y="4038120"/>
            <a:ext cx="66024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flipV="1">
            <a:off x="6191280" y="1676520"/>
            <a:ext cx="907920" cy="823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530680" y="1828800"/>
            <a:ext cx="36720" cy="59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 flipV="1">
            <a:off x="6191280" y="2895120"/>
            <a:ext cx="247680" cy="1676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724120" y="4038480"/>
            <a:ext cx="222876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4457880" y="4952520"/>
            <a:ext cx="66024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H="1" flipV="1">
            <a:off x="6356160" y="4952520"/>
            <a:ext cx="24732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V="1">
            <a:off x="5943600" y="6248160"/>
            <a:ext cx="66024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705200" y="6172200"/>
            <a:ext cx="41292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742680" y="2514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sistent State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S Com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3838680" y="5715000"/>
            <a:ext cx="825480" cy="762120"/>
          </a:xfrm>
          <a:prstGeom prst="flowChartMagneticDisk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549600" y="4419720"/>
            <a:ext cx="1403280" cy="76176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934320" y="3505320"/>
            <a:ext cx="1403280" cy="76176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549600" y="2666880"/>
            <a:ext cx="1403280" cy="76212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549600" y="1371600"/>
            <a:ext cx="1403280" cy="76212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7016760" y="2209680"/>
            <a:ext cx="1073160" cy="68580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120400" y="2682720"/>
            <a:ext cx="13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640880" y="4343400"/>
            <a:ext cx="17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592720" y="369900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8294040" y="2174760"/>
            <a:ext cx="13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108560" y="4267080"/>
            <a:ext cx="22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isten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307240" y="58672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9" name=""/>
          <p:cNvCxnSpPr>
            <a:stCxn id="1251" idx="2"/>
            <a:endCxn id="1250" idx="0"/>
          </p:cNvCxnSpPr>
          <p:nvPr/>
        </p:nvCxnSpPr>
        <p:spPr>
          <a:xfrm>
            <a:off x="4250880" y="2133360"/>
            <a:ext cx="1080" cy="5338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260" name=""/>
          <p:cNvCxnSpPr>
            <a:stCxn id="1250" idx="2"/>
            <a:endCxn id="1248" idx="0"/>
          </p:cNvCxnSpPr>
          <p:nvPr/>
        </p:nvCxnSpPr>
        <p:spPr>
          <a:xfrm>
            <a:off x="4250880" y="3429000"/>
            <a:ext cx="1080" cy="9914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261" name=""/>
          <p:cNvCxnSpPr>
            <a:stCxn id="1248" idx="2"/>
            <a:endCxn id="1247" idx="1"/>
          </p:cNvCxnSpPr>
          <p:nvPr/>
        </p:nvCxnSpPr>
        <p:spPr>
          <a:xfrm>
            <a:off x="4250880" y="5181480"/>
            <a:ext cx="108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262" name=""/>
          <p:cNvCxnSpPr>
            <a:stCxn id="1250" idx="3"/>
            <a:endCxn id="1252" idx="1"/>
          </p:cNvCxnSpPr>
          <p:nvPr/>
        </p:nvCxnSpPr>
        <p:spPr>
          <a:xfrm flipV="1">
            <a:off x="4952520" y="2552400"/>
            <a:ext cx="2064600" cy="496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263" name=""/>
          <p:cNvCxnSpPr>
            <a:stCxn id="1250" idx="3"/>
            <a:endCxn id="1249" idx="1"/>
          </p:cNvCxnSpPr>
          <p:nvPr/>
        </p:nvCxnSpPr>
        <p:spPr>
          <a:xfrm>
            <a:off x="4952880" y="3048120"/>
            <a:ext cx="198216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264" name=""/>
          <p:cNvCxnSpPr>
            <a:stCxn id="1248" idx="3"/>
            <a:endCxn id="1249" idx="1"/>
          </p:cNvCxnSpPr>
          <p:nvPr/>
        </p:nvCxnSpPr>
        <p:spPr>
          <a:xfrm flipV="1">
            <a:off x="4952880" y="3885840"/>
            <a:ext cx="1982160" cy="9151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265" name=""/>
          <p:cNvSpPr/>
          <p:nvPr/>
        </p:nvSpPr>
        <p:spPr>
          <a:xfrm>
            <a:off x="3962520" y="3962520"/>
            <a:ext cx="57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ersistent Object Service (PO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S is being deprecated by OMG becau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y little use or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erally seen as too complex and imprecisely spec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or match to current persistence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dustry now has a better understanding of what is needed and the correct level of abs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SS will be a replacement for 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cuses on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“a way for CORBA object implementations to maintain their own persistent sta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mple to use and imp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pplicable to existing data storage technologies, but independent of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lated to: POA, concurrency, transaction, query, OBV,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sistent State Service (PS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aming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299120" y="2139840"/>
            <a:ext cx="23472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390840" y="3892680"/>
            <a:ext cx="23508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8096400" y="3282840"/>
            <a:ext cx="23472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445080" y="4578480"/>
            <a:ext cx="23508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280200" y="2901960"/>
            <a:ext cx="23508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987560" y="3054240"/>
            <a:ext cx="23508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2400480" y="2432160"/>
            <a:ext cx="1638000" cy="622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418480" y="2362320"/>
            <a:ext cx="690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914280" y="3200400"/>
            <a:ext cx="859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637240" y="2209680"/>
            <a:ext cx="571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H="1">
            <a:off x="3625920" y="2597040"/>
            <a:ext cx="673200" cy="1206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711680" y="2368440"/>
            <a:ext cx="1473120" cy="52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6610320" y="3054240"/>
            <a:ext cx="1390680" cy="29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356520" y="3200400"/>
            <a:ext cx="8244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448760" y="2746440"/>
            <a:ext cx="50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801400" y="3657600"/>
            <a:ext cx="571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19040" y="3511440"/>
            <a:ext cx="23508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400480" y="6026040"/>
            <a:ext cx="23472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381560" y="5645160"/>
            <a:ext cx="23472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114960" y="5950080"/>
            <a:ext cx="23508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518240" y="5645160"/>
            <a:ext cx="23508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8508960" y="5035680"/>
            <a:ext cx="23508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9169560" y="4197240"/>
            <a:ext cx="23472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66720" y="4578480"/>
            <a:ext cx="23508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574640" y="5340240"/>
            <a:ext cx="23508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749160" y="3193920"/>
            <a:ext cx="1143000" cy="317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2647800" y="4184640"/>
            <a:ext cx="730440" cy="1689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H="1" flipV="1">
            <a:off x="3625560" y="4184280"/>
            <a:ext cx="755640" cy="1384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6280200" y="4870080"/>
            <a:ext cx="235080" cy="927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H="1" flipV="1">
            <a:off x="6762240" y="4870440"/>
            <a:ext cx="755640" cy="774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 flipV="1">
            <a:off x="8165880" y="3574800"/>
            <a:ext cx="425160" cy="1384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H="1" flipV="1">
            <a:off x="8413560" y="3575160"/>
            <a:ext cx="755640" cy="622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914400" y="3346560"/>
            <a:ext cx="1143000" cy="1231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1739880" y="3422520"/>
            <a:ext cx="399960" cy="1841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8849520" y="3581280"/>
            <a:ext cx="41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8066880" y="4267080"/>
            <a:ext cx="41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105680" y="4876920"/>
            <a:ext cx="469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867640" y="5181480"/>
            <a:ext cx="469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159440" y="4724280"/>
            <a:ext cx="842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936880" y="5181480"/>
            <a:ext cx="59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814680" y="295128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32240" y="388620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392480" y="441972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 flipV="1">
            <a:off x="6521040" y="3200040"/>
            <a:ext cx="8244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558480" y="3581280"/>
            <a:ext cx="945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S foc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476440" y="2514600"/>
            <a:ext cx="4705560" cy="236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311560" y="2286000"/>
            <a:ext cx="0" cy="2819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054240" y="3124080"/>
            <a:ext cx="330480" cy="304920"/>
          </a:xfrm>
          <a:prstGeom prst="ellipse">
            <a:avLst/>
          </a:prstGeom>
          <a:solidFill>
            <a:srgbClr val="80808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467160" y="3581280"/>
            <a:ext cx="330120" cy="304920"/>
          </a:xfrm>
          <a:prstGeom prst="ellipse">
            <a:avLst/>
          </a:prstGeom>
          <a:solidFill>
            <a:srgbClr val="80808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889360" y="4038480"/>
            <a:ext cx="330120" cy="304920"/>
          </a:xfrm>
          <a:prstGeom prst="ellipse">
            <a:avLst/>
          </a:prstGeom>
          <a:solidFill>
            <a:srgbClr val="80808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622760" y="2133720"/>
            <a:ext cx="165240" cy="3276360"/>
          </a:xfrm>
          <a:custGeom>
            <a:avLst/>
            <a:gdLst/>
            <a:ahLst/>
            <a:rect l="l" t="t" r="r" b="b"/>
            <a:pathLst>
              <a:path w="96" h="2064">
                <a:moveTo>
                  <a:pt x="0" y="2064"/>
                </a:moveTo>
                <a:cubicBezTo>
                  <a:pt x="48" y="1684"/>
                  <a:pt x="96" y="1304"/>
                  <a:pt x="96" y="960"/>
                </a:cubicBezTo>
                <a:cubicBezTo>
                  <a:pt x="96" y="616"/>
                  <a:pt x="48" y="308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H="1">
            <a:off x="4952160" y="2133720"/>
            <a:ext cx="165240" cy="3276360"/>
          </a:xfrm>
          <a:custGeom>
            <a:avLst/>
            <a:gdLst/>
            <a:ahLst/>
            <a:rect l="l" t="t" r="r" b="b"/>
            <a:pathLst>
              <a:path w="96" h="2064">
                <a:moveTo>
                  <a:pt x="0" y="2064"/>
                </a:moveTo>
                <a:cubicBezTo>
                  <a:pt x="48" y="1684"/>
                  <a:pt x="96" y="1304"/>
                  <a:pt x="96" y="960"/>
                </a:cubicBezTo>
                <a:cubicBezTo>
                  <a:pt x="96" y="616"/>
                  <a:pt x="48" y="308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605320" y="2132640"/>
            <a:ext cx="16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ORB 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706400" y="531720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Exter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656800" y="2726280"/>
            <a:ext cx="121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rv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319280" y="531720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nter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398920" y="2116800"/>
            <a:ext cx="23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Datastore 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870440" y="2286000"/>
            <a:ext cx="0" cy="2819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742680" y="2514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Relationship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1320840" y="1981080"/>
            <a:ext cx="1485720" cy="685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641680" y="5486400"/>
            <a:ext cx="1485720" cy="685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2641680" y="3809880"/>
            <a:ext cx="1485720" cy="685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990720" y="4724280"/>
            <a:ext cx="1485720" cy="685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594560" y="3733920"/>
            <a:ext cx="1486080" cy="685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7429680" y="1752480"/>
            <a:ext cx="1485720" cy="685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200560" y="2743200"/>
            <a:ext cx="1486080" cy="685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219480" y="4876920"/>
            <a:ext cx="330120" cy="304560"/>
          </a:xfrm>
          <a:prstGeom prst="flowChartDecision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4" name=""/>
          <p:cNvCxnSpPr>
            <a:stCxn id="1286" idx="6"/>
            <a:endCxn id="1292" idx="2"/>
          </p:cNvCxnSpPr>
          <p:nvPr/>
        </p:nvCxnSpPr>
        <p:spPr>
          <a:xfrm>
            <a:off x="2806560" y="2323800"/>
            <a:ext cx="2394720" cy="762840"/>
          </a:xfrm>
          <a:prstGeom prst="straightConnector1">
            <a:avLst/>
          </a:prstGeom>
          <a:ln w="38160">
            <a:solidFill>
              <a:srgbClr val="808080"/>
            </a:solidFill>
            <a:miter/>
            <a:headEnd len="med" type="oval" w="med"/>
            <a:tailEnd len="med" type="oval" w="med"/>
          </a:ln>
        </p:spPr>
      </p:cxnSp>
      <p:cxnSp>
        <p:nvCxnSpPr>
          <p:cNvPr id="1295" name=""/>
          <p:cNvCxnSpPr>
            <a:stCxn id="1288" idx="4"/>
            <a:endCxn id="1293" idx="0"/>
          </p:cNvCxnSpPr>
          <p:nvPr/>
        </p:nvCxnSpPr>
        <p:spPr>
          <a:xfrm>
            <a:off x="3384360" y="4495320"/>
            <a:ext cx="1080" cy="381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</p:cxnSp>
      <p:cxnSp>
        <p:nvCxnSpPr>
          <p:cNvPr id="1296" name=""/>
          <p:cNvCxnSpPr>
            <a:stCxn id="1291" idx="4"/>
            <a:endCxn id="1290" idx="0"/>
          </p:cNvCxnSpPr>
          <p:nvPr/>
        </p:nvCxnSpPr>
        <p:spPr>
          <a:xfrm>
            <a:off x="8172000" y="2437920"/>
            <a:ext cx="165960" cy="1296360"/>
          </a:xfrm>
          <a:prstGeom prst="straightConnector1">
            <a:avLst/>
          </a:prstGeom>
          <a:ln w="38160">
            <a:solidFill>
              <a:srgbClr val="c0c0c0"/>
            </a:solidFill>
            <a:miter/>
            <a:headEnd len="med" type="oval" w="med"/>
            <a:tailEnd len="med" type="oval" w="med"/>
          </a:ln>
        </p:spPr>
      </p:cxnSp>
      <p:cxnSp>
        <p:nvCxnSpPr>
          <p:cNvPr id="1297" name=""/>
          <p:cNvCxnSpPr>
            <a:stCxn id="1290" idx="2"/>
            <a:endCxn id="1292" idx="6"/>
          </p:cNvCxnSpPr>
          <p:nvPr/>
        </p:nvCxnSpPr>
        <p:spPr>
          <a:xfrm flipH="1" flipV="1">
            <a:off x="6686280" y="3085560"/>
            <a:ext cx="908640" cy="991080"/>
          </a:xfrm>
          <a:prstGeom prst="straightConnector1">
            <a:avLst/>
          </a:prstGeom>
          <a:ln w="38160">
            <a:solidFill>
              <a:srgbClr val="808080"/>
            </a:solidFill>
            <a:miter/>
            <a:headEnd len="med" type="oval" w="med"/>
            <a:tailEnd len="med" type="oval" w="med"/>
          </a:ln>
        </p:spPr>
      </p:cxnSp>
      <p:cxnSp>
        <p:nvCxnSpPr>
          <p:cNvPr id="1298" name=""/>
          <p:cNvCxnSpPr>
            <a:stCxn id="1291" idx="2"/>
            <a:endCxn id="1292" idx="6"/>
          </p:cNvCxnSpPr>
          <p:nvPr/>
        </p:nvCxnSpPr>
        <p:spPr>
          <a:xfrm flipH="1">
            <a:off x="6686280" y="2095560"/>
            <a:ext cx="743760" cy="991440"/>
          </a:xfrm>
          <a:prstGeom prst="straightConnector1">
            <a:avLst/>
          </a:prstGeom>
          <a:ln w="38160">
            <a:solidFill>
              <a:srgbClr val="808080"/>
            </a:solidFill>
            <a:miter/>
            <a:headEnd len="med" type="oval" w="med"/>
            <a:tailEnd len="med" type="oval" w="med"/>
          </a:ln>
        </p:spPr>
      </p:cxnSp>
      <p:cxnSp>
        <p:nvCxnSpPr>
          <p:cNvPr id="1299" name=""/>
          <p:cNvCxnSpPr>
            <a:stCxn id="1288" idx="0"/>
            <a:endCxn id="1292" idx="3"/>
          </p:cNvCxnSpPr>
          <p:nvPr/>
        </p:nvCxnSpPr>
        <p:spPr>
          <a:xfrm flipV="1">
            <a:off x="3384720" y="3328560"/>
            <a:ext cx="2034000" cy="481680"/>
          </a:xfrm>
          <a:prstGeom prst="straightConnector1">
            <a:avLst/>
          </a:prstGeom>
          <a:ln w="38160">
            <a:solidFill>
              <a:srgbClr val="c0c0c0"/>
            </a:solidFill>
            <a:miter/>
            <a:headEnd len="med" type="oval" w="med"/>
            <a:tailEnd len="med" type="oval" w="med"/>
          </a:ln>
        </p:spPr>
      </p:cxnSp>
      <p:sp>
        <p:nvSpPr>
          <p:cNvPr id="1300" name=""/>
          <p:cNvSpPr/>
          <p:nvPr/>
        </p:nvSpPr>
        <p:spPr>
          <a:xfrm>
            <a:off x="3714840" y="2514600"/>
            <a:ext cx="330120" cy="304920"/>
          </a:xfrm>
          <a:prstGeom prst="flowChartDecision">
            <a:avLst/>
          </a:prstGeom>
          <a:solidFill>
            <a:srgbClr val="80808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165560" y="3429000"/>
            <a:ext cx="330120" cy="304920"/>
          </a:xfrm>
          <a:prstGeom prst="flowChartDecision">
            <a:avLst/>
          </a:prstGeom>
          <a:solidFill>
            <a:srgbClr val="ffffff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975360" y="3429000"/>
            <a:ext cx="330480" cy="304920"/>
          </a:xfrm>
          <a:prstGeom prst="flowChartDecision">
            <a:avLst/>
          </a:prstGeom>
          <a:solidFill>
            <a:srgbClr val="80808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8096400" y="2882880"/>
            <a:ext cx="330120" cy="304920"/>
          </a:xfrm>
          <a:prstGeom prst="flowChartDecision">
            <a:avLst/>
          </a:prstGeom>
          <a:solidFill>
            <a:srgbClr val="ffffff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905520" y="2436840"/>
            <a:ext cx="330480" cy="304920"/>
          </a:xfrm>
          <a:prstGeom prst="flowChartDecision">
            <a:avLst/>
          </a:prstGeom>
          <a:solidFill>
            <a:srgbClr val="80808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5" name=""/>
          <p:cNvCxnSpPr>
            <a:stCxn id="1289" idx="6"/>
            <a:endCxn id="1293" idx="1"/>
          </p:cNvCxnSpPr>
          <p:nvPr/>
        </p:nvCxnSpPr>
        <p:spPr>
          <a:xfrm flipV="1">
            <a:off x="2476440" y="5028840"/>
            <a:ext cx="743760" cy="38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</p:cxnSp>
      <p:cxnSp>
        <p:nvCxnSpPr>
          <p:cNvPr id="1306" name=""/>
          <p:cNvCxnSpPr>
            <a:stCxn id="1287" idx="0"/>
            <a:endCxn id="1293" idx="2"/>
          </p:cNvCxnSpPr>
          <p:nvPr/>
        </p:nvCxnSpPr>
        <p:spPr>
          <a:xfrm flipV="1">
            <a:off x="3384360" y="5180760"/>
            <a:ext cx="1080" cy="305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</p:cxnSp>
      <p:sp>
        <p:nvSpPr>
          <p:cNvPr id="1307" name=""/>
          <p:cNvSpPr/>
          <p:nvPr/>
        </p:nvSpPr>
        <p:spPr>
          <a:xfrm>
            <a:off x="7311960" y="5010120"/>
            <a:ext cx="330120" cy="304920"/>
          </a:xfrm>
          <a:prstGeom prst="flowChartDecision">
            <a:avLst/>
          </a:prstGeom>
          <a:solidFill>
            <a:srgbClr val="80808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7340760" y="5400720"/>
            <a:ext cx="330120" cy="304920"/>
          </a:xfrm>
          <a:prstGeom prst="flowChartDecision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7348680" y="5803920"/>
            <a:ext cx="330120" cy="304920"/>
          </a:xfrm>
          <a:prstGeom prst="flowChartDecision">
            <a:avLst/>
          </a:prstGeom>
          <a:solidFill>
            <a:srgbClr val="ffffff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7791480" y="496872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773840" y="574524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7794720" y="53578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_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3038400" y="1870200"/>
            <a:ext cx="976320" cy="334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087440" y="156528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H="1" flipV="1">
            <a:off x="4490640" y="3755520"/>
            <a:ext cx="461880" cy="600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852080" y="41403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H="1" flipV="1">
            <a:off x="4203720" y="5838480"/>
            <a:ext cx="1054080" cy="245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5367600" y="578016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548160" y="486576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tribute: due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877440" y="533880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872760" y="495000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818760" y="18018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 .. 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275880" y="25178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 ..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742680" y="13986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licit representation of entities and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bitrary deg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ype and cardinality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les and relationships can be extended with attributes and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igh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relate immutabl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versal without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ree levels of servi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simple relationships and 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grap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traversal of graphs of relate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pecific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specialised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/>
          </p:nvPr>
        </p:nvSpPr>
        <p:spPr>
          <a:xfrm>
            <a:off x="742680" y="164304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lexible multidirectional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bject references are unidirec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rd party mani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lationship and role objects can be exposed to a third party for mani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raph traver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lationships and roles can have attributes and operations via IDL inheri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dvantages over Object Re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742680" y="2514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ty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ty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ynamical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sociates properties with an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ties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ame-valu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“batch”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s can access and control property modes and constr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s can restrict creation, deletion, modification of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Data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ypedef string PropertyN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truct Propert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opertyName property_n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y property_val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um PropertyModeTyp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ormal, read_only, fixed_normal, fixed_readonly, un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ty Service Inte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49400" y="1671480"/>
            <a:ext cx="2295000" cy="1159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y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83240" y="5551200"/>
            <a:ext cx="2941560" cy="1159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ySetD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751760" y="4620600"/>
            <a:ext cx="2941560" cy="642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ySetD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347360" y="1436400"/>
            <a:ext cx="2008800" cy="1159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130840" y="3042720"/>
            <a:ext cx="2295000" cy="642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y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9" name=""/>
          <p:cNvCxnSpPr>
            <a:stCxn id="1334" idx="5"/>
            <a:endCxn id="1338" idx="1"/>
          </p:cNvCxnSpPr>
          <p:nvPr/>
        </p:nvCxnSpPr>
        <p:spPr>
          <a:xfrm>
            <a:off x="2155680" y="2670120"/>
            <a:ext cx="264240" cy="457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40" name=""/>
          <p:cNvCxnSpPr>
            <a:endCxn id="1336" idx="3"/>
          </p:cNvCxnSpPr>
          <p:nvPr/>
        </p:nvCxnSpPr>
        <p:spPr>
          <a:xfrm flipV="1">
            <a:off x="1704960" y="5177880"/>
            <a:ext cx="41184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41" name=""/>
          <p:cNvCxnSpPr>
            <a:stCxn id="1336" idx="0"/>
            <a:endCxn id="1338" idx="4"/>
          </p:cNvCxnSpPr>
          <p:nvPr/>
        </p:nvCxnSpPr>
        <p:spPr>
          <a:xfrm flipV="1">
            <a:off x="3222720" y="3692160"/>
            <a:ext cx="56160" cy="92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2" name=""/>
          <p:cNvSpPr/>
          <p:nvPr/>
        </p:nvSpPr>
        <p:spPr>
          <a:xfrm>
            <a:off x="7594560" y="3048120"/>
            <a:ext cx="20638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7512120" y="4343400"/>
            <a:ext cx="222876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opertyD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operty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4" name=""/>
          <p:cNvCxnSpPr>
            <a:stCxn id="1338" idx="6"/>
            <a:endCxn id="1342" idx="1"/>
          </p:cNvCxnSpPr>
          <p:nvPr/>
        </p:nvCxnSpPr>
        <p:spPr>
          <a:xfrm flipV="1">
            <a:off x="4505400" y="3351960"/>
            <a:ext cx="3077280" cy="11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5" name=""/>
          <p:cNvCxnSpPr>
            <a:stCxn id="1336" idx="6"/>
            <a:endCxn id="1343" idx="1"/>
          </p:cNvCxnSpPr>
          <p:nvPr/>
        </p:nvCxnSpPr>
        <p:spPr>
          <a:xfrm flipV="1">
            <a:off x="4800240" y="4914720"/>
            <a:ext cx="2699640" cy="2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6" name=""/>
          <p:cNvSpPr/>
          <p:nvPr/>
        </p:nvSpPr>
        <p:spPr>
          <a:xfrm>
            <a:off x="2223720" y="260496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re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985680" y="511956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re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458240" y="3352680"/>
            <a:ext cx="22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defining, deletin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enumeratin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existence-che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677640" y="1429920"/>
            <a:ext cx="2941560" cy="1159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y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772160" y="4951440"/>
            <a:ext cx="254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retrieving constrain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getting and se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property m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742680" y="2514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t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914400" y="1889280"/>
            <a:ext cx="807732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uct NameComponent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id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kind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def sequence &lt;NameComponent&gt; Nam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um BindingType {nobject, ncontext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uct Binding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inding_nam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inding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inding_typ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Data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t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uples the communication between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v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 piece of information that is contributed by an event 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event object roles (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ppli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liers and consumers support standard IDL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communication initiation approaches (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communication types (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ener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"/>
          <p:cNvSpPr/>
          <p:nvPr/>
        </p:nvSpPr>
        <p:spPr>
          <a:xfrm rot="5400000">
            <a:off x="1180800" y="1815840"/>
            <a:ext cx="2590560" cy="2311200"/>
          </a:xfrm>
          <a:prstGeom prst="blockArc">
            <a:avLst>
              <a:gd name="adj1" fmla="val 10794480"/>
              <a:gd name="adj2" fmla="val 5520"/>
              <a:gd name="adj3" fmla="val 386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rot="16200000">
            <a:off x="6134040" y="1815840"/>
            <a:ext cx="2590560" cy="2311560"/>
          </a:xfrm>
          <a:prstGeom prst="blockArc">
            <a:avLst>
              <a:gd name="adj1" fmla="val 10794480"/>
              <a:gd name="adj2" fmla="val 5520"/>
              <a:gd name="adj3" fmla="val 386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820200" y="274320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641600" y="27432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219480" y="2971800"/>
            <a:ext cx="338436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t Object Ro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43040" y="4343400"/>
            <a:ext cx="84200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l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 event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/use event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"/>
          <p:cNvSpPr/>
          <p:nvPr/>
        </p:nvSpPr>
        <p:spPr>
          <a:xfrm rot="5400000">
            <a:off x="1180800" y="1892160"/>
            <a:ext cx="2590920" cy="2311200"/>
          </a:xfrm>
          <a:prstGeom prst="blockArc">
            <a:avLst>
              <a:gd name="adj1" fmla="val 10794480"/>
              <a:gd name="adj2" fmla="val 5520"/>
              <a:gd name="adj3" fmla="val 386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rot="16200000">
            <a:off x="6134040" y="1891800"/>
            <a:ext cx="2590920" cy="2311560"/>
          </a:xfrm>
          <a:prstGeom prst="blockArc">
            <a:avLst>
              <a:gd name="adj1" fmla="val 10794480"/>
              <a:gd name="adj2" fmla="val 5520"/>
              <a:gd name="adj3" fmla="val 386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820200" y="281952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641600" y="281952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632040" y="2514600"/>
            <a:ext cx="2559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H="1">
            <a:off x="3631680" y="3581280"/>
            <a:ext cx="2559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566880" y="35812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654880" y="20574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176720" y="2452680"/>
            <a:ext cx="15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’s new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187160" y="320040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s flash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219480" y="3048120"/>
            <a:ext cx="338436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cation Initiation Approac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743040" y="4495680"/>
            <a:ext cx="84200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sh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lier takes initi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l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umer takes initi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/>
          <p:nvPr/>
        </p:nvSpPr>
        <p:spPr>
          <a:xfrm rot="5400000">
            <a:off x="1125720" y="1317960"/>
            <a:ext cx="1214280" cy="1320840"/>
          </a:xfrm>
          <a:prstGeom prst="blockArc">
            <a:avLst>
              <a:gd name="adj1" fmla="val 10794480"/>
              <a:gd name="adj2" fmla="val 5520"/>
              <a:gd name="adj3" fmla="val 386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7566480" y="17524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803160" y="17478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 rot="5400000">
            <a:off x="1125720" y="2694600"/>
            <a:ext cx="1214640" cy="1320840"/>
          </a:xfrm>
          <a:prstGeom prst="blockArc">
            <a:avLst>
              <a:gd name="adj1" fmla="val 10794480"/>
              <a:gd name="adj2" fmla="val 5520"/>
              <a:gd name="adj3" fmla="val 386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803160" y="31240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flipH="1" rot="16200000">
            <a:off x="7402320" y="1318320"/>
            <a:ext cx="1214280" cy="1320840"/>
          </a:xfrm>
          <a:prstGeom prst="blockArc">
            <a:avLst>
              <a:gd name="adj1" fmla="val 10794480"/>
              <a:gd name="adj2" fmla="val 5520"/>
              <a:gd name="adj3" fmla="val 386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 flipH="1" rot="16200000">
            <a:off x="7401960" y="2694600"/>
            <a:ext cx="1214640" cy="1320840"/>
          </a:xfrm>
          <a:prstGeom prst="blockArc">
            <a:avLst>
              <a:gd name="adj1" fmla="val 10794480"/>
              <a:gd name="adj2" fmla="val 5520"/>
              <a:gd name="adj3" fmla="val 386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7566480" y="31240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549600" y="1981080"/>
            <a:ext cx="2806920" cy="121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3" name=""/>
          <p:cNvCxnSpPr>
            <a:stCxn id="1374" idx="0"/>
            <a:endCxn id="1382" idx="1"/>
          </p:cNvCxnSpPr>
          <p:nvPr/>
        </p:nvCxnSpPr>
        <p:spPr>
          <a:xfrm>
            <a:off x="2394000" y="1978200"/>
            <a:ext cx="1567440" cy="18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84" name=""/>
          <p:cNvCxnSpPr>
            <a:stCxn id="1377" idx="0"/>
            <a:endCxn id="1382" idx="3"/>
          </p:cNvCxnSpPr>
          <p:nvPr/>
        </p:nvCxnSpPr>
        <p:spPr>
          <a:xfrm flipV="1">
            <a:off x="2394000" y="3022200"/>
            <a:ext cx="1567440" cy="332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85" name=""/>
          <p:cNvCxnSpPr>
            <a:stCxn id="1382" idx="7"/>
            <a:endCxn id="1379" idx="0"/>
          </p:cNvCxnSpPr>
          <p:nvPr/>
        </p:nvCxnSpPr>
        <p:spPr>
          <a:xfrm flipV="1">
            <a:off x="5944680" y="1977840"/>
            <a:ext cx="1407240" cy="18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86" name=""/>
          <p:cNvCxnSpPr>
            <a:stCxn id="1382" idx="5"/>
            <a:endCxn id="1380" idx="0"/>
          </p:cNvCxnSpPr>
          <p:nvPr/>
        </p:nvCxnSpPr>
        <p:spPr>
          <a:xfrm>
            <a:off x="5944680" y="3022560"/>
            <a:ext cx="1458360" cy="332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87" name=""/>
          <p:cNvSpPr/>
          <p:nvPr/>
        </p:nvSpPr>
        <p:spPr>
          <a:xfrm>
            <a:off x="2616120" y="14479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/P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5752800" y="34290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/P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t Chann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43040" y="4114800"/>
            <a:ext cx="84200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rvening object which accepts events and distributes them to other objects (i.e. it is both a supplier and a consum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llows multiple suppliers and consumers to communicate asynchron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cation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 via generic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ions; event data packaged in a single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 via operations defined in IDL; event data passed by defined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742680" y="2514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ransa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unit of work that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m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sis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we need a Transaction Servi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742680" y="2198160"/>
            <a:ext cx="8420040" cy="382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llows transactions to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, separately defined ACID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s and resources from the non-object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 Transaction Service supports existing IDL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ansaction service suppor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s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ansactions (opt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381560" y="3816360"/>
            <a:ext cx="152280" cy="139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556080" y="4502160"/>
            <a:ext cx="152280" cy="139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381560" y="4502160"/>
            <a:ext cx="152280" cy="139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207040" y="4502160"/>
            <a:ext cx="152280" cy="139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4051440" y="5264280"/>
            <a:ext cx="152280" cy="139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4794120" y="5264280"/>
            <a:ext cx="152640" cy="139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H="1">
            <a:off x="3637080" y="3890880"/>
            <a:ext cx="820800" cy="68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462560" y="3890880"/>
            <a:ext cx="820800" cy="68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457880" y="3890880"/>
            <a:ext cx="0" cy="68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H="1">
            <a:off x="4132440" y="4576680"/>
            <a:ext cx="325440" cy="75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4462560" y="4576680"/>
            <a:ext cx="407880" cy="75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 Service Basic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996840" y="1606680"/>
            <a:ext cx="7912080" cy="265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996840" y="5035680"/>
            <a:ext cx="791208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3720960" y="2749680"/>
            <a:ext cx="1886040" cy="113004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775560" y="2749680"/>
            <a:ext cx="1885680" cy="113004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004760" y="5575320"/>
            <a:ext cx="2778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action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558880" y="1689120"/>
            <a:ext cx="4870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tributed Client/Server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170000" y="2298600"/>
            <a:ext cx="1622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actional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618240" y="2298600"/>
            <a:ext cx="2282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overable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564000" y="2298600"/>
            <a:ext cx="2282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actional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299120" y="3282840"/>
            <a:ext cx="482400" cy="444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792680" y="3505320"/>
            <a:ext cx="2224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540320" y="3738600"/>
            <a:ext cx="0" cy="1290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7264440" y="3738600"/>
            <a:ext cx="0" cy="1290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7773840" y="2908440"/>
            <a:ext cx="1044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059360" y="2755800"/>
            <a:ext cx="1292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actional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783480" y="2755800"/>
            <a:ext cx="1292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overable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8172360" y="3736800"/>
            <a:ext cx="0" cy="1290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7023240" y="3282840"/>
            <a:ext cx="482400" cy="4446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931160" y="3282840"/>
            <a:ext cx="482760" cy="4446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133880" y="5264280"/>
            <a:ext cx="1555560" cy="596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389480" y="5270400"/>
            <a:ext cx="1209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action 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162080" y="2978280"/>
            <a:ext cx="1308240" cy="74916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574640" y="3130560"/>
            <a:ext cx="482760" cy="4446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2068560" y="3352680"/>
            <a:ext cx="1646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816200" y="3586320"/>
            <a:ext cx="0" cy="144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558880" y="5181480"/>
            <a:ext cx="4788000" cy="152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It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oolean next_one(out Bind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oolean next_n(long, out BindingLi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stroy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981080" y="1371600"/>
            <a:ext cx="5943600" cy="365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ing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ind(Name, Objec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bind(Name, Objec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ind_context(Name, NamingContex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bind_context(Name,NamingContex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bject resolve(Na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nbind(Na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ingContext new_contex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ingContext bind_new_context(Na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stroy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st(long, out BindingList, out BindingIterat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ing Service Inte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742680" y="2514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t of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urrency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ates simultaneous access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actio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to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al or non-transac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former: uses Transaction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izes transactional and non-transactional cl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ination of access to resources throug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urrency Service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k mo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, write, upgrade 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ntion locks (variable granular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possession of 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-phase lo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ed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taining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C representation,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conds unit, AD 1582 - 30,000 r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ror estim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ing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interv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upport for time zones, 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main interfa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ervice, TimerEvent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censing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hanism for producers to control the use of their intellectual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useful in non-profit organiz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ies implemented in terms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(start/duration and expir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mapping (units, concurrent use, meter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umers (assignment, reserv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urity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ti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urity Service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cation,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, access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of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repud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nding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Object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amental and ba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 using and implement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s, not implemen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rely available ‘out of the box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ject to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BA Services document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omg.org/library/csindx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omg.org/library/idlindx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operable Naming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tension of older Naming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olves interoperability issues (e.g. defines equality between CosNaming::NameCompon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fines an interoperable, stringified form of a CosNaming::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fines a URL format for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ows multiple clients to access a common Initial Naming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ringified N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108840" y="3657600"/>
            <a:ext cx="2178000" cy="94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b/./c/.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61680" y="2394000"/>
            <a:ext cx="4807800" cy="309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--------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-----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empty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empty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empty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empty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0T11:13:30Z</dcterms:created>
  <dc:creator>Industry Support Program</dc:creator>
  <dc:description/>
  <dc:language>en-US</dc:language>
  <cp:lastModifiedBy>atoke.inf.elte.hu</cp:lastModifiedBy>
  <cp:lastPrinted>2000-04-05T08:29:52Z</cp:lastPrinted>
  <dcterms:modified xsi:type="dcterms:W3CDTF">2005-02-20T15:27:52Z</dcterms:modified>
  <cp:revision>103</cp:revision>
  <dc:subject/>
  <dc:title>Naming Service</dc:title>
</cp:coreProperties>
</file>