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843D-3EE5-4E62-82A9-1BDEF77C8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015D-BAA4-4510-AEB3-FA0D64171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F08B-8BAD-4202-8664-14B245BB2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5A91-E4AD-4AC3-B966-540628194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4298-BBCA-479D-9E42-32DDF9161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EC27-15E1-4063-894A-8B98757ED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8F52-8AB1-490F-8EAB-435B38967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02BD-3AC9-4C40-83FD-C2C32649E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FDA1-61AA-4F6C-AE3A-E31B0C153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FA9C-823D-4507-AB0C-BBA024AA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A5D3-C6A5-4651-8066-EC99ACA9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D2B3-DE9A-41D4-8E9F-11D2E28F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AFC93-B88D-4A1F-90E4-2803A3B621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BA Event Serv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rtin Se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nger@ebi.ac.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is the Event Channel f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mediator of antagonistic initia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multiplier of data events (one supplier for more consume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d vice-versa (more suppliers for one consum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provider of “quality of servic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oring messages, re-sending the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ut this is not part of CosEvent Service inter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you need to 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your suppliers and/or consum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 specific ta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ister them and register their behavi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teps regist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obtain a proxy supplier/consumer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nnect to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do it, however, you need an Event Chann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to a factory of Event Channels is not standardi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908760" y="38160"/>
            <a:ext cx="2133720" cy="67802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19320" y="38160"/>
            <a:ext cx="5638680" cy="6781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990360" y="2478240"/>
            <a:ext cx="2061360" cy="1904760"/>
            <a:chOff x="990360" y="2478240"/>
            <a:chExt cx="2061360" cy="1904760"/>
          </a:xfrm>
        </p:grpSpPr>
        <p:sp>
          <p:nvSpPr>
            <p:cNvPr id="115" name=""/>
            <p:cNvSpPr/>
            <p:nvPr/>
          </p:nvSpPr>
          <p:spPr>
            <a:xfrm>
              <a:off x="1020600" y="2478240"/>
              <a:ext cx="1950840" cy="19047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990360" y="3062160"/>
              <a:ext cx="183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 Narrow"/>
                </a:rPr>
                <a:t>SupplierAdmin for_suppliers(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91800" y="3824280"/>
              <a:ext cx="2059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 Narrow"/>
                </a:rPr>
                <a:t>ConsumerAdmin for_consumers(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90720" y="3443400"/>
              <a:ext cx="93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void destroy(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126440" y="2554200"/>
              <a:ext cx="17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ff"/>
                  </a:solidFill>
                  <a:latin typeface="Times New Roman"/>
                </a:rPr>
                <a:t>EventChann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684720" y="2440080"/>
            <a:ext cx="306000" cy="1980720"/>
            <a:chOff x="684720" y="2440080"/>
            <a:chExt cx="306000" cy="1980720"/>
          </a:xfrm>
        </p:grpSpPr>
        <p:cxnSp>
          <p:nvCxnSpPr>
            <p:cNvPr id="121" name=""/>
            <p:cNvCxnSpPr>
              <a:stCxn id="122" idx="0"/>
              <a:endCxn id="118" idx="1"/>
            </p:cNvCxnSpPr>
            <p:nvPr/>
          </p:nvCxnSpPr>
          <p:spPr>
            <a:xfrm flipH="1" flipV="1" rot="5400000">
              <a:off x="417960" y="3848040"/>
              <a:ext cx="840600" cy="305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3" name=""/>
            <p:cNvCxnSpPr>
              <a:stCxn id="124" idx="4"/>
              <a:endCxn id="118" idx="1"/>
            </p:cNvCxnSpPr>
            <p:nvPr/>
          </p:nvCxnSpPr>
          <p:spPr>
            <a:xfrm flipH="1" rot="16200000">
              <a:off x="266760" y="2858040"/>
              <a:ext cx="1141920" cy="305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25" name=""/>
          <p:cNvGrpSpPr/>
          <p:nvPr/>
        </p:nvGrpSpPr>
        <p:grpSpPr>
          <a:xfrm>
            <a:off x="1906560" y="914400"/>
            <a:ext cx="3166560" cy="2147760"/>
            <a:chOff x="1906560" y="914400"/>
            <a:chExt cx="3166560" cy="2147760"/>
          </a:xfrm>
        </p:grpSpPr>
        <p:grpSp>
          <p:nvGrpSpPr>
            <p:cNvPr id="126" name=""/>
            <p:cNvGrpSpPr/>
            <p:nvPr/>
          </p:nvGrpSpPr>
          <p:grpSpPr>
            <a:xfrm>
              <a:off x="2284920" y="914400"/>
              <a:ext cx="2788200" cy="1371600"/>
              <a:chOff x="2284920" y="914400"/>
              <a:chExt cx="2788200" cy="1371600"/>
            </a:xfrm>
          </p:grpSpPr>
          <p:sp>
            <p:nvSpPr>
              <p:cNvPr id="127" name=""/>
              <p:cNvSpPr/>
              <p:nvPr/>
            </p:nvSpPr>
            <p:spPr>
              <a:xfrm>
                <a:off x="2344680" y="914400"/>
                <a:ext cx="2666880" cy="13716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284920" y="1511280"/>
                <a:ext cx="2788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Arial Narrow"/>
                  </a:rPr>
                  <a:t>ProxyPushConsumer obtain_push_consumer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284920" y="1847880"/>
                <a:ext cx="2632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Arial Narrow"/>
                  </a:rPr>
                  <a:t>ProxyPullConsumer obtain_pull_consumer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747520" y="990720"/>
                <a:ext cx="186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ff"/>
                    </a:solidFill>
                    <a:latin typeface="Times New Roman"/>
                  </a:rPr>
                  <a:t>SupplierAdmi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31" name=""/>
            <p:cNvCxnSpPr>
              <a:stCxn id="116" idx="0"/>
              <a:endCxn id="128" idx="1"/>
            </p:cNvCxnSpPr>
            <p:nvPr/>
          </p:nvCxnSpPr>
          <p:spPr>
            <a:xfrm flipH="1" flipV="1" rot="5400000">
              <a:off x="1389600" y="2165760"/>
              <a:ext cx="1413360" cy="380160"/>
            </a:xfrm>
            <a:prstGeom prst="bentConnector2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32" name=""/>
          <p:cNvGrpSpPr/>
          <p:nvPr/>
        </p:nvGrpSpPr>
        <p:grpSpPr>
          <a:xfrm>
            <a:off x="228600" y="1601640"/>
            <a:ext cx="914400" cy="1599120"/>
            <a:chOff x="228600" y="1601640"/>
            <a:chExt cx="914400" cy="1599120"/>
          </a:xfrm>
        </p:grpSpPr>
        <p:sp>
          <p:nvSpPr>
            <p:cNvPr id="124" name=""/>
            <p:cNvSpPr/>
            <p:nvPr/>
          </p:nvSpPr>
          <p:spPr>
            <a:xfrm>
              <a:off x="228600" y="1601640"/>
              <a:ext cx="914400" cy="8384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Times New Roman"/>
                </a:rPr>
                <a:t>I 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Times New Roman"/>
                </a:rPr>
                <a:t>a suppli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3" name=""/>
            <p:cNvCxnSpPr>
              <a:stCxn id="124" idx="4"/>
              <a:endCxn id="116" idx="1"/>
            </p:cNvCxnSpPr>
            <p:nvPr/>
          </p:nvCxnSpPr>
          <p:spPr>
            <a:xfrm flipH="1" rot="16200000">
              <a:off x="457200" y="2667600"/>
              <a:ext cx="761040" cy="305640"/>
            </a:xfrm>
            <a:prstGeom prst="bentConnector2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34" name=""/>
          <p:cNvGrpSpPr/>
          <p:nvPr/>
        </p:nvGrpSpPr>
        <p:grpSpPr>
          <a:xfrm>
            <a:off x="228600" y="3962160"/>
            <a:ext cx="914400" cy="1297080"/>
            <a:chOff x="228600" y="3962160"/>
            <a:chExt cx="914400" cy="1297080"/>
          </a:xfrm>
        </p:grpSpPr>
        <p:sp>
          <p:nvSpPr>
            <p:cNvPr id="122" name=""/>
            <p:cNvSpPr/>
            <p:nvPr/>
          </p:nvSpPr>
          <p:spPr>
            <a:xfrm>
              <a:off x="228600" y="4421160"/>
              <a:ext cx="914400" cy="838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Times New Roman"/>
                </a:rPr>
                <a:t>I 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Times New Roman"/>
                </a:rPr>
                <a:t>a consum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5" name=""/>
            <p:cNvCxnSpPr>
              <a:stCxn id="122" idx="0"/>
              <a:endCxn id="117" idx="1"/>
            </p:cNvCxnSpPr>
            <p:nvPr/>
          </p:nvCxnSpPr>
          <p:spPr>
            <a:xfrm flipH="1" flipV="1" rot="5400000">
              <a:off x="608400" y="4038840"/>
              <a:ext cx="459360" cy="305640"/>
            </a:xfrm>
            <a:prstGeom prst="bentConnector2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36" name=""/>
          <p:cNvGrpSpPr/>
          <p:nvPr/>
        </p:nvGrpSpPr>
        <p:grpSpPr>
          <a:xfrm>
            <a:off x="5308560" y="190440"/>
            <a:ext cx="3683160" cy="847440"/>
            <a:chOff x="5308560" y="190440"/>
            <a:chExt cx="3683160" cy="847440"/>
          </a:xfrm>
        </p:grpSpPr>
        <p:grpSp>
          <p:nvGrpSpPr>
            <p:cNvPr id="137" name=""/>
            <p:cNvGrpSpPr/>
            <p:nvPr/>
          </p:nvGrpSpPr>
          <p:grpSpPr>
            <a:xfrm>
              <a:off x="7221600" y="190440"/>
              <a:ext cx="1770120" cy="533520"/>
              <a:chOff x="7221600" y="190440"/>
              <a:chExt cx="1770120" cy="533520"/>
            </a:xfrm>
          </p:grpSpPr>
          <p:sp>
            <p:nvSpPr>
              <p:cNvPr id="138" name=""/>
              <p:cNvSpPr/>
              <p:nvPr/>
            </p:nvSpPr>
            <p:spPr>
              <a:xfrm>
                <a:off x="7221600" y="190440"/>
                <a:ext cx="1770120" cy="533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281720" y="266760"/>
                <a:ext cx="1651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ff"/>
                    </a:solidFill>
                    <a:latin typeface="Times New Roman"/>
                  </a:rPr>
                  <a:t>PushSuppli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40" name=""/>
            <p:cNvCxnSpPr>
              <a:stCxn id="141" idx="2"/>
              <a:endCxn id="138" idx="2"/>
            </p:cNvCxnSpPr>
            <p:nvPr/>
          </p:nvCxnSpPr>
          <p:spPr>
            <a:xfrm flipH="1" flipV="1" rot="5400000">
              <a:off x="6665400" y="-633600"/>
              <a:ext cx="84960" cy="2799360"/>
            </a:xfrm>
            <a:prstGeom prst="bentConnector3">
              <a:avLst>
                <a:gd name="adj1" fmla="val -271489"/>
              </a:avLst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42" name=""/>
          <p:cNvGrpSpPr/>
          <p:nvPr/>
        </p:nvGrpSpPr>
        <p:grpSpPr>
          <a:xfrm>
            <a:off x="5490000" y="3568680"/>
            <a:ext cx="3557160" cy="1295280"/>
            <a:chOff x="5490000" y="3568680"/>
            <a:chExt cx="3557160" cy="1295280"/>
          </a:xfrm>
        </p:grpSpPr>
        <p:grpSp>
          <p:nvGrpSpPr>
            <p:cNvPr id="143" name=""/>
            <p:cNvGrpSpPr/>
            <p:nvPr/>
          </p:nvGrpSpPr>
          <p:grpSpPr>
            <a:xfrm>
              <a:off x="6918480" y="3568680"/>
              <a:ext cx="2128680" cy="1066680"/>
              <a:chOff x="6918480" y="3568680"/>
              <a:chExt cx="2128680" cy="1066680"/>
            </a:xfrm>
          </p:grpSpPr>
          <p:sp>
            <p:nvSpPr>
              <p:cNvPr id="144" name=""/>
              <p:cNvSpPr/>
              <p:nvPr/>
            </p:nvSpPr>
            <p:spPr>
              <a:xfrm>
                <a:off x="6918480" y="3568680"/>
                <a:ext cx="2128680" cy="1066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274160" y="4025880"/>
                <a:ext cx="1416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void push(in any data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088760" y="3644640"/>
                <a:ext cx="1851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ff"/>
                    </a:solidFill>
                    <a:latin typeface="Times New Roman"/>
                  </a:rPr>
                  <a:t>PushConsum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47" name=""/>
            <p:cNvCxnSpPr>
              <a:stCxn id="148" idx="2"/>
              <a:endCxn id="144" idx="2"/>
            </p:cNvCxnSpPr>
            <p:nvPr/>
          </p:nvCxnSpPr>
          <p:spPr>
            <a:xfrm flipH="1" rot="16200000">
              <a:off x="6651360" y="3304080"/>
              <a:ext cx="170280" cy="2493000"/>
            </a:xfrm>
            <a:prstGeom prst="bentConnector3">
              <a:avLst>
                <a:gd name="adj1" fmla="val 234533"/>
              </a:avLst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49" name=""/>
          <p:cNvGrpSpPr/>
          <p:nvPr/>
        </p:nvGrpSpPr>
        <p:grpSpPr>
          <a:xfrm>
            <a:off x="2022480" y="4098600"/>
            <a:ext cx="3006720" cy="1845000"/>
            <a:chOff x="2022480" y="4098600"/>
            <a:chExt cx="3006720" cy="1845000"/>
          </a:xfrm>
        </p:grpSpPr>
        <p:grpSp>
          <p:nvGrpSpPr>
            <p:cNvPr id="150" name=""/>
            <p:cNvGrpSpPr/>
            <p:nvPr/>
          </p:nvGrpSpPr>
          <p:grpSpPr>
            <a:xfrm>
              <a:off x="2362320" y="4572000"/>
              <a:ext cx="2666880" cy="1371600"/>
              <a:chOff x="2362320" y="4572000"/>
              <a:chExt cx="2666880" cy="1371600"/>
            </a:xfrm>
          </p:grpSpPr>
          <p:sp>
            <p:nvSpPr>
              <p:cNvPr id="151" name=""/>
              <p:cNvSpPr/>
              <p:nvPr/>
            </p:nvSpPr>
            <p:spPr>
              <a:xfrm>
                <a:off x="2362320" y="4572000"/>
                <a:ext cx="2666880" cy="13716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414880" y="5168880"/>
                <a:ext cx="2559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Arial Narrow"/>
                  </a:rPr>
                  <a:t>ProxyPushSupplier obtain_push_supplier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414880" y="5505480"/>
                <a:ext cx="2404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Arial Narrow"/>
                  </a:rPr>
                  <a:t>ProxyPullSupplier obtain_pull_supplier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664360" y="4648320"/>
                <a:ext cx="2062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ff"/>
                    </a:solidFill>
                    <a:latin typeface="Times New Roman"/>
                  </a:rPr>
                  <a:t>ConsumerAdmi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55" name=""/>
            <p:cNvCxnSpPr>
              <a:stCxn id="117" idx="2"/>
              <a:endCxn id="151" idx="1"/>
            </p:cNvCxnSpPr>
            <p:nvPr/>
          </p:nvCxnSpPr>
          <p:spPr>
            <a:xfrm flipH="1" rot="16200000">
              <a:off x="1612800" y="4508280"/>
              <a:ext cx="1159560" cy="340200"/>
            </a:xfrm>
            <a:prstGeom prst="bentConnector2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156" name=""/>
          <p:cNvSpPr/>
          <p:nvPr/>
        </p:nvSpPr>
        <p:spPr>
          <a:xfrm>
            <a:off x="212760" y="5684760"/>
            <a:ext cx="30492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14800" y="5638680"/>
            <a:ext cx="1034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sually provid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y a 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12760" y="6066000"/>
            <a:ext cx="304920" cy="3045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15160" y="6019920"/>
            <a:ext cx="104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ritten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your applic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2849760" y="76320"/>
            <a:ext cx="3809160" cy="1434960"/>
            <a:chOff x="2849760" y="76320"/>
            <a:chExt cx="3809160" cy="1434960"/>
          </a:xfrm>
        </p:grpSpPr>
        <p:grpSp>
          <p:nvGrpSpPr>
            <p:cNvPr id="161" name=""/>
            <p:cNvGrpSpPr/>
            <p:nvPr/>
          </p:nvGrpSpPr>
          <p:grpSpPr>
            <a:xfrm>
              <a:off x="3958920" y="76320"/>
              <a:ext cx="2700000" cy="761760"/>
              <a:chOff x="3958920" y="76320"/>
              <a:chExt cx="2700000" cy="761760"/>
            </a:xfrm>
          </p:grpSpPr>
          <p:sp>
            <p:nvSpPr>
              <p:cNvPr id="162" name=""/>
              <p:cNvSpPr/>
              <p:nvPr/>
            </p:nvSpPr>
            <p:spPr>
              <a:xfrm>
                <a:off x="3976920" y="76320"/>
                <a:ext cx="2666880" cy="7617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958920" y="533160"/>
                <a:ext cx="2700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Arial Narrow"/>
                  </a:rPr>
                  <a:t>void connect_push_supplier(in PushSupplier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146120" y="152280"/>
                <a:ext cx="2503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ff"/>
                    </a:solidFill>
                    <a:latin typeface="Times New Roman"/>
                  </a:rPr>
                  <a:t>ProxyPushConsum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64" name=""/>
            <p:cNvCxnSpPr>
              <a:stCxn id="128" idx="0"/>
              <a:endCxn id="162" idx="1"/>
            </p:cNvCxnSpPr>
            <p:nvPr/>
          </p:nvCxnSpPr>
          <p:spPr>
            <a:xfrm flipH="1" flipV="1" rot="5400000">
              <a:off x="3300840" y="835560"/>
              <a:ext cx="1054800" cy="297360"/>
            </a:xfrm>
            <a:prstGeom prst="bentConnector2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65" name=""/>
            <p:cNvSpPr/>
            <p:nvPr/>
          </p:nvSpPr>
          <p:spPr>
            <a:xfrm>
              <a:off x="2849760" y="669960"/>
              <a:ext cx="79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ctive mod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814840" y="2122560"/>
            <a:ext cx="3828960" cy="1001520"/>
            <a:chOff x="2814840" y="2122560"/>
            <a:chExt cx="3828960" cy="1001520"/>
          </a:xfrm>
        </p:grpSpPr>
        <p:grpSp>
          <p:nvGrpSpPr>
            <p:cNvPr id="167" name=""/>
            <p:cNvGrpSpPr/>
            <p:nvPr/>
          </p:nvGrpSpPr>
          <p:grpSpPr>
            <a:xfrm>
              <a:off x="3958920" y="2362320"/>
              <a:ext cx="2684880" cy="761760"/>
              <a:chOff x="3958920" y="2362320"/>
              <a:chExt cx="2684880" cy="761760"/>
            </a:xfrm>
          </p:grpSpPr>
          <p:sp>
            <p:nvSpPr>
              <p:cNvPr id="168" name=""/>
              <p:cNvSpPr/>
              <p:nvPr/>
            </p:nvSpPr>
            <p:spPr>
              <a:xfrm>
                <a:off x="3976920" y="2362320"/>
                <a:ext cx="2666880" cy="7617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958920" y="2819160"/>
                <a:ext cx="2544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Arial Narrow"/>
                  </a:rPr>
                  <a:t>void connect_pull_supplier(in PullSupplier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146480" y="2438280"/>
                <a:ext cx="2402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ff"/>
                    </a:solidFill>
                    <a:latin typeface="Times New Roman"/>
                  </a:rPr>
                  <a:t>ProxyPullConsum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71" name=""/>
            <p:cNvCxnSpPr>
              <a:stCxn id="129" idx="2"/>
              <a:endCxn id="168" idx="1"/>
            </p:cNvCxnSpPr>
            <p:nvPr/>
          </p:nvCxnSpPr>
          <p:spPr>
            <a:xfrm flipH="1" rot="16200000">
              <a:off x="3479040" y="2245320"/>
              <a:ext cx="621000" cy="375120"/>
            </a:xfrm>
            <a:prstGeom prst="bentConnector2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72" name=""/>
            <p:cNvSpPr/>
            <p:nvPr/>
          </p:nvSpPr>
          <p:spPr>
            <a:xfrm>
              <a:off x="2814840" y="2244600"/>
              <a:ext cx="869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assive mod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153000" y="6477120"/>
            <a:ext cx="19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sconnect methods are not show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5230800" y="2057040"/>
            <a:ext cx="3879360" cy="1219320"/>
            <a:chOff x="5230800" y="2057040"/>
            <a:chExt cx="3879360" cy="1219320"/>
          </a:xfrm>
        </p:grpSpPr>
        <p:grpSp>
          <p:nvGrpSpPr>
            <p:cNvPr id="175" name=""/>
            <p:cNvGrpSpPr/>
            <p:nvPr/>
          </p:nvGrpSpPr>
          <p:grpSpPr>
            <a:xfrm>
              <a:off x="6855120" y="2209680"/>
              <a:ext cx="2255040" cy="1066680"/>
              <a:chOff x="6855120" y="2209680"/>
              <a:chExt cx="2255040" cy="1066680"/>
            </a:xfrm>
          </p:grpSpPr>
          <p:sp>
            <p:nvSpPr>
              <p:cNvPr id="176" name=""/>
              <p:cNvSpPr/>
              <p:nvPr/>
            </p:nvSpPr>
            <p:spPr>
              <a:xfrm>
                <a:off x="6916680" y="2209680"/>
                <a:ext cx="2129040" cy="1066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7" name=""/>
              <p:cNvGrpSpPr/>
              <p:nvPr/>
            </p:nvGrpSpPr>
            <p:grpSpPr>
              <a:xfrm>
                <a:off x="6855120" y="2666880"/>
                <a:ext cx="2255040" cy="530280"/>
                <a:chOff x="6855120" y="2666880"/>
                <a:chExt cx="2255040" cy="53028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6858360" y="2666880"/>
                  <a:ext cx="6958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</a:rPr>
                    <a:t>any pull(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6855120" y="2920680"/>
                  <a:ext cx="2255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Arial Narrow"/>
                    </a:rPr>
                    <a:t>any try_pull (out boolean has_event(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0" name=""/>
              <p:cNvSpPr/>
              <p:nvPr/>
            </p:nvSpPr>
            <p:spPr>
              <a:xfrm>
                <a:off x="7205760" y="2285640"/>
                <a:ext cx="155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ff"/>
                    </a:solidFill>
                    <a:latin typeface="Times New Roman"/>
                  </a:rPr>
                  <a:t>PullSuppli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81" name=""/>
            <p:cNvCxnSpPr>
              <a:stCxn id="169" idx="0"/>
              <a:endCxn id="180" idx="0"/>
            </p:cNvCxnSpPr>
            <p:nvPr/>
          </p:nvCxnSpPr>
          <p:spPr>
            <a:xfrm flipH="1" flipV="1" rot="5400000">
              <a:off x="6339240" y="1176840"/>
              <a:ext cx="534240" cy="2751840"/>
            </a:xfrm>
            <a:prstGeom prst="bentConnector3">
              <a:avLst>
                <a:gd name="adj1" fmla="val 142818"/>
              </a:avLst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82" name=""/>
          <p:cNvGrpSpPr/>
          <p:nvPr/>
        </p:nvGrpSpPr>
        <p:grpSpPr>
          <a:xfrm>
            <a:off x="2856240" y="3733920"/>
            <a:ext cx="3968280" cy="1434960"/>
            <a:chOff x="2856240" y="3733920"/>
            <a:chExt cx="3968280" cy="1434960"/>
          </a:xfrm>
        </p:grpSpPr>
        <p:grpSp>
          <p:nvGrpSpPr>
            <p:cNvPr id="183" name=""/>
            <p:cNvGrpSpPr/>
            <p:nvPr/>
          </p:nvGrpSpPr>
          <p:grpSpPr>
            <a:xfrm>
              <a:off x="4157640" y="3733920"/>
              <a:ext cx="2666880" cy="761760"/>
              <a:chOff x="4157640" y="3733920"/>
              <a:chExt cx="2666880" cy="761760"/>
            </a:xfrm>
          </p:grpSpPr>
          <p:sp>
            <p:nvSpPr>
              <p:cNvPr id="184" name=""/>
              <p:cNvSpPr/>
              <p:nvPr/>
            </p:nvSpPr>
            <p:spPr>
              <a:xfrm>
                <a:off x="4157640" y="3733920"/>
                <a:ext cx="2666880" cy="7617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159800" y="4191120"/>
                <a:ext cx="2663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Arial Narrow"/>
                  </a:rPr>
                  <a:t>connect_push_consumer(in PushConsumer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340160" y="3809880"/>
                <a:ext cx="2303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ff"/>
                    </a:solidFill>
                    <a:latin typeface="Times New Roman"/>
                  </a:rPr>
                  <a:t>ProxyPushSuppli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" name=""/>
            <p:cNvSpPr/>
            <p:nvPr/>
          </p:nvSpPr>
          <p:spPr>
            <a:xfrm>
              <a:off x="2856240" y="4356000"/>
              <a:ext cx="869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assive mod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7" name=""/>
            <p:cNvCxnSpPr>
              <a:stCxn id="152" idx="0"/>
              <a:endCxn id="184" idx="1"/>
            </p:cNvCxnSpPr>
            <p:nvPr/>
          </p:nvCxnSpPr>
          <p:spPr>
            <a:xfrm flipH="1" flipV="1" rot="5400000">
              <a:off x="3399120" y="4410360"/>
              <a:ext cx="1054800" cy="462600"/>
            </a:xfrm>
            <a:prstGeom prst="bentConnector2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88" name=""/>
          <p:cNvGrpSpPr/>
          <p:nvPr/>
        </p:nvGrpSpPr>
        <p:grpSpPr>
          <a:xfrm>
            <a:off x="2821320" y="5780160"/>
            <a:ext cx="3912120" cy="1001520"/>
            <a:chOff x="2821320" y="5780160"/>
            <a:chExt cx="3912120" cy="1001520"/>
          </a:xfrm>
        </p:grpSpPr>
        <p:grpSp>
          <p:nvGrpSpPr>
            <p:cNvPr id="189" name=""/>
            <p:cNvGrpSpPr/>
            <p:nvPr/>
          </p:nvGrpSpPr>
          <p:grpSpPr>
            <a:xfrm>
              <a:off x="3960360" y="6019920"/>
              <a:ext cx="2773080" cy="761760"/>
              <a:chOff x="3960360" y="6019920"/>
              <a:chExt cx="2773080" cy="761760"/>
            </a:xfrm>
          </p:grpSpPr>
          <p:sp>
            <p:nvSpPr>
              <p:cNvPr id="190" name=""/>
              <p:cNvSpPr/>
              <p:nvPr/>
            </p:nvSpPr>
            <p:spPr>
              <a:xfrm>
                <a:off x="3976920" y="6019920"/>
                <a:ext cx="2666880" cy="7617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960360" y="6476760"/>
                <a:ext cx="2773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Arial Narrow"/>
                  </a:rPr>
                  <a:t>void connect_pull_consumer(in PullConsumer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146840" y="6095880"/>
                <a:ext cx="220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ff"/>
                    </a:solidFill>
                    <a:latin typeface="Times New Roman"/>
                  </a:rPr>
                  <a:t>ProxyPullSuppli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2821320" y="5931000"/>
              <a:ext cx="79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ctive mod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4" name=""/>
            <p:cNvCxnSpPr>
              <a:stCxn id="153" idx="2"/>
              <a:endCxn id="190" idx="1"/>
            </p:cNvCxnSpPr>
            <p:nvPr/>
          </p:nvCxnSpPr>
          <p:spPr>
            <a:xfrm flipH="1" rot="16200000">
              <a:off x="3486960" y="5911200"/>
              <a:ext cx="621000" cy="358920"/>
            </a:xfrm>
            <a:prstGeom prst="bentConnector2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95" name=""/>
          <p:cNvGrpSpPr/>
          <p:nvPr/>
        </p:nvGrpSpPr>
        <p:grpSpPr>
          <a:xfrm>
            <a:off x="5346720" y="5866200"/>
            <a:ext cx="3645000" cy="763200"/>
            <a:chOff x="5346720" y="5866200"/>
            <a:chExt cx="3645000" cy="763200"/>
          </a:xfrm>
        </p:grpSpPr>
        <p:grpSp>
          <p:nvGrpSpPr>
            <p:cNvPr id="196" name=""/>
            <p:cNvGrpSpPr/>
            <p:nvPr/>
          </p:nvGrpSpPr>
          <p:grpSpPr>
            <a:xfrm>
              <a:off x="7221600" y="6095880"/>
              <a:ext cx="1770120" cy="533520"/>
              <a:chOff x="7221600" y="6095880"/>
              <a:chExt cx="1770120" cy="533520"/>
            </a:xfrm>
          </p:grpSpPr>
          <p:sp>
            <p:nvSpPr>
              <p:cNvPr id="197" name=""/>
              <p:cNvSpPr/>
              <p:nvPr/>
            </p:nvSpPr>
            <p:spPr>
              <a:xfrm>
                <a:off x="7221600" y="6095880"/>
                <a:ext cx="1770120" cy="533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232400" y="6172200"/>
                <a:ext cx="1750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ff"/>
                    </a:solidFill>
                    <a:latin typeface="Times New Roman"/>
                  </a:rPr>
                  <a:t>PullConsum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99" name=""/>
            <p:cNvCxnSpPr>
              <a:stCxn id="191" idx="0"/>
              <a:endCxn id="197" idx="0"/>
            </p:cNvCxnSpPr>
            <p:nvPr/>
          </p:nvCxnSpPr>
          <p:spPr>
            <a:xfrm flipH="1" flipV="1" rot="5400000">
              <a:off x="6536160" y="4905720"/>
              <a:ext cx="381960" cy="2761200"/>
            </a:xfrm>
            <a:prstGeom prst="bentConnector3">
              <a:avLst>
                <a:gd name="adj1" fmla="val 160000"/>
              </a:avLst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 code example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ushSuppl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90280" y="2422440"/>
            <a:ext cx="5718960" cy="252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 Narrow"/>
              </a:rPr>
              <a:t>// reg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SupplierAdmin supplierAdmin = eventChannel.for_suppliers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ProxyPushConsumer consumer = supplierAdmin.obtain_push_consumer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consumer.connect_push_supplier (n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 Narrow"/>
              </a:rPr>
              <a:t>// sending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consumer.push (data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 Narrow"/>
              </a:rPr>
              <a:t>// diconnec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consumer.disconnect_push_consumer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 code example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ushConsum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90280" y="2422440"/>
            <a:ext cx="5411160" cy="37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 Narrow"/>
              </a:rPr>
              <a:t>// my implementation of a PushConsumer (receiving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public class PushConsumerImpl extends _PushConsumerImplBase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public void push (Any any) {…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public void disconnect_push_consumer() {…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 Narrow"/>
              </a:rPr>
              <a:t>// registration &amp; connecting my implementation as a visible 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PushConsumerImpl consumer = new PushConsumerImpl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orb.connect (consume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ConsumerAdmin consumerAdmin = eventChannel.for_consumers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ProxyPushSupplier supplier = consumerAdmin.obtain_push_supplier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consumer.connect_push_supplier (consume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 Narrow"/>
              </a:rPr>
              <a:t>// waiting for incoming requ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boa.impl_is_ready (n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-the-shelf implemen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228600" y="1600200"/>
            <a:ext cx="2865240" cy="4572000"/>
            <a:chOff x="228600" y="1600200"/>
            <a:chExt cx="2865240" cy="4572000"/>
          </a:xfrm>
        </p:grpSpPr>
        <p:sp>
          <p:nvSpPr>
            <p:cNvPr id="206" name=""/>
            <p:cNvSpPr/>
            <p:nvPr/>
          </p:nvSpPr>
          <p:spPr>
            <a:xfrm rot="16200000">
              <a:off x="-1409400" y="3238560"/>
              <a:ext cx="4572000" cy="12952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66"/>
                  </a:solidFill>
                  <a:latin typeface="Times New Roman"/>
                </a:rPr>
                <a:t>CosEvent Serv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66"/>
                  </a:solidFill>
                  <a:latin typeface="Times New Roman"/>
                </a:rPr>
                <a:t>as a standal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66"/>
                  </a:solidFill>
                  <a:latin typeface="Times New Roman"/>
                </a:rPr>
                <a:t>produ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2514600" y="2438280"/>
              <a:ext cx="579240" cy="2895840"/>
              <a:chOff x="2514600" y="2438280"/>
              <a:chExt cx="579240" cy="2895840"/>
            </a:xfrm>
          </p:grpSpPr>
          <p:sp>
            <p:nvSpPr>
              <p:cNvPr id="208" name=""/>
              <p:cNvSpPr/>
              <p:nvPr/>
            </p:nvSpPr>
            <p:spPr>
              <a:xfrm>
                <a:off x="2514600" y="2438280"/>
                <a:ext cx="579240" cy="28958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16200000">
                <a:off x="1511640" y="3685320"/>
                <a:ext cx="2588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ff"/>
                    </a:solidFill>
                    <a:latin typeface="Times New Roman"/>
                  </a:rPr>
                  <a:t>EventChannelFactor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10" name=""/>
            <p:cNvCxnSpPr>
              <a:stCxn id="206" idx="2"/>
              <a:endCxn id="209" idx="0"/>
            </p:cNvCxnSpPr>
            <p:nvPr/>
          </p:nvCxnSpPr>
          <p:spPr>
            <a:xfrm>
              <a:off x="1522440" y="3884760"/>
              <a:ext cx="108504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1" name=""/>
            <p:cNvSpPr/>
            <p:nvPr/>
          </p:nvSpPr>
          <p:spPr>
            <a:xfrm>
              <a:off x="1556280" y="3914640"/>
              <a:ext cx="925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uall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rovid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804760" y="1600200"/>
            <a:ext cx="3704040" cy="4876560"/>
            <a:chOff x="2804760" y="1600200"/>
            <a:chExt cx="3704040" cy="4876560"/>
          </a:xfrm>
        </p:grpSpPr>
        <p:grpSp>
          <p:nvGrpSpPr>
            <p:cNvPr id="213" name=""/>
            <p:cNvGrpSpPr/>
            <p:nvPr/>
          </p:nvGrpSpPr>
          <p:grpSpPr>
            <a:xfrm>
              <a:off x="4095720" y="1600200"/>
              <a:ext cx="1828800" cy="824040"/>
              <a:chOff x="4095720" y="1600200"/>
              <a:chExt cx="1828800" cy="824040"/>
            </a:xfrm>
          </p:grpSpPr>
          <p:sp>
            <p:nvSpPr>
              <p:cNvPr id="214" name=""/>
              <p:cNvSpPr/>
              <p:nvPr/>
            </p:nvSpPr>
            <p:spPr>
              <a:xfrm rot="5400000">
                <a:off x="4597920" y="1097640"/>
                <a:ext cx="824040" cy="18288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141080" y="1662120"/>
                <a:ext cx="17380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ff"/>
                    </a:solidFill>
                    <a:latin typeface="Times New Roman"/>
                  </a:rPr>
                  <a:t>“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Times New Roman"/>
                  </a:rPr>
                  <a:t>Default”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ff"/>
                    </a:solidFill>
                    <a:latin typeface="Times New Roman"/>
                  </a:rPr>
                  <a:t>EventChanne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4070520" y="5348160"/>
              <a:ext cx="2438280" cy="1128600"/>
              <a:chOff x="4070520" y="5348160"/>
              <a:chExt cx="2438280" cy="1128600"/>
            </a:xfrm>
          </p:grpSpPr>
          <p:grpSp>
            <p:nvGrpSpPr>
              <p:cNvPr id="217" name=""/>
              <p:cNvGrpSpPr/>
              <p:nvPr/>
            </p:nvGrpSpPr>
            <p:grpSpPr>
              <a:xfrm>
                <a:off x="4070520" y="5348160"/>
                <a:ext cx="1828800" cy="519120"/>
                <a:chOff x="4070520" y="5348160"/>
                <a:chExt cx="1828800" cy="519120"/>
              </a:xfrm>
            </p:grpSpPr>
            <p:sp>
              <p:nvSpPr>
                <p:cNvPr id="218" name=""/>
                <p:cNvSpPr/>
                <p:nvPr/>
              </p:nvSpPr>
              <p:spPr>
                <a:xfrm rot="5400000">
                  <a:off x="4725360" y="4693320"/>
                  <a:ext cx="519120" cy="182880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  <a:effectLst>
                  <a:outerShdw dist="17819" dir="2700000" blurRad="0" rotWithShape="0">
                    <a:srgbClr val="6a6a6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4115880" y="5410080"/>
                  <a:ext cx="1738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ff"/>
                      </a:solidFill>
                      <a:latin typeface="Times New Roman"/>
                    </a:rPr>
                    <a:t>EventChanne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4222800" y="5500440"/>
                <a:ext cx="1828800" cy="519120"/>
                <a:chOff x="4222800" y="5500440"/>
                <a:chExt cx="1828800" cy="519120"/>
              </a:xfrm>
            </p:grpSpPr>
            <p:sp>
              <p:nvSpPr>
                <p:cNvPr id="221" name=""/>
                <p:cNvSpPr/>
                <p:nvPr/>
              </p:nvSpPr>
              <p:spPr>
                <a:xfrm rot="5400000">
                  <a:off x="4877640" y="4845600"/>
                  <a:ext cx="519120" cy="182880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  <a:effectLst>
                  <a:outerShdw dist="17819" dir="2700000" blurRad="0" rotWithShape="0">
                    <a:srgbClr val="6a6a6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4268160" y="5562360"/>
                  <a:ext cx="1738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ff"/>
                      </a:solidFill>
                      <a:latin typeface="Times New Roman"/>
                    </a:rPr>
                    <a:t>EventChanne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4375080" y="5652720"/>
                <a:ext cx="1828800" cy="519120"/>
                <a:chOff x="4375080" y="5652720"/>
                <a:chExt cx="1828800" cy="519120"/>
              </a:xfrm>
            </p:grpSpPr>
            <p:sp>
              <p:nvSpPr>
                <p:cNvPr id="224" name=""/>
                <p:cNvSpPr/>
                <p:nvPr/>
              </p:nvSpPr>
              <p:spPr>
                <a:xfrm rot="5400000">
                  <a:off x="5029920" y="4997880"/>
                  <a:ext cx="519120" cy="182880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  <a:effectLst>
                  <a:outerShdw dist="17819" dir="2700000" blurRad="0" rotWithShape="0">
                    <a:srgbClr val="6a6a6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4420440" y="5714640"/>
                  <a:ext cx="1738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ff"/>
                      </a:solidFill>
                      <a:latin typeface="Times New Roman"/>
                    </a:rPr>
                    <a:t>EventChanne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4527720" y="5805360"/>
                <a:ext cx="1828800" cy="519120"/>
                <a:chOff x="4527720" y="5805360"/>
                <a:chExt cx="1828800" cy="519120"/>
              </a:xfrm>
            </p:grpSpPr>
            <p:sp>
              <p:nvSpPr>
                <p:cNvPr id="227" name=""/>
                <p:cNvSpPr/>
                <p:nvPr/>
              </p:nvSpPr>
              <p:spPr>
                <a:xfrm rot="5400000">
                  <a:off x="5182560" y="5150520"/>
                  <a:ext cx="519120" cy="182880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  <a:effectLst>
                  <a:outerShdw dist="17819" dir="2700000" blurRad="0" rotWithShape="0">
                    <a:srgbClr val="6a6a6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4573080" y="5867280"/>
                  <a:ext cx="1738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ff"/>
                      </a:solidFill>
                      <a:latin typeface="Times New Roman"/>
                    </a:rPr>
                    <a:t>EventChanne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" name=""/>
              <p:cNvGrpSpPr/>
              <p:nvPr/>
            </p:nvGrpSpPr>
            <p:grpSpPr>
              <a:xfrm>
                <a:off x="4680000" y="5957640"/>
                <a:ext cx="1828800" cy="519120"/>
                <a:chOff x="4680000" y="5957640"/>
                <a:chExt cx="1828800" cy="519120"/>
              </a:xfrm>
            </p:grpSpPr>
            <p:sp>
              <p:nvSpPr>
                <p:cNvPr id="230" name=""/>
                <p:cNvSpPr/>
                <p:nvPr/>
              </p:nvSpPr>
              <p:spPr>
                <a:xfrm rot="5400000">
                  <a:off x="5334840" y="5302800"/>
                  <a:ext cx="519120" cy="182880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  <a:effectLst>
                  <a:outerShdw dist="17819" dir="2700000" blurRad="0" rotWithShape="0">
                    <a:srgbClr val="6a6a6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4725360" y="6019560"/>
                  <a:ext cx="1738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ff"/>
                      </a:solidFill>
                      <a:latin typeface="Times New Roman"/>
                    </a:rPr>
                    <a:t>EventChanne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cxnSp>
          <p:nvCxnSpPr>
            <p:cNvPr id="232" name=""/>
            <p:cNvCxnSpPr>
              <a:stCxn id="208" idx="0"/>
              <a:endCxn id="214" idx="2"/>
            </p:cNvCxnSpPr>
            <p:nvPr/>
          </p:nvCxnSpPr>
          <p:spPr>
            <a:xfrm flipH="1" flipV="1" rot="5400000">
              <a:off x="3236400" y="1578960"/>
              <a:ext cx="427680" cy="1291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3" name=""/>
            <p:cNvCxnSpPr>
              <a:stCxn id="208" idx="2"/>
              <a:endCxn id="230" idx="2"/>
            </p:cNvCxnSpPr>
            <p:nvPr/>
          </p:nvCxnSpPr>
          <p:spPr>
            <a:xfrm flipH="1" rot="16200000">
              <a:off x="3301200" y="4837320"/>
              <a:ext cx="883080" cy="1875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34" name=""/>
            <p:cNvSpPr/>
            <p:nvPr/>
          </p:nvSpPr>
          <p:spPr>
            <a:xfrm>
              <a:off x="3170160" y="5899320"/>
              <a:ext cx="78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rea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70160" y="1981080"/>
              <a:ext cx="78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rea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3093840" y="2735280"/>
            <a:ext cx="4905720" cy="2284200"/>
            <a:chOff x="3093840" y="2735280"/>
            <a:chExt cx="4905720" cy="2284200"/>
          </a:xfrm>
        </p:grpSpPr>
        <p:sp>
          <p:nvSpPr>
            <p:cNvPr id="237" name=""/>
            <p:cNvSpPr/>
            <p:nvPr/>
          </p:nvSpPr>
          <p:spPr>
            <a:xfrm>
              <a:off x="3665160" y="2735280"/>
              <a:ext cx="3727080" cy="228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 u="sng">
                  <a:solidFill>
                    <a:srgbClr val="0000ff"/>
                  </a:solidFill>
                  <a:uFillTx/>
                  <a:latin typeface="Arial Narrow"/>
                </a:rPr>
                <a:t>A non-standard interface</a:t>
              </a:r>
              <a:r>
                <a:rPr b="0" lang="en-GB" sz="1600" spc="-1" strike="noStrike">
                  <a:solidFill>
                    <a:srgbClr val="0000ff"/>
                  </a:solidFill>
                  <a:latin typeface="Arial Narrow"/>
                </a:rPr>
                <a:t> (an exampl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interface EventChannelFactory {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  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EventChannel create_channel (in string i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  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raises (ChannelAlreadyExists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  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EventChannel get_channel_by_id (in string i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  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raises (ChannelNotAvailable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   …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get_channels…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   …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shutdown()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8" name=""/>
            <p:cNvCxnSpPr>
              <a:stCxn id="208" idx="3"/>
              <a:endCxn id="237" idx="1"/>
            </p:cNvCxnSpPr>
            <p:nvPr/>
          </p:nvCxnSpPr>
          <p:spPr>
            <a:xfrm>
              <a:off x="3093840" y="3885840"/>
              <a:ext cx="572040" cy="108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9" name=""/>
            <p:cNvCxnSpPr>
              <a:stCxn id="237" idx="3"/>
              <a:endCxn id="240" idx="0"/>
            </p:cNvCxnSpPr>
            <p:nvPr/>
          </p:nvCxnSpPr>
          <p:spPr>
            <a:xfrm flipV="1">
              <a:off x="7391160" y="3884400"/>
              <a:ext cx="608760" cy="216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  <p:grpSp>
        <p:nvGrpSpPr>
          <p:cNvPr id="241" name=""/>
          <p:cNvGrpSpPr/>
          <p:nvPr/>
        </p:nvGrpSpPr>
        <p:grpSpPr>
          <a:xfrm>
            <a:off x="5924160" y="1600200"/>
            <a:ext cx="3067560" cy="4618440"/>
            <a:chOff x="5924160" y="1600200"/>
            <a:chExt cx="3067560" cy="4618440"/>
          </a:xfrm>
        </p:grpSpPr>
        <p:sp>
          <p:nvSpPr>
            <p:cNvPr id="240" name=""/>
            <p:cNvSpPr/>
            <p:nvPr/>
          </p:nvSpPr>
          <p:spPr>
            <a:xfrm rot="16200000">
              <a:off x="6210360" y="3390840"/>
              <a:ext cx="4572000" cy="9907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66"/>
                  </a:solidFill>
                  <a:latin typeface="Times New Roman"/>
                </a:rPr>
                <a:t>An application us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66"/>
                  </a:solidFill>
                  <a:latin typeface="Times New Roman"/>
                </a:rPr>
                <a:t>COSEvent Serv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2" name=""/>
            <p:cNvCxnSpPr>
              <a:stCxn id="240" idx="0"/>
              <a:endCxn id="231" idx="3"/>
            </p:cNvCxnSpPr>
            <p:nvPr/>
          </p:nvCxnSpPr>
          <p:spPr>
            <a:xfrm flipV="1" rot="10800000">
              <a:off x="6462000" y="3884400"/>
              <a:ext cx="1537560" cy="2334240"/>
            </a:xfrm>
            <a:prstGeom prst="bentConnector3">
              <a:avLst>
                <a:gd name="adj1" fmla="val 19812"/>
              </a:avLst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43" name=""/>
            <p:cNvCxnSpPr>
              <a:stCxn id="240" idx="0"/>
              <a:endCxn id="214" idx="0"/>
            </p:cNvCxnSpPr>
            <p:nvPr/>
          </p:nvCxnSpPr>
          <p:spPr>
            <a:xfrm rot="10800000">
              <a:off x="5923800" y="2010600"/>
              <a:ext cx="2075760" cy="1874160"/>
            </a:xfrm>
            <a:prstGeom prst="bentConnector3">
              <a:avLst>
                <a:gd name="adj1" fmla="val 14605"/>
              </a:avLst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are other issue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d event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call operations on other objects using some mutually agreed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ific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es for hands-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 to directory Event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y w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Narrow"/>
              </a:rPr>
              <a:t>java TalkToMe -hel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class </a:t>
            </a:r>
            <a:r>
              <a:rPr b="0" lang="en-US" sz="2400" spc="-1" strike="noStrike">
                <a:solidFill>
                  <a:srgbClr val="3333cc"/>
                </a:solidFill>
                <a:latin typeface="Arial Narrow"/>
              </a:rPr>
              <a:t>EventExchang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use different push/pull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the goal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hanging data between two and mor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hanging data between objects that do not know about each 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 special cas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ynchronous execution of an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ata are being exchang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ntyped”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ual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data are wrapped in Any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ich means: data of any but known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yped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bjects are not purely unknown to each oth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sEvent specification is a bit under-specif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my opinion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t’s a bit che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achieve the go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09760" y="3657600"/>
            <a:ext cx="632448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ent 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225960" y="1981080"/>
            <a:ext cx="2768400" cy="4496040"/>
            <a:chOff x="3225960" y="1981080"/>
            <a:chExt cx="2768400" cy="4496040"/>
          </a:xfrm>
        </p:grpSpPr>
        <p:sp>
          <p:nvSpPr>
            <p:cNvPr id="50" name=""/>
            <p:cNvSpPr/>
            <p:nvPr/>
          </p:nvSpPr>
          <p:spPr>
            <a:xfrm>
              <a:off x="3225960" y="1981080"/>
              <a:ext cx="1143000" cy="106704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imes New Roman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imes New Roman"/>
                </a:rPr>
                <a:t>consum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225960" y="5410080"/>
              <a:ext cx="1143000" cy="106704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imes New Roman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imes New Roman"/>
                </a:rPr>
                <a:t>consum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851360" y="5410080"/>
              <a:ext cx="1143000" cy="106704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imes New Roman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imes New Roman"/>
                </a:rPr>
                <a:t>consum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 flipV="1">
              <a:off x="3645000" y="4648320"/>
              <a:ext cx="304560" cy="838080"/>
            </a:xfrm>
            <a:prstGeom prst="upArrow">
              <a:avLst>
                <a:gd name="adj1" fmla="val 50000"/>
                <a:gd name="adj2" fmla="val 68794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5283360" y="4648320"/>
              <a:ext cx="304560" cy="838080"/>
            </a:xfrm>
            <a:prstGeom prst="upArrow">
              <a:avLst>
                <a:gd name="adj1" fmla="val 50000"/>
                <a:gd name="adj2" fmla="val 68794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645000" y="2971800"/>
              <a:ext cx="304560" cy="838080"/>
            </a:xfrm>
            <a:prstGeom prst="upArrow">
              <a:avLst>
                <a:gd name="adj1" fmla="val 50000"/>
                <a:gd name="adj2" fmla="val 68794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1600200" y="1981080"/>
            <a:ext cx="6019920" cy="4496040"/>
            <a:chOff x="1600200" y="1981080"/>
            <a:chExt cx="6019920" cy="4496040"/>
          </a:xfrm>
        </p:grpSpPr>
        <p:sp>
          <p:nvSpPr>
            <p:cNvPr id="57" name=""/>
            <p:cNvSpPr/>
            <p:nvPr/>
          </p:nvSpPr>
          <p:spPr>
            <a:xfrm>
              <a:off x="1600200" y="1981080"/>
              <a:ext cx="1143000" cy="10670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66"/>
                  </a:solidFill>
                  <a:latin typeface="Times New Roman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66"/>
                  </a:solidFill>
                  <a:latin typeface="Times New Roman"/>
                </a:rPr>
                <a:t>suppli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77120" y="1981080"/>
              <a:ext cx="1143000" cy="10670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66"/>
                  </a:solidFill>
                  <a:latin typeface="Times New Roman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66"/>
                  </a:solidFill>
                  <a:latin typeface="Times New Roman"/>
                </a:rPr>
                <a:t>suppli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851360" y="1981080"/>
              <a:ext cx="1143000" cy="10670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66"/>
                  </a:solidFill>
                  <a:latin typeface="Times New Roman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66"/>
                  </a:solidFill>
                  <a:latin typeface="Times New Roman"/>
                </a:rPr>
                <a:t>suppli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00200" y="5410080"/>
              <a:ext cx="1143000" cy="10670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66"/>
                  </a:solidFill>
                  <a:latin typeface="Times New Roman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66"/>
                  </a:solidFill>
                  <a:latin typeface="Times New Roman"/>
                </a:rPr>
                <a:t>suppli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477120" y="5410080"/>
              <a:ext cx="1143000" cy="10670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66"/>
                  </a:solidFill>
                  <a:latin typeface="Times New Roman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66"/>
                  </a:solidFill>
                  <a:latin typeface="Times New Roman"/>
                </a:rPr>
                <a:t>suppli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006640" y="4648320"/>
              <a:ext cx="304920" cy="838080"/>
            </a:xfrm>
            <a:prstGeom prst="upArrow">
              <a:avLst>
                <a:gd name="adj1" fmla="val 50000"/>
                <a:gd name="adj2" fmla="val 68713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921360" y="4648320"/>
              <a:ext cx="304920" cy="838080"/>
            </a:xfrm>
            <a:prstGeom prst="upArrow">
              <a:avLst>
                <a:gd name="adj1" fmla="val 50000"/>
                <a:gd name="adj2" fmla="val 68713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2005920" y="2971800"/>
              <a:ext cx="304920" cy="838080"/>
            </a:xfrm>
            <a:prstGeom prst="upArrow">
              <a:avLst>
                <a:gd name="adj1" fmla="val 50000"/>
                <a:gd name="adj2" fmla="val 68713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5283360" y="2971800"/>
              <a:ext cx="304560" cy="838080"/>
            </a:xfrm>
            <a:prstGeom prst="upArrow">
              <a:avLst>
                <a:gd name="adj1" fmla="val 50000"/>
                <a:gd name="adj2" fmla="val 68794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6921360" y="2971800"/>
              <a:ext cx="304920" cy="838080"/>
            </a:xfrm>
            <a:prstGeom prst="upArrow">
              <a:avLst>
                <a:gd name="adj1" fmla="val 50000"/>
                <a:gd name="adj2" fmla="val 68713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ent Chann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just another o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know what data it transf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filtering depending on data cont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behaves democratic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filtering depending on suppliers/consu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main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gist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vent suppliers and consumer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i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arr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ata for or from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may be done cleverly (like keeping messages for not-(yet)-present consum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w to carry the data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Push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6360" y="2286000"/>
            <a:ext cx="3733920" cy="3657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I am a suppli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 have a data to be sent arou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I wish to dec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when the data are s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Just let me know wh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o send 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106960" y="2286000"/>
            <a:ext cx="3733920" cy="3657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I am a consum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 need data to be able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o something with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I wish to wait for da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 will not take any initiativ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just call my method w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you have data for 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92640" y="1981080"/>
            <a:ext cx="2361960" cy="1067040"/>
          </a:xfrm>
          <a:prstGeom prst="rightArrow">
            <a:avLst>
              <a:gd name="adj1" fmla="val 50000"/>
              <a:gd name="adj2" fmla="val 5533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392640" y="5181480"/>
            <a:ext cx="2361960" cy="1067040"/>
          </a:xfrm>
          <a:prstGeom prst="rightArrow">
            <a:avLst>
              <a:gd name="adj1" fmla="val 50000"/>
              <a:gd name="adj2" fmla="val 55339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iti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838080" y="5410080"/>
            <a:ext cx="1676520" cy="1067040"/>
            <a:chOff x="838080" y="5410080"/>
            <a:chExt cx="1676520" cy="1067040"/>
          </a:xfrm>
        </p:grpSpPr>
        <p:sp>
          <p:nvSpPr>
            <p:cNvPr id="75" name=""/>
            <p:cNvSpPr/>
            <p:nvPr/>
          </p:nvSpPr>
          <p:spPr>
            <a:xfrm>
              <a:off x="838080" y="5410080"/>
              <a:ext cx="1676520" cy="1067040"/>
            </a:xfrm>
            <a:prstGeom prst="wedgeRoundRectCallout">
              <a:avLst>
                <a:gd name="adj1" fmla="val -39393"/>
                <a:gd name="adj2" fmla="val -78870"/>
                <a:gd name="adj3" fmla="val 16667"/>
              </a:avLst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068840" y="5532480"/>
              <a:ext cx="1215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us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uppli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6400800" y="5410080"/>
            <a:ext cx="1676520" cy="1067040"/>
            <a:chOff x="6400800" y="5410080"/>
            <a:chExt cx="1676520" cy="1067040"/>
          </a:xfrm>
        </p:grpSpPr>
        <p:sp>
          <p:nvSpPr>
            <p:cNvPr id="78" name=""/>
            <p:cNvSpPr/>
            <p:nvPr/>
          </p:nvSpPr>
          <p:spPr>
            <a:xfrm>
              <a:off x="6400800" y="5410080"/>
              <a:ext cx="1676520" cy="1067040"/>
            </a:xfrm>
            <a:prstGeom prst="wedgeRoundRectCallout">
              <a:avLst>
                <a:gd name="adj1" fmla="val 37120"/>
                <a:gd name="adj2" fmla="val -74703"/>
                <a:gd name="adj3" fmla="val 16667"/>
              </a:avLst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520680" y="5532480"/>
              <a:ext cx="1434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us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nsum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w to carry the data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Pull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6360" y="2286000"/>
            <a:ext cx="3733920" cy="3657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I am a suppli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 have a data to be sent arou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I wish to wait for th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interested in my da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 will not take any initiativ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just call my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n you wan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06960" y="2286000"/>
            <a:ext cx="3733920" cy="3657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I am a consum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 need data to be able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o something with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I wish to dec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when to go for da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Just let me know w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 can ask for da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392640" y="1981080"/>
            <a:ext cx="2361960" cy="1067040"/>
          </a:xfrm>
          <a:prstGeom prst="rightArrow">
            <a:avLst>
              <a:gd name="adj1" fmla="val 50000"/>
              <a:gd name="adj2" fmla="val 5533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391920" y="5181480"/>
            <a:ext cx="2361960" cy="1067040"/>
          </a:xfrm>
          <a:prstGeom prst="rightArrow">
            <a:avLst>
              <a:gd name="adj1" fmla="val 50000"/>
              <a:gd name="adj2" fmla="val 55339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iti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838080" y="5410080"/>
            <a:ext cx="1676520" cy="1067040"/>
            <a:chOff x="838080" y="5410080"/>
            <a:chExt cx="1676520" cy="1067040"/>
          </a:xfrm>
        </p:grpSpPr>
        <p:sp>
          <p:nvSpPr>
            <p:cNvPr id="86" name=""/>
            <p:cNvSpPr/>
            <p:nvPr/>
          </p:nvSpPr>
          <p:spPr>
            <a:xfrm>
              <a:off x="838080" y="5410080"/>
              <a:ext cx="1676520" cy="1067040"/>
            </a:xfrm>
            <a:prstGeom prst="wedgeRoundRectCallout">
              <a:avLst>
                <a:gd name="adj1" fmla="val -39393"/>
                <a:gd name="adj2" fmla="val -78870"/>
                <a:gd name="adj3" fmla="val 16667"/>
              </a:avLst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68840" y="5532480"/>
              <a:ext cx="1215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u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uppli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6400800" y="5410080"/>
            <a:ext cx="1676520" cy="1067040"/>
            <a:chOff x="6400800" y="5410080"/>
            <a:chExt cx="1676520" cy="1067040"/>
          </a:xfrm>
        </p:grpSpPr>
        <p:sp>
          <p:nvSpPr>
            <p:cNvPr id="89" name=""/>
            <p:cNvSpPr/>
            <p:nvPr/>
          </p:nvSpPr>
          <p:spPr>
            <a:xfrm>
              <a:off x="6400800" y="5410080"/>
              <a:ext cx="1676520" cy="1067040"/>
            </a:xfrm>
            <a:prstGeom prst="wedgeRoundRectCallout">
              <a:avLst>
                <a:gd name="adj1" fmla="val 37120"/>
                <a:gd name="adj2" fmla="val -74703"/>
                <a:gd name="adj3" fmla="val 16667"/>
              </a:avLst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20680" y="5532480"/>
              <a:ext cx="1434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u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nsum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roles of user o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upplier vs. Consu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o has data and who wants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ta always go from suppliers to consu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ctive vs. Inactive particip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ctive guys (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“PullConsumer” and “PushSupplier”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 do not need many methods because they actively call methods of passive gu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ssive guys (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“PushConsumer” and “PullSupplier”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 need to have methods that are called; they are designed as “callback”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where is the Event Chann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571680" y="1905120"/>
            <a:ext cx="8001000" cy="1904760"/>
            <a:chOff x="571680" y="1905120"/>
            <a:chExt cx="8001000" cy="1904760"/>
          </a:xfrm>
        </p:grpSpPr>
        <p:sp>
          <p:nvSpPr>
            <p:cNvPr id="95" name=""/>
            <p:cNvSpPr/>
            <p:nvPr/>
          </p:nvSpPr>
          <p:spPr>
            <a:xfrm>
              <a:off x="571680" y="1905120"/>
              <a:ext cx="1903320" cy="19047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I 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a supplier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nd I 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ushing d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669000" y="1905120"/>
              <a:ext cx="1903680" cy="19047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I 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a consumer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nd I 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ull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514600" y="2476440"/>
            <a:ext cx="4114440" cy="762120"/>
            <a:chOff x="2514600" y="2476440"/>
            <a:chExt cx="4114440" cy="762120"/>
          </a:xfrm>
        </p:grpSpPr>
        <p:sp>
          <p:nvSpPr>
            <p:cNvPr id="98" name=""/>
            <p:cNvSpPr/>
            <p:nvPr/>
          </p:nvSpPr>
          <p:spPr>
            <a:xfrm flipH="1">
              <a:off x="4952160" y="2476440"/>
              <a:ext cx="1676520" cy="762120"/>
            </a:xfrm>
            <a:prstGeom prst="rightArrow">
              <a:avLst>
                <a:gd name="adj1" fmla="val 50000"/>
                <a:gd name="adj2" fmla="val 54995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nitiat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514600" y="2476440"/>
              <a:ext cx="1676520" cy="762120"/>
            </a:xfrm>
            <a:prstGeom prst="rightArrow">
              <a:avLst>
                <a:gd name="adj1" fmla="val 50000"/>
                <a:gd name="adj2" fmla="val 54995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nitiat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3898800" y="2868480"/>
            <a:ext cx="1435320" cy="10940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4343400" y="4724280"/>
            <a:ext cx="539640" cy="1160640"/>
          </a:xfrm>
          <a:prstGeom prst="rect">
            <a:avLst/>
          </a:prstGeom>
          <a:ln w="0">
            <a:noFill/>
          </a:ln>
        </p:spPr>
      </p:pic>
      <p:grpSp>
        <p:nvGrpSpPr>
          <p:cNvPr id="102" name=""/>
          <p:cNvGrpSpPr/>
          <p:nvPr/>
        </p:nvGrpSpPr>
        <p:grpSpPr>
          <a:xfrm>
            <a:off x="571680" y="4267080"/>
            <a:ext cx="8001000" cy="1905120"/>
            <a:chOff x="571680" y="4267080"/>
            <a:chExt cx="8001000" cy="1905120"/>
          </a:xfrm>
        </p:grpSpPr>
        <p:sp>
          <p:nvSpPr>
            <p:cNvPr id="103" name=""/>
            <p:cNvSpPr/>
            <p:nvPr/>
          </p:nvSpPr>
          <p:spPr>
            <a:xfrm>
              <a:off x="571680" y="4267080"/>
              <a:ext cx="1903320" cy="1905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I 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a supplier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nd I 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waiting 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give d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669000" y="4267080"/>
              <a:ext cx="1903680" cy="1905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I 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a consumer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nd I 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waiting f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2514240" y="4838760"/>
            <a:ext cx="4115160" cy="762120"/>
            <a:chOff x="2514240" y="4838760"/>
            <a:chExt cx="4115160" cy="762120"/>
          </a:xfrm>
        </p:grpSpPr>
        <p:sp>
          <p:nvSpPr>
            <p:cNvPr id="106" name=""/>
            <p:cNvSpPr/>
            <p:nvPr/>
          </p:nvSpPr>
          <p:spPr>
            <a:xfrm>
              <a:off x="4952880" y="4838760"/>
              <a:ext cx="1676520" cy="762120"/>
            </a:xfrm>
            <a:prstGeom prst="rightArrow">
              <a:avLst>
                <a:gd name="adj1" fmla="val 50000"/>
                <a:gd name="adj2" fmla="val 54995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nitiat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2513880" y="4838760"/>
              <a:ext cx="1676520" cy="762120"/>
            </a:xfrm>
            <a:prstGeom prst="rightArrow">
              <a:avLst>
                <a:gd name="adj1" fmla="val 50000"/>
                <a:gd name="adj2" fmla="val 54995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nitiat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3T20:51:02Z</dcterms:created>
  <dc:creator>Martin Senger</dc:creator>
  <dc:description/>
  <dc:language>en-US</dc:language>
  <cp:lastModifiedBy>Martin Senger</cp:lastModifiedBy>
  <dcterms:modified xsi:type="dcterms:W3CDTF">2000-06-22T15:50:16Z</dcterms:modified>
  <cp:revision>64</cp:revision>
  <dc:subject/>
  <dc:title>CORBA Event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industry.ebi.ac.uk/~senger</vt:lpwstr>
  </property>
  <property fmtid="{D5CDD505-2E9C-101B-9397-08002B2CF9AE}" pid="9" name="LinkColor">
    <vt:r8>16711782</vt:r8>
  </property>
  <property fmtid="{D5CDD505-2E9C-101B-9397-08002B2CF9AE}" pid="10" name="MailAddress">
    <vt:lpwstr>senger@ebi.ac.uk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Users\Martin\talks\ws-corba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