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4F6-47E5-4B59-81A4-93AE982B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C23-2011-4F0E-B68F-3BFE9CEE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332-C855-4357-BE10-6752FCDB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D4D-06A9-49EC-9F9B-586234D5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2D9-5295-4D36-B24B-675255EB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F92-5066-4F52-8FFC-79C1464F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CA2-CB25-4E63-9C07-3F10C0A1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8BA-86B5-4D48-A18E-24F02E07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053-C6CF-4DAB-BB26-C6989FD2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C55-C458-4305-A44F-52E4EA03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409-8EA8-4EDE-92B9-FBEAE2C4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F2C-01C1-40AE-9D7B-46130E0F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7232-9870-4C89-AF9D-F374CB787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able Object Ada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in Se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ger@ebi.ac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228600" y="1218960"/>
            <a:ext cx="2133720" cy="2667240"/>
            <a:chOff x="228600" y="1218960"/>
            <a:chExt cx="2133720" cy="2667240"/>
          </a:xfrm>
        </p:grpSpPr>
        <p:sp>
          <p:nvSpPr>
            <p:cNvPr id="172" name=""/>
            <p:cNvSpPr/>
            <p:nvPr/>
          </p:nvSpPr>
          <p:spPr>
            <a:xfrm>
              <a:off x="228600" y="1828800"/>
              <a:ext cx="2133720" cy="20574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74800" y="18288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O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5" idx="2"/>
              <a:endCxn id="173" idx="0"/>
            </p:cNvCxnSpPr>
            <p:nvPr/>
          </p:nvCxnSpPr>
          <p:spPr>
            <a:xfrm flipH="1">
              <a:off x="1294920" y="1218960"/>
              <a:ext cx="267120" cy="610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43400" y="15192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t another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8560" y="1828800"/>
            <a:ext cx="4884840" cy="2057400"/>
            <a:chOff x="358560" y="1828800"/>
            <a:chExt cx="4884840" cy="2057400"/>
          </a:xfrm>
        </p:grpSpPr>
        <p:pic>
          <p:nvPicPr>
            <p:cNvPr id="178" name="red" descr=""/>
            <p:cNvPicPr/>
            <p:nvPr/>
          </p:nvPicPr>
          <p:blipFill>
            <a:blip r:embed="rId1"/>
            <a:stretch/>
          </p:blipFill>
          <p:spPr>
            <a:xfrm>
              <a:off x="1238400" y="2971800"/>
              <a:ext cx="114120" cy="1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58560" y="2209680"/>
              <a:ext cx="187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xtract POA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from Object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10040" y="1828800"/>
              <a:ext cx="2133360" cy="20574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55880" y="182880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P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" name=""/>
            <p:cNvCxnSpPr>
              <a:stCxn id="178" idx="3"/>
              <a:endCxn id="180" idx="1"/>
            </p:cNvCxnSpPr>
            <p:nvPr/>
          </p:nvCxnSpPr>
          <p:spPr>
            <a:xfrm flipV="1">
              <a:off x="1352520" y="2857320"/>
              <a:ext cx="1758240" cy="1720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2440080" y="230184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O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8600" y="457200"/>
            <a:ext cx="2666880" cy="1282320"/>
            <a:chOff x="228600" y="457200"/>
            <a:chExt cx="2666880" cy="1282320"/>
          </a:xfrm>
        </p:grpSpPr>
        <p:sp>
          <p:nvSpPr>
            <p:cNvPr id="175" name=""/>
            <p:cNvSpPr/>
            <p:nvPr/>
          </p:nvSpPr>
          <p:spPr>
            <a:xfrm>
              <a:off x="228600" y="457200"/>
              <a:ext cx="2666880" cy="7621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Object Re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(with Object Ke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3600" y="1219320"/>
              <a:ext cx="115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rom a 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31840" y="2971800"/>
            <a:ext cx="2971800" cy="3352680"/>
            <a:chOff x="231840" y="2971800"/>
            <a:chExt cx="2971800" cy="3352680"/>
          </a:xfrm>
        </p:grpSpPr>
        <p:pic>
          <p:nvPicPr>
            <p:cNvPr id="187" name="red" descr=""/>
            <p:cNvPicPr/>
            <p:nvPr/>
          </p:nvPicPr>
          <p:blipFill>
            <a:blip r:embed="rId2"/>
            <a:stretch/>
          </p:blipFill>
          <p:spPr>
            <a:xfrm>
              <a:off x="1238400" y="3276720"/>
              <a:ext cx="11412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917280" y="2971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1840" y="4952880"/>
              <a:ext cx="2971800" cy="13716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120" y="5410080"/>
              <a:ext cx="259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Adaptor Activ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87" idx="2"/>
              <a:endCxn id="190" idx="0"/>
            </p:cNvCxnSpPr>
            <p:nvPr/>
          </p:nvCxnSpPr>
          <p:spPr>
            <a:xfrm>
              <a:off x="1294920" y="3390480"/>
              <a:ext cx="423000" cy="20199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2" name=""/>
            <p:cNvSpPr/>
            <p:nvPr/>
          </p:nvSpPr>
          <p:spPr>
            <a:xfrm>
              <a:off x="288000" y="4049640"/>
              <a:ext cx="1338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all Adap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ctivator i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OA not f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717200" y="3885480"/>
            <a:ext cx="2459520" cy="1524240"/>
            <a:chOff x="1717200" y="3885480"/>
            <a:chExt cx="2459520" cy="1524240"/>
          </a:xfrm>
        </p:grpSpPr>
        <p:cxnSp>
          <p:nvCxnSpPr>
            <p:cNvPr id="194" name=""/>
            <p:cNvCxnSpPr>
              <a:stCxn id="190" idx="0"/>
              <a:endCxn id="180" idx="2"/>
            </p:cNvCxnSpPr>
            <p:nvPr/>
          </p:nvCxnSpPr>
          <p:spPr>
            <a:xfrm flipV="1">
              <a:off x="1717200" y="3885480"/>
              <a:ext cx="2459880" cy="1524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2228400" y="4114800"/>
              <a:ext cx="106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reate PO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0000" y="2209680"/>
            <a:ext cx="4162320" cy="1676160"/>
            <a:chOff x="3240000" y="2209680"/>
            <a:chExt cx="4162320" cy="1676160"/>
          </a:xfrm>
        </p:grpSpPr>
        <p:sp>
          <p:nvSpPr>
            <p:cNvPr id="197" name=""/>
            <p:cNvSpPr/>
            <p:nvPr/>
          </p:nvSpPr>
          <p:spPr>
            <a:xfrm>
              <a:off x="3240000" y="2209680"/>
              <a:ext cx="173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xtract Object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from Object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268960" y="2362320"/>
              <a:ext cx="2133360" cy="1523520"/>
              <a:chOff x="5268960" y="2362320"/>
              <a:chExt cx="2133360" cy="1523520"/>
            </a:xfrm>
          </p:grpSpPr>
          <p:sp>
            <p:nvSpPr>
              <p:cNvPr id="199" name=""/>
              <p:cNvSpPr/>
              <p:nvPr/>
            </p:nvSpPr>
            <p:spPr>
              <a:xfrm>
                <a:off x="5268960" y="2362320"/>
                <a:ext cx="2133360" cy="15235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57546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307120" y="2417760"/>
                <a:ext cx="2057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3333cc"/>
                    </a:solidFill>
                    <a:latin typeface="Times New Roman"/>
                  </a:rPr>
                  <a:t>Active Object Ma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5853240" y="2743200"/>
              <a:ext cx="914400" cy="3049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Object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53240" y="3505320"/>
              <a:ext cx="914400" cy="3045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Object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3124080"/>
              <a:ext cx="914400" cy="3049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Object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red" descr=""/>
            <p:cNvPicPr/>
            <p:nvPr/>
          </p:nvPicPr>
          <p:blipFill>
            <a:blip r:embed="rId3"/>
            <a:stretch/>
          </p:blipFill>
          <p:spPr>
            <a:xfrm>
              <a:off x="4119480" y="3200400"/>
              <a:ext cx="114480" cy="114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5" name=""/>
            <p:cNvCxnSpPr>
              <a:stCxn id="204" idx="3"/>
              <a:endCxn id="199" idx="1"/>
            </p:cNvCxnSpPr>
            <p:nvPr/>
          </p:nvCxnSpPr>
          <p:spPr>
            <a:xfrm flipV="1">
              <a:off x="4233600" y="3123360"/>
              <a:ext cx="1035720" cy="1342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6" name=""/>
          <p:cNvGrpSpPr/>
          <p:nvPr/>
        </p:nvGrpSpPr>
        <p:grpSpPr>
          <a:xfrm>
            <a:off x="6767280" y="2251080"/>
            <a:ext cx="1995840" cy="1406160"/>
            <a:chOff x="6767280" y="2251080"/>
            <a:chExt cx="1995840" cy="1406160"/>
          </a:xfrm>
        </p:grpSpPr>
        <p:sp>
          <p:nvSpPr>
            <p:cNvPr id="207" name=""/>
            <p:cNvSpPr/>
            <p:nvPr/>
          </p:nvSpPr>
          <p:spPr>
            <a:xfrm>
              <a:off x="7848720" y="3314880"/>
              <a:ext cx="914400" cy="3045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Serv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48720" y="2743200"/>
              <a:ext cx="914400" cy="3049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Serv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201" idx="3"/>
              <a:endCxn id="208" idx="1"/>
            </p:cNvCxnSpPr>
            <p:nvPr/>
          </p:nvCxnSpPr>
          <p:spPr>
            <a:xfrm>
              <a:off x="6767280" y="2895120"/>
              <a:ext cx="1081800" cy="10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3" idx="3"/>
              <a:endCxn id="207" idx="1"/>
            </p:cNvCxnSpPr>
            <p:nvPr/>
          </p:nvCxnSpPr>
          <p:spPr>
            <a:xfrm>
              <a:off x="6767280" y="3276360"/>
              <a:ext cx="1081800" cy="1911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2" idx="3"/>
              <a:endCxn id="207" idx="1"/>
            </p:cNvCxnSpPr>
            <p:nvPr/>
          </p:nvCxnSpPr>
          <p:spPr>
            <a:xfrm flipV="1">
              <a:off x="6767280" y="3466440"/>
              <a:ext cx="1081800" cy="1911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2" name=""/>
            <p:cNvSpPr/>
            <p:nvPr/>
          </p:nvSpPr>
          <p:spPr>
            <a:xfrm>
              <a:off x="7387560" y="225108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incarn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serv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735360" y="1828800"/>
            <a:ext cx="3666960" cy="1445400"/>
            <a:chOff x="3735360" y="1828800"/>
            <a:chExt cx="3666960" cy="1445400"/>
          </a:xfrm>
        </p:grpSpPr>
        <p:grpSp>
          <p:nvGrpSpPr>
            <p:cNvPr id="214" name=""/>
            <p:cNvGrpSpPr/>
            <p:nvPr/>
          </p:nvGrpSpPr>
          <p:grpSpPr>
            <a:xfrm>
              <a:off x="5268960" y="1828800"/>
              <a:ext cx="2133360" cy="457200"/>
              <a:chOff x="5268960" y="1828800"/>
              <a:chExt cx="2133360" cy="457200"/>
            </a:xfrm>
          </p:grpSpPr>
          <p:sp>
            <p:nvSpPr>
              <p:cNvPr id="215" name=""/>
              <p:cNvSpPr/>
              <p:nvPr/>
            </p:nvSpPr>
            <p:spPr>
              <a:xfrm>
                <a:off x="5268960" y="1828800"/>
                <a:ext cx="2133360" cy="4572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57546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07120" y="1846080"/>
                <a:ext cx="2057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3333cc"/>
                    </a:solidFill>
                    <a:latin typeface="Times New Roman"/>
                  </a:rPr>
                  <a:t>Default Serva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735360" y="293688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red" descr=""/>
            <p:cNvPicPr/>
            <p:nvPr/>
          </p:nvPicPr>
          <p:blipFill>
            <a:blip r:embed="rId4"/>
            <a:stretch/>
          </p:blipFill>
          <p:spPr>
            <a:xfrm>
              <a:off x="4119480" y="2895480"/>
              <a:ext cx="114480" cy="114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9" name=""/>
            <p:cNvCxnSpPr>
              <a:stCxn id="218" idx="3"/>
              <a:endCxn id="216" idx="1"/>
            </p:cNvCxnSpPr>
            <p:nvPr/>
          </p:nvCxnSpPr>
          <p:spPr>
            <a:xfrm flipV="1">
              <a:off x="4233600" y="2014200"/>
              <a:ext cx="1073520" cy="9388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0" name=""/>
          <p:cNvGrpSpPr/>
          <p:nvPr/>
        </p:nvGrpSpPr>
        <p:grpSpPr>
          <a:xfrm>
            <a:off x="3735360" y="3241800"/>
            <a:ext cx="3667320" cy="3085200"/>
            <a:chOff x="3735360" y="3241800"/>
            <a:chExt cx="3667320" cy="3085200"/>
          </a:xfrm>
        </p:grpSpPr>
        <p:sp>
          <p:nvSpPr>
            <p:cNvPr id="221" name=""/>
            <p:cNvSpPr/>
            <p:nvPr/>
          </p:nvSpPr>
          <p:spPr>
            <a:xfrm>
              <a:off x="4430880" y="4952880"/>
              <a:ext cx="2971800" cy="13716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88640" y="5867280"/>
              <a:ext cx="24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Servant Mana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red" descr=""/>
            <p:cNvPicPr/>
            <p:nvPr/>
          </p:nvPicPr>
          <p:blipFill>
            <a:blip r:embed="rId5"/>
            <a:stretch/>
          </p:blipFill>
          <p:spPr>
            <a:xfrm>
              <a:off x="4119480" y="350532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3735360" y="3241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" name=""/>
            <p:cNvCxnSpPr>
              <a:stCxn id="223" idx="3"/>
              <a:endCxn id="222" idx="0"/>
            </p:cNvCxnSpPr>
            <p:nvPr/>
          </p:nvCxnSpPr>
          <p:spPr>
            <a:xfrm>
              <a:off x="4233960" y="3561840"/>
              <a:ext cx="1684800" cy="23054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6" name=""/>
          <p:cNvGrpSpPr/>
          <p:nvPr/>
        </p:nvGrpSpPr>
        <p:grpSpPr>
          <a:xfrm>
            <a:off x="4621320" y="3619080"/>
            <a:ext cx="3684600" cy="2248200"/>
            <a:chOff x="4621320" y="3619080"/>
            <a:chExt cx="3684600" cy="2248200"/>
          </a:xfrm>
        </p:grpSpPr>
        <p:sp>
          <p:nvSpPr>
            <p:cNvPr id="227" name=""/>
            <p:cNvSpPr/>
            <p:nvPr/>
          </p:nvSpPr>
          <p:spPr>
            <a:xfrm>
              <a:off x="4621320" y="5105520"/>
              <a:ext cx="121896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erv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92920" y="5105520"/>
              <a:ext cx="121896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erv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oc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9" name=""/>
            <p:cNvCxnSpPr>
              <a:stCxn id="222" idx="0"/>
              <a:endCxn id="207" idx="2"/>
            </p:cNvCxnSpPr>
            <p:nvPr/>
          </p:nvCxnSpPr>
          <p:spPr>
            <a:xfrm flipV="1">
              <a:off x="5917680" y="3619080"/>
              <a:ext cx="2388600" cy="2248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30" name=""/>
            <p:cNvSpPr/>
            <p:nvPr/>
          </p:nvSpPr>
          <p:spPr>
            <a:xfrm>
              <a:off x="7391520" y="4343400"/>
              <a:ext cx="747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re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serv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30440" y="3885480"/>
            <a:ext cx="1404000" cy="1219680"/>
            <a:chOff x="5230440" y="3885480"/>
            <a:chExt cx="1404000" cy="1219680"/>
          </a:xfrm>
        </p:grpSpPr>
        <p:cxnSp>
          <p:nvCxnSpPr>
            <p:cNvPr id="232" name=""/>
            <p:cNvCxnSpPr>
              <a:stCxn id="227" idx="0"/>
              <a:endCxn id="199" idx="2"/>
            </p:cNvCxnSpPr>
            <p:nvPr/>
          </p:nvCxnSpPr>
          <p:spPr>
            <a:xfrm flipV="1">
              <a:off x="5230440" y="3885480"/>
              <a:ext cx="1105560" cy="122004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233" name=""/>
            <p:cNvSpPr/>
            <p:nvPr/>
          </p:nvSpPr>
          <p:spPr>
            <a:xfrm>
              <a:off x="5927760" y="4165560"/>
              <a:ext cx="70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A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can be more POAs and each of them can have different features =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licies are given to the POA in its creation time, they ar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change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licies ar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ot inher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parent POA to its children P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licie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cally-constrai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not be passed as arguments to normal CORBA operations, or be converted to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olicy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RBA Object Life S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objects created in the POA cannot outlive this P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are more modest regarding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objects can outlive the process in which they were first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ir POA name is stored in the object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20120" y="228600"/>
            <a:ext cx="4705560" cy="3373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enum LifespanPolicyValue { TRANSIENT, PERSISTENT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olicy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Object Id Uniqu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QUE_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servant support exactly one Object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PLE_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ervant may support one or more Object 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od, for example, for many database objects which may all be served by a single servant (assuming that the state of the objects is kept in the data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9040" y="228600"/>
            <a:ext cx="5112360" cy="3373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enum IdUniquenessPolicyValue { UNIQUE_ID, MULTIPLE_ID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olicy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Id 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R_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 IDs are assigned by the application, not by the P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ical for persistent objects (the same ID is used for keeping track where the object state is sto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STEM_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 IDs are assigned by the P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19400" y="228600"/>
            <a:ext cx="4787640" cy="3373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enum IdAssignmentPolicyValue { USER_ID, SYSTEM_ID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olicy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ques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_ACTIVE_OBJECT_MAP_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Object Id must be found in the active object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_DEFAULT_SER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an Object Id is not found in the active object map the request is dispatched to the default ser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_SERVANT_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an Object Id is not found in the active object map the servant manager gets contr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6080" y="228600"/>
            <a:ext cx="7793280" cy="58068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enum RequestProcessingPolicyValu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USE_ACTIVE_OBJECT_MAP_ONLY, USE_DEFAULT_SERVANT, USE_SERVANT_MANAGER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olicy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ObjectId to Servant Assoc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OA will keep active servants in its active object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rious combinations of this policy and Request Processin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N_RE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ants are not retained by the P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up to the application to keep track about active (existing) serv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21040" y="228600"/>
            <a:ext cx="5101560" cy="3373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enum ServantRetentionPolicyValue { RETAIN, NON_RETAIN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olicy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licit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LICIT_AC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OA will support implicit activation of serv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so requires SYSTEM_ID and RETAIN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licit activation is done (in Java) using a shortcut method “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_th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_IMPLICIT_AC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OA will not support implicit activation of ser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ically used to avoid accidental object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120" y="228600"/>
            <a:ext cx="7512840" cy="3373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enum ImplicitActivationPolicyValue { IMPLICIT_ACTIVATION, NON_IMPLICIT_ACTIVATION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olicy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B_CTRL_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ants can be called in parallel from separate threads (created and controlled by the OR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ants must be written as thread-a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NGLE_THREAD_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odel which guarantees that all requests for all objects in this POA will be dispatched sequenti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ut the application still can have more single-threaded POAs running in parallel (in separate threads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32080" y="228600"/>
            <a:ext cx="6281280" cy="3373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enum ThreadPolicyValue { ORB_CTRL_MODEL, SINGLE_THREAD_MODEL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w to create “polici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ach policy has its own fac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example how to use the policy fac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ically, all necessary policy objects are passed in a 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olicyLi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the POA creation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then invoke 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estro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n the policy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88200" y="2279520"/>
            <a:ext cx="4232880" cy="106740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interface POA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LifespanPolicy create_lifespan_policy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in LifespanPolicyValue 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84240" y="4032360"/>
            <a:ext cx="6941160" cy="58068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olicy policy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arentPOA.create_lifespan_policy (LifespanPolicyValue.ORB_CTRL_MODE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ificant news in CO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By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scrip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data and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Portable Object Ada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A deprecated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228600" y="1218960"/>
            <a:ext cx="2133720" cy="2667240"/>
            <a:chOff x="228600" y="1218960"/>
            <a:chExt cx="2133720" cy="2667240"/>
          </a:xfrm>
        </p:grpSpPr>
        <p:sp>
          <p:nvSpPr>
            <p:cNvPr id="262" name=""/>
            <p:cNvSpPr/>
            <p:nvPr/>
          </p:nvSpPr>
          <p:spPr>
            <a:xfrm>
              <a:off x="228600" y="1828800"/>
              <a:ext cx="2133720" cy="20574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74800" y="18288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O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"/>
            <p:cNvCxnSpPr>
              <a:stCxn id="265" idx="2"/>
              <a:endCxn id="263" idx="0"/>
            </p:cNvCxnSpPr>
            <p:nvPr/>
          </p:nvCxnSpPr>
          <p:spPr>
            <a:xfrm flipH="1">
              <a:off x="1294920" y="1218960"/>
              <a:ext cx="267120" cy="610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43400" y="152280"/>
            <a:ext cx="4648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t another picture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now let’s show where different policies app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58560" y="1828800"/>
            <a:ext cx="4884840" cy="2057400"/>
            <a:chOff x="358560" y="1828800"/>
            <a:chExt cx="4884840" cy="2057400"/>
          </a:xfrm>
        </p:grpSpPr>
        <p:pic>
          <p:nvPicPr>
            <p:cNvPr id="268" name="red" descr=""/>
            <p:cNvPicPr/>
            <p:nvPr/>
          </p:nvPicPr>
          <p:blipFill>
            <a:blip r:embed="rId1"/>
            <a:stretch/>
          </p:blipFill>
          <p:spPr>
            <a:xfrm>
              <a:off x="1238400" y="2971800"/>
              <a:ext cx="114120" cy="1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58560" y="2209680"/>
              <a:ext cx="187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xtract POA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from Object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10040" y="1828800"/>
              <a:ext cx="2133360" cy="20574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55880" y="182880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P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2" name=""/>
            <p:cNvCxnSpPr>
              <a:stCxn id="268" idx="3"/>
              <a:endCxn id="270" idx="1"/>
            </p:cNvCxnSpPr>
            <p:nvPr/>
          </p:nvCxnSpPr>
          <p:spPr>
            <a:xfrm flipV="1">
              <a:off x="1352520" y="2857320"/>
              <a:ext cx="1758240" cy="1720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3" name=""/>
            <p:cNvSpPr/>
            <p:nvPr/>
          </p:nvSpPr>
          <p:spPr>
            <a:xfrm>
              <a:off x="2440080" y="230184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O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28600" y="457200"/>
            <a:ext cx="2666880" cy="1282320"/>
            <a:chOff x="228600" y="457200"/>
            <a:chExt cx="2666880" cy="1282320"/>
          </a:xfrm>
        </p:grpSpPr>
        <p:sp>
          <p:nvSpPr>
            <p:cNvPr id="265" name=""/>
            <p:cNvSpPr/>
            <p:nvPr/>
          </p:nvSpPr>
          <p:spPr>
            <a:xfrm>
              <a:off x="228600" y="457200"/>
              <a:ext cx="2666880" cy="7621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Object Re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(with Object Ke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3600" y="1219320"/>
              <a:ext cx="115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rom a 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31840" y="2971800"/>
            <a:ext cx="2971800" cy="3352680"/>
            <a:chOff x="231840" y="2971800"/>
            <a:chExt cx="2971800" cy="3352680"/>
          </a:xfrm>
        </p:grpSpPr>
        <p:pic>
          <p:nvPicPr>
            <p:cNvPr id="277" name="red" descr=""/>
            <p:cNvPicPr/>
            <p:nvPr/>
          </p:nvPicPr>
          <p:blipFill>
            <a:blip r:embed="rId2"/>
            <a:stretch/>
          </p:blipFill>
          <p:spPr>
            <a:xfrm>
              <a:off x="1238400" y="3276720"/>
              <a:ext cx="11412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917280" y="2971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1840" y="4952880"/>
              <a:ext cx="2971800" cy="13716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0120" y="5410080"/>
              <a:ext cx="259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Adaptor Activ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"/>
            <p:cNvCxnSpPr>
              <a:stCxn id="277" idx="2"/>
              <a:endCxn id="280" idx="0"/>
            </p:cNvCxnSpPr>
            <p:nvPr/>
          </p:nvCxnSpPr>
          <p:spPr>
            <a:xfrm>
              <a:off x="1294920" y="3390480"/>
              <a:ext cx="423000" cy="20199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82" name=""/>
            <p:cNvSpPr/>
            <p:nvPr/>
          </p:nvSpPr>
          <p:spPr>
            <a:xfrm>
              <a:off x="288000" y="4049640"/>
              <a:ext cx="1338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all Adap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ctivator i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OA not f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717200" y="3885480"/>
            <a:ext cx="2459520" cy="1524240"/>
            <a:chOff x="1717200" y="3885480"/>
            <a:chExt cx="2459520" cy="1524240"/>
          </a:xfrm>
        </p:grpSpPr>
        <p:cxnSp>
          <p:nvCxnSpPr>
            <p:cNvPr id="284" name=""/>
            <p:cNvCxnSpPr>
              <a:stCxn id="280" idx="0"/>
              <a:endCxn id="270" idx="2"/>
            </p:cNvCxnSpPr>
            <p:nvPr/>
          </p:nvCxnSpPr>
          <p:spPr>
            <a:xfrm flipV="1">
              <a:off x="1717200" y="3885480"/>
              <a:ext cx="2459880" cy="1524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85" name=""/>
            <p:cNvSpPr/>
            <p:nvPr/>
          </p:nvSpPr>
          <p:spPr>
            <a:xfrm>
              <a:off x="2228400" y="4114800"/>
              <a:ext cx="106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reate PO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240000" y="2209680"/>
            <a:ext cx="4162320" cy="1676160"/>
            <a:chOff x="3240000" y="2209680"/>
            <a:chExt cx="4162320" cy="1676160"/>
          </a:xfrm>
        </p:grpSpPr>
        <p:sp>
          <p:nvSpPr>
            <p:cNvPr id="287" name=""/>
            <p:cNvSpPr/>
            <p:nvPr/>
          </p:nvSpPr>
          <p:spPr>
            <a:xfrm>
              <a:off x="3240000" y="2209680"/>
              <a:ext cx="173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xtract Object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from Object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268960" y="2362320"/>
              <a:ext cx="2133360" cy="1523520"/>
              <a:chOff x="5268960" y="2362320"/>
              <a:chExt cx="2133360" cy="1523520"/>
            </a:xfrm>
          </p:grpSpPr>
          <p:sp>
            <p:nvSpPr>
              <p:cNvPr id="289" name=""/>
              <p:cNvSpPr/>
              <p:nvPr/>
            </p:nvSpPr>
            <p:spPr>
              <a:xfrm>
                <a:off x="5268960" y="2362320"/>
                <a:ext cx="2133360" cy="15235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57546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07120" y="2417760"/>
                <a:ext cx="2057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3333cc"/>
                    </a:solidFill>
                    <a:latin typeface="Times New Roman"/>
                  </a:rPr>
                  <a:t>Active Object Ma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5853240" y="2743200"/>
              <a:ext cx="914400" cy="3049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Object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53240" y="3505320"/>
              <a:ext cx="914400" cy="3045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Object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53240" y="3124080"/>
              <a:ext cx="914400" cy="3049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Object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4" name="red" descr=""/>
            <p:cNvPicPr/>
            <p:nvPr/>
          </p:nvPicPr>
          <p:blipFill>
            <a:blip r:embed="rId3"/>
            <a:stretch/>
          </p:blipFill>
          <p:spPr>
            <a:xfrm>
              <a:off x="4119480" y="3200400"/>
              <a:ext cx="114480" cy="114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95" name=""/>
            <p:cNvCxnSpPr>
              <a:stCxn id="294" idx="3"/>
              <a:endCxn id="289" idx="1"/>
            </p:cNvCxnSpPr>
            <p:nvPr/>
          </p:nvCxnSpPr>
          <p:spPr>
            <a:xfrm flipV="1">
              <a:off x="4233600" y="3123360"/>
              <a:ext cx="1035720" cy="1342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96" name=""/>
          <p:cNvGrpSpPr/>
          <p:nvPr/>
        </p:nvGrpSpPr>
        <p:grpSpPr>
          <a:xfrm>
            <a:off x="6767280" y="2251080"/>
            <a:ext cx="1995840" cy="1406160"/>
            <a:chOff x="6767280" y="2251080"/>
            <a:chExt cx="1995840" cy="1406160"/>
          </a:xfrm>
        </p:grpSpPr>
        <p:sp>
          <p:nvSpPr>
            <p:cNvPr id="297" name=""/>
            <p:cNvSpPr/>
            <p:nvPr/>
          </p:nvSpPr>
          <p:spPr>
            <a:xfrm>
              <a:off x="7848720" y="3314880"/>
              <a:ext cx="914400" cy="3045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Serv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48720" y="2743200"/>
              <a:ext cx="914400" cy="3049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Serv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291" idx="3"/>
              <a:endCxn id="298" idx="1"/>
            </p:cNvCxnSpPr>
            <p:nvPr/>
          </p:nvCxnSpPr>
          <p:spPr>
            <a:xfrm>
              <a:off x="6767280" y="2895120"/>
              <a:ext cx="1081800" cy="10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93" idx="3"/>
              <a:endCxn id="297" idx="1"/>
            </p:cNvCxnSpPr>
            <p:nvPr/>
          </p:nvCxnSpPr>
          <p:spPr>
            <a:xfrm>
              <a:off x="6767280" y="3276360"/>
              <a:ext cx="1081800" cy="1911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2" idx="3"/>
              <a:endCxn id="297" idx="1"/>
            </p:cNvCxnSpPr>
            <p:nvPr/>
          </p:nvCxnSpPr>
          <p:spPr>
            <a:xfrm flipV="1">
              <a:off x="6767280" y="3466440"/>
              <a:ext cx="1081800" cy="1911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02" name=""/>
            <p:cNvSpPr/>
            <p:nvPr/>
          </p:nvSpPr>
          <p:spPr>
            <a:xfrm>
              <a:off x="7387560" y="225108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incarn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serv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735360" y="1828800"/>
            <a:ext cx="3666960" cy="1445400"/>
            <a:chOff x="3735360" y="1828800"/>
            <a:chExt cx="3666960" cy="1445400"/>
          </a:xfrm>
        </p:grpSpPr>
        <p:grpSp>
          <p:nvGrpSpPr>
            <p:cNvPr id="304" name=""/>
            <p:cNvGrpSpPr/>
            <p:nvPr/>
          </p:nvGrpSpPr>
          <p:grpSpPr>
            <a:xfrm>
              <a:off x="5268960" y="1828800"/>
              <a:ext cx="2133360" cy="457200"/>
              <a:chOff x="5268960" y="1828800"/>
              <a:chExt cx="2133360" cy="457200"/>
            </a:xfrm>
          </p:grpSpPr>
          <p:sp>
            <p:nvSpPr>
              <p:cNvPr id="305" name=""/>
              <p:cNvSpPr/>
              <p:nvPr/>
            </p:nvSpPr>
            <p:spPr>
              <a:xfrm>
                <a:off x="5268960" y="1828800"/>
                <a:ext cx="2133360" cy="4572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57546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307120" y="1846080"/>
                <a:ext cx="2057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3333cc"/>
                    </a:solidFill>
                    <a:latin typeface="Times New Roman"/>
                  </a:rPr>
                  <a:t>Default Serva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3735360" y="293688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8" name="red" descr=""/>
            <p:cNvPicPr/>
            <p:nvPr/>
          </p:nvPicPr>
          <p:blipFill>
            <a:blip r:embed="rId4"/>
            <a:stretch/>
          </p:blipFill>
          <p:spPr>
            <a:xfrm>
              <a:off x="4119480" y="2895480"/>
              <a:ext cx="114480" cy="114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09" name=""/>
            <p:cNvCxnSpPr>
              <a:stCxn id="308" idx="3"/>
              <a:endCxn id="306" idx="1"/>
            </p:cNvCxnSpPr>
            <p:nvPr/>
          </p:nvCxnSpPr>
          <p:spPr>
            <a:xfrm flipV="1">
              <a:off x="4233600" y="2014200"/>
              <a:ext cx="1073520" cy="9388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310" name=""/>
          <p:cNvGrpSpPr/>
          <p:nvPr/>
        </p:nvGrpSpPr>
        <p:grpSpPr>
          <a:xfrm>
            <a:off x="3735360" y="3241800"/>
            <a:ext cx="3667320" cy="3085200"/>
            <a:chOff x="3735360" y="3241800"/>
            <a:chExt cx="3667320" cy="3085200"/>
          </a:xfrm>
        </p:grpSpPr>
        <p:sp>
          <p:nvSpPr>
            <p:cNvPr id="311" name=""/>
            <p:cNvSpPr/>
            <p:nvPr/>
          </p:nvSpPr>
          <p:spPr>
            <a:xfrm>
              <a:off x="4430880" y="4952880"/>
              <a:ext cx="2971800" cy="13716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88640" y="5867280"/>
              <a:ext cx="24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Servant Mana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3" name="red" descr=""/>
            <p:cNvPicPr/>
            <p:nvPr/>
          </p:nvPicPr>
          <p:blipFill>
            <a:blip r:embed="rId5"/>
            <a:stretch/>
          </p:blipFill>
          <p:spPr>
            <a:xfrm>
              <a:off x="4119480" y="350532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5360" y="3241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5" name=""/>
            <p:cNvCxnSpPr>
              <a:stCxn id="313" idx="3"/>
              <a:endCxn id="312" idx="0"/>
            </p:cNvCxnSpPr>
            <p:nvPr/>
          </p:nvCxnSpPr>
          <p:spPr>
            <a:xfrm>
              <a:off x="4233960" y="3561840"/>
              <a:ext cx="1684800" cy="23054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316" name=""/>
          <p:cNvGrpSpPr/>
          <p:nvPr/>
        </p:nvGrpSpPr>
        <p:grpSpPr>
          <a:xfrm>
            <a:off x="4621320" y="3619080"/>
            <a:ext cx="3684600" cy="2248200"/>
            <a:chOff x="4621320" y="3619080"/>
            <a:chExt cx="3684600" cy="2248200"/>
          </a:xfrm>
        </p:grpSpPr>
        <p:sp>
          <p:nvSpPr>
            <p:cNvPr id="317" name=""/>
            <p:cNvSpPr/>
            <p:nvPr/>
          </p:nvSpPr>
          <p:spPr>
            <a:xfrm>
              <a:off x="4621320" y="5105520"/>
              <a:ext cx="121896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erv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92920" y="5105520"/>
              <a:ext cx="121896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erv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oc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12" idx="0"/>
              <a:endCxn id="297" idx="2"/>
            </p:cNvCxnSpPr>
            <p:nvPr/>
          </p:nvCxnSpPr>
          <p:spPr>
            <a:xfrm flipV="1">
              <a:off x="5917680" y="3619080"/>
              <a:ext cx="2388600" cy="2248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20" name=""/>
            <p:cNvSpPr/>
            <p:nvPr/>
          </p:nvSpPr>
          <p:spPr>
            <a:xfrm>
              <a:off x="7391520" y="4343400"/>
              <a:ext cx="747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re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serv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230440" y="3885480"/>
            <a:ext cx="1404000" cy="1219680"/>
            <a:chOff x="5230440" y="3885480"/>
            <a:chExt cx="1404000" cy="1219680"/>
          </a:xfrm>
        </p:grpSpPr>
        <p:cxnSp>
          <p:nvCxnSpPr>
            <p:cNvPr id="322" name=""/>
            <p:cNvCxnSpPr>
              <a:stCxn id="317" idx="0"/>
              <a:endCxn id="289" idx="2"/>
            </p:cNvCxnSpPr>
            <p:nvPr/>
          </p:nvCxnSpPr>
          <p:spPr>
            <a:xfrm flipV="1">
              <a:off x="5230440" y="3885480"/>
              <a:ext cx="1105560" cy="122004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323" name=""/>
            <p:cNvSpPr/>
            <p:nvPr/>
          </p:nvSpPr>
          <p:spPr>
            <a:xfrm>
              <a:off x="5927760" y="4165560"/>
              <a:ext cx="70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A Cre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ach POA is created as a child of another P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erver applications have a “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RootPO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As are created in a tree, in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ach POA has its own namespace for its Object 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f you need a different policy you need a new P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de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OA Cre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2320" y="1752480"/>
            <a:ext cx="4353480" cy="179748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interface POA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OA create_POA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in string adapter_nam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in POAManager mana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in CORBA::PolicyList polic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raises (AdapterAlreadyExists, InvalidPolic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520" y="3733920"/>
            <a:ext cx="6159240" cy="277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// get a reference to the Root P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OA rootPOA = POAHelper.narrow (orb.resolve_initial_references ("RootPOA"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// get a reference to the POA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OAManager manager = rootPOA.the_POA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// create an empty PolicyList for child P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olicy[] policies = new Policy 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// create the child P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OA child = rootPOA.</a:t>
            </a:r>
            <a:r>
              <a:rPr b="0" lang="en-GB" sz="1600" spc="-1" strike="noStrike">
                <a:solidFill>
                  <a:srgbClr val="3333cc"/>
                </a:solidFill>
                <a:latin typeface="Arial Narrow"/>
              </a:rPr>
              <a:t>create_POA (“child”, manager, policies)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tivation: don’t be confus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 activation” is not the same as “Server activ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er activation is about “how to start a separate process on the server sid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 called: “Implementation repository” issue (see another t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 activation is about “how to make objects visible within already runn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ct creation and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A provides several options for creating objects and activating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pplication can create objects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ithou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eating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ny serv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ervant can be explicitly or implicitly registered to incarnate an object - and POA can remember it in its Active Object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pplication can supply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servant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pplication can provide a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default ser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eation and activation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651200" y="1468440"/>
            <a:ext cx="4187880" cy="2713320"/>
            <a:chOff x="4651200" y="1468440"/>
            <a:chExt cx="4187880" cy="2713320"/>
          </a:xfrm>
        </p:grpSpPr>
        <p:sp>
          <p:nvSpPr>
            <p:cNvPr id="335" name=""/>
            <p:cNvSpPr/>
            <p:nvPr/>
          </p:nvSpPr>
          <p:spPr>
            <a:xfrm>
              <a:off x="4651200" y="2384280"/>
              <a:ext cx="4187880" cy="1797480"/>
            </a:xfrm>
            <a:prstGeom prst="rect">
              <a:avLst/>
            </a:prstGeom>
            <a:solidFill>
              <a:srgbClr val="ffff66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bject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create_reference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(in CORBA::RepositoryId int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aises (WrongPolic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bject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create_reference_with_id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(in ObjectId oid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in CORBA::RepositoryId int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aises (WrongPOlic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92840" y="1468440"/>
              <a:ext cx="3504960" cy="8380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a8a86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reating CORBA 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ithout creating serva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25000" y="4648320"/>
            <a:ext cx="4079160" cy="1981800"/>
            <a:chOff x="225000" y="4648320"/>
            <a:chExt cx="4079160" cy="1981800"/>
          </a:xfrm>
        </p:grpSpPr>
        <p:sp>
          <p:nvSpPr>
            <p:cNvPr id="338" name=""/>
            <p:cNvSpPr/>
            <p:nvPr/>
          </p:nvSpPr>
          <p:spPr>
            <a:xfrm>
              <a:off x="225000" y="5562720"/>
              <a:ext cx="4079160" cy="1067400"/>
            </a:xfrm>
            <a:prstGeom prst="rect">
              <a:avLst/>
            </a:prstGeom>
            <a:solidFill>
              <a:srgbClr val="ffff66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ServantManager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get_servant_manager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aises (WrongPolic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void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set_servant_manager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(in ServantManager img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aises (WrongPOlic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2640" y="4648320"/>
              <a:ext cx="3505320" cy="8380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a8a86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egistration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Servant manag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966200" y="4648320"/>
            <a:ext cx="3556440" cy="1981800"/>
            <a:chOff x="4966200" y="4648320"/>
            <a:chExt cx="3556440" cy="1981800"/>
          </a:xfrm>
        </p:grpSpPr>
        <p:sp>
          <p:nvSpPr>
            <p:cNvPr id="341" name=""/>
            <p:cNvSpPr/>
            <p:nvPr/>
          </p:nvSpPr>
          <p:spPr>
            <a:xfrm>
              <a:off x="4966200" y="5562720"/>
              <a:ext cx="3556440" cy="1067400"/>
            </a:xfrm>
            <a:prstGeom prst="rect">
              <a:avLst/>
            </a:prstGeom>
            <a:solidFill>
              <a:srgbClr val="ffff66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Servant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get_servant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aises (NoServant, WrongPolic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void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set_servant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(in Servant ser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aises (WrongPOlic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92840" y="4648320"/>
              <a:ext cx="3505320" cy="8380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a8a86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egistration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efault Serv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33720" y="1468440"/>
            <a:ext cx="3861360" cy="2713320"/>
            <a:chOff x="333720" y="1468440"/>
            <a:chExt cx="3861360" cy="2713320"/>
          </a:xfrm>
        </p:grpSpPr>
        <p:sp>
          <p:nvSpPr>
            <p:cNvPr id="344" name=""/>
            <p:cNvSpPr/>
            <p:nvPr/>
          </p:nvSpPr>
          <p:spPr>
            <a:xfrm>
              <a:off x="333720" y="2384280"/>
              <a:ext cx="3861360" cy="1797480"/>
            </a:xfrm>
            <a:prstGeom prst="rect">
              <a:avLst/>
            </a:prstGeom>
            <a:solidFill>
              <a:srgbClr val="ffff66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bjectId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activate_object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(in Servant ser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aises (ServantAlreadyActive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WrongPolic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void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activate_object_with_id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(in ObjectId oid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in Servant ser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aises (ServantAlreadyActive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bjectAlreadyActive, WrongPolic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2640" y="1468440"/>
              <a:ext cx="3504600" cy="8380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a8a86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Object ac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versions among key 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1219320"/>
            <a:ext cx="175284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8686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bject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480" y="3543480"/>
            <a:ext cx="175284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8686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bject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5867280"/>
            <a:ext cx="17528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86868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485720" y="1752120"/>
            <a:ext cx="4248720" cy="1791360"/>
            <a:chOff x="1485720" y="1752120"/>
            <a:chExt cx="4248720" cy="1791360"/>
          </a:xfrm>
        </p:grpSpPr>
        <p:sp>
          <p:nvSpPr>
            <p:cNvPr id="351" name=""/>
            <p:cNvSpPr/>
            <p:nvPr/>
          </p:nvSpPr>
          <p:spPr>
            <a:xfrm>
              <a:off x="1771200" y="1981080"/>
              <a:ext cx="3963240" cy="1067400"/>
            </a:xfrm>
            <a:prstGeom prst="rect">
              <a:avLst/>
            </a:prstGeom>
            <a:solidFill>
              <a:srgbClr val="ffff66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bjectId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reference_to_id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(in Object re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aises (WrongAdapter, WrongPolic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bject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id_to_reference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(in ObjectId oi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aises (ObjectNotActive, WrongPolic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2" name=""/>
            <p:cNvCxnSpPr>
              <a:stCxn id="347" idx="2"/>
              <a:endCxn id="348" idx="0"/>
            </p:cNvCxnSpPr>
            <p:nvPr/>
          </p:nvCxnSpPr>
          <p:spPr>
            <a:xfrm>
              <a:off x="1485720" y="1752120"/>
              <a:ext cx="1080" cy="17917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353" name=""/>
          <p:cNvGrpSpPr/>
          <p:nvPr/>
        </p:nvGrpSpPr>
        <p:grpSpPr>
          <a:xfrm>
            <a:off x="1485720" y="4076640"/>
            <a:ext cx="4295160" cy="1791000"/>
            <a:chOff x="1485720" y="4076640"/>
            <a:chExt cx="4295160" cy="1791000"/>
          </a:xfrm>
        </p:grpSpPr>
        <p:sp>
          <p:nvSpPr>
            <p:cNvPr id="354" name=""/>
            <p:cNvSpPr/>
            <p:nvPr/>
          </p:nvSpPr>
          <p:spPr>
            <a:xfrm>
              <a:off x="1724760" y="4641840"/>
              <a:ext cx="4056120" cy="1067400"/>
            </a:xfrm>
            <a:prstGeom prst="rect">
              <a:avLst/>
            </a:prstGeom>
            <a:solidFill>
              <a:srgbClr val="ffff66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bjectId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servant_to_id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(in Servant ser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aises (ServantNotActive, WrongPolic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Servant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id_to_servant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(in ObjectId oi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aises (ObjectNotActive, WrongPolic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48" idx="2"/>
              <a:endCxn id="349" idx="0"/>
            </p:cNvCxnSpPr>
            <p:nvPr/>
          </p:nvCxnSpPr>
          <p:spPr>
            <a:xfrm>
              <a:off x="1485720" y="4076640"/>
              <a:ext cx="1080" cy="17913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356" name=""/>
          <p:cNvGrpSpPr/>
          <p:nvPr/>
        </p:nvGrpSpPr>
        <p:grpSpPr>
          <a:xfrm>
            <a:off x="2362320" y="1485720"/>
            <a:ext cx="6357600" cy="4648320"/>
            <a:chOff x="2362320" y="1485720"/>
            <a:chExt cx="6357600" cy="4648320"/>
          </a:xfrm>
        </p:grpSpPr>
        <p:sp>
          <p:nvSpPr>
            <p:cNvPr id="357" name=""/>
            <p:cNvSpPr/>
            <p:nvPr/>
          </p:nvSpPr>
          <p:spPr>
            <a:xfrm>
              <a:off x="2667600" y="3273480"/>
              <a:ext cx="5129280" cy="1067400"/>
            </a:xfrm>
            <a:prstGeom prst="rect">
              <a:avLst/>
            </a:prstGeom>
            <a:solidFill>
              <a:srgbClr val="ffff66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Servant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reference_to_servant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(in Object re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aises (ObjectNotActive, WrongAdapter, WrongPolic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bject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servant_to_reference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(in Servant ser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aises (ServantNotActive, WrongPolic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47" idx="3"/>
              <a:endCxn id="349" idx="3"/>
            </p:cNvCxnSpPr>
            <p:nvPr/>
          </p:nvCxnSpPr>
          <p:spPr>
            <a:xfrm>
              <a:off x="2362320" y="1485720"/>
              <a:ext cx="2160" cy="4648680"/>
            </a:xfrm>
            <a:prstGeom prst="bentConnector3">
              <a:avLst>
                <a:gd name="adj1" fmla="val 353200000"/>
              </a:avLst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rvant mana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d when an explicit servant registration is difficult or im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dealing with too many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 finding objects dyna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imes New Roman"/>
              </a:rPr>
              <a:t>Servant Activ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ervant incarnate (in ObjectId oid, in POA adap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void etherealize (in ObjectId oid, in POA adapter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sulting servant retains in the Active Object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cc"/>
                </a:solidFill>
                <a:uFillTx/>
                <a:latin typeface="Times New Roman"/>
              </a:rPr>
              <a:t>Servant Loc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Servant preinvoke (in ObjectId oid, in POA adapter, in CORBA::Identifier operation, out Cookie the_cook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void postinvoke (in ObjectId oid, in POA adapter, in CORBA::Identifier operation, out Cookie the_cookie,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sulting servant does not appear in the A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on for both Servant mana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ncarnate(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reinvoke(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y raise any system 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 OBJECT_NOT_EXIST if the object corresponding to the Object Id cannot be incar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eqFactory.get_sequence(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ormally would raise at once exception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ongAcces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ut if the real access to the database is postponed some other exception must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h operations may also raise a </a:t>
            </a:r>
            <a:r>
              <a:rPr b="0" lang="en-GB" sz="2400" spc="-1" strike="noStrike">
                <a:solidFill>
                  <a:srgbClr val="3333cc"/>
                </a:solidFill>
                <a:latin typeface="Arial Narrow"/>
              </a:rPr>
              <a:t>Forward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 the ORB is responsible for delivering the current and subsequent requests to the object denoted in </a:t>
            </a:r>
            <a:r>
              <a:rPr b="0" lang="en-GB" sz="2000" spc="-1" strike="noStrike">
                <a:solidFill>
                  <a:srgbClr val="3333cc"/>
                </a:solidFill>
                <a:latin typeface="Arial Narrow"/>
              </a:rPr>
              <a:t>forward_refere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ault Serv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Servant for  many CORBA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ically of the sam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ly suited to objects in large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invoking POA and ObjectId is accessible using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41120" y="4635360"/>
            <a:ext cx="5345280" cy="1753200"/>
            <a:chOff x="141120" y="4635360"/>
            <a:chExt cx="5345280" cy="1753200"/>
          </a:xfrm>
        </p:grpSpPr>
        <p:sp>
          <p:nvSpPr>
            <p:cNvPr id="366" name=""/>
            <p:cNvSpPr/>
            <p:nvPr/>
          </p:nvSpPr>
          <p:spPr>
            <a:xfrm>
              <a:off x="141120" y="5321160"/>
              <a:ext cx="5345280" cy="1067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org.omg.CORBA obj 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orb.resolve_initial_references (”POACurrent")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Current 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curr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= CurrentHelper.narrow (obj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60560" y="4635360"/>
              <a:ext cx="3504960" cy="6098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a8a86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How to get 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562720" y="4635360"/>
            <a:ext cx="3504960" cy="1753200"/>
            <a:chOff x="5562720" y="4635360"/>
            <a:chExt cx="3504960" cy="1753200"/>
          </a:xfrm>
        </p:grpSpPr>
        <p:sp>
          <p:nvSpPr>
            <p:cNvPr id="369" name=""/>
            <p:cNvSpPr/>
            <p:nvPr/>
          </p:nvSpPr>
          <p:spPr>
            <a:xfrm>
              <a:off x="5847480" y="5321160"/>
              <a:ext cx="2936160" cy="1067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interface Current {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POA 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get_PO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()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ObjectID 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get_object_i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()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}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62720" y="4635360"/>
              <a:ext cx="3504960" cy="6098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a8a86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What to get from 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BA Object Adap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0840" y="2057400"/>
            <a:ext cx="8570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iece of CORBA architecture dispatching client requests to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rv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mplement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adaptors are only on the server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function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reate CORB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ct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ensure that target objects are incarnated by serv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direct requests to the servants (they connect orb with the servants - locating and marshal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235400" y="1409760"/>
            <a:ext cx="2986200" cy="1371600"/>
            <a:chOff x="4235400" y="1409760"/>
            <a:chExt cx="2986200" cy="1371600"/>
          </a:xfrm>
        </p:grpSpPr>
        <p:sp>
          <p:nvSpPr>
            <p:cNvPr id="48" name=""/>
            <p:cNvSpPr/>
            <p:nvPr/>
          </p:nvSpPr>
          <p:spPr>
            <a:xfrm>
              <a:off x="5186160" y="1409760"/>
              <a:ext cx="2035440" cy="642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9898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Times New Roman"/>
                </a:rPr>
                <a:t>remember this term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Times New Roman"/>
                </a:rPr>
                <a:t>use this t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red" descr=""/>
            <p:cNvPicPr/>
            <p:nvPr/>
          </p:nvPicPr>
          <p:blipFill>
            <a:blip r:embed="rId1"/>
            <a:stretch/>
          </p:blipFill>
          <p:spPr>
            <a:xfrm>
              <a:off x="4235400" y="2666880"/>
              <a:ext cx="114480" cy="114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0" name=""/>
            <p:cNvCxnSpPr>
              <a:stCxn id="48" idx="1"/>
              <a:endCxn id="49" idx="0"/>
            </p:cNvCxnSpPr>
            <p:nvPr/>
          </p:nvCxnSpPr>
          <p:spPr>
            <a:xfrm flipV="1" rot="10800000">
              <a:off x="4291920" y="1729440"/>
              <a:ext cx="896040" cy="937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" name=""/>
          <p:cNvGrpSpPr/>
          <p:nvPr/>
        </p:nvGrpSpPr>
        <p:grpSpPr>
          <a:xfrm>
            <a:off x="4235400" y="3701880"/>
            <a:ext cx="3711600" cy="793800"/>
            <a:chOff x="4235400" y="3701880"/>
            <a:chExt cx="3711600" cy="793800"/>
          </a:xfrm>
        </p:grpSpPr>
        <p:sp>
          <p:nvSpPr>
            <p:cNvPr id="52" name=""/>
            <p:cNvSpPr/>
            <p:nvPr/>
          </p:nvSpPr>
          <p:spPr>
            <a:xfrm>
              <a:off x="4765680" y="3701880"/>
              <a:ext cx="3181320" cy="642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9898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Times New Roman"/>
                </a:rPr>
                <a:t>remember: object references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Times New Roman"/>
                </a:rPr>
                <a:t>servants are two different th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red" descr=""/>
            <p:cNvPicPr/>
            <p:nvPr/>
          </p:nvPicPr>
          <p:blipFill>
            <a:blip r:embed="rId2"/>
            <a:stretch/>
          </p:blipFill>
          <p:spPr>
            <a:xfrm>
              <a:off x="4235400" y="438156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4" name=""/>
            <p:cNvCxnSpPr>
              <a:stCxn id="52" idx="1"/>
              <a:endCxn id="53" idx="0"/>
            </p:cNvCxnSpPr>
            <p:nvPr/>
          </p:nvCxnSpPr>
          <p:spPr>
            <a:xfrm flipV="1" rot="10800000">
              <a:off x="4291920" y="4021560"/>
              <a:ext cx="477000" cy="35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ct de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activation is breaking object-to-servant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fter deactivation the object is not visible any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ut the corresponding servant can still be available and may be activated later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administrative tool for controlling the contents of the Active Object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17120" y="5638680"/>
            <a:ext cx="3963240" cy="58068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void </a:t>
            </a:r>
            <a:r>
              <a:rPr b="0" lang="en-GB" sz="1600" spc="-1" strike="noStrike">
                <a:solidFill>
                  <a:srgbClr val="3333cc"/>
                </a:solidFill>
                <a:latin typeface="Arial Narrow"/>
              </a:rPr>
              <a:t>deactivate_object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(in ObjectId 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raises (ObjectNotActive, WrongPolic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s on hands-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A/stage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in differences between BOA and P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A/stage2-persis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eate persistent object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A/stage3-servantActiv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eate a factory for sequence referen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ervants are created later only when a method on a sequence reference is c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A and PO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864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A was the original CORBA object ada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A was under-specified and therefore less portable between O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A had no servan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emov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CORB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A is everything 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ing many more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A abstrac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2160" y="2292480"/>
            <a:ext cx="3568680" cy="34160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9480" y="2292480"/>
            <a:ext cx="1587240" cy="34160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84200" y="5270400"/>
            <a:ext cx="111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27600" y="5270400"/>
            <a:ext cx="111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93080" y="2749680"/>
            <a:ext cx="8316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92480" y="2597040"/>
            <a:ext cx="4178160" cy="2730600"/>
          </a:xfrm>
          <a:prstGeom prst="roundRect">
            <a:avLst>
              <a:gd name="adj" fmla="val 12458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9360" y="2749680"/>
            <a:ext cx="1054080" cy="901440"/>
          </a:xfrm>
          <a:prstGeom prst="roundRect">
            <a:avLst>
              <a:gd name="adj" fmla="val 12458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9360" y="4273560"/>
            <a:ext cx="1054080" cy="596880"/>
          </a:xfrm>
          <a:prstGeom prst="roundRect">
            <a:avLst>
              <a:gd name="adj" fmla="val 12458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65840" y="2755800"/>
            <a:ext cx="825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4280040"/>
            <a:ext cx="825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45160" y="290196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5160" y="335916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45160" y="450216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74920" y="2679840"/>
            <a:ext cx="825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18120" y="1765440"/>
            <a:ext cx="134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2063880"/>
            <a:ext cx="0" cy="831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89320" y="2895480"/>
            <a:ext cx="15112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gical connection to the target CORBA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7" idx="3"/>
            <a:endCxn id="74" idx="1"/>
          </p:cNvCxnSpPr>
          <p:nvPr/>
        </p:nvCxnSpPr>
        <p:spPr>
          <a:xfrm>
            <a:off x="2209320" y="3258720"/>
            <a:ext cx="10803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219320" y="2992320"/>
            <a:ext cx="99036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3359160"/>
            <a:ext cx="8316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93080" y="4356000"/>
            <a:ext cx="8316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8" idx="6"/>
            <a:endCxn id="62" idx="1"/>
          </p:cNvCxnSpPr>
          <p:nvPr/>
        </p:nvCxnSpPr>
        <p:spPr>
          <a:xfrm flipV="1">
            <a:off x="5784840" y="2933280"/>
            <a:ext cx="1308960" cy="3888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</a:ln>
        </p:spPr>
      </p:cxnSp>
      <p:cxnSp>
        <p:nvCxnSpPr>
          <p:cNvPr id="81" name=""/>
          <p:cNvCxnSpPr>
            <a:stCxn id="69" idx="6"/>
            <a:endCxn id="78" idx="1"/>
          </p:cNvCxnSpPr>
          <p:nvPr/>
        </p:nvCxnSpPr>
        <p:spPr>
          <a:xfrm>
            <a:off x="5784840" y="3429000"/>
            <a:ext cx="1308960" cy="11520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</a:ln>
        </p:spPr>
      </p:cxnSp>
      <p:cxnSp>
        <p:nvCxnSpPr>
          <p:cNvPr id="82" name=""/>
          <p:cNvCxnSpPr>
            <a:stCxn id="70" idx="6"/>
            <a:endCxn id="79" idx="1"/>
          </p:cNvCxnSpPr>
          <p:nvPr/>
        </p:nvCxnSpPr>
        <p:spPr>
          <a:xfrm flipV="1">
            <a:off x="5784840" y="4539960"/>
            <a:ext cx="1308960" cy="3240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key 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CORBA Object is a programming entity with an identity, an interface and an implementatio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r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ming language object implementing requests on one or more CORBA objects (modifi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native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I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ject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alue identifying a particular CORBA object within the scope of its P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s are hidden from clients, encapsulated by object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ject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usual reference to a CORBA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es an Object Id and a POA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2895480"/>
            <a:ext cx="8686800" cy="3505320"/>
          </a:xfrm>
          <a:prstGeom prst="rect">
            <a:avLst/>
          </a:prstGeom>
          <a:gradFill rotWithShape="0">
            <a:gsLst>
              <a:gs pos="0">
                <a:srgbClr val="9a9ac1"/>
              </a:gs>
              <a:gs pos="50000">
                <a:srgbClr val="ccccff"/>
              </a:gs>
              <a:gs pos="100000">
                <a:srgbClr val="9a9ac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implified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927600"/>
            <a:ext cx="1593720" cy="1365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3927600"/>
            <a:ext cx="1593720" cy="1365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0" y="3774960"/>
            <a:ext cx="1898640" cy="1670040"/>
            <a:chOff x="4572000" y="3774960"/>
            <a:chExt cx="1898640" cy="1670040"/>
          </a:xfrm>
        </p:grpSpPr>
        <p:sp>
          <p:nvSpPr>
            <p:cNvPr id="90" name=""/>
            <p:cNvSpPr/>
            <p:nvPr/>
          </p:nvSpPr>
          <p:spPr>
            <a:xfrm>
              <a:off x="4572000" y="3774960"/>
              <a:ext cx="1593720" cy="1365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3927240"/>
              <a:ext cx="1594080" cy="13654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76920" y="4079880"/>
              <a:ext cx="1593720" cy="1365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543800" y="5257800"/>
            <a:ext cx="1294920" cy="838080"/>
            <a:chOff x="7543800" y="5257800"/>
            <a:chExt cx="1294920" cy="838080"/>
          </a:xfrm>
        </p:grpSpPr>
        <p:sp>
          <p:nvSpPr>
            <p:cNvPr id="94" name=""/>
            <p:cNvSpPr/>
            <p:nvPr/>
          </p:nvSpPr>
          <p:spPr>
            <a:xfrm>
              <a:off x="7543800" y="5257800"/>
              <a:ext cx="99036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Serv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96080" y="5410080"/>
              <a:ext cx="9900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Serv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48360" y="5562720"/>
              <a:ext cx="99036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Serv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543800" y="3124080"/>
            <a:ext cx="1294920" cy="838080"/>
            <a:chOff x="7543800" y="3124080"/>
            <a:chExt cx="1294920" cy="838080"/>
          </a:xfrm>
        </p:grpSpPr>
        <p:sp>
          <p:nvSpPr>
            <p:cNvPr id="98" name=""/>
            <p:cNvSpPr/>
            <p:nvPr/>
          </p:nvSpPr>
          <p:spPr>
            <a:xfrm>
              <a:off x="7543800" y="3124080"/>
              <a:ext cx="99036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Serv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96080" y="3276360"/>
              <a:ext cx="9900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Serv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48360" y="3429000"/>
              <a:ext cx="99036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Serv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543800" y="4191120"/>
            <a:ext cx="1294920" cy="838080"/>
            <a:chOff x="7543800" y="4191120"/>
            <a:chExt cx="1294920" cy="838080"/>
          </a:xfrm>
        </p:grpSpPr>
        <p:sp>
          <p:nvSpPr>
            <p:cNvPr id="102" name=""/>
            <p:cNvSpPr/>
            <p:nvPr/>
          </p:nvSpPr>
          <p:spPr>
            <a:xfrm>
              <a:off x="7543800" y="4191120"/>
              <a:ext cx="99036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Serv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4343400"/>
              <a:ext cx="9900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Serv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48360" y="4496040"/>
              <a:ext cx="99036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Serv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87" idx="3"/>
            <a:endCxn id="88" idx="1"/>
          </p:cNvCxnSpPr>
          <p:nvPr/>
        </p:nvCxnSpPr>
        <p:spPr>
          <a:xfrm>
            <a:off x="2050920" y="4609800"/>
            <a:ext cx="4644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88" idx="3"/>
            <a:endCxn id="91" idx="1"/>
          </p:cNvCxnSpPr>
          <p:nvPr/>
        </p:nvCxnSpPr>
        <p:spPr>
          <a:xfrm>
            <a:off x="4107960" y="4609800"/>
            <a:ext cx="6166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2" idx="3"/>
            <a:endCxn id="99" idx="1"/>
          </p:cNvCxnSpPr>
          <p:nvPr/>
        </p:nvCxnSpPr>
        <p:spPr>
          <a:xfrm flipV="1">
            <a:off x="6470640" y="3543120"/>
            <a:ext cx="1226160" cy="1219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2" idx="3"/>
            <a:endCxn id="103" idx="1"/>
          </p:cNvCxnSpPr>
          <p:nvPr/>
        </p:nvCxnSpPr>
        <p:spPr>
          <a:xfrm flipV="1">
            <a:off x="6470640" y="4609440"/>
            <a:ext cx="1226160" cy="153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2" idx="3"/>
            <a:endCxn id="95" idx="1"/>
          </p:cNvCxnSpPr>
          <p:nvPr/>
        </p:nvCxnSpPr>
        <p:spPr>
          <a:xfrm>
            <a:off x="6470640" y="4762440"/>
            <a:ext cx="1226160" cy="915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3324240" y="579132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765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c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1" idx="2"/>
            <a:endCxn id="87" idx="0"/>
          </p:cNvCxnSpPr>
          <p:nvPr/>
        </p:nvCxnSpPr>
        <p:spPr>
          <a:xfrm rot="5400000">
            <a:off x="548640" y="3219120"/>
            <a:ext cx="1413720" cy="39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od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52280" y="1981080"/>
            <a:ext cx="3810240" cy="4572000"/>
            <a:chOff x="152280" y="1981080"/>
            <a:chExt cx="3810240" cy="4572000"/>
          </a:xfrm>
        </p:grpSpPr>
        <p:sp>
          <p:nvSpPr>
            <p:cNvPr id="115" name=""/>
            <p:cNvSpPr/>
            <p:nvPr/>
          </p:nvSpPr>
          <p:spPr>
            <a:xfrm>
              <a:off x="152280" y="1981080"/>
              <a:ext cx="3810240" cy="4572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2760" y="2016000"/>
              <a:ext cx="3391920" cy="42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import org.omg.CORBA.*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// Initialize ORB and BO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RB orb =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ORB.init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(args, prop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BOA boa = </a:t>
              </a: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orb.BOA_init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(args, prop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// Create a servant and activate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HelloWorldImpl hw = new HelloWorldImpl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// Wait for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cc"/>
                  </a:solidFill>
                  <a:latin typeface="Arial Narrow"/>
                </a:rPr>
                <a:t>boa.impl_is_ready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(null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42600" y="6019920"/>
              <a:ext cx="144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ith B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267080" y="1981080"/>
            <a:ext cx="4572000" cy="4572000"/>
            <a:chOff x="4267080" y="1981080"/>
            <a:chExt cx="4572000" cy="4572000"/>
          </a:xfrm>
        </p:grpSpPr>
        <p:sp>
          <p:nvSpPr>
            <p:cNvPr id="119" name=""/>
            <p:cNvSpPr/>
            <p:nvPr/>
          </p:nvSpPr>
          <p:spPr>
            <a:xfrm>
              <a:off x="4267080" y="1981080"/>
              <a:ext cx="4572000" cy="4572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17920" y="1984320"/>
              <a:ext cx="4350240" cy="44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import org.omg.CORBA.*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import org.omg.PortableServer.*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// Initialize ORB and PO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ORB orb = 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ORB.ini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(args, prop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POA rootPOA = 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POAHelper.narrow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orb.resolve_initial_reference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("RootPOA")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// Get a reference to the PO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POAManager manager = 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rootPOA.the_POAManag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// Create a servant and activate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HelloWorldImpl hwImpl = new HelloWorldImpl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HelloWorld hw = hwImpl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._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(or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// Wait for incoming requests ("run the implementation"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manager.act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orb.ru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9160" y="6019920"/>
              <a:ext cx="14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th P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40600" y="6091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8600" y="152280"/>
            <a:ext cx="5486400" cy="2819520"/>
            <a:chOff x="228600" y="152280"/>
            <a:chExt cx="5486400" cy="2819520"/>
          </a:xfrm>
        </p:grpSpPr>
        <p:sp>
          <p:nvSpPr>
            <p:cNvPr id="124" name=""/>
            <p:cNvSpPr/>
            <p:nvPr/>
          </p:nvSpPr>
          <p:spPr>
            <a:xfrm>
              <a:off x="228600" y="152280"/>
              <a:ext cx="5486400" cy="28195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57200" y="762120"/>
              <a:ext cx="4952880" cy="2057400"/>
              <a:chOff x="457200" y="762120"/>
              <a:chExt cx="4952880" cy="2057400"/>
            </a:xfrm>
          </p:grpSpPr>
          <p:sp>
            <p:nvSpPr>
              <p:cNvPr id="126" name=""/>
              <p:cNvSpPr/>
              <p:nvPr/>
            </p:nvSpPr>
            <p:spPr>
              <a:xfrm>
                <a:off x="457200" y="762120"/>
                <a:ext cx="152388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RBA.Obje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7200" y="1467000"/>
                <a:ext cx="152388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HelloWorl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24080" y="762120"/>
                <a:ext cx="22860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RBA.&lt;skeleton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24080" y="1467000"/>
                <a:ext cx="22860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_HelloWorldImplB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24080" y="2209680"/>
                <a:ext cx="2286000" cy="6098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HelloWorldImp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t_text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1" name=""/>
              <p:cNvCxnSpPr>
                <a:stCxn id="127" idx="0"/>
                <a:endCxn id="126" idx="2"/>
              </p:cNvCxnSpPr>
              <p:nvPr/>
            </p:nvCxnSpPr>
            <p:spPr>
              <a:xfrm flipV="1">
                <a:off x="1218600" y="1218960"/>
                <a:ext cx="1080" cy="248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2" name=""/>
              <p:cNvCxnSpPr>
                <a:stCxn id="130" idx="0"/>
                <a:endCxn id="129" idx="2"/>
              </p:cNvCxnSpPr>
              <p:nvPr/>
            </p:nvCxnSpPr>
            <p:spPr>
              <a:xfrm flipV="1">
                <a:off x="4266720" y="1923480"/>
                <a:ext cx="1080" cy="286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3" name=""/>
              <p:cNvCxnSpPr>
                <a:stCxn id="129" idx="0"/>
                <a:endCxn id="128" idx="2"/>
              </p:cNvCxnSpPr>
              <p:nvPr/>
            </p:nvCxnSpPr>
            <p:spPr>
              <a:xfrm flipV="1">
                <a:off x="4266720" y="1218960"/>
                <a:ext cx="1080" cy="248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4" name=""/>
              <p:cNvCxnSpPr>
                <a:stCxn id="129" idx="1"/>
                <a:endCxn id="127" idx="3"/>
              </p:cNvCxnSpPr>
              <p:nvPr/>
            </p:nvCxnSpPr>
            <p:spPr>
              <a:xfrm flipH="1">
                <a:off x="1980360" y="1695240"/>
                <a:ext cx="1143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135" name=""/>
              <p:cNvSpPr/>
              <p:nvPr/>
            </p:nvSpPr>
            <p:spPr>
              <a:xfrm>
                <a:off x="4305240" y="1243080"/>
                <a:ext cx="63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end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05240" y="1947960"/>
                <a:ext cx="63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end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83760" y="1638360"/>
                <a:ext cx="87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mp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65040" y="1235160"/>
                <a:ext cx="63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end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1450800" y="152280"/>
              <a:ext cx="32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he old way - with B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28600" y="3276720"/>
            <a:ext cx="5486400" cy="3429000"/>
            <a:chOff x="228600" y="3276720"/>
            <a:chExt cx="5486400" cy="3429000"/>
          </a:xfrm>
        </p:grpSpPr>
        <p:sp>
          <p:nvSpPr>
            <p:cNvPr id="141" name=""/>
            <p:cNvSpPr/>
            <p:nvPr/>
          </p:nvSpPr>
          <p:spPr>
            <a:xfrm>
              <a:off x="228600" y="3276720"/>
              <a:ext cx="5486400" cy="3429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" y="4876920"/>
              <a:ext cx="1523880" cy="685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lloWor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24080" y="4000680"/>
              <a:ext cx="22860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rtableServer.Serv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24080" y="4971960"/>
              <a:ext cx="228600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lloWorldPO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5943600"/>
              <a:ext cx="2286000" cy="609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lloWorldIm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t_text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5" idx="0"/>
              <a:endCxn id="144" idx="2"/>
            </p:cNvCxnSpPr>
            <p:nvPr/>
          </p:nvCxnSpPr>
          <p:spPr>
            <a:xfrm flipV="1">
              <a:off x="4266720" y="5428440"/>
              <a:ext cx="1080" cy="51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44" idx="0"/>
              <a:endCxn id="143" idx="2"/>
            </p:cNvCxnSpPr>
            <p:nvPr/>
          </p:nvCxnSpPr>
          <p:spPr>
            <a:xfrm flipV="1">
              <a:off x="4266720" y="4457880"/>
              <a:ext cx="1080" cy="51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4" idx="1"/>
              <a:endCxn id="142" idx="3"/>
            </p:cNvCxnSpPr>
            <p:nvPr/>
          </p:nvCxnSpPr>
          <p:spPr>
            <a:xfrm flipH="1">
              <a:off x="1980360" y="5200200"/>
              <a:ext cx="1143720" cy="19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49" name=""/>
            <p:cNvSpPr/>
            <p:nvPr/>
          </p:nvSpPr>
          <p:spPr>
            <a:xfrm>
              <a:off x="4305240" y="474804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xte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05240" y="567072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xte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83760" y="5143680"/>
              <a:ext cx="87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pl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19320" y="571500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xte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" y="6019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lloWor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>
              <a:stCxn id="153" idx="0"/>
              <a:endCxn id="142" idx="2"/>
            </p:cNvCxnSpPr>
            <p:nvPr/>
          </p:nvCxnSpPr>
          <p:spPr>
            <a:xfrm flipV="1">
              <a:off x="1218960" y="556236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" name=""/>
            <p:cNvSpPr/>
            <p:nvPr/>
          </p:nvSpPr>
          <p:spPr>
            <a:xfrm>
              <a:off x="457200" y="3886200"/>
              <a:ext cx="1828800" cy="685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BA.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rtable.IDLEnt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>
              <a:stCxn id="153" idx="1"/>
              <a:endCxn id="155" idx="1"/>
            </p:cNvCxnSpPr>
            <p:nvPr/>
          </p:nvCxnSpPr>
          <p:spPr>
            <a:xfrm flipH="1" rot="10800000">
              <a:off x="456840" y="4228560"/>
              <a:ext cx="2160" cy="2019960"/>
            </a:xfrm>
            <a:prstGeom prst="bentConnector3">
              <a:avLst>
                <a:gd name="adj1" fmla="val -97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266760" y="571500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xte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1880" y="3276720"/>
              <a:ext cx="330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he new way - with P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828800" y="4495680"/>
            <a:ext cx="6699600" cy="1946880"/>
            <a:chOff x="1828800" y="4495680"/>
            <a:chExt cx="6699600" cy="1946880"/>
          </a:xfrm>
        </p:grpSpPr>
        <p:sp>
          <p:nvSpPr>
            <p:cNvPr id="160" name=""/>
            <p:cNvSpPr/>
            <p:nvPr/>
          </p:nvSpPr>
          <p:spPr>
            <a:xfrm>
              <a:off x="6326280" y="6043680"/>
              <a:ext cx="178704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his is a serv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" name=""/>
            <p:cNvCxnSpPr>
              <a:stCxn id="160" idx="1"/>
              <a:endCxn id="162" idx="3"/>
            </p:cNvCxnSpPr>
            <p:nvPr/>
          </p:nvCxnSpPr>
          <p:spPr>
            <a:xfrm flipH="1">
              <a:off x="5217480" y="6246360"/>
              <a:ext cx="1107000" cy="10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</p:cxnSp>
        <p:pic>
          <p:nvPicPr>
            <p:cNvPr id="163" name="red" descr=""/>
            <p:cNvPicPr/>
            <p:nvPr/>
          </p:nvPicPr>
          <p:blipFill>
            <a:blip r:embed="rId1"/>
            <a:stretch/>
          </p:blipFill>
          <p:spPr>
            <a:xfrm>
              <a:off x="5103720" y="618984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327000" y="4495680"/>
              <a:ext cx="2201400" cy="1008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his is an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f the same type 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he object refe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red" descr=""/>
            <p:cNvPicPr/>
            <p:nvPr/>
          </p:nvPicPr>
          <p:blipFill>
            <a:blip r:embed="rId2"/>
            <a:stretch/>
          </p:blipFill>
          <p:spPr>
            <a:xfrm>
              <a:off x="1828800" y="618984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6" name=""/>
            <p:cNvCxnSpPr>
              <a:stCxn id="164" idx="2"/>
              <a:endCxn id="165" idx="0"/>
            </p:cNvCxnSpPr>
            <p:nvPr/>
          </p:nvCxnSpPr>
          <p:spPr>
            <a:xfrm rot="5400000">
              <a:off x="4317480" y="3079800"/>
              <a:ext cx="678600" cy="5542560"/>
            </a:xfrm>
            <a:prstGeom prst="bentConnector3">
              <a:avLst>
                <a:gd name="adj1" fmla="val 31581"/>
              </a:avLst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</p:cxnSp>
      </p:grpSp>
      <p:sp>
        <p:nvSpPr>
          <p:cNvPr id="167" name=""/>
          <p:cNvSpPr/>
          <p:nvPr/>
        </p:nvSpPr>
        <p:spPr>
          <a:xfrm>
            <a:off x="6016320" y="2209680"/>
            <a:ext cx="27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conn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nerated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828800" y="5823000"/>
            <a:ext cx="1371600" cy="850680"/>
            <a:chOff x="1828800" y="5823000"/>
            <a:chExt cx="1371600" cy="850680"/>
          </a:xfrm>
        </p:grpSpPr>
        <p:sp>
          <p:nvSpPr>
            <p:cNvPr id="169" name=""/>
            <p:cNvSpPr/>
            <p:nvPr/>
          </p:nvSpPr>
          <p:spPr>
            <a:xfrm>
              <a:off x="1828800" y="6216480"/>
              <a:ext cx="1371600" cy="457200"/>
            </a:xfrm>
            <a:custGeom>
              <a:avLst/>
              <a:gdLst/>
              <a:ahLst/>
              <a:rect l="l" t="t" r="r" b="b"/>
              <a:pathLst>
                <a:path w="864" h="248">
                  <a:moveTo>
                    <a:pt x="0" y="48"/>
                  </a:moveTo>
                  <a:cubicBezTo>
                    <a:pt x="168" y="148"/>
                    <a:pt x="336" y="248"/>
                    <a:pt x="480" y="240"/>
                  </a:cubicBezTo>
                  <a:cubicBezTo>
                    <a:pt x="624" y="232"/>
                    <a:pt x="800" y="24"/>
                    <a:pt x="864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71720" y="5823000"/>
              <a:ext cx="1201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Times New Roman"/>
                </a:rPr>
                <a:t>_this() </a:t>
              </a:r>
              <a:r>
                <a:rPr b="0" i="1" lang="en-US" sz="1200" spc="-1" strike="noStrike">
                  <a:solidFill>
                    <a:srgbClr val="3333cc"/>
                  </a:solidFill>
                  <a:latin typeface="Times New Roman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Times New Roman"/>
                </a:rPr>
                <a:t>activate_object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08:13:24Z</dcterms:created>
  <dc:creator>Martin Senger</dc:creator>
  <dc:description/>
  <dc:language>en-US</dc:language>
  <cp:lastModifiedBy>Martin Senger</cp:lastModifiedBy>
  <dcterms:modified xsi:type="dcterms:W3CDTF">2000-06-22T13:00:34Z</dcterms:modified>
  <cp:revision>127</cp:revision>
  <dc:subject/>
  <dc:title>Portable Object Adapt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industry.ebi.ac.uk/~senger</vt:lpwstr>
  </property>
  <property fmtid="{D5CDD505-2E9C-101B-9397-08002B2CF9AE}" pid="9" name="LinkColor">
    <vt:r8>16711782</vt:r8>
  </property>
  <property fmtid="{D5CDD505-2E9C-101B-9397-08002B2CF9AE}" pid="10" name="MailAddress">
    <vt:lpwstr>senger@ebi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Martin\talks\ws-corba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