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2CA-E800-4C8B-8AED-86871BD4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090-43D0-480B-8E69-51E06D13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94B-92B6-41BC-9752-B4ABE035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0ED-5B7A-45BB-941D-19648946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50C5-18A9-4A27-9AF5-995D866A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25DB-B90C-494A-AF91-0FA83DA5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550A-1AC0-4A64-A601-7C2283DE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3C23-8BFA-4DD3-8AE2-6BD9F726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B2B7-A28A-4048-ACD8-1E29E3BB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2680" y="3805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B526-DCC7-4B02-8C89-EE446683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2619-DDAF-4222-9F98-E5D0EB14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508-FCD1-406D-8649-31EA42E3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72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4156-046B-4C1D-94E1-E75F6F6A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1F45-E25C-4B9C-9AA6-A1E4FD2F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268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01CF-BEF2-44F0-ACDD-A39407BC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72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34D6-96F7-4CB8-9414-70A63462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680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268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680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4D53-FAA4-4F31-930C-88D66F98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84B-6A96-4124-9397-D368F156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09C-130C-40F9-85B7-3CCA1233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F4D-BC94-4B07-B8DA-4A2DD9D5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3805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5F2-C4FB-4904-83AA-FB8E4628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1EA-6DF0-4FC9-A0D6-0B5EAAE3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053-9BBB-4A10-A67D-61A7FEC3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94E-0B15-4CEC-9EFC-551640F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462B6C-1CB5-4D70-A6A1-0F36C5A007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2AB03C-51A5-497D-8FAB-DE092505BC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251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Service Hands-On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assia Spirid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w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ameComponent[] aName = new NameComponent[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Name[0] = new NameCompone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Name[0].id = “a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Name[0].kind = “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, more concise w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ameComponent[] aName = new NameComponent[]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ew NameComponent(“a”, “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asic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se O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B orb = ORB.init(args, new Properties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naming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bject obj = orb.resolve_initial_references(“NameServic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ingContext nc = NamingContextHelper.narrow(obj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ve a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eComponent[] hName = new NameComponent[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 new NameComponent(“Hello”,“ ”)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bj = nc.resolve(h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llo h = HelloHelper.narrow(obj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a method of th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h.get_text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asic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84200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se ORB and BO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B orb = ORB.init(args, new Properties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OA boa = orb.BOA_init(args, new Properties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elloImpl h = new HelloImp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naming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bject obj = orb.resolve_initial_references(“NameServic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ingContext nc = NamingContextHelper.narrow(obj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 the implementation with a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eComponent[] hName = new NameComponent[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 new NameComponent(“Hello”,“ ”)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y { nc.unbind(hName); } catch (Exception e) 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c.bind(hName, 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oa.impl_is_ready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Binding (ex.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20840" y="25146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312732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0840" y="38988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28195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46320" y="1905120"/>
            <a:ext cx="709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amingContext n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ameComponent[] aName = new NameComponent[]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 new NameComponent(“a”,“ ”)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ry { nc.unbind(aName)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(Exception e) 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c.bind_new_context(a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Binding (ex.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6320" y="1905120"/>
            <a:ext cx="709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amingContext n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ameComponent[] aName = new NameComponent[]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 new NameComponent(“a”,“ ”)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ry { nc.unbind(aName)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(Exception e) 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c.bind_new_context(a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ameComponent[] o1Name = new NameComponent[]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aName[0], new NameComponent(“o1”, “”)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ry { nc.unbind(o1Name)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(Exception e) 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c.bind(o1Name, o1Objec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20840" y="25146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12732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20840" y="3898800"/>
            <a:ext cx="23328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28195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28080" y="45752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5240" y="5346720"/>
            <a:ext cx="23328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17680" y="42670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lient that Lists Bi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se O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B orb = ORB.init(args, new Properties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naming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bject obj = orb.resolve_initial_references(“NameServic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ingContext nc = NamingContextHelper.narrow(obj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Bind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Binding(nc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ing Bi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67616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tic void printBinding(NamingContext nc, int leve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Get a list of bindin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indingListHolder bl = new BindingListHold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indingIteratorHolder bi = new BindingIteratorHold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c.list(999999, bl, b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Print bindin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(int k=0; k&lt;bl.value.length; k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inding b = bl.value[k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Print binding id, ki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 (int i=0; i&lt;b.binding_name.length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dent(leve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(b.binding_name[i].id + “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+ b.binding_name[i].ki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Print binding typ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If a naming context, call printBinding recursive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sting Binding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Print binding typ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 If a naming context, call printBinding recursive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witch (b.binding_type.value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ase BindingType._n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“ (object)”); 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ase BindingType._ncontex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“ (context)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bject obj = nc.resolve(b.binding_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ingContext newNC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amingContextHelper.narrow(obj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Binding(newNC, level+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0T11:13:30Z</dcterms:created>
  <dc:creator>Industry Support Program</dc:creator>
  <dc:description/>
  <dc:language>en-US</dc:language>
  <cp:lastModifiedBy>atoke.inf.elte.hu</cp:lastModifiedBy>
  <cp:lastPrinted>2000-01-13T15:54:08Z</cp:lastPrinted>
  <dcterms:modified xsi:type="dcterms:W3CDTF">2005-02-20T15:28:28Z</dcterms:modified>
  <cp:revision>114</cp:revision>
  <dc:subject/>
  <dc:title>Naming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ebi.ac.uk/~spiridou</vt:lpwstr>
  </property>
  <property fmtid="{D5CDD505-2E9C-101B-9397-08002B2CF9AE}" pid="9" name="LinkColor">
    <vt:r8>16711782</vt:r8>
  </property>
  <property fmtid="{D5CDD505-2E9C-101B-9397-08002B2CF9AE}" pid="10" name="MailAddress">
    <vt:lpwstr>spiridou@ebi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Users\senger\ws-corba\html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