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200003 BioStandards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8DB-D89B-4E1B-AA46-783F1499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954960"/>
            <a:ext cx="6934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95E-A8BF-4C90-8A01-FA293C0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9549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9549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2FC-0637-4805-9C70-D46D1881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14475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14475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9549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9549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954960"/>
            <a:ext cx="2232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7B-4B33-4CB4-8CC1-945C7249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4C9-090C-4DC8-9061-B156C625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168-F21C-40BC-89A0-D1CA72B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8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1447560"/>
            <a:ext cx="338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AAD-6737-44BC-B186-C5251BF9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3AA-6322-49DA-9A23-08DA3E2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533520"/>
            <a:ext cx="69343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037-F2F6-4BAF-98AE-2CF3E6A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1447560"/>
            <a:ext cx="338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9549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D41-75A8-40CD-9642-97BE928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8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9549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C5A-EA36-4D81-BDBA-ADD22DC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1447560"/>
            <a:ext cx="3383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954960"/>
            <a:ext cx="6934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DBD-0877-4D42-838A-BCF4A10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3241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B46-B0C4-4F6C-BA55-E0AE2579F509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bi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l/CORB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wan Birne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BL-EBI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ownsides…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RBit is portable but needs a full GNU set up to compile. Can be painful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file IDL definition can get annoying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Perl a good server side language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ird memory performanc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 threads (that work properly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al Code - ID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67652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 mymodu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face My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al Code - Clien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CORBA::ORBit( myidl.id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orb = CORBA::ORB_init(“orbit-local-orb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ior from a file or a 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object = $orb-&gt;string_to_object($i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“Name is”,$object-&gt;name,”\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al code – Server Objec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44792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CORBA::ORBit idl =&gt; [ ‘myidl.idl’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erver init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MySer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SA(‘POA_mymodule::MyObject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rmal ‘new’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n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“ewa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al Code – Server scrip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752480"/>
            <a:ext cx="8305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CORBA::ORBit idl =&gt; [ ‘myidl.idl’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MyObje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obj = MyObject-&gt;ne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orb = CORBA::ORB_init(“orbit-local-orb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root_poa = $orb-&gt;resolve_intial_references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tPOA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id = $root_poa-&gt;activate_object($ob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root_poa-&gt;get_the_POAManager-&gt;activa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orb-&gt;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81480" y="4952880"/>
            <a:ext cx="373392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600200"/>
            <a:ext cx="32004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0"/>
            <a:ext cx="3353040" cy="28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3352680"/>
            <a:ext cx="1771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per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943600" y="20574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pyth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72200" y="533412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J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505320"/>
            <a:ext cx="2819160" cy="990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19720" y="3657600"/>
            <a:ext cx="222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corb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1464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94360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956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15000" y="44956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servative Objec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just sequneces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servative Technolog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RBA 2.2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asy-to-implement, but less gai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 vs BSA-OMG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rying to solve different problem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iocorba – bioperl biopython biojava interope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SA-OMG – Enterprise wide inter-vendor interope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 implementat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 fully featured Bioperl server and client mod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iopython serve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io java servers and clien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ioperl server by Jason Staitch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 mode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ple reference counting memory model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 types of sequ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just the sequence”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quence with nam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quence with names and featur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quence databas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l and CORBA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39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er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osely type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ird syntax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acker’s languag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ominant language in bioinformatic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rongly type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andard syntax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ngineer’s languag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ble to drastically reduce developmen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14800" y="5410080"/>
            <a:ext cx="4800600" cy="685800"/>
          </a:xfrm>
          <a:prstGeom prst="rect">
            <a:avLst/>
          </a:prstGeom>
          <a:solidFill>
            <a:srgbClr val="d55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5257800" cy="7617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809880"/>
            <a:ext cx="59436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iocorba architec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19461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66560" y="274320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perl “stub”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biocorba look like bio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3240" y="377496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orba Client Per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3160" y="480060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orba Server Per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87520" y="541008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Corba wrapper for bioper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3440" y="606096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perl server sid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81000" y="27846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perl-corba-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2760" y="556272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perl-corba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RBA use in the futur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way Ensembl is aiming to handle the “multi-language problem”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 do not believe that CORBA scales across WANs. We think of CORBA as ‘X’ for Objec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RBA in Ensembl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Apollo project uses a CORBA database (currently CORBA::ORBit)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nsembl is likely to use CORBA for Java servers to Perl client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RBA now plays well with Per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ast development, ideal client co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llows hard core object people to interact well with hacker-bioinformaticia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erl ORB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LU bindings (don’t work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PE, Pure perl (needs another ORB running, nasty to ru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RBA::ORBit (clean, easy to ru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pile time languag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14800" y="1905120"/>
            <a:ext cx="83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809880"/>
            <a:ext cx="2057400" cy="1600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809880"/>
            <a:ext cx="2057400" cy="1600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00200" y="4191120"/>
            <a:ext cx="141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u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48520" y="41911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ke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38280" y="289548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715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800" y="5562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4191120"/>
            <a:ext cx="1904760" cy="761760"/>
          </a:xfrm>
          <a:prstGeom prst="leftRightArrow">
            <a:avLst>
              <a:gd name="adj1" fmla="val 50000"/>
              <a:gd name="adj2" fmla="val 49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un time languages, the CORBA wa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495680"/>
            <a:ext cx="175284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67080" y="4800600"/>
            <a:ext cx="5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0" y="5562720"/>
            <a:ext cx="83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205740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057400"/>
            <a:ext cx="205740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65760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257800" y="36576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1184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588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438280"/>
            <a:ext cx="1904760" cy="762120"/>
          </a:xfrm>
          <a:prstGeom prst="leftRightArrow">
            <a:avLst>
              <a:gd name="adj1" fmla="val 50000"/>
              <a:gd name="adj2" fmla="val 4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333760" y="5486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7920" y="2514600"/>
            <a:ext cx="146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324480" y="24382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RBA run-tim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ean architectur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asy for develop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noying in real life as you need an ORB with an Interface Repository to do anything (!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RBA::ORBit Run-tim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0" y="4952880"/>
            <a:ext cx="838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057400"/>
            <a:ext cx="205740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057400"/>
            <a:ext cx="205740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438280"/>
            <a:ext cx="1904760" cy="762120"/>
          </a:xfrm>
          <a:prstGeom prst="leftRightArrow">
            <a:avLst>
              <a:gd name="adj1" fmla="val 50000"/>
              <a:gd name="adj2" fmla="val 4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2514600"/>
            <a:ext cx="146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24480" y="24382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28800" y="4952880"/>
            <a:ext cx="838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D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286360" y="4114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880" y="4114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RBA::ORBi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ritten by Owen Taylor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ell tested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es not use the DII, but direct bindings to ORBit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vailable on CPA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ther ORBit benefit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Very portable. C and GNU tools based.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ctive development. ORB used by GNOME projec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C bindings can do in-process calls very fast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ne of the fastest “production” ORB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1:58:47Z</dcterms:created>
  <dc:creator>Tim Hubbard</dc:creator>
  <dc:description/>
  <dc:language>en-US</dc:language>
  <cp:lastModifiedBy>Martin Senger</cp:lastModifiedBy>
  <dcterms:modified xsi:type="dcterms:W3CDTF">2000-06-22T16:34:54Z</dcterms:modified>
  <cp:revision>56</cp:revision>
  <dc:subject/>
  <dc:title>Ensemb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ebi.ac.uk/~birney</vt:lpwstr>
  </property>
  <property fmtid="{D5CDD505-2E9C-101B-9397-08002B2CF9AE}" pid="9" name="LinkColor">
    <vt:r8>16711782</vt:r8>
  </property>
  <property fmtid="{D5CDD505-2E9C-101B-9397-08002B2CF9AE}" pid="10" name="MailAddress">
    <vt:lpwstr>birney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