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19000" y="4708440"/>
            <a:ext cx="5105520" cy="4168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058760" y="863640"/>
            <a:ext cx="46260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1800" y="9487440"/>
            <a:ext cx="10576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B1AC11-899B-4A27-B2EC-D57456B72ACC}" type="slidenum">
              <a:rPr b="0" lang="en-GB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74640" y="2538360"/>
            <a:ext cx="5516640" cy="662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ome background about the formation of the group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med in 1989 as a non-profit US company, with representation around the worl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mall staff requirements due to the lack of internal software development staff (not involved in building or selling software)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Object World Corporation subsidiary helps evangelize object technology through shows, conferences, market studies, semin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2384280" y="619200"/>
            <a:ext cx="1978200" cy="148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74640" y="2538360"/>
            <a:ext cx="5516640" cy="662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t is confusing that OMG publishes “standards,” but never gets involved in the creation, selling or re-selling of software.  This is accomplished via a competitive selection process based on proposals generated outside the OMG. 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Interface documents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are published by the OMG giving the standard interface;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implementations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of those specifications are available from other companies,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the OM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st importantly, though interfaces are chosen from industrial proposals in a competitive process, the interface and its future evolution remain under the control of the OMG, and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the company which originally made the proposal.  Interfaces may be freely used by anyone (member or non-member) without any royalty or license payments to any part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2384280" y="619200"/>
            <a:ext cx="1978200" cy="1484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648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856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648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856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418680"/>
            <a:ext cx="76960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209520"/>
              <a:ext cx="1525680" cy="1525680"/>
              <a:chOff x="39996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120" y="6486480"/>
            <a:ext cx="203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ORBA: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RBA Programming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52578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1840" y="2779560"/>
            <a:ext cx="3998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s eas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1400" y="3352680"/>
            <a:ext cx="437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know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3240" y="3886200"/>
            <a:ext cx="445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bjec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Example: HelloWorld.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3659040" cy="1904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module Tutorial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c0128"/>
                </a:solidFill>
                <a:latin typeface="Courier New"/>
              </a:rPr>
              <a:t>interface HelloWorl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 get_tex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21000" y="2152800"/>
            <a:ext cx="4292640" cy="2251440"/>
            <a:chOff x="4221000" y="2152800"/>
            <a:chExt cx="4292640" cy="2251440"/>
          </a:xfrm>
        </p:grpSpPr>
        <p:sp>
          <p:nvSpPr>
            <p:cNvPr id="107" name=""/>
            <p:cNvSpPr/>
            <p:nvPr/>
          </p:nvSpPr>
          <p:spPr>
            <a:xfrm>
              <a:off x="5629320" y="2152800"/>
              <a:ext cx="2884320" cy="22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ule defines a naming contex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ames from this module used outside this module must be referenced as (for example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utorial1::HelloWor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1000" y="232092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33240" y="2819520"/>
            <a:ext cx="3517920" cy="3369600"/>
            <a:chOff x="633240" y="2819520"/>
            <a:chExt cx="3517920" cy="3369600"/>
          </a:xfrm>
        </p:grpSpPr>
        <p:sp>
          <p:nvSpPr>
            <p:cNvPr id="110" name=""/>
            <p:cNvSpPr/>
            <p:nvPr/>
          </p:nvSpPr>
          <p:spPr>
            <a:xfrm>
              <a:off x="633240" y="4751280"/>
              <a:ext cx="351792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face defines a CORBA object (class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hese objects are available for clients and are implemented by a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44200" y="2819520"/>
              <a:ext cx="63180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70360" y="3352680"/>
            <a:ext cx="4643280" cy="2593080"/>
            <a:chOff x="3870360" y="3352680"/>
            <a:chExt cx="4643280" cy="2593080"/>
          </a:xfrm>
        </p:grpSpPr>
        <p:sp>
          <p:nvSpPr>
            <p:cNvPr id="113" name=""/>
            <p:cNvSpPr/>
            <p:nvPr/>
          </p:nvSpPr>
          <p:spPr>
            <a:xfrm>
              <a:off x="5557680" y="4751280"/>
              <a:ext cx="29559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n available metho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ethods are called by clients to fulfill their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70360" y="3352680"/>
              <a:ext cx="161748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Example: SeqInfo.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95560" y="2133720"/>
            <a:ext cx="6122880" cy="2286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module Tutorial2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c0128"/>
                </a:solidFill>
                <a:latin typeface="Courier New"/>
              </a:rPr>
              <a:t>interface SeqInf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exists(in string access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ng length (in string access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21000" y="3581280"/>
            <a:ext cx="4503960" cy="2365560"/>
            <a:chOff x="4221000" y="3581280"/>
            <a:chExt cx="4503960" cy="2365560"/>
          </a:xfrm>
        </p:grpSpPr>
        <p:sp>
          <p:nvSpPr>
            <p:cNvPr id="118" name=""/>
            <p:cNvSpPr/>
            <p:nvPr/>
          </p:nvSpPr>
          <p:spPr>
            <a:xfrm>
              <a:off x="5065560" y="4995720"/>
              <a:ext cx="36594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ethod parameter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hey can be of types </a:t>
              </a: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</a:rPr>
                <a:t>in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</a:rPr>
                <a:t>out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</a:rPr>
                <a:t>in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1000" y="3581280"/>
              <a:ext cx="912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61960" y="3581280"/>
            <a:ext cx="3659040" cy="2608920"/>
            <a:chOff x="561960" y="3581280"/>
            <a:chExt cx="3659040" cy="2608920"/>
          </a:xfrm>
        </p:grpSpPr>
        <p:sp>
          <p:nvSpPr>
            <p:cNvPr id="121" name=""/>
            <p:cNvSpPr/>
            <p:nvPr/>
          </p:nvSpPr>
          <p:spPr>
            <a:xfrm>
              <a:off x="561960" y="4995720"/>
              <a:ext cx="365904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ethod return valu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hey can be of any data type, that means that </a:t>
              </a: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</a:rPr>
                <a:t>also object reference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can be returned 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914040" y="3581280"/>
              <a:ext cx="140796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Example: SeqDB.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095200"/>
            <a:ext cx="5651640" cy="42289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module Tutorial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ruct Seq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ring acc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ring 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tring bio_se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ception InvalidAccess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interface SeqDB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qStruct get(in string acc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ises (InvalidAccess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14720" y="2362320"/>
            <a:ext cx="4710240" cy="1194480"/>
            <a:chOff x="4014720" y="2362320"/>
            <a:chExt cx="4710240" cy="1194480"/>
          </a:xfrm>
        </p:grpSpPr>
        <p:sp>
          <p:nvSpPr>
            <p:cNvPr id="126" name=""/>
            <p:cNvSpPr/>
            <p:nvPr/>
          </p:nvSpPr>
          <p:spPr>
            <a:xfrm>
              <a:off x="6472080" y="2362320"/>
              <a:ext cx="2252880" cy="119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ser-defined structur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ne way how to define user data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14720" y="2552760"/>
              <a:ext cx="2462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995720" y="4038480"/>
            <a:ext cx="3940200" cy="1986120"/>
            <a:chOff x="4995720" y="4038480"/>
            <a:chExt cx="3940200" cy="1986120"/>
          </a:xfrm>
        </p:grpSpPr>
        <p:sp>
          <p:nvSpPr>
            <p:cNvPr id="129" name=""/>
            <p:cNvSpPr/>
            <p:nvPr/>
          </p:nvSpPr>
          <p:spPr>
            <a:xfrm>
              <a:off x="6472080" y="4343400"/>
              <a:ext cx="2463840" cy="168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e methods can raise the exceptio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n exception must be first defined and then it can be used in method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5720" y="4038480"/>
              <a:ext cx="14763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979960" y="4647960"/>
              <a:ext cx="4921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Example: SeqFactory.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095560"/>
            <a:ext cx="5934240" cy="40766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module Tutorial4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ception InvalidAccess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interface Seq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adonly attribute string acc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adonly attribute string 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adonly attribute string bio_se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remov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interface SeqFacto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q create(in string acc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ises (InvalidAccess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589200" y="1828800"/>
            <a:ext cx="5416560" cy="2538360"/>
            <a:chOff x="3589200" y="1828800"/>
            <a:chExt cx="5416560" cy="2538360"/>
          </a:xfrm>
        </p:grpSpPr>
        <p:sp>
          <p:nvSpPr>
            <p:cNvPr id="135" name=""/>
            <p:cNvSpPr/>
            <p:nvPr/>
          </p:nvSpPr>
          <p:spPr>
            <a:xfrm>
              <a:off x="6613560" y="1828800"/>
              <a:ext cx="2392200" cy="253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e methods can be defined as attribut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t is just another way how to define one or two methods (for </a:t>
              </a: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</a:rPr>
                <a:t>setting and getting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value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n attribute can be </a:t>
              </a: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</a:rPr>
                <a:t>readon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589200" y="2285640"/>
              <a:ext cx="28828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f course, IDL is more...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[multiple]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unions, enumerations, constants,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operations have input &amp; output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compiler dir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objects b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L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&lt;=&gt; Language Mapping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034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L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dependent (!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ed-to-know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IDL looks when compiled to your language of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s for mapping are better and better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79f"/>
                </a:solidFill>
                <a:latin typeface="Times New Roman"/>
              </a:rPr>
              <a:t>Mapping to Java: 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Hello World</a:t>
            </a:r>
            <a:r>
              <a:rPr b="0" i="1" lang="en-US" sz="3600" spc="-1" strike="noStrike">
                <a:solidFill>
                  <a:srgbClr val="00279f"/>
                </a:solidFill>
                <a:latin typeface="Times New Roman"/>
              </a:rPr>
              <a:t> example</a:t>
            </a:r>
            <a:endParaRPr b="0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5400" y="1980720"/>
            <a:ext cx="66117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erface HelloWorl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ring get_t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Courier New"/>
              </a:rPr>
              <a:t>public interface HelloWorld extends org.omg.CORBA.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279f"/>
                </a:solidFill>
                <a:latin typeface="Courier New"/>
              </a:rPr>
              <a:t>public String get_t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16200000">
            <a:off x="4130640" y="3195720"/>
            <a:ext cx="673200" cy="10411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13720" y="2971800"/>
            <a:ext cx="25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jidl, idl2java, idl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34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Referenc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http://www.omg.org/library/specind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CORBA/IIOP 2.2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document: formal/98-02-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 3: OMG IDL Syntax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 24: Mapping OMG IDL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http://www.acl.lang.gov/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s to CORBA and OMG informatio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industry.ebi.ac.uk/~senger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-Java mapp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What you need to start...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278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Bacus (http://www.ooc.c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Bit (http://www.labs.redhat.com/or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niORB2 (http://www.uk.research.att.com/omniORB/omniORB.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o (http://www.mic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any more: OAK, COOL ORB, ILU, Arachme, TAO, Electra, COPE, JacORB, Jorba, CORBAPlus, JavaIDL, Jyhu, Fnorb, ROBIN, DOME, Bionic Buffal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om http://linas.org/linux/corba.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to forget commercial ORBs: Orbix, OrbixWeb, VisiBroke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describing you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2133720"/>
            <a:ext cx="7010640" cy="4101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How to code HelloWorld - clien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227952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org.omg.CORBA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RB orb 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ORB.in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s, prop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Courier New"/>
              </a:rPr>
              <a:t>String strObj = findObjRef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rg.omg.CORBA.Object obj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</a:rPr>
              <a:t>orb.string_to_objec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(strOb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elloWorld h =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</a:rPr>
              <a:t>HelloWorldHelper.narrow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(ob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 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h.get_text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What to expec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&amp; OM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IDL in a distributed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need to write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special for my plat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28880" y="1066680"/>
            <a:ext cx="1828800" cy="762120"/>
          </a:xfrm>
          <a:prstGeom prst="wedgeEllipseCallout">
            <a:avLst>
              <a:gd name="adj1" fmla="val -66027"/>
              <a:gd name="adj2" fmla="val 1091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92640" y="1676520"/>
            <a:ext cx="1828800" cy="761760"/>
          </a:xfrm>
          <a:prstGeom prst="wedgeEllipseCallout">
            <a:avLst>
              <a:gd name="adj1" fmla="val -66027"/>
              <a:gd name="adj2" fmla="val 1091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4600" y="2286000"/>
            <a:ext cx="1828800" cy="762120"/>
          </a:xfrm>
          <a:prstGeom prst="wedgeEllipseCallout">
            <a:avLst>
              <a:gd name="adj1" fmla="val -66027"/>
              <a:gd name="adj2" fmla="val 1091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36760" y="3581280"/>
            <a:ext cx="1828800" cy="762120"/>
          </a:xfrm>
          <a:prstGeom prst="wedgeEllipseCallout">
            <a:avLst>
              <a:gd name="adj1" fmla="val -81412"/>
              <a:gd name="adj2" fmla="val 191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92640" y="4876920"/>
            <a:ext cx="1828800" cy="761760"/>
          </a:xfrm>
          <a:prstGeom prst="wedgeEllipseCallout">
            <a:avLst>
              <a:gd name="adj1" fmla="val -62180"/>
              <a:gd name="adj2" fmla="val -708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od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9360" y="2063880"/>
            <a:ext cx="3949560" cy="4101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240" y="2063880"/>
            <a:ext cx="3949920" cy="4101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How to code </a:t>
            </a:r>
            <a:r>
              <a:rPr b="0" lang="en-GB" sz="4400" spc="-1" strike="noStrike">
                <a:solidFill>
                  <a:srgbClr val="00279f"/>
                </a:solidFill>
                <a:latin typeface="Times New Roman"/>
              </a:rPr>
              <a:t>HelloWorld</a:t>
            </a: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 - server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40114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org.omg.CORBA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RB orb 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ORB.in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s, prop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A boa =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orb.BOA_in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s, prop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elloWorldImpl hw = new HelloWorldImp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boa.impl_is_read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500800" y="4320720"/>
            <a:ext cx="2952720" cy="135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 get_text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3320" y="1579680"/>
            <a:ext cx="391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imes New Roman"/>
              </a:rPr>
              <a:t>class HelloWorl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1579680"/>
            <a:ext cx="391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imes New Roman"/>
              </a:rPr>
              <a:t>class HelloWorld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78240" y="2190600"/>
            <a:ext cx="2471760" cy="177192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78960" y="3660840"/>
            <a:ext cx="120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279f"/>
                </a:solidFill>
                <a:latin typeface="Book Antiqua"/>
              </a:rPr>
              <a:t>instant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26040" y="2292480"/>
            <a:ext cx="2654280" cy="1815840"/>
            <a:chOff x="6026040" y="2292480"/>
            <a:chExt cx="2654280" cy="1815840"/>
          </a:xfrm>
        </p:grpSpPr>
        <p:sp>
          <p:nvSpPr>
            <p:cNvPr id="162" name=""/>
            <p:cNvSpPr/>
            <p:nvPr/>
          </p:nvSpPr>
          <p:spPr>
            <a:xfrm>
              <a:off x="6026040" y="2292480"/>
              <a:ext cx="2654280" cy="1815840"/>
            </a:xfrm>
            <a:custGeom>
              <a:avLst/>
              <a:gdLst>
                <a:gd name="textAreaLeft" fmla="*/ 98280 w 2654280"/>
                <a:gd name="textAreaRight" fmla="*/ 2556000 w 2654280"/>
                <a:gd name="textAreaTop" fmla="*/ 66960 h 1815840"/>
                <a:gd name="textAreaBottom" fmla="*/ 145008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03160" y="2463840"/>
              <a:ext cx="23788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Times New Roman"/>
                </a:rPr>
                <a:t>Hi, I am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Times New Roman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Times New Roman"/>
                </a:rPr>
                <a:t>of the famous word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25440" y="4197240"/>
            <a:ext cx="7074000" cy="1974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64280" y="4425840"/>
            <a:ext cx="2730240" cy="1359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30360" y="4425840"/>
            <a:ext cx="2730600" cy="1359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12720" y="4475160"/>
            <a:ext cx="275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6680" y="2978280"/>
            <a:ext cx="2425680" cy="596880"/>
            <a:chOff x="1606680" y="2978280"/>
            <a:chExt cx="2425680" cy="596880"/>
          </a:xfrm>
        </p:grpSpPr>
        <p:sp>
          <p:nvSpPr>
            <p:cNvPr id="169" name=""/>
            <p:cNvSpPr/>
            <p:nvPr/>
          </p:nvSpPr>
          <p:spPr>
            <a:xfrm>
              <a:off x="1606680" y="2978280"/>
              <a:ext cx="2425680" cy="5968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65600" y="3027600"/>
              <a:ext cx="163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HelloWor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06680" y="1530360"/>
            <a:ext cx="2425680" cy="596880"/>
            <a:chOff x="1606680" y="1530360"/>
            <a:chExt cx="2425680" cy="596880"/>
          </a:xfrm>
        </p:grpSpPr>
        <p:sp>
          <p:nvSpPr>
            <p:cNvPr id="172" name=""/>
            <p:cNvSpPr/>
            <p:nvPr/>
          </p:nvSpPr>
          <p:spPr>
            <a:xfrm>
              <a:off x="1606680" y="1530360"/>
              <a:ext cx="2425680" cy="5968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39880" y="1579320"/>
              <a:ext cx="2118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.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264280" y="1530360"/>
            <a:ext cx="2875680" cy="596880"/>
            <a:chOff x="5264280" y="1530360"/>
            <a:chExt cx="2875680" cy="596880"/>
          </a:xfrm>
        </p:grpSpPr>
        <p:sp>
          <p:nvSpPr>
            <p:cNvPr id="175" name=""/>
            <p:cNvSpPr/>
            <p:nvPr/>
          </p:nvSpPr>
          <p:spPr>
            <a:xfrm>
              <a:off x="5264280" y="1530360"/>
              <a:ext cx="273096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2720" y="1579320"/>
              <a:ext cx="266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BA.&lt;skeleton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64280" y="2978280"/>
            <a:ext cx="2730240" cy="596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5880" y="3079800"/>
            <a:ext cx="250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HelloWorldImpl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4475160"/>
            <a:ext cx="221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loWorld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8840" y="489420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7800" y="4894200"/>
            <a:ext cx="124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get_tex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146320"/>
            <a:ext cx="0" cy="812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146320"/>
            <a:ext cx="0" cy="812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594240"/>
            <a:ext cx="0" cy="812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9640" y="327672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03840" y="5105520"/>
            <a:ext cx="17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9400" y="3827520"/>
            <a:ext cx="73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19400" y="2455920"/>
            <a:ext cx="73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31760" y="2455920"/>
            <a:ext cx="73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370320"/>
            <a:ext cx="102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7960" y="5199120"/>
            <a:ext cx="1030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279f"/>
                </a:solidFill>
                <a:latin typeface="Times New Roman"/>
              </a:rPr>
              <a:t>instant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640" y="222120"/>
            <a:ext cx="7022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ello World</a:t>
            </a: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 server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ever…what about “delegation”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ie mechan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ers an alter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heritance from skeleton classe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legator 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elegates all calls to your re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defines all methods to be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L compiler must suppor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ange for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Using skeletons - inheritanc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9840" y="1911240"/>
            <a:ext cx="2197080" cy="978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83040" y="1911240"/>
            <a:ext cx="2197080" cy="978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BA.&lt;skelet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5480" y="3511440"/>
            <a:ext cx="2197080" cy="978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35480" y="5111640"/>
            <a:ext cx="2197080" cy="978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70200" y="300348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84400" y="460368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2760" y="3003480"/>
            <a:ext cx="138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4425840" y="4654440"/>
            <a:ext cx="292320" cy="2923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035320" y="3054240"/>
            <a:ext cx="292320" cy="291960"/>
          </a:xfrm>
          <a:prstGeom prst="rightArrow">
            <a:avLst>
              <a:gd name="adj1" fmla="val 75000"/>
              <a:gd name="adj2" fmla="val 50066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816000" y="3054240"/>
            <a:ext cx="292320" cy="291960"/>
          </a:xfrm>
          <a:prstGeom prst="rightArrow">
            <a:avLst>
              <a:gd name="adj1" fmla="val 75000"/>
              <a:gd name="adj2" fmla="val 50066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7360" y="2139840"/>
            <a:ext cx="1206360" cy="227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8960" y="2292480"/>
            <a:ext cx="291960" cy="2919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8960" y="3664080"/>
            <a:ext cx="291960" cy="2919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9920" y="3765600"/>
            <a:ext cx="99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map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920" y="2317680"/>
            <a:ext cx="99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map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48360" y="3733920"/>
            <a:ext cx="22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ant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67200" y="393228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419040"/>
            <a:ext cx="7696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Using skeletons - 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981080"/>
            <a:ext cx="76960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30760" y="1301760"/>
            <a:ext cx="1663560" cy="97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25640" y="2521080"/>
            <a:ext cx="1663920" cy="97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73760" y="2749680"/>
            <a:ext cx="1663560" cy="97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6760" y="1301760"/>
            <a:ext cx="1663560" cy="97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BA.&lt;skelet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3760" y="4273560"/>
            <a:ext cx="1663560" cy="2120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Ti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del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8960" y="4121280"/>
            <a:ext cx="1663560" cy="97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960" y="2521080"/>
            <a:ext cx="1663560" cy="97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978280" y="3663720"/>
            <a:ext cx="291960" cy="2919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911240" y="3663360"/>
            <a:ext cx="291960" cy="2923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6559560" y="3816000"/>
            <a:ext cx="291960" cy="2919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7169040" y="2368440"/>
            <a:ext cx="292320" cy="2923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5949720" y="2368440"/>
            <a:ext cx="292320" cy="291960"/>
          </a:xfrm>
          <a:prstGeom prst="rightArrow">
            <a:avLst>
              <a:gd name="adj1" fmla="val 75000"/>
              <a:gd name="adj2" fmla="val 50066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11640" y="375912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06680" y="360684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1480" y="231156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ext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480" y="3606840"/>
            <a:ext cx="138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2280" y="2311560"/>
            <a:ext cx="138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9f"/>
                </a:solidFill>
                <a:latin typeface="Times New Roman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6840" y="4876920"/>
            <a:ext cx="208260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0120" y="5638680"/>
            <a:ext cx="1752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is object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be reg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o repeat: CORBA Objec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ll defined interface (I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que 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platform communications architecture: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bject References/1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24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vs R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C: Client invokes a function on a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BA: Client invokes a method on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Reference serves a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81560"/>
            <a:ext cx="1969920" cy="144792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36880" y="5219640"/>
            <a:ext cx="210960" cy="2286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23200" y="5067360"/>
            <a:ext cx="904680" cy="520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51360" y="4343400"/>
            <a:ext cx="2322720" cy="144792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62680" y="5029200"/>
            <a:ext cx="563400" cy="609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62520" y="5029200"/>
            <a:ext cx="1316160" cy="520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0" idx="6"/>
            <a:endCxn id="243" idx="2"/>
          </p:cNvCxnSpPr>
          <p:nvPr/>
        </p:nvCxnSpPr>
        <p:spPr>
          <a:xfrm>
            <a:off x="3147480" y="5333760"/>
            <a:ext cx="28155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bject References/2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y denotes a particular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le object reference (I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from an object reference when a domain boundary is cro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ditional protocol information to support ORB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location transparency for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in OMG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Stringified IOR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Rs can be string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Rs can be published by Email, WWW,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B::object_to_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the external string form of an 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B::string_to_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an IOR from a stringified 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24360" y="5715000"/>
            <a:ext cx="666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R:000000000000002649444c3a454d424c2f4542492f4170704c61622f4f626a656374466163746f727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312e30000000000000010000000000000030000100000000000f3139332e36322e3139362e323533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100000000001000000000378303f40005c0a8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 to find serving objects/1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9810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ference from a return valu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7200" y="2789280"/>
            <a:ext cx="1963800" cy="1465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B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get_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52560" y="4419720"/>
            <a:ext cx="6553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how an application can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bootstr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 first object re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he main </a:t>
            </a: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buzzword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278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per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Object Request Brok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twork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Managemen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twork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Inter-Operability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Lifetime of Object referenc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reference encapsul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Acu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OA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Acu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OA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Acu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named servan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 to find serving objects/2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ified” object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nd stored by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ed and used by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o stor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file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(needs the same file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URL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(needs access by http, ftp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pplet parameters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(only for appl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Using files for storing a referenc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2240" y="2133720"/>
            <a:ext cx="7635960" cy="1465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f = orb.object_to_string (imp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.io.PrintWriter out = new PrintWriter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java.io.FileOutputStream (“object.ref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println (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flus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2240" y="4495680"/>
            <a:ext cx="7624800" cy="17398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.io.BufferedReader i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java.io.BufferedReader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FileReader (“object.ref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f = in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mg.org.CORBA.Object obj = orb.string_to_object (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BHelper.narrow (ob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4600" y="39625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55800" y="16002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Using URL for reading a referenc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362320"/>
            <a:ext cx="7624800" cy="3660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RL url = new URL (loca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RLConnection conn = url.openConnecti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feredReader in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BufferedReader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InputStreamReader (conn.getInputStream(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f = in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mg.org.CORBA.Object obj = orb.string_to_object (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BHelper.narrow (ob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0440" y="182880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 to find serving objects/3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fe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string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_to_object(IOR_st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object nam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d (object_name, hos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other ser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ing Service (CosNam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r Service (CosTr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4720" y="3805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TO: Writing a Clien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79000" y="177624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2120" y="1371600"/>
            <a:ext cx="4629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ise the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B orb = ORB.init(args, pro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an object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ior =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rt IOR to object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rg.omg.Object obj = orb.string_to_object(i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rrow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utorial1.HelloWorld h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w = Tutorial1.HelloWorldHelper.narrow(obj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ok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w.get_tex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800" y="1859040"/>
            <a:ext cx="3900600" cy="18162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4760" y="1981080"/>
            <a:ext cx="375120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Tutorial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HelloWorl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get_tex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27320" y="5394240"/>
            <a:ext cx="310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orial1.Hello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orial1.HelloWorldHel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70280" y="4443480"/>
            <a:ext cx="55224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9280" y="2081520"/>
            <a:ext cx="12657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0720" y="1472040"/>
            <a:ext cx="1263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TO: Building a Java Clien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2360" y="2359080"/>
            <a:ext cx="8097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ile the ID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dl xxx.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ile the Cli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c Clien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 the Clien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lient &lt;url&gt; [pa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8560" y="418680"/>
            <a:ext cx="7162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TO: Writing a server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1905120"/>
            <a:ext cx="6553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ize the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B orb = ORB.init(args, pro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ize B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A boa = orb.BOA_init(args, pro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CORBA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World hw = new HelloWor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 object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ior = orb.object_to_string(h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IOR to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it for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a.impl_is_ready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50960" y="609480"/>
            <a:ext cx="764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TO: Building a Java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286000"/>
            <a:ext cx="8097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ile the ID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dl xxx.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ile the Serve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c Server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 the Serve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rver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t the Client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lient &lt;url&gt; [para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7360" y="1981080"/>
            <a:ext cx="434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Factories/1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which create other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“one-entry-poi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bootstr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access control (security, load-balanc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ing different implementations depending on the criteria specified by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MG: Background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800 member organisations - world’s largest software consort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April 198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taff (30 full time); no interna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dicated to creating and popularizing object-oriented standards for application integration based on existing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t works! (Wel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Factories/2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me 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recovery is more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bjects needs more life-cycl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forget remove created objec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cide” or “crematoriu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stro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stroy (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outs, expiration time, pool of objec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elloWorld3.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08040" y="2244600"/>
            <a:ext cx="6124320" cy="314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ule Tutorial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HelloWorld3 : HelloWorld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way void destro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face HelloWorldFacto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World crea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Connecting object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ant must be connected to the object adap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object reference is passed to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object is used in object_to_string()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b.connect (imp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Disconnecting object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Java) needed for correct Reference 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b.disconnect (imp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Callback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becomes a server and sends an object reference to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en-US" sz="2000" spc="-1" strike="noStrike">
                <a:solidFill>
                  <a:srgbClr val="00279f"/>
                </a:solidFill>
                <a:latin typeface="Courier New"/>
              </a:rPr>
              <a:t>impl_is_ready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blockin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com.ooc.CORBA.BOA)boa).init_server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wait in a loop af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hreading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ep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OAthread_per_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must be written as “thread-sa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: Concurrenc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Applet as a CORBA client/server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Java functions do no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al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browser may have own O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startup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RB init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Applet Security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1905120"/>
            <a:ext cx="2322360" cy="3124080"/>
            <a:chOff x="1219320" y="1905120"/>
            <a:chExt cx="2322360" cy="3124080"/>
          </a:xfrm>
        </p:grpSpPr>
        <p:sp>
          <p:nvSpPr>
            <p:cNvPr id="303" name=""/>
            <p:cNvSpPr/>
            <p:nvPr/>
          </p:nvSpPr>
          <p:spPr>
            <a:xfrm>
              <a:off x="1219320" y="1905120"/>
              <a:ext cx="2322360" cy="3124080"/>
            </a:xfrm>
            <a:custGeom>
              <a:avLst/>
              <a:gdLst>
                <a:gd name="textAreaLeft" fmla="*/ 113040 w 2322360"/>
                <a:gd name="textAreaRight" fmla="*/ 2209320 w 2322360"/>
                <a:gd name="textAreaTop" fmla="*/ 113040 h 3124080"/>
                <a:gd name="textAreaBottom" fmla="*/ 3011040 h 3124080"/>
              </a:gdLst>
              <a:ahLst/>
              <a:rect l="textAreaLeft" t="textAreaTop" r="textAreaRight" b="textAreaBottom"/>
              <a:pathLst>
                <a:path w="21600" h="29056">
                  <a:moveTo>
                    <a:pt x="3600" y="0"/>
                  </a:moveTo>
                  <a:arcTo wR="3600" hR="3600" stAng="16200000" swAng="-5400000"/>
                  <a:lnTo>
                    <a:pt x="0" y="25456"/>
                  </a:lnTo>
                  <a:arcTo wR="3600" hR="3600" stAng="10800000" swAng="-5400000"/>
                  <a:lnTo>
                    <a:pt x="18000" y="290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WWW-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71040" y="3200400"/>
              <a:ext cx="1618560" cy="129492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477040" y="1523880"/>
            <a:ext cx="2954160" cy="26672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Ho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97520" y="2057400"/>
            <a:ext cx="2252880" cy="83808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27680" y="3124080"/>
            <a:ext cx="2322720" cy="91440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419720"/>
            <a:ext cx="2954160" cy="16761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Ho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21200" y="4952880"/>
            <a:ext cx="2284560" cy="914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6" idx="1"/>
            <a:endCxn id="304" idx="7"/>
          </p:cNvCxnSpPr>
          <p:nvPr/>
        </p:nvCxnSpPr>
        <p:spPr>
          <a:xfrm flipH="1">
            <a:off x="2952720" y="2476440"/>
            <a:ext cx="2945160" cy="913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4" idx="6"/>
            <a:endCxn id="307" idx="1"/>
          </p:cNvCxnSpPr>
          <p:nvPr/>
        </p:nvCxnSpPr>
        <p:spPr>
          <a:xfrm flipV="1">
            <a:off x="3188880" y="3580920"/>
            <a:ext cx="2639160" cy="267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"/>
          <p:cNvCxnSpPr>
            <a:stCxn id="304" idx="6"/>
            <a:endCxn id="309" idx="1"/>
          </p:cNvCxnSpPr>
          <p:nvPr/>
        </p:nvCxnSpPr>
        <p:spPr>
          <a:xfrm>
            <a:off x="3188880" y="3847680"/>
            <a:ext cx="2632320" cy="156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"/>
          <p:cNvSpPr/>
          <p:nvPr/>
        </p:nvSpPr>
        <p:spPr>
          <a:xfrm>
            <a:off x="4056480" y="453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2800" y="3733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Times New Roman"/>
              </a:rPr>
              <a:t>HOWTO: Writing a Client Applet/1</a:t>
            </a:r>
            <a:endParaRPr b="0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“parent” HT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it in the same plac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B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CORBA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it with applet-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it with browser without 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 of securit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Times New Roman"/>
              </a:rPr>
              <a:t>HOWTO: Writing a Client Applet/2</a:t>
            </a:r>
            <a:endParaRPr b="0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DB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pplet code=SeqDBApplet.class width=600 height=18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am name=url value=http://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DBApplet.jav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re only differ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ise OR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B orb=ORB.ini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, pro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Parameter from html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urlst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arameter(“url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Standards” availability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78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ve approach for selection of standard interfaces to ado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OMG adopts &amp; publish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nterface Implementations must be available commercially from OMG Corporate m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nterfaces freely available to members and non-members a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nterfaces chosen from existing products in competitive select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A reference in applet parameter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2362320"/>
            <a:ext cx="7624800" cy="1465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PPLET CODE=“Client.class” ARCHIVE=“OB.j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HT=300 HEIGHT=2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ARAM NAME=“ref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=“IOR:……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43800" y="18032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HTML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4832280"/>
            <a:ext cx="7624800" cy="14655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B orb = ORB.init (this, new java.util.Properties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f = getParameter (“ref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mg.org.CORBA.Object obj = orb.string_to_object (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BHelper.narrow (ob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0440" y="428004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Selecting an ORB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03200" y="2362320"/>
            <a:ext cx="5209920" cy="1313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g.omg.CORBA.ORBClas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.ooc.CORBA.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g.omg.CORBA.ORBSingletonClass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.ooc.CORBA.ORBSing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Further studying…/1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Invocation Interface (D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creation and invocation of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keleton interface (DS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ing a request from ORB to an implementation without having skele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sistent storage of interfac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ding, block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Further studying…/2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osed in the invocation (and response) path between a client and a target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Object Ad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Management of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(DynA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generated for the type has not been compiled with obje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activation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Inter-ORB Protocol (GI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69608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nternet Inter-ORB Protocol (IIOP)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f the GIOP to the TCP/IP network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how TCP/IP connections should be opened and used to transfer GIOP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2.0 compliant ORBs must support IIOP as the basic interoperabilit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685880" y="482760"/>
            <a:ext cx="5769720" cy="5883840"/>
            <a:chOff x="1685880" y="482760"/>
            <a:chExt cx="5769720" cy="5883840"/>
          </a:xfrm>
        </p:grpSpPr>
        <p:sp>
          <p:nvSpPr>
            <p:cNvPr id="69" name=""/>
            <p:cNvSpPr/>
            <p:nvPr/>
          </p:nvSpPr>
          <p:spPr>
            <a:xfrm>
              <a:off x="2262960" y="1069920"/>
              <a:ext cx="4617720" cy="470880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685880" y="482760"/>
              <a:ext cx="5769720" cy="5883840"/>
              <a:chOff x="1685880" y="482760"/>
              <a:chExt cx="5769720" cy="5883840"/>
            </a:xfrm>
          </p:grpSpPr>
          <p:sp>
            <p:nvSpPr>
              <p:cNvPr id="71" name=""/>
              <p:cNvSpPr/>
              <p:nvPr/>
            </p:nvSpPr>
            <p:spPr>
              <a:xfrm>
                <a:off x="4568040" y="482760"/>
                <a:ext cx="2887560" cy="294480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85880" y="482760"/>
                <a:ext cx="2887560" cy="294480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68040" y="3421800"/>
                <a:ext cx="2887560" cy="294480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85880" y="3421800"/>
                <a:ext cx="2887560" cy="294480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nterface Definition Languag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95560" y="2743200"/>
            <a:ext cx="68817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cornerstone of interoperability and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 I Really Need To Know I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Kindergart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66920" y="5105520"/>
            <a:ext cx="3723480" cy="909360"/>
            <a:chOff x="3166920" y="5105520"/>
            <a:chExt cx="3723480" cy="909360"/>
          </a:xfrm>
        </p:grpSpPr>
        <p:sp>
          <p:nvSpPr>
            <p:cNvPr id="78" name=""/>
            <p:cNvSpPr/>
            <p:nvPr/>
          </p:nvSpPr>
          <p:spPr>
            <a:xfrm flipV="1">
              <a:off x="3166920" y="5105520"/>
              <a:ext cx="25322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0360" y="5494320"/>
              <a:ext cx="29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cript"/>
                </a:rPr>
                <a:t>from interfa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What is the OMG 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nguage for expressing the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functionality and usa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Jon Sieg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...to the client or user, the interface represents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a promi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... to the object implementator, the interface represents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an oblig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MG IDL Basic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parates the interface from th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ly typed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specif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independ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y particular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fore language mapping(s)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arance but 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semantics of ANSI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inheritance, case-in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19040"/>
            <a:ext cx="15242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 to use IDL</a:t>
            </a:r>
            <a:br>
              <a:rPr sz="4400"/>
            </a:b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3680" y="463680"/>
            <a:ext cx="1436760" cy="82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OMG 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9680" y="1682640"/>
            <a:ext cx="2728800" cy="90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L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4560" y="3054240"/>
            <a:ext cx="2882880" cy="1511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02160" y="3054240"/>
            <a:ext cx="2882880" cy="1511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82640" y="3206880"/>
            <a:ext cx="1206720" cy="1206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40240" y="3206880"/>
            <a:ext cx="1130400" cy="1206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959360"/>
            <a:ext cx="2882880" cy="82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ready to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02160" y="4959360"/>
            <a:ext cx="2882880" cy="82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ready to 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9160" y="3282840"/>
            <a:ext cx="1587600" cy="1054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6200000">
            <a:off x="4006800" y="1339560"/>
            <a:ext cx="215640" cy="2923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996080" y="2635200"/>
            <a:ext cx="21600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6200000">
            <a:off x="3015000" y="2635200"/>
            <a:ext cx="21600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rot="16200000">
            <a:off x="5835600" y="4616280"/>
            <a:ext cx="216000" cy="2923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rot="16200000">
            <a:off x="2178000" y="4616280"/>
            <a:ext cx="216000" cy="2923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rot="19560000">
            <a:off x="5644800" y="2215800"/>
            <a:ext cx="977760" cy="368280"/>
          </a:xfrm>
          <a:prstGeom prst="rightArrow">
            <a:avLst>
              <a:gd name="adj1" fmla="val 50000"/>
              <a:gd name="adj2" fmla="val 132759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11400" y="1555920"/>
            <a:ext cx="1204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8520" y="4959360"/>
            <a:ext cx="523800" cy="368280"/>
          </a:xfrm>
          <a:prstGeom prst="rightArrow">
            <a:avLst>
              <a:gd name="adj1" fmla="val 75000"/>
              <a:gd name="adj2" fmla="val 7112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70520" y="5416560"/>
            <a:ext cx="522000" cy="368280"/>
          </a:xfrm>
          <a:prstGeom prst="rightArrow">
            <a:avLst>
              <a:gd name="adj1" fmla="val 75000"/>
              <a:gd name="adj2" fmla="val 70876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5T10:16:06Z</dcterms:created>
  <dc:creator>Martin Senger</dc:creator>
  <dc:description/>
  <cp:keywords/>
  <dc:language>en-US</dc:language>
  <cp:lastModifiedBy>atoke.inf.elte.hu</cp:lastModifiedBy>
  <cp:lastPrinted>1997-09-03T11:00:32Z</cp:lastPrinted>
  <dcterms:modified xsi:type="dcterms:W3CDTF">2005-02-20T15:25:26Z</dcterms:modified>
  <cp:revision>65</cp:revision>
  <dc:subject>CORBA Workshop</dc:subject>
  <dc:title>Interface Definition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>A presentation for a CORBA workshop,
organised by the European Bioinformatics Institute, U.K.</vt:lpwstr>
  </property>
  <property fmtid="{D5CDD505-2E9C-101B-9397-08002B2CF9AE}" pid="13" name="OutputDir">
    <vt:lpwstr>F:\Martin\talks\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