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240" y="6397560"/>
            <a:ext cx="7175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16501"/>
                </a:solidFill>
                <a:latin typeface="Times New Roman"/>
              </a:rPr>
              <a:t>EMBL Outstation - The European Bioinformatics Institute   -   http:/</a:t>
            </a:r>
            <a:r>
              <a:rPr b="0" lang="en-GB" sz="100" spc="-1" strike="noStrike">
                <a:solidFill>
                  <a:srgbClr val="316501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16501"/>
                </a:solidFill>
                <a:latin typeface="Times New Roman"/>
              </a:rPr>
              <a:t>/www.embl-ebi.ac.uk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591160"/>
            <a:ext cx="1017720" cy="12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 &amp; Data Modell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ping to ID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ricia Rodriguez-Tom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McN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MG 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lay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838080" y="2819520"/>
          <a:ext cx="7496280" cy="30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4962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MG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F: Meta Object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: Unified Model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 example of 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I: Xml Metadata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and exchanging of layer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F: representing models using 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a server a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ree top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semantics, 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data types describing user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, Association,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or generating IDL from a MOF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type mappings and na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G ‘standard’ for describing distributed objec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Object Analysis &amp; Design meta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facility for model interchange between OA&amp;D tools and metadata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instance of MOF layer 2 (meta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, sequence, state dia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and deployment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hat can translate model to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, C++, DDL, ID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tandard for textually representing M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models in particul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from 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DTDs for meta-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mportantly, the UML D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XML describing a us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hering to the D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odelling The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l elements to describe various aspects of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r requi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c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ynamic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lementation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ganise elements into semantically related groups (pack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cribe what a system should do, seen from the user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can be full text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 UML, use case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atic aspe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 diagram in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l the concepts and properties in the applicat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ynamic a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lustrate how objects interact by passing messages (sequence diagram in 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s representing the actors of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ssages sent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ation : show how long an object i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ersis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ssion-like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ase to exist when client disconnects or server cr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.g. Iterator, Window, Transaction, Query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sist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st regardless of servers or client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.g. Factories, Database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1219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can be persistent or trans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Talk wi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057400"/>
            <a:ext cx="5790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be a tutorial on object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be a tutorial on 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ersistent or Transi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rifies the data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osing IOR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 IORs stay the same after a server cras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s ‘ advertised ’ in a NamingServer or Trader should really be per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eptual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MBL Objec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144880" y="1852560"/>
            <a:ext cx="4852800" cy="3151080"/>
            <a:chOff x="2144880" y="1852560"/>
            <a:chExt cx="4852800" cy="3151080"/>
          </a:xfrm>
        </p:grpSpPr>
        <p:sp>
          <p:nvSpPr>
            <p:cNvPr id="465" name=""/>
            <p:cNvSpPr/>
            <p:nvPr/>
          </p:nvSpPr>
          <p:spPr>
            <a:xfrm>
              <a:off x="4143240" y="1995480"/>
              <a:ext cx="865440" cy="48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43240" y="1852560"/>
              <a:ext cx="351000" cy="14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71120" y="201312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52960" y="3259080"/>
              <a:ext cx="86364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52960" y="3116160"/>
              <a:ext cx="350640" cy="14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31520" y="3276720"/>
              <a:ext cx="56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quence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81240" y="1995480"/>
              <a:ext cx="863640" cy="48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81240" y="1852560"/>
              <a:ext cx="341280" cy="14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40360" y="2013120"/>
              <a:ext cx="58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onomy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44880" y="3268800"/>
              <a:ext cx="86508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44880" y="3124080"/>
              <a:ext cx="342720" cy="144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48280" y="3284640"/>
              <a:ext cx="50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ocation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70240" y="4514760"/>
              <a:ext cx="86544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70240" y="4371840"/>
              <a:ext cx="351000" cy="14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55640" y="4532400"/>
              <a:ext cx="576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 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32600" y="3276720"/>
              <a:ext cx="86508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2600" y="3133800"/>
              <a:ext cx="352440" cy="14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76040" y="329400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99560" y="363060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84600" y="2476440"/>
              <a:ext cx="1800" cy="639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584600" y="3014640"/>
              <a:ext cx="446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4539960" y="3014640"/>
              <a:ext cx="4428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4880" y="2197080"/>
              <a:ext cx="10983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044600" y="2197080"/>
              <a:ext cx="982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044600" y="2163240"/>
              <a:ext cx="982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009960" y="3503160"/>
              <a:ext cx="1143000" cy="9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052880" y="3503520"/>
              <a:ext cx="100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052880" y="3462480"/>
              <a:ext cx="100080" cy="4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594320" y="3747600"/>
              <a:ext cx="1440" cy="615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94320" y="3747960"/>
              <a:ext cx="44280" cy="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557600" y="3747960"/>
              <a:ext cx="36720" cy="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836640" y="1579680"/>
            <a:ext cx="7396560" cy="3698640"/>
            <a:chOff x="836640" y="1579680"/>
            <a:chExt cx="7396560" cy="3698640"/>
          </a:xfrm>
        </p:grpSpPr>
        <p:sp>
          <p:nvSpPr>
            <p:cNvPr id="498" name=""/>
            <p:cNvSpPr/>
            <p:nvPr/>
          </p:nvSpPr>
          <p:spPr>
            <a:xfrm>
              <a:off x="5815080" y="4662360"/>
              <a:ext cx="1944720" cy="455760"/>
            </a:xfrm>
            <a:custGeom>
              <a:avLst/>
              <a:gdLst/>
              <a:ahLst/>
              <a:rect l="l" t="t" r="r" b="b"/>
              <a:pathLst>
                <a:path w="216" h="54">
                  <a:moveTo>
                    <a:pt x="0" y="0"/>
                  </a:moveTo>
                  <a:lnTo>
                    <a:pt x="205" y="0"/>
                  </a:lnTo>
                  <a:lnTo>
                    <a:pt x="216" y="10"/>
                  </a:lnTo>
                  <a:lnTo>
                    <a:pt x="216" y="54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59720" y="4662360"/>
              <a:ext cx="100080" cy="84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0" y="10"/>
                  </a:lnTo>
                  <a:lnTo>
                    <a:pt x="1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61240" y="4678200"/>
              <a:ext cx="158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f this association is used to attach 'ownership'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65920" y="4780080"/>
              <a:ext cx="161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lags on features (i.e. the submission referenc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38840" y="4881600"/>
              <a:ext cx="1338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f the BioSeq 'owning' the feature), th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9360" y="4983120"/>
              <a:ext cx="1325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rdinality of references should be 1..*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6640" y="2432160"/>
              <a:ext cx="1557360" cy="1199880"/>
            </a:xfrm>
            <a:custGeom>
              <a:avLst/>
              <a:gdLst/>
              <a:ahLst/>
              <a:rect l="l" t="t" r="r" b="b"/>
              <a:pathLst>
                <a:path w="173" h="142">
                  <a:moveTo>
                    <a:pt x="0" y="0"/>
                  </a:moveTo>
                  <a:lnTo>
                    <a:pt x="162" y="0"/>
                  </a:lnTo>
                  <a:lnTo>
                    <a:pt x="173" y="11"/>
                  </a:lnTo>
                  <a:lnTo>
                    <a:pt x="173" y="142"/>
                  </a:ln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93920" y="2432160"/>
              <a:ext cx="100080" cy="93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11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61920" y="2449440"/>
              <a:ext cx="1232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is association may represent the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72640" y="2550960"/>
              <a:ext cx="1171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lationship between bioSeqs an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9040" y="2652840"/>
              <a:ext cx="1190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eatures as determined by EMBL'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39240" y="275256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notation policy (where th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71200" y="2854440"/>
              <a:ext cx="1252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rdinality of bioSeqs should be 1 at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69480" y="2955960"/>
              <a:ext cx="1172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 moment, but may become 1..*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54000" y="3057480"/>
              <a:ext cx="1113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pon introduction of constructe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54360" y="3159000"/>
              <a:ext cx="1139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uences), or as determined b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3120" y="3268800"/>
              <a:ext cx="1073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logical reason. There will b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62280" y="3370320"/>
              <a:ext cx="1321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parate servers supporting these tw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05040" y="347184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iew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63920" y="1579680"/>
              <a:ext cx="85572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63080" y="1604880"/>
              <a:ext cx="24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63920" y="1833480"/>
              <a:ext cx="855720" cy="11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63920" y="1884240"/>
              <a:ext cx="85572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45280" y="1714680"/>
              <a:ext cx="721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from Sequence Info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8440" y="1579680"/>
              <a:ext cx="89064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99960" y="1604880"/>
              <a:ext cx="35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8440" y="1833480"/>
              <a:ext cx="890640" cy="11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8440" y="1884240"/>
              <a:ext cx="890640" cy="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16360" y="1714680"/>
              <a:ext cx="73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from Reference Info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73720" y="1739880"/>
              <a:ext cx="194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54640" y="17906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3419640" y="1739880"/>
              <a:ext cx="195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89120" y="17733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69880" y="1622520"/>
              <a:ext cx="407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54640" y="17906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5360" y="161280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bioSeq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9120" y="17733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25320" y="1757520"/>
              <a:ext cx="32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29000" y="4906800"/>
              <a:ext cx="89064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85400" y="4932360"/>
              <a:ext cx="21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ax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29000" y="5159520"/>
              <a:ext cx="890640" cy="118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29000" y="5210280"/>
              <a:ext cx="890640" cy="6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24760" y="5049720"/>
              <a:ext cx="73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from Taxonomy Info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83000" y="4105440"/>
              <a:ext cx="782640" cy="36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62360" y="41212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83000" y="4349880"/>
              <a:ext cx="782640" cy="117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83000" y="4400640"/>
              <a:ext cx="78264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1200" y="4240080"/>
              <a:ext cx="642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from Feature Info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970360" y="1950840"/>
              <a:ext cx="1440" cy="10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14480" y="19940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70360" y="3024360"/>
              <a:ext cx="1440" cy="10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31760" y="39528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33720" y="199404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bioSeq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4480" y="19940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34440" y="3952800"/>
              <a:ext cx="32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feat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31760" y="39528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33200" y="2744640"/>
              <a:ext cx="38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Fea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401920" y="3024360"/>
              <a:ext cx="568440" cy="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365280" y="4255920"/>
              <a:ext cx="3421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35120" y="41306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86720" y="1951200"/>
              <a:ext cx="954000" cy="2304720"/>
            </a:xfrm>
            <a:custGeom>
              <a:avLst/>
              <a:gdLst/>
              <a:ahLst/>
              <a:rect l="l" t="t" r="r" b="b"/>
              <a:pathLst>
                <a:path w="106" h="273">
                  <a:moveTo>
                    <a:pt x="0" y="273"/>
                  </a:moveTo>
                  <a:lnTo>
                    <a:pt x="106" y="273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86640" y="20019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29720" y="4290840"/>
              <a:ext cx="32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feat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35120" y="41306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25680" y="2001960"/>
              <a:ext cx="407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86640" y="20019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45960" y="4121280"/>
              <a:ext cx="32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86720" y="4255920"/>
              <a:ext cx="1440" cy="406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78280" y="4687920"/>
              <a:ext cx="1440" cy="21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978280" y="4466880"/>
              <a:ext cx="1440" cy="2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39760" y="1030320"/>
            <a:ext cx="7507440" cy="5324400"/>
            <a:chOff x="1139760" y="1030320"/>
            <a:chExt cx="7507440" cy="5324400"/>
          </a:xfrm>
        </p:grpSpPr>
        <p:sp>
          <p:nvSpPr>
            <p:cNvPr id="570" name=""/>
            <p:cNvSpPr/>
            <p:nvPr/>
          </p:nvSpPr>
          <p:spPr>
            <a:xfrm>
              <a:off x="1139760" y="1836720"/>
              <a:ext cx="2752920" cy="1352520"/>
            </a:xfrm>
            <a:custGeom>
              <a:avLst/>
              <a:gdLst/>
              <a:ahLst/>
              <a:rect l="l" t="t" r="r" b="b"/>
              <a:pathLst>
                <a:path w="336" h="176">
                  <a:moveTo>
                    <a:pt x="0" y="0"/>
                  </a:moveTo>
                  <a:lnTo>
                    <a:pt x="324" y="0"/>
                  </a:lnTo>
                  <a:lnTo>
                    <a:pt x="336" y="12"/>
                  </a:lnTo>
                  <a:lnTo>
                    <a:pt x="336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94040" y="1836720"/>
              <a:ext cx="98640" cy="93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70720" y="1852560"/>
              <a:ext cx="210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 derivation rule for BioSeq.sequence depends on whether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72160" y="1952640"/>
              <a:ext cx="24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2160" y="2052720"/>
              <a:ext cx="1044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 a PhysicalSeq or VirtualSeq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71800" y="226044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 PhysicalSeq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72880" y="2360520"/>
              <a:ext cx="1501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.sequence = PhysicalSeq.seque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71440" y="2459160"/>
              <a:ext cx="421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 VirtualSeq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26600" y="2558880"/>
              <a:ext cx="191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.sequence is computed from VirtualSeq.loc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06080" y="2759040"/>
              <a:ext cx="168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- BioSeq.length is derived from BioSeq.sequence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18680" y="2959200"/>
              <a:ext cx="1910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uences are currently all implemeted as PhysicalS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93120" y="3067200"/>
              <a:ext cx="171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irtualSeq will be used for constructed sequence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9320" y="4226040"/>
              <a:ext cx="966600" cy="108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51880" y="4249800"/>
              <a:ext cx="34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SDB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29320" y="4365720"/>
              <a:ext cx="966600" cy="944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29320" y="5218200"/>
              <a:ext cx="96660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34440" y="4379760"/>
              <a:ext cx="782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lecule : MoleculeCV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29760" y="4479840"/>
              <a:ext cx="775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pology : TopologyCV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08160" y="457992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aCoun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08160" y="4680000"/>
              <a:ext cx="49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gCoun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06360" y="4780080"/>
              <a:ext cx="494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cCoun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6720" y="4879800"/>
              <a:ext cx="47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tCoun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15720" y="4987800"/>
              <a:ext cx="63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otherCoun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99880" y="5086440"/>
              <a:ext cx="63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checksum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43520" y="4226040"/>
              <a:ext cx="771480" cy="4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6680" y="4249800"/>
              <a:ext cx="26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ID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43520" y="4365720"/>
              <a:ext cx="771480" cy="344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43520" y="4618080"/>
              <a:ext cx="77148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35320" y="4379760"/>
              <a:ext cx="61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molWeight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14440" y="4479840"/>
              <a:ext cx="63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checksum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00280" y="4226040"/>
              <a:ext cx="704880" cy="377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58680" y="4249800"/>
              <a:ext cx="419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hysical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00280" y="4365720"/>
              <a:ext cx="704880" cy="237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0280" y="4511520"/>
              <a:ext cx="70488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72640" y="4379760"/>
              <a:ext cx="58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uence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76200" y="3335400"/>
              <a:ext cx="538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.isVirtu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44680" y="3965400"/>
              <a:ext cx="36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{complete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06760" y="4219560"/>
              <a:ext cx="777960" cy="3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31040" y="4241880"/>
              <a:ext cx="35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irtual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06760" y="4357800"/>
              <a:ext cx="777960" cy="237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06760" y="4503600"/>
              <a:ext cx="77796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98560" y="4371840"/>
              <a:ext cx="618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ocation : Loc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08800" y="2082960"/>
              <a:ext cx="1049400" cy="307800"/>
            </a:xfrm>
            <a:custGeom>
              <a:avLst/>
              <a:gdLst/>
              <a:ahLst/>
              <a:rect l="l" t="t" r="r" b="b"/>
              <a:pathLst>
                <a:path w="128" h="40">
                  <a:moveTo>
                    <a:pt x="0" y="0"/>
                  </a:moveTo>
                  <a:lnTo>
                    <a:pt x="116" y="0"/>
                  </a:lnTo>
                  <a:lnTo>
                    <a:pt x="128" y="11"/>
                  </a:lnTo>
                  <a:lnTo>
                    <a:pt x="128" y="4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59920" y="2082960"/>
              <a:ext cx="98280" cy="85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00600" y="2098800"/>
              <a:ext cx="84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 SwissProt, comment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93040" y="2198520"/>
              <a:ext cx="554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n have topic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1840" y="1030320"/>
              <a:ext cx="1033200" cy="776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24640" y="105408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1840" y="1162080"/>
              <a:ext cx="1033200" cy="64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1840" y="1714680"/>
              <a:ext cx="1033200" cy="9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44120" y="1176480"/>
              <a:ext cx="31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53480" y="1276200"/>
              <a:ext cx="45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rsion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56720" y="1384200"/>
              <a:ext cx="76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us : EntryStatusCV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69320" y="1484280"/>
              <a:ext cx="84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visions : Coll{Revision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5720" y="158436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condaryIds : Coll{string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4800" y="1930320"/>
              <a:ext cx="762120" cy="890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89120" y="1960560"/>
              <a:ext cx="246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14800" y="2068560"/>
              <a:ext cx="762120" cy="752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14800" y="2720880"/>
              <a:ext cx="762120" cy="10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75640" y="2082960"/>
              <a:ext cx="31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85000" y="2182680"/>
              <a:ext cx="45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rsion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74560" y="2290680"/>
              <a:ext cx="37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ID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90040" y="2390760"/>
              <a:ext cx="62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sequence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94720" y="249084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/ length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03360" y="2590920"/>
              <a:ext cx="60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Virtual : boole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498920" y="2820960"/>
              <a:ext cx="180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67120" y="3427560"/>
              <a:ext cx="153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41680" y="2820960"/>
              <a:ext cx="115920" cy="146160"/>
            </a:xfrm>
            <a:custGeom>
              <a:avLst/>
              <a:gdLst/>
              <a:ahLst/>
              <a:rect l="l" t="t" r="r" b="b"/>
              <a:pathLst>
                <a:path w="73" h="92">
                  <a:moveTo>
                    <a:pt x="36" y="0"/>
                  </a:moveTo>
                  <a:lnTo>
                    <a:pt x="73" y="92"/>
                  </a:lnTo>
                  <a:lnTo>
                    <a:pt x="0" y="9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3819600" y="3427560"/>
              <a:ext cx="1440" cy="798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09960" y="2552760"/>
              <a:ext cx="2048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83080" y="1360440"/>
              <a:ext cx="492120" cy="56988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0"/>
                  </a:moveTo>
                  <a:lnTo>
                    <a:pt x="0" y="0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59760" y="1814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75200" y="1360440"/>
              <a:ext cx="11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02920" y="13842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69520" y="1806480"/>
              <a:ext cx="28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bioSe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59760" y="1814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8840" y="1246320"/>
              <a:ext cx="21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ent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02920" y="13842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05920" y="1376280"/>
              <a:ext cx="20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81840" y="1890720"/>
              <a:ext cx="93492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36800" y="192240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Inf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81840" y="2028960"/>
              <a:ext cx="934920" cy="546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81840" y="2482920"/>
              <a:ext cx="93492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1040" y="2044800"/>
              <a:ext cx="62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54200" y="2144880"/>
              <a:ext cx="758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eywords : Coll{string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67520" y="2244600"/>
              <a:ext cx="78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ments : Coll{string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62480" y="2352600"/>
              <a:ext cx="749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bXrefs : Coll{DbXref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016400" y="2236680"/>
              <a:ext cx="3920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876920" y="2190600"/>
              <a:ext cx="606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43880" y="22147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3160" y="2190600"/>
              <a:ext cx="59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26680" y="22068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13280" y="208296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bioSeq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43880" y="22147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61440" y="2076480"/>
              <a:ext cx="29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seqInf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26680" y="22068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46440" y="22208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13520" y="2759040"/>
              <a:ext cx="1982520" cy="399960"/>
            </a:xfrm>
            <a:custGeom>
              <a:avLst/>
              <a:gdLst/>
              <a:ahLst/>
              <a:rect l="l" t="t" r="r" b="b"/>
              <a:pathLst>
                <a:path w="242" h="52">
                  <a:moveTo>
                    <a:pt x="0" y="0"/>
                  </a:moveTo>
                  <a:lnTo>
                    <a:pt x="230" y="0"/>
                  </a:lnTo>
                  <a:lnTo>
                    <a:pt x="242" y="11"/>
                  </a:lnTo>
                  <a:lnTo>
                    <a:pt x="242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97760" y="2759040"/>
              <a:ext cx="98280" cy="842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7240" y="2774880"/>
              <a:ext cx="1657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wissProt entries can 'inherit' information from 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62920" y="2874960"/>
              <a:ext cx="1674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irtual family entry. Constructed sequences may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66160" y="2975040"/>
              <a:ext cx="1446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'inherit' information from their components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75240" y="2320560"/>
              <a:ext cx="1800" cy="4381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967120" y="3427560"/>
              <a:ext cx="1440" cy="79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94000" y="1130400"/>
              <a:ext cx="1376280" cy="492120"/>
            </a:xfrm>
            <a:custGeom>
              <a:avLst/>
              <a:gdLst/>
              <a:ahLst/>
              <a:rect l="l" t="t" r="r" b="b"/>
              <a:pathLst>
                <a:path w="168" h="64">
                  <a:moveTo>
                    <a:pt x="0" y="0"/>
                  </a:moveTo>
                  <a:lnTo>
                    <a:pt x="156" y="0"/>
                  </a:lnTo>
                  <a:lnTo>
                    <a:pt x="168" y="11"/>
                  </a:lnTo>
                  <a:lnTo>
                    <a:pt x="168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72000" y="1130400"/>
              <a:ext cx="98280" cy="85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06680" y="1146240"/>
              <a:ext cx="1091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ID is the current, id + version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15680" y="1246320"/>
              <a:ext cx="1032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 future sequence identifier.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18200" y="1346040"/>
              <a:ext cx="1061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or a transition period they wil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93360" y="1446120"/>
              <a:ext cx="64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e used in parallel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95960" y="5410080"/>
              <a:ext cx="2451240" cy="944640"/>
            </a:xfrm>
            <a:custGeom>
              <a:avLst/>
              <a:gdLst/>
              <a:ahLst/>
              <a:rect l="l" t="t" r="r" b="b"/>
              <a:pathLst>
                <a:path w="299" h="123">
                  <a:moveTo>
                    <a:pt x="0" y="0"/>
                  </a:moveTo>
                  <a:lnTo>
                    <a:pt x="288" y="0"/>
                  </a:lnTo>
                  <a:lnTo>
                    <a:pt x="299" y="12"/>
                  </a:lnTo>
                  <a:lnTo>
                    <a:pt x="299" y="123"/>
                  </a:lnTo>
                  <a:lnTo>
                    <a:pt x="0" y="1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56480" y="5410080"/>
              <a:ext cx="90720" cy="92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12"/>
                  </a:lnTo>
                  <a:lnTo>
                    <a:pt x="11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56160" y="5424480"/>
              <a:ext cx="187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S translations (PIDSeq) are handled like a separat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61560" y="5524560"/>
              <a:ext cx="198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quence database. PIDSeq is also a subclass of BioSeq,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68760" y="5632560"/>
              <a:ext cx="1975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ut has no associations to Entry and SeqInfo, since at th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67320" y="5732640"/>
              <a:ext cx="203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ment these sequences only live as sub-entries on EMBL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63360" y="5832360"/>
              <a:ext cx="187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tries (NSDBSeq). This may change when EMBL an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03240" y="5932440"/>
              <a:ext cx="826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EMBL are integrated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86400" y="6032520"/>
              <a:ext cx="199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y are currently implemented as PhysicalSeq, but coul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49680" y="6132600"/>
              <a:ext cx="1293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qually well be handled as VirtualSeq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22760" y="5670720"/>
              <a:ext cx="1492200" cy="307800"/>
            </a:xfrm>
            <a:custGeom>
              <a:avLst/>
              <a:gdLst/>
              <a:ahLst/>
              <a:rect l="l" t="t" r="r" b="b"/>
              <a:pathLst>
                <a:path w="182" h="40">
                  <a:moveTo>
                    <a:pt x="0" y="0"/>
                  </a:moveTo>
                  <a:lnTo>
                    <a:pt x="170" y="0"/>
                  </a:lnTo>
                  <a:lnTo>
                    <a:pt x="182" y="11"/>
                  </a:lnTo>
                  <a:lnTo>
                    <a:pt x="182" y="4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16680" y="5670720"/>
              <a:ext cx="98280" cy="838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52000" y="5686560"/>
              <a:ext cx="1111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ll derived values are compute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25360" y="578628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om BioSeq.sequence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27720" y="4703760"/>
              <a:ext cx="1800" cy="7063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498920" y="2820600"/>
              <a:ext cx="1800" cy="61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98920" y="3435480"/>
              <a:ext cx="1722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41680" y="2820960"/>
              <a:ext cx="115920" cy="146160"/>
            </a:xfrm>
            <a:custGeom>
              <a:avLst/>
              <a:gdLst/>
              <a:ahLst/>
              <a:rect l="l" t="t" r="r" b="b"/>
              <a:pathLst>
                <a:path w="73" h="92">
                  <a:moveTo>
                    <a:pt x="36" y="0"/>
                  </a:moveTo>
                  <a:lnTo>
                    <a:pt x="73" y="92"/>
                  </a:lnTo>
                  <a:lnTo>
                    <a:pt x="0" y="9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221520" y="3435480"/>
              <a:ext cx="1440" cy="79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081760" y="3435480"/>
              <a:ext cx="1440" cy="79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86120" y="1630440"/>
              <a:ext cx="336600" cy="2998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0" y="0"/>
                  </a:moveTo>
                  <a:lnTo>
                    <a:pt x="41" y="0"/>
                  </a:lnTo>
                  <a:lnTo>
                    <a:pt x="41" y="39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491080" y="5310360"/>
              <a:ext cx="1800" cy="352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45240" y="4703760"/>
              <a:ext cx="98280" cy="958680"/>
            </a:xfrm>
            <a:custGeom>
              <a:avLst/>
              <a:gdLst/>
              <a:ahLst/>
              <a:rect l="l" t="t" r="r" b="b"/>
              <a:pathLst>
                <a:path w="12" h="125">
                  <a:moveTo>
                    <a:pt x="0" y="125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 Explici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92280" y="1158840"/>
            <a:ext cx="7699320" cy="4881600"/>
            <a:chOff x="692280" y="1158840"/>
            <a:chExt cx="7699320" cy="4881600"/>
          </a:xfrm>
        </p:grpSpPr>
        <p:sp>
          <p:nvSpPr>
            <p:cNvPr id="705" name=""/>
            <p:cNvSpPr/>
            <p:nvPr/>
          </p:nvSpPr>
          <p:spPr>
            <a:xfrm>
              <a:off x="7085160" y="3801960"/>
              <a:ext cx="811080" cy="270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5160" y="3946680"/>
              <a:ext cx="811080" cy="125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5160" y="4005360"/>
              <a:ext cx="81108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07240" y="3236760"/>
              <a:ext cx="684360" cy="27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81040" y="32702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shFe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07240" y="3389400"/>
              <a:ext cx="684360" cy="125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07240" y="3448080"/>
              <a:ext cx="684360" cy="66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16360" y="2855880"/>
              <a:ext cx="506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977240" y="2855880"/>
              <a:ext cx="144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92280" y="1158840"/>
              <a:ext cx="7089840" cy="4881600"/>
              <a:chOff x="692280" y="1158840"/>
              <a:chExt cx="7089840" cy="4881600"/>
            </a:xfrm>
          </p:grpSpPr>
          <p:sp>
            <p:nvSpPr>
              <p:cNvPr id="715" name=""/>
              <p:cNvSpPr/>
              <p:nvPr/>
            </p:nvSpPr>
            <p:spPr>
              <a:xfrm>
                <a:off x="4735440" y="3244680"/>
                <a:ext cx="666720" cy="27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08160" y="3270240"/>
                <a:ext cx="489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NA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35440" y="3397320"/>
                <a:ext cx="666720" cy="12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735440" y="3456000"/>
                <a:ext cx="666720" cy="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167360" y="3801960"/>
                <a:ext cx="882360" cy="279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244400" y="3835440"/>
                <a:ext cx="692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ranscript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67360" y="3954600"/>
                <a:ext cx="88236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91120" y="4038480"/>
                <a:ext cx="882360" cy="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45080" y="3244680"/>
                <a:ext cx="865080" cy="27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28960" y="3270240"/>
                <a:ext cx="649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ariation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45080" y="3397320"/>
                <a:ext cx="865080" cy="12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45080" y="3456000"/>
                <a:ext cx="865080" cy="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49800" y="3801960"/>
                <a:ext cx="738360" cy="27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13160" y="3827520"/>
                <a:ext cx="547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ignal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49800" y="3946680"/>
                <a:ext cx="738360" cy="125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49800" y="4005360"/>
                <a:ext cx="738360" cy="66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969160" y="3801960"/>
                <a:ext cx="1027080" cy="279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54480" y="3835440"/>
                <a:ext cx="816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ucStructure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969160" y="3954600"/>
                <a:ext cx="102708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969160" y="4013280"/>
                <a:ext cx="1027080" cy="6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2560" y="3827520"/>
                <a:ext cx="619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mmuno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535800" y="3244680"/>
                <a:ext cx="982440" cy="27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611040" y="3270240"/>
                <a:ext cx="777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lassified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535800" y="3397320"/>
                <a:ext cx="982440" cy="12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535800" y="3456000"/>
                <a:ext cx="982440" cy="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43720" y="2695680"/>
                <a:ext cx="4150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{complete}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78440" y="1158840"/>
                <a:ext cx="522360" cy="27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14520" y="1184400"/>
                <a:ext cx="302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978440" y="1311120"/>
                <a:ext cx="522360" cy="117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978440" y="1362240"/>
                <a:ext cx="522360" cy="66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879800" y="2003400"/>
                <a:ext cx="729000" cy="27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61520" y="2028960"/>
                <a:ext cx="549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SDB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79800" y="2147760"/>
                <a:ext cx="729000" cy="125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879800" y="2206800"/>
                <a:ext cx="729000" cy="66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221440" y="1428840"/>
                <a:ext cx="1440" cy="29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21440" y="172548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57720" y="1428840"/>
                <a:ext cx="127080" cy="169920"/>
              </a:xfrm>
              <a:custGeom>
                <a:avLst/>
                <a:gdLst/>
                <a:ahLst/>
                <a:rect l="l" t="t" r="r" b="b"/>
                <a:pathLst>
                  <a:path w="80" h="107">
                    <a:moveTo>
                      <a:pt x="40" y="0"/>
                    </a:moveTo>
                    <a:lnTo>
                      <a:pt x="80" y="107"/>
                    </a:lnTo>
                    <a:lnTo>
                      <a:pt x="0" y="10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221440" y="2273400"/>
                <a:ext cx="1440" cy="58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57720" y="2273400"/>
                <a:ext cx="127080" cy="160200"/>
              </a:xfrm>
              <a:custGeom>
                <a:avLst/>
                <a:gdLst/>
                <a:ahLst/>
                <a:rect l="l" t="t" r="r" b="b"/>
                <a:pathLst>
                  <a:path w="80" h="101">
                    <a:moveTo>
                      <a:pt x="40" y="0"/>
                    </a:moveTo>
                    <a:lnTo>
                      <a:pt x="80" y="101"/>
                    </a:lnTo>
                    <a:lnTo>
                      <a:pt x="0" y="10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5932440" y="2855880"/>
                <a:ext cx="1800" cy="38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6959520" y="2855880"/>
                <a:ext cx="1800" cy="38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456160" y="2855880"/>
                <a:ext cx="1800" cy="9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4645080" y="2855880"/>
                <a:ext cx="1440" cy="9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5041800" y="2855880"/>
                <a:ext cx="1800" cy="38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6473880" y="2855880"/>
                <a:ext cx="1440" cy="9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7616880" y="2855880"/>
                <a:ext cx="1440" cy="9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5221440" y="172548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772520" y="2570040"/>
                <a:ext cx="739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SDBFeature.typ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2280" y="1168560"/>
                <a:ext cx="2412720" cy="842760"/>
              </a:xfrm>
              <a:custGeom>
                <a:avLst/>
                <a:gdLst/>
                <a:ahLst/>
                <a:rect l="l" t="t" r="r" b="b"/>
                <a:pathLst>
                  <a:path w="268" h="100">
                    <a:moveTo>
                      <a:pt x="0" y="0"/>
                    </a:moveTo>
                    <a:lnTo>
                      <a:pt x="256" y="0"/>
                    </a:lnTo>
                    <a:lnTo>
                      <a:pt x="268" y="11"/>
                    </a:lnTo>
                    <a:lnTo>
                      <a:pt x="268" y="100"/>
                    </a:lnTo>
                    <a:lnTo>
                      <a:pt x="0" y="10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97360" y="1168560"/>
                <a:ext cx="107640" cy="918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0" y="11"/>
                    </a:lnTo>
                    <a:lnTo>
                      <a:pt x="1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4360" y="1184400"/>
                <a:ext cx="870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xplicit Feature Mode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7360" y="1405080"/>
                <a:ext cx="1798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he explicit model describes the relationship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83080" y="1514520"/>
                <a:ext cx="20138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etween feature keys and qualifiers as classes an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58600" y="1623960"/>
                <a:ext cx="2062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ttributes or associations. This model is less general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28280" y="1733400"/>
                <a:ext cx="1254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nd stable than the meta model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48080" y="3244680"/>
                <a:ext cx="745920" cy="27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512880" y="3270240"/>
                <a:ext cx="581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ource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448080" y="3397320"/>
                <a:ext cx="745920" cy="12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48080" y="3456000"/>
                <a:ext cx="745920" cy="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3816360" y="2855880"/>
                <a:ext cx="1440" cy="38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19360" y="4308480"/>
                <a:ext cx="973440" cy="40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71080" y="4334040"/>
                <a:ext cx="244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19360" y="4579920"/>
                <a:ext cx="973440" cy="135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19360" y="4629240"/>
                <a:ext cx="97344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17640" y="4460760"/>
                <a:ext cx="838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from Taxonomy Info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16360" y="3524400"/>
                <a:ext cx="1440" cy="38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30240" y="35496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816360" y="3911760"/>
                <a:ext cx="1440" cy="39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234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47320" y="354024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+sourceFeat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630240" y="35496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844440" y="4183200"/>
                <a:ext cx="267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+tax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3480" y="41832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661200" y="3801960"/>
                <a:ext cx="38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onom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87640" y="5634000"/>
                <a:ext cx="1063800" cy="40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241440" y="5659560"/>
                <a:ext cx="514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GeneticCod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87640" y="5905440"/>
                <a:ext cx="1063800" cy="135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987640" y="5964120"/>
                <a:ext cx="1063800" cy="76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31640" y="5786280"/>
                <a:ext cx="838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from Taxonomy Info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43360" y="5178600"/>
                <a:ext cx="1440" cy="45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56880" y="54910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3843360" y="4714920"/>
                <a:ext cx="1440" cy="46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591000" y="4705200"/>
                <a:ext cx="504720" cy="195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84600" y="47480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organel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74520" y="49593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1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72160" y="5483160"/>
                <a:ext cx="486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+transl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56880" y="549108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74520" y="49593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1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84600" y="4748040"/>
                <a:ext cx="361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organel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558960" y="5187960"/>
                <a:ext cx="777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faultGeneticCod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57280" y="3801960"/>
                <a:ext cx="1117800" cy="27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451240" y="3827520"/>
                <a:ext cx="860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teinCodingFeat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357280" y="3946680"/>
                <a:ext cx="1117800" cy="125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357280" y="4005360"/>
                <a:ext cx="1117800" cy="66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3176640" y="4071600"/>
                <a:ext cx="1440" cy="78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69880" y="412272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176640" y="4857840"/>
                <a:ext cx="1440" cy="77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88600" y="54990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851920" y="4122720"/>
                <a:ext cx="284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+CDS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69880" y="412272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21160" y="5473800"/>
                <a:ext cx="486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+transl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88600" y="549900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2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41240" y="5195880"/>
                <a:ext cx="773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xceptGeneticCod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2916360" y="2855880"/>
                <a:ext cx="1440" cy="9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1640" y="3794040"/>
                <a:ext cx="522360" cy="27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99920" y="3819600"/>
                <a:ext cx="305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IDSeq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1640" y="3936960"/>
                <a:ext cx="522360" cy="127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1640" y="3997440"/>
                <a:ext cx="522360" cy="66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81280" y="3929040"/>
                <a:ext cx="56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71160" y="38019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224000" y="3929040"/>
                <a:ext cx="557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07520" y="38019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032920" y="3971880"/>
                <a:ext cx="284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CDS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171160" y="38019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..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440" y="396252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+prot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307520" y="3801960"/>
                <a:ext cx="146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..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726920" y="3794040"/>
                <a:ext cx="1911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 Meta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14360" y="1100160"/>
            <a:ext cx="8223120" cy="5235480"/>
            <a:chOff x="414360" y="1100160"/>
            <a:chExt cx="8223120" cy="5235480"/>
          </a:xfrm>
        </p:grpSpPr>
        <p:sp>
          <p:nvSpPr>
            <p:cNvPr id="834" name=""/>
            <p:cNvSpPr/>
            <p:nvPr/>
          </p:nvSpPr>
          <p:spPr>
            <a:xfrm>
              <a:off x="414360" y="1100160"/>
              <a:ext cx="2104920" cy="1197000"/>
            </a:xfrm>
            <a:custGeom>
              <a:avLst/>
              <a:gdLst/>
              <a:ahLst/>
              <a:rect l="l" t="t" r="r" b="b"/>
              <a:pathLst>
                <a:path w="234" h="142">
                  <a:moveTo>
                    <a:pt x="0" y="0"/>
                  </a:moveTo>
                  <a:lnTo>
                    <a:pt x="222" y="0"/>
                  </a:lnTo>
                  <a:lnTo>
                    <a:pt x="234" y="12"/>
                  </a:lnTo>
                  <a:lnTo>
                    <a:pt x="234" y="142"/>
                  </a:ln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11280" y="1100160"/>
              <a:ext cx="108000" cy="100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5040" y="1116000"/>
              <a:ext cx="78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 Meta Mo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40" y="1335240"/>
              <a:ext cx="175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simple meta-model "hides" the unstabl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760" y="14446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ture of feature keys and qualifiers, and i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8440" y="155412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refore well suited for the implementation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7800" y="1665360"/>
              <a:ext cx="38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f an IDL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3400" y="1782720"/>
              <a:ext cx="172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tailed information about feature keys an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5280" y="1892160"/>
              <a:ext cx="173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fiers and their relationships is stored a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52880" y="200196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ta-dat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16000" y="3781440"/>
              <a:ext cx="1403280" cy="944640"/>
            </a:xfrm>
            <a:custGeom>
              <a:avLst/>
              <a:gdLst/>
              <a:ahLst/>
              <a:rect l="l" t="t" r="r" b="b"/>
              <a:pathLst>
                <a:path w="156" h="112">
                  <a:moveTo>
                    <a:pt x="0" y="0"/>
                  </a:moveTo>
                  <a:lnTo>
                    <a:pt x="145" y="0"/>
                  </a:lnTo>
                  <a:lnTo>
                    <a:pt x="156" y="12"/>
                  </a:lnTo>
                  <a:lnTo>
                    <a:pt x="156" y="112"/>
                  </a:lnTo>
                  <a:lnTo>
                    <a:pt x="0" y="1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21000" y="3781440"/>
              <a:ext cx="98280" cy="100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12"/>
                  </a:lnTo>
                  <a:lnTo>
                    <a:pt x="11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36960" y="3797280"/>
              <a:ext cx="1132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the flat file representation,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35520" y="3916440"/>
              <a:ext cx="1044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feature has neither an i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40560" y="402588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 a version. These shall b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36240" y="4135320"/>
              <a:ext cx="114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roduced in order to enabl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56320" y="424512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ambiguos identification of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72960" y="4354560"/>
              <a:ext cx="1195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s for cross-referencing,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22920" y="4464000"/>
              <a:ext cx="1006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remental updating, et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73280" y="2946240"/>
              <a:ext cx="855720" cy="530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54720" y="2971800"/>
              <a:ext cx="45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qFe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73280" y="3097080"/>
              <a:ext cx="855720" cy="37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73280" y="3376440"/>
              <a:ext cx="855720" cy="10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5720" y="311472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8960" y="3224160"/>
              <a:ext cx="70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ocation : Lo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51280" y="1538280"/>
              <a:ext cx="836640" cy="96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210840" y="1563840"/>
              <a:ext cx="28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51280" y="1689120"/>
              <a:ext cx="836640" cy="81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1280" y="2406600"/>
              <a:ext cx="836640" cy="10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0040" y="170640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31560" y="1816200"/>
              <a:ext cx="52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ersion : lo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16080" y="1925640"/>
              <a:ext cx="43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ID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45960" y="2035080"/>
              <a:ext cx="71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 sequenc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24360" y="2144880"/>
              <a:ext cx="528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 length : lo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80440" y="2254320"/>
              <a:ext cx="70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Virtual : boole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52560" y="5770440"/>
              <a:ext cx="1251000" cy="53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32080" y="579600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fi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52560" y="5923080"/>
              <a:ext cx="1251000" cy="37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560" y="6192720"/>
              <a:ext cx="1251000" cy="109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82800" y="5938920"/>
              <a:ext cx="74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me : Qualifier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82800" y="6048360"/>
              <a:ext cx="1091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lues : Coll{QualifierValue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33640" y="3941640"/>
              <a:ext cx="881280" cy="63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49000" y="397512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33640" y="4092480"/>
              <a:ext cx="88128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33640" y="4481640"/>
              <a:ext cx="881280" cy="9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93040" y="411012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04560" y="4219560"/>
              <a:ext cx="52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ersion : lo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54520" y="4329000"/>
              <a:ext cx="78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 : FeatureKey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355920" y="2507760"/>
              <a:ext cx="1800" cy="71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2160" y="25416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5920" y="3224160"/>
              <a:ext cx="1800" cy="71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6440" y="3807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41560" y="2541600"/>
              <a:ext cx="37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bioSeq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22160" y="25416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90880" y="3807000"/>
              <a:ext cx="36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6440" y="3807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25160" y="2997360"/>
              <a:ext cx="44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eqFeat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65640" y="5172120"/>
              <a:ext cx="1440" cy="59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39440" y="56358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365640" y="4581000"/>
              <a:ext cx="1440" cy="59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39440" y="4606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42640" y="563580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qualif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39440" y="56358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00600" y="4606920"/>
              <a:ext cx="36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39440" y="4606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62520" y="5121360"/>
              <a:ext cx="60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featureQualifi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536920" y="4260960"/>
              <a:ext cx="3967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29000" y="3216240"/>
              <a:ext cx="826920" cy="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4480" y="4919760"/>
              <a:ext cx="1224000" cy="1415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02240" y="4952880"/>
              <a:ext cx="971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QualifierMetaInf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24480" y="5070600"/>
              <a:ext cx="1224000" cy="1265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24480" y="5130720"/>
              <a:ext cx="1224000" cy="1204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52920" y="5197320"/>
              <a:ext cx="812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ValidCombination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56520" y="5307120"/>
              <a:ext cx="1031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MandatoryCombination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53280" y="5424480"/>
              <a:ext cx="86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SingleCombination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54720" y="5533920"/>
              <a:ext cx="777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tAllFeatureKeys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355080" y="5645160"/>
              <a:ext cx="87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tValidFeatureKeys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53640" y="5754600"/>
              <a:ext cx="65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tAllQualifiers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54000" y="5864400"/>
              <a:ext cx="74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tValidQualifiers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5440" y="597384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tQualifierValueType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54720" y="6083280"/>
              <a:ext cx="963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ControlledVocabulary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55800" y="6192720"/>
              <a:ext cx="88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ControlledStructure(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76840" y="2220840"/>
              <a:ext cx="638280" cy="522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92040" y="2246400"/>
              <a:ext cx="40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ultiplic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76840" y="2373480"/>
              <a:ext cx="638280" cy="36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76840" y="2651040"/>
              <a:ext cx="63828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45960" y="2389320"/>
              <a:ext cx="41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n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51360" y="2498760"/>
              <a:ext cx="43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x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58200" y="1530360"/>
              <a:ext cx="880920" cy="41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50720" y="1554120"/>
              <a:ext cx="649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eatureKeyMe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58200" y="1681200"/>
              <a:ext cx="880920" cy="26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8200" y="1849320"/>
              <a:ext cx="880920" cy="93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588440" y="1698480"/>
              <a:ext cx="78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 : FeatureKey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9480" y="4370400"/>
              <a:ext cx="1278000" cy="41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84200" y="4395960"/>
              <a:ext cx="55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fierVal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59480" y="4522680"/>
              <a:ext cx="1278000" cy="26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9480" y="4683240"/>
              <a:ext cx="1278000" cy="10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90080" y="4540320"/>
              <a:ext cx="1111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ype : QualifierValueType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31200" y="3005280"/>
              <a:ext cx="988920" cy="41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30640" y="3030480"/>
              <a:ext cx="52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fierMe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31200" y="3157560"/>
              <a:ext cx="988920" cy="260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31200" y="3317760"/>
              <a:ext cx="988920" cy="10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60720" y="3173400"/>
              <a:ext cx="832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lifier : Qualifier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7760" y="2473200"/>
              <a:ext cx="1800" cy="52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30720" y="2862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997760" y="1943280"/>
              <a:ext cx="180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838640" y="196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070120" y="285264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qualif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30720" y="2862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27280" y="196848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featureKey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38640" y="196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14160" y="226368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mb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15120" y="2473200"/>
              <a:ext cx="7826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07480" y="3890880"/>
              <a:ext cx="1440" cy="4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41240" y="4245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8007480" y="3417840"/>
              <a:ext cx="144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48000" y="3452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95680" y="4235400"/>
              <a:ext cx="21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41240" y="4245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0120" y="344340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qualifi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848000" y="34527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667280" y="3822840"/>
              <a:ext cx="50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qualifier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for Features &amp; Qua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055520" y="2041560"/>
          <a:ext cx="7402680" cy="388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041560"/>
                    <a:ext cx="7402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506600" y="1989000"/>
            <a:ext cx="6113520" cy="2880000"/>
            <a:chOff x="1506600" y="1989000"/>
            <a:chExt cx="6113520" cy="2880000"/>
          </a:xfrm>
        </p:grpSpPr>
        <p:sp>
          <p:nvSpPr>
            <p:cNvPr id="961" name=""/>
            <p:cNvSpPr/>
            <p:nvPr/>
          </p:nvSpPr>
          <p:spPr>
            <a:xfrm>
              <a:off x="1506600" y="2082960"/>
              <a:ext cx="80172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50600" y="210816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TaxSynony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06600" y="2217600"/>
              <a:ext cx="801720" cy="35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06600" y="2479680"/>
              <a:ext cx="80172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77160" y="2235240"/>
              <a:ext cx="44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name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33600" y="2335320"/>
              <a:ext cx="66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class : TaxClassCV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73600" y="1989000"/>
              <a:ext cx="919080" cy="692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15600" y="2014560"/>
              <a:ext cx="21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Tax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73600" y="2124000"/>
              <a:ext cx="919080" cy="55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73600" y="2581200"/>
              <a:ext cx="919080" cy="10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32640" y="214164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id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99880" y="2243160"/>
              <a:ext cx="749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scientificName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99880" y="2344680"/>
              <a:ext cx="625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rank : TaxRankCV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00600" y="2446200"/>
              <a:ext cx="56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hidden : boole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92680" y="2335320"/>
              <a:ext cx="1503360" cy="118800"/>
            </a:xfrm>
            <a:custGeom>
              <a:avLst/>
              <a:gdLst/>
              <a:ahLst/>
              <a:rect l="l" t="t" r="r" b="b"/>
              <a:pathLst>
                <a:path w="167" h="14">
                  <a:moveTo>
                    <a:pt x="167" y="0"/>
                  </a:moveTo>
                  <a:lnTo>
                    <a:pt x="167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81240" y="24876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792680" y="2225520"/>
              <a:ext cx="1503360" cy="109800"/>
            </a:xfrm>
            <a:custGeom>
              <a:avLst/>
              <a:gdLst/>
              <a:ahLst/>
              <a:rect l="l" t="t" r="r" b="b"/>
              <a:pathLst>
                <a:path w="167" h="13">
                  <a:moveTo>
                    <a:pt x="167" y="13"/>
                  </a:move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16160" y="211608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9480" y="2495520"/>
              <a:ext cx="313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childre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881240" y="24876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10920" y="2286000"/>
              <a:ext cx="247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20000"/>
                  </a:solidFill>
                  <a:latin typeface="Arial"/>
                </a:rPr>
                <a:t>rel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4960" y="2116080"/>
              <a:ext cx="26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par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6160" y="211608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308320" y="2301840"/>
              <a:ext cx="78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14520" y="2174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090960" y="2301840"/>
              <a:ext cx="78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49400" y="2184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81760" y="2344680"/>
              <a:ext cx="27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nam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14520" y="2174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76600" y="2327400"/>
              <a:ext cx="23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+tax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49400" y="2184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0960" y="2166840"/>
              <a:ext cx="30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20000"/>
                  </a:solidFill>
                  <a:latin typeface="Arial"/>
                </a:rPr>
                <a:t>synony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11600" y="4184640"/>
              <a:ext cx="14144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72040" y="420228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neticC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11600" y="4319640"/>
              <a:ext cx="1414440" cy="54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11600" y="4775040"/>
              <a:ext cx="1414440" cy="93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770640" y="433692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782160" y="4437000"/>
              <a:ext cx="44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38600" y="4538520"/>
              <a:ext cx="1244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ranslations : Coll{CodonTranslation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38960" y="4640400"/>
              <a:ext cx="991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Codons : Coll{CodonCV}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4324320" y="2673360"/>
              <a:ext cx="144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08320" y="2673360"/>
              <a:ext cx="422280" cy="177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9600" y="2706840"/>
              <a:ext cx="31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rganel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94160" y="28843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24320" y="3424320"/>
              <a:ext cx="1440" cy="75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03520" y="40575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37040" y="2884320"/>
              <a:ext cx="23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tax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94160" y="28843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79600" y="2706840"/>
              <a:ext cx="316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rganel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28960" y="4057560"/>
              <a:ext cx="42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+translTab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03520" y="40575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63960" y="3484440"/>
              <a:ext cx="677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defaultGeneticC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32320" y="3164040"/>
              <a:ext cx="2287800" cy="488880"/>
            </a:xfrm>
            <a:custGeom>
              <a:avLst/>
              <a:gdLst/>
              <a:ahLst/>
              <a:rect l="l" t="t" r="r" b="b"/>
              <a:pathLst>
                <a:path w="254" h="58">
                  <a:moveTo>
                    <a:pt x="0" y="0"/>
                  </a:moveTo>
                  <a:lnTo>
                    <a:pt x="244" y="0"/>
                  </a:lnTo>
                  <a:lnTo>
                    <a:pt x="254" y="11"/>
                  </a:lnTo>
                  <a:lnTo>
                    <a:pt x="254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529400" y="3164040"/>
              <a:ext cx="90720" cy="91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0" y="11"/>
                  </a:lnTo>
                  <a:lnTo>
                    <a:pt x="1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6520" y="3179880"/>
              <a:ext cx="1875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f a Taxon has no GeneticCode assigned and does not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5800" y="3281400"/>
              <a:ext cx="187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herit the GeneticCode of its parent, the server shoul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66880" y="3382920"/>
              <a:ext cx="188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row an exception when asked for the GeneticCode of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367240" y="348444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at Taxon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24320" y="3424320"/>
              <a:ext cx="1008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49360" y="1235160"/>
            <a:ext cx="8021520" cy="4992480"/>
            <a:chOff x="549360" y="1235160"/>
            <a:chExt cx="8021520" cy="4992480"/>
          </a:xfrm>
        </p:grpSpPr>
        <p:sp>
          <p:nvSpPr>
            <p:cNvPr id="1022" name=""/>
            <p:cNvSpPr/>
            <p:nvPr/>
          </p:nvSpPr>
          <p:spPr>
            <a:xfrm>
              <a:off x="3654360" y="3098880"/>
              <a:ext cx="59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.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19720" y="3865680"/>
              <a:ext cx="901440" cy="852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4520" y="3890880"/>
              <a:ext cx="53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urnalArtic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19720" y="4010040"/>
              <a:ext cx="901440" cy="708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9720" y="4616280"/>
              <a:ext cx="901440" cy="101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498920" y="4025880"/>
              <a:ext cx="55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m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02160" y="41353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su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51040" y="4254480"/>
              <a:ext cx="61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Pag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449960" y="4363920"/>
              <a:ext cx="61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Pag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52480" y="4473720"/>
              <a:ext cx="79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OnPag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56080" y="5477040"/>
              <a:ext cx="873000" cy="750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71080" y="551016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ur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56080" y="5629320"/>
              <a:ext cx="873000" cy="598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56080" y="6126120"/>
              <a:ext cx="873000" cy="10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85600" y="5645160"/>
              <a:ext cx="44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sn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30600" y="575460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87400" y="5864400"/>
              <a:ext cx="75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mblAbbrev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487040" y="5973840"/>
              <a:ext cx="70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lmAbbrev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4843440" y="4718160"/>
              <a:ext cx="1440" cy="37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17600" y="4743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3440" y="5097600"/>
              <a:ext cx="1440" cy="37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931280" y="5342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87160" y="4751280"/>
              <a:ext cx="60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journalArti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600" y="4743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36360" y="534204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jour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31280" y="5342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03400" y="5021280"/>
              <a:ext cx="27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54360" y="3865680"/>
              <a:ext cx="693720" cy="41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95840" y="389088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bmiss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54360" y="4017960"/>
              <a:ext cx="693720" cy="26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54360" y="4178160"/>
              <a:ext cx="693720" cy="101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6360" y="4035600"/>
              <a:ext cx="59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stitut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83080" y="3865680"/>
              <a:ext cx="693720" cy="41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26080" y="3890880"/>
              <a:ext cx="25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s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83080" y="4017960"/>
              <a:ext cx="693720" cy="26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83080" y="4178160"/>
              <a:ext cx="693720" cy="101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64800" y="4035600"/>
              <a:ext cx="59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stitut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194440" y="1522440"/>
              <a:ext cx="1576080" cy="361800"/>
            </a:xfrm>
            <a:custGeom>
              <a:avLst/>
              <a:gdLst/>
              <a:ahLst/>
              <a:rect l="l" t="t" r="r" b="b"/>
              <a:pathLst>
                <a:path w="175" h="43">
                  <a:moveTo>
                    <a:pt x="0" y="0"/>
                  </a:moveTo>
                  <a:lnTo>
                    <a:pt x="164" y="0"/>
                  </a:lnTo>
                  <a:lnTo>
                    <a:pt x="175" y="12"/>
                  </a:lnTo>
                  <a:lnTo>
                    <a:pt x="175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70800" y="1522440"/>
              <a:ext cx="99720" cy="100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12"/>
                  </a:lnTo>
                  <a:lnTo>
                    <a:pt x="11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38440" y="1538280"/>
              <a:ext cx="1334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ok(article)s are the only type of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50680" y="1647720"/>
              <a:ext cx="1273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 where authors are no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76880" y="175752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andatory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935840" y="26766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{ordered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24000" y="1235160"/>
              <a:ext cx="855720" cy="64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94000" y="126828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qRe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24000" y="1387440"/>
              <a:ext cx="85572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124000" y="1774800"/>
              <a:ext cx="855720" cy="10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07160" y="14032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10400" y="1512720"/>
              <a:ext cx="70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ocation : Lo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03920" y="1622520"/>
              <a:ext cx="649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ment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00800" y="3865680"/>
              <a:ext cx="711000" cy="52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18520" y="389088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okArtic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00800" y="4017960"/>
              <a:ext cx="71100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0800" y="4295880"/>
              <a:ext cx="711000" cy="9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32120" y="4035600"/>
              <a:ext cx="61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Pag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531040" y="4145040"/>
              <a:ext cx="61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Page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56520" y="3875040"/>
              <a:ext cx="755640" cy="960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5040" y="3900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56520" y="4025880"/>
              <a:ext cx="755640" cy="809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56520" y="4743360"/>
              <a:ext cx="755640" cy="9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85680" y="404352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bn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434280" y="4152960"/>
              <a:ext cx="57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m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42920" y="4262400"/>
              <a:ext cx="64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sher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35360" y="4371840"/>
              <a:ext cx="49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ac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33200" y="448164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dition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41480" y="4591080"/>
              <a:ext cx="52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ies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49800" y="4835520"/>
              <a:ext cx="684360" cy="53964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76" y="64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12640" y="486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61160" y="4389480"/>
              <a:ext cx="188640" cy="98568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117"/>
                  </a:moveTo>
                  <a:lnTo>
                    <a:pt x="0" y="1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34960" y="44402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86480" y="4861080"/>
              <a:ext cx="24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+bo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12640" y="486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295600" y="443088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+bookArti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960" y="44402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2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62480" y="5240160"/>
              <a:ext cx="27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481880" y="1927080"/>
              <a:ext cx="774720" cy="63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60160" y="1952640"/>
              <a:ext cx="27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81880" y="2077920"/>
              <a:ext cx="774720" cy="48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481880" y="2467080"/>
              <a:ext cx="774720" cy="9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13200" y="2095560"/>
              <a:ext cx="64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rNam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13560" y="2205000"/>
              <a:ext cx="665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Nam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12120" y="23144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idInitial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823160" y="255888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64040" y="2576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12160" y="3807000"/>
              <a:ext cx="711000" cy="57276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9" y="0"/>
                  </a:moveTo>
                  <a:lnTo>
                    <a:pt x="79" y="68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95680" y="4262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890480" y="25671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edito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64040" y="25765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4880" y="4422600"/>
              <a:ext cx="28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boo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5680" y="4262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65920" y="3141720"/>
              <a:ext cx="14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ed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49360" y="3865680"/>
              <a:ext cx="1206360" cy="74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46160" y="3890880"/>
              <a:ext cx="25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9360" y="4010040"/>
              <a:ext cx="1206360" cy="598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9360" y="4506840"/>
              <a:ext cx="1206360" cy="10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9960" y="4025880"/>
              <a:ext cx="62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cTyp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" y="4135320"/>
              <a:ext cx="52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cNr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2120" y="4254480"/>
              <a:ext cx="1053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cOffice : PatentOffice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9960" y="4363920"/>
              <a:ext cx="851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pplicant : Coll{string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29080" y="1741320"/>
              <a:ext cx="971640" cy="960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48040" y="176688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29080" y="1884240"/>
              <a:ext cx="971640" cy="817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29080" y="2610000"/>
              <a:ext cx="971640" cy="9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97840" y="19018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58960" y="2011320"/>
              <a:ext cx="69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ype : RefType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60040" y="2128680"/>
              <a:ext cx="819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tus : RefStatusC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99280" y="2238480"/>
              <a:ext cx="42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itle : 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97120" y="2347920"/>
              <a:ext cx="43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e : D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0040" y="2457360"/>
              <a:ext cx="86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bXrefs : Coll{DbXref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500360" y="2205000"/>
              <a:ext cx="148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6320" y="223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86440" y="2205000"/>
              <a:ext cx="149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03680" y="223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578840" y="2070000"/>
              <a:ext cx="46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referen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576320" y="223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120440" y="2087640"/>
              <a:ext cx="34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autho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03680" y="2238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07120" y="196056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{ordered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30280" y="22464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6440" y="1892160"/>
              <a:ext cx="1440" cy="3128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8280" y="2027160"/>
              <a:ext cx="946080" cy="40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53280" y="2052720"/>
              <a:ext cx="28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8280" y="2297160"/>
              <a:ext cx="946080" cy="13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8280" y="2347920"/>
              <a:ext cx="946080" cy="8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9080" y="2179800"/>
              <a:ext cx="82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from Sequence Inf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06640" y="3141720"/>
              <a:ext cx="1440" cy="72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73280" y="3672000"/>
              <a:ext cx="666720" cy="203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24400" y="3722760"/>
              <a:ext cx="54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In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956880" y="352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1106640" y="2431800"/>
              <a:ext cx="1440" cy="70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13400" y="2441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75040" y="3529080"/>
              <a:ext cx="34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pat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956880" y="352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4400" y="3722760"/>
              <a:ext cx="54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In : sho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125360" y="2441520"/>
              <a:ext cx="32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bioSeq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13400" y="2441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56520" y="2930400"/>
              <a:ext cx="37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56000" y="2230560"/>
              <a:ext cx="9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06240" y="22716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1584000" y="2230560"/>
              <a:ext cx="971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67880" y="22892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48840" y="2103480"/>
              <a:ext cx="466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referen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306240" y="22716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9280" y="2087640"/>
              <a:ext cx="37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bioSeq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67880" y="22892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388600" y="2263680"/>
              <a:ext cx="37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2556000" y="1876320"/>
              <a:ext cx="1440" cy="354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067520" y="5502240"/>
              <a:ext cx="1503360" cy="430200"/>
            </a:xfrm>
            <a:custGeom>
              <a:avLst/>
              <a:gdLst/>
              <a:ahLst/>
              <a:rect l="l" t="t" r="r" b="b"/>
              <a:pathLst>
                <a:path w="167" h="51">
                  <a:moveTo>
                    <a:pt x="0" y="0"/>
                  </a:moveTo>
                  <a:lnTo>
                    <a:pt x="155" y="0"/>
                  </a:lnTo>
                  <a:lnTo>
                    <a:pt x="167" y="11"/>
                  </a:lnTo>
                  <a:lnTo>
                    <a:pt x="167" y="51"/>
                  </a:lnTo>
                  <a:lnTo>
                    <a:pt x="0" y="5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462880" y="5502240"/>
              <a:ext cx="108000" cy="92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182000" y="5510160"/>
              <a:ext cx="1102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re are currently no book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80560" y="5629320"/>
              <a:ext cx="1222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ferences in EMBL, only book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36280" y="573876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ticle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12160" y="4827600"/>
              <a:ext cx="531720" cy="666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25640" y="3865680"/>
              <a:ext cx="676440" cy="27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41920" y="3900600"/>
              <a:ext cx="48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publish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25640" y="4017960"/>
              <a:ext cx="676440" cy="127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25640" y="4076640"/>
              <a:ext cx="676440" cy="68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4014720" y="2701440"/>
              <a:ext cx="1800" cy="32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92360" y="3022560"/>
              <a:ext cx="499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951360" y="2701800"/>
              <a:ext cx="127080" cy="16056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40" y="0"/>
                  </a:moveTo>
                  <a:lnTo>
                    <a:pt x="80" y="101"/>
                  </a:lnTo>
                  <a:lnTo>
                    <a:pt x="0" y="10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879720" y="3022560"/>
              <a:ext cx="180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3078000" y="3022560"/>
              <a:ext cx="180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1692360" y="3022560"/>
              <a:ext cx="144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816520" y="3022560"/>
              <a:ext cx="180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689880" y="3022560"/>
              <a:ext cx="144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4826160" y="3022560"/>
              <a:ext cx="144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2259000" y="3022560"/>
              <a:ext cx="1440" cy="84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Talk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2860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use examples from the EBI databases, applications &amp; CORBA servers to provide advice &amp; guidelines on how to write high quality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base A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u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DB (Persis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onomy (Persis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Cod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SBD Persistence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921360" y="4064040"/>
            <a:ext cx="2051280" cy="19843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765200" y="4199040"/>
            <a:ext cx="32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lifi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21360" y="4325760"/>
            <a:ext cx="2051280" cy="1722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921360" y="5937120"/>
            <a:ext cx="205128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068600" y="434016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ature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067880" y="4452840"/>
            <a:ext cx="464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m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67880" y="4557600"/>
            <a:ext cx="64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ger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066800" y="466884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al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067880" y="47800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ing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68960" y="4892760"/>
            <a:ext cx="58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ummy2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068960" y="5003640"/>
            <a:ext cx="58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ummy3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067880" y="5116680"/>
            <a:ext cx="753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ypeCod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067160" y="5227560"/>
            <a:ext cx="88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tiCodon : AntiCod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066080" y="5340240"/>
            <a:ext cx="1181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sSplice : SpliceConsensu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067880" y="5451480"/>
            <a:ext cx="60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bXref : DbXre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071120" y="5556240"/>
            <a:ext cx="168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lationException : TranslationEx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068600" y="5668920"/>
            <a:ext cx="91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eatUnit : RepeatU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70760" y="5780160"/>
            <a:ext cx="1441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donTranslation : CodonTrans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576560" y="408780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163520" y="4691160"/>
            <a:ext cx="1192320" cy="8730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47760" y="4832280"/>
            <a:ext cx="939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nfo_SecondaryI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163520" y="4952880"/>
            <a:ext cx="1192320" cy="611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63520" y="5451480"/>
            <a:ext cx="1192320" cy="112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310760" y="4967280"/>
            <a:ext cx="605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maryi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308600" y="507852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309680" y="519120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310760" y="529596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ondaryi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88160" y="472140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84320" y="2871720"/>
            <a:ext cx="1359000" cy="13194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70680" y="301320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nf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084320" y="3132000"/>
            <a:ext cx="1359000" cy="10591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084320" y="4079880"/>
            <a:ext cx="135900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221480" y="314784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22560" y="325908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221480" y="3370320"/>
            <a:ext cx="31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222200" y="3483000"/>
            <a:ext cx="660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ersion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23280" y="3594240"/>
            <a:ext cx="47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us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225440" y="3706920"/>
            <a:ext cx="889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eatedDate : date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25080" y="3811680"/>
            <a:ext cx="106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stModifiedDate : date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222920" y="392256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nr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88160" y="290052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758960" y="4191120"/>
            <a:ext cx="39600" cy="24588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33"/>
                </a:moveTo>
                <a:lnTo>
                  <a:pt x="0" y="0"/>
                </a:lnTo>
                <a:lnTo>
                  <a:pt x="5" y="1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1727280" y="4191120"/>
            <a:ext cx="31680" cy="82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58960" y="4437000"/>
            <a:ext cx="1440" cy="254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16000" y="1357200"/>
            <a:ext cx="1057320" cy="8654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74320" y="1490760"/>
            <a:ext cx="837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nfo_Descripti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16000" y="1617840"/>
            <a:ext cx="1057320" cy="6048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16000" y="2109960"/>
            <a:ext cx="1057320" cy="112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61080" y="162576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60360" y="1736640"/>
            <a:ext cx="51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n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62160" y="184932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62880" y="1960560"/>
            <a:ext cx="669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scription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77280" y="137952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11280" y="1335240"/>
            <a:ext cx="946440" cy="7603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469240" y="1476360"/>
            <a:ext cx="73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nfo_Keyw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11280" y="1595520"/>
            <a:ext cx="946440" cy="5000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11280" y="1984320"/>
            <a:ext cx="94644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48440" y="161136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49880" y="1722600"/>
            <a:ext cx="57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ywor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49520" y="183528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509200" y="136512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3360" y="5235480"/>
            <a:ext cx="1090440" cy="10890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42400" y="5370480"/>
            <a:ext cx="38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3360" y="5497560"/>
            <a:ext cx="1090440" cy="8269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13360" y="6213600"/>
            <a:ext cx="1090440" cy="110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259880" y="550404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59160" y="5616720"/>
            <a:ext cx="51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n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262040" y="5727600"/>
            <a:ext cx="806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ent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0600" y="58402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pic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60960" y="595152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62760" y="6064200"/>
            <a:ext cx="605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e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91920" y="525780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740040" y="969840"/>
            <a:ext cx="914400" cy="12081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829680" y="1111320"/>
            <a:ext cx="67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nfo_DbXre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740040" y="1230480"/>
            <a:ext cx="914400" cy="947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40040" y="2058840"/>
            <a:ext cx="914400" cy="119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85840" y="124452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b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8000" y="1357200"/>
            <a:ext cx="61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maryI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86560" y="146844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nr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5840" y="1573200"/>
            <a:ext cx="660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ersion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5120" y="16858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bel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5120" y="179712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86200" y="190980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22120" y="99864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537160" y="3021120"/>
            <a:ext cx="1025640" cy="10951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88160" y="316224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537160" y="3281400"/>
            <a:ext cx="1025640" cy="834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537160" y="4005360"/>
            <a:ext cx="1025640" cy="110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682240" y="329580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82240" y="3408480"/>
            <a:ext cx="59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b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85120" y="351936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ence : DbXre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683680" y="3624120"/>
            <a:ext cx="58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der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682600" y="373680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cation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85120" y="3848040"/>
            <a:ext cx="605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e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682600" y="304956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738520" y="2424240"/>
            <a:ext cx="1366920" cy="24303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14800" y="2565360"/>
            <a:ext cx="36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sdbSeq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38520" y="2684520"/>
            <a:ext cx="1366920" cy="2170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738520" y="4743360"/>
            <a:ext cx="136692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883600" y="270036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84680" y="2811600"/>
            <a:ext cx="640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ry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83600" y="2924280"/>
            <a:ext cx="31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85400" y="3035160"/>
            <a:ext cx="105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uenceVersion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883240" y="314784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885400" y="3259080"/>
            <a:ext cx="52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Text : t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84320" y="3370320"/>
            <a:ext cx="61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ength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84680" y="3475080"/>
            <a:ext cx="78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eckSum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883240" y="3587760"/>
            <a:ext cx="69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sVirtual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84680" y="3699000"/>
            <a:ext cx="596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lecul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884680" y="3811680"/>
            <a:ext cx="41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yp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85040" y="3922560"/>
            <a:ext cx="576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pology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85400" y="4035600"/>
            <a:ext cx="48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rand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884680" y="4146480"/>
            <a:ext cx="52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ou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84680" y="4259160"/>
            <a:ext cx="52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Cou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884680" y="4370400"/>
            <a:ext cx="52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Cou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85040" y="4475160"/>
            <a:ext cx="50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Cou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86120" y="4586400"/>
            <a:ext cx="67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therCoun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50280" y="245412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585880" y="3549600"/>
            <a:ext cx="152640" cy="44640"/>
          </a:xfrm>
          <a:custGeom>
            <a:avLst/>
            <a:gdLst/>
            <a:ahLst/>
            <a:rect l="l" t="t" r="r" b="b"/>
            <a:pathLst>
              <a:path w="19" h="6">
                <a:moveTo>
                  <a:pt x="0" y="4"/>
                </a:moveTo>
                <a:lnTo>
                  <a:pt x="19" y="6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2641320" y="3594240"/>
            <a:ext cx="96840" cy="29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>
            <a:off x="2443320" y="3571920"/>
            <a:ext cx="142560" cy="7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395440" y="2573280"/>
            <a:ext cx="343080" cy="351000"/>
          </a:xfrm>
          <a:custGeom>
            <a:avLst/>
            <a:gdLst/>
            <a:ahLst/>
            <a:rect l="l" t="t" r="r" b="b"/>
            <a:pathLst>
              <a:path w="43" h="47">
                <a:moveTo>
                  <a:pt x="0" y="0"/>
                </a:moveTo>
                <a:lnTo>
                  <a:pt x="43" y="47"/>
                </a:lnTo>
                <a:lnTo>
                  <a:pt x="39" y="36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649240" y="2886120"/>
            <a:ext cx="88920" cy="38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>
            <a:off x="2062080" y="2222640"/>
            <a:ext cx="333360" cy="350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32280" y="2259000"/>
            <a:ext cx="63360" cy="165240"/>
          </a:xfrm>
          <a:custGeom>
            <a:avLst/>
            <a:gdLst/>
            <a:ahLst/>
            <a:rect l="l" t="t" r="r" b="b"/>
            <a:pathLst>
              <a:path w="8" h="22">
                <a:moveTo>
                  <a:pt x="0" y="0"/>
                </a:moveTo>
                <a:lnTo>
                  <a:pt x="6" y="22"/>
                </a:lnTo>
                <a:lnTo>
                  <a:pt x="8" y="1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>
            <a:off x="3024360" y="2355840"/>
            <a:ext cx="55440" cy="68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2984040" y="2095560"/>
            <a:ext cx="47880" cy="163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105440" y="4826160"/>
            <a:ext cx="118800" cy="2016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27"/>
                </a:moveTo>
                <a:lnTo>
                  <a:pt x="0" y="0"/>
                </a:lnTo>
                <a:lnTo>
                  <a:pt x="9" y="8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105440" y="4826160"/>
            <a:ext cx="15840" cy="88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24240" y="5027760"/>
            <a:ext cx="120600" cy="199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75040" y="2297160"/>
            <a:ext cx="63720" cy="127080"/>
          </a:xfrm>
          <a:custGeom>
            <a:avLst/>
            <a:gdLst/>
            <a:ahLst/>
            <a:rect l="l" t="t" r="r" b="b"/>
            <a:pathLst>
              <a:path w="8" h="17">
                <a:moveTo>
                  <a:pt x="6" y="0"/>
                </a:moveTo>
                <a:lnTo>
                  <a:pt x="0" y="17"/>
                </a:lnTo>
                <a:lnTo>
                  <a:pt x="8" y="8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3867120" y="2333520"/>
            <a:ext cx="7920" cy="907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3922560" y="2177640"/>
            <a:ext cx="47880" cy="119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05440" y="3602160"/>
            <a:ext cx="715680" cy="52200"/>
          </a:xfrm>
          <a:custGeom>
            <a:avLst/>
            <a:gdLst/>
            <a:ahLst/>
            <a:rect l="l" t="t" r="r" b="b"/>
            <a:pathLst>
              <a:path w="90" h="7">
                <a:moveTo>
                  <a:pt x="90" y="0"/>
                </a:moveTo>
                <a:lnTo>
                  <a:pt x="0" y="2"/>
                </a:lnTo>
                <a:lnTo>
                  <a:pt x="11" y="7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4105440" y="3579840"/>
            <a:ext cx="87120" cy="38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21120" y="3579840"/>
            <a:ext cx="716040" cy="22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8400" y="4408560"/>
            <a:ext cx="1273320" cy="18716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825520" y="454968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8400" y="4668840"/>
            <a:ext cx="1273320" cy="1611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8400" y="6167520"/>
            <a:ext cx="1273320" cy="112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23840" y="468324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cation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523480" y="479592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24920" y="4906800"/>
            <a:ext cx="69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rent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24920" y="5011560"/>
            <a:ext cx="58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der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525280" y="5124600"/>
            <a:ext cx="63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deTyp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25280" y="5235480"/>
            <a:ext cx="97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deTypeCod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526720" y="534816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perator_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26360" y="5459400"/>
            <a:ext cx="91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peratorCod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526000" y="557208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plement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523840" y="5683320"/>
            <a:ext cx="45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teral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25280" y="5794200"/>
            <a:ext cx="47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rt : Fuzz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523840" y="5907240"/>
            <a:ext cx="45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d : Fuzz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548680" y="6018120"/>
            <a:ext cx="45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ap : Fuzz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699880" y="443700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51720" y="5348160"/>
            <a:ext cx="87120" cy="849600"/>
          </a:xfrm>
          <a:custGeom>
            <a:avLst/>
            <a:gdLst/>
            <a:ahLst/>
            <a:rect l="l" t="t" r="r" b="b"/>
            <a:pathLst>
              <a:path w="11" h="114">
                <a:moveTo>
                  <a:pt x="11" y="114"/>
                </a:moveTo>
                <a:lnTo>
                  <a:pt x="11" y="0"/>
                </a:lnTo>
                <a:lnTo>
                  <a:pt x="0" y="0"/>
                </a:lnTo>
                <a:lnTo>
                  <a:pt x="11" y="4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651720" y="5310000"/>
            <a:ext cx="87120" cy="37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14880" y="6197760"/>
            <a:ext cx="723960" cy="164880"/>
          </a:xfrm>
          <a:custGeom>
            <a:avLst/>
            <a:gdLst/>
            <a:ahLst/>
            <a:rect l="l" t="t" r="r" b="b"/>
            <a:pathLst>
              <a:path w="91" h="22">
                <a:moveTo>
                  <a:pt x="91" y="0"/>
                </a:moveTo>
                <a:lnTo>
                  <a:pt x="91" y="22"/>
                </a:lnTo>
                <a:lnTo>
                  <a:pt x="0" y="22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031080" y="4259160"/>
            <a:ext cx="39600" cy="14940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lnTo>
                  <a:pt x="0" y="20"/>
                </a:lnTo>
                <a:lnTo>
                  <a:pt x="5" y="9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 flipV="1">
            <a:off x="5998680" y="4325760"/>
            <a:ext cx="32040" cy="82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6031080" y="4115880"/>
            <a:ext cx="7920" cy="142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05440" y="4087800"/>
            <a:ext cx="636480" cy="417600"/>
          </a:xfrm>
          <a:custGeom>
            <a:avLst/>
            <a:gdLst/>
            <a:ahLst/>
            <a:rect l="l" t="t" r="r" b="b"/>
            <a:pathLst>
              <a:path w="80" h="56">
                <a:moveTo>
                  <a:pt x="80" y="56"/>
                </a:moveTo>
                <a:lnTo>
                  <a:pt x="0" y="0"/>
                </a:lnTo>
                <a:lnTo>
                  <a:pt x="12" y="3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05440" y="4087800"/>
            <a:ext cx="47520" cy="81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741920" y="4505400"/>
            <a:ext cx="636480" cy="417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71960" y="954000"/>
            <a:ext cx="843120" cy="6494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97320" y="109548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71960" y="1216080"/>
            <a:ext cx="843120" cy="387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71960" y="1498680"/>
            <a:ext cx="843120" cy="1047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118840" y="123048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20640" y="1341360"/>
            <a:ext cx="52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Text : tex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079240" y="98424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064280" y="1238400"/>
            <a:ext cx="1146240" cy="153648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83960" y="137952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ucFeat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064280" y="1498680"/>
            <a:ext cx="1146240" cy="1276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064280" y="2662200"/>
            <a:ext cx="1146240" cy="112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203600" y="151452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ature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201440" y="1625760"/>
            <a:ext cx="58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03240" y="173664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inseq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58680" y="1849320"/>
            <a:ext cx="660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ersion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1320" y="1960560"/>
            <a:ext cx="38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y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02160" y="2065320"/>
            <a:ext cx="72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yCod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203960" y="2178000"/>
            <a:ext cx="65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Typ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204320" y="2289240"/>
            <a:ext cx="869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TypeCode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201800" y="2401920"/>
            <a:ext cx="74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cation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254720" y="2513160"/>
            <a:ext cx="58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der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322400" y="126684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05440" y="2797200"/>
            <a:ext cx="1479240" cy="573120"/>
          </a:xfrm>
          <a:custGeom>
            <a:avLst/>
            <a:gdLst/>
            <a:ahLst/>
            <a:rect l="l" t="t" r="r" b="b"/>
            <a:pathLst>
              <a:path w="186" h="77">
                <a:moveTo>
                  <a:pt x="186" y="0"/>
                </a:moveTo>
                <a:lnTo>
                  <a:pt x="0" y="77"/>
                </a:lnTo>
                <a:lnTo>
                  <a:pt x="12" y="77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4105440" y="3303360"/>
            <a:ext cx="71280" cy="66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5584680" y="2230560"/>
            <a:ext cx="1471680" cy="566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467400" y="3587760"/>
            <a:ext cx="398520" cy="820800"/>
          </a:xfrm>
          <a:custGeom>
            <a:avLst/>
            <a:gdLst/>
            <a:ahLst/>
            <a:rect l="l" t="t" r="r" b="b"/>
            <a:pathLst>
              <a:path w="50" h="110">
                <a:moveTo>
                  <a:pt x="50" y="0"/>
                </a:moveTo>
                <a:lnTo>
                  <a:pt x="0" y="110"/>
                </a:lnTo>
                <a:lnTo>
                  <a:pt x="9" y="102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6467400" y="4317840"/>
            <a:ext cx="1800" cy="907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6865920" y="2774880"/>
            <a:ext cx="388800" cy="812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815080" y="1415880"/>
            <a:ext cx="620640" cy="201960"/>
          </a:xfrm>
          <a:custGeom>
            <a:avLst/>
            <a:gdLst/>
            <a:ahLst/>
            <a:rect l="l" t="t" r="r" b="b"/>
            <a:pathLst>
              <a:path w="78" h="27">
                <a:moveTo>
                  <a:pt x="78" y="27"/>
                </a:moveTo>
                <a:lnTo>
                  <a:pt x="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815080" y="1415880"/>
            <a:ext cx="73080" cy="604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435720" y="1617840"/>
            <a:ext cx="620640" cy="201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16960" y="2774880"/>
            <a:ext cx="63360" cy="641520"/>
          </a:xfrm>
          <a:custGeom>
            <a:avLst/>
            <a:gdLst/>
            <a:ahLst/>
            <a:rect l="l" t="t" r="r" b="b"/>
            <a:pathLst>
              <a:path w="8" h="86">
                <a:moveTo>
                  <a:pt x="8" y="86"/>
                </a:moveTo>
                <a:lnTo>
                  <a:pt x="0" y="0"/>
                </a:lnTo>
                <a:lnTo>
                  <a:pt x="5" y="1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7684560" y="2774880"/>
            <a:ext cx="32040" cy="81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80320" y="3416400"/>
            <a:ext cx="63360" cy="647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900680" y="1789200"/>
            <a:ext cx="987480" cy="8730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127120" y="1932120"/>
            <a:ext cx="48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atureNo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900680" y="2050920"/>
            <a:ext cx="987480" cy="611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900680" y="2550960"/>
            <a:ext cx="98748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049360" y="2065320"/>
            <a:ext cx="71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atureid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097240" y="2178000"/>
            <a:ext cx="5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097960" y="2289240"/>
            <a:ext cx="51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ne : decim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049720" y="2394000"/>
            <a:ext cx="58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Text : ch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079240" y="1819440"/>
            <a:ext cx="66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&lt;Persistence&gt;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467400" y="2058840"/>
            <a:ext cx="588960" cy="59040"/>
          </a:xfrm>
          <a:custGeom>
            <a:avLst/>
            <a:gdLst/>
            <a:ahLst/>
            <a:rect l="l" t="t" r="r" b="b"/>
            <a:pathLst>
              <a:path w="74" h="8">
                <a:moveTo>
                  <a:pt x="0" y="8"/>
                </a:moveTo>
                <a:lnTo>
                  <a:pt x="74" y="0"/>
                </a:lnTo>
                <a:lnTo>
                  <a:pt x="64" y="6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flipV="1">
            <a:off x="6969240" y="2035080"/>
            <a:ext cx="87120" cy="23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5887800" y="2117880"/>
            <a:ext cx="579240" cy="601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ws Used in NSDB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2011320" y="1093680"/>
            <a:ext cx="5072040" cy="5162760"/>
            <a:chOff x="2011320" y="1093680"/>
            <a:chExt cx="5072040" cy="5162760"/>
          </a:xfrm>
        </p:grpSpPr>
        <p:sp>
          <p:nvSpPr>
            <p:cNvPr id="1404" name=""/>
            <p:cNvSpPr/>
            <p:nvPr/>
          </p:nvSpPr>
          <p:spPr>
            <a:xfrm>
              <a:off x="2219400" y="5321160"/>
              <a:ext cx="1197000" cy="685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288880" y="5429160"/>
              <a:ext cx="916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NFO_SECONDARYID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219400" y="5530680"/>
              <a:ext cx="1197000" cy="476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219400" y="5919840"/>
              <a:ext cx="119700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26680" y="5537160"/>
              <a:ext cx="355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IMA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27400" y="5624640"/>
              <a:ext cx="46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CONDA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26680" y="571176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26320" y="579924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67440" y="53420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46800" y="1127160"/>
              <a:ext cx="833400" cy="511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595480" y="1235160"/>
              <a:ext cx="44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ANSL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46800" y="1335240"/>
              <a:ext cx="833400" cy="303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46800" y="1550880"/>
              <a:ext cx="83340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61640" y="13431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60560" y="143028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UENCE : LO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17000" y="114768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351480" y="1436760"/>
              <a:ext cx="731880" cy="1209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21040" y="1544760"/>
              <a:ext cx="33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UALIFI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351480" y="1638360"/>
              <a:ext cx="731880" cy="1008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351480" y="2558880"/>
              <a:ext cx="73188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464520" y="1650960"/>
              <a:ext cx="36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EATURE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64880" y="1738440"/>
              <a:ext cx="342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UALTY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65240" y="1825560"/>
              <a:ext cx="35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UAL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464520" y="191304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T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464520" y="2001960"/>
              <a:ext cx="13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T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465960" y="2089080"/>
              <a:ext cx="16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464520" y="2176560"/>
              <a:ext cx="277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RING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464520" y="2263680"/>
              <a:ext cx="277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RING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464520" y="2351160"/>
              <a:ext cx="277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RING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64520" y="2438280"/>
              <a:ext cx="277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RING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69480" y="145728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262240" y="3916440"/>
              <a:ext cx="990720" cy="1035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39440" y="4030560"/>
              <a:ext cx="37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NF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62240" y="4125960"/>
              <a:ext cx="990720" cy="82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262240" y="4863960"/>
              <a:ext cx="99072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76000" y="4138560"/>
              <a:ext cx="64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76000" y="4226040"/>
              <a:ext cx="28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74920" y="4313160"/>
              <a:ext cx="253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75640" y="4400640"/>
              <a:ext cx="511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ATED_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72760" y="4487760"/>
              <a:ext cx="715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AST_MODIFIED_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76720" y="457524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CCN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75640" y="46623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75640" y="474984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410560" y="39434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78120" y="4951440"/>
              <a:ext cx="36360" cy="18252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2" y="27"/>
                  </a:move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2757240" y="4951440"/>
              <a:ext cx="2052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92520" y="5133960"/>
              <a:ext cx="7920" cy="187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81280" y="5005440"/>
              <a:ext cx="725760" cy="685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644280" y="5119560"/>
              <a:ext cx="512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EATURE_NO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5214960"/>
              <a:ext cx="725760" cy="476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581280" y="5603760"/>
              <a:ext cx="72576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687840" y="5221440"/>
              <a:ext cx="36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EATURE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688200" y="5308560"/>
              <a:ext cx="17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88920" y="5396040"/>
              <a:ext cx="142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87840" y="5483160"/>
              <a:ext cx="16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93160" y="50324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76560" y="3036960"/>
              <a:ext cx="1039680" cy="685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230200" y="3151080"/>
              <a:ext cx="805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NFO_DESCRIPTION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76560" y="3244680"/>
              <a:ext cx="1039680" cy="478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76560" y="3633840"/>
              <a:ext cx="1039680" cy="88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89600" y="325764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89960" y="334476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90320" y="3432240"/>
              <a:ext cx="142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289240" y="3519360"/>
              <a:ext cx="43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345400" y="306396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060640" y="2255760"/>
              <a:ext cx="961920" cy="598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45240" y="2363760"/>
              <a:ext cx="698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NFO_KEYWORD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060640" y="2457360"/>
              <a:ext cx="961920" cy="397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060640" y="2766960"/>
              <a:ext cx="96192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75480" y="24717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75840" y="255888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75840" y="2646360"/>
              <a:ext cx="33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94560" y="22766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11320" y="1093680"/>
              <a:ext cx="939960" cy="860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71080" y="1208160"/>
              <a:ext cx="698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NFO_COMMEN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011320" y="1301760"/>
              <a:ext cx="939960" cy="6523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11320" y="1866960"/>
              <a:ext cx="93996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15720" y="1316160"/>
              <a:ext cx="37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MENT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17160" y="1403280"/>
              <a:ext cx="142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16800" y="14907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16080" y="1577880"/>
              <a:ext cx="19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117160" y="166536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5360" y="1752480"/>
              <a:ext cx="39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MENT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37320" y="112068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16320" y="1106640"/>
              <a:ext cx="831960" cy="94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71040" y="1220760"/>
              <a:ext cx="62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NFO_DBXREF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316320" y="1316160"/>
              <a:ext cx="831960" cy="738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316320" y="1967040"/>
              <a:ext cx="83196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424320" y="132228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23240" y="1409760"/>
              <a:ext cx="39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IMARY_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423600" y="1496880"/>
              <a:ext cx="28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424320" y="15843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424320" y="167148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CCN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423600" y="175896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23240" y="184644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85080" y="11336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13160" y="1120680"/>
              <a:ext cx="725400" cy="1209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28360" y="1228680"/>
              <a:ext cx="43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UCFEATU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313160" y="1328760"/>
              <a:ext cx="725400" cy="10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13160" y="2243160"/>
              <a:ext cx="72540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19720" y="1335240"/>
              <a:ext cx="36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EATURE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0080" y="14223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20800" y="1509840"/>
              <a:ext cx="32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RDER_I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20440" y="1596960"/>
              <a:ext cx="28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20440" y="168588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KE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21160" y="1773360"/>
              <a:ext cx="34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EY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20440" y="186048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20440" y="1947960"/>
              <a:ext cx="387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19000" y="2035080"/>
              <a:ext cx="32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419000" y="21225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TEIN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25040" y="114156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38720" y="1503360"/>
              <a:ext cx="208080" cy="540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8"/>
                  </a:moveTo>
                  <a:lnTo>
                    <a:pt x="29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5374800" y="1496880"/>
              <a:ext cx="71640" cy="6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5038560" y="1557360"/>
              <a:ext cx="200160" cy="60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038560" y="1765440"/>
              <a:ext cx="652680" cy="11412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91" y="17"/>
                  </a:moveTo>
                  <a:lnTo>
                    <a:pt x="0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38560" y="1779480"/>
              <a:ext cx="65160" cy="39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1240" y="1879560"/>
              <a:ext cx="660240" cy="101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70240" y="2739960"/>
              <a:ext cx="889200" cy="190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435200" y="2847960"/>
              <a:ext cx="31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SDBSEQ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170240" y="2949480"/>
              <a:ext cx="889200" cy="1700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170240" y="4562640"/>
              <a:ext cx="88920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84000" y="2955960"/>
              <a:ext cx="64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84360" y="3043080"/>
              <a:ext cx="64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UENCEVERS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84360" y="313056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82560" y="321804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UENCE : LO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83280" y="3305160"/>
              <a:ext cx="259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84720" y="3392640"/>
              <a:ext cx="36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3280" y="3479760"/>
              <a:ext cx="33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SVIRTU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83640" y="356724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81840" y="3654360"/>
              <a:ext cx="361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P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84360" y="3741840"/>
              <a:ext cx="26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83640" y="3828960"/>
              <a:ext cx="30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_C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82920" y="3916440"/>
              <a:ext cx="31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_C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83640" y="4003560"/>
              <a:ext cx="30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_C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82920" y="4091040"/>
              <a:ext cx="30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_C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82560" y="4178160"/>
              <a:ext cx="486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THER_COU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83640" y="426708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84000" y="4354560"/>
              <a:ext cx="281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84000" y="444168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67800" y="27608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11600" y="3870360"/>
              <a:ext cx="458640" cy="1810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27"/>
                  </a:moveTo>
                  <a:lnTo>
                    <a:pt x="64" y="0"/>
                  </a:lnTo>
                  <a:lnTo>
                    <a:pt x="56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4091040" y="3870360"/>
              <a:ext cx="792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3252960" y="4051440"/>
              <a:ext cx="458640" cy="188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56200" y="4649760"/>
              <a:ext cx="71280" cy="1810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27"/>
                  </a:moveTo>
                  <a:lnTo>
                    <a:pt x="10" y="0"/>
                  </a:lnTo>
                  <a:lnTo>
                    <a:pt x="10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177800" y="4649760"/>
              <a:ext cx="49320" cy="54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084200" y="4830840"/>
              <a:ext cx="71640" cy="174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689280" y="3540240"/>
              <a:ext cx="480960" cy="81000"/>
            </a:xfrm>
            <a:custGeom>
              <a:avLst/>
              <a:gdLst/>
              <a:ahLst/>
              <a:rect l="l" t="t" r="r" b="b"/>
              <a:pathLst>
                <a:path w="67" h="12">
                  <a:moveTo>
                    <a:pt x="0" y="0"/>
                  </a:moveTo>
                  <a:lnTo>
                    <a:pt x="67" y="12"/>
                  </a:lnTo>
                  <a:lnTo>
                    <a:pt x="58" y="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4091040" y="3621240"/>
              <a:ext cx="79200" cy="12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3216240" y="3466800"/>
              <a:ext cx="473040" cy="73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95680" y="3130560"/>
              <a:ext cx="574560" cy="316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0"/>
                  </a:moveTo>
                  <a:lnTo>
                    <a:pt x="80" y="47"/>
                  </a:lnTo>
                  <a:lnTo>
                    <a:pt x="73" y="3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flipV="1">
              <a:off x="4091040" y="3440160"/>
              <a:ext cx="79200" cy="6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flipV="1">
              <a:off x="3022560" y="2820960"/>
              <a:ext cx="573120" cy="30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32320" y="2598840"/>
              <a:ext cx="637920" cy="63972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0" y="0"/>
                  </a:moveTo>
                  <a:lnTo>
                    <a:pt x="89" y="95"/>
                  </a:lnTo>
                  <a:lnTo>
                    <a:pt x="85" y="8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4098960" y="3211200"/>
              <a:ext cx="71280" cy="2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900160" y="1953720"/>
              <a:ext cx="631800" cy="644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70520" y="2397240"/>
              <a:ext cx="142560" cy="34272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20" y="51"/>
                  </a:lnTo>
                  <a:lnTo>
                    <a:pt x="20" y="4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4161960" y="2685960"/>
              <a:ext cx="50760" cy="54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3925800" y="2053800"/>
              <a:ext cx="144720" cy="343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3280" y="2532240"/>
              <a:ext cx="28800" cy="20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1" y="0"/>
                  </a:moveTo>
                  <a:lnTo>
                    <a:pt x="0" y="31"/>
                  </a:lnTo>
                  <a:lnTo>
                    <a:pt x="4" y="2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 flipV="1">
              <a:off x="4614480" y="2673000"/>
              <a:ext cx="2844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4651200" y="2329920"/>
              <a:ext cx="6480" cy="201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93000" y="2922480"/>
              <a:ext cx="882360" cy="25210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341400" y="3029040"/>
              <a:ext cx="32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93000" y="3124080"/>
              <a:ext cx="882360" cy="2319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93000" y="5354640"/>
              <a:ext cx="882360" cy="88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04600" y="3137040"/>
              <a:ext cx="39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OCATION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38800" y="3224160"/>
              <a:ext cx="323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RENT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32320" y="331164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239880" y="3398760"/>
              <a:ext cx="32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RDER_I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43120" y="3486240"/>
              <a:ext cx="451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PLEME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58240" y="3573360"/>
              <a:ext cx="60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DE_TYPE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46360" y="3660840"/>
              <a:ext cx="387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ODE_TYP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42040" y="3747960"/>
              <a:ext cx="259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ITERA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57520" y="3836880"/>
              <a:ext cx="579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PERATOR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49960" y="3924360"/>
              <a:ext cx="39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PERATOR_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44920" y="4011480"/>
              <a:ext cx="246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RT_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64000" y="4098960"/>
              <a:ext cx="503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RT_FZ_SIZ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81280" y="4186080"/>
              <a:ext cx="619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RT_FZ_ABBRE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66160" y="4273560"/>
              <a:ext cx="53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RT_FZ_N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64720" y="4361040"/>
              <a:ext cx="544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RT_FZ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33040" y="4448160"/>
              <a:ext cx="169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D_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251400" y="453564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D_FZ_SIZ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68680" y="4622760"/>
              <a:ext cx="54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D_FZ_ABBRE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54280" y="4710240"/>
              <a:ext cx="457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D_FZ_N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52840" y="4797360"/>
              <a:ext cx="46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ND_FZ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39520" y="488484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P_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257520" y="4971960"/>
              <a:ext cx="42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P_FZ_SIZ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75160" y="5059440"/>
              <a:ext cx="544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P_FZ_ABBRE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60760" y="5146560"/>
              <a:ext cx="459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P_FZ_NES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59320" y="5234040"/>
              <a:ext cx="47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P_FZ_CO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84080" y="294156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059440" y="3795840"/>
              <a:ext cx="517320" cy="1411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72" y="21"/>
                  </a:moveTo>
                  <a:lnTo>
                    <a:pt x="0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059440" y="3809880"/>
              <a:ext cx="58680" cy="39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576760" y="3936960"/>
              <a:ext cx="516240" cy="135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30840" y="5443560"/>
              <a:ext cx="244800" cy="28908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43"/>
                  </a:moveTo>
                  <a:lnTo>
                    <a:pt x="34" y="41"/>
                  </a:lnTo>
                  <a:lnTo>
                    <a:pt x="25" y="0"/>
                  </a:lnTo>
                  <a:lnTo>
                    <a:pt x="31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6796080" y="5443560"/>
              <a:ext cx="1440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00800" y="5443560"/>
              <a:ext cx="230040" cy="30168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43"/>
                  </a:moveTo>
                  <a:lnTo>
                    <a:pt x="0" y="45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568840" y="2901960"/>
              <a:ext cx="524160" cy="698400"/>
            </a:xfrm>
            <a:custGeom>
              <a:avLst/>
              <a:gdLst/>
              <a:ahLst/>
              <a:rect l="l" t="t" r="r" b="b"/>
              <a:pathLst>
                <a:path w="73" h="104">
                  <a:moveTo>
                    <a:pt x="0" y="0"/>
                  </a:moveTo>
                  <a:lnTo>
                    <a:pt x="73" y="104"/>
                  </a:lnTo>
                  <a:lnTo>
                    <a:pt x="71" y="9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6027480" y="3560760"/>
              <a:ext cx="65160" cy="3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5038200" y="2209320"/>
              <a:ext cx="530280" cy="692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543560" y="5133960"/>
              <a:ext cx="933480" cy="1122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862880" y="5240160"/>
              <a:ext cx="30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ITA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43560" y="5335560"/>
              <a:ext cx="933480" cy="9208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3560" y="6168960"/>
              <a:ext cx="933480" cy="8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708440" y="5348160"/>
              <a:ext cx="666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ITATION_COMME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43564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98720" y="5522760"/>
              <a:ext cx="39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IMARY_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92600" y="5610240"/>
              <a:ext cx="28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94760" y="56973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90440" y="5784840"/>
              <a:ext cx="329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RDER_I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82880" y="58737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81800" y="5961240"/>
              <a:ext cx="19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98000" y="6048360"/>
              <a:ext cx="39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OCATIONI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63080" y="5153040"/>
              <a:ext cx="570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802040" y="4649760"/>
              <a:ext cx="49320" cy="24120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7" y="36"/>
                  </a:moveTo>
                  <a:lnTo>
                    <a:pt x="0" y="0"/>
                  </a:lnTo>
                  <a:lnTo>
                    <a:pt x="6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787640" y="4649760"/>
              <a:ext cx="1404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851360" y="4890960"/>
              <a:ext cx="42840" cy="235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784840" y="4608360"/>
              <a:ext cx="308160" cy="3096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46"/>
                  </a:moveTo>
                  <a:lnTo>
                    <a:pt x="43" y="0"/>
                  </a:lnTo>
                  <a:lnTo>
                    <a:pt x="39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6027480" y="4608360"/>
              <a:ext cx="6516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5476680" y="4917960"/>
              <a:ext cx="307800" cy="30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NSDBSEQ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811160" y="1725480"/>
            <a:ext cx="5735880" cy="4015080"/>
            <a:chOff x="1811160" y="1725480"/>
            <a:chExt cx="5735880" cy="4015080"/>
          </a:xfrm>
        </p:grpSpPr>
        <p:sp>
          <p:nvSpPr>
            <p:cNvPr id="1626" name=""/>
            <p:cNvSpPr/>
            <p:nvPr/>
          </p:nvSpPr>
          <p:spPr>
            <a:xfrm>
              <a:off x="4089240" y="5175360"/>
              <a:ext cx="873360" cy="488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347360" y="520056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089240" y="5495760"/>
              <a:ext cx="873360" cy="16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89240" y="5564160"/>
              <a:ext cx="873360" cy="100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190760" y="535320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92600" y="1751040"/>
              <a:ext cx="1377720" cy="2935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41880" y="191124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SDB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92600" y="2063880"/>
              <a:ext cx="1377720" cy="2622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92600" y="4551480"/>
              <a:ext cx="137772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992040" y="2081160"/>
              <a:ext cx="115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21560" y="2216160"/>
              <a:ext cx="115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VER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994560" y="235116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28400" y="24861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 : LO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006440" y="262080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06440" y="275580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005000" y="2890800"/>
              <a:ext cx="59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VIRTU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014000" y="3025800"/>
              <a:ext cx="628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26240" y="316080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POLO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008240" y="3295800"/>
              <a:ext cx="47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010400" y="3430440"/>
              <a:ext cx="54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_COU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13280" y="356544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_COU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011480" y="3700440"/>
              <a:ext cx="55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_COU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013640" y="3835440"/>
              <a:ext cx="54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_COU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024440" y="39607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THER_COU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002120" y="409572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005720" y="42307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TRY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03200" y="4365720"/>
              <a:ext cx="29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51000" y="177624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847880" y="3530520"/>
              <a:ext cx="1116000" cy="498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85760" y="356544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BIOSEQ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847880" y="3860640"/>
              <a:ext cx="1116000" cy="16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847880" y="3927600"/>
              <a:ext cx="111600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066760" y="37162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22520" y="5091120"/>
              <a:ext cx="1152720" cy="649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36000" y="5124600"/>
              <a:ext cx="8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522520" y="5419800"/>
              <a:ext cx="115272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522520" y="5622840"/>
              <a:ext cx="1152720" cy="117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63000" y="5437080"/>
              <a:ext cx="94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TEXT : CLO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758680" y="52689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124680" y="1725480"/>
              <a:ext cx="863640" cy="490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342840" y="1751040"/>
              <a:ext cx="48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24680" y="2046240"/>
              <a:ext cx="86364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124680" y="2114640"/>
              <a:ext cx="86364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216480" y="19033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205680" y="3573360"/>
              <a:ext cx="1341360" cy="497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68040" y="3606840"/>
              <a:ext cx="114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MOLECULE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05680" y="3902040"/>
              <a:ext cx="1341360" cy="16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05680" y="3970440"/>
              <a:ext cx="1341360" cy="100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40120" y="37591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521320" y="5083200"/>
              <a:ext cx="1422360" cy="496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699520" y="5116680"/>
              <a:ext cx="1226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TOPOLOGY_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21320" y="5411880"/>
              <a:ext cx="142236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21320" y="5479920"/>
              <a:ext cx="1422360" cy="100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891040" y="52689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811160" y="1725480"/>
              <a:ext cx="1198800" cy="490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945800" y="1751040"/>
              <a:ext cx="105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STRAND_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11160" y="2046240"/>
              <a:ext cx="119880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11160" y="2114640"/>
              <a:ext cx="119880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066760" y="19033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13320" y="4686480"/>
              <a:ext cx="7920" cy="4809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4521240" y="5075280"/>
              <a:ext cx="4608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4476600" y="507528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2963520" y="3405240"/>
              <a:ext cx="819000" cy="2188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963880" y="3624120"/>
              <a:ext cx="11736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2963880" y="3555720"/>
              <a:ext cx="90360" cy="68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3306240" y="4324320"/>
              <a:ext cx="476280" cy="766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3306600" y="5024160"/>
              <a:ext cx="8892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3306600" y="4981680"/>
              <a:ext cx="828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5170320" y="2216160"/>
              <a:ext cx="971640" cy="5810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6078600" y="2216160"/>
              <a:ext cx="6336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6033960" y="2216160"/>
              <a:ext cx="10800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70320" y="3387600"/>
              <a:ext cx="1035360" cy="2620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 flipV="1">
              <a:off x="6114960" y="3590640"/>
              <a:ext cx="90720" cy="5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6087600" y="3649680"/>
              <a:ext cx="11772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170320" y="4054320"/>
              <a:ext cx="854280" cy="10288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5997240" y="4981680"/>
              <a:ext cx="27000" cy="101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5925960" y="5032080"/>
              <a:ext cx="98640" cy="50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2811600" y="2216160"/>
              <a:ext cx="971280" cy="5810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11600" y="2216160"/>
              <a:ext cx="10764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811600" y="2216160"/>
              <a:ext cx="6336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Qualifier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666720" y="1100160"/>
            <a:ext cx="8062920" cy="5338800"/>
            <a:chOff x="666720" y="1100160"/>
            <a:chExt cx="8062920" cy="5338800"/>
          </a:xfrm>
        </p:grpSpPr>
        <p:sp>
          <p:nvSpPr>
            <p:cNvPr id="1708" name=""/>
            <p:cNvSpPr/>
            <p:nvPr/>
          </p:nvSpPr>
          <p:spPr>
            <a:xfrm>
              <a:off x="3618000" y="2281320"/>
              <a:ext cx="1116000" cy="1863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70000" y="2449440"/>
              <a:ext cx="60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IFI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618000" y="2592360"/>
              <a:ext cx="1116000" cy="15526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618000" y="4010040"/>
              <a:ext cx="111600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89000" y="261000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789000" y="2744640"/>
              <a:ext cx="61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789720" y="287964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788640" y="301464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88640" y="314964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89000" y="3284640"/>
              <a:ext cx="29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789000" y="341964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89000" y="355428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89000" y="368928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9000" y="382428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41400" y="231444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11080" y="2398680"/>
              <a:ext cx="83664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99640" y="243216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PTFAMI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11080" y="2719440"/>
              <a:ext cx="836640" cy="15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280" y="25765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410000" y="1530360"/>
              <a:ext cx="99864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500720" y="1563840"/>
              <a:ext cx="79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MODB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410000" y="1859040"/>
              <a:ext cx="99864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509360" y="17161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6720" y="3951360"/>
              <a:ext cx="158436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37640" y="3984480"/>
              <a:ext cx="143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_RELATION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66720" y="4280040"/>
              <a:ext cx="158436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53360" y="412740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92000" y="3562200"/>
              <a:ext cx="865440" cy="338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90360" y="3595680"/>
              <a:ext cx="49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PTUN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92000" y="3890880"/>
              <a:ext cx="865440" cy="9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18280" y="37479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20000" y="1706400"/>
              <a:ext cx="1584360" cy="338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93080" y="1741320"/>
              <a:ext cx="146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LATIONEXCE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20000" y="2035080"/>
              <a:ext cx="1584360" cy="9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06640" y="18842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4360" y="1968480"/>
              <a:ext cx="144936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7080" y="1994040"/>
              <a:ext cx="1308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TATIONSEQ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84360" y="2289240"/>
              <a:ext cx="144936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08720" y="21463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91080" y="1192320"/>
              <a:ext cx="123192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72800" y="1217520"/>
              <a:ext cx="108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DONEXCE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91080" y="1512720"/>
              <a:ext cx="1231920" cy="17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06360" y="13701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759720" y="1192320"/>
              <a:ext cx="145728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847920" y="1217520"/>
              <a:ext cx="127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_QUALIFI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759720" y="1512720"/>
              <a:ext cx="1457280" cy="17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082640" y="13701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407360" y="2095560"/>
              <a:ext cx="117936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489080" y="2128680"/>
              <a:ext cx="1008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MUNO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407360" y="2424240"/>
              <a:ext cx="117936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85920" y="227160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449360" y="5072040"/>
              <a:ext cx="112572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30000" y="5105520"/>
              <a:ext cx="95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GNAL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49360" y="5400720"/>
              <a:ext cx="1125720" cy="9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02720" y="52498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76720" y="5072040"/>
              <a:ext cx="119700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258080" y="5105520"/>
              <a:ext cx="1021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URCE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76720" y="5400720"/>
              <a:ext cx="1197000" cy="9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365000" y="52498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74000" y="3386160"/>
              <a:ext cx="1655640" cy="344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64720" y="3419640"/>
              <a:ext cx="148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STRUCTURE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74000" y="3714840"/>
              <a:ext cx="1655640" cy="15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497000" y="35701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370640" y="2955960"/>
              <a:ext cx="971640" cy="344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470720" y="298944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NA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370640" y="3284640"/>
              <a:ext cx="971640" cy="15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450920" y="31417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12080" y="2567160"/>
              <a:ext cx="141264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93080" y="2600280"/>
              <a:ext cx="1263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012080" y="2895480"/>
              <a:ext cx="1412640" cy="17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315920" y="275256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147080" y="4211640"/>
              <a:ext cx="133164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235640" y="4237200"/>
              <a:ext cx="114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RIATION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147080" y="4532400"/>
              <a:ext cx="133164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406640" y="43894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71720" y="4557600"/>
              <a:ext cx="954000" cy="338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144440" y="4583160"/>
              <a:ext cx="8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EVIDE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71720" y="4878360"/>
              <a:ext cx="954000" cy="17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43720" y="47354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236000" y="4641840"/>
              <a:ext cx="115236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326720" y="4676760"/>
              <a:ext cx="95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NUCSOU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236000" y="4962600"/>
              <a:ext cx="115236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406640" y="48196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343640" y="3773520"/>
              <a:ext cx="111600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34000" y="3807000"/>
              <a:ext cx="9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ORGANEL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343640" y="4102200"/>
              <a:ext cx="111600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97000" y="39592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769000" y="5030640"/>
              <a:ext cx="95400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850000" y="506412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769000" y="5351400"/>
              <a:ext cx="954000" cy="15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51360" y="520704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ENTRYINFO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04000" y="5030640"/>
              <a:ext cx="99864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875640" y="5064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TX_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04000" y="5351400"/>
              <a:ext cx="998640" cy="15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01560" y="52070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5460840"/>
              <a:ext cx="142236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93000" y="5494320"/>
              <a:ext cx="125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SEQUENCED_M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21360" y="5789520"/>
              <a:ext cx="142236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427000" y="56372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394080" y="1100160"/>
              <a:ext cx="165564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75800" y="11336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TEINCODING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394080" y="1428840"/>
              <a:ext cx="165564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15640" y="12859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943360" y="4962600"/>
              <a:ext cx="900000" cy="388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68720" y="499572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988360" y="51404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043000" y="5460840"/>
              <a:ext cx="104472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124360" y="54943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V_AMINOAC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043000" y="5789520"/>
              <a:ext cx="104472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159640" y="563724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84360" y="3174840"/>
              <a:ext cx="90000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65080" y="3208320"/>
              <a:ext cx="54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ENT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84360" y="3503520"/>
              <a:ext cx="90000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9360" y="336060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38080" y="2786040"/>
              <a:ext cx="115092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27000" y="2820960"/>
              <a:ext cx="97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TATIONBIO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38080" y="3106800"/>
              <a:ext cx="115092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008720" y="29638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3720" y="1360440"/>
              <a:ext cx="1079280" cy="33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43640" y="1395360"/>
              <a:ext cx="91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BASE_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63720" y="1690560"/>
              <a:ext cx="1079280" cy="7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097640" y="153828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24000" y="1100160"/>
              <a:ext cx="116208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204280" y="1133640"/>
              <a:ext cx="979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BASE_XRE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124000" y="1428840"/>
              <a:ext cx="1162080" cy="17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294640" y="12859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DATALI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529080" y="5511960"/>
              <a:ext cx="1116000" cy="927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753000" y="568008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529080" y="5830920"/>
              <a:ext cx="1116000" cy="608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529080" y="6303960"/>
              <a:ext cx="111600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690720" y="5848200"/>
              <a:ext cx="31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690720" y="5983200"/>
              <a:ext cx="37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AL#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691080" y="611820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552480" y="554508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2673360" y="4043520"/>
              <a:ext cx="936720" cy="1417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2673360" y="5392440"/>
              <a:ext cx="90360" cy="68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2673360" y="5351400"/>
              <a:ext cx="1908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2673360" y="4043520"/>
              <a:ext cx="936720" cy="1417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2673360" y="5392440"/>
              <a:ext cx="90360" cy="68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73360" y="5351400"/>
              <a:ext cx="1908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194000" y="1446120"/>
              <a:ext cx="19080" cy="8352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213080" y="144612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4167000" y="1446120"/>
              <a:ext cx="4572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734000" y="3570120"/>
              <a:ext cx="2305080" cy="14511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6975000" y="4937040"/>
              <a:ext cx="6372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 flipV="1">
              <a:off x="6931080" y="5005440"/>
              <a:ext cx="10800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4734000" y="1530360"/>
              <a:ext cx="2448000" cy="13651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7120080" y="1530360"/>
              <a:ext cx="6192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7066080" y="1530360"/>
              <a:ext cx="11592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4734000" y="2044800"/>
              <a:ext cx="2609640" cy="9604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7262280" y="2044800"/>
              <a:ext cx="81000" cy="75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7227720" y="2044800"/>
              <a:ext cx="1159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1971360" y="3394080"/>
              <a:ext cx="1638360" cy="5572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71720" y="3951360"/>
              <a:ext cx="108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1971720" y="3875040"/>
              <a:ext cx="8100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000" y="1875960"/>
              <a:ext cx="198360" cy="4050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824360" y="1876320"/>
              <a:ext cx="1800" cy="100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4743000" y="1876320"/>
              <a:ext cx="81000" cy="66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 flipV="1">
              <a:off x="1647360" y="2651040"/>
              <a:ext cx="1962360" cy="4399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1647720" y="2635200"/>
              <a:ext cx="10800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647720" y="2651040"/>
              <a:ext cx="9072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1854000" y="2306160"/>
              <a:ext cx="1755720" cy="6829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854360" y="2306520"/>
              <a:ext cx="10764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854360" y="2306520"/>
              <a:ext cx="72720" cy="74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1657440" y="3309840"/>
              <a:ext cx="1952640" cy="346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657440" y="3656160"/>
              <a:ext cx="11592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657440" y="3595680"/>
              <a:ext cx="98280" cy="60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734000" y="1530360"/>
              <a:ext cx="1197000" cy="1146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5886360" y="153036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823000" y="153036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734000" y="2406600"/>
              <a:ext cx="2673360" cy="6667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7316640" y="2406600"/>
              <a:ext cx="9072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 flipV="1">
              <a:off x="7289280" y="2390760"/>
              <a:ext cx="11772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2187360" y="3730680"/>
              <a:ext cx="1422360" cy="13413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2187720" y="5030280"/>
              <a:ext cx="10764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2187720" y="4970520"/>
              <a:ext cx="44280" cy="101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446720" y="4145040"/>
              <a:ext cx="269640" cy="9270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4716360" y="4962600"/>
              <a:ext cx="1764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 flipV="1">
              <a:off x="4653000" y="4987800"/>
              <a:ext cx="6336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734000" y="3267000"/>
              <a:ext cx="2340000" cy="211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flipV="1">
              <a:off x="6975360" y="3427200"/>
              <a:ext cx="98640" cy="50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6966000" y="3478320"/>
              <a:ext cx="108000" cy="33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4734000" y="3141360"/>
              <a:ext cx="2636640" cy="586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7272000" y="3141720"/>
              <a:ext cx="9828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 flipV="1">
              <a:off x="7272000" y="3098520"/>
              <a:ext cx="982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734000" y="2828880"/>
              <a:ext cx="2278080" cy="3031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6912000" y="2828880"/>
              <a:ext cx="100080" cy="5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6901920" y="2803680"/>
              <a:ext cx="109800" cy="25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34000" y="3394080"/>
              <a:ext cx="2547720" cy="8096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7201080" y="4135320"/>
              <a:ext cx="8064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7173720" y="4203720"/>
              <a:ext cx="10764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846080" y="3529080"/>
              <a:ext cx="1763640" cy="1020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1846440" y="4532400"/>
              <a:ext cx="107640" cy="17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1846440" y="4465440"/>
              <a:ext cx="61560" cy="83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34000" y="3452760"/>
              <a:ext cx="2690640" cy="11811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 flipV="1">
              <a:off x="7343280" y="4557600"/>
              <a:ext cx="8100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7308720" y="4633920"/>
              <a:ext cx="1159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734000" y="3317760"/>
              <a:ext cx="2609640" cy="514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 flipV="1">
              <a:off x="7254360" y="3773160"/>
              <a:ext cx="88920" cy="5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7235640" y="3832200"/>
              <a:ext cx="107640" cy="25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734000" y="3747960"/>
              <a:ext cx="1332000" cy="1273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 flipV="1">
              <a:off x="6021360" y="492912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5958000" y="497952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34000" y="3747960"/>
              <a:ext cx="1332000" cy="1273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 flipV="1">
              <a:off x="6021360" y="492912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 flipV="1">
              <a:off x="5958000" y="497952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734000" y="3570120"/>
              <a:ext cx="2305080" cy="14511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6975000" y="4937040"/>
              <a:ext cx="6372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 flipV="1">
              <a:off x="6931080" y="5005440"/>
              <a:ext cx="10800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34000" y="3570120"/>
              <a:ext cx="2305080" cy="14511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 flipV="1">
              <a:off x="6975000" y="4937040"/>
              <a:ext cx="63720" cy="84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 flipV="1">
              <a:off x="6931080" y="5005440"/>
              <a:ext cx="10800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734000" y="4025880"/>
              <a:ext cx="981000" cy="14349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 flipV="1">
              <a:off x="5697000" y="5351400"/>
              <a:ext cx="1764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5616360" y="5400360"/>
              <a:ext cx="98280" cy="60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4194000" y="1446120"/>
              <a:ext cx="19080" cy="8352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213080" y="144612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4167000" y="1446120"/>
              <a:ext cx="4572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3465360" y="4145040"/>
              <a:ext cx="333360" cy="8096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3465360" y="4878360"/>
              <a:ext cx="8100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3465360" y="4853160"/>
              <a:ext cx="1800" cy="101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2673360" y="4043520"/>
              <a:ext cx="936720" cy="1417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673360" y="5392440"/>
              <a:ext cx="90360" cy="68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2673360" y="5351400"/>
              <a:ext cx="1908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1584000" y="3233880"/>
              <a:ext cx="2025720" cy="838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584360" y="331776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1584360" y="3276720"/>
              <a:ext cx="10008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 flipV="1">
              <a:off x="1988640" y="3004920"/>
              <a:ext cx="1621080" cy="1522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1989000" y="2980800"/>
              <a:ext cx="108000" cy="24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89000" y="3005280"/>
              <a:ext cx="90720" cy="50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 flipV="1">
              <a:off x="1773360" y="1698120"/>
              <a:ext cx="1836720" cy="11638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73360" y="1698480"/>
              <a:ext cx="108000" cy="25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73360" y="1698480"/>
              <a:ext cx="6336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flipV="1">
              <a:off x="2835360" y="1446120"/>
              <a:ext cx="774720" cy="10288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35360" y="1446120"/>
              <a:ext cx="90360" cy="49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835360" y="1446120"/>
              <a:ext cx="19080" cy="100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4095720" y="4145040"/>
              <a:ext cx="44640" cy="13669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4095720" y="5417640"/>
              <a:ext cx="44640" cy="93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 flipV="1">
              <a:off x="4059000" y="5417640"/>
              <a:ext cx="36360" cy="93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onomy Persistence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1324080" y="1623960"/>
            <a:ext cx="6792840" cy="3649680"/>
            <a:chOff x="1324080" y="1623960"/>
            <a:chExt cx="6792840" cy="3649680"/>
          </a:xfrm>
        </p:grpSpPr>
        <p:sp>
          <p:nvSpPr>
            <p:cNvPr id="1949" name=""/>
            <p:cNvSpPr/>
            <p:nvPr/>
          </p:nvSpPr>
          <p:spPr>
            <a:xfrm>
              <a:off x="7054920" y="3243240"/>
              <a:ext cx="99864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172640" y="32767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TX_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054920" y="3419640"/>
              <a:ext cx="998640" cy="160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054920" y="3487680"/>
              <a:ext cx="998640" cy="92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324080" y="1743120"/>
              <a:ext cx="1780920" cy="187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78200" y="1911240"/>
              <a:ext cx="47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STax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24080" y="2063880"/>
              <a:ext cx="1780920" cy="154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324080" y="3478320"/>
              <a:ext cx="178092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548360" y="2079720"/>
              <a:ext cx="58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90400" y="221472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entId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64920" y="2349360"/>
              <a:ext cx="83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dden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554120" y="248436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nk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91480" y="2619360"/>
              <a:ext cx="76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iName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90760" y="2754360"/>
              <a:ext cx="1079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iNameUpper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89320" y="288936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lTableId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88240" y="3024360"/>
              <a:ext cx="1415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heritTranslTable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87520" y="3159000"/>
              <a:ext cx="158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ganelTranslTableId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488600" y="3294000"/>
              <a:ext cx="1503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heritOrganelTable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32040" y="1776240"/>
              <a:ext cx="87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Persistenc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481640" y="3790800"/>
              <a:ext cx="1268280" cy="1482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737240" y="3959280"/>
              <a:ext cx="86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_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481640" y="4254480"/>
              <a:ext cx="1268280" cy="1019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481640" y="5130720"/>
              <a:ext cx="1268280" cy="142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90440" y="427032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698720" y="4405320"/>
              <a:ext cx="61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_TX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92960" y="4540320"/>
              <a:ext cx="83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NIQUE_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04840" y="4675320"/>
              <a:ext cx="76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_CLA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712760" y="4809960"/>
              <a:ext cx="1067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PPER_NAME_TX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698000" y="4944960"/>
              <a:ext cx="54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OR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89360" y="4111560"/>
              <a:ext cx="97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CORBADEV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86040" y="382428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55640" y="4002120"/>
              <a:ext cx="1125720" cy="1060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788480" y="4170240"/>
              <a:ext cx="82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STax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655640" y="4321080"/>
              <a:ext cx="1125720" cy="741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55640" y="4929120"/>
              <a:ext cx="1125720" cy="133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72360" y="4338720"/>
              <a:ext cx="58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 : decim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878120" y="4473720"/>
              <a:ext cx="60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814760" y="4608360"/>
              <a:ext cx="89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Class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815120" y="4743360"/>
              <a:ext cx="919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Upper : ch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832040" y="4035600"/>
              <a:ext cx="87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Persistenc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627360" y="4532400"/>
              <a:ext cx="854280" cy="42840"/>
            </a:xfrm>
            <a:custGeom>
              <a:avLst/>
              <a:gdLst/>
              <a:ahLst/>
              <a:rect l="l" t="t" r="r" b="b"/>
              <a:pathLst>
                <a:path w="95" h="5">
                  <a:moveTo>
                    <a:pt x="0" y="0"/>
                  </a:moveTo>
                  <a:lnTo>
                    <a:pt x="95" y="0"/>
                  </a:lnTo>
                  <a:lnTo>
                    <a:pt x="83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flipV="1">
              <a:off x="4373640" y="448920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2781360" y="4532400"/>
              <a:ext cx="846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302000" y="1623960"/>
              <a:ext cx="1717920" cy="202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004360" y="1793880"/>
              <a:ext cx="39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02000" y="2087640"/>
              <a:ext cx="1717920" cy="1560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302000" y="3503520"/>
              <a:ext cx="1717920" cy="144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500000" y="2104920"/>
              <a:ext cx="115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519800" y="223992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ENT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506480" y="2374920"/>
              <a:ext cx="31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512240" y="2509920"/>
              <a:ext cx="58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I_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526640" y="2644920"/>
              <a:ext cx="104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I_NAME_UPP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504320" y="277956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DD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536720" y="2914560"/>
              <a:ext cx="87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L_T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543560" y="3049560"/>
              <a:ext cx="132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HERIT_TRANSL_TAB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563000" y="3184560"/>
              <a:ext cx="150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GANEL_TRANSL_T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550400" y="3319560"/>
              <a:ext cx="1506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HERIT_ORGANEL_T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743360" y="1944720"/>
              <a:ext cx="97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CORBADEV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630320" y="165888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99000" y="2644920"/>
              <a:ext cx="603000" cy="41040"/>
            </a:xfrm>
            <a:custGeom>
              <a:avLst/>
              <a:gdLst/>
              <a:ahLst/>
              <a:rect l="l" t="t" r="r" b="b"/>
              <a:pathLst>
                <a:path w="67" h="5">
                  <a:moveTo>
                    <a:pt x="0" y="1"/>
                  </a:moveTo>
                  <a:lnTo>
                    <a:pt x="67" y="0"/>
                  </a:lnTo>
                  <a:lnTo>
                    <a:pt x="55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4194000" y="2611080"/>
              <a:ext cx="108000" cy="33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3105000" y="2652840"/>
              <a:ext cx="59400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4489560"/>
              <a:ext cx="846000" cy="34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409520" y="452448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TX_CLA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270920" y="4675320"/>
              <a:ext cx="846000" cy="160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4743360"/>
              <a:ext cx="846000" cy="92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749920" y="4565520"/>
              <a:ext cx="1521000" cy="684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 flipV="1">
              <a:off x="7172280" y="4590720"/>
              <a:ext cx="9864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H="1">
              <a:off x="7162920" y="463392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5749920" y="3579840"/>
              <a:ext cx="1430280" cy="6573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>
              <a:off x="7108920" y="3579840"/>
              <a:ext cx="7128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7072200" y="3579840"/>
              <a:ext cx="10800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019920" y="2914560"/>
              <a:ext cx="1035000" cy="336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 flipV="1">
              <a:off x="6964200" y="3174840"/>
              <a:ext cx="9072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6936840" y="3251160"/>
              <a:ext cx="1177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937200" y="1735200"/>
              <a:ext cx="1052640" cy="336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81200" y="1768320"/>
              <a:ext cx="909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TX_TAX_NO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937200" y="1911240"/>
              <a:ext cx="1052640" cy="160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937200" y="1978200"/>
              <a:ext cx="1052640" cy="93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019920" y="2071440"/>
              <a:ext cx="917280" cy="2854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6848640" y="2071800"/>
              <a:ext cx="8856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6821280" y="2063880"/>
              <a:ext cx="11556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 Reference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160880" y="1023840"/>
            <a:ext cx="1179360" cy="11988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1668600" y="1057320"/>
            <a:ext cx="5902200" cy="5286240"/>
            <a:chOff x="1668600" y="1057320"/>
            <a:chExt cx="5902200" cy="5286240"/>
          </a:xfrm>
        </p:grpSpPr>
        <p:sp>
          <p:nvSpPr>
            <p:cNvPr id="2034" name=""/>
            <p:cNvSpPr/>
            <p:nvPr/>
          </p:nvSpPr>
          <p:spPr>
            <a:xfrm>
              <a:off x="4089240" y="3718080"/>
              <a:ext cx="1322640" cy="1857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28920" y="3751200"/>
              <a:ext cx="104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erenceLibraryD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089240" y="3903840"/>
              <a:ext cx="1322640" cy="1671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089240" y="3970440"/>
              <a:ext cx="1322640" cy="16048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113000" y="405612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erenceLibrary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113720" y="4191120"/>
              <a:ext cx="925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eference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113000" y="4325760"/>
              <a:ext cx="1263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eferenceAuthor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114440" y="4460760"/>
              <a:ext cx="53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Un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114080" y="4595760"/>
              <a:ext cx="829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BibXrefs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14440" y="4730760"/>
              <a:ext cx="80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ucSeq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114440" y="486576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Patent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114080" y="5000760"/>
              <a:ext cx="73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hesis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13720" y="5135400"/>
              <a:ext cx="989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ubmission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114440" y="5272200"/>
              <a:ext cx="65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Book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114080" y="540720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JournalDB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96600" y="119232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BIB_XRE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160880" y="1344600"/>
              <a:ext cx="1179360" cy="878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160880" y="2087640"/>
              <a:ext cx="117936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0280" y="13622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26760" y="1496880"/>
              <a:ext cx="48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230000" y="163188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ARY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224240" y="176688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227480" y="1901880"/>
              <a:ext cx="51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220640" y="105732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712880" y="1184400"/>
              <a:ext cx="1378080" cy="2001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877400" y="1352520"/>
              <a:ext cx="1174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REFERE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712880" y="1496880"/>
              <a:ext cx="1378080" cy="1689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12880" y="3051000"/>
              <a:ext cx="137808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772280" y="151272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789920" y="164952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_ORDER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89200" y="1784520"/>
              <a:ext cx="666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_ORDER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76240" y="191916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78400" y="205416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R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802520" y="2189160"/>
              <a:ext cx="105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WER_SUR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87400" y="2324160"/>
              <a:ext cx="66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80920" y="245916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783080" y="2593800"/>
              <a:ext cx="53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784880" y="2728800"/>
              <a:ext cx="54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D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783800" y="2865600"/>
              <a:ext cx="45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71280" y="121752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668600" y="3473280"/>
              <a:ext cx="1376280" cy="793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08640" y="3641760"/>
              <a:ext cx="118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SUB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68600" y="3794040"/>
              <a:ext cx="1376280" cy="473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668600" y="4130640"/>
              <a:ext cx="1376280" cy="136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718280" y="380988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726920" y="394488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826640" y="350676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03240" y="4603680"/>
              <a:ext cx="1106640" cy="1731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011680" y="4773600"/>
              <a:ext cx="799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BOO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803240" y="4916520"/>
              <a:ext cx="1106640" cy="1419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803240" y="6200640"/>
              <a:ext cx="110664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53280" y="493380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848960" y="50688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B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63000" y="5203800"/>
              <a:ext cx="48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60840" y="533880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866600" y="5473800"/>
              <a:ext cx="61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PL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58680" y="560880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I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58680" y="574344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878120" y="588024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_P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878120" y="601488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ST_P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817280" y="463860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221520" y="1260360"/>
              <a:ext cx="1106280" cy="1333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377400" y="1428840"/>
              <a:ext cx="92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PAT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221520" y="1581120"/>
              <a:ext cx="1106280" cy="10126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221520" y="2459160"/>
              <a:ext cx="1106280" cy="13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271200" y="158904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279120" y="172404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CNU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298560" y="18604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C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91360" y="1995480"/>
              <a:ext cx="55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C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278760" y="213048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P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280920" y="22654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DER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35200" y="129384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446880" y="3000240"/>
              <a:ext cx="1116000" cy="793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612480" y="3168720"/>
              <a:ext cx="88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THES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446880" y="3321000"/>
              <a:ext cx="1116000" cy="473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46880" y="3649680"/>
              <a:ext cx="1116000" cy="144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506280" y="332892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525720" y="3463920"/>
              <a:ext cx="98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TE_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470280" y="303372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427800" y="4334040"/>
              <a:ext cx="1143000" cy="2009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561720" y="450216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RBA_JOUR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427800" y="4654440"/>
              <a:ext cx="1143000" cy="1689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427800" y="6208560"/>
              <a:ext cx="114300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504480" y="4672080"/>
              <a:ext cx="69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BLE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487200" y="4807080"/>
              <a:ext cx="34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496920" y="4941720"/>
              <a:ext cx="48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485040" y="50767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508440" y="5211720"/>
              <a:ext cx="64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P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508080" y="5346720"/>
              <a:ext cx="604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STP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525720" y="5483160"/>
              <a:ext cx="102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DER_ON_P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482880" y="5618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504120" y="5753160"/>
              <a:ext cx="67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ULL_NA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512400" y="5888160"/>
              <a:ext cx="83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MBL_ABBRE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506640" y="6022800"/>
              <a:ext cx="76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LM_ABBRE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70280" y="4367160"/>
              <a:ext cx="102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RelationalView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746600" y="2222640"/>
              <a:ext cx="44640" cy="742680"/>
            </a:xfrm>
            <a:custGeom>
              <a:avLst/>
              <a:gdLst/>
              <a:ahLst/>
              <a:rect l="l" t="t" r="r" b="b"/>
              <a:pathLst>
                <a:path w="5" h="88">
                  <a:moveTo>
                    <a:pt x="0" y="88"/>
                  </a:moveTo>
                  <a:lnTo>
                    <a:pt x="0" y="0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4700520" y="2222640"/>
              <a:ext cx="4608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746600" y="2965320"/>
              <a:ext cx="1440" cy="752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90960" y="2906640"/>
              <a:ext cx="493560" cy="52380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55" y="62"/>
                  </a:moveTo>
                  <a:lnTo>
                    <a:pt x="0" y="0"/>
                  </a:lnTo>
                  <a:lnTo>
                    <a:pt x="11" y="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90960" y="2906640"/>
              <a:ext cx="34920" cy="101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584520" y="3430440"/>
              <a:ext cx="495360" cy="524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044880" y="4089240"/>
              <a:ext cx="522360" cy="16848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58" y="20"/>
                  </a:moveTo>
                  <a:lnTo>
                    <a:pt x="0" y="1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44880" y="4097160"/>
              <a:ext cx="8100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567240" y="4257720"/>
              <a:ext cx="512640" cy="177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909880" y="5068800"/>
              <a:ext cx="585720" cy="211320"/>
            </a:xfrm>
            <a:custGeom>
              <a:avLst/>
              <a:gdLst/>
              <a:ahLst/>
              <a:rect l="l" t="t" r="r" b="b"/>
              <a:pathLst>
                <a:path w="65" h="25">
                  <a:moveTo>
                    <a:pt x="65" y="0"/>
                  </a:moveTo>
                  <a:lnTo>
                    <a:pt x="0" y="24"/>
                  </a:lnTo>
                  <a:lnTo>
                    <a:pt x="12" y="2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2909880" y="5203800"/>
              <a:ext cx="81000" cy="68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3495600" y="4875120"/>
              <a:ext cx="584280" cy="193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843520" y="2585880"/>
              <a:ext cx="432000" cy="59076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70"/>
                  </a:moveTo>
                  <a:lnTo>
                    <a:pt x="48" y="0"/>
                  </a:lnTo>
                  <a:lnTo>
                    <a:pt x="45" y="13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76880" y="2585880"/>
              <a:ext cx="98640" cy="59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5411520" y="3176640"/>
              <a:ext cx="431640" cy="582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24520" y="3708360"/>
              <a:ext cx="512640" cy="2793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33"/>
                  </a:moveTo>
                  <a:lnTo>
                    <a:pt x="57" y="0"/>
                  </a:lnTo>
                  <a:lnTo>
                    <a:pt x="50" y="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6329160" y="3708360"/>
              <a:ext cx="107640" cy="9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5411880" y="3987720"/>
              <a:ext cx="512640" cy="287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15160" y="5010120"/>
              <a:ext cx="512640" cy="1508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0"/>
                  </a:moveTo>
                  <a:lnTo>
                    <a:pt x="57" y="18"/>
                  </a:lnTo>
                  <a:lnTo>
                    <a:pt x="48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6311880" y="5160960"/>
              <a:ext cx="115920" cy="9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5411880" y="4849560"/>
              <a:ext cx="503280" cy="160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DL is not a modellin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L is not a modell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conceptual model is the abstract, logical and global structure of the doma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IDL represents an application specific API for tha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 usually deals with a subset of the conceptu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he Ideal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13716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441972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3434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81080" y="228564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257440" y="228564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57200" y="2782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5760" y="27417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mplementation asp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ere we speak of IDL implementation not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ings or enu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s or interf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ue types and O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f accessing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 wrapper or object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t strings vs en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ums fix the list of available values in the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the list changes the IDL must be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 clients must be using the same IDL as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s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e an indication of the values, more string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er will raise an exception if the client uses a value not recog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ums can be used to provide a kind of controlled vocabulary when the range of possible values is limited and well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and and sequenc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ould not work for example for a list of genetic codes, or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 const strings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ic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ue based (Strings, Sequence of Oct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 based (Generic CORBA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mai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ue based (structs, Un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 based (Domain CORBA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ype of data representation in ID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ic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CORBA IDL only for the infrastructure of the system and generic types to represent the data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 definitions do not reflect the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hieve for example by encoding the data objects in strings lik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« ((accession ‘ AC00001 ’) (species ’human ’))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 a CORBA object to represent the data but use a completely generic interface, independent from the structure of the represent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ic type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interface DBObjec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string getClassNam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any getAttribute(in string attribute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neric type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ase of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seful for general applications which are not interested in the semantics of the data like a tool for displaying data in the form of a table or a query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umbersome to use for specialis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objects are encoded in strings, have to be parsed and brought into an intern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omain specific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esent the data object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plifies the task of the clients since the data model is directly expressed in C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s representation must be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 ba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ry database entry is represented as a CORBA object us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lue ba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 the data as values represented by IDL 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erfaces vs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erface ProteinSequen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ttribute string access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ttribute string spec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ttribute string sequ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pports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ery access to an attribute is a remote invocation over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n be very slow if lot of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erfaces vs struct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uct ProteinSequen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ing access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ing descri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ing sequ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s are passed by value, access to individual fields is local and very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l of the struct must be retrieved before using it: cumbersome if only 1 field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able for bulk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he Infernal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3716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419720"/>
            <a:ext cx="2666880" cy="990360"/>
          </a:xfrm>
          <a:prstGeom prst="leftRightArrow">
            <a:avLst>
              <a:gd name="adj1" fmla="val 50000"/>
              <a:gd name="adj2" fmla="val 536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343400"/>
            <a:ext cx="243864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43434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33360" y="2286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409720" y="228564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2520" y="27417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040" y="27417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s-by-Value (OB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gap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transmitted in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tend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U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functionality (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-like (can be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of state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life cycle is mo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2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etho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ingle o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‘truncation’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mple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nnot be instanti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838080" y="1219320"/>
            <a:ext cx="739152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navigating from a Foo to a Bar (and/or back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Bar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def sequence&lt;Bar&gt;Ba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Fo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List getBars()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Bar {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getFoo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assuming Foo &lt;--&gt; *Bar cardinality, navigable both w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vigation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838080" y="1219320"/>
            <a:ext cx="739152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tructs (simple case: 1 way navigation from Foo -&gt; *B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uct Bar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def sequence&lt;Bar&gt;Ba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uct Foo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List related_bars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vigation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838080" y="1219320"/>
            <a:ext cx="7391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simple case: 2-way navig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uct Foo {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...;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def sequence&lt;Foo&gt;FooLis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uct Ba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.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pedef sequence&lt;Bar&gt;Bar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ception NotFound {string more_info; }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FooBar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 get_foo(in string foo_id) raises (NotFou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List get_related_bars(in string foo_id) raises (NotFound)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 get_bar(in string bar_id) raises (NotFound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List get_related_foos(in string bar_id) raises (NotFou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...;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2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multi-valu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to return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s that ‘point to’ elements in 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used to ‘step through’ the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 the client to choose between the scalability of iterators and the convenience of the lists returned by the iterators’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next_n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or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04920" y="2057400"/>
            <a:ext cx="8229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xception IteratorInvali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ring reas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6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face MapIter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ean next(out Map the_M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ises(IteratorInval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ean next_n(in unsigned long how_many, out MapList map_li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aises(IteratorInval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rese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destro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 // interface MapIt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33520" y="1447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(from Genomic Maps ID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BL IDL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1411200" y="1774800"/>
            <a:ext cx="6319800" cy="3316320"/>
            <a:chOff x="1411200" y="1774800"/>
            <a:chExt cx="6319800" cy="3316320"/>
          </a:xfrm>
        </p:grpSpPr>
        <p:sp>
          <p:nvSpPr>
            <p:cNvPr id="2192" name=""/>
            <p:cNvSpPr/>
            <p:nvPr/>
          </p:nvSpPr>
          <p:spPr>
            <a:xfrm>
              <a:off x="6597720" y="3209760"/>
              <a:ext cx="1133280" cy="497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97720" y="3065400"/>
              <a:ext cx="449280" cy="14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597720" y="3065400"/>
              <a:ext cx="449280" cy="144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951240" y="336060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om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23280" y="32259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03640" y="3209760"/>
              <a:ext cx="1143000" cy="497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3640" y="3065400"/>
              <a:ext cx="459000" cy="14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03640" y="3065400"/>
              <a:ext cx="459000" cy="144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601520" y="3360600"/>
              <a:ext cx="21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29200" y="32259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408720" y="4592520"/>
              <a:ext cx="1143000" cy="498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408720" y="4449600"/>
              <a:ext cx="458640" cy="14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408720" y="4449600"/>
              <a:ext cx="458640" cy="142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31640" y="4745160"/>
              <a:ext cx="62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bli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434280" y="46101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 flipV="1">
              <a:off x="5084640" y="3706560"/>
              <a:ext cx="1324080" cy="793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084640" y="3706920"/>
              <a:ext cx="108000" cy="17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084640" y="3706920"/>
              <a:ext cx="63720" cy="85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03640" y="1919160"/>
              <a:ext cx="1143000" cy="489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03640" y="1774800"/>
              <a:ext cx="459000" cy="14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03640" y="1774800"/>
              <a:ext cx="459000" cy="144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51320" y="2070000"/>
              <a:ext cx="62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ticco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29200" y="193500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03640" y="4592520"/>
              <a:ext cx="1143000" cy="498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03640" y="4449600"/>
              <a:ext cx="459000" cy="14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03640" y="4449600"/>
              <a:ext cx="459000" cy="142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42840" y="4745160"/>
              <a:ext cx="25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29200" y="46101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11200" y="4551480"/>
              <a:ext cx="1179720" cy="488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11200" y="4408560"/>
              <a:ext cx="476280" cy="14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11200" y="4408560"/>
              <a:ext cx="476280" cy="142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76680" y="470376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sd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63760" y="45687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11200" y="3166920"/>
              <a:ext cx="1187640" cy="498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11200" y="3024360"/>
              <a:ext cx="466920" cy="142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1200" y="3024360"/>
              <a:ext cx="466920" cy="142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841400" y="3319560"/>
              <a:ext cx="31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d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63760" y="31845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Module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246640" y="4838760"/>
              <a:ext cx="116208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6300720" y="4838760"/>
              <a:ext cx="10800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 flipV="1">
              <a:off x="6300720" y="4803480"/>
              <a:ext cx="10800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2463480" y="3665520"/>
              <a:ext cx="1639800" cy="8683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463840" y="3665520"/>
              <a:ext cx="108000" cy="7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463840" y="3665520"/>
              <a:ext cx="73080" cy="76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04840" y="3665520"/>
              <a:ext cx="1800" cy="7430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04840" y="3665520"/>
              <a:ext cx="4464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960200" y="3665520"/>
              <a:ext cx="4428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598840" y="3421080"/>
              <a:ext cx="1504800" cy="255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 flipV="1">
              <a:off x="3994200" y="3403440"/>
              <a:ext cx="109440" cy="43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994200" y="3446640"/>
              <a:ext cx="10944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680000" y="3706560"/>
              <a:ext cx="1440" cy="7426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80000" y="3706920"/>
              <a:ext cx="3492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633920" y="3706920"/>
              <a:ext cx="4608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5246640" y="3462480"/>
              <a:ext cx="134136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46640" y="3462480"/>
              <a:ext cx="9864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5246640" y="3420720"/>
              <a:ext cx="9864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80000" y="2408400"/>
              <a:ext cx="1440" cy="6570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4680000" y="2965320"/>
              <a:ext cx="34920" cy="100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4633920" y="2965320"/>
              <a:ext cx="46080" cy="100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2590920" y="4803840"/>
              <a:ext cx="1512720" cy="252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2590920" y="4770000"/>
              <a:ext cx="108000" cy="33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590920" y="480384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L for NSDB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587520" y="922320"/>
            <a:ext cx="7976880" cy="5555520"/>
            <a:chOff x="587520" y="922320"/>
            <a:chExt cx="7976880" cy="5555520"/>
          </a:xfrm>
        </p:grpSpPr>
        <p:sp>
          <p:nvSpPr>
            <p:cNvPr id="2256" name=""/>
            <p:cNvSpPr/>
            <p:nvPr/>
          </p:nvSpPr>
          <p:spPr>
            <a:xfrm>
              <a:off x="7277040" y="1960560"/>
              <a:ext cx="1287360" cy="649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507800" y="2120760"/>
              <a:ext cx="808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exact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277040" y="2273400"/>
              <a:ext cx="1287360" cy="336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277040" y="2475000"/>
              <a:ext cx="128736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74960" y="228924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ason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301160" y="1986120"/>
              <a:ext cx="118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Exception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5240" y="2610000"/>
              <a:ext cx="1170000" cy="64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72440" y="2779560"/>
              <a:ext cx="58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Seq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95240" y="3075120"/>
              <a:ext cx="1170000" cy="176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95240" y="3141720"/>
              <a:ext cx="117000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81080" y="29224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20080" y="264492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54240" y="5327640"/>
              <a:ext cx="1540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828520" y="5614920"/>
              <a:ext cx="60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830680" y="5783400"/>
              <a:ext cx="6746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830680" y="5851440"/>
              <a:ext cx="67464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808720" y="593568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Qualifier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5440" y="607068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Qualifier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09080" y="6205680"/>
              <a:ext cx="70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ucSeq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35720" y="634032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ocat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774880" y="1176480"/>
              <a:ext cx="163440" cy="150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638440" y="1471680"/>
              <a:ext cx="40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217600" y="1631880"/>
              <a:ext cx="1386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217600" y="1698480"/>
              <a:ext cx="1386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684520" y="1782720"/>
              <a:ext cx="44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eq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503080" y="1917720"/>
              <a:ext cx="79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heckSum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556000" y="2054160"/>
              <a:ext cx="71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opology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430000" y="2189160"/>
              <a:ext cx="95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MoleculeTyp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457720" y="2324160"/>
              <a:ext cx="89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ucFeature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429280" y="2459160"/>
              <a:ext cx="948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ocalLocat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503080" y="2593800"/>
              <a:ext cx="79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Organism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277000" y="2728800"/>
              <a:ext cx="1227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ucFeaturesByKey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584080" y="2863800"/>
              <a:ext cx="64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ubSeq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312640" y="2998800"/>
              <a:ext cx="1175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ubSeqByFeatur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303640" y="3133800"/>
              <a:ext cx="120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eferenceLocat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41960" y="1176480"/>
              <a:ext cx="161640" cy="150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178880" y="140328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mbl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124520" y="161460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84240" y="5075280"/>
              <a:ext cx="1160640" cy="64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160640" y="524340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Feature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84240" y="5538960"/>
              <a:ext cx="1160640" cy="177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84240" y="5607000"/>
              <a:ext cx="116064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270080" y="538632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99720" y="510840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558120" y="3732120"/>
              <a:ext cx="1160280" cy="641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815160" y="3902040"/>
              <a:ext cx="61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cation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558120" y="4197240"/>
              <a:ext cx="1160280" cy="176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558120" y="4264200"/>
              <a:ext cx="11602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843960" y="40528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582960" y="376704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019160" y="3732120"/>
              <a:ext cx="1179360" cy="641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87560" y="3902040"/>
              <a:ext cx="101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Location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019160" y="4197240"/>
              <a:ext cx="1179360" cy="176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19160" y="4264200"/>
              <a:ext cx="117936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16160" y="40528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3360" y="376704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242120" y="922320"/>
              <a:ext cx="1170000" cy="649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499520" y="1090440"/>
              <a:ext cx="64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tryInfo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242120" y="1387440"/>
              <a:ext cx="1170000" cy="1843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242120" y="1454040"/>
              <a:ext cx="1170000" cy="117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537680" y="1243080"/>
              <a:ext cx="58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nsd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274880" y="95580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143760" y="1176480"/>
              <a:ext cx="152280" cy="150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87880" y="147168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tryInf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89680" y="1631880"/>
              <a:ext cx="711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89680" y="1698480"/>
              <a:ext cx="711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852880" y="1782720"/>
              <a:ext cx="810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EntryNam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07160" y="1917720"/>
              <a:ext cx="89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EntryVers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834520" y="2054160"/>
              <a:ext cx="83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EntryStatu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897520" y="2189160"/>
              <a:ext cx="73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evision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789160" y="2324160"/>
              <a:ext cx="94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econdaryId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52960" y="245916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ountA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52960" y="2593800"/>
              <a:ext cx="62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ountC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43600" y="27288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ountG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60880" y="2863800"/>
              <a:ext cx="61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ountT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24320" y="3986280"/>
              <a:ext cx="1540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23520" y="4281480"/>
              <a:ext cx="43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792680" y="4441680"/>
              <a:ext cx="1098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792680" y="4508640"/>
              <a:ext cx="1098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842720" y="4594320"/>
              <a:ext cx="97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ocationString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051160" y="472932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ode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115240" y="4863960"/>
              <a:ext cx="44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eq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54240" y="3986280"/>
              <a:ext cx="1540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709360" y="428148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Lo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703600" y="4441680"/>
              <a:ext cx="927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703600" y="4508640"/>
              <a:ext cx="927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737440" y="4594320"/>
              <a:ext cx="837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ucFeatur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431120" y="4940280"/>
              <a:ext cx="16200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67400" y="5226120"/>
              <a:ext cx="26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mb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142040" y="5396040"/>
              <a:ext cx="7844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142040" y="5462640"/>
              <a:ext cx="7844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177320" y="5538960"/>
              <a:ext cx="70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EmblSeq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1658880" y="1977840"/>
              <a:ext cx="558720" cy="631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2190240" y="1978200"/>
              <a:ext cx="27000" cy="99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2117520" y="1978200"/>
              <a:ext cx="99720" cy="50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2928600" y="1251000"/>
              <a:ext cx="1413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928960" y="1184400"/>
              <a:ext cx="171360" cy="12672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0" y="42"/>
                  </a:moveTo>
                  <a:lnTo>
                    <a:pt x="108" y="80"/>
                  </a:lnTo>
                  <a:lnTo>
                    <a:pt x="10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44880" y="5396040"/>
              <a:ext cx="90144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2946240" y="5396040"/>
              <a:ext cx="10008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flipV="1">
              <a:off x="2946240" y="5352840"/>
              <a:ext cx="1000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6286680" y="1251000"/>
              <a:ext cx="95544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286680" y="1251000"/>
              <a:ext cx="10944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6286680" y="1209240"/>
              <a:ext cx="10944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95680" y="1251000"/>
              <a:ext cx="1638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54760" y="1184400"/>
              <a:ext cx="179280" cy="126720"/>
            </a:xfrm>
            <a:custGeom>
              <a:avLst/>
              <a:gdLst/>
              <a:ahLst/>
              <a:rect l="l" t="t" r="r" b="b"/>
              <a:pathLst>
                <a:path w="113" h="80">
                  <a:moveTo>
                    <a:pt x="113" y="42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11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5369040" y="4052880"/>
              <a:ext cx="117936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369040" y="405288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5369040" y="401112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98520" y="4052880"/>
              <a:ext cx="84780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2946240" y="4052880"/>
              <a:ext cx="1000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 flipV="1">
              <a:off x="2946240" y="4011120"/>
              <a:ext cx="10008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208320" y="4052880"/>
              <a:ext cx="20080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035680" y="3994200"/>
              <a:ext cx="180720" cy="119160"/>
            </a:xfrm>
            <a:custGeom>
              <a:avLst/>
              <a:gdLst/>
              <a:ahLst/>
              <a:rect l="l" t="t" r="r" b="b"/>
              <a:pathLst>
                <a:path w="114" h="75">
                  <a:moveTo>
                    <a:pt x="114" y="37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1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341960" y="2340000"/>
              <a:ext cx="161640" cy="15228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224240" y="256860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Inf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000680" y="2795760"/>
              <a:ext cx="927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000680" y="2863800"/>
              <a:ext cx="927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051440" y="2948040"/>
              <a:ext cx="81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Descript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088880" y="3083040"/>
              <a:ext cx="74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Keyword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062600" y="3218040"/>
              <a:ext cx="79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omment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143240" y="335268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DbXref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051440" y="3487680"/>
              <a:ext cx="82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eference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35680" y="5327640"/>
              <a:ext cx="16164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964040" y="55468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586400" y="5783400"/>
              <a:ext cx="1143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586400" y="5851440"/>
              <a:ext cx="1143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799520" y="5935680"/>
              <a:ext cx="72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FeatureId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35600" y="6070680"/>
              <a:ext cx="43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Key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644720" y="620568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FeatureVers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208320" y="5396040"/>
              <a:ext cx="18176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856040" y="53355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107" y="38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028880" y="1176480"/>
              <a:ext cx="153720" cy="150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09720" y="140328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oSe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87520" y="1631880"/>
              <a:ext cx="1125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7520" y="1698480"/>
              <a:ext cx="1125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93080" y="1782720"/>
              <a:ext cx="70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BioSeqId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55000" y="1917720"/>
              <a:ext cx="58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ength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20080" y="2054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AnySeq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47640" y="2189160"/>
              <a:ext cx="99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BioSeqVersi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1172880" y="1251000"/>
              <a:ext cx="15937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173240" y="1184400"/>
              <a:ext cx="179280" cy="126720"/>
            </a:xfrm>
            <a:custGeom>
              <a:avLst/>
              <a:gdLst/>
              <a:ahLst/>
              <a:rect l="l" t="t" r="r" b="b"/>
              <a:pathLst>
                <a:path w="113" h="80">
                  <a:moveTo>
                    <a:pt x="0" y="42"/>
                  </a:moveTo>
                  <a:lnTo>
                    <a:pt x="113" y="80"/>
                  </a:lnTo>
                  <a:lnTo>
                    <a:pt x="11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22600" y="1749600"/>
              <a:ext cx="1800" cy="582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361040" y="2171880"/>
              <a:ext cx="125280" cy="16020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39" y="101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he Extra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3716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cep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4495680"/>
            <a:ext cx="1143000" cy="990720"/>
          </a:xfrm>
          <a:prstGeom prst="leftRightArrow">
            <a:avLst>
              <a:gd name="adj1" fmla="val 50000"/>
              <a:gd name="adj2" fmla="val 2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648320"/>
            <a:ext cx="1752480" cy="7617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4648320"/>
            <a:ext cx="198108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95680" y="2286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409720" y="2286000"/>
            <a:ext cx="221004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4960" y="31971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2789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648320"/>
            <a:ext cx="2227320" cy="755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al/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360" y="45687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L for Taxonomy V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2038320" y="1959120"/>
            <a:ext cx="5211720" cy="2922480"/>
            <a:chOff x="2038320" y="1959120"/>
            <a:chExt cx="5211720" cy="2922480"/>
          </a:xfrm>
        </p:grpSpPr>
        <p:sp>
          <p:nvSpPr>
            <p:cNvPr id="2401" name=""/>
            <p:cNvSpPr/>
            <p:nvPr/>
          </p:nvSpPr>
          <p:spPr>
            <a:xfrm>
              <a:off x="2038320" y="1959120"/>
              <a:ext cx="1071720" cy="930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374200" y="212868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38320" y="2281320"/>
              <a:ext cx="1071720" cy="608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038320" y="2752560"/>
              <a:ext cx="1071720" cy="136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18960" y="229716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128680" y="243216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126880" y="256716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ss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063880" y="1994040"/>
              <a:ext cx="97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973680" y="2179800"/>
              <a:ext cx="1160280" cy="488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13800" y="2347920"/>
              <a:ext cx="65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ynonym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973680" y="2492280"/>
              <a:ext cx="1160280" cy="176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973680" y="2558880"/>
              <a:ext cx="1160280" cy="109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998520" y="221292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3109680" y="2424240"/>
              <a:ext cx="86364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110040" y="242424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3110040" y="238104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82960" y="3683160"/>
              <a:ext cx="1081080" cy="1198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459160" y="385128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082960" y="4003560"/>
              <a:ext cx="1081080" cy="878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082960" y="4746600"/>
              <a:ext cx="108108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163600" y="401940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173320" y="415440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172960" y="4281480"/>
              <a:ext cx="60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nk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89160" y="4416480"/>
              <a:ext cx="858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ent_id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06000" y="45514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dden : boole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8520" y="3716280"/>
              <a:ext cx="97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064040" y="4037040"/>
              <a:ext cx="1170000" cy="490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393080" y="420516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064040" y="4349880"/>
              <a:ext cx="1170000" cy="177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064040" y="4416480"/>
              <a:ext cx="1170000" cy="111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096800" y="407052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164040" y="4281480"/>
              <a:ext cx="900000" cy="1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164040" y="4281480"/>
              <a:ext cx="982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3164040" y="4239720"/>
              <a:ext cx="9828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413400" y="2441520"/>
              <a:ext cx="16200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66160" y="2736720"/>
              <a:ext cx="53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om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64400" y="2897280"/>
              <a:ext cx="13856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864400" y="2963880"/>
              <a:ext cx="13856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013800" y="3049560"/>
              <a:ext cx="105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axonsByNam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923080" y="3184560"/>
              <a:ext cx="121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ynonymsByNam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76240" y="33195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ax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149160" y="345456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ynonym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229800" y="3589200"/>
              <a:ext cx="64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ineag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257880" y="3724200"/>
              <a:ext cx="57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Parent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22240" y="385920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hildre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002640" y="3994200"/>
              <a:ext cx="109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ranslationTabl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L For Taxonomy 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2308320" y="2378160"/>
            <a:ext cx="4728960" cy="3301200"/>
            <a:chOff x="2308320" y="2378160"/>
            <a:chExt cx="4728960" cy="3301200"/>
          </a:xfrm>
        </p:grpSpPr>
        <p:sp>
          <p:nvSpPr>
            <p:cNvPr id="2449" name=""/>
            <p:cNvSpPr/>
            <p:nvPr/>
          </p:nvSpPr>
          <p:spPr>
            <a:xfrm>
              <a:off x="4138560" y="2529000"/>
              <a:ext cx="1162080" cy="490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379040" y="2689200"/>
              <a:ext cx="65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ynonym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38560" y="2841480"/>
              <a:ext cx="1162080" cy="177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138560" y="2909880"/>
              <a:ext cx="11620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163400" y="255420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340000" y="2378160"/>
              <a:ext cx="1079640" cy="7840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685240" y="2546280"/>
              <a:ext cx="47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ynony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340000" y="2689200"/>
              <a:ext cx="1079640" cy="473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340000" y="3027240"/>
              <a:ext cx="107964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430360" y="270684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428200" y="284148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ss : st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365560" y="2411280"/>
              <a:ext cx="97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3419280" y="2774880"/>
              <a:ext cx="718920" cy="1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419640" y="2774880"/>
              <a:ext cx="98280" cy="33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3419640" y="2731680"/>
              <a:ext cx="982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717640" y="3862440"/>
              <a:ext cx="152640" cy="15228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625840" y="41576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27280" y="4317840"/>
              <a:ext cx="711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27280" y="4386240"/>
              <a:ext cx="711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689560" y="4470480"/>
              <a:ext cx="33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Id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581920" y="4605480"/>
              <a:ext cx="54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Nam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8840" y="4740120"/>
              <a:ext cx="50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Rank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453400" y="487512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Synonyms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553840" y="5010120"/>
              <a:ext cx="60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Hidde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571480" y="5145120"/>
              <a:ext cx="57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Parent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526480" y="5280120"/>
              <a:ext cx="66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Childre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08320" y="5407200"/>
              <a:ext cx="109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ranslationTabl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534040" y="5541840"/>
              <a:ext cx="64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Lineag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138560" y="3686040"/>
              <a:ext cx="1162080" cy="489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460040" y="385452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Li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138560" y="4006800"/>
              <a:ext cx="1162080" cy="16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138560" y="4073400"/>
              <a:ext cx="1162080" cy="1018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163400" y="3719520"/>
              <a:ext cx="109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2862000" y="3930480"/>
              <a:ext cx="1276200" cy="1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62360" y="393048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2862360" y="3895200"/>
              <a:ext cx="10800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99280" y="2874960"/>
              <a:ext cx="162000" cy="14436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53760" y="3170160"/>
              <a:ext cx="65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xonSer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840280" y="3330720"/>
              <a:ext cx="1197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840280" y="3398760"/>
              <a:ext cx="1197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152400" y="34830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axon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899320" y="3610080"/>
              <a:ext cx="105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tTaxonsByName(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L for Reference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316400" y="1033560"/>
            <a:ext cx="149400" cy="131760"/>
          </a:xfrm>
          <a:prstGeom prst="ellipse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1069920" y="1158840"/>
            <a:ext cx="7548480" cy="5094360"/>
            <a:chOff x="1069920" y="1158840"/>
            <a:chExt cx="7548480" cy="5094360"/>
          </a:xfrm>
        </p:grpSpPr>
        <p:sp>
          <p:nvSpPr>
            <p:cNvPr id="2494" name=""/>
            <p:cNvSpPr/>
            <p:nvPr/>
          </p:nvSpPr>
          <p:spPr>
            <a:xfrm>
              <a:off x="7394400" y="5683320"/>
              <a:ext cx="122400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413840" y="5838840"/>
              <a:ext cx="114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publishedReference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394400" y="5972040"/>
              <a:ext cx="122400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394400" y="6033960"/>
              <a:ext cx="122400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45992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983760" y="1244520"/>
              <a:ext cx="7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ferenceLibr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774960" y="1454040"/>
              <a:ext cx="1332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774960" y="1517760"/>
              <a:ext cx="1332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150800" y="1595520"/>
              <a:ext cx="67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Reference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124520" y="1719360"/>
              <a:ext cx="73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Referenc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966480" y="1844640"/>
              <a:ext cx="103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ReferencesAuthor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198320" y="196992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BibXref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207320" y="2093760"/>
              <a:ext cx="57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NucSeq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069920" y="5683320"/>
              <a:ext cx="118116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317600" y="5838840"/>
              <a:ext cx="62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okArticle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069920" y="5972040"/>
              <a:ext cx="118116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069920" y="6033960"/>
              <a:ext cx="118116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11780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335320" y="5683320"/>
              <a:ext cx="120636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550240" y="5838840"/>
              <a:ext cx="72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ournalArticle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335320" y="5972040"/>
              <a:ext cx="120636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335320" y="6033960"/>
              <a:ext cx="120636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39256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368440" y="5005440"/>
              <a:ext cx="1139760" cy="568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676240" y="516096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ournal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368440" y="5292720"/>
              <a:ext cx="113976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368440" y="5356080"/>
              <a:ext cx="1139760" cy="217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424240" y="50356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08280" y="5683320"/>
              <a:ext cx="121464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98880" y="583884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tent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08280" y="5972040"/>
              <a:ext cx="121464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08280" y="6033960"/>
              <a:ext cx="121464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7380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567240" y="5005440"/>
              <a:ext cx="1123920" cy="568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00520" y="5160960"/>
              <a:ext cx="63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ference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567240" y="5292720"/>
              <a:ext cx="112392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567240" y="5356080"/>
              <a:ext cx="1123920" cy="217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614760" y="50356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765680" y="5005440"/>
              <a:ext cx="1114560" cy="568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148000" y="516096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f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765680" y="5292720"/>
              <a:ext cx="111456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5680" y="5356080"/>
              <a:ext cx="1114560" cy="217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805640" y="50356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898880" y="5683320"/>
              <a:ext cx="118116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146920" y="5838840"/>
              <a:ext cx="63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mission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898880" y="5972040"/>
              <a:ext cx="118116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898880" y="6033960"/>
              <a:ext cx="118116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94676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162080" y="2359080"/>
              <a:ext cx="998640" cy="1225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36480" y="251604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162080" y="2647800"/>
              <a:ext cx="998640" cy="936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162080" y="3459240"/>
              <a:ext cx="99864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317960" y="2664000"/>
              <a:ext cx="52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b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317600" y="2789280"/>
              <a:ext cx="66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lum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318680" y="2913120"/>
              <a:ext cx="75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blisher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318320" y="303840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lac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318680" y="3164040"/>
              <a:ext cx="63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diti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317240" y="3287880"/>
              <a:ext cx="61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ries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182960" y="23907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962760" y="2484360"/>
              <a:ext cx="1406520" cy="974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494840" y="26398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ou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962760" y="2773440"/>
              <a:ext cx="1406520" cy="685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962760" y="3335400"/>
              <a:ext cx="1406520" cy="123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110000" y="2789280"/>
              <a:ext cx="52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s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111440" y="2913120"/>
              <a:ext cx="59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112160" y="3038400"/>
              <a:ext cx="1169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mbl_abbreviati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112160" y="3164040"/>
              <a:ext cx="111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lm_abbreviati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193160" y="251604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301840" y="1252440"/>
              <a:ext cx="1014480" cy="725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524320" y="140796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okArt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301840" y="1539720"/>
              <a:ext cx="1014480" cy="43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301840" y="1852560"/>
              <a:ext cx="1014480" cy="125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450520" y="1555920"/>
              <a:ext cx="78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rst_p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451240" y="1681200"/>
              <a:ext cx="77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st_p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332440" y="128268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160720" y="2179800"/>
              <a:ext cx="166680" cy="203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0"/>
                  </a:moveTo>
                  <a:lnTo>
                    <a:pt x="0" y="26"/>
                  </a:lnTo>
                  <a:lnTo>
                    <a:pt x="10" y="2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2160720" y="2289240"/>
              <a:ext cx="2376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2327400" y="1978200"/>
              <a:ext cx="174600" cy="201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852560" y="207180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boo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38960" y="1158840"/>
              <a:ext cx="1190520" cy="1231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804640" y="1314360"/>
              <a:ext cx="61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ournalArt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38960" y="1454040"/>
              <a:ext cx="1190520" cy="936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538960" y="2265480"/>
              <a:ext cx="119052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95920" y="1469880"/>
              <a:ext cx="66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lum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95560" y="1595520"/>
              <a:ext cx="57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su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97000" y="1719360"/>
              <a:ext cx="78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rst_p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97360" y="1844640"/>
              <a:ext cx="77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st_p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698440" y="1969920"/>
              <a:ext cx="94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derOnP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697000" y="2093760"/>
              <a:ext cx="86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lement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61360" y="118908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878520" y="2359080"/>
              <a:ext cx="158760" cy="1252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19" y="16"/>
                  </a:lnTo>
                  <a:lnTo>
                    <a:pt x="13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 flipV="1">
              <a:off x="6929280" y="2452680"/>
              <a:ext cx="108000" cy="31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 flipV="1">
              <a:off x="6721560" y="2243160"/>
              <a:ext cx="156960" cy="115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970680" y="2171880"/>
              <a:ext cx="36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jou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195560" y="3638520"/>
              <a:ext cx="1006200" cy="984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44760" y="3795840"/>
              <a:ext cx="29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t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195560" y="3935520"/>
              <a:ext cx="1006200" cy="687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195560" y="4497480"/>
              <a:ext cx="100620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351440" y="3951360"/>
              <a:ext cx="60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Nr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50720" y="4076640"/>
              <a:ext cx="77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Offic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351440" y="4200480"/>
              <a:ext cx="72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Typ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352520" y="4325760"/>
              <a:ext cx="63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derIn : sh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225800" y="367020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262640" y="3662280"/>
              <a:ext cx="1065240" cy="1100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553880" y="38178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262640" y="3951360"/>
              <a:ext cx="1065240" cy="811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262640" y="4638600"/>
              <a:ext cx="1065240" cy="123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418880" y="3967200"/>
              <a:ext cx="41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418160" y="4092480"/>
              <a:ext cx="49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itl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466760" y="4216320"/>
              <a:ext cx="75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guag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476840" y="4341960"/>
              <a:ext cx="81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ents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471800" y="4465800"/>
              <a:ext cx="61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us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317000" y="36939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033720" y="4192560"/>
              <a:ext cx="998640" cy="601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294360" y="434196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033720" y="4481640"/>
              <a:ext cx="998640" cy="312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033720" y="4668840"/>
              <a:ext cx="99864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246120" y="4497480"/>
              <a:ext cx="69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t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056400" y="421632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888160" y="4146480"/>
              <a:ext cx="1000080" cy="60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261480" y="430200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s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888160" y="4443480"/>
              <a:ext cx="1000080" cy="311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888160" y="4630680"/>
              <a:ext cx="1000080" cy="123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100560" y="4459320"/>
              <a:ext cx="69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t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910480" y="4178160"/>
              <a:ext cx="86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Struc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908520" y="2992320"/>
              <a:ext cx="1288800" cy="600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299480" y="314784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fType_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908520" y="3279600"/>
              <a:ext cx="1288800" cy="312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908520" y="3467160"/>
              <a:ext cx="128880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066200" y="3295800"/>
              <a:ext cx="104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npublishedRef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089600" y="3022560"/>
              <a:ext cx="86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Union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184560" y="1978200"/>
              <a:ext cx="523800" cy="5061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63" y="65"/>
                  </a:moveTo>
                  <a:lnTo>
                    <a:pt x="0" y="0"/>
                  </a:lnTo>
                  <a:lnTo>
                    <a:pt x="12" y="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184560" y="1978200"/>
              <a:ext cx="4140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708360" y="2484360"/>
              <a:ext cx="531720" cy="507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832480" y="232884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bookArt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197320" y="2344680"/>
              <a:ext cx="341640" cy="3193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1"/>
                  </a:moveTo>
                  <a:lnTo>
                    <a:pt x="41" y="0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5438880" y="2344680"/>
              <a:ext cx="100080" cy="46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>
              <a:off x="4865400" y="2664000"/>
              <a:ext cx="331560" cy="328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213880" y="2695680"/>
              <a:ext cx="64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journalArt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201760" y="3726000"/>
              <a:ext cx="857520" cy="264960"/>
            </a:xfrm>
            <a:custGeom>
              <a:avLst/>
              <a:gdLst/>
              <a:ahLst/>
              <a:rect l="l" t="t" r="r" b="b"/>
              <a:pathLst>
                <a:path w="103" h="34">
                  <a:moveTo>
                    <a:pt x="103" y="0"/>
                  </a:moveTo>
                  <a:lnTo>
                    <a:pt x="0" y="33"/>
                  </a:lnTo>
                  <a:lnTo>
                    <a:pt x="13" y="3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2201760" y="3919680"/>
              <a:ext cx="82800" cy="63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3059280" y="3474720"/>
              <a:ext cx="849240" cy="250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296440" y="37260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pat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197320" y="3459240"/>
              <a:ext cx="1032120" cy="304560"/>
            </a:xfrm>
            <a:custGeom>
              <a:avLst/>
              <a:gdLst/>
              <a:ahLst/>
              <a:rect l="l" t="t" r="r" b="b"/>
              <a:pathLst>
                <a:path w="124" h="39">
                  <a:moveTo>
                    <a:pt x="124" y="39"/>
                  </a:move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197320" y="3475080"/>
              <a:ext cx="84240" cy="55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229440" y="3763800"/>
              <a:ext cx="1023840" cy="29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397120" y="337356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ref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790800" y="3889440"/>
              <a:ext cx="250920" cy="29520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30" y="0"/>
                  </a:moveTo>
                  <a:lnTo>
                    <a:pt x="0" y="38"/>
                  </a:lnTo>
                  <a:lnTo>
                    <a:pt x="11" y="3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3790800" y="4092480"/>
              <a:ext cx="2556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4041720" y="3592080"/>
              <a:ext cx="249120" cy="29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162680" y="3927600"/>
              <a:ext cx="57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sub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472000" y="3873600"/>
              <a:ext cx="433440" cy="27288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0" y="0"/>
                  </a:moveTo>
                  <a:lnTo>
                    <a:pt x="52" y="35"/>
                  </a:lnTo>
                  <a:lnTo>
                    <a:pt x="45" y="2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 flipV="1">
              <a:off x="5805360" y="4130640"/>
              <a:ext cx="10008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 flipV="1">
              <a:off x="5030640" y="3592080"/>
              <a:ext cx="441360" cy="281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511960" y="41702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+thes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113520" y="5683320"/>
              <a:ext cx="1224000" cy="569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549480" y="583884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sis_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113520" y="5972040"/>
              <a:ext cx="1224000" cy="281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113520" y="6033960"/>
              <a:ext cx="1224000" cy="219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186600" y="5715000"/>
              <a:ext cx="100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Constant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Using Value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mic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ic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2246400" y="1316160"/>
            <a:ext cx="5073480" cy="5045040"/>
            <a:chOff x="2246400" y="1316160"/>
            <a:chExt cx="5073480" cy="5045040"/>
          </a:xfrm>
        </p:grpSpPr>
        <p:sp>
          <p:nvSpPr>
            <p:cNvPr id="2658" name=""/>
            <p:cNvSpPr/>
            <p:nvPr/>
          </p:nvSpPr>
          <p:spPr>
            <a:xfrm>
              <a:off x="2492280" y="1316160"/>
              <a:ext cx="1147680" cy="5889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0" y="0"/>
                  </a:moveTo>
                  <a:lnTo>
                    <a:pt x="100" y="0"/>
                  </a:lnTo>
                  <a:lnTo>
                    <a:pt x="108" y="8"/>
                  </a:lnTo>
                  <a:lnTo>
                    <a:pt x="108" y="59"/>
                  </a:lnTo>
                  <a:lnTo>
                    <a:pt x="0" y="5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556080" y="1316160"/>
              <a:ext cx="83880" cy="792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474640" y="1336680"/>
              <a:ext cx="80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pable, Assignment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642400" y="1434960"/>
              <a:ext cx="741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d Position and and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646720" y="1535040"/>
              <a:ext cx="67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ir  sub-types ar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491920" y="1635120"/>
              <a:ext cx="36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aluetyp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235560" y="4595760"/>
              <a:ext cx="1084320" cy="67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42840" y="4616280"/>
              <a:ext cx="738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ytogeneticE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35560" y="4726080"/>
              <a:ext cx="1084320" cy="547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35560" y="4875120"/>
              <a:ext cx="1084320" cy="398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97840" y="474516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364440" y="4944960"/>
              <a:ext cx="645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super_bands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356160" y="5045040"/>
              <a:ext cx="57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sub_bands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341760" y="5145120"/>
              <a:ext cx="45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siblings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353200" y="4565520"/>
              <a:ext cx="626760" cy="47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452920" y="4586400"/>
              <a:ext cx="384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inearMa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353200" y="4695840"/>
              <a:ext cx="626760" cy="349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353200" y="4944960"/>
              <a:ext cx="626760" cy="100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472720" y="4716360"/>
              <a:ext cx="54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x_coordin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467680" y="4815000"/>
              <a:ext cx="524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in_coordin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171960" y="5303880"/>
              <a:ext cx="861840" cy="37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242880" y="5334120"/>
              <a:ext cx="597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elative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171960" y="5443560"/>
              <a:ext cx="861840" cy="2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320640" y="5452920"/>
              <a:ext cx="70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eft_flanking_ent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36480" y="5553000"/>
              <a:ext cx="758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ight_flanking_ent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682720" y="5881680"/>
              <a:ext cx="1032120" cy="479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773080" y="5911920"/>
              <a:ext cx="75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lativeMetric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682720" y="6021360"/>
              <a:ext cx="1032120" cy="33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682720" y="6270480"/>
              <a:ext cx="1032120" cy="90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798640" y="6031080"/>
              <a:ext cx="430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stance_le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795400" y="6130800"/>
              <a:ext cx="47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stance_righ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300560" y="1395360"/>
              <a:ext cx="679320" cy="479520"/>
            </a:xfrm>
            <a:custGeom>
              <a:avLst/>
              <a:gdLst/>
              <a:ahLst/>
              <a:rect l="l" t="t" r="r" b="b"/>
              <a:pathLst>
                <a:path w="64" h="48">
                  <a:moveTo>
                    <a:pt x="0" y="0"/>
                  </a:moveTo>
                  <a:lnTo>
                    <a:pt x="56" y="0"/>
                  </a:lnTo>
                  <a:lnTo>
                    <a:pt x="64" y="8"/>
                  </a:lnTo>
                  <a:lnTo>
                    <a:pt x="64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896000" y="1395360"/>
              <a:ext cx="83880" cy="79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03880" y="1406520"/>
              <a:ext cx="41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 and it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22960" y="1504800"/>
              <a:ext cx="48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b-types ar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398840" y="1604880"/>
              <a:ext cx="33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821200" y="4008600"/>
              <a:ext cx="615960" cy="36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884200" y="4027320"/>
              <a:ext cx="43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rderedMa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821200" y="4137120"/>
              <a:ext cx="615960" cy="2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821200" y="4286160"/>
              <a:ext cx="615960" cy="90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19480" y="4157640"/>
              <a:ext cx="38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OD_sco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246400" y="5273640"/>
              <a:ext cx="681120" cy="4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305800" y="529416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tric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246400" y="5413320"/>
              <a:ext cx="681120" cy="328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246400" y="5662440"/>
              <a:ext cx="681120" cy="79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333880" y="5423040"/>
              <a:ext cx="273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ft_en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331000" y="552276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ght_en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3416400" y="568296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363840" y="568332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33" y="0"/>
                  </a:moveTo>
                  <a:lnTo>
                    <a:pt x="60" y="81"/>
                  </a:lnTo>
                  <a:lnTo>
                    <a:pt x="0" y="8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522600" y="4057560"/>
              <a:ext cx="1022400" cy="37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605040" y="4087800"/>
              <a:ext cx="736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pableAssign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522600" y="4197240"/>
              <a:ext cx="1022400" cy="2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522600" y="4346640"/>
              <a:ext cx="1022400" cy="9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643920" y="420696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ped_ent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289480" y="1355760"/>
              <a:ext cx="1339920" cy="577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05760" y="138600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Factory: QueryEvalua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289480" y="1495440"/>
              <a:ext cx="1339920" cy="438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289480" y="1644480"/>
              <a:ext cx="1339920" cy="28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286960" y="1504800"/>
              <a:ext cx="380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um_map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01440" y="1704960"/>
              <a:ext cx="50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all_maps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415480" y="1805040"/>
              <a:ext cx="57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map_by_id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171960" y="2222640"/>
              <a:ext cx="669960" cy="127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297240" y="2243160"/>
              <a:ext cx="355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ppab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171960" y="2352600"/>
              <a:ext cx="669960" cy="1146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171960" y="3409920"/>
              <a:ext cx="669960" cy="88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222720" y="237348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309120" y="2471760"/>
              <a:ext cx="58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ross_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250080" y="257184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li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255120" y="2671920"/>
              <a:ext cx="259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c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280680" y="2771640"/>
              <a:ext cx="44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243240" y="2871720"/>
              <a:ext cx="14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234960" y="2970360"/>
              <a:ext cx="11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261960" y="307008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3243240" y="3170160"/>
              <a:ext cx="20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240360" y="3270240"/>
              <a:ext cx="162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3619440" y="349884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761280" y="3479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3587760" y="3498840"/>
              <a:ext cx="3168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619440" y="3778200"/>
              <a:ext cx="180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756600" y="39085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587760" y="3938760"/>
              <a:ext cx="74520" cy="11880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20" y="75"/>
                  </a:moveTo>
                  <a:lnTo>
                    <a:pt x="47" y="37"/>
                  </a:lnTo>
                  <a:lnTo>
                    <a:pt x="20" y="0"/>
                  </a:lnTo>
                  <a:lnTo>
                    <a:pt x="0" y="37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761280" y="3479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756600" y="39085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232800" y="3689280"/>
              <a:ext cx="82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^describes placement o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735440" y="4057560"/>
              <a:ext cx="776520" cy="379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09240" y="4087800"/>
              <a:ext cx="54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Assign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735440" y="4197240"/>
              <a:ext cx="776520" cy="2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735440" y="4346640"/>
              <a:ext cx="776520" cy="9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856760" y="4206960"/>
              <a:ext cx="50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pped_ent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89280" y="4535640"/>
              <a:ext cx="479520" cy="469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945160" y="455616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89280" y="4665600"/>
              <a:ext cx="479520" cy="339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89280" y="4915080"/>
              <a:ext cx="479520" cy="9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853000" y="4686480"/>
              <a:ext cx="15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889000" y="4784760"/>
              <a:ext cx="38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OD_sco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3033720" y="500544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513160" y="5203800"/>
              <a:ext cx="110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981160" y="5005440"/>
              <a:ext cx="10656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33" y="0"/>
                  </a:moveTo>
                  <a:lnTo>
                    <a:pt x="67" y="81"/>
                  </a:lnTo>
                  <a:lnTo>
                    <a:pt x="0" y="8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2513160" y="520380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3619440" y="5203800"/>
              <a:ext cx="180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257800" y="2273400"/>
              <a:ext cx="1339920" cy="877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490360" y="2292480"/>
              <a:ext cx="77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ap: QueryEvalua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257800" y="2403360"/>
              <a:ext cx="1339920" cy="74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257800" y="2851200"/>
              <a:ext cx="1339920" cy="299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47000" y="2422440"/>
              <a:ext cx="48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he_mappab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335560" y="2522520"/>
              <a:ext cx="247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ircula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39440" y="2622600"/>
              <a:ext cx="622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um_assign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400720" y="2720880"/>
              <a:ext cx="605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cabulary_fin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407920" y="2921040"/>
              <a:ext cx="75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all_assignments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211720" y="3021120"/>
              <a:ext cx="1198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et_assignment_by_mappable_id(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V="1">
              <a:off x="5927760" y="3151080"/>
              <a:ext cx="14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649840" y="3379680"/>
              <a:ext cx="1000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73760" y="3151080"/>
              <a:ext cx="10620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34" y="0"/>
                  </a:moveTo>
                  <a:lnTo>
                    <a:pt x="67" y="81"/>
                  </a:lnTo>
                  <a:lnTo>
                    <a:pt x="0" y="8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756400" y="2093760"/>
              <a:ext cx="1440" cy="16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639400" y="21733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 flipV="1">
              <a:off x="5724000" y="2182320"/>
              <a:ext cx="320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5756400" y="1933200"/>
              <a:ext cx="1440" cy="16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639400" y="217332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969520" y="2014560"/>
              <a:ext cx="28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contai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6235560" y="3379680"/>
              <a:ext cx="1800" cy="61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5649840" y="3379680"/>
              <a:ext cx="1800" cy="118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6649920" y="3379680"/>
              <a:ext cx="1800" cy="120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3841560" y="2522520"/>
              <a:ext cx="712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921480" y="2592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3841920" y="2482920"/>
              <a:ext cx="85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54360" y="2522520"/>
              <a:ext cx="70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29280" y="248292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81" y="25"/>
                  </a:moveTo>
                  <a:lnTo>
                    <a:pt x="40" y="44"/>
                  </a:lnTo>
                  <a:lnTo>
                    <a:pt x="0" y="25"/>
                  </a:lnTo>
                  <a:lnTo>
                    <a:pt x="40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921480" y="2592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230720" y="2362320"/>
              <a:ext cx="936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&lt; has header-information 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330880" y="3139920"/>
              <a:ext cx="33120" cy="45900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46"/>
                  </a:moveTo>
                  <a:lnTo>
                    <a:pt x="0" y="0"/>
                  </a:lnTo>
                  <a:lnTo>
                    <a:pt x="3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5289120" y="3139920"/>
              <a:ext cx="4140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330880" y="3598920"/>
              <a:ext cx="1440" cy="45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37800" y="3938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289480" y="3938760"/>
              <a:ext cx="74520" cy="11880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26" y="75"/>
                  </a:moveTo>
                  <a:lnTo>
                    <a:pt x="47" y="37"/>
                  </a:lnTo>
                  <a:lnTo>
                    <a:pt x="26" y="0"/>
                  </a:lnTo>
                  <a:lnTo>
                    <a:pt x="0" y="37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437800" y="3938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222160" y="3538440"/>
              <a:ext cx="82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^describes placement o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 flipV="1">
              <a:off x="4948200" y="1893600"/>
              <a:ext cx="447840" cy="369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352760" y="3200400"/>
              <a:ext cx="669960" cy="36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25920" y="32194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352760" y="3330720"/>
              <a:ext cx="669960" cy="237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461120" y="3349800"/>
              <a:ext cx="40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sign_ty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40600" y="3449520"/>
              <a:ext cx="30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osi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4692600" y="3568680"/>
              <a:ext cx="180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373640" y="3778200"/>
              <a:ext cx="59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0400" y="3568680"/>
              <a:ext cx="95040" cy="13968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33" y="0"/>
                  </a:moveTo>
                  <a:lnTo>
                    <a:pt x="60" y="88"/>
                  </a:lnTo>
                  <a:lnTo>
                    <a:pt x="0" y="8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4373640" y="37782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4970520" y="37782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278160" y="4425840"/>
              <a:ext cx="882720" cy="34920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83" y="0"/>
                  </a:moveTo>
                  <a:lnTo>
                    <a:pt x="83" y="35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362760" y="4595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3321000" y="4735440"/>
              <a:ext cx="428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160880" y="3440160"/>
              <a:ext cx="191880" cy="985680"/>
            </a:xfrm>
            <a:custGeom>
              <a:avLst/>
              <a:gdLst/>
              <a:ahLst/>
              <a:rect l="l" t="t" r="r" b="b"/>
              <a:pathLst>
                <a:path w="18" h="99">
                  <a:moveTo>
                    <a:pt x="0" y="9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26040" y="3409920"/>
              <a:ext cx="126720" cy="58680"/>
            </a:xfrm>
            <a:custGeom>
              <a:avLst/>
              <a:gdLst/>
              <a:ahLst/>
              <a:rect l="l" t="t" r="r" b="b"/>
              <a:pathLst>
                <a:path w="80" h="37">
                  <a:moveTo>
                    <a:pt x="80" y="19"/>
                  </a:moveTo>
                  <a:lnTo>
                    <a:pt x="40" y="37"/>
                  </a:lnTo>
                  <a:lnTo>
                    <a:pt x="0" y="19"/>
                  </a:lnTo>
                  <a:lnTo>
                    <a:pt x="40" y="0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362760" y="459576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556080" y="4805280"/>
              <a:ext cx="636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&lt; position given b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32280" y="2851200"/>
              <a:ext cx="42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29280" y="2820960"/>
              <a:ext cx="128520" cy="6048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81" y="19"/>
                  </a:moveTo>
                  <a:lnTo>
                    <a:pt x="40" y="38"/>
                  </a:lnTo>
                  <a:lnTo>
                    <a:pt x="0" y="19"/>
                  </a:lnTo>
                  <a:lnTo>
                    <a:pt x="40" y="0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92600" y="2851200"/>
              <a:ext cx="139680" cy="3492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3" y="0"/>
                  </a:move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575600" y="307008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575600" y="307008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25720" y="269244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</a:rPr>
                <a:t>&lt; contai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171960" y="1914480"/>
              <a:ext cx="106200" cy="3081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3033720" y="1914480"/>
              <a:ext cx="31680" cy="261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651120" y="1744560"/>
              <a:ext cx="957240" cy="1455840"/>
            </a:xfrm>
            <a:custGeom>
              <a:avLst/>
              <a:gdLst/>
              <a:ahLst/>
              <a:rect l="l" t="t" r="r" b="b"/>
              <a:pathLst>
                <a:path w="90" h="146">
                  <a:moveTo>
                    <a:pt x="0" y="0"/>
                  </a:moveTo>
                  <a:lnTo>
                    <a:pt x="36" y="9"/>
                  </a:lnTo>
                  <a:lnTo>
                    <a:pt x="90" y="146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ic Maps I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395280" y="1219320"/>
            <a:ext cx="8031240" cy="5016240"/>
            <a:chOff x="395280" y="1219320"/>
            <a:chExt cx="8031240" cy="5016240"/>
          </a:xfrm>
        </p:grpSpPr>
        <p:sp>
          <p:nvSpPr>
            <p:cNvPr id="2823" name=""/>
            <p:cNvSpPr/>
            <p:nvPr/>
          </p:nvSpPr>
          <p:spPr>
            <a:xfrm>
              <a:off x="7075440" y="4468680"/>
              <a:ext cx="152280" cy="1447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837120" y="470520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Fac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859440" y="4916520"/>
              <a:ext cx="1197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238800" y="5237280"/>
              <a:ext cx="21877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580080" y="4933800"/>
              <a:ext cx="1226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map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361200" y="5059440"/>
              <a:ext cx="169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_finder : 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13880" y="5313240"/>
              <a:ext cx="67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map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963120" y="5440320"/>
              <a:ext cx="76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map_by_id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044720" y="3565440"/>
              <a:ext cx="1522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2280" y="3801960"/>
              <a:ext cx="57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deredM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84360" y="4013280"/>
              <a:ext cx="1008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84360" y="4206960"/>
              <a:ext cx="1008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07480" y="4030560"/>
              <a:ext cx="79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_score : flo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587760" y="3722760"/>
              <a:ext cx="196920" cy="183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142800" y="4064040"/>
              <a:ext cx="91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togenetic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168720" y="4216320"/>
              <a:ext cx="10252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168720" y="4410000"/>
              <a:ext cx="10252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61400" y="4232160"/>
              <a:ext cx="47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nk :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299040" y="4486320"/>
              <a:ext cx="802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super_band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17400" y="4613400"/>
              <a:ext cx="76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sub_band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91200" y="4738680"/>
              <a:ext cx="60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sibling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41720" y="3684600"/>
              <a:ext cx="1522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036880" y="3919680"/>
              <a:ext cx="48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earM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763640" y="4130640"/>
              <a:ext cx="130644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763640" y="4451400"/>
              <a:ext cx="13064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945440" y="414828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_coordinate : flo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931040" y="4275000"/>
              <a:ext cx="100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x_coordinate : flo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834080" y="1219320"/>
              <a:ext cx="1863720" cy="99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515920" y="1370160"/>
              <a:ext cx="53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834080" y="1514520"/>
              <a:ext cx="1863720" cy="700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834080" y="2087640"/>
              <a:ext cx="1863720" cy="127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919760" y="1530360"/>
              <a:ext cx="150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amework_assignment : bool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938480" y="1657440"/>
              <a:ext cx="127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idence : Vocabulary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958640" y="1784520"/>
              <a:ext cx="1015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sitions : Position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936320" y="1911240"/>
              <a:ext cx="116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_type : Assig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181840" y="1244520"/>
              <a:ext cx="105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Value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176720" y="2746440"/>
              <a:ext cx="1224000" cy="61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242240" y="2898720"/>
              <a:ext cx="91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MapAssign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176720" y="3041640"/>
              <a:ext cx="122400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176720" y="3227400"/>
              <a:ext cx="122400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01720" y="3059280"/>
              <a:ext cx="954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ped_entity : M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200840" y="2771640"/>
              <a:ext cx="105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Value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43080" y="1413000"/>
              <a:ext cx="1522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133360" y="1649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106720" y="1860480"/>
              <a:ext cx="1017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305000" y="2433600"/>
              <a:ext cx="2187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445760" y="1876320"/>
              <a:ext cx="155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assignment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936800" y="2003400"/>
              <a:ext cx="77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rcular : bool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692720" y="2130480"/>
              <a:ext cx="1178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_mappable : Mapp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427040" y="2257560"/>
              <a:ext cx="169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_finder : 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429560" y="2509920"/>
              <a:ext cx="1591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ssignment_by_mappable_id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912680" y="2637000"/>
              <a:ext cx="99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assignment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2214720" y="2763360"/>
              <a:ext cx="1440" cy="127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025640" y="3346560"/>
              <a:ext cx="26557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151000" y="2763720"/>
              <a:ext cx="127080" cy="16056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40" y="0"/>
                  </a:moveTo>
                  <a:lnTo>
                    <a:pt x="80" y="101"/>
                  </a:lnTo>
                  <a:lnTo>
                    <a:pt x="0" y="10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3681360" y="3346200"/>
              <a:ext cx="1800" cy="36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1025640" y="3346560"/>
              <a:ext cx="1440" cy="210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313000" y="3346200"/>
              <a:ext cx="1440" cy="32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932440" y="2805120"/>
              <a:ext cx="1503360" cy="617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093000" y="2957400"/>
              <a:ext cx="982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pableAssign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932440" y="3102120"/>
              <a:ext cx="1503360" cy="320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932440" y="3287880"/>
              <a:ext cx="1503360" cy="13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046200" y="3117960"/>
              <a:ext cx="1203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ped_entity : Mapp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100920" y="2830680"/>
              <a:ext cx="105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Value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5761080" y="2214720"/>
              <a:ext cx="1440" cy="279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78360" y="2494080"/>
              <a:ext cx="18097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697360" y="2214720"/>
              <a:ext cx="127080" cy="16020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40" y="0"/>
                  </a:moveTo>
                  <a:lnTo>
                    <a:pt x="80" y="101"/>
                  </a:lnTo>
                  <a:lnTo>
                    <a:pt x="0" y="10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6688080" y="2494080"/>
              <a:ext cx="1800" cy="31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4878360" y="2493720"/>
              <a:ext cx="1440" cy="252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085160" y="1446120"/>
              <a:ext cx="107928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193880" y="1598760"/>
              <a:ext cx="71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Pa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085160" y="1741320"/>
              <a:ext cx="107928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085160" y="1801800"/>
              <a:ext cx="10792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085160" y="14716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6697800" y="1682640"/>
              <a:ext cx="387360" cy="79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697800" y="1690560"/>
              <a:ext cx="982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6697800" y="1649520"/>
              <a:ext cx="9828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066080" y="2257560"/>
              <a:ext cx="1135080" cy="463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112520" y="2408400"/>
              <a:ext cx="876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Pair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066080" y="2552760"/>
              <a:ext cx="113508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066080" y="2611440"/>
              <a:ext cx="11350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093080" y="228276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7624800" y="1910880"/>
              <a:ext cx="1440" cy="336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624800" y="1911240"/>
              <a:ext cx="4428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7578720" y="1911240"/>
              <a:ext cx="4608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95280" y="1260360"/>
              <a:ext cx="108108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40520" y="141300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95280" y="1555920"/>
              <a:ext cx="1081080" cy="169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5280" y="1616040"/>
              <a:ext cx="10810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97080" y="128592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76360" y="1479600"/>
              <a:ext cx="657360" cy="93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2025720" y="147960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 flipV="1">
              <a:off x="2025720" y="143784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194000" y="3514680"/>
              <a:ext cx="133380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231080" y="3666960"/>
              <a:ext cx="107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ytogeneticEleme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194000" y="3809880"/>
              <a:ext cx="133380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194000" y="3870360"/>
              <a:ext cx="133380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321440" y="35402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3781440" y="3776760"/>
              <a:ext cx="404640" cy="172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781440" y="3794040"/>
              <a:ext cx="108000" cy="33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3781440" y="3750840"/>
              <a:ext cx="9828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159000" y="1219320"/>
              <a:ext cx="1071720" cy="463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477240" y="137016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Pa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159000" y="1514520"/>
              <a:ext cx="107172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159000" y="1573200"/>
              <a:ext cx="107172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159360" y="124452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>
              <a:off x="2285640" y="1455840"/>
              <a:ext cx="865080" cy="15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286000" y="1471680"/>
              <a:ext cx="108000" cy="33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2286000" y="142992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32440" y="5211720"/>
              <a:ext cx="152280" cy="14436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702320" y="5448240"/>
              <a:ext cx="69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Corre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051440" y="5659560"/>
              <a:ext cx="2457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051440" y="6234120"/>
              <a:ext cx="2457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757760" y="5676840"/>
              <a:ext cx="89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_pair : MapPai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019120" y="580248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: Identifi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125600" y="5929200"/>
              <a:ext cx="190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rrespondences : AssignmentPairIter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201920" y="6056280"/>
              <a:ext cx="175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correspondence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564080" y="4241880"/>
              <a:ext cx="1071720" cy="463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602960" y="4392720"/>
              <a:ext cx="855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Correlation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564080" y="4537080"/>
              <a:ext cx="107172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564080" y="4595760"/>
              <a:ext cx="107172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564080" y="42656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H="1">
              <a:off x="5094360" y="4705200"/>
              <a:ext cx="9360" cy="498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5094360" y="5110200"/>
              <a:ext cx="4608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 flipV="1">
              <a:off x="5059080" y="5110200"/>
              <a:ext cx="34920" cy="9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012080" y="3573360"/>
              <a:ext cx="153720" cy="1447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486120" y="3809880"/>
              <a:ext cx="103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CorrelationFac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175440" y="4021200"/>
              <a:ext cx="2187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175440" y="4341960"/>
              <a:ext cx="21873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365160" y="4038480"/>
              <a:ext cx="150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correlation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97840" y="4165560"/>
              <a:ext cx="169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_finder : 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ic Maps IDL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1712520" y="1128600"/>
            <a:ext cx="5666040" cy="4443480"/>
            <a:chOff x="1712520" y="1128600"/>
            <a:chExt cx="5666040" cy="4443480"/>
          </a:xfrm>
        </p:grpSpPr>
        <p:sp>
          <p:nvSpPr>
            <p:cNvPr id="2956" name=""/>
            <p:cNvSpPr/>
            <p:nvPr/>
          </p:nvSpPr>
          <p:spPr>
            <a:xfrm>
              <a:off x="6299280" y="3948120"/>
              <a:ext cx="1079280" cy="463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94480" y="410832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ing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299280" y="4251240"/>
              <a:ext cx="1079280" cy="160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299280" y="4311720"/>
              <a:ext cx="1079280" cy="100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299280" y="398160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527280" y="2538360"/>
              <a:ext cx="107964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752280" y="2698920"/>
              <a:ext cx="55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entifier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527280" y="2841480"/>
              <a:ext cx="1079640" cy="162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527280" y="2901960"/>
              <a:ext cx="107964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527640" y="25718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340000" y="2462040"/>
              <a:ext cx="152280" cy="1447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113920" y="2690640"/>
              <a:ext cx="52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Iter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187720" y="2909880"/>
              <a:ext cx="5205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187720" y="2968560"/>
              <a:ext cx="5205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339280" y="305280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283120" y="317988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_n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322720" y="330660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268360" y="343368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roy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235560" y="1459080"/>
              <a:ext cx="1079640" cy="471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332760" y="1619280"/>
              <a:ext cx="77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235560" y="1762200"/>
              <a:ext cx="107964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235560" y="1820880"/>
              <a:ext cx="107964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235920" y="149220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253200" y="2360520"/>
              <a:ext cx="107136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480720" y="2521080"/>
              <a:ext cx="524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sition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53200" y="2657520"/>
              <a:ext cx="107136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253200" y="2724120"/>
              <a:ext cx="107136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253200" y="23954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903920" y="2521080"/>
              <a:ext cx="981000" cy="1249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079600" y="2681280"/>
              <a:ext cx="53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903920" y="2825640"/>
              <a:ext cx="981000" cy="94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903920" y="3645000"/>
              <a:ext cx="981000" cy="125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963680" y="2841480"/>
              <a:ext cx="37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957920" y="296856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956480" y="309564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959720" y="322272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55040" y="334800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963680" y="347508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908240" y="2556000"/>
              <a:ext cx="86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Enum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322360" y="1128600"/>
              <a:ext cx="152640" cy="1447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887840" y="142416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Iter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133720" y="1576440"/>
              <a:ext cx="5205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133720" y="1644480"/>
              <a:ext cx="5205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285280" y="17193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229120" y="184644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_n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259360" y="19731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214360" y="210024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roy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510000" y="3693960"/>
              <a:ext cx="107964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739320" y="385452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ery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3510000" y="3998880"/>
              <a:ext cx="1079640" cy="160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510000" y="4057560"/>
              <a:ext cx="107964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510000" y="37288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226200" y="3164040"/>
              <a:ext cx="1152360" cy="463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270120" y="3324240"/>
              <a:ext cx="93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String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226200" y="3459240"/>
              <a:ext cx="115236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26200" y="3525840"/>
              <a:ext cx="1152360" cy="10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262920" y="319716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299280" y="4775040"/>
              <a:ext cx="1079280" cy="463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426000" y="4935600"/>
              <a:ext cx="69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99280" y="5070600"/>
              <a:ext cx="107928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299280" y="5138640"/>
              <a:ext cx="1079280" cy="100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299280" y="480852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330280" y="5121360"/>
              <a:ext cx="189000" cy="177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712520" y="5450040"/>
              <a:ext cx="1206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psQueryLanguageTy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357280" y="3754440"/>
              <a:ext cx="154080" cy="14292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816920" y="4049640"/>
              <a:ext cx="1040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ssignmentPairIter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60720" y="4200480"/>
              <a:ext cx="5205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60720" y="4268880"/>
              <a:ext cx="5205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312280" y="43448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256120" y="447192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_n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295720" y="4597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241360" y="472428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roy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822920" y="1449360"/>
              <a:ext cx="107928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899600" y="1601640"/>
              <a:ext cx="79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22920" y="1744560"/>
              <a:ext cx="107928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22920" y="1805040"/>
              <a:ext cx="10792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22920" y="147492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446640" y="4851360"/>
              <a:ext cx="1169640" cy="61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562920" y="5003640"/>
              <a:ext cx="79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nnotResolve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446640" y="5146560"/>
              <a:ext cx="116964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446640" y="5332320"/>
              <a:ext cx="116964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3526920" y="5164200"/>
              <a:ext cx="64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s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443400" y="4876920"/>
              <a:ext cx="105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Exception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500280" y="1449360"/>
              <a:ext cx="1079640" cy="473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871440" y="1609560"/>
              <a:ext cx="39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500280" y="1754280"/>
              <a:ext cx="107964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500280" y="1812960"/>
              <a:ext cx="107964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500640" y="148284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 flipV="1">
              <a:off x="4040280" y="1922040"/>
              <a:ext cx="17280" cy="61596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040280" y="1922400"/>
              <a:ext cx="5400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4003560" y="1922400"/>
              <a:ext cx="36720" cy="9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876920" y="4370400"/>
              <a:ext cx="1170000" cy="61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111640" y="4530600"/>
              <a:ext cx="61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eratorInval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876920" y="4665600"/>
              <a:ext cx="117000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876920" y="4859280"/>
              <a:ext cx="1170000" cy="127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957560" y="4683240"/>
              <a:ext cx="64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s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873680" y="4403880"/>
              <a:ext cx="105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Exception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ies for Genomic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4" name=""/>
          <p:cNvGrpSpPr/>
          <p:nvPr/>
        </p:nvGrpSpPr>
        <p:grpSpPr>
          <a:xfrm>
            <a:off x="2090880" y="2813040"/>
            <a:ext cx="4944960" cy="1231920"/>
            <a:chOff x="2090880" y="2813040"/>
            <a:chExt cx="4944960" cy="1231920"/>
          </a:xfrm>
        </p:grpSpPr>
        <p:sp>
          <p:nvSpPr>
            <p:cNvPr id="3055" name=""/>
            <p:cNvSpPr/>
            <p:nvPr/>
          </p:nvSpPr>
          <p:spPr>
            <a:xfrm>
              <a:off x="2106720" y="2855880"/>
              <a:ext cx="1465200" cy="977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379960" y="2889360"/>
              <a:ext cx="79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106720" y="3032280"/>
              <a:ext cx="1465200" cy="801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106720" y="3344760"/>
              <a:ext cx="146520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172600" y="3049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090880" y="3176640"/>
              <a:ext cx="82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vocabular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216880" y="342900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vocabulary_nam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206440" y="3556080"/>
              <a:ext cx="99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vocabulari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204280" y="3681360"/>
              <a:ext cx="123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vocabulary_by_name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300560" y="2813040"/>
              <a:ext cx="1108080" cy="1231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616280" y="284652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300560" y="2981160"/>
              <a:ext cx="1108080" cy="106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300560" y="3556080"/>
              <a:ext cx="1108080" cy="488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366440" y="2998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376880" y="312588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297680" y="325116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entr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386960" y="3378240"/>
              <a:ext cx="67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se_sensi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384800" y="3632040"/>
              <a:ext cx="64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contained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389120" y="3757680"/>
              <a:ext cx="73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entri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87680" y="3884760"/>
              <a:ext cx="96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entry_by_name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571920" y="3327480"/>
              <a:ext cx="369720" cy="3492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41" y="4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571920" y="328608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26"/>
                  </a:moveTo>
                  <a:lnTo>
                    <a:pt x="51" y="53"/>
                  </a:lnTo>
                  <a:lnTo>
                    <a:pt x="102" y="26"/>
                  </a:lnTo>
                  <a:lnTo>
                    <a:pt x="5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941640" y="3362400"/>
              <a:ext cx="358920" cy="23760"/>
            </a:xfrm>
            <a:custGeom>
              <a:avLst/>
              <a:gdLst/>
              <a:ahLst/>
              <a:rect l="l" t="t" r="r" b="b"/>
              <a:pathLst>
                <a:path w="40" h="3">
                  <a:moveTo>
                    <a:pt x="0" y="0"/>
                  </a:moveTo>
                  <a:lnTo>
                    <a:pt x="0" y="3"/>
                  </a:lnTo>
                  <a:lnTo>
                    <a:pt x="4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132800" y="34290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132800" y="34290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28880" y="31338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ontains 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091200" y="2990880"/>
              <a:ext cx="944640" cy="598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5560" y="3016080"/>
              <a:ext cx="75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E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91200" y="3159000"/>
              <a:ext cx="944640" cy="430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91200" y="3471840"/>
              <a:ext cx="944640" cy="117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80120" y="3176640"/>
              <a:ext cx="74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rolled_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7520" y="330192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H="1">
              <a:off x="5408640" y="3327480"/>
              <a:ext cx="16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408640" y="328608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26"/>
                  </a:moveTo>
                  <a:lnTo>
                    <a:pt x="45" y="48"/>
                  </a:lnTo>
                  <a:lnTo>
                    <a:pt x="96" y="26"/>
                  </a:lnTo>
                  <a:lnTo>
                    <a:pt x="4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578560" y="3260880"/>
              <a:ext cx="512640" cy="66600"/>
            </a:xfrm>
            <a:custGeom>
              <a:avLst/>
              <a:gdLst/>
              <a:ahLst/>
              <a:rect l="l" t="t" r="r" b="b"/>
              <a:pathLst>
                <a:path w="57" h="8">
                  <a:moveTo>
                    <a:pt x="0" y="8"/>
                  </a:moveTo>
                  <a:lnTo>
                    <a:pt x="20" y="8"/>
                  </a:lnTo>
                  <a:lnTo>
                    <a:pt x="20" y="0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61440" y="332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61440" y="332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375160" y="310032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ontains 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ies I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808200" y="1768320"/>
            <a:ext cx="7518240" cy="3327480"/>
            <a:chOff x="808200" y="1768320"/>
            <a:chExt cx="7518240" cy="3327480"/>
          </a:xfrm>
        </p:grpSpPr>
        <p:sp>
          <p:nvSpPr>
            <p:cNvPr id="3095" name=""/>
            <p:cNvSpPr/>
            <p:nvPr/>
          </p:nvSpPr>
          <p:spPr>
            <a:xfrm>
              <a:off x="825480" y="1920960"/>
              <a:ext cx="111600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69400" y="2073240"/>
              <a:ext cx="91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Entry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25480" y="2216160"/>
              <a:ext cx="1116000" cy="169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25480" y="2274840"/>
              <a:ext cx="1116000" cy="111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52480" y="194616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516640" y="4479840"/>
              <a:ext cx="1162080" cy="61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751360" y="4630680"/>
              <a:ext cx="61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eratorInval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516640" y="4775040"/>
              <a:ext cx="116208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516640" y="4960800"/>
              <a:ext cx="116208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597280" y="4791240"/>
              <a:ext cx="64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s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513400" y="4505400"/>
              <a:ext cx="105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Exception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885000" y="4437000"/>
              <a:ext cx="1171440" cy="615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210800" y="458964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Fou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885000" y="4732200"/>
              <a:ext cx="1171440" cy="32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885000" y="4917960"/>
              <a:ext cx="1171440" cy="135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965640" y="4749840"/>
              <a:ext cx="64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s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882120" y="4462560"/>
              <a:ext cx="105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Exception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112760" y="4470480"/>
              <a:ext cx="1081080" cy="46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409760" y="462276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ing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112760" y="4767120"/>
              <a:ext cx="1081080" cy="168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112760" y="4826160"/>
              <a:ext cx="10810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113120" y="44956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832200" y="2900520"/>
              <a:ext cx="154080" cy="14256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663000" y="313704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184560" y="3348000"/>
              <a:ext cx="16747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184560" y="3922560"/>
              <a:ext cx="16747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740040" y="3365640"/>
              <a:ext cx="59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623760" y="3490920"/>
              <a:ext cx="83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245760" y="361800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entrie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329640" y="3745080"/>
              <a:ext cx="112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se_sensitive : bool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551040" y="3998880"/>
              <a:ext cx="96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entry_by_name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670560" y="4124160"/>
              <a:ext cx="73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entri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719520" y="4251240"/>
              <a:ext cx="64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contained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408640" y="2511360"/>
              <a:ext cx="152280" cy="14436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151960" y="2739960"/>
              <a:ext cx="57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202720" y="286704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tryItera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256360" y="3019320"/>
              <a:ext cx="522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256360" y="3086280"/>
              <a:ext cx="5220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08640" y="31622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351760" y="328932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xt_n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392080" y="341640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t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337720" y="354168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roy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093080" y="2386080"/>
              <a:ext cx="161640" cy="1508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709320" y="2622600"/>
              <a:ext cx="79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Fi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308640" y="2833560"/>
              <a:ext cx="20178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308640" y="3154320"/>
              <a:ext cx="20178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043760" y="2849400"/>
              <a:ext cx="59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386040" y="2976480"/>
              <a:ext cx="154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um_vocabularies : unsigned lo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699240" y="323064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vocabulary_nam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840360" y="3365640"/>
              <a:ext cx="997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all_vocabularie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723000" y="3490920"/>
              <a:ext cx="123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_vocabulary_by_name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16120" y="2757600"/>
              <a:ext cx="1071360" cy="463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966960" y="290844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16120" y="3052800"/>
              <a:ext cx="107136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16120" y="3111480"/>
              <a:ext cx="107136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08200" y="278280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1887480" y="2968560"/>
              <a:ext cx="1936800" cy="15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>
              <a:off x="3716280" y="2968560"/>
              <a:ext cx="108000" cy="4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 flipV="1">
              <a:off x="3716280" y="2925360"/>
              <a:ext cx="10800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3013200" y="1768320"/>
              <a:ext cx="1828800" cy="735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3508560" y="1920960"/>
              <a:ext cx="75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E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013200" y="2065320"/>
              <a:ext cx="1828800" cy="43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013200" y="2376360"/>
              <a:ext cx="1828800" cy="127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101400" y="2081160"/>
              <a:ext cx="83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73600" y="2208240"/>
              <a:ext cx="166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_string : Vocabulary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343680" y="1793880"/>
              <a:ext cx="105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Valuetype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941480" y="2139480"/>
              <a:ext cx="1063800" cy="97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2905200" y="2139840"/>
              <a:ext cx="10008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 flipV="1">
              <a:off x="2905200" y="2098800"/>
              <a:ext cx="100080" cy="41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644920" y="4538520"/>
              <a:ext cx="1079280" cy="463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741760" y="4691160"/>
              <a:ext cx="77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Str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644920" y="4834080"/>
              <a:ext cx="107928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644920" y="4892760"/>
              <a:ext cx="107928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644920" y="456408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246560" y="4530600"/>
              <a:ext cx="1152360" cy="463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290480" y="4681440"/>
              <a:ext cx="93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cabularyStringL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246560" y="4826160"/>
              <a:ext cx="1152360" cy="168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246560" y="4884840"/>
              <a:ext cx="1152360" cy="109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292640" y="4556160"/>
              <a:ext cx="96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&lt;CORBATypedef&gt;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 Practical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29528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3505320"/>
            <a:ext cx="2667240" cy="990360"/>
          </a:xfrm>
          <a:prstGeom prst="leftRightArrow">
            <a:avLst>
              <a:gd name="adj1" fmla="val 50000"/>
              <a:gd name="adj2" fmla="val 5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5053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5053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819520" y="2285640"/>
            <a:ext cx="121896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440" y="2285640"/>
            <a:ext cx="12193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25891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9960" y="25891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518148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6483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0240" y="51037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BI Application Roadm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862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4968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7840" y="40528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308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765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4320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4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188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3856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77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6540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320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552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076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088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432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956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672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844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42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828800"/>
            <a:ext cx="0" cy="36576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9800" y="3657600"/>
            <a:ext cx="1838520" cy="8096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83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5080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318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1460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848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7948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6228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3280" y="280656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71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0996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48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108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049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8596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6876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26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36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16080" y="280656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9708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6376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476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7560" y="280656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114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424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5240" y="280656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912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4192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256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86200" y="2905920"/>
            <a:ext cx="162000" cy="1954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892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024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304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3692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792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136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560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48040" y="280656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904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1328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9572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5952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4340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44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0720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784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73880" y="2806560"/>
            <a:ext cx="39600" cy="100080"/>
          </a:xfrm>
          <a:custGeom>
            <a:avLst/>
            <a:gdLst/>
            <a:ahLst/>
            <a:rect l="l" t="t" r="r" b="b"/>
            <a:pathLst>
              <a:path w="25" h="63">
                <a:moveTo>
                  <a:pt x="0" y="0"/>
                </a:moveTo>
                <a:lnTo>
                  <a:pt x="24" y="0"/>
                </a:lnTo>
                <a:lnTo>
                  <a:pt x="24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452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732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120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22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500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280656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4988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3268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1332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975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8000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610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4380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176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0012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11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356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478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0528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124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224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892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399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24160" y="405288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066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760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7004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3672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9736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9800" y="40528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40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450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2748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0848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7516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5616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3896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2284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384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86280" y="40528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7052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515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3396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496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992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8164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6264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68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2932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103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8440" y="5300640"/>
            <a:ext cx="39600" cy="100080"/>
          </a:xfrm>
          <a:custGeom>
            <a:avLst/>
            <a:gdLst/>
            <a:ahLst/>
            <a:rect l="l" t="t" r="r" b="b"/>
            <a:pathLst>
              <a:path w="25" h="63">
                <a:moveTo>
                  <a:pt x="0" y="0"/>
                </a:moveTo>
                <a:lnTo>
                  <a:pt x="24" y="0"/>
                </a:lnTo>
                <a:lnTo>
                  <a:pt x="24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494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318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288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712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56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6056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300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72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824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06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7492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592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3836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1936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0360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604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6704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5128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3372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1472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716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8140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240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484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584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1008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9252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352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5920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4020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264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0364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8788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7032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5132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556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1800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9900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144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568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668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912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1336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9436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204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244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0548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8792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7216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316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3560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198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22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8328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572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996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3096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1340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976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786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610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828800"/>
            <a:ext cx="0" cy="36576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1828800"/>
            <a:ext cx="0" cy="36576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53440" y="2600280"/>
            <a:ext cx="115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438280"/>
            <a:ext cx="1836720" cy="80352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3657600"/>
            <a:ext cx="1838160" cy="80964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4876920"/>
            <a:ext cx="1752480" cy="80316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876920"/>
            <a:ext cx="1828800" cy="80316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2438280"/>
            <a:ext cx="1836720" cy="80352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2768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0868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9148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753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5636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39160" y="280656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1980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04040" y="280656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6480" y="280656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7480" y="280656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9276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770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944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044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2468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0712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8812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70920" y="40528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54800" y="40528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35800" y="40528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18240" y="40528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42080" y="530064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2632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0876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8976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74000" y="5300640"/>
            <a:ext cx="4104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5644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744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1988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04120" y="530064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5120" y="530064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67560" y="530064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752480"/>
            <a:ext cx="0" cy="373392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46760" y="2438280"/>
            <a:ext cx="1863720" cy="78120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0480" y="2590920"/>
            <a:ext cx="115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4952880"/>
            <a:ext cx="1905120" cy="74952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6080" y="5029200"/>
            <a:ext cx="959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70520" y="3657600"/>
            <a:ext cx="1839960" cy="80316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2400" y="3809880"/>
            <a:ext cx="85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g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3657600"/>
            <a:ext cx="1828800" cy="80316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1920" y="3886200"/>
            <a:ext cx="1154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 (DD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4876920"/>
            <a:ext cx="1828800" cy="803160"/>
          </a:xfrm>
          <a:prstGeom prst="roundRect">
            <a:avLst>
              <a:gd name="adj" fmla="val 12495"/>
            </a:avLst>
          </a:prstGeom>
          <a:solidFill>
            <a:srgbClr val="cc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67840" y="5029200"/>
            <a:ext cx="1501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2438280"/>
            <a:ext cx="1838160" cy="781200"/>
          </a:xfrm>
          <a:prstGeom prst="roundRect">
            <a:avLst>
              <a:gd name="adj" fmla="val 12495"/>
            </a:avLst>
          </a:prstGeom>
          <a:solidFill>
            <a:srgbClr val="dddddd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005960" y="3733920"/>
            <a:ext cx="1553760" cy="731880"/>
            <a:chOff x="7005960" y="3733920"/>
            <a:chExt cx="1553760" cy="731880"/>
          </a:xfrm>
        </p:grpSpPr>
        <p:sp>
          <p:nvSpPr>
            <p:cNvPr id="336" name=""/>
            <p:cNvSpPr/>
            <p:nvPr/>
          </p:nvSpPr>
          <p:spPr>
            <a:xfrm>
              <a:off x="7005960" y="3733920"/>
              <a:ext cx="1553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ersistence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(Rational Ro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racle Desig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84880" y="400032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870440" y="3809880"/>
            <a:ext cx="1591200" cy="504000"/>
            <a:chOff x="4870440" y="3809880"/>
            <a:chExt cx="1591200" cy="504000"/>
          </a:xfrm>
        </p:grpSpPr>
        <p:sp>
          <p:nvSpPr>
            <p:cNvPr id="339" name=""/>
            <p:cNvSpPr/>
            <p:nvPr/>
          </p:nvSpPr>
          <p:spPr>
            <a:xfrm>
              <a:off x="4870440" y="3809880"/>
              <a:ext cx="1308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finition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22360" y="4008240"/>
              <a:ext cx="1439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apping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276720" y="2568600"/>
            <a:ext cx="1218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48200" y="2590920"/>
            <a:ext cx="153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l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2590920"/>
            <a:ext cx="167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tional R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Oracle Design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027040" y="4952880"/>
            <a:ext cx="1271520" cy="699120"/>
            <a:chOff x="5027040" y="4952880"/>
            <a:chExt cx="1271520" cy="699120"/>
          </a:xfrm>
        </p:grpSpPr>
        <p:sp>
          <p:nvSpPr>
            <p:cNvPr id="345" name=""/>
            <p:cNvSpPr/>
            <p:nvPr/>
          </p:nvSpPr>
          <p:spPr>
            <a:xfrm>
              <a:off x="5185800" y="4952880"/>
              <a:ext cx="97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7040" y="5149800"/>
              <a:ext cx="12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25760" y="534636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086600" y="4952880"/>
            <a:ext cx="1447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acle, 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5181480"/>
            <a:ext cx="1219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formi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ject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683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5080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318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1460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848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948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6228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3280" y="14572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271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0996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906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748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5728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2108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049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8596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6876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526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336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16080" y="14572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9708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8132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6376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4476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7560" y="14572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114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9424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75240" y="14572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5912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192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2256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886200" y="1557360"/>
            <a:ext cx="162000" cy="19512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892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7024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5304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3692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792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0072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8136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48040" y="14572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2904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1328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9572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5952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4340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244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0720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784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73880" y="1457280"/>
            <a:ext cx="39600" cy="100080"/>
          </a:xfrm>
          <a:custGeom>
            <a:avLst/>
            <a:gdLst/>
            <a:ahLst/>
            <a:rect l="l" t="t" r="r" b="b"/>
            <a:pathLst>
              <a:path w="25" h="63">
                <a:moveTo>
                  <a:pt x="0" y="0"/>
                </a:moveTo>
                <a:lnTo>
                  <a:pt x="24" y="0"/>
                </a:lnTo>
                <a:lnTo>
                  <a:pt x="24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452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3732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2120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22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8500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66000" y="14572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4988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3268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1332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975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8000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610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8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53440" y="1251000"/>
            <a:ext cx="115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Concep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1066680"/>
            <a:ext cx="1828800" cy="825480"/>
          </a:xfrm>
          <a:prstGeom prst="roundRect">
            <a:avLst>
              <a:gd name="adj" fmla="val 12495"/>
            </a:avLst>
          </a:prstGeom>
          <a:solidFill>
            <a:srgbClr val="99cc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1066680"/>
            <a:ext cx="1828800" cy="825480"/>
          </a:xfrm>
          <a:prstGeom prst="roundRect">
            <a:avLst>
              <a:gd name="adj" fmla="val 12495"/>
            </a:avLst>
          </a:prstGeom>
          <a:solidFill>
            <a:srgbClr val="99cc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2768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868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9148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753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5636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39160" y="1457280"/>
            <a:ext cx="4284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1980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04040" y="1457280"/>
            <a:ext cx="41400" cy="100080"/>
          </a:xfrm>
          <a:custGeom>
            <a:avLst/>
            <a:gdLst/>
            <a:ahLst/>
            <a:rect l="l" t="t" r="r" b="b"/>
            <a:pathLst>
              <a:path w="26" h="63">
                <a:moveTo>
                  <a:pt x="0" y="0"/>
                </a:moveTo>
                <a:lnTo>
                  <a:pt x="25" y="0"/>
                </a:lnTo>
                <a:lnTo>
                  <a:pt x="25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86480" y="1457280"/>
            <a:ext cx="43200" cy="100080"/>
          </a:xfrm>
          <a:custGeom>
            <a:avLst/>
            <a:gdLst/>
            <a:ahLst/>
            <a:rect l="l" t="t" r="r" b="b"/>
            <a:pathLst>
              <a:path w="27" h="63">
                <a:moveTo>
                  <a:pt x="0" y="0"/>
                </a:moveTo>
                <a:lnTo>
                  <a:pt x="26" y="0"/>
                </a:lnTo>
                <a:lnTo>
                  <a:pt x="26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67480" y="1457280"/>
            <a:ext cx="4464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0"/>
                </a:moveTo>
                <a:lnTo>
                  <a:pt x="27" y="0"/>
                </a:lnTo>
                <a:lnTo>
                  <a:pt x="27" y="62"/>
                </a:lnTo>
                <a:lnTo>
                  <a:pt x="0" y="6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46760" y="1066680"/>
            <a:ext cx="1863720" cy="803520"/>
          </a:xfrm>
          <a:prstGeom prst="roundRect">
            <a:avLst>
              <a:gd name="adj" fmla="val 12495"/>
            </a:avLst>
          </a:prstGeom>
          <a:solidFill>
            <a:srgbClr val="99cc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3120" y="1295280"/>
            <a:ext cx="889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09800" y="1066680"/>
            <a:ext cx="1838520" cy="803520"/>
          </a:xfrm>
          <a:prstGeom prst="roundRect">
            <a:avLst>
              <a:gd name="adj" fmla="val 12495"/>
            </a:avLst>
          </a:prstGeom>
          <a:solidFill>
            <a:srgbClr val="99cc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5520" y="1143000"/>
            <a:ext cx="167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fac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92840" y="1219320"/>
            <a:ext cx="997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R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5240" y="118764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face (ID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319320" cy="685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7315200" y="1066680"/>
            <a:ext cx="25884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8:29:50Z</dcterms:created>
  <dc:creator>Patricia Rodriguez-Tomé</dc:creator>
  <dc:description/>
  <dc:language>en-US</dc:language>
  <cp:lastModifiedBy>Martin Senger</cp:lastModifiedBy>
  <cp:lastPrinted>2000-06-30T14:08:48Z</cp:lastPrinted>
  <dcterms:modified xsi:type="dcterms:W3CDTF">2000-08-01T01:13:37Z</dcterms:modified>
  <cp:revision>35</cp:revision>
  <dc:subject/>
  <dc:title>Dynamic asp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cneil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