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27B-F043-4192-91B5-0CADB6CF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543-1F7B-45F9-98FA-39C0E27D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128-7F4B-4341-8ACA-FCCF0222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611-4163-42F4-A336-13321DE0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55A-763A-4BF5-8755-9328BCCC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A82-6841-40CE-B75B-E9EBF019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DE6-7003-49E8-BEF8-A602BC37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976-6D68-486A-8425-D1FC26D1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162-A28C-4826-8EDF-ECEBA9D9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EF7-C0A4-4242-82F3-01774E0F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79E-C5F0-423D-87F8-E07623E4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6AA-49A2-4D41-8EB1-6BC564E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B6EE-B58A-433E-AB75-082B767EB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e request reach the serv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ip Lijnzaad, Martin 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jnzaad@ebi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ger@ebi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76920" y="2895480"/>
            <a:ext cx="380988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876312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cture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direct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8520" y="2057400"/>
            <a:ext cx="81756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:nsdb/Embl:1.0 | dipsy.ebi.ac.uk:3030 | “EmblSeq”, M234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5880" y="3733920"/>
            <a:ext cx="12139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34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40800" y="3419640"/>
            <a:ext cx="12139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34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21680" y="3124080"/>
            <a:ext cx="12139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3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251460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800" y="150984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invok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getSeq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following re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49680"/>
            <a:ext cx="5867280" cy="1922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R at dipsy:3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1880" y="5421240"/>
          <a:ext cx="5558040" cy="81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5421240"/>
                    <a:ext cx="555804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067000" y="289548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ala: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00" y="297036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eq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54100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086600" y="434304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7440" y="4460760"/>
            <a:ext cx="15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9600" y="434340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171840" y="579132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5880" y="5807160"/>
            <a:ext cx="19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un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la, por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00200" y="251424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5440" y="2789280"/>
            <a:ext cx="152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la: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51460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4038480"/>
            <a:ext cx="17528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84200" y="396252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eq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tail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direct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for PERSISTENT 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irst) connection via a ‘daemon’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s which ‘real’ server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utomatically start it if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ocationFor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ORB tries again at this new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 need not always b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locate servers to different ports and machines without breaking 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slower (two round-tr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R: Implementation Repos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emon i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mplementation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ntionally) not standardized, but most ORBs hav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xd, osagent, imr, im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R must be always runn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knows about IMR’s host: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can put IMR’s hostname:port in 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ver’s ORB takes care about putting it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s lifecycle of server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ility of the I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BOA, now considered obsolete or vendor-specific.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: one server process for all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client: one server process per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request: one process per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: one per distinct u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: As shared, but auto-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and 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requests reach the serv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persistent IOR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 server always have to be up and run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ng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an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information in the client’s object reference (I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nd a running server application, or start a new one (need to know what to start and where to start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locate a proper servant in the found server application (see details in a separate talk about PO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etails of IORs may be helpfu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Reference inte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le Object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an, but need not be stringified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name (Repository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rofile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, host,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ther wor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160" y="1870200"/>
            <a:ext cx="7788600" cy="4117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Name [ “IDL:embl.ebi/nsdb/EmblSeq:1.0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, [ “IIOP”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deta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[ dipsy.ebi.ac.uk, or 192.61.188.3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[ 3030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or name [ “EmblSeq”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id [ “M23456”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this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mmunicate using several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RBs on both ends understan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OP is still mand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several servers/locations for on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load-balancing and fault tole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tandardization in prog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and indirect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ORB contacts server ORB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st: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ORB contacs server ORB via (at least first) a ‘daemon’ (a separate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447920"/>
            <a:ext cx="8458200" cy="12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19320" y="3885840"/>
            <a:ext cx="693396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2040" y="4079880"/>
            <a:ext cx="270756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at dipsy:3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9800" y="4079880"/>
            <a:ext cx="1063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cture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8520" y="2057400"/>
            <a:ext cx="81756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:nsdb/Embl:1.0 | dipsy.ebi.ac.uk:3030 | “EmblSeq”, M234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800" y="150984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invok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getSeq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following re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5" idx="2"/>
            <a:endCxn id="56" idx="3"/>
          </p:cNvCxnSpPr>
          <p:nvPr/>
        </p:nvCxnSpPr>
        <p:spPr>
          <a:xfrm flipH="1">
            <a:off x="4683960" y="2666520"/>
            <a:ext cx="2520" cy="1220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86a8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tail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for TRANSIENT 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(one round-tr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RBs can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may be not be running (on purpose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Martin Senger</cp:lastModifiedBy>
  <dcterms:modified xsi:type="dcterms:W3CDTF">2000-06-22T13:17:33Z</dcterms:modified>
  <cp:revision>38</cp:revision>
  <dc:subject/>
  <dc:title>Binding and Scalab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industry.ebi.ac.uk/~senger</vt:lpwstr>
  </property>
  <property fmtid="{D5CDD505-2E9C-101B-9397-08002B2CF9AE}" pid="9" name="LinkColor">
    <vt:r8>16711782</vt:r8>
  </property>
  <property fmtid="{D5CDD505-2E9C-101B-9397-08002B2CF9AE}" pid="10" name="MailAddress">
    <vt:lpwstr>senger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Martin\talks\ws-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