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E9E-EB1F-4E75-A62B-37603230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B6C-3131-4355-A723-D6DFE57D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8D7-D97C-4C6F-A8C9-CF565E6C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621-A918-4606-9863-D66E4EFB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6FA-35D4-45B0-BA8C-4E53ACD7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D61-36AA-48F8-9899-ABCCBAA6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FDF-1949-4EE3-9988-D54E7645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C9C-147D-4F83-9364-C6C870D6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036-B74B-4515-B7BD-DBFDE199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07A-CE07-4787-B77D-737C00B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5A7-52C3-49C5-9453-1B0D1BEB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893-C243-4E72-9A95-58628FF2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CC55-F0FE-4936-A7EE-D0BE2A839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Property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n Se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ger@ebi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s on hands-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 to directory Property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rt your own Property service, or use a common 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t some prope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Narrow"/>
              </a:rPr>
              <a:t>java SetPropertyClient myProp1 a myProp2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reates “</a:t>
            </a: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setdef.i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” with an IOR of a PropertySet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 additional properties to the same s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Narrow"/>
              </a:rPr>
              <a:t>java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Arial Narrow"/>
              </a:rPr>
              <a:t>-DSETDEF=setdef.ior</a:t>
            </a:r>
            <a:r>
              <a:rPr b="0" lang="en-GB" sz="2000" spc="-1" strike="noStrike">
                <a:solidFill>
                  <a:srgbClr val="3333cc"/>
                </a:solidFill>
                <a:latin typeface="Arial Narrow"/>
              </a:rPr>
              <a:t> SetPropertyClient myProp3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other clients to read, list, or delete properties from the same s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Narrow"/>
              </a:rPr>
              <a:t>java GetPropertyClient myProp2 myPr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Narrow"/>
              </a:rPr>
              <a:t>java DelPropertyClient myPr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 Narrow"/>
              </a:rPr>
              <a:t>java ListProperty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goa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to st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ous features of different types in one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e wan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to ac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se features in a standard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metimes we even wan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to ch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at we are s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ime to time we wan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to de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m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: Property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ssociation of names an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and manipulation of name-value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: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: 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pecify also a type for each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exceptions for unknown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rely on other objec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equivalent to CORBA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and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2717640"/>
            <a:ext cx="2722680" cy="6858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perty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1752480"/>
            <a:ext cx="2722680" cy="1532160"/>
            <a:chOff x="228600" y="1752480"/>
            <a:chExt cx="2722680" cy="1532160"/>
          </a:xfrm>
        </p:grpSpPr>
        <p:sp>
          <p:nvSpPr>
            <p:cNvPr id="50" name=""/>
            <p:cNvSpPr/>
            <p:nvPr/>
          </p:nvSpPr>
          <p:spPr>
            <a:xfrm>
              <a:off x="228600" y="1752480"/>
              <a:ext cx="272268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Property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Fac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" name=""/>
            <p:cNvCxnSpPr>
              <a:stCxn id="50" idx="2"/>
              <a:endCxn id="48" idx="1"/>
            </p:cNvCxnSpPr>
            <p:nvPr/>
          </p:nvCxnSpPr>
          <p:spPr>
            <a:xfrm flipH="1" rot="16200000">
              <a:off x="1587960" y="2439720"/>
              <a:ext cx="623160" cy="61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" name=""/>
            <p:cNvSpPr/>
            <p:nvPr/>
          </p:nvSpPr>
          <p:spPr>
            <a:xfrm>
              <a:off x="1207440" y="3008160"/>
              <a:ext cx="60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e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" y="3683160"/>
            <a:ext cx="2722680" cy="1546200"/>
            <a:chOff x="228600" y="3683160"/>
            <a:chExt cx="2722680" cy="1546200"/>
          </a:xfrm>
        </p:grpSpPr>
        <p:sp>
          <p:nvSpPr>
            <p:cNvPr id="54" name=""/>
            <p:cNvSpPr/>
            <p:nvPr/>
          </p:nvSpPr>
          <p:spPr>
            <a:xfrm>
              <a:off x="228600" y="3683160"/>
              <a:ext cx="272268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PropertySetDe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Fac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54" idx="2"/>
              <a:endCxn id="56" idx="1"/>
            </p:cNvCxnSpPr>
            <p:nvPr/>
          </p:nvCxnSpPr>
          <p:spPr>
            <a:xfrm flipH="1" rot="16200000">
              <a:off x="1588320" y="4370400"/>
              <a:ext cx="622800" cy="61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1207440" y="4952880"/>
              <a:ext cx="60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e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932000" y="2717640"/>
            <a:ext cx="3754800" cy="685800"/>
            <a:chOff x="4932000" y="2717640"/>
            <a:chExt cx="3754800" cy="685800"/>
          </a:xfrm>
        </p:grpSpPr>
        <p:sp>
          <p:nvSpPr>
            <p:cNvPr id="59" name=""/>
            <p:cNvSpPr/>
            <p:nvPr/>
          </p:nvSpPr>
          <p:spPr>
            <a:xfrm>
              <a:off x="6192720" y="2717640"/>
              <a:ext cx="2494080" cy="6858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898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P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(name + va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48" idx="3"/>
              <a:endCxn id="59" idx="1"/>
            </p:cNvCxnSpPr>
            <p:nvPr/>
          </p:nvCxnSpPr>
          <p:spPr>
            <a:xfrm>
              <a:off x="4932000" y="3060360"/>
              <a:ext cx="126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5184360" y="300816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al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932000" y="4648320"/>
            <a:ext cx="3754800" cy="1447560"/>
            <a:chOff x="4932000" y="4648320"/>
            <a:chExt cx="3754800" cy="1447560"/>
          </a:xfrm>
        </p:grpSpPr>
        <p:sp>
          <p:nvSpPr>
            <p:cNvPr id="63" name=""/>
            <p:cNvSpPr/>
            <p:nvPr/>
          </p:nvSpPr>
          <p:spPr>
            <a:xfrm>
              <a:off x="6192720" y="5410080"/>
              <a:ext cx="2494080" cy="6858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898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PropertyDe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(name + value + typ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92720" y="4648320"/>
              <a:ext cx="2494080" cy="6858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898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PropertyM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(name + typ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"/>
            <p:cNvCxnSpPr>
              <a:stCxn id="56" idx="3"/>
              <a:endCxn id="64" idx="1"/>
            </p:cNvCxnSpPr>
            <p:nvPr/>
          </p:nvCxnSpPr>
          <p:spPr>
            <a:xfrm>
              <a:off x="4932000" y="4990680"/>
              <a:ext cx="126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56" idx="3"/>
              <a:endCxn id="63" idx="1"/>
            </p:cNvCxnSpPr>
            <p:nvPr/>
          </p:nvCxnSpPr>
          <p:spPr>
            <a:xfrm>
              <a:off x="4932000" y="4990680"/>
              <a:ext cx="1261080" cy="762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"/>
            <p:cNvSpPr/>
            <p:nvPr/>
          </p:nvSpPr>
          <p:spPr>
            <a:xfrm>
              <a:off x="5184360" y="470232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al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209680" y="3403080"/>
            <a:ext cx="2722680" cy="1931040"/>
            <a:chOff x="2209680" y="3403080"/>
            <a:chExt cx="2722680" cy="1931040"/>
          </a:xfrm>
        </p:grpSpPr>
        <p:sp>
          <p:nvSpPr>
            <p:cNvPr id="56" name=""/>
            <p:cNvSpPr/>
            <p:nvPr/>
          </p:nvSpPr>
          <p:spPr>
            <a:xfrm>
              <a:off x="2209680" y="4648320"/>
              <a:ext cx="272268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PropertySetDe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56" idx="0"/>
              <a:endCxn id="48" idx="2"/>
            </p:cNvCxnSpPr>
            <p:nvPr/>
          </p:nvCxnSpPr>
          <p:spPr>
            <a:xfrm flipV="1">
              <a:off x="3571560" y="3403080"/>
              <a:ext cx="1080" cy="1245600"/>
            </a:xfrm>
            <a:prstGeom prst="straightConnector1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70" name=""/>
            <p:cNvSpPr/>
            <p:nvPr/>
          </p:nvSpPr>
          <p:spPr>
            <a:xfrm>
              <a:off x="3583800" y="3840120"/>
              <a:ext cx="63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her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r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44720" y="5562720"/>
            <a:ext cx="2356920" cy="11890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is a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is an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is an 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rmal, readonly, fixed_norm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_readonly, undef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571920" y="838080"/>
            <a:ext cx="5056200" cy="1879560"/>
            <a:chOff x="3571920" y="838080"/>
            <a:chExt cx="5056200" cy="1879560"/>
          </a:xfrm>
        </p:grpSpPr>
        <p:sp>
          <p:nvSpPr>
            <p:cNvPr id="73" name=""/>
            <p:cNvSpPr/>
            <p:nvPr/>
          </p:nvSpPr>
          <p:spPr>
            <a:xfrm>
              <a:off x="5905440" y="1752480"/>
              <a:ext cx="272268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PropertyIt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48" idx="0"/>
              <a:endCxn id="73" idx="1"/>
            </p:cNvCxnSpPr>
            <p:nvPr/>
          </p:nvCxnSpPr>
          <p:spPr>
            <a:xfrm flipH="1" flipV="1" rot="5400000">
              <a:off x="4427280" y="1239480"/>
              <a:ext cx="622800" cy="23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3735360" y="2070000"/>
              <a:ext cx="44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05440" y="838080"/>
              <a:ext cx="272268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PropertyNamesIt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48" idx="0"/>
              <a:endCxn id="76" idx="1"/>
            </p:cNvCxnSpPr>
            <p:nvPr/>
          </p:nvCxnSpPr>
          <p:spPr>
            <a:xfrm flipH="1" flipV="1" rot="5400000">
              <a:off x="3970080" y="782280"/>
              <a:ext cx="1537200" cy="23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"/>
            <p:cNvSpPr/>
            <p:nvPr/>
          </p:nvSpPr>
          <p:spPr>
            <a:xfrm>
              <a:off x="3735360" y="1155600"/>
              <a:ext cx="44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few more detail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properties (new names, new valu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existing properties (g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existence of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SetDe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dditionally to the ab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the property types (or “constrain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properties with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nd set property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y typ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“metadata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416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restriction to th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read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 can only get property information, but can also delet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fixed_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not be deleted but can be mod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fixed_read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not be deleted neither mod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un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cial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70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t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faces allowing to iterate through the properties (or the property na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920" y="4648320"/>
            <a:ext cx="4850280" cy="201420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interface PropertiesItera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void    rese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boolean next_one (out Property apropert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boolean next_n (in unsigned long how_man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out Properties nproperti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void    destro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 Narro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124080"/>
            <a:ext cx="3429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1800" spc="-1" strike="noStrike">
                <a:solidFill>
                  <a:srgbClr val="0000ff"/>
                </a:solidFill>
                <a:latin typeface="Times New Roman"/>
              </a:rPr>
              <a:t>next_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peration returns true if an item exists at the current position in the iterator and the </a:t>
            </a:r>
            <a:r>
              <a:rPr b="0" i="1" lang="en-GB" sz="1800" spc="-1" strike="noStrike">
                <a:solidFill>
                  <a:srgbClr val="0000ff"/>
                </a:solidFill>
                <a:latin typeface="Times New Roman"/>
              </a:rPr>
              <a:t>how_man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arameter was set greater than zero. The output is a properties sequence with at most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how_man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number of properties. A return of false signifies no more items in the iter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3124080"/>
            <a:ext cx="7107840" cy="3538440"/>
            <a:chOff x="685800" y="3124080"/>
            <a:chExt cx="7107840" cy="3538440"/>
          </a:xfrm>
        </p:grpSpPr>
        <p:sp>
          <p:nvSpPr>
            <p:cNvPr id="88" name=""/>
            <p:cNvSpPr/>
            <p:nvPr/>
          </p:nvSpPr>
          <p:spPr>
            <a:xfrm>
              <a:off x="685800" y="3124080"/>
              <a:ext cx="464832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i="1" lang="en-GB" sz="1800" spc="-1" strike="noStrike">
                  <a:solidFill>
                    <a:srgbClr val="0000ff"/>
                  </a:solidFill>
                  <a:latin typeface="Times New Roman"/>
                </a:rPr>
                <a:t>next_one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operation returns true if an item exists at the current position in the iterator with an output parameter of a property. A return of false signifies no more items in the iterat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03240" y="6081840"/>
              <a:ext cx="2390400" cy="580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his is the output para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ith retrieved proper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red" descr=""/>
            <p:cNvPicPr/>
            <p:nvPr/>
          </p:nvPicPr>
          <p:blipFill>
            <a:blip r:embed="rId1"/>
            <a:stretch/>
          </p:blipFill>
          <p:spPr>
            <a:xfrm>
              <a:off x="4356000" y="590544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1" name=""/>
            <p:cNvCxnSpPr>
              <a:stCxn id="89" idx="1"/>
              <a:endCxn id="90" idx="3"/>
            </p:cNvCxnSpPr>
            <p:nvPr/>
          </p:nvCxnSpPr>
          <p:spPr>
            <a:xfrm rot="10800000">
              <a:off x="4469760" y="5961960"/>
              <a:ext cx="924480" cy="41184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2" name=""/>
          <p:cNvGrpSpPr/>
          <p:nvPr/>
        </p:nvGrpSpPr>
        <p:grpSpPr>
          <a:xfrm>
            <a:off x="258120" y="368280"/>
            <a:ext cx="8736840" cy="1303920"/>
            <a:chOff x="258120" y="368280"/>
            <a:chExt cx="8736840" cy="1303920"/>
          </a:xfrm>
        </p:grpSpPr>
        <p:sp>
          <p:nvSpPr>
            <p:cNvPr id="93" name=""/>
            <p:cNvSpPr/>
            <p:nvPr/>
          </p:nvSpPr>
          <p:spPr>
            <a:xfrm>
              <a:off x="304920" y="604800"/>
              <a:ext cx="2666880" cy="106740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void get_all_properties 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in unsigned long how_many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ut Properties npropertie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GB" sz="1600" spc="-1" strike="noStrike">
                  <a:solidFill>
                    <a:srgbClr val="0000ff"/>
                  </a:solidFill>
                  <a:latin typeface="Arial Narrow"/>
                </a:rPr>
                <a:t>out PropertiesIterator res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53240" y="604800"/>
              <a:ext cx="3141720" cy="106740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void get_all_property_names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in unsigned long how_many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ut PropertyNames property_name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r>
                <a:rPr b="0" lang="en-GB" sz="1600" spc="-1" strike="noStrike">
                  <a:solidFill>
                    <a:srgbClr val="0000ff"/>
                  </a:solidFill>
                  <a:latin typeface="Arial Narrow"/>
                </a:rPr>
                <a:t>out PropertyNamesIterator res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8120" y="36828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ow to get itera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w to use th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standalone “third-party” service implementing all or most of the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Bacus, JavaORB, and [many]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implement only some interfaces (usually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ropertyS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as a part of your server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der to inherit from th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ropertyS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use only data structures (usually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ever you need name-value pairs with values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other issu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y exceptions inclu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llec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different CORBA service supporting grouping objects and manipulating the whol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complex, but may be overkilled for simple name-value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9T15:56:40Z</dcterms:created>
  <dc:creator>Martin Senger</dc:creator>
  <dc:description/>
  <dc:language>en-US</dc:language>
  <cp:lastModifiedBy>Martin Senger</cp:lastModifiedBy>
  <dcterms:modified xsi:type="dcterms:W3CDTF">2000-06-22T15:11:47Z</dcterms:modified>
  <cp:revision>32</cp:revision>
  <dc:subject/>
  <dc:title>CORBA Property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industry.ebi.ac.uk/~senger</vt:lpwstr>
  </property>
  <property fmtid="{D5CDD505-2E9C-101B-9397-08002B2CF9AE}" pid="9" name="LinkColor">
    <vt:r8>16711782</vt:r8>
  </property>
  <property fmtid="{D5CDD505-2E9C-101B-9397-08002B2CF9AE}" pid="10" name="MailAddress">
    <vt:lpwstr>senger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Martin\talks\ws-corba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