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1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2D5-949B-49F9-ACDA-A3D42B39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25F9-949E-4514-9BF0-EC82D8AC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482-84B2-4D98-9A49-26AEDB68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3B6-4111-456D-BB9D-D9E27DDF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36FB-942C-48A7-9C45-183D68F6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BB4A-8993-484A-B489-61CF5E37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065E-261D-49B6-9957-BBCC9652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9435-AAD3-41CF-8661-E3AEA305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4A3C-E9D0-4EBB-A57A-67A9BD24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20C2-5D31-45BE-8C39-55CC9583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AA09-935E-42BA-940E-2236674B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928-E588-4922-A032-10C871E3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11D4-70CD-4D19-9F76-C9F7C372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9675-4A4D-4F7C-8BBB-2EA7739C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8C36-B16F-4B44-9BDA-9DECC7A4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2E90-8F89-466F-8A35-A27417E7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4D6A-380B-4086-B255-7D1185AA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FE15-3FB6-4E35-A6E6-6C70336E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307-7FBB-4CC0-9F36-C74199D9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ECF1-36F2-4BF2-82DF-0F120022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58E-D2AE-47D6-A24A-328BBC51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385B-7DD3-4FDC-B0D3-AF330BD9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8982-A492-4297-B754-9FF5E57A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DC9-2432-4FFD-8B7D-45B37C54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492D-81FA-401B-B176-199DAE41BE9B}" type="slidenum">
              <a:rPr b="0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6" name="LIFL" descr=""/>
          <p:cNvPicPr/>
          <p:nvPr/>
        </p:nvPicPr>
        <p:blipFill>
          <a:blip r:embed="rId3"/>
          <a:stretch/>
        </p:blipFill>
        <p:spPr>
          <a:xfrm>
            <a:off x="8499600" y="6283440"/>
            <a:ext cx="568080" cy="51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24740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F8AD-B95B-4CA6-B998-AEECAFC4FAF6}" type="slidenum">
              <a:rPr b="0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aint" descr=""/>
          <p:cNvPicPr/>
          <p:nvPr/>
        </p:nvPicPr>
        <p:blipFill>
          <a:blip r:embed="rId2"/>
          <a:stretch/>
        </p:blipFill>
        <p:spPr>
          <a:xfrm>
            <a:off x="914400" y="297180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48" name="LIFL" descr=""/>
          <p:cNvPicPr/>
          <p:nvPr/>
        </p:nvPicPr>
        <p:blipFill>
          <a:blip r:embed="rId3"/>
          <a:stretch/>
        </p:blipFill>
        <p:spPr>
          <a:xfrm>
            <a:off x="8499600" y="6283440"/>
            <a:ext cx="568080" cy="517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9600" y="209160"/>
            <a:ext cx="84582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EBI Advanced CORBA Programming Works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7680" y="1790640"/>
            <a:ext cx="86868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IDLscript: Gluing CORBA Objects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784080" y="3657600"/>
            <a:ext cx="7518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Université des Sciences et Technologies de L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Laboratoire d’Informatique Fondamentale de L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UPRES A 8022 CN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Bâtiment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59655 Villeneuve d’Ascq - 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http://corbaweb.lifl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gransart@lifl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8560" y="2678040"/>
            <a:ext cx="32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Christophe Grans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DLscri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new scripting language dedicated to CORB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neral purpose, interpreted and intera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-oriented and “everything is an objec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ynamic typing, reflexivity and introsp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complete and dynamic OMG IDL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ccess directly and naturally to any ID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oaded from the Interface Reposi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no stubs/skeletons gen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mple CORBA object binding (IOR, INS UR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ynamic invocation of CORBA objects (DI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ynamic implementation of CORBA objects (D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erface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attribute string assignabl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readonly attribute double nonassignabl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long method(in long p1) raises(EmptyExceptio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interface AnotherFoo :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long operation(in long p1, out long p2, inout long p3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raises(EmptyExceptio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657440"/>
            <a:ext cx="817884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Lscript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interface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attribute string assignabl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attribute readonly double nonassignabl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long method (in long p1) raises(EmptyExceptio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}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 = Another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interface AnotherFoo :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long operation (in long p1, out long p2, inout long p3) raises(EmptyExceptio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}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Lscript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 = AnotherFoo.assig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attribute string Foo::assignable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notherFoo.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operation long AnotherFoo::operation (in long p1, out long p2,   inout long p3) raises(EmptyException)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notherFoo._is_a (Fo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inding to CORBA Obj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inding to CORBA objec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terfaceIDLName (StringifiedObjectReferen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769040" indent="0">
              <a:lnSpc>
                <a:spcPct val="2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ringified object referen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andard IOR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andard INS URL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objref = Foo (“IOR:…”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objref = Foo (“iioploc://www.lifl.fr:10000/my_foo”)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# Check if the IOR/URL refers to a Foo object (~ narrow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objref = CORBA.Object (“IOR:…”)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# Automatic narrowing to the most derivated IDL interfac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bject 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bjref = CORBA.Object("IOR:.....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bjref._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interface AnotherFoo :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long operation (in long p1, out long p2, inout long p3)           raises(EmptyExceptio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}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bjref = AnotherFoo("IOR:.....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bjref = AnotherFoo("iioploc://host:port/name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bjref._is_a(Fo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ccess to OMG IDL Attrib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imple and direct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tomatic conversions from/to IDL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80040" y="2895480"/>
            <a:ext cx="51886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gt;&gt;&gt; objref.assignable = “Hello wor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gt;&gt;&gt; println (objref.assignable, ‘!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ello worl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gt;&gt;&gt; objref.nonassignable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ception: &lt; ReadOnlyAttribute: …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30200" y="5334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parently done through the D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trol, coercion done by IF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ccess to OMG IDL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bjref.assignable = "Hello World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println(objref.assignable, ’!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Hello Worl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bjref.nonassignable 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Exception: &lt; ReadOnlyAttribute: &lt; attribute readonly double Foo::nonassignable; &gt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File "stdin", line 2 in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nvocation of OMG IDL Op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vocations are done via the D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bjref.method (p1, …, p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arameters control and coercion via the IF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cep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bjref.method(10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 = objref.method(10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} catch (EmptyException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Parameter Passing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80880" y="163836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parameters are transmitted by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inou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ou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require to use an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Holder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1014480" y="3483000"/>
            <a:ext cx="5972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&gt;&gt;&gt; out = Holder 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&gt;&gt;&gt; inout = Holder (2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&gt;&gt;&gt; objref.operation (100, out, ino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&gt;&gt;&gt; out.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0880" y="5695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Holder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contains an attribute: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Invocation of Oneway Op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407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neway operations are invoked in the same way that twoways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objref.operation(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y are always called asynchronously via the D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 Grid Applic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529160" y="4162320"/>
            <a:ext cx="0" cy="5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4440" y="4267080"/>
            <a:ext cx="8086680" cy="990720"/>
          </a:xfrm>
          <a:prstGeom prst="leftRightArrow">
            <a:avLst>
              <a:gd name="adj1" fmla="val 50000"/>
              <a:gd name="adj2" fmla="val 15848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stributed Object Bus CORBA on Internet (II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14920" y="2133720"/>
            <a:ext cx="1752840" cy="2057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38160" y="2133720"/>
            <a:ext cx="1362240" cy="20574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90880" y="167652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Grid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46000" y="167652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Grid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2396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116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817800" y="2133720"/>
            <a:ext cx="1347840" cy="2019240"/>
            <a:chOff x="3817800" y="2133720"/>
            <a:chExt cx="1347840" cy="2019240"/>
          </a:xfrm>
        </p:grpSpPr>
        <p:sp>
          <p:nvSpPr>
            <p:cNvPr id="118" name=""/>
            <p:cNvSpPr/>
            <p:nvPr/>
          </p:nvSpPr>
          <p:spPr>
            <a:xfrm>
              <a:off x="3817800" y="2133720"/>
              <a:ext cx="1347840" cy="20192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84480" y="2224080"/>
              <a:ext cx="1130040" cy="82548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86160" y="3463920"/>
              <a:ext cx="463680" cy="5889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734080" y="2224080"/>
            <a:ext cx="1243080" cy="34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699160" y="2606760"/>
            <a:ext cx="1620720" cy="1555200"/>
            <a:chOff x="5699160" y="2606760"/>
            <a:chExt cx="1620720" cy="1555200"/>
          </a:xfrm>
        </p:grpSpPr>
        <p:sp>
          <p:nvSpPr>
            <p:cNvPr id="123" name=""/>
            <p:cNvSpPr/>
            <p:nvPr/>
          </p:nvSpPr>
          <p:spPr>
            <a:xfrm>
              <a:off x="5878440" y="2606760"/>
              <a:ext cx="1441440" cy="140940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84840" y="2652480"/>
              <a:ext cx="1441440" cy="140940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99160" y="2752560"/>
              <a:ext cx="1441440" cy="140940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992920" y="3044880"/>
            <a:ext cx="914400" cy="792000"/>
            <a:chOff x="5992920" y="3044880"/>
            <a:chExt cx="914400" cy="792000"/>
          </a:xfrm>
        </p:grpSpPr>
        <p:sp>
          <p:nvSpPr>
            <p:cNvPr id="127" name=""/>
            <p:cNvSpPr/>
            <p:nvPr/>
          </p:nvSpPr>
          <p:spPr>
            <a:xfrm>
              <a:off x="5992920" y="3044880"/>
              <a:ext cx="914400" cy="792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5800" y="304488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2600" y="304488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50120" y="304488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87280" y="304488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24440" y="304488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92920" y="3227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92920" y="33494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92920" y="34711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92920" y="35931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92920" y="3715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36800" y="2639880"/>
            <a:ext cx="11430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Deferred Operation Invo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eferred invocations of OMG IDL operations are supported by IDL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method calling notation is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object!method(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result is a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FutureReply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object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attribute : the result (wait if nee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poll()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method : polls if the request is comp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wait()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method : waits for the rep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inout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parameters are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Holder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object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which contain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FutureReply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peration Invocation Using the Deferred M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bjref.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operation long Foo::method (in long p1) raises(EmptyException)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futureReply = objref!method(10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futureReply.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fr-FR" sz="3600" spc="-1" strike="noStrike">
                <a:solidFill>
                  <a:srgbClr val="000000"/>
                </a:solidFill>
                <a:latin typeface="Courier New"/>
              </a:rPr>
              <a:t>FutureReply</a:t>
            </a: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 Ty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61680"/>
            <a:ext cx="86868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Functionality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Expla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futureReply.value 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waits for the end of the invo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and returns the resu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futureReply.poll() 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polls the end of the invo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and returns a boolea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true = invocation is completed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false = invocation is still runn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futureReply.wait()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-Bold;Times-Roman"/>
              </a:rPr>
              <a:t>waits for the end of the invoc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7240" y="188568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0" i="1" lang="fr-FR" sz="2800" spc="-1" strike="noStrike">
                <a:solidFill>
                  <a:srgbClr val="000000"/>
                </a:solidFill>
                <a:latin typeface="Tahoma"/>
              </a:rPr>
              <a:t>inout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fr-FR" sz="2800" spc="-1" strike="noStrike">
                <a:solidFill>
                  <a:srgbClr val="000000"/>
                </a:solidFill>
                <a:latin typeface="Tahoma"/>
              </a:rPr>
              <a:t>out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ut = Holde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inout = Holder(20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futureReply = objref!operation (100, out, inou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futureReply.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myFutureReplyForMyOutParameter = out.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myFutureReplyForMyOutParameter.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Implementing OMG IDL Interfa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one by IDLscript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per./attr. implemented by instance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DL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c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_get_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&lt;attr_name&gt;(self) { return value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c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_set_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&lt;attr_name&gt;(self,value) { . . .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DL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n instance method with the same n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c &lt;operation_name&gt; (self, . . .) { . . .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coming requests are managed through the D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Implementation of the Interface </a:t>
            </a:r>
            <a:r>
              <a:rPr b="0" lang="fr-FR" sz="36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__FOO__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(self, s, d) { self.s = 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self.d = d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_get_assignable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(self) { return self.s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_set_assignable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(self, value) { self.s = value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_get_nonassignable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(self) { return self.d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method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(self, p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if ( p1 == 0 ) { throw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EmptyException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()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return p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Implementation of the Interface </a:t>
            </a:r>
            <a:r>
              <a:rPr b="0" lang="fr-FR" sz="3600" spc="-1" strike="noStrike">
                <a:solidFill>
                  <a:srgbClr val="000000"/>
                </a:solidFill>
                <a:latin typeface="Courier New"/>
              </a:rPr>
              <a:t>AnotherFo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AnotherFOO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(FOO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__AnotherFOO__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(self, s, d)  {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self.__FOO__(s,d)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operation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(self, p1, p2, p3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if ( p1 == 0 ) { throw EmptyException()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p2.value = p1 + p3.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return p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Object Regist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868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d by two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POA approac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ortableServer::Servan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s IDLscript class in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Java-like approac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RBA.ORB.connect(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connect(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nections may be done explicitly or implici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isconnections are always done explici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Object Registr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-399960" y="1676520"/>
            <a:ext cx="981072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2" marL="971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_foo = FOO ("Hello",1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# 'a_foo' refers to a FOO inst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CORBA.ORB.connect(a_foo, Foo, "my_foo"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# 'a_foo' is now associated to a Foo CORBA objec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# The 'a_foo' instance becomes accessible fr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# the ORB. The last parameter is option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_foo._th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lt; DSI Object Foo("IOR: . . .") 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# The '_this' attribute refers to the associ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# DSI objec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# This is the CORBA object reference implemen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# by the 'a_foo' inst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CORBA.ORB.disconnect(a_fo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# Explicit disconnection. The 'a_foo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&gt;&gt;&gt; #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nstance becomes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inaccessible from the ORB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040" y="22824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Object Adapter Run-Time Exce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RBA::BAD_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invoked IDL operation is not supported by the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RBA::OBJ_ADAP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servant object has been explicitly dis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RBA::NO_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servant object does not provide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RBA::BAD_INV_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nal exception during operation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Grid Service ID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1542960"/>
            <a:ext cx="8153280" cy="52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dul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ridServ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ypedef doubl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or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{unsigned short x, y;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ception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validCoor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{Coord pos;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ri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donly attribute Coor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imensio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oi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in Coord pos, in Value val) raises (InvalidCoor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in Coord pos) raises (InvalidCoor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oi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stro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actor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ri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reate_gri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in Coord dim, in Value init_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438880" y="1471680"/>
            <a:ext cx="2604600" cy="1461960"/>
            <a:chOff x="5438880" y="1471680"/>
            <a:chExt cx="2604600" cy="1461960"/>
          </a:xfrm>
        </p:grpSpPr>
        <p:sp>
          <p:nvSpPr>
            <p:cNvPr id="142" name=""/>
            <p:cNvSpPr/>
            <p:nvPr/>
          </p:nvSpPr>
          <p:spPr>
            <a:xfrm>
              <a:off x="5438880" y="1471680"/>
              <a:ext cx="2604600" cy="1461960"/>
            </a:xfrm>
            <a:prstGeom prst="wedgeEllipseCallout">
              <a:avLst>
                <a:gd name="adj1" fmla="val -72060"/>
                <a:gd name="adj2" fmla="val 425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67200" y="1788480"/>
              <a:ext cx="2003400" cy="825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ome inter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efini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800760" y="2500200"/>
            <a:ext cx="2057400" cy="1295640"/>
            <a:chOff x="6800760" y="2500200"/>
            <a:chExt cx="2057400" cy="1295640"/>
          </a:xfrm>
        </p:grpSpPr>
        <p:sp>
          <p:nvSpPr>
            <p:cNvPr id="145" name=""/>
            <p:cNvSpPr/>
            <p:nvPr/>
          </p:nvSpPr>
          <p:spPr>
            <a:xfrm>
              <a:off x="6800760" y="2500200"/>
              <a:ext cx="2057400" cy="1295640"/>
            </a:xfrm>
            <a:prstGeom prst="wedgeEllipseCallout">
              <a:avLst>
                <a:gd name="adj1" fmla="val -93134"/>
                <a:gd name="adj2" fmla="val 4081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92080" y="2733840"/>
              <a:ext cx="1392480" cy="825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The Gr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89560" y="4281480"/>
            <a:ext cx="2606760" cy="1235160"/>
            <a:chOff x="6289560" y="4281480"/>
            <a:chExt cx="2606760" cy="1235160"/>
          </a:xfrm>
        </p:grpSpPr>
        <p:sp>
          <p:nvSpPr>
            <p:cNvPr id="148" name=""/>
            <p:cNvSpPr/>
            <p:nvPr/>
          </p:nvSpPr>
          <p:spPr>
            <a:xfrm>
              <a:off x="6289560" y="4281480"/>
              <a:ext cx="2606760" cy="1235160"/>
            </a:xfrm>
            <a:prstGeom prst="wedgeEllipseCallout">
              <a:avLst>
                <a:gd name="adj1" fmla="val -79291"/>
                <a:gd name="adj2" fmla="val 6498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77720" y="4424400"/>
              <a:ext cx="178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The Fac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Type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57080"/>
            <a:ext cx="86868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IDL TypeCode type is reflected by the IDLscript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CORBA.TypeCode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with standard operations: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equal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kind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lso th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ORBA.TCKind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enum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ll IDL type reflections are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CORBA.TypeCode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// OMG ID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interface ExampleTC { void send (in TypeCode tc); 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 = ExampleTC("IOR:. . . 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.send(CORBA.Lo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.send(Po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.send(Fo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Type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638000"/>
            <a:ext cx="8178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erface ExampleTC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void send (in TypeCode tc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Lscript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 = ExampleTC("IOR:....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.send(CORBA.Lo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.send(Po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.send(Fo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tc = CORBA.TypeCode(Fo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.send(t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fr-FR" sz="3600" spc="-1" strike="noStrike">
                <a:solidFill>
                  <a:srgbClr val="000000"/>
                </a:solidFill>
                <a:latin typeface="Courier New"/>
              </a:rPr>
              <a:t>CORBA.TypeCode</a:t>
            </a: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 Ty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2" name=""/>
          <p:cNvSpPr/>
          <p:nvPr/>
        </p:nvSpPr>
        <p:spPr>
          <a:xfrm>
            <a:off x="589680" y="2917800"/>
            <a:ext cx="348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c.equal(aCorba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c.ki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c.i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c.nam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c.member_cou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c.member_name(anInde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665600" y="2917800"/>
            <a:ext cx="341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c.member_type(anInde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c.member_label(anInde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c.discriminator_typ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c.default_index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c.lengt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c.content_typ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542960"/>
            <a:ext cx="817884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IDL Any type is reflected by the IDLscript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CORBA.Any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with two attributes: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reflection of any IDL type and value can be coerced to a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CORBA.Any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4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// OMG ID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erface ExampleAny {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 void send (in any a); 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 = ExampleAny("IOR:....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.send(CORBA.Long(10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.send(Point(10,10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.send(Foo("IOR:...."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.send(AnotherFo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581120"/>
            <a:ext cx="817884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erface ExampleAn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void send (in any 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Lscript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p = Point(10,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foo = Foo("IOR:....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 = ExampleAny("IOR:....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.send(CORBA.Long(10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.send(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.send(fo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.send(AnotherFo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6840" y="1733040"/>
            <a:ext cx="81788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Lscript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 = CORBA.Any(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RBA.Any(Point(10,10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o.send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.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struct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double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double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}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.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Point(10,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407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CORBA.Any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Implicit Con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Type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Conversion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-Bold;Times-Roman"/>
              </a:rPr>
              <a:t>a long L </a:t>
            </a:r>
            <a:r>
              <a:rPr b="0" lang="fr-FR" sz="28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-Bold;Times-Roman"/>
              </a:rPr>
              <a:t>CORBA::Any(CORBA::Long(L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-Bold;Times-Roman"/>
              </a:rPr>
              <a:t>a double D </a:t>
            </a:r>
            <a:r>
              <a:rPr b="0" lang="fr-FR" sz="28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-Bold;Times-Roman"/>
              </a:rPr>
              <a:t>CORBA::Any(CORBA::Double(D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-Bold;Times-Roman"/>
              </a:rPr>
              <a:t>a char C </a:t>
            </a:r>
            <a:r>
              <a:rPr b="0" lang="fr-FR" sz="28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-Bold;Times-Roman"/>
              </a:rPr>
              <a:t>CORBA::Any(CORBA::Char(C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-Bold;Times-Roman"/>
              </a:rPr>
              <a:t>a boolean B </a:t>
            </a:r>
            <a:r>
              <a:rPr b="0" lang="fr-FR" sz="28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-Bold;Times-Roman"/>
              </a:rPr>
              <a:t>CORBA::Any(CORBA::Boolean(B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-Bold;Times-Roman"/>
              </a:rPr>
              <a:t>a string S </a:t>
            </a:r>
            <a:r>
              <a:rPr b="0" lang="fr-FR" sz="28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-Bold;Times-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-Bold;Times-Roman"/>
              </a:rPr>
              <a:t>CORBA::Any(CORBA::String(S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542960"/>
            <a:ext cx="817884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value types are IDLscrip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eflection of the IDL inheritance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reation of IDL boxed value is achieved by the calling notation according to the boxe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ame number of arguments, type conform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reation of concrete value is done by calling an initializer declared in the valu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rgument number and types must be conform to the initializer signa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bstract value types can not be instanci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Null value  =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ValueType._n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ue Manip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oxed values are manipulated like objects of the boxe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ncrete and abstract values are manipulated using the dotted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ncrete value operations can be invoked if the value is associated with a local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ublic state members can be get and set using the dotted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ivate state members are not acce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Implementing OMG IDL Val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57440"/>
            <a:ext cx="8686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one by IDLscript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ublic and private IDL value member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presented by instance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ame name as in OMG IDL defi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xplicitly assigned by initializ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ORBA::MARSHAL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thrown if not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nitializers and operations implemented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y instance metho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ame name as in OMG IDL defi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ORBA::NO_IMPLEMENT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thrown if called but not implem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iscovering IDL Specif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5981760" y="511812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62360" y="512748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88960" y="5987880"/>
            <a:ext cx="73836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rect Access to OMG IDL (via Interface Reposit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-users on-line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57400" y="5313240"/>
            <a:ext cx="7467480" cy="674640"/>
          </a:xfrm>
          <a:prstGeom prst="leftRightArrow">
            <a:avLst>
              <a:gd name="adj1" fmla="val 57176"/>
              <a:gd name="adj2" fmla="val 15598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89360" y="3919680"/>
            <a:ext cx="1763640" cy="1207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DL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R S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89360" y="4721400"/>
            <a:ext cx="17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60880" y="3919680"/>
            <a:ext cx="1763640" cy="1207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715160" y="4059360"/>
            <a:ext cx="909720" cy="1068120"/>
            <a:chOff x="7715160" y="4059360"/>
            <a:chExt cx="909720" cy="1068120"/>
          </a:xfrm>
        </p:grpSpPr>
        <p:sp>
          <p:nvSpPr>
            <p:cNvPr id="159" name=""/>
            <p:cNvSpPr/>
            <p:nvPr/>
          </p:nvSpPr>
          <p:spPr>
            <a:xfrm>
              <a:off x="7715160" y="4059360"/>
              <a:ext cx="909720" cy="1068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19960" y="4059360"/>
              <a:ext cx="304920" cy="32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47840" y="3935520"/>
            <a:ext cx="846000" cy="1377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52520" y="4629240"/>
            <a:ext cx="14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830200" y="3460680"/>
            <a:ext cx="2793960" cy="598680"/>
          </a:xfrm>
          <a:prstGeom prst="uturnArrow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47840" y="1574640"/>
            <a:ext cx="7507080" cy="4149720"/>
            <a:chOff x="447840" y="1574640"/>
            <a:chExt cx="7507080" cy="4149720"/>
          </a:xfrm>
        </p:grpSpPr>
        <p:sp>
          <p:nvSpPr>
            <p:cNvPr id="165" name=""/>
            <p:cNvSpPr/>
            <p:nvPr/>
          </p:nvSpPr>
          <p:spPr>
            <a:xfrm>
              <a:off x="447840" y="1574640"/>
              <a:ext cx="7267320" cy="1886040"/>
            </a:xfrm>
            <a:prstGeom prst="wedgeRoundRectCallout">
              <a:avLst>
                <a:gd name="adj1" fmla="val -37722"/>
                <a:gd name="adj2" fmla="val 79967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1280" y="1733400"/>
              <a:ext cx="73436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</a:rPr>
                <a:t>&gt; GridService.Gr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&lt;OMG-IDL interface GridService::Grid{…};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</a:rPr>
                <a:t>&gt; GirdService.Grid.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&lt;OMG-IDL void set (in Coord pos, in Value val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raises (InvalidCoord);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251160" y="5165640"/>
              <a:ext cx="1058760" cy="558720"/>
            </a:xfrm>
            <a:custGeom>
              <a:avLst/>
              <a:gdLst>
                <a:gd name="textAreaLeft" fmla="*/ 0 w 1058760"/>
                <a:gd name="textAreaRight" fmla="*/ 1059120 w 1058760"/>
                <a:gd name="textAreaTop" fmla="*/ 0 h 558720"/>
                <a:gd name="textAreaBottom" fmla="*/ 558720 h 55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435" stAng="10800000" swAng="5400000"/>
                  <a:lnTo>
                    <a:pt x="12427" y="4725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7433"/>
                  </a:lnTo>
                  <a:lnTo>
                    <a:pt x="12427" y="7433"/>
                  </a:lnTo>
                  <a:arcTo wR="9719" hR="4727" stAng="16200000" swAng="-5400000"/>
                  <a:lnTo>
                    <a:pt x="2708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16200000">
              <a:off x="5807160" y="5141880"/>
              <a:ext cx="606240" cy="55872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558720"/>
                <a:gd name="textAreaBottom" fmla="*/ 558720 h 55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435" stAng="10800000" swAng="5400000"/>
                  <a:lnTo>
                    <a:pt x="12427" y="4725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7433"/>
                  </a:lnTo>
                  <a:lnTo>
                    <a:pt x="12427" y="7433"/>
                  </a:lnTo>
                  <a:arcTo wR="9719" hR="4727" stAng="16200000" swAng="-5400000"/>
                  <a:lnTo>
                    <a:pt x="2708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790320" y="35956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Factory Regist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77120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CORBA::ValueFactory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native type is reflected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y IDLscript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lasses must be explicitly regis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OMG IDL: valuetype Employee { . . . }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gt;&gt;&gt; class EMPLOYEE { . . .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gt;&gt;&gt; orb.register_value_factory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IDL:Employee:1.0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 "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, EMPLOYE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gt;&gt;&gt; orb.register_value_factory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Employee.id(), EMPLOYE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ustom Val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6840" y="1619280"/>
            <a:ext cx="817884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mplementation classes of custom marshaled values must implement marshaling and unmarshaling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class IMPL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proc marshal (self, do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dos.write_boolean (self.state1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  . . .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}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proc unmarshal (self, di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self.state1 = dis.read_boolean (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  . . .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}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flection of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CORBA::DataOutputStream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CORBA::DataInputStream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val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The Global CORBA Ob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flection of the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RB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tains the hierarchy of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asic OMG IDL types (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ypeCod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basic enums (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CKin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mpletionStatu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andard exceptio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type with its standard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RB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ingleton object with its standard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onnec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isconn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fr-FR" sz="3600" spc="-1" strike="noStrike">
                <a:solidFill>
                  <a:srgbClr val="000000"/>
                </a:solidFill>
                <a:latin typeface="Courier New"/>
              </a:rPr>
              <a:t>CORBA::Object</a:t>
            </a: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 Ob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flection of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CORBA::Object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tandard operations prefixed by ‘ _ 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_get_interfac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_hash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_is_equivalent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duplicate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release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are not refl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DLscript includes a garbage coll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_is_a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operation uses a IDLscrip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create_request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is not refl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DLscript offers a user-friendly calling no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engine must use the DI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fr-FR" sz="3600" spc="-1" strike="noStrike">
                <a:solidFill>
                  <a:srgbClr val="000000"/>
                </a:solidFill>
                <a:latin typeface="Courier New"/>
              </a:rPr>
              <a:t>CORBA::ORB</a:t>
            </a: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 Ob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80520" y="1657080"/>
            <a:ext cx="89535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flection of ORB singleton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ovides standard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object_to_string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list_initial_references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run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II related operations are not refl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DLscript offers a user-friendly calling no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ypeCode creation is not refl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ll OMG IDL definitions are automatically available (IF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or value factory related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ORBA::ValueFactory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IDLscrip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124740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dvanced 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orbaWeb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Remote Scripting Engin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The CorbaWeb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685080" y="2254320"/>
            <a:ext cx="8001000" cy="488880"/>
          </a:xfrm>
          <a:prstGeom prst="flowChartMagneticDrum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1258920" y="1600200"/>
            <a:ext cx="2435040" cy="459720"/>
            <a:chOff x="1258920" y="1600200"/>
            <a:chExt cx="2435040" cy="459720"/>
          </a:xfrm>
        </p:grpSpPr>
        <p:sp>
          <p:nvSpPr>
            <p:cNvPr id="653" name=""/>
            <p:cNvSpPr/>
            <p:nvPr/>
          </p:nvSpPr>
          <p:spPr>
            <a:xfrm>
              <a:off x="1259640" y="1600200"/>
              <a:ext cx="217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Web Brow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258920" y="1600200"/>
              <a:ext cx="243504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450040" y="1600200"/>
            <a:ext cx="2435040" cy="459720"/>
            <a:chOff x="5450040" y="1600200"/>
            <a:chExt cx="2435040" cy="459720"/>
          </a:xfrm>
        </p:grpSpPr>
        <p:sp>
          <p:nvSpPr>
            <p:cNvPr id="656" name=""/>
            <p:cNvSpPr/>
            <p:nvPr/>
          </p:nvSpPr>
          <p:spPr>
            <a:xfrm>
              <a:off x="5450760" y="1600200"/>
              <a:ext cx="217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Web Brow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50040" y="1600200"/>
              <a:ext cx="243504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743040" y="4876920"/>
            <a:ext cx="7827840" cy="1796400"/>
            <a:chOff x="743040" y="4876920"/>
            <a:chExt cx="7827840" cy="1796400"/>
          </a:xfrm>
        </p:grpSpPr>
        <p:grpSp>
          <p:nvGrpSpPr>
            <p:cNvPr id="659" name=""/>
            <p:cNvGrpSpPr/>
            <p:nvPr/>
          </p:nvGrpSpPr>
          <p:grpSpPr>
            <a:xfrm>
              <a:off x="1527120" y="5257800"/>
              <a:ext cx="1444680" cy="905040"/>
              <a:chOff x="1527120" y="5257800"/>
              <a:chExt cx="1444680" cy="905040"/>
            </a:xfrm>
          </p:grpSpPr>
          <p:sp>
            <p:nvSpPr>
              <p:cNvPr id="660" name=""/>
              <p:cNvSpPr/>
              <p:nvPr/>
            </p:nvSpPr>
            <p:spPr>
              <a:xfrm>
                <a:off x="1527120" y="5708880"/>
                <a:ext cx="144468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350440" y="5959080"/>
                <a:ext cx="41004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697760" y="5844600"/>
                <a:ext cx="49068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1955160" y="525780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2566080" y="536904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3127320" y="5257800"/>
              <a:ext cx="1444680" cy="905040"/>
              <a:chOff x="3127320" y="5257800"/>
              <a:chExt cx="1444680" cy="905040"/>
            </a:xfrm>
          </p:grpSpPr>
          <p:sp>
            <p:nvSpPr>
              <p:cNvPr id="666" name=""/>
              <p:cNvSpPr/>
              <p:nvPr/>
            </p:nvSpPr>
            <p:spPr>
              <a:xfrm>
                <a:off x="3127320" y="5708880"/>
                <a:ext cx="144468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950640" y="5959080"/>
                <a:ext cx="41004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297960" y="5844600"/>
                <a:ext cx="49068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3555360" y="525780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4166280" y="536904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4800600" y="5257800"/>
              <a:ext cx="1444680" cy="905040"/>
              <a:chOff x="4800600" y="5257800"/>
              <a:chExt cx="1444680" cy="905040"/>
            </a:xfrm>
          </p:grpSpPr>
          <p:sp>
            <p:nvSpPr>
              <p:cNvPr id="672" name=""/>
              <p:cNvSpPr/>
              <p:nvPr/>
            </p:nvSpPr>
            <p:spPr>
              <a:xfrm>
                <a:off x="4800600" y="5708880"/>
                <a:ext cx="144468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623920" y="5959080"/>
                <a:ext cx="41004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971240" y="5844600"/>
                <a:ext cx="49068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5228640" y="525780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5839560" y="536904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6404040" y="5257800"/>
              <a:ext cx="1444680" cy="905040"/>
              <a:chOff x="6404040" y="5257800"/>
              <a:chExt cx="1444680" cy="905040"/>
            </a:xfrm>
          </p:grpSpPr>
          <p:sp>
            <p:nvSpPr>
              <p:cNvPr id="678" name=""/>
              <p:cNvSpPr/>
              <p:nvPr/>
            </p:nvSpPr>
            <p:spPr>
              <a:xfrm>
                <a:off x="6404040" y="5708880"/>
                <a:ext cx="144468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227360" y="5959080"/>
                <a:ext cx="41004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574680" y="5844600"/>
                <a:ext cx="49068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6832080" y="525780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7443000" y="536904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3" name=""/>
            <p:cNvSpPr/>
            <p:nvPr/>
          </p:nvSpPr>
          <p:spPr>
            <a:xfrm>
              <a:off x="2008440" y="621360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24240" y="621360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924080" y="6213600"/>
              <a:ext cx="28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RBA 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43040" y="4876920"/>
              <a:ext cx="7827840" cy="637920"/>
            </a:xfrm>
            <a:prstGeom prst="leftRightArrow">
              <a:avLst>
                <a:gd name="adj1" fmla="val 58824"/>
                <a:gd name="adj2" fmla="val 172474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RBA O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43120" y="2014560"/>
            <a:ext cx="5535720" cy="3824280"/>
            <a:chOff x="1743120" y="2014560"/>
            <a:chExt cx="5535720" cy="3824280"/>
          </a:xfrm>
        </p:grpSpPr>
        <p:sp>
          <p:nvSpPr>
            <p:cNvPr id="688" name=""/>
            <p:cNvSpPr/>
            <p:nvPr/>
          </p:nvSpPr>
          <p:spPr>
            <a:xfrm>
              <a:off x="1743120" y="2014560"/>
              <a:ext cx="2262240" cy="3176640"/>
            </a:xfrm>
            <a:custGeom>
              <a:avLst/>
              <a:gdLst/>
              <a:ahLst/>
              <a:rect l="l" t="t" r="r" b="b"/>
              <a:pathLst>
                <a:path w="1433" h="1975">
                  <a:moveTo>
                    <a:pt x="87" y="0"/>
                  </a:moveTo>
                  <a:cubicBezTo>
                    <a:pt x="104" y="49"/>
                    <a:pt x="0" y="224"/>
                    <a:pt x="190" y="292"/>
                  </a:cubicBezTo>
                  <a:cubicBezTo>
                    <a:pt x="380" y="360"/>
                    <a:pt x="1023" y="129"/>
                    <a:pt x="1228" y="409"/>
                  </a:cubicBezTo>
                  <a:cubicBezTo>
                    <a:pt x="1433" y="689"/>
                    <a:pt x="1379" y="1649"/>
                    <a:pt x="1419" y="1975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300640" y="2060640"/>
              <a:ext cx="1978200" cy="3138480"/>
            </a:xfrm>
            <a:custGeom>
              <a:avLst/>
              <a:gdLst/>
              <a:ahLst/>
              <a:rect l="l" t="t" r="r" b="b"/>
              <a:pathLst>
                <a:path w="1237" h="1859">
                  <a:moveTo>
                    <a:pt x="1159" y="0"/>
                  </a:moveTo>
                  <a:cubicBezTo>
                    <a:pt x="1144" y="41"/>
                    <a:pt x="1237" y="183"/>
                    <a:pt x="1071" y="249"/>
                  </a:cubicBezTo>
                  <a:cubicBezTo>
                    <a:pt x="905" y="315"/>
                    <a:pt x="328" y="127"/>
                    <a:pt x="164" y="395"/>
                  </a:cubicBezTo>
                  <a:cubicBezTo>
                    <a:pt x="0" y="663"/>
                    <a:pt x="106" y="1554"/>
                    <a:pt x="90" y="1859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416320" y="5197320"/>
              <a:ext cx="4806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11280" y="5192640"/>
              <a:ext cx="0" cy="6271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25800" y="5207040"/>
              <a:ext cx="0" cy="6271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16720" y="5183280"/>
              <a:ext cx="0" cy="6271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211880" y="5211720"/>
              <a:ext cx="0" cy="6271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532240" y="2803680"/>
            <a:ext cx="4422600" cy="1958760"/>
          </a:xfrm>
          <a:prstGeom prst="irregularSeal1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rba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066200" y="22860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 / 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540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Some Technical Points about CorbaWe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server + 1 IDLscript interpre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GI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HTTP micro-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pach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s for IDLcript scri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reted on the f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enerate WWW doc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s to specify HTML documents + IDLscript c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ML documents dynamic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The CorbaWeb Functiona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686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ject (one or more)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fly generation of MIME doc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rowsing through object gra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fly generation of HTML anch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L contains IOR of the visited 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peration invocations on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fly HTML form generation with information from the Interface Reposi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invocations and script mobile execution invoca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ripts and IORs are carried by HTT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MG IDL / HTML Map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190440" y="1866960"/>
          <a:ext cx="8839440" cy="49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1866960"/>
                    <a:ext cx="883944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Linking to Obj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6762600" y="4781520"/>
            <a:ext cx="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8880" y="4800600"/>
            <a:ext cx="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800600"/>
            <a:ext cx="7939080" cy="674640"/>
          </a:xfrm>
          <a:prstGeom prst="leftRightArrow">
            <a:avLst>
              <a:gd name="adj1" fmla="val 50120"/>
              <a:gd name="adj2" fmla="val 13129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81160" y="3541680"/>
            <a:ext cx="846000" cy="1378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803240" y="3422520"/>
            <a:ext cx="2035440" cy="137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DL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I    IFR S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03240" y="4303800"/>
            <a:ext cx="203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478240" y="4301640"/>
            <a:ext cx="0" cy="4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33800" y="479124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22800" y="3403440"/>
            <a:ext cx="1347840" cy="13780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89480" y="3465360"/>
            <a:ext cx="1130040" cy="8254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91160" y="4311720"/>
            <a:ext cx="463320" cy="401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6840" y="3403440"/>
            <a:ext cx="1671480" cy="1378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11560" y="346536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Grid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87960" y="4157640"/>
            <a:ext cx="416160" cy="130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56400" y="4027320"/>
            <a:ext cx="415800" cy="130320"/>
          </a:xfrm>
          <a:prstGeom prst="ellipse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08680" y="4462560"/>
            <a:ext cx="416160" cy="129960"/>
          </a:xfrm>
          <a:prstGeom prst="ellipse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60360" y="1657440"/>
            <a:ext cx="8359920" cy="1552320"/>
            <a:chOff x="360360" y="1657440"/>
            <a:chExt cx="8359920" cy="1552320"/>
          </a:xfrm>
        </p:grpSpPr>
        <p:sp>
          <p:nvSpPr>
            <p:cNvPr id="188" name=""/>
            <p:cNvSpPr/>
            <p:nvPr/>
          </p:nvSpPr>
          <p:spPr>
            <a:xfrm>
              <a:off x="360360" y="1657440"/>
              <a:ext cx="8251920" cy="1552320"/>
            </a:xfrm>
            <a:prstGeom prst="wedgeRoundRectCallout">
              <a:avLst>
                <a:gd name="adj1" fmla="val -46824"/>
                <a:gd name="adj2" fmla="val 64930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4880" y="1803240"/>
              <a:ext cx="828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&gt; NS = CORBA.ORB.resolve_initial _references(«NameService»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&gt; Gf = NS.resolve( factory_path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&gt; aGrid = Gf.create_grid ([20,5], 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003040" y="5537160"/>
            <a:ext cx="628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itial object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ess to standard services: Naming, Trader,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ject referencing with IOR and 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320" y="593280"/>
            <a:ext cx="93628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CorbaWeb: Dynamic Docu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3389400" y="2979720"/>
            <a:ext cx="1984320" cy="1195560"/>
            <a:chOff x="3389400" y="2979720"/>
            <a:chExt cx="1984320" cy="1195560"/>
          </a:xfrm>
        </p:grpSpPr>
        <p:sp>
          <p:nvSpPr>
            <p:cNvPr id="706" name=""/>
            <p:cNvSpPr/>
            <p:nvPr/>
          </p:nvSpPr>
          <p:spPr>
            <a:xfrm>
              <a:off x="3389400" y="2979720"/>
              <a:ext cx="1984320" cy="1049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3570120" y="3407040"/>
              <a:ext cx="1640160" cy="768240"/>
              <a:chOff x="3570120" y="3407040"/>
              <a:chExt cx="1640160" cy="768240"/>
            </a:xfrm>
          </p:grpSpPr>
          <p:sp>
            <p:nvSpPr>
              <p:cNvPr id="708" name=""/>
              <p:cNvSpPr/>
              <p:nvPr/>
            </p:nvSpPr>
            <p:spPr>
              <a:xfrm>
                <a:off x="3654000" y="3831840"/>
                <a:ext cx="655560" cy="34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R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67960" y="3831840"/>
                <a:ext cx="655920" cy="34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I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570120" y="3407040"/>
                <a:ext cx="1640160" cy="42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DLscrip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3653640" y="303552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CorbaWe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73200" y="4254480"/>
            <a:ext cx="7827840" cy="1796400"/>
            <a:chOff x="673200" y="4254480"/>
            <a:chExt cx="7827840" cy="1796400"/>
          </a:xfrm>
        </p:grpSpPr>
        <p:grpSp>
          <p:nvGrpSpPr>
            <p:cNvPr id="713" name=""/>
            <p:cNvGrpSpPr/>
            <p:nvPr/>
          </p:nvGrpSpPr>
          <p:grpSpPr>
            <a:xfrm>
              <a:off x="1457280" y="4635360"/>
              <a:ext cx="1444680" cy="905040"/>
              <a:chOff x="1457280" y="4635360"/>
              <a:chExt cx="1444680" cy="905040"/>
            </a:xfrm>
          </p:grpSpPr>
          <p:sp>
            <p:nvSpPr>
              <p:cNvPr id="714" name=""/>
              <p:cNvSpPr/>
              <p:nvPr/>
            </p:nvSpPr>
            <p:spPr>
              <a:xfrm>
                <a:off x="1457280" y="5086440"/>
                <a:ext cx="144468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280600" y="5336640"/>
                <a:ext cx="41004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627920" y="5222160"/>
                <a:ext cx="49068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1885320" y="463536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2496240" y="474660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3057480" y="4635360"/>
              <a:ext cx="1444680" cy="905040"/>
              <a:chOff x="3057480" y="4635360"/>
              <a:chExt cx="1444680" cy="905040"/>
            </a:xfrm>
          </p:grpSpPr>
          <p:sp>
            <p:nvSpPr>
              <p:cNvPr id="720" name=""/>
              <p:cNvSpPr/>
              <p:nvPr/>
            </p:nvSpPr>
            <p:spPr>
              <a:xfrm>
                <a:off x="3057480" y="5086440"/>
                <a:ext cx="144468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80800" y="5336640"/>
                <a:ext cx="41004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228120" y="5222160"/>
                <a:ext cx="49068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3485520" y="463536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096440" y="474660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4730760" y="4635360"/>
              <a:ext cx="1444680" cy="905040"/>
              <a:chOff x="4730760" y="4635360"/>
              <a:chExt cx="1444680" cy="905040"/>
            </a:xfrm>
          </p:grpSpPr>
          <p:sp>
            <p:nvSpPr>
              <p:cNvPr id="726" name=""/>
              <p:cNvSpPr/>
              <p:nvPr/>
            </p:nvSpPr>
            <p:spPr>
              <a:xfrm>
                <a:off x="4730760" y="5086440"/>
                <a:ext cx="144468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554080" y="5336640"/>
                <a:ext cx="41004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901400" y="5222160"/>
                <a:ext cx="49068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158800" y="463536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5769720" y="474660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6334200" y="4635360"/>
              <a:ext cx="1444680" cy="905040"/>
              <a:chOff x="6334200" y="4635360"/>
              <a:chExt cx="1444680" cy="905040"/>
            </a:xfrm>
          </p:grpSpPr>
          <p:sp>
            <p:nvSpPr>
              <p:cNvPr id="732" name=""/>
              <p:cNvSpPr/>
              <p:nvPr/>
            </p:nvSpPr>
            <p:spPr>
              <a:xfrm>
                <a:off x="6334200" y="5086440"/>
                <a:ext cx="144468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57520" y="5336640"/>
                <a:ext cx="41004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504840" y="5222160"/>
                <a:ext cx="49068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6762240" y="463536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7373160" y="474660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1795680" y="559116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397320" y="55911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54240" y="5591160"/>
              <a:ext cx="28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RBA 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73200" y="4254480"/>
              <a:ext cx="7827840" cy="638280"/>
            </a:xfrm>
            <a:prstGeom prst="leftRightArrow">
              <a:avLst>
                <a:gd name="adj1" fmla="val 58824"/>
                <a:gd name="adj2" fmla="val 17237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 flipH="1">
            <a:off x="628560" y="1744560"/>
            <a:ext cx="7724880" cy="373320"/>
          </a:xfrm>
          <a:prstGeom prst="flowChartMagneticDrum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387400" y="2467080"/>
            <a:ext cx="2972520" cy="1562040"/>
            <a:chOff x="5387400" y="2467080"/>
            <a:chExt cx="2972520" cy="1562040"/>
          </a:xfrm>
        </p:grpSpPr>
        <p:sp>
          <p:nvSpPr>
            <p:cNvPr id="743" name=""/>
            <p:cNvSpPr/>
            <p:nvPr/>
          </p:nvSpPr>
          <p:spPr>
            <a:xfrm>
              <a:off x="6750000" y="2467080"/>
              <a:ext cx="1609920" cy="1562040"/>
            </a:xfrm>
            <a:prstGeom prst="can">
              <a:avLst>
                <a:gd name="adj" fmla="val 1466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ynam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HTM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4" name=""/>
            <p:cNvCxnSpPr>
              <a:stCxn id="743" idx="2"/>
              <a:endCxn id="706" idx="3"/>
            </p:cNvCxnSpPr>
            <p:nvPr/>
          </p:nvCxnSpPr>
          <p:spPr>
            <a:xfrm flipH="1">
              <a:off x="5387400" y="3247560"/>
              <a:ext cx="1362600" cy="258120"/>
            </a:xfrm>
            <a:prstGeom prst="straightConnector1">
              <a:avLst/>
            </a:prstGeom>
            <a:ln w="38160">
              <a:solidFill>
                <a:srgbClr val="ffcc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745" name=""/>
          <p:cNvGrpSpPr/>
          <p:nvPr/>
        </p:nvGrpSpPr>
        <p:grpSpPr>
          <a:xfrm>
            <a:off x="2193480" y="4205160"/>
            <a:ext cx="5121720" cy="924120"/>
            <a:chOff x="2193480" y="4205160"/>
            <a:chExt cx="5121720" cy="924120"/>
          </a:xfrm>
        </p:grpSpPr>
        <p:sp>
          <p:nvSpPr>
            <p:cNvPr id="746" name=""/>
            <p:cNvSpPr/>
            <p:nvPr/>
          </p:nvSpPr>
          <p:spPr>
            <a:xfrm>
              <a:off x="4576680" y="4583160"/>
              <a:ext cx="2368800" cy="1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67200" y="4205160"/>
              <a:ext cx="0" cy="40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14840" y="4595760"/>
              <a:ext cx="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915240" y="4586400"/>
              <a:ext cx="39996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4181040" y="4586400"/>
              <a:ext cx="39996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38480" y="4214880"/>
              <a:ext cx="0" cy="39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2193480" y="4591080"/>
              <a:ext cx="1846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03560" y="458964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2525760" y="1941480"/>
            <a:ext cx="3714840" cy="986760"/>
            <a:chOff x="2525760" y="1941480"/>
            <a:chExt cx="3714840" cy="986760"/>
          </a:xfrm>
        </p:grpSpPr>
        <p:grpSp>
          <p:nvGrpSpPr>
            <p:cNvPr id="755" name=""/>
            <p:cNvGrpSpPr/>
            <p:nvPr/>
          </p:nvGrpSpPr>
          <p:grpSpPr>
            <a:xfrm>
              <a:off x="2525760" y="1941480"/>
              <a:ext cx="952560" cy="986760"/>
              <a:chOff x="2525760" y="1941480"/>
              <a:chExt cx="952560" cy="986760"/>
            </a:xfrm>
          </p:grpSpPr>
          <p:sp>
            <p:nvSpPr>
              <p:cNvPr id="756" name=""/>
              <p:cNvSpPr/>
              <p:nvPr/>
            </p:nvSpPr>
            <p:spPr>
              <a:xfrm>
                <a:off x="2525760" y="1949040"/>
                <a:ext cx="9525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468600" y="1941480"/>
                <a:ext cx="0" cy="9867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5288040" y="1941480"/>
              <a:ext cx="952560" cy="986760"/>
              <a:chOff x="5288040" y="1941480"/>
              <a:chExt cx="952560" cy="986760"/>
            </a:xfrm>
          </p:grpSpPr>
          <p:sp>
            <p:nvSpPr>
              <p:cNvPr id="759" name=""/>
              <p:cNvSpPr/>
              <p:nvPr/>
            </p:nvSpPr>
            <p:spPr>
              <a:xfrm flipH="1">
                <a:off x="5288040" y="1949040"/>
                <a:ext cx="9525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297760" y="1941480"/>
                <a:ext cx="0" cy="9867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1" name=""/>
          <p:cNvSpPr/>
          <p:nvPr/>
        </p:nvSpPr>
        <p:spPr>
          <a:xfrm>
            <a:off x="194040" y="5987880"/>
            <a:ext cx="76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On the fly documents generation (using patter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550320" y="167652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TTP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465360" y="437040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 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HTML + IDLscrip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5" name=""/>
          <p:cNvSpPr/>
          <p:nvPr/>
        </p:nvSpPr>
        <p:spPr>
          <a:xfrm>
            <a:off x="419400" y="1808280"/>
            <a:ext cx="8410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[ # Initializing IDLscript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NS = CORBA.ORB.resolve_initial_references("NameServic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agency = NS.resolve ( [ ["bank",""], ["agency",""] 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town = agency.address.t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&lt;HTML&gt; &lt;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&lt;TITLE&gt;List of accounts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[ # display the name of the t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print (t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] ag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&lt;/TITLE&gt; &lt;/HEAD&gt; 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&lt;TABLE ALIGN=ABSCENTER BORDER=5 CELLSPACING=5 CELLPADDING=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&lt;CAPTION&gt;List of accounts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[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print (town)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] ag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&lt;/CAP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HTML + IDLscrip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7" name=""/>
          <p:cNvSpPr/>
          <p:nvPr/>
        </p:nvSpPr>
        <p:spPr>
          <a:xfrm>
            <a:off x="491400" y="1593720"/>
            <a:ext cx="7450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&lt;TR&gt; &lt;TH&gt;Client Name&lt;TH&gt;Account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&lt;TH&gt;Balance &lt;/T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[ # display the « bad » ac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lients = agency.client_list 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for client in client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lient_name = client.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accounts = client.accounts_list 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for account in account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balance = account.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if ( balance &lt; 0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print ("&lt;TR&gt;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print ("&lt;TD&gt; ", client_name, "&lt;/TD&gt;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print ("&lt;TD&gt; ", account.number, "&lt;/TD&gt;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print ("&lt;TD ALIGN=RIGHT&gt; ", balance, "&lt;/TD&gt;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println ("&lt;/TR&gt;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} } 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&lt;/TABLE&gt; &lt;/BODY&gt; 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Generated Docu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69" name="LIST_ACC" descr=""/>
          <p:cNvPicPr/>
          <p:nvPr/>
        </p:nvPicPr>
        <p:blipFill>
          <a:blip r:embed="rId1"/>
          <a:stretch/>
        </p:blipFill>
        <p:spPr>
          <a:xfrm>
            <a:off x="636480" y="1600200"/>
            <a:ext cx="78850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37960" y="312480"/>
            <a:ext cx="8631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CorbaWeb: Gateway Scri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3389400" y="2862360"/>
            <a:ext cx="1984320" cy="1194480"/>
            <a:chOff x="3389400" y="2862360"/>
            <a:chExt cx="1984320" cy="1194480"/>
          </a:xfrm>
        </p:grpSpPr>
        <p:sp>
          <p:nvSpPr>
            <p:cNvPr id="772" name=""/>
            <p:cNvSpPr/>
            <p:nvPr/>
          </p:nvSpPr>
          <p:spPr>
            <a:xfrm>
              <a:off x="3389400" y="2862360"/>
              <a:ext cx="1984320" cy="1049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3570120" y="3289320"/>
              <a:ext cx="1640160" cy="767520"/>
              <a:chOff x="3570120" y="3289320"/>
              <a:chExt cx="1640160" cy="767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54000" y="3713760"/>
                <a:ext cx="655560" cy="34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R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467960" y="3713760"/>
                <a:ext cx="655920" cy="34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I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570120" y="3289320"/>
                <a:ext cx="1640160" cy="424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DLscrip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3653640" y="291780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CorbaWe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673200" y="4137120"/>
            <a:ext cx="7827840" cy="1796400"/>
            <a:chOff x="673200" y="4137120"/>
            <a:chExt cx="7827840" cy="1796400"/>
          </a:xfrm>
        </p:grpSpPr>
        <p:grpSp>
          <p:nvGrpSpPr>
            <p:cNvPr id="779" name=""/>
            <p:cNvGrpSpPr/>
            <p:nvPr/>
          </p:nvGrpSpPr>
          <p:grpSpPr>
            <a:xfrm>
              <a:off x="1457280" y="4518000"/>
              <a:ext cx="1444680" cy="905040"/>
              <a:chOff x="1457280" y="4518000"/>
              <a:chExt cx="1444680" cy="905040"/>
            </a:xfrm>
          </p:grpSpPr>
          <p:sp>
            <p:nvSpPr>
              <p:cNvPr id="780" name=""/>
              <p:cNvSpPr/>
              <p:nvPr/>
            </p:nvSpPr>
            <p:spPr>
              <a:xfrm>
                <a:off x="1457280" y="4969080"/>
                <a:ext cx="144468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80600" y="5219280"/>
                <a:ext cx="41004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627920" y="5104800"/>
                <a:ext cx="49068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V="1">
                <a:off x="1885320" y="451800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V="1">
                <a:off x="2496240" y="462924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3057480" y="4518000"/>
              <a:ext cx="1444680" cy="905040"/>
              <a:chOff x="3057480" y="4518000"/>
              <a:chExt cx="1444680" cy="905040"/>
            </a:xfrm>
          </p:grpSpPr>
          <p:sp>
            <p:nvSpPr>
              <p:cNvPr id="786" name=""/>
              <p:cNvSpPr/>
              <p:nvPr/>
            </p:nvSpPr>
            <p:spPr>
              <a:xfrm>
                <a:off x="3057480" y="4969080"/>
                <a:ext cx="144468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880800" y="5219280"/>
                <a:ext cx="41004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228120" y="5104800"/>
                <a:ext cx="49068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V="1">
                <a:off x="3485520" y="451800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4096440" y="462924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4730760" y="4518000"/>
              <a:ext cx="1444680" cy="905040"/>
              <a:chOff x="4730760" y="4518000"/>
              <a:chExt cx="1444680" cy="905040"/>
            </a:xfrm>
          </p:grpSpPr>
          <p:sp>
            <p:nvSpPr>
              <p:cNvPr id="792" name=""/>
              <p:cNvSpPr/>
              <p:nvPr/>
            </p:nvSpPr>
            <p:spPr>
              <a:xfrm>
                <a:off x="4730760" y="4969080"/>
                <a:ext cx="144468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554080" y="5219280"/>
                <a:ext cx="41004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901400" y="5104800"/>
                <a:ext cx="49068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V="1">
                <a:off x="5158800" y="451800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5769720" y="462924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6334200" y="4518000"/>
              <a:ext cx="1444680" cy="905040"/>
              <a:chOff x="6334200" y="4518000"/>
              <a:chExt cx="1444680" cy="905040"/>
            </a:xfrm>
          </p:grpSpPr>
          <p:sp>
            <p:nvSpPr>
              <p:cNvPr id="798" name=""/>
              <p:cNvSpPr/>
              <p:nvPr/>
            </p:nvSpPr>
            <p:spPr>
              <a:xfrm>
                <a:off x="6334200" y="4969080"/>
                <a:ext cx="144468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157520" y="5219280"/>
                <a:ext cx="41004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504840" y="5104800"/>
                <a:ext cx="49068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6762240" y="451800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7373160" y="462924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1795680" y="547380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7320" y="547380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854240" y="5473800"/>
              <a:ext cx="28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RBA 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3200" y="4137120"/>
              <a:ext cx="7827840" cy="638280"/>
            </a:xfrm>
            <a:prstGeom prst="leftRightArrow">
              <a:avLst>
                <a:gd name="adj1" fmla="val 58824"/>
                <a:gd name="adj2" fmla="val 17237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 flipH="1">
            <a:off x="628560" y="1627200"/>
            <a:ext cx="7724880" cy="372960"/>
          </a:xfrm>
          <a:prstGeom prst="flowChartMagneticDrum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2193480" y="4087800"/>
            <a:ext cx="5121720" cy="923400"/>
            <a:chOff x="2193480" y="4087800"/>
            <a:chExt cx="5121720" cy="923400"/>
          </a:xfrm>
        </p:grpSpPr>
        <p:sp>
          <p:nvSpPr>
            <p:cNvPr id="809" name=""/>
            <p:cNvSpPr/>
            <p:nvPr/>
          </p:nvSpPr>
          <p:spPr>
            <a:xfrm>
              <a:off x="4576680" y="4465440"/>
              <a:ext cx="2368800" cy="16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867200" y="4087800"/>
              <a:ext cx="0" cy="39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514840" y="447804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915240" y="4468680"/>
              <a:ext cx="399960" cy="532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4181040" y="4468680"/>
              <a:ext cx="399960" cy="532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038480" y="4097160"/>
              <a:ext cx="0" cy="39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2193480" y="4473360"/>
              <a:ext cx="1846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203560" y="4471920"/>
              <a:ext cx="0" cy="532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525760" y="1824120"/>
            <a:ext cx="3714840" cy="986760"/>
            <a:chOff x="2525760" y="1824120"/>
            <a:chExt cx="3714840" cy="986760"/>
          </a:xfrm>
        </p:grpSpPr>
        <p:grpSp>
          <p:nvGrpSpPr>
            <p:cNvPr id="818" name=""/>
            <p:cNvGrpSpPr/>
            <p:nvPr/>
          </p:nvGrpSpPr>
          <p:grpSpPr>
            <a:xfrm>
              <a:off x="2525760" y="1824120"/>
              <a:ext cx="952560" cy="986760"/>
              <a:chOff x="2525760" y="1824120"/>
              <a:chExt cx="952560" cy="986760"/>
            </a:xfrm>
          </p:grpSpPr>
          <p:sp>
            <p:nvSpPr>
              <p:cNvPr id="819" name=""/>
              <p:cNvSpPr/>
              <p:nvPr/>
            </p:nvSpPr>
            <p:spPr>
              <a:xfrm>
                <a:off x="2525760" y="1831680"/>
                <a:ext cx="9525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468600" y="1824120"/>
                <a:ext cx="0" cy="9867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5288040" y="1824120"/>
              <a:ext cx="952560" cy="986760"/>
              <a:chOff x="5288040" y="1824120"/>
              <a:chExt cx="952560" cy="986760"/>
            </a:xfrm>
          </p:grpSpPr>
          <p:sp>
            <p:nvSpPr>
              <p:cNvPr id="822" name=""/>
              <p:cNvSpPr/>
              <p:nvPr/>
            </p:nvSpPr>
            <p:spPr>
              <a:xfrm flipH="1">
                <a:off x="5288040" y="1831680"/>
                <a:ext cx="9525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297760" y="1824120"/>
                <a:ext cx="0" cy="9867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4" name=""/>
          <p:cNvSpPr/>
          <p:nvPr/>
        </p:nvSpPr>
        <p:spPr>
          <a:xfrm>
            <a:off x="533520" y="58482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access to one or several CORBA objec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representations and inv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5387760" y="2208240"/>
            <a:ext cx="2493000" cy="1925280"/>
            <a:chOff x="5387760" y="2208240"/>
            <a:chExt cx="2493000" cy="1925280"/>
          </a:xfrm>
        </p:grpSpPr>
        <p:grpSp>
          <p:nvGrpSpPr>
            <p:cNvPr id="826" name=""/>
            <p:cNvGrpSpPr/>
            <p:nvPr/>
          </p:nvGrpSpPr>
          <p:grpSpPr>
            <a:xfrm>
              <a:off x="6509880" y="2208240"/>
              <a:ext cx="1370880" cy="1925280"/>
              <a:chOff x="6509880" y="2208240"/>
              <a:chExt cx="1370880" cy="1925280"/>
            </a:xfrm>
          </p:grpSpPr>
          <p:sp>
            <p:nvSpPr>
              <p:cNvPr id="827" name=""/>
              <p:cNvSpPr/>
              <p:nvPr/>
            </p:nvSpPr>
            <p:spPr>
              <a:xfrm>
                <a:off x="6509880" y="3308040"/>
                <a:ext cx="1264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Gatewa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Scrip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8" name=""/>
              <p:cNvGrpSpPr/>
              <p:nvPr/>
            </p:nvGrpSpPr>
            <p:grpSpPr>
              <a:xfrm>
                <a:off x="6929280" y="2208240"/>
                <a:ext cx="951480" cy="1058040"/>
                <a:chOff x="6929280" y="2208240"/>
                <a:chExt cx="951480" cy="1058040"/>
              </a:xfrm>
            </p:grpSpPr>
            <p:grpSp>
              <p:nvGrpSpPr>
                <p:cNvPr id="829" name=""/>
                <p:cNvGrpSpPr/>
                <p:nvPr/>
              </p:nvGrpSpPr>
              <p:grpSpPr>
                <a:xfrm>
                  <a:off x="7176240" y="2208240"/>
                  <a:ext cx="704520" cy="826920"/>
                  <a:chOff x="7176240" y="2208240"/>
                  <a:chExt cx="704520" cy="826920"/>
                </a:xfrm>
              </p:grpSpPr>
              <p:sp>
                <p:nvSpPr>
                  <p:cNvPr id="830" name=""/>
                  <p:cNvSpPr/>
                  <p:nvPr/>
                </p:nvSpPr>
                <p:spPr>
                  <a:xfrm>
                    <a:off x="7176240" y="2213640"/>
                    <a:ext cx="699480" cy="82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7698960" y="2208240"/>
                    <a:ext cx="181800" cy="2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7056360" y="2321640"/>
                  <a:ext cx="704880" cy="826920"/>
                  <a:chOff x="7056360" y="2321640"/>
                  <a:chExt cx="704880" cy="82692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>
                    <a:off x="7056360" y="2327040"/>
                    <a:ext cx="699840" cy="82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7579440" y="2321640"/>
                    <a:ext cx="181800" cy="2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5" name=""/>
                <p:cNvGrpSpPr/>
                <p:nvPr/>
              </p:nvGrpSpPr>
              <p:grpSpPr>
                <a:xfrm>
                  <a:off x="6929280" y="2439720"/>
                  <a:ext cx="704520" cy="826560"/>
                  <a:chOff x="6929280" y="2439720"/>
                  <a:chExt cx="704520" cy="826560"/>
                </a:xfrm>
              </p:grpSpPr>
              <p:sp>
                <p:nvSpPr>
                  <p:cNvPr id="836" name=""/>
                  <p:cNvSpPr/>
                  <p:nvPr/>
                </p:nvSpPr>
                <p:spPr>
                  <a:xfrm>
                    <a:off x="6929280" y="2445120"/>
                    <a:ext cx="699480" cy="821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7452000" y="2439720"/>
                    <a:ext cx="181800" cy="2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cxnSp>
          <p:nvCxnSpPr>
            <p:cNvPr id="838" name=""/>
            <p:cNvCxnSpPr>
              <a:stCxn id="772" idx="3"/>
              <a:endCxn id="836" idx="1"/>
            </p:cNvCxnSpPr>
            <p:nvPr/>
          </p:nvCxnSpPr>
          <p:spPr>
            <a:xfrm flipV="1">
              <a:off x="5387760" y="2856600"/>
              <a:ext cx="1541880" cy="531000"/>
            </a:xfrm>
            <a:prstGeom prst="straightConnector1">
              <a:avLst/>
            </a:prstGeom>
            <a:ln w="38160">
              <a:solidFill>
                <a:srgbClr val="ffcc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839" name=""/>
          <p:cNvSpPr/>
          <p:nvPr/>
        </p:nvSpPr>
        <p:spPr>
          <a:xfrm>
            <a:off x="3550320" y="155880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TTP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77960" y="42321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 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CorbaWeb: Gateway Script for the Grid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2" name=""/>
          <p:cNvSpPr/>
          <p:nvPr/>
        </p:nvSpPr>
        <p:spPr>
          <a:xfrm>
            <a:off x="304920" y="1523880"/>
            <a:ext cx="8153280" cy="52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odule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GridServic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ord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{unsigned short x, y;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xception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InvalidCoord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{Coord pos;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ypedef double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Grid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eadonly attribute Coord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dimensio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void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(in Coord pos, in Value val) raise (InvalidCoor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(in Coord pos) raises (InvalidCoor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void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destroy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(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Factory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rid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reate_grid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(in Coord dim, in Value init_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6868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CorbaWeb: a Gateway Script for the Grid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4" name="GRID" descr=""/>
          <p:cNvPicPr/>
          <p:nvPr/>
        </p:nvPicPr>
        <p:blipFill>
          <a:blip r:embed="rId1"/>
          <a:stretch/>
        </p:blipFill>
        <p:spPr>
          <a:xfrm>
            <a:off x="1273320" y="167652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37960" y="669600"/>
            <a:ext cx="8631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CorbaWeb: Meta Scri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3389400" y="2903400"/>
            <a:ext cx="1984320" cy="1195560"/>
            <a:chOff x="3389400" y="2903400"/>
            <a:chExt cx="1984320" cy="1195560"/>
          </a:xfrm>
        </p:grpSpPr>
        <p:sp>
          <p:nvSpPr>
            <p:cNvPr id="847" name=""/>
            <p:cNvSpPr/>
            <p:nvPr/>
          </p:nvSpPr>
          <p:spPr>
            <a:xfrm>
              <a:off x="3389400" y="2903400"/>
              <a:ext cx="1984320" cy="1049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3570120" y="3330720"/>
              <a:ext cx="1640160" cy="768240"/>
              <a:chOff x="3570120" y="3330720"/>
              <a:chExt cx="1640160" cy="768240"/>
            </a:xfrm>
          </p:grpSpPr>
          <p:sp>
            <p:nvSpPr>
              <p:cNvPr id="849" name=""/>
              <p:cNvSpPr/>
              <p:nvPr/>
            </p:nvSpPr>
            <p:spPr>
              <a:xfrm>
                <a:off x="3654000" y="3755520"/>
                <a:ext cx="655560" cy="34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R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467960" y="3755520"/>
                <a:ext cx="655920" cy="34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I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570120" y="3330720"/>
                <a:ext cx="1640160" cy="42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DLscrip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3653640" y="295920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CorbaWe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73200" y="4178160"/>
            <a:ext cx="7827840" cy="1796400"/>
            <a:chOff x="673200" y="4178160"/>
            <a:chExt cx="7827840" cy="1796400"/>
          </a:xfrm>
        </p:grpSpPr>
        <p:grpSp>
          <p:nvGrpSpPr>
            <p:cNvPr id="854" name=""/>
            <p:cNvGrpSpPr/>
            <p:nvPr/>
          </p:nvGrpSpPr>
          <p:grpSpPr>
            <a:xfrm>
              <a:off x="1457280" y="4559040"/>
              <a:ext cx="1444680" cy="905040"/>
              <a:chOff x="1457280" y="4559040"/>
              <a:chExt cx="1444680" cy="905040"/>
            </a:xfrm>
          </p:grpSpPr>
          <p:sp>
            <p:nvSpPr>
              <p:cNvPr id="855" name=""/>
              <p:cNvSpPr/>
              <p:nvPr/>
            </p:nvSpPr>
            <p:spPr>
              <a:xfrm>
                <a:off x="1457280" y="5010120"/>
                <a:ext cx="144468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280600" y="5260320"/>
                <a:ext cx="41004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627920" y="5145840"/>
                <a:ext cx="49068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>
                <a:off x="1885320" y="455904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V="1">
                <a:off x="2496240" y="467028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3057480" y="4559040"/>
              <a:ext cx="1444680" cy="905040"/>
              <a:chOff x="3057480" y="4559040"/>
              <a:chExt cx="1444680" cy="905040"/>
            </a:xfrm>
          </p:grpSpPr>
          <p:sp>
            <p:nvSpPr>
              <p:cNvPr id="861" name=""/>
              <p:cNvSpPr/>
              <p:nvPr/>
            </p:nvSpPr>
            <p:spPr>
              <a:xfrm>
                <a:off x="3057480" y="5010120"/>
                <a:ext cx="144468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880800" y="5260320"/>
                <a:ext cx="41004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228120" y="5145840"/>
                <a:ext cx="49068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3485520" y="455904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4096440" y="467028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4730760" y="4559040"/>
              <a:ext cx="1444680" cy="905040"/>
              <a:chOff x="4730760" y="4559040"/>
              <a:chExt cx="1444680" cy="905040"/>
            </a:xfrm>
          </p:grpSpPr>
          <p:sp>
            <p:nvSpPr>
              <p:cNvPr id="867" name=""/>
              <p:cNvSpPr/>
              <p:nvPr/>
            </p:nvSpPr>
            <p:spPr>
              <a:xfrm>
                <a:off x="4730760" y="5010120"/>
                <a:ext cx="144468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554080" y="5260320"/>
                <a:ext cx="41004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901400" y="5145840"/>
                <a:ext cx="49068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5158800" y="455904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>
                <a:off x="5769720" y="467028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6334200" y="4559040"/>
              <a:ext cx="1444680" cy="905040"/>
              <a:chOff x="6334200" y="4559040"/>
              <a:chExt cx="1444680" cy="905040"/>
            </a:xfrm>
          </p:grpSpPr>
          <p:sp>
            <p:nvSpPr>
              <p:cNvPr id="873" name=""/>
              <p:cNvSpPr/>
              <p:nvPr/>
            </p:nvSpPr>
            <p:spPr>
              <a:xfrm>
                <a:off x="6334200" y="5010120"/>
                <a:ext cx="144468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157520" y="5260320"/>
                <a:ext cx="41004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504840" y="5145840"/>
                <a:ext cx="49068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>
                <a:off x="6762240" y="455904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7373160" y="467028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1795680" y="551484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397320" y="551484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854240" y="5514840"/>
              <a:ext cx="28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RBA 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73200" y="4178160"/>
              <a:ext cx="7827840" cy="638280"/>
            </a:xfrm>
            <a:prstGeom prst="leftRightArrow">
              <a:avLst>
                <a:gd name="adj1" fmla="val 58824"/>
                <a:gd name="adj2" fmla="val 17237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 flipH="1">
            <a:off x="628560" y="1668600"/>
            <a:ext cx="7724880" cy="372960"/>
          </a:xfrm>
          <a:prstGeom prst="flowChartMagneticDrum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2193480" y="4129200"/>
            <a:ext cx="5121720" cy="923400"/>
            <a:chOff x="2193480" y="4129200"/>
            <a:chExt cx="5121720" cy="923400"/>
          </a:xfrm>
        </p:grpSpPr>
        <p:sp>
          <p:nvSpPr>
            <p:cNvPr id="884" name=""/>
            <p:cNvSpPr/>
            <p:nvPr/>
          </p:nvSpPr>
          <p:spPr>
            <a:xfrm>
              <a:off x="4576680" y="4506840"/>
              <a:ext cx="2368800" cy="16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867200" y="4129200"/>
              <a:ext cx="0" cy="39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514840" y="451944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15240" y="4510080"/>
              <a:ext cx="399960" cy="532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4181040" y="4510080"/>
              <a:ext cx="399960" cy="532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038480" y="4138560"/>
              <a:ext cx="0" cy="39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2193480" y="4514760"/>
              <a:ext cx="1846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203560" y="4513320"/>
              <a:ext cx="0" cy="532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2525760" y="1865160"/>
            <a:ext cx="3714840" cy="986760"/>
            <a:chOff x="2525760" y="1865160"/>
            <a:chExt cx="3714840" cy="986760"/>
          </a:xfrm>
        </p:grpSpPr>
        <p:grpSp>
          <p:nvGrpSpPr>
            <p:cNvPr id="893" name=""/>
            <p:cNvGrpSpPr/>
            <p:nvPr/>
          </p:nvGrpSpPr>
          <p:grpSpPr>
            <a:xfrm>
              <a:off x="2525760" y="1865160"/>
              <a:ext cx="952560" cy="986760"/>
              <a:chOff x="2525760" y="1865160"/>
              <a:chExt cx="952560" cy="986760"/>
            </a:xfrm>
          </p:grpSpPr>
          <p:sp>
            <p:nvSpPr>
              <p:cNvPr id="894" name=""/>
              <p:cNvSpPr/>
              <p:nvPr/>
            </p:nvSpPr>
            <p:spPr>
              <a:xfrm>
                <a:off x="2525760" y="1872720"/>
                <a:ext cx="9525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468600" y="1865160"/>
                <a:ext cx="0" cy="9867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5288040" y="1865160"/>
              <a:ext cx="952560" cy="986760"/>
              <a:chOff x="5288040" y="1865160"/>
              <a:chExt cx="952560" cy="986760"/>
            </a:xfrm>
          </p:grpSpPr>
          <p:sp>
            <p:nvSpPr>
              <p:cNvPr id="897" name=""/>
              <p:cNvSpPr/>
              <p:nvPr/>
            </p:nvSpPr>
            <p:spPr>
              <a:xfrm flipH="1">
                <a:off x="5288040" y="1872720"/>
                <a:ext cx="9525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297760" y="1865160"/>
                <a:ext cx="0" cy="9867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9" name=""/>
          <p:cNvSpPr/>
          <p:nvPr/>
        </p:nvSpPr>
        <p:spPr>
          <a:xfrm>
            <a:off x="372600" y="6051600"/>
            <a:ext cx="69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ic actions on all kinds of CORBA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5387760" y="2249640"/>
            <a:ext cx="2854080" cy="1559520"/>
            <a:chOff x="5387760" y="2249640"/>
            <a:chExt cx="2854080" cy="1559520"/>
          </a:xfrm>
        </p:grpSpPr>
        <p:grpSp>
          <p:nvGrpSpPr>
            <p:cNvPr id="901" name=""/>
            <p:cNvGrpSpPr/>
            <p:nvPr/>
          </p:nvGrpSpPr>
          <p:grpSpPr>
            <a:xfrm>
              <a:off x="6508080" y="2249640"/>
              <a:ext cx="1733760" cy="1559520"/>
              <a:chOff x="6508080" y="2249640"/>
              <a:chExt cx="1733760" cy="1559520"/>
            </a:xfrm>
          </p:grpSpPr>
          <p:sp>
            <p:nvSpPr>
              <p:cNvPr id="902" name=""/>
              <p:cNvSpPr/>
              <p:nvPr/>
            </p:nvSpPr>
            <p:spPr>
              <a:xfrm>
                <a:off x="6508080" y="3349440"/>
                <a:ext cx="173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Meta Scrip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3" name=""/>
              <p:cNvGrpSpPr/>
              <p:nvPr/>
            </p:nvGrpSpPr>
            <p:grpSpPr>
              <a:xfrm>
                <a:off x="6929640" y="2249640"/>
                <a:ext cx="951840" cy="1058040"/>
                <a:chOff x="6929640" y="2249640"/>
                <a:chExt cx="951840" cy="1058040"/>
              </a:xfrm>
            </p:grpSpPr>
            <p:grpSp>
              <p:nvGrpSpPr>
                <p:cNvPr id="904" name=""/>
                <p:cNvGrpSpPr/>
                <p:nvPr/>
              </p:nvGrpSpPr>
              <p:grpSpPr>
                <a:xfrm>
                  <a:off x="7176600" y="2249640"/>
                  <a:ext cx="704880" cy="826920"/>
                  <a:chOff x="7176600" y="2249640"/>
                  <a:chExt cx="704880" cy="826920"/>
                </a:xfrm>
              </p:grpSpPr>
              <p:sp>
                <p:nvSpPr>
                  <p:cNvPr id="905" name=""/>
                  <p:cNvSpPr/>
                  <p:nvPr/>
                </p:nvSpPr>
                <p:spPr>
                  <a:xfrm>
                    <a:off x="7176600" y="2255040"/>
                    <a:ext cx="699840" cy="82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7699680" y="2249640"/>
                    <a:ext cx="181800" cy="2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7" name=""/>
                <p:cNvGrpSpPr/>
                <p:nvPr/>
              </p:nvGrpSpPr>
              <p:grpSpPr>
                <a:xfrm>
                  <a:off x="7057080" y="2363040"/>
                  <a:ext cx="705240" cy="826920"/>
                  <a:chOff x="7057080" y="2363040"/>
                  <a:chExt cx="705240" cy="826920"/>
                </a:xfrm>
              </p:grpSpPr>
              <p:sp>
                <p:nvSpPr>
                  <p:cNvPr id="908" name=""/>
                  <p:cNvSpPr/>
                  <p:nvPr/>
                </p:nvSpPr>
                <p:spPr>
                  <a:xfrm>
                    <a:off x="7057080" y="2368440"/>
                    <a:ext cx="700200" cy="82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580520" y="2363040"/>
                    <a:ext cx="181800" cy="2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0" name=""/>
                <p:cNvGrpSpPr/>
                <p:nvPr/>
              </p:nvGrpSpPr>
              <p:grpSpPr>
                <a:xfrm>
                  <a:off x="6929640" y="2481120"/>
                  <a:ext cx="704880" cy="826560"/>
                  <a:chOff x="6929640" y="2481120"/>
                  <a:chExt cx="704880" cy="826560"/>
                </a:xfrm>
              </p:grpSpPr>
              <p:sp>
                <p:nvSpPr>
                  <p:cNvPr id="911" name=""/>
                  <p:cNvSpPr/>
                  <p:nvPr/>
                </p:nvSpPr>
                <p:spPr>
                  <a:xfrm>
                    <a:off x="6929640" y="2486520"/>
                    <a:ext cx="699840" cy="821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7452720" y="2481120"/>
                    <a:ext cx="181800" cy="2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cxnSp>
          <p:nvCxnSpPr>
            <p:cNvPr id="913" name=""/>
            <p:cNvCxnSpPr>
              <a:stCxn id="847" idx="3"/>
              <a:endCxn id="911" idx="1"/>
            </p:cNvCxnSpPr>
            <p:nvPr/>
          </p:nvCxnSpPr>
          <p:spPr>
            <a:xfrm flipV="1">
              <a:off x="5387760" y="2898000"/>
              <a:ext cx="1541880" cy="531000"/>
            </a:xfrm>
            <a:prstGeom prst="straightConnector1">
              <a:avLst/>
            </a:prstGeom>
            <a:ln w="38160">
              <a:solidFill>
                <a:srgbClr val="ffcc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914" name=""/>
          <p:cNvSpPr/>
          <p:nvPr/>
        </p:nvSpPr>
        <p:spPr>
          <a:xfrm>
            <a:off x="3550320" y="160020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TTP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506760" y="426420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 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440" y="290160"/>
            <a:ext cx="8458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GUI Generation for an OMG ID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7" name="COMP1" descr=""/>
          <p:cNvPicPr/>
          <p:nvPr/>
        </p:nvPicPr>
        <p:blipFill>
          <a:blip r:embed="rId1"/>
          <a:stretch/>
        </p:blipFill>
        <p:spPr>
          <a:xfrm>
            <a:off x="1293840" y="1539720"/>
            <a:ext cx="699912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24264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Inv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9" name="COMP2" descr=""/>
          <p:cNvPicPr/>
          <p:nvPr/>
        </p:nvPicPr>
        <p:blipFill>
          <a:blip r:embed="rId1"/>
          <a:stretch/>
        </p:blipFill>
        <p:spPr>
          <a:xfrm>
            <a:off x="1246320" y="1663560"/>
            <a:ext cx="681192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nvoking Distributed Objects (1/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6762600" y="4819680"/>
            <a:ext cx="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8880" y="4838760"/>
            <a:ext cx="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13880" y="5442120"/>
            <a:ext cx="63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sco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vok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y CORBA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I &amp; IIOP = any operation on any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ynamic type checking and conv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838760"/>
            <a:ext cx="7939080" cy="674640"/>
          </a:xfrm>
          <a:prstGeom prst="leftRightArrow">
            <a:avLst>
              <a:gd name="adj1" fmla="val 50120"/>
              <a:gd name="adj2" fmla="val 13129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81160" y="3408480"/>
            <a:ext cx="846000" cy="1377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803240" y="3460680"/>
            <a:ext cx="2035440" cy="137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DL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R S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03240" y="4341960"/>
            <a:ext cx="203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554200" y="4339800"/>
            <a:ext cx="0" cy="4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6840" y="3441600"/>
            <a:ext cx="1671480" cy="1378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11560" y="350352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Grid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405480" y="4156200"/>
            <a:ext cx="681120" cy="473040"/>
            <a:chOff x="6405480" y="4156200"/>
            <a:chExt cx="681120" cy="473040"/>
          </a:xfrm>
        </p:grpSpPr>
        <p:sp>
          <p:nvSpPr>
            <p:cNvPr id="203" name=""/>
            <p:cNvSpPr/>
            <p:nvPr/>
          </p:nvSpPr>
          <p:spPr>
            <a:xfrm>
              <a:off x="6405480" y="4156200"/>
              <a:ext cx="681120" cy="4730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6544080" y="4253400"/>
              <a:ext cx="432720" cy="266760"/>
              <a:chOff x="6544080" y="4253400"/>
              <a:chExt cx="432720" cy="266760"/>
            </a:xfrm>
          </p:grpSpPr>
          <p:sp>
            <p:nvSpPr>
              <p:cNvPr id="205" name=""/>
              <p:cNvSpPr/>
              <p:nvPr/>
            </p:nvSpPr>
            <p:spPr>
              <a:xfrm>
                <a:off x="6544080" y="4253400"/>
                <a:ext cx="432720" cy="26676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630480" y="4253400"/>
                <a:ext cx="0" cy="26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95280" y="4253400"/>
                <a:ext cx="0" cy="26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760440" y="4253400"/>
                <a:ext cx="0" cy="26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25240" y="4253400"/>
                <a:ext cx="0" cy="26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890400" y="4253400"/>
                <a:ext cx="0" cy="26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544080" y="4314960"/>
                <a:ext cx="43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544080" y="4356000"/>
                <a:ext cx="43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544080" y="4397040"/>
                <a:ext cx="43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544080" y="4438080"/>
                <a:ext cx="43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544080" y="4479120"/>
                <a:ext cx="43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1127160" y="1577880"/>
            <a:ext cx="6802560" cy="3660840"/>
            <a:chOff x="1127160" y="1577880"/>
            <a:chExt cx="6802560" cy="3660840"/>
          </a:xfrm>
        </p:grpSpPr>
        <p:sp>
          <p:nvSpPr>
            <p:cNvPr id="217" name=""/>
            <p:cNvSpPr/>
            <p:nvPr/>
          </p:nvSpPr>
          <p:spPr>
            <a:xfrm>
              <a:off x="1127160" y="1695600"/>
              <a:ext cx="6802560" cy="1552320"/>
            </a:xfrm>
            <a:prstGeom prst="wedgeRoundRectCallout">
              <a:avLst>
                <a:gd name="adj1" fmla="val -52777"/>
                <a:gd name="adj2" fmla="val 64930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25240" y="1577880"/>
              <a:ext cx="45698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&gt; aGrid.set ([1,2], 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&gt; aGrid.dimen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GridService::Coord(20,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057400" y="4680000"/>
              <a:ext cx="1058760" cy="558720"/>
            </a:xfrm>
            <a:custGeom>
              <a:avLst/>
              <a:gdLst>
                <a:gd name="textAreaLeft" fmla="*/ 0 w 1058760"/>
                <a:gd name="textAreaRight" fmla="*/ 1059120 w 1058760"/>
                <a:gd name="textAreaTop" fmla="*/ 0 h 558720"/>
                <a:gd name="textAreaBottom" fmla="*/ 558720 h 55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435" stAng="10800000" swAng="5400000"/>
                  <a:lnTo>
                    <a:pt x="12427" y="4725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7433"/>
                  </a:lnTo>
                  <a:lnTo>
                    <a:pt x="12427" y="7433"/>
                  </a:lnTo>
                  <a:arcTo wR="9719" hR="4727" stAng="16200000" swAng="-5400000"/>
                  <a:lnTo>
                    <a:pt x="2708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 rot="16200000">
              <a:off x="6504120" y="4656240"/>
              <a:ext cx="606240" cy="55872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558720"/>
                <a:gd name="textAreaBottom" fmla="*/ 558720 h 55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435" stAng="10800000" swAng="5400000"/>
                  <a:lnTo>
                    <a:pt x="12427" y="4725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7433"/>
                  </a:lnTo>
                  <a:lnTo>
                    <a:pt x="12427" y="7433"/>
                  </a:lnTo>
                  <a:arcTo wR="9719" hR="4727" stAng="16200000" swAng="-5400000"/>
                  <a:lnTo>
                    <a:pt x="2708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47320" y="312480"/>
            <a:ext cx="902484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CorbaWeb: Navigation Meta Scri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2889360" y="2938320"/>
            <a:ext cx="1984320" cy="1195560"/>
            <a:chOff x="2889360" y="2938320"/>
            <a:chExt cx="1984320" cy="1195560"/>
          </a:xfrm>
        </p:grpSpPr>
        <p:sp>
          <p:nvSpPr>
            <p:cNvPr id="922" name=""/>
            <p:cNvSpPr/>
            <p:nvPr/>
          </p:nvSpPr>
          <p:spPr>
            <a:xfrm>
              <a:off x="2889360" y="2938320"/>
              <a:ext cx="1984320" cy="1049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"/>
            <p:cNvGrpSpPr/>
            <p:nvPr/>
          </p:nvGrpSpPr>
          <p:grpSpPr>
            <a:xfrm>
              <a:off x="3070080" y="3365640"/>
              <a:ext cx="1640160" cy="768240"/>
              <a:chOff x="3070080" y="3365640"/>
              <a:chExt cx="1640160" cy="768240"/>
            </a:xfrm>
          </p:grpSpPr>
          <p:sp>
            <p:nvSpPr>
              <p:cNvPr id="924" name=""/>
              <p:cNvSpPr/>
              <p:nvPr/>
            </p:nvSpPr>
            <p:spPr>
              <a:xfrm>
                <a:off x="3153960" y="3790440"/>
                <a:ext cx="655560" cy="34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R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967920" y="3790440"/>
                <a:ext cx="655920" cy="34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I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070080" y="3365640"/>
                <a:ext cx="1640160" cy="42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DLscrip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>
              <a:off x="3153600" y="299412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CorbaWe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428760" y="4213080"/>
            <a:ext cx="7572240" cy="1796400"/>
            <a:chOff x="428760" y="4213080"/>
            <a:chExt cx="7572240" cy="1796400"/>
          </a:xfrm>
        </p:grpSpPr>
        <p:grpSp>
          <p:nvGrpSpPr>
            <p:cNvPr id="929" name=""/>
            <p:cNvGrpSpPr/>
            <p:nvPr/>
          </p:nvGrpSpPr>
          <p:grpSpPr>
            <a:xfrm>
              <a:off x="1186920" y="4593960"/>
              <a:ext cx="1397160" cy="905040"/>
              <a:chOff x="1186920" y="4593960"/>
              <a:chExt cx="1397160" cy="905040"/>
            </a:xfrm>
          </p:grpSpPr>
          <p:sp>
            <p:nvSpPr>
              <p:cNvPr id="930" name=""/>
              <p:cNvSpPr/>
              <p:nvPr/>
            </p:nvSpPr>
            <p:spPr>
              <a:xfrm>
                <a:off x="1186920" y="5045040"/>
                <a:ext cx="139716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982880" y="5295240"/>
                <a:ext cx="39636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351800" y="5180760"/>
                <a:ext cx="47448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V="1">
                <a:off x="1600920" y="459396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2191680" y="470520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2734920" y="4593960"/>
              <a:ext cx="1397160" cy="905040"/>
              <a:chOff x="2734920" y="4593960"/>
              <a:chExt cx="1397160" cy="905040"/>
            </a:xfrm>
          </p:grpSpPr>
          <p:sp>
            <p:nvSpPr>
              <p:cNvPr id="936" name=""/>
              <p:cNvSpPr/>
              <p:nvPr/>
            </p:nvSpPr>
            <p:spPr>
              <a:xfrm>
                <a:off x="2734920" y="5045040"/>
                <a:ext cx="139716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530880" y="5295240"/>
                <a:ext cx="39636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899800" y="5180760"/>
                <a:ext cx="47448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3148920" y="459396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>
                <a:off x="3739680" y="470520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4353480" y="4593960"/>
              <a:ext cx="1397160" cy="905040"/>
              <a:chOff x="4353480" y="4593960"/>
              <a:chExt cx="1397160" cy="905040"/>
            </a:xfrm>
          </p:grpSpPr>
          <p:sp>
            <p:nvSpPr>
              <p:cNvPr id="942" name=""/>
              <p:cNvSpPr/>
              <p:nvPr/>
            </p:nvSpPr>
            <p:spPr>
              <a:xfrm>
                <a:off x="4353480" y="5045040"/>
                <a:ext cx="139716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149440" y="5295240"/>
                <a:ext cx="39636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518360" y="5180760"/>
                <a:ext cx="47448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V="1">
                <a:off x="4767480" y="459396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5358240" y="470520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5904720" y="4593960"/>
              <a:ext cx="1397160" cy="905040"/>
              <a:chOff x="5904720" y="4593960"/>
              <a:chExt cx="1397160" cy="905040"/>
            </a:xfrm>
          </p:grpSpPr>
          <p:sp>
            <p:nvSpPr>
              <p:cNvPr id="948" name=""/>
              <p:cNvSpPr/>
              <p:nvPr/>
            </p:nvSpPr>
            <p:spPr>
              <a:xfrm>
                <a:off x="5904720" y="5045040"/>
                <a:ext cx="139716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700680" y="5295240"/>
                <a:ext cx="39636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069600" y="5180760"/>
                <a:ext cx="47448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6318720" y="459396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6909480" y="470520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>
              <a:off x="1514520" y="554976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063960" y="55497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473000" y="5549760"/>
              <a:ext cx="28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RBA 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28760" y="4213080"/>
              <a:ext cx="7572240" cy="638280"/>
            </a:xfrm>
            <a:prstGeom prst="leftRightArrow">
              <a:avLst>
                <a:gd name="adj1" fmla="val 58824"/>
                <a:gd name="adj2" fmla="val 16674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 flipH="1">
            <a:off x="628560" y="1703520"/>
            <a:ext cx="7724880" cy="372960"/>
          </a:xfrm>
          <a:prstGeom prst="flowChartMagneticDrum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1693440" y="4164120"/>
            <a:ext cx="5121720" cy="923400"/>
            <a:chOff x="1693440" y="4164120"/>
            <a:chExt cx="5121720" cy="923400"/>
          </a:xfrm>
        </p:grpSpPr>
        <p:sp>
          <p:nvSpPr>
            <p:cNvPr id="959" name=""/>
            <p:cNvSpPr/>
            <p:nvPr/>
          </p:nvSpPr>
          <p:spPr>
            <a:xfrm>
              <a:off x="4076640" y="4541760"/>
              <a:ext cx="2368800" cy="16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367160" y="4164120"/>
              <a:ext cx="0" cy="39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014800" y="45543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415200" y="4545000"/>
              <a:ext cx="399960" cy="532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3681000" y="4545000"/>
              <a:ext cx="399960" cy="532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538440" y="4173480"/>
              <a:ext cx="0" cy="39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1693440" y="4549680"/>
              <a:ext cx="1846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703520" y="4548240"/>
              <a:ext cx="0" cy="532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2025720" y="1900080"/>
            <a:ext cx="3714840" cy="986760"/>
            <a:chOff x="2025720" y="1900080"/>
            <a:chExt cx="3714840" cy="986760"/>
          </a:xfrm>
        </p:grpSpPr>
        <p:grpSp>
          <p:nvGrpSpPr>
            <p:cNvPr id="968" name=""/>
            <p:cNvGrpSpPr/>
            <p:nvPr/>
          </p:nvGrpSpPr>
          <p:grpSpPr>
            <a:xfrm>
              <a:off x="2025720" y="1900080"/>
              <a:ext cx="952560" cy="986760"/>
              <a:chOff x="2025720" y="1900080"/>
              <a:chExt cx="952560" cy="986760"/>
            </a:xfrm>
          </p:grpSpPr>
          <p:sp>
            <p:nvSpPr>
              <p:cNvPr id="969" name=""/>
              <p:cNvSpPr/>
              <p:nvPr/>
            </p:nvSpPr>
            <p:spPr>
              <a:xfrm>
                <a:off x="2025720" y="1907640"/>
                <a:ext cx="9525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968560" y="1900080"/>
                <a:ext cx="0" cy="9867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4788000" y="1900080"/>
              <a:ext cx="952560" cy="986760"/>
              <a:chOff x="4788000" y="1900080"/>
              <a:chExt cx="952560" cy="986760"/>
            </a:xfrm>
          </p:grpSpPr>
          <p:sp>
            <p:nvSpPr>
              <p:cNvPr id="972" name=""/>
              <p:cNvSpPr/>
              <p:nvPr/>
            </p:nvSpPr>
            <p:spPr>
              <a:xfrm flipH="1">
                <a:off x="4788000" y="1907640"/>
                <a:ext cx="9525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797720" y="1900080"/>
                <a:ext cx="0" cy="9867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4" name=""/>
          <p:cNvSpPr/>
          <p:nvPr/>
        </p:nvSpPr>
        <p:spPr>
          <a:xfrm>
            <a:off x="203040" y="5932440"/>
            <a:ext cx="857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 browsing personalization using a repres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4888080" y="2516040"/>
            <a:ext cx="3995280" cy="1645200"/>
            <a:chOff x="4888080" y="2516040"/>
            <a:chExt cx="3995280" cy="1645200"/>
          </a:xfrm>
        </p:grpSpPr>
        <p:grpSp>
          <p:nvGrpSpPr>
            <p:cNvPr id="976" name=""/>
            <p:cNvGrpSpPr/>
            <p:nvPr/>
          </p:nvGrpSpPr>
          <p:grpSpPr>
            <a:xfrm>
              <a:off x="5303520" y="2852280"/>
              <a:ext cx="1537200" cy="1308960"/>
              <a:chOff x="5303520" y="2852280"/>
              <a:chExt cx="1537200" cy="1308960"/>
            </a:xfrm>
          </p:grpSpPr>
          <p:grpSp>
            <p:nvGrpSpPr>
              <p:cNvPr id="977" name=""/>
              <p:cNvGrpSpPr/>
              <p:nvPr/>
            </p:nvGrpSpPr>
            <p:grpSpPr>
              <a:xfrm>
                <a:off x="5689440" y="2852280"/>
                <a:ext cx="656280" cy="842400"/>
                <a:chOff x="5689440" y="2852280"/>
                <a:chExt cx="656280" cy="84240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5689440" y="2858040"/>
                  <a:ext cx="651600" cy="836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6176520" y="2852280"/>
                  <a:ext cx="169200" cy="22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0" name=""/>
              <p:cNvSpPr/>
              <p:nvPr/>
            </p:nvSpPr>
            <p:spPr>
              <a:xfrm>
                <a:off x="5303520" y="3701520"/>
                <a:ext cx="153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vig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7531200" y="2516040"/>
              <a:ext cx="789840" cy="637560"/>
              <a:chOff x="7531200" y="2516040"/>
              <a:chExt cx="789840" cy="637560"/>
            </a:xfrm>
          </p:grpSpPr>
          <p:grpSp>
            <p:nvGrpSpPr>
              <p:cNvPr id="982" name=""/>
              <p:cNvGrpSpPr/>
              <p:nvPr/>
            </p:nvGrpSpPr>
            <p:grpSpPr>
              <a:xfrm>
                <a:off x="7736040" y="2516040"/>
                <a:ext cx="585000" cy="497880"/>
                <a:chOff x="7736040" y="2516040"/>
                <a:chExt cx="585000" cy="497880"/>
              </a:xfrm>
            </p:grpSpPr>
            <p:sp>
              <p:nvSpPr>
                <p:cNvPr id="983" name=""/>
                <p:cNvSpPr/>
                <p:nvPr/>
              </p:nvSpPr>
              <p:spPr>
                <a:xfrm>
                  <a:off x="7736040" y="2519280"/>
                  <a:ext cx="581040" cy="49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8170200" y="2516040"/>
                  <a:ext cx="150840" cy="129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5" name=""/>
              <p:cNvGrpSpPr/>
              <p:nvPr/>
            </p:nvGrpSpPr>
            <p:grpSpPr>
              <a:xfrm>
                <a:off x="7636680" y="2584440"/>
                <a:ext cx="585360" cy="497880"/>
                <a:chOff x="7636680" y="2584440"/>
                <a:chExt cx="585360" cy="49788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7636680" y="2587680"/>
                  <a:ext cx="581400" cy="49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8071200" y="2584440"/>
                  <a:ext cx="150840" cy="129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8" name=""/>
              <p:cNvGrpSpPr/>
              <p:nvPr/>
            </p:nvGrpSpPr>
            <p:grpSpPr>
              <a:xfrm>
                <a:off x="7531200" y="2655720"/>
                <a:ext cx="585000" cy="497880"/>
                <a:chOff x="7531200" y="2655720"/>
                <a:chExt cx="585000" cy="49788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7531200" y="2658960"/>
                  <a:ext cx="581040" cy="49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965360" y="2655720"/>
                  <a:ext cx="150840" cy="129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1" name=""/>
            <p:cNvSpPr/>
            <p:nvPr/>
          </p:nvSpPr>
          <p:spPr>
            <a:xfrm>
              <a:off x="6870960" y="3309480"/>
              <a:ext cx="201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e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eposi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92" name=""/>
            <p:cNvCxnSpPr>
              <a:stCxn id="922" idx="3"/>
              <a:endCxn id="978" idx="1"/>
            </p:cNvCxnSpPr>
            <p:nvPr/>
          </p:nvCxnSpPr>
          <p:spPr>
            <a:xfrm flipV="1">
              <a:off x="4888080" y="3277080"/>
              <a:ext cx="802080" cy="186120"/>
            </a:xfrm>
            <a:prstGeom prst="straightConnector1">
              <a:avLst/>
            </a:prstGeom>
            <a:ln w="38160">
              <a:solidFill>
                <a:srgbClr val="ffcc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93" name=""/>
            <p:cNvCxnSpPr>
              <a:stCxn id="978" idx="3"/>
              <a:endCxn id="989" idx="1"/>
            </p:cNvCxnSpPr>
            <p:nvPr/>
          </p:nvCxnSpPr>
          <p:spPr>
            <a:xfrm flipV="1">
              <a:off x="6341760" y="2905560"/>
              <a:ext cx="1189800" cy="371880"/>
            </a:xfrm>
            <a:prstGeom prst="straightConnector1">
              <a:avLst/>
            </a:prstGeom>
            <a:ln w="38160">
              <a:solidFill>
                <a:srgbClr val="ffcc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994" name=""/>
          <p:cNvSpPr/>
          <p:nvPr/>
        </p:nvSpPr>
        <p:spPr>
          <a:xfrm>
            <a:off x="3550320" y="163512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TTP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011400" y="431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 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2426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avigation Meta Scri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6559920" y="5194440"/>
            <a:ext cx="1227600" cy="1298520"/>
            <a:chOff x="6559920" y="5194440"/>
            <a:chExt cx="1227600" cy="1298520"/>
          </a:xfrm>
        </p:grpSpPr>
        <p:sp>
          <p:nvSpPr>
            <p:cNvPr id="998" name=""/>
            <p:cNvSpPr/>
            <p:nvPr/>
          </p:nvSpPr>
          <p:spPr>
            <a:xfrm>
              <a:off x="6673680" y="5194440"/>
              <a:ext cx="928800" cy="39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559920" y="5667480"/>
              <a:ext cx="1227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6419880" y="1673280"/>
            <a:ext cx="1913040" cy="20509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rba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973240" y="3225960"/>
            <a:ext cx="1278000" cy="13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4413240" y="2630520"/>
            <a:ext cx="1835280" cy="60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5535720" y="3724200"/>
            <a:ext cx="2771640" cy="995400"/>
            <a:chOff x="5535720" y="3724200"/>
            <a:chExt cx="2771640" cy="995400"/>
          </a:xfrm>
        </p:grpSpPr>
        <p:grpSp>
          <p:nvGrpSpPr>
            <p:cNvPr id="1004" name=""/>
            <p:cNvGrpSpPr/>
            <p:nvPr/>
          </p:nvGrpSpPr>
          <p:grpSpPr>
            <a:xfrm>
              <a:off x="5535720" y="3724200"/>
              <a:ext cx="678960" cy="753840"/>
              <a:chOff x="5535720" y="3724200"/>
              <a:chExt cx="678960" cy="753840"/>
            </a:xfrm>
          </p:grpSpPr>
          <p:sp>
            <p:nvSpPr>
              <p:cNvPr id="1005" name=""/>
              <p:cNvSpPr/>
              <p:nvPr/>
            </p:nvSpPr>
            <p:spPr>
              <a:xfrm>
                <a:off x="5535720" y="3729240"/>
                <a:ext cx="6742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039720" y="3724200"/>
                <a:ext cx="174960" cy="1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6294960" y="3894120"/>
              <a:ext cx="201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e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cri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8" name=""/>
          <p:cNvSpPr/>
          <p:nvPr/>
        </p:nvSpPr>
        <p:spPr>
          <a:xfrm flipH="1">
            <a:off x="5249880" y="3094200"/>
            <a:ext cx="998640" cy="34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483080" y="4721400"/>
            <a:ext cx="1881360" cy="81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3762360" y="4836960"/>
            <a:ext cx="2556000" cy="109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388440" y="1616040"/>
            <a:ext cx="3823560" cy="1967040"/>
            <a:chOff x="388440" y="1616040"/>
            <a:chExt cx="3823560" cy="1967040"/>
          </a:xfrm>
        </p:grpSpPr>
        <p:grpSp>
          <p:nvGrpSpPr>
            <p:cNvPr id="1012" name=""/>
            <p:cNvGrpSpPr/>
            <p:nvPr/>
          </p:nvGrpSpPr>
          <p:grpSpPr>
            <a:xfrm>
              <a:off x="388440" y="3009960"/>
              <a:ext cx="2471400" cy="573120"/>
              <a:chOff x="388440" y="3009960"/>
              <a:chExt cx="2471400" cy="573120"/>
            </a:xfrm>
          </p:grpSpPr>
          <p:sp>
            <p:nvSpPr>
              <p:cNvPr id="1013" name=""/>
              <p:cNvSpPr/>
              <p:nvPr/>
            </p:nvSpPr>
            <p:spPr>
              <a:xfrm>
                <a:off x="1092240" y="3583080"/>
                <a:ext cx="160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88440" y="3009960"/>
                <a:ext cx="247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RefObjet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, profile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5" name=""/>
            <p:cNvSpPr/>
            <p:nvPr/>
          </p:nvSpPr>
          <p:spPr>
            <a:xfrm>
              <a:off x="460440" y="1616040"/>
              <a:ext cx="37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) Access to the Meta Scri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458640" y="209880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2) Representation script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1"/>
          <a:stretch/>
        </p:blipFill>
        <p:spPr>
          <a:xfrm>
            <a:off x="4343400" y="3581280"/>
            <a:ext cx="1143000" cy="82872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455040" y="510552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3) Script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57920" y="5608800"/>
            <a:ext cx="51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4) Attributes and operations inv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516240" y="4425840"/>
            <a:ext cx="2358360" cy="531360"/>
            <a:chOff x="516240" y="4425840"/>
            <a:chExt cx="2358360" cy="531360"/>
          </a:xfrm>
        </p:grpSpPr>
        <p:sp>
          <p:nvSpPr>
            <p:cNvPr id="1021" name=""/>
            <p:cNvSpPr/>
            <p:nvPr/>
          </p:nvSpPr>
          <p:spPr>
            <a:xfrm flipH="1">
              <a:off x="1029960" y="4425840"/>
              <a:ext cx="160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16240" y="4497480"/>
              <a:ext cx="235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 M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3" name=""/>
          <p:cNvSpPr/>
          <p:nvPr/>
        </p:nvSpPr>
        <p:spPr>
          <a:xfrm>
            <a:off x="460080" y="6095880"/>
            <a:ext cx="40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5) MIME document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39120" y="35211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895280" y="2460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925520" y="4335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484240" y="5724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39120" y="40784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An Information Sytem from an Hospit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0" name=""/>
          <p:cNvSpPr/>
          <p:nvPr/>
        </p:nvSpPr>
        <p:spPr>
          <a:xfrm>
            <a:off x="2494080" y="3319560"/>
            <a:ext cx="1603080" cy="511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432080" y="4995720"/>
            <a:ext cx="1603080" cy="511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di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533920" y="1719360"/>
            <a:ext cx="1603440" cy="511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ut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533920" y="3319560"/>
            <a:ext cx="1603440" cy="511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533920" y="4995720"/>
            <a:ext cx="1603440" cy="511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-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432080" y="1719360"/>
            <a:ext cx="1603080" cy="511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os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6" name=""/>
          <p:cNvCxnSpPr>
            <a:stCxn id="1035" idx="3"/>
            <a:endCxn id="1032" idx="1"/>
          </p:cNvCxnSpPr>
          <p:nvPr/>
        </p:nvCxnSpPr>
        <p:spPr>
          <a:xfrm>
            <a:off x="3049560" y="1974600"/>
            <a:ext cx="2471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7" name=""/>
          <p:cNvCxnSpPr>
            <a:stCxn id="1032" idx="2"/>
            <a:endCxn id="1033" idx="0"/>
          </p:cNvCxnSpPr>
          <p:nvPr/>
        </p:nvCxnSpPr>
        <p:spPr>
          <a:xfrm>
            <a:off x="6335280" y="2244600"/>
            <a:ext cx="1080" cy="1061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8" name=""/>
          <p:cNvCxnSpPr>
            <a:stCxn id="1033" idx="2"/>
            <a:endCxn id="1034" idx="0"/>
          </p:cNvCxnSpPr>
          <p:nvPr/>
        </p:nvCxnSpPr>
        <p:spPr>
          <a:xfrm>
            <a:off x="6335280" y="3844800"/>
            <a:ext cx="1080" cy="1137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9" name=""/>
          <p:cNvCxnSpPr>
            <a:stCxn id="1030" idx="3"/>
            <a:endCxn id="1033" idx="1"/>
          </p:cNvCxnSpPr>
          <p:nvPr/>
        </p:nvCxnSpPr>
        <p:spPr>
          <a:xfrm>
            <a:off x="4111560" y="3574800"/>
            <a:ext cx="1409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0" name=""/>
          <p:cNvCxnSpPr>
            <a:stCxn id="1035" idx="2"/>
            <a:endCxn id="1031" idx="0"/>
          </p:cNvCxnSpPr>
          <p:nvPr/>
        </p:nvCxnSpPr>
        <p:spPr>
          <a:xfrm>
            <a:off x="2233080" y="2244240"/>
            <a:ext cx="1080" cy="2737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1" name=""/>
          <p:cNvSpPr/>
          <p:nvPr/>
        </p:nvSpPr>
        <p:spPr>
          <a:xfrm>
            <a:off x="2776680" y="2239920"/>
            <a:ext cx="0" cy="1068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773440" y="3828960"/>
            <a:ext cx="0" cy="1144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endCxn id="1031" idx="3"/>
          </p:cNvCxnSpPr>
          <p:nvPr/>
        </p:nvCxnSpPr>
        <p:spPr>
          <a:xfrm flipV="1" rot="10800000">
            <a:off x="3048840" y="3717000"/>
            <a:ext cx="2499480" cy="1533960"/>
          </a:xfrm>
          <a:prstGeom prst="bentConnector3">
            <a:avLst>
              <a:gd name="adj1" fmla="val 3607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4" name=""/>
          <p:cNvSpPr/>
          <p:nvPr/>
        </p:nvSpPr>
        <p:spPr>
          <a:xfrm>
            <a:off x="554400" y="5724360"/>
            <a:ext cx="525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scribed by OMG IDL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mplemented with 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313920"/>
            <a:ext cx="815328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wsing the Hospital Ob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6" name="NAV1" descr=""/>
          <p:cNvPicPr/>
          <p:nvPr/>
        </p:nvPicPr>
        <p:blipFill>
          <a:blip r:embed="rId1"/>
          <a:stretch/>
        </p:blipFill>
        <p:spPr>
          <a:xfrm>
            <a:off x="1271520" y="1606680"/>
            <a:ext cx="65325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wsing the Service Object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8" name="NAV2" descr=""/>
          <p:cNvPicPr/>
          <p:nvPr/>
        </p:nvPicPr>
        <p:blipFill>
          <a:blip r:embed="rId1"/>
          <a:stretch/>
        </p:blipFill>
        <p:spPr>
          <a:xfrm>
            <a:off x="1062000" y="1692360"/>
            <a:ext cx="697392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51920" y="266400"/>
            <a:ext cx="899172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wsing the Radiologist Ob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0" name="NAV3" descr=""/>
          <p:cNvPicPr/>
          <p:nvPr/>
        </p:nvPicPr>
        <p:blipFill>
          <a:blip r:embed="rId1"/>
          <a:stretch/>
        </p:blipFill>
        <p:spPr>
          <a:xfrm>
            <a:off x="1087560" y="1693800"/>
            <a:ext cx="694980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440" y="31392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wsing an Exa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2" name="NAV4" descr=""/>
          <p:cNvPicPr/>
          <p:nvPr/>
        </p:nvPicPr>
        <p:blipFill>
          <a:blip r:embed="rId1"/>
          <a:stretch/>
        </p:blipFill>
        <p:spPr>
          <a:xfrm>
            <a:off x="1063800" y="1676520"/>
            <a:ext cx="70434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33520" y="313920"/>
            <a:ext cx="861048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wsing an X-r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4" name="NAV5" descr=""/>
          <p:cNvPicPr/>
          <p:nvPr/>
        </p:nvPicPr>
        <p:blipFill>
          <a:blip r:embed="rId1"/>
          <a:stretch/>
        </p:blipFill>
        <p:spPr>
          <a:xfrm>
            <a:off x="1060560" y="1633680"/>
            <a:ext cx="69516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baWeb: Name Service Administ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6" name="cw_naming" descr=""/>
          <p:cNvPicPr/>
          <p:nvPr/>
        </p:nvPicPr>
        <p:blipFill>
          <a:blip r:embed="rId1"/>
          <a:stretch/>
        </p:blipFill>
        <p:spPr>
          <a:xfrm>
            <a:off x="538200" y="1482840"/>
            <a:ext cx="808992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57" name=""/>
          <p:cNvCxnSpPr>
            <a:stCxn id="1058" idx="0"/>
            <a:endCxn id="1059" idx="0"/>
          </p:cNvCxnSpPr>
          <p:nvPr/>
        </p:nvCxnSpPr>
        <p:spPr>
          <a:xfrm flipH="1">
            <a:off x="6164280" y="3611160"/>
            <a:ext cx="76680" cy="702360"/>
          </a:xfrm>
          <a:prstGeom prst="straightConnector1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0" name=""/>
          <p:cNvSpPr/>
          <p:nvPr/>
        </p:nvSpPr>
        <p:spPr>
          <a:xfrm>
            <a:off x="415800" y="1955880"/>
            <a:ext cx="1609920" cy="1282680"/>
          </a:xfrm>
          <a:prstGeom prst="can">
            <a:avLst>
              <a:gd name="adj" fmla="val 146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c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5518080" y="2762280"/>
            <a:ext cx="1442880" cy="1308960"/>
            <a:chOff x="5518080" y="2762280"/>
            <a:chExt cx="1442880" cy="1308960"/>
          </a:xfrm>
        </p:grpSpPr>
        <p:grpSp>
          <p:nvGrpSpPr>
            <p:cNvPr id="1062" name=""/>
            <p:cNvGrpSpPr/>
            <p:nvPr/>
          </p:nvGrpSpPr>
          <p:grpSpPr>
            <a:xfrm>
              <a:off x="5902560" y="2762280"/>
              <a:ext cx="656640" cy="842400"/>
              <a:chOff x="5902560" y="2762280"/>
              <a:chExt cx="656640" cy="842400"/>
            </a:xfrm>
          </p:grpSpPr>
          <p:sp>
            <p:nvSpPr>
              <p:cNvPr id="1063" name=""/>
              <p:cNvSpPr/>
              <p:nvPr/>
            </p:nvSpPr>
            <p:spPr>
              <a:xfrm>
                <a:off x="5902560" y="2768040"/>
                <a:ext cx="651960" cy="836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390000" y="2762280"/>
                <a:ext cx="16920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>
              <a:off x="5518080" y="3611520"/>
              <a:ext cx="144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Brow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7458480" y="2187720"/>
            <a:ext cx="1029600" cy="1906560"/>
            <a:chOff x="7458480" y="2187720"/>
            <a:chExt cx="1029600" cy="1906560"/>
          </a:xfrm>
        </p:grpSpPr>
        <p:grpSp>
          <p:nvGrpSpPr>
            <p:cNvPr id="1066" name=""/>
            <p:cNvGrpSpPr/>
            <p:nvPr/>
          </p:nvGrpSpPr>
          <p:grpSpPr>
            <a:xfrm>
              <a:off x="7504200" y="2187720"/>
              <a:ext cx="951840" cy="1058040"/>
              <a:chOff x="7504200" y="2187720"/>
              <a:chExt cx="951840" cy="1058040"/>
            </a:xfrm>
          </p:grpSpPr>
          <p:grpSp>
            <p:nvGrpSpPr>
              <p:cNvPr id="1067" name=""/>
              <p:cNvGrpSpPr/>
              <p:nvPr/>
            </p:nvGrpSpPr>
            <p:grpSpPr>
              <a:xfrm>
                <a:off x="7751160" y="2187720"/>
                <a:ext cx="704880" cy="826920"/>
                <a:chOff x="7751160" y="2187720"/>
                <a:chExt cx="704880" cy="82692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7751160" y="2193120"/>
                  <a:ext cx="699840" cy="821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8274240" y="2187720"/>
                  <a:ext cx="1818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7631640" y="2301120"/>
                <a:ext cx="705240" cy="826920"/>
                <a:chOff x="7631640" y="2301120"/>
                <a:chExt cx="705240" cy="82692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7631640" y="2306520"/>
                  <a:ext cx="700200" cy="821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8155080" y="2301120"/>
                  <a:ext cx="1818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7504200" y="2419200"/>
                <a:ext cx="704880" cy="826560"/>
                <a:chOff x="7504200" y="2419200"/>
                <a:chExt cx="704880" cy="82656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7504200" y="2424600"/>
                  <a:ext cx="699840" cy="821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8027280" y="2419200"/>
                  <a:ext cx="1818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6" name=""/>
            <p:cNvSpPr/>
            <p:nvPr/>
          </p:nvSpPr>
          <p:spPr>
            <a:xfrm>
              <a:off x="7458480" y="3268800"/>
              <a:ext cx="10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5767560" y="4241880"/>
            <a:ext cx="789840" cy="637560"/>
            <a:chOff x="5767560" y="4241880"/>
            <a:chExt cx="789840" cy="637560"/>
          </a:xfrm>
        </p:grpSpPr>
        <p:grpSp>
          <p:nvGrpSpPr>
            <p:cNvPr id="1078" name=""/>
            <p:cNvGrpSpPr/>
            <p:nvPr/>
          </p:nvGrpSpPr>
          <p:grpSpPr>
            <a:xfrm>
              <a:off x="5972400" y="4241880"/>
              <a:ext cx="585000" cy="497880"/>
              <a:chOff x="5972400" y="4241880"/>
              <a:chExt cx="585000" cy="497880"/>
            </a:xfrm>
          </p:grpSpPr>
          <p:sp>
            <p:nvSpPr>
              <p:cNvPr id="1079" name=""/>
              <p:cNvSpPr/>
              <p:nvPr/>
            </p:nvSpPr>
            <p:spPr>
              <a:xfrm>
                <a:off x="5972400" y="4245120"/>
                <a:ext cx="581040" cy="49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406560" y="4241880"/>
                <a:ext cx="15084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5873040" y="4310280"/>
              <a:ext cx="585360" cy="497880"/>
              <a:chOff x="5873040" y="4310280"/>
              <a:chExt cx="585360" cy="497880"/>
            </a:xfrm>
          </p:grpSpPr>
          <p:sp>
            <p:nvSpPr>
              <p:cNvPr id="1059" name=""/>
              <p:cNvSpPr/>
              <p:nvPr/>
            </p:nvSpPr>
            <p:spPr>
              <a:xfrm>
                <a:off x="5873040" y="4313520"/>
                <a:ext cx="581400" cy="49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307560" y="4310280"/>
                <a:ext cx="15084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5767560" y="4381560"/>
              <a:ext cx="585000" cy="497880"/>
              <a:chOff x="5767560" y="4381560"/>
              <a:chExt cx="585000" cy="497880"/>
            </a:xfrm>
          </p:grpSpPr>
          <p:sp>
            <p:nvSpPr>
              <p:cNvPr id="1084" name=""/>
              <p:cNvSpPr/>
              <p:nvPr/>
            </p:nvSpPr>
            <p:spPr>
              <a:xfrm>
                <a:off x="5767560" y="4384800"/>
                <a:ext cx="581040" cy="49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201720" y="4381560"/>
                <a:ext cx="15084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8934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CorbaWeb: an Extensible Frawem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401400" y="3373560"/>
            <a:ext cx="1416600" cy="1672560"/>
            <a:chOff x="401400" y="3373560"/>
            <a:chExt cx="1416600" cy="1672560"/>
          </a:xfrm>
        </p:grpSpPr>
        <p:sp>
          <p:nvSpPr>
            <p:cNvPr id="1088" name=""/>
            <p:cNvSpPr/>
            <p:nvPr/>
          </p:nvSpPr>
          <p:spPr>
            <a:xfrm>
              <a:off x="401400" y="4220640"/>
              <a:ext cx="141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atew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"/>
            <p:cNvGrpSpPr/>
            <p:nvPr/>
          </p:nvGrpSpPr>
          <p:grpSpPr>
            <a:xfrm>
              <a:off x="820800" y="3373560"/>
              <a:ext cx="951840" cy="815040"/>
              <a:chOff x="820800" y="3373560"/>
              <a:chExt cx="951840" cy="815040"/>
            </a:xfrm>
          </p:grpSpPr>
          <p:grpSp>
            <p:nvGrpSpPr>
              <p:cNvPr id="1090" name=""/>
              <p:cNvGrpSpPr/>
              <p:nvPr/>
            </p:nvGrpSpPr>
            <p:grpSpPr>
              <a:xfrm>
                <a:off x="1067760" y="3373560"/>
                <a:ext cx="704880" cy="637200"/>
                <a:chOff x="1067760" y="3373560"/>
                <a:chExt cx="704880" cy="63720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1067760" y="3377880"/>
                  <a:ext cx="699840" cy="63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1590840" y="3373560"/>
                  <a:ext cx="181800" cy="16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3" name=""/>
              <p:cNvGrpSpPr/>
              <p:nvPr/>
            </p:nvGrpSpPr>
            <p:grpSpPr>
              <a:xfrm>
                <a:off x="948240" y="3461040"/>
                <a:ext cx="705240" cy="637200"/>
                <a:chOff x="948240" y="3461040"/>
                <a:chExt cx="705240" cy="637200"/>
              </a:xfrm>
            </p:grpSpPr>
            <p:sp>
              <p:nvSpPr>
                <p:cNvPr id="1094" name=""/>
                <p:cNvSpPr/>
                <p:nvPr/>
              </p:nvSpPr>
              <p:spPr>
                <a:xfrm>
                  <a:off x="948240" y="3465360"/>
                  <a:ext cx="700200" cy="63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1471680" y="3461040"/>
                  <a:ext cx="181800" cy="16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820800" y="3551760"/>
                <a:ext cx="704880" cy="636840"/>
                <a:chOff x="820800" y="3551760"/>
                <a:chExt cx="704880" cy="63684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820800" y="3556080"/>
                  <a:ext cx="699840" cy="632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343880" y="3551760"/>
                  <a:ext cx="181800" cy="16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99" name=""/>
          <p:cNvGrpSpPr/>
          <p:nvPr/>
        </p:nvGrpSpPr>
        <p:grpSpPr>
          <a:xfrm>
            <a:off x="3062160" y="2725560"/>
            <a:ext cx="1984320" cy="1195560"/>
            <a:chOff x="3062160" y="2725560"/>
            <a:chExt cx="1984320" cy="1195560"/>
          </a:xfrm>
        </p:grpSpPr>
        <p:sp>
          <p:nvSpPr>
            <p:cNvPr id="1100" name=""/>
            <p:cNvSpPr/>
            <p:nvPr/>
          </p:nvSpPr>
          <p:spPr>
            <a:xfrm>
              <a:off x="3062160" y="2725560"/>
              <a:ext cx="1984320" cy="1049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3242880" y="3152880"/>
              <a:ext cx="1640160" cy="768240"/>
              <a:chOff x="3242880" y="3152880"/>
              <a:chExt cx="1640160" cy="768240"/>
            </a:xfrm>
          </p:grpSpPr>
          <p:sp>
            <p:nvSpPr>
              <p:cNvPr id="1102" name=""/>
              <p:cNvSpPr/>
              <p:nvPr/>
            </p:nvSpPr>
            <p:spPr>
              <a:xfrm>
                <a:off x="3326760" y="3577680"/>
                <a:ext cx="655560" cy="34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R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140720" y="3577680"/>
                <a:ext cx="655920" cy="34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I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242880" y="3152880"/>
                <a:ext cx="1640160" cy="42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DLscrip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5" name=""/>
            <p:cNvSpPr/>
            <p:nvPr/>
          </p:nvSpPr>
          <p:spPr>
            <a:xfrm>
              <a:off x="3326400" y="278136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CorbaWe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6648840" y="4103640"/>
            <a:ext cx="201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733320" y="4971960"/>
            <a:ext cx="7572600" cy="1796400"/>
            <a:chOff x="733320" y="4971960"/>
            <a:chExt cx="7572600" cy="1796400"/>
          </a:xfrm>
        </p:grpSpPr>
        <p:grpSp>
          <p:nvGrpSpPr>
            <p:cNvPr id="1108" name=""/>
            <p:cNvGrpSpPr/>
            <p:nvPr/>
          </p:nvGrpSpPr>
          <p:grpSpPr>
            <a:xfrm>
              <a:off x="1491480" y="5352840"/>
              <a:ext cx="1397520" cy="905040"/>
              <a:chOff x="1491480" y="5352840"/>
              <a:chExt cx="1397520" cy="905040"/>
            </a:xfrm>
          </p:grpSpPr>
          <p:sp>
            <p:nvSpPr>
              <p:cNvPr id="1109" name=""/>
              <p:cNvSpPr/>
              <p:nvPr/>
            </p:nvSpPr>
            <p:spPr>
              <a:xfrm>
                <a:off x="1491480" y="5803920"/>
                <a:ext cx="139752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287800" y="6054120"/>
                <a:ext cx="39672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656360" y="5939640"/>
                <a:ext cx="47484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1905480" y="535284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V="1">
                <a:off x="2496240" y="546408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3039840" y="5352840"/>
              <a:ext cx="1397520" cy="905040"/>
              <a:chOff x="3039840" y="5352840"/>
              <a:chExt cx="1397520" cy="905040"/>
            </a:xfrm>
          </p:grpSpPr>
          <p:sp>
            <p:nvSpPr>
              <p:cNvPr id="1115" name=""/>
              <p:cNvSpPr/>
              <p:nvPr/>
            </p:nvSpPr>
            <p:spPr>
              <a:xfrm>
                <a:off x="3039840" y="5803920"/>
                <a:ext cx="139752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836160" y="6054120"/>
                <a:ext cx="39672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204720" y="5939640"/>
                <a:ext cx="47484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V="1">
                <a:off x="3453840" y="535284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V="1">
                <a:off x="4044600" y="546408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4658400" y="5352840"/>
              <a:ext cx="1397520" cy="905040"/>
              <a:chOff x="4658400" y="5352840"/>
              <a:chExt cx="1397520" cy="905040"/>
            </a:xfrm>
          </p:grpSpPr>
          <p:sp>
            <p:nvSpPr>
              <p:cNvPr id="1121" name=""/>
              <p:cNvSpPr/>
              <p:nvPr/>
            </p:nvSpPr>
            <p:spPr>
              <a:xfrm>
                <a:off x="4658400" y="5803920"/>
                <a:ext cx="139752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454720" y="6054120"/>
                <a:ext cx="39672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823280" y="5939640"/>
                <a:ext cx="47484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5072400" y="535284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V="1">
                <a:off x="5663160" y="546408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6209640" y="5352840"/>
              <a:ext cx="1397520" cy="905040"/>
              <a:chOff x="6209640" y="5352840"/>
              <a:chExt cx="1397520" cy="905040"/>
            </a:xfrm>
          </p:grpSpPr>
          <p:sp>
            <p:nvSpPr>
              <p:cNvPr id="1127" name=""/>
              <p:cNvSpPr/>
              <p:nvPr/>
            </p:nvSpPr>
            <p:spPr>
              <a:xfrm>
                <a:off x="6209640" y="5803920"/>
                <a:ext cx="1397520" cy="45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005960" y="6054120"/>
                <a:ext cx="396720" cy="61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374520" y="5939640"/>
                <a:ext cx="474840" cy="12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V="1">
                <a:off x="6623640" y="535284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V="1">
                <a:off x="7214400" y="5464080"/>
                <a:ext cx="0" cy="5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2" name=""/>
            <p:cNvSpPr/>
            <p:nvPr/>
          </p:nvSpPr>
          <p:spPr>
            <a:xfrm>
              <a:off x="1819080" y="630864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368520" y="630864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777920" y="6308640"/>
              <a:ext cx="28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RBA 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33320" y="4971960"/>
              <a:ext cx="7572600" cy="638280"/>
            </a:xfrm>
            <a:prstGeom prst="leftRightArrow">
              <a:avLst>
                <a:gd name="adj1" fmla="val 58824"/>
                <a:gd name="adj2" fmla="val 16675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6" name=""/>
          <p:cNvSpPr/>
          <p:nvPr/>
        </p:nvSpPr>
        <p:spPr>
          <a:xfrm flipH="1">
            <a:off x="2143080" y="1668600"/>
            <a:ext cx="4911840" cy="372960"/>
          </a:xfrm>
          <a:prstGeom prst="flowChartMagneticDrum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7" name=""/>
          <p:cNvCxnSpPr>
            <a:stCxn id="1060" idx="4"/>
            <a:endCxn id="1100" idx="1"/>
          </p:cNvCxnSpPr>
          <p:nvPr/>
        </p:nvCxnSpPr>
        <p:spPr>
          <a:xfrm>
            <a:off x="2025720" y="2596680"/>
            <a:ext cx="1023120" cy="654840"/>
          </a:xfrm>
          <a:prstGeom prst="straightConnector1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8" name=""/>
          <p:cNvCxnSpPr>
            <a:stCxn id="1094" idx="3"/>
            <a:endCxn id="1100" idx="1"/>
          </p:cNvCxnSpPr>
          <p:nvPr/>
        </p:nvCxnSpPr>
        <p:spPr>
          <a:xfrm flipV="1">
            <a:off x="1649160" y="3250440"/>
            <a:ext cx="1399320" cy="532440"/>
          </a:xfrm>
          <a:prstGeom prst="straightConnector1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9" name=""/>
          <p:cNvCxnSpPr>
            <a:stCxn id="1100" idx="3"/>
            <a:endCxn id="1063" idx="1"/>
          </p:cNvCxnSpPr>
          <p:nvPr/>
        </p:nvCxnSpPr>
        <p:spPr>
          <a:xfrm flipV="1">
            <a:off x="5060520" y="3187440"/>
            <a:ext cx="842040" cy="64080"/>
          </a:xfrm>
          <a:prstGeom prst="straightConnector1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0" name=""/>
          <p:cNvCxnSpPr>
            <a:stCxn id="1100" idx="3"/>
            <a:endCxn id="1074" idx="0"/>
          </p:cNvCxnSpPr>
          <p:nvPr/>
        </p:nvCxnSpPr>
        <p:spPr>
          <a:xfrm flipV="1">
            <a:off x="5060520" y="2424960"/>
            <a:ext cx="2794680" cy="826200"/>
          </a:xfrm>
          <a:prstGeom prst="curvedConnector5">
            <a:avLst>
              <a:gd name="adj1" fmla="val 43455"/>
              <a:gd name="adj2" fmla="val 63818"/>
              <a:gd name="adj3" fmla="val 43455"/>
            </a:avLst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141" name=""/>
          <p:cNvGrpSpPr/>
          <p:nvPr/>
        </p:nvGrpSpPr>
        <p:grpSpPr>
          <a:xfrm>
            <a:off x="2419200" y="1770120"/>
            <a:ext cx="3320640" cy="934200"/>
            <a:chOff x="2419200" y="1770120"/>
            <a:chExt cx="3320640" cy="934200"/>
          </a:xfrm>
        </p:grpSpPr>
        <p:grpSp>
          <p:nvGrpSpPr>
            <p:cNvPr id="1142" name=""/>
            <p:cNvGrpSpPr/>
            <p:nvPr/>
          </p:nvGrpSpPr>
          <p:grpSpPr>
            <a:xfrm>
              <a:off x="2419200" y="1770120"/>
              <a:ext cx="851400" cy="934200"/>
              <a:chOff x="2419200" y="1770120"/>
              <a:chExt cx="851400" cy="934200"/>
            </a:xfrm>
          </p:grpSpPr>
          <p:sp>
            <p:nvSpPr>
              <p:cNvPr id="1143" name=""/>
              <p:cNvSpPr/>
              <p:nvPr/>
            </p:nvSpPr>
            <p:spPr>
              <a:xfrm>
                <a:off x="2419200" y="1777320"/>
                <a:ext cx="8514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261600" y="1770120"/>
                <a:ext cx="0" cy="9342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4888440" y="1770120"/>
              <a:ext cx="851400" cy="934200"/>
              <a:chOff x="4888440" y="1770120"/>
              <a:chExt cx="851400" cy="934200"/>
            </a:xfrm>
          </p:grpSpPr>
          <p:sp>
            <p:nvSpPr>
              <p:cNvPr id="1146" name=""/>
              <p:cNvSpPr/>
              <p:nvPr/>
            </p:nvSpPr>
            <p:spPr>
              <a:xfrm flipH="1">
                <a:off x="4888440" y="1777320"/>
                <a:ext cx="8514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897440" y="1770120"/>
                <a:ext cx="0" cy="9342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8" name=""/>
          <p:cNvGrpSpPr/>
          <p:nvPr/>
        </p:nvGrpSpPr>
        <p:grpSpPr>
          <a:xfrm>
            <a:off x="1860120" y="3938760"/>
            <a:ext cx="5121720" cy="1900080"/>
            <a:chOff x="1860120" y="3938760"/>
            <a:chExt cx="5121720" cy="1900080"/>
          </a:xfrm>
        </p:grpSpPr>
        <p:sp>
          <p:nvSpPr>
            <p:cNvPr id="1149" name=""/>
            <p:cNvSpPr/>
            <p:nvPr/>
          </p:nvSpPr>
          <p:spPr>
            <a:xfrm>
              <a:off x="4243320" y="5292720"/>
              <a:ext cx="2368440" cy="1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181480" y="5305320"/>
              <a:ext cx="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581880" y="5295960"/>
              <a:ext cx="399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847680" y="5295960"/>
              <a:ext cx="399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705120" y="3938760"/>
              <a:ext cx="828720" cy="1384200"/>
              <a:chOff x="3705120" y="3938760"/>
              <a:chExt cx="828720" cy="1384200"/>
            </a:xfrm>
          </p:grpSpPr>
          <p:sp>
            <p:nvSpPr>
              <p:cNvPr id="1154" name=""/>
              <p:cNvSpPr/>
              <p:nvPr/>
            </p:nvSpPr>
            <p:spPr>
              <a:xfrm>
                <a:off x="4533840" y="3938760"/>
                <a:ext cx="0" cy="1352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705120" y="3970080"/>
                <a:ext cx="0" cy="1352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6" name=""/>
            <p:cNvSpPr/>
            <p:nvPr/>
          </p:nvSpPr>
          <p:spPr>
            <a:xfrm flipH="1">
              <a:off x="1860120" y="5300640"/>
              <a:ext cx="1846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870200" y="52992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"/>
          <p:cNvSpPr/>
          <p:nvPr/>
        </p:nvSpPr>
        <p:spPr>
          <a:xfrm>
            <a:off x="3955320" y="160020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TTP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176640" y="50515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 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nvoking Distributed Objects (2/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"/>
          <p:cNvSpPr/>
          <p:nvPr/>
        </p:nvSpPr>
        <p:spPr>
          <a:xfrm>
            <a:off x="1952640" y="6039000"/>
            <a:ext cx="53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 complex users’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28680" y="3898800"/>
            <a:ext cx="846000" cy="1378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762600" y="54230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28880" y="5438880"/>
            <a:ext cx="0" cy="19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5438880"/>
            <a:ext cx="7939080" cy="600120"/>
          </a:xfrm>
          <a:prstGeom prst="leftRightArrow">
            <a:avLst>
              <a:gd name="adj1" fmla="val 50120"/>
              <a:gd name="adj2" fmla="val 14760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03240" y="4214880"/>
            <a:ext cx="2035440" cy="1224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DL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R S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03240" y="4987800"/>
            <a:ext cx="20224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535120" y="4983120"/>
            <a:ext cx="0" cy="4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6840" y="4197240"/>
            <a:ext cx="1671480" cy="12258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11560" y="425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Grid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6405480" y="4784760"/>
            <a:ext cx="681120" cy="473040"/>
            <a:chOff x="6405480" y="4784760"/>
            <a:chExt cx="681120" cy="473040"/>
          </a:xfrm>
        </p:grpSpPr>
        <p:sp>
          <p:nvSpPr>
            <p:cNvPr id="233" name=""/>
            <p:cNvSpPr/>
            <p:nvPr/>
          </p:nvSpPr>
          <p:spPr>
            <a:xfrm>
              <a:off x="6405480" y="4784760"/>
              <a:ext cx="681120" cy="4730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6544080" y="4881960"/>
              <a:ext cx="432720" cy="266760"/>
              <a:chOff x="6544080" y="4881960"/>
              <a:chExt cx="432720" cy="266760"/>
            </a:xfrm>
          </p:grpSpPr>
          <p:sp>
            <p:nvSpPr>
              <p:cNvPr id="235" name=""/>
              <p:cNvSpPr/>
              <p:nvPr/>
            </p:nvSpPr>
            <p:spPr>
              <a:xfrm>
                <a:off x="6544080" y="4881960"/>
                <a:ext cx="432720" cy="26676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630480" y="4881960"/>
                <a:ext cx="0" cy="26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695280" y="4881960"/>
                <a:ext cx="0" cy="26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760440" y="4881960"/>
                <a:ext cx="0" cy="26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825240" y="4881960"/>
                <a:ext cx="0" cy="26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90400" y="4881960"/>
                <a:ext cx="0" cy="26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544080" y="4943520"/>
                <a:ext cx="43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44080" y="4984560"/>
                <a:ext cx="43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44080" y="5025600"/>
                <a:ext cx="43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544080" y="5066640"/>
                <a:ext cx="43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544080" y="5107680"/>
                <a:ext cx="43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6" name=""/>
          <p:cNvGrpSpPr/>
          <p:nvPr/>
        </p:nvGrpSpPr>
        <p:grpSpPr>
          <a:xfrm>
            <a:off x="685800" y="1714680"/>
            <a:ext cx="6932520" cy="4149360"/>
            <a:chOff x="685800" y="1714680"/>
            <a:chExt cx="6932520" cy="4149360"/>
          </a:xfrm>
        </p:grpSpPr>
        <p:sp>
          <p:nvSpPr>
            <p:cNvPr id="247" name=""/>
            <p:cNvSpPr/>
            <p:nvPr/>
          </p:nvSpPr>
          <p:spPr>
            <a:xfrm>
              <a:off x="685800" y="1714680"/>
              <a:ext cx="6932520" cy="2114280"/>
            </a:xfrm>
            <a:prstGeom prst="wedgeRoundRectCallout">
              <a:avLst>
                <a:gd name="adj1" fmla="val -44138"/>
                <a:gd name="adj2" fmla="val 60736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60160" y="1816200"/>
              <a:ext cx="5223600" cy="1922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&gt;  d = aGrid.dimen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&gt;  for i in range (1, d.x)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for j in range (1, d.y)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print (aGrid.get ([i, j])) }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0 10 0 0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057400" y="5304600"/>
              <a:ext cx="1058760" cy="559080"/>
            </a:xfrm>
            <a:custGeom>
              <a:avLst/>
              <a:gdLst>
                <a:gd name="textAreaLeft" fmla="*/ 0 w 1058760"/>
                <a:gd name="textAreaRight" fmla="*/ 1059120 w 1058760"/>
                <a:gd name="textAreaTop" fmla="*/ -360 h 559080"/>
                <a:gd name="textAreaBottom" fmla="*/ 55908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435" stAng="10800000" swAng="5400000"/>
                  <a:lnTo>
                    <a:pt x="12427" y="4725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7433"/>
                  </a:lnTo>
                  <a:lnTo>
                    <a:pt x="12427" y="7433"/>
                  </a:lnTo>
                  <a:arcTo wR="9719" hR="4727" stAng="16200000" swAng="-5400000"/>
                  <a:lnTo>
                    <a:pt x="2708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 rot="16200000">
              <a:off x="6503760" y="5280840"/>
              <a:ext cx="606600" cy="558720"/>
            </a:xfrm>
            <a:custGeom>
              <a:avLst/>
              <a:gdLst>
                <a:gd name="textAreaLeft" fmla="*/ 0 w 606600"/>
                <a:gd name="textAreaRight" fmla="*/ 606960 w 606600"/>
                <a:gd name="textAreaTop" fmla="*/ 0 h 558720"/>
                <a:gd name="textAreaBottom" fmla="*/ 558720 h 55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435" stAng="10800000" swAng="5400000"/>
                  <a:lnTo>
                    <a:pt x="12427" y="4725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7433"/>
                  </a:lnTo>
                  <a:lnTo>
                    <a:pt x="12427" y="7433"/>
                  </a:lnTo>
                  <a:arcTo wR="9719" hR="4727" stAng="16200000" swAng="-5400000"/>
                  <a:lnTo>
                    <a:pt x="2708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Remote Scripting Eng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CORBA application to execute mobil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gine written in IDL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[mobile] scripts written in IDL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85760" y="3432240"/>
            <a:ext cx="8553240" cy="3205080"/>
            <a:chOff x="185760" y="3432240"/>
            <a:chExt cx="8553240" cy="3205080"/>
          </a:xfrm>
        </p:grpSpPr>
        <p:sp>
          <p:nvSpPr>
            <p:cNvPr id="1163" name=""/>
            <p:cNvSpPr/>
            <p:nvPr/>
          </p:nvSpPr>
          <p:spPr>
            <a:xfrm>
              <a:off x="590400" y="5962680"/>
              <a:ext cx="7939080" cy="674640"/>
            </a:xfrm>
            <a:prstGeom prst="leftRightArrow">
              <a:avLst>
                <a:gd name="adj1" fmla="val 50120"/>
                <a:gd name="adj2" fmla="val 131299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O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4" name="" descr=""/>
            <p:cNvPicPr/>
            <p:nvPr/>
          </p:nvPicPr>
          <p:blipFill>
            <a:blip r:embed="rId1"/>
            <a:stretch/>
          </p:blipFill>
          <p:spPr>
            <a:xfrm>
              <a:off x="185760" y="4437000"/>
              <a:ext cx="846000" cy="1378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5" name=""/>
            <p:cNvGrpSpPr/>
            <p:nvPr/>
          </p:nvGrpSpPr>
          <p:grpSpPr>
            <a:xfrm>
              <a:off x="5873760" y="4251240"/>
              <a:ext cx="2865240" cy="1896840"/>
              <a:chOff x="5873760" y="4251240"/>
              <a:chExt cx="2865240" cy="1896840"/>
            </a:xfrm>
          </p:grpSpPr>
          <p:sp>
            <p:nvSpPr>
              <p:cNvPr id="1166" name=""/>
              <p:cNvSpPr/>
              <p:nvPr/>
            </p:nvSpPr>
            <p:spPr>
              <a:xfrm>
                <a:off x="7378560" y="5581440"/>
                <a:ext cx="468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873760" y="4251240"/>
                <a:ext cx="2865240" cy="13302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IDLscrip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DII    DSI     IFR SI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873760" y="5127480"/>
                <a:ext cx="2865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V="1">
                <a:off x="7378560" y="5117760"/>
                <a:ext cx="0" cy="4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6634080" y="5127120"/>
                <a:ext cx="0" cy="4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1" name=""/>
              <p:cNvGrpSpPr/>
              <p:nvPr/>
            </p:nvGrpSpPr>
            <p:grpSpPr>
              <a:xfrm>
                <a:off x="6060960" y="4786200"/>
                <a:ext cx="1197000" cy="252000"/>
                <a:chOff x="6060960" y="4786200"/>
                <a:chExt cx="1197000" cy="25200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6060960" y="4911120"/>
                  <a:ext cx="416160" cy="127080"/>
                </a:xfrm>
                <a:prstGeom prst="ellipse">
                  <a:avLst/>
                </a:prstGeom>
                <a:solidFill>
                  <a:srgbClr val="cc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6842160" y="4786200"/>
                  <a:ext cx="415800" cy="124920"/>
                </a:xfrm>
                <a:prstGeom prst="ellipse">
                  <a:avLst/>
                </a:prstGeom>
                <a:solidFill>
                  <a:srgbClr val="cc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4" name=""/>
              <p:cNvSpPr/>
              <p:nvPr/>
            </p:nvSpPr>
            <p:spPr>
              <a:xfrm flipH="1">
                <a:off x="6003720" y="4487760"/>
                <a:ext cx="416160" cy="12528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1244520" y="4289400"/>
              <a:ext cx="2865600" cy="1897200"/>
              <a:chOff x="1244520" y="4289400"/>
              <a:chExt cx="2865600" cy="1897200"/>
            </a:xfrm>
          </p:grpSpPr>
          <p:sp>
            <p:nvSpPr>
              <p:cNvPr id="1176" name=""/>
              <p:cNvSpPr/>
              <p:nvPr/>
            </p:nvSpPr>
            <p:spPr>
              <a:xfrm>
                <a:off x="2749680" y="5619600"/>
                <a:ext cx="4680" cy="56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244520" y="4289400"/>
                <a:ext cx="2865600" cy="13302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IDLscrip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DII    DSI     IFR SI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244520" y="5165640"/>
                <a:ext cx="286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V="1">
                <a:off x="2749680" y="5155920"/>
                <a:ext cx="0" cy="47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V="1">
                <a:off x="2004840" y="5165280"/>
                <a:ext cx="0" cy="4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1" name=""/>
            <p:cNvSpPr/>
            <p:nvPr/>
          </p:nvSpPr>
          <p:spPr>
            <a:xfrm>
              <a:off x="6099120" y="3432240"/>
              <a:ext cx="246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emote Scrip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ng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336680" y="3470400"/>
              <a:ext cx="218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Local Scrip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ng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533840" y="44197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366440" y="495612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5" name=""/>
            <p:cNvGrpSpPr/>
            <p:nvPr/>
          </p:nvGrpSpPr>
          <p:grpSpPr>
            <a:xfrm>
              <a:off x="4645080" y="3867120"/>
              <a:ext cx="449280" cy="576360"/>
              <a:chOff x="4645080" y="3867120"/>
              <a:chExt cx="449280" cy="576360"/>
            </a:xfrm>
          </p:grpSpPr>
          <p:sp>
            <p:nvSpPr>
              <p:cNvPr id="1186" name=""/>
              <p:cNvSpPr/>
              <p:nvPr/>
            </p:nvSpPr>
            <p:spPr>
              <a:xfrm>
                <a:off x="4645080" y="3871080"/>
                <a:ext cx="446040" cy="572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978440" y="3867120"/>
                <a:ext cx="115920" cy="15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Remote Scripting Engine: OMG ID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valuatio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ypedef string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crip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 // A script is just a string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xception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ntaxError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{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xception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untimeError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{string message;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xception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DLExceptio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{any exc;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sult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valuate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in Script a_scrip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aises(SyntaxError, RuntimeError, IDLExceptio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ther function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ssion, remote variables, storage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Remote Scripting Engine: Imple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570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valuationImp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 . .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valuate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self, a_scrip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eval(scrip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catch(CORBA.Exception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row Evaluation.IDLException(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catch(SyntaxError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row Evaluation.SyntaxErro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catch(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row Evaluation.RuntimeError(e._toString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Remote Scripting Engine: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ix&gt; cssh client.cs file:/tmp/engine.i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mote Scripting Engine Shell 1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 instructions, type 'help'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gine&gt; scri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cript&gt; println("Hello World!"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cript&gt; return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cript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nds the script to the remote scripting::Engin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utput&gt; Hello World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result is CORBA::Boolean(tr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crip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914040" y="124740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orbaScri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Presentation of the first implementation of IDLscript specific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orbaScript: the First Implementation of IDLscri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57440"/>
            <a:ext cx="8686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FL provides an IDLscrip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ased on CORBA 2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urrent supported ORB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ICO, OAK, ORBacus, Visibroker 3.2 and 3.3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rbix 2000, TAO, OmniORB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urrent supported 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IX, HP-UX, Linux, SGI IRIX, Solari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nd Windows 95/98/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ree and available with its full C++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mos, naming and event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: </a:t>
            </a:r>
            <a:r>
              <a:rPr b="1" lang="en-GB" sz="2800" spc="-1" strike="noStrike">
                <a:solidFill>
                  <a:srgbClr val="33cc33"/>
                </a:solidFill>
                <a:latin typeface="Tahoma"/>
              </a:rPr>
              <a:t>http://corbaweb.lifl.fr/CorbaScript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6754680" y="2773440"/>
            <a:ext cx="23320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wo Implemen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DLscript built with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med Corba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cess to C dynamic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DLscript built with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med JIDL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cess to all the Java classes (GUI, database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kind of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Java-Scrip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nterpr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914040" y="124740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6840" y="1733040"/>
            <a:ext cx="81788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BA 3.0 incorporates a CORBA Scripting Language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script prov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ple object-oriented script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RBA dynamic bi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G IDL type system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ble and already implem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over IDLscript is compliant with current RFP submissions as long as they are described with OMG ID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MG W3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ttp://www.omg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DLscript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tp://ftp.omg.org/pub/docs/ptc/99-12-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ur W3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ttp://corbaweb.lifl.f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rticles and CorbaScript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Procedures and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"/>
          <p:cNvSpPr/>
          <p:nvPr/>
        </p:nvSpPr>
        <p:spPr>
          <a:xfrm>
            <a:off x="2511360" y="5981760"/>
            <a:ext cx="43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oring and reusing users’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62600" y="52768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28880" y="529272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5292720"/>
            <a:ext cx="7939080" cy="592200"/>
          </a:xfrm>
          <a:prstGeom prst="leftRightArrow">
            <a:avLst>
              <a:gd name="adj1" fmla="val 50120"/>
              <a:gd name="adj2" fmla="val 14957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03240" y="4084560"/>
            <a:ext cx="2035440" cy="12081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DL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I    IFR S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97120" y="4873680"/>
            <a:ext cx="204156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478240" y="4873680"/>
            <a:ext cx="0" cy="41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46840" y="4067280"/>
            <a:ext cx="1671480" cy="12096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11560" y="412272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Grid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01560" y="3798720"/>
            <a:ext cx="846360" cy="13780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456120" y="1827000"/>
            <a:ext cx="2674080" cy="1335240"/>
            <a:chOff x="456120" y="1827000"/>
            <a:chExt cx="2674080" cy="1335240"/>
          </a:xfrm>
        </p:grpSpPr>
        <p:sp>
          <p:nvSpPr>
            <p:cNvPr id="263" name=""/>
            <p:cNvSpPr/>
            <p:nvPr/>
          </p:nvSpPr>
          <p:spPr>
            <a:xfrm>
              <a:off x="456120" y="1827360"/>
              <a:ext cx="2674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GridTools.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roc displayGrid (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{ …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200" y="1827360"/>
              <a:ext cx="2671920" cy="13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2826000" y="1827000"/>
              <a:ext cx="30312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717560" y="1733400"/>
            <a:ext cx="6940800" cy="2351520"/>
            <a:chOff x="1717560" y="1733400"/>
            <a:chExt cx="6940800" cy="2351520"/>
          </a:xfrm>
        </p:grpSpPr>
        <p:grpSp>
          <p:nvGrpSpPr>
            <p:cNvPr id="267" name=""/>
            <p:cNvGrpSpPr/>
            <p:nvPr/>
          </p:nvGrpSpPr>
          <p:grpSpPr>
            <a:xfrm>
              <a:off x="3784680" y="1733400"/>
              <a:ext cx="4873680" cy="1398600"/>
              <a:chOff x="3784680" y="1733400"/>
              <a:chExt cx="4873680" cy="1398600"/>
            </a:xfrm>
          </p:grpSpPr>
          <p:sp>
            <p:nvSpPr>
              <p:cNvPr id="268" name=""/>
              <p:cNvSpPr/>
              <p:nvPr/>
            </p:nvSpPr>
            <p:spPr>
              <a:xfrm>
                <a:off x="3784680" y="1733400"/>
                <a:ext cx="4873680" cy="1398600"/>
              </a:xfrm>
              <a:prstGeom prst="wedgeRoundRectCallout">
                <a:avLst>
                  <a:gd name="adj1" fmla="val -99833"/>
                  <a:gd name="adj2" fmla="val 109365"/>
                  <a:gd name="adj3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878280" y="1793880"/>
                <a:ext cx="4260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&gt; import GridToo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&gt; GridTools.displayGrid (aGrid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Courier New"/>
                  </a:rPr>
                  <a:t>0 10 0 0 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0" name=""/>
            <p:cNvCxnSpPr/>
            <p:nvPr/>
          </p:nvCxnSpPr>
          <p:spPr>
            <a:xfrm flipH="1" rot="16200000">
              <a:off x="1775520" y="3104280"/>
              <a:ext cx="923040" cy="1038600"/>
            </a:xfrm>
            <a:prstGeom prst="curvedConnector5">
              <a:avLst>
                <a:gd name="adj1" fmla="val 49902"/>
                <a:gd name="adj2" fmla="val 50000"/>
                <a:gd name="adj3" fmla="val 4990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1" name=""/>
          <p:cNvGrpSpPr/>
          <p:nvPr/>
        </p:nvGrpSpPr>
        <p:grpSpPr>
          <a:xfrm>
            <a:off x="6405480" y="4670280"/>
            <a:ext cx="681120" cy="473400"/>
            <a:chOff x="6405480" y="4670280"/>
            <a:chExt cx="681120" cy="473400"/>
          </a:xfrm>
        </p:grpSpPr>
        <p:sp>
          <p:nvSpPr>
            <p:cNvPr id="272" name=""/>
            <p:cNvSpPr/>
            <p:nvPr/>
          </p:nvSpPr>
          <p:spPr>
            <a:xfrm>
              <a:off x="6405480" y="4670280"/>
              <a:ext cx="681120" cy="47340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544080" y="4767480"/>
              <a:ext cx="432720" cy="267120"/>
              <a:chOff x="6544080" y="4767480"/>
              <a:chExt cx="432720" cy="267120"/>
            </a:xfrm>
          </p:grpSpPr>
          <p:sp>
            <p:nvSpPr>
              <p:cNvPr id="274" name=""/>
              <p:cNvSpPr/>
              <p:nvPr/>
            </p:nvSpPr>
            <p:spPr>
              <a:xfrm>
                <a:off x="6544080" y="4767480"/>
                <a:ext cx="432720" cy="26712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630480" y="4767480"/>
                <a:ext cx="0" cy="26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695280" y="4767480"/>
                <a:ext cx="0" cy="26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60440" y="4767480"/>
                <a:ext cx="0" cy="26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825240" y="4767480"/>
                <a:ext cx="0" cy="26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890400" y="4767480"/>
                <a:ext cx="0" cy="26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544080" y="4829040"/>
                <a:ext cx="43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44080" y="4870080"/>
                <a:ext cx="43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544080" y="4911120"/>
                <a:ext cx="43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544080" y="4952520"/>
                <a:ext cx="43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44080" y="4993560"/>
                <a:ext cx="43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mplementing Distributed Obj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"/>
          <p:cNvSpPr/>
          <p:nvPr/>
        </p:nvSpPr>
        <p:spPr>
          <a:xfrm>
            <a:off x="6286680" y="4605480"/>
            <a:ext cx="46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4605480"/>
            <a:ext cx="7939080" cy="812520"/>
          </a:xfrm>
          <a:prstGeom prst="leftRightArrow">
            <a:avLst>
              <a:gd name="adj1" fmla="val 50120"/>
              <a:gd name="adj2" fmla="val 10901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8440" y="5327640"/>
            <a:ext cx="563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O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class/instance, multiple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SI = receive any CORBA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ate complex server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81520" y="3559320"/>
            <a:ext cx="2865600" cy="10461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DL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I    DSI     IFR S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81520" y="4248000"/>
            <a:ext cx="286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286680" y="424008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41840" y="4247640"/>
            <a:ext cx="0" cy="3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968720" y="3979800"/>
            <a:ext cx="1197000" cy="198360"/>
            <a:chOff x="4968720" y="3979800"/>
            <a:chExt cx="1197000" cy="198360"/>
          </a:xfrm>
        </p:grpSpPr>
        <p:sp>
          <p:nvSpPr>
            <p:cNvPr id="294" name=""/>
            <p:cNvSpPr/>
            <p:nvPr/>
          </p:nvSpPr>
          <p:spPr>
            <a:xfrm>
              <a:off x="4968720" y="4078080"/>
              <a:ext cx="416160" cy="1000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49920" y="3979800"/>
              <a:ext cx="415800" cy="98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962000" y="3559320"/>
            <a:ext cx="4148280" cy="1604880"/>
            <a:chOff x="1962000" y="3559320"/>
            <a:chExt cx="4148280" cy="1604880"/>
          </a:xfrm>
        </p:grpSpPr>
        <p:sp>
          <p:nvSpPr>
            <p:cNvPr id="297" name=""/>
            <p:cNvSpPr/>
            <p:nvPr/>
          </p:nvSpPr>
          <p:spPr>
            <a:xfrm>
              <a:off x="2828880" y="460548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1962000" y="3559320"/>
              <a:ext cx="4148280" cy="1604880"/>
              <a:chOff x="1962000" y="3559320"/>
              <a:chExt cx="4148280" cy="1604880"/>
            </a:xfrm>
          </p:grpSpPr>
          <p:sp>
            <p:nvSpPr>
              <p:cNvPr id="299" name=""/>
              <p:cNvSpPr/>
              <p:nvPr/>
            </p:nvSpPr>
            <p:spPr>
              <a:xfrm>
                <a:off x="1962000" y="3559320"/>
                <a:ext cx="2136960" cy="10461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Any cli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2971800" y="4557960"/>
                <a:ext cx="3138480" cy="606240"/>
                <a:chOff x="2971800" y="4557960"/>
                <a:chExt cx="3138480" cy="606240"/>
              </a:xfrm>
            </p:grpSpPr>
            <p:sp>
              <p:nvSpPr>
                <p:cNvPr id="301" name=""/>
                <p:cNvSpPr/>
                <p:nvPr/>
              </p:nvSpPr>
              <p:spPr>
                <a:xfrm flipV="1">
                  <a:off x="2971800" y="4605480"/>
                  <a:ext cx="1058760" cy="558720"/>
                </a:xfrm>
                <a:custGeom>
                  <a:avLst/>
                  <a:gdLst>
                    <a:gd name="textAreaLeft" fmla="*/ 0 w 1058760"/>
                    <a:gd name="textAreaRight" fmla="*/ 1059120 w 1058760"/>
                    <a:gd name="textAreaTop" fmla="*/ 0 h 558720"/>
                    <a:gd name="textAreaBottom" fmla="*/ 558720 h 55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7435" stAng="10800000" swAng="5400000"/>
                      <a:lnTo>
                        <a:pt x="12427" y="4725"/>
                      </a:lnTo>
                      <a:lnTo>
                        <a:pt x="12427" y="0"/>
                      </a:lnTo>
                      <a:lnTo>
                        <a:pt x="21600" y="6079"/>
                      </a:lnTo>
                      <a:lnTo>
                        <a:pt x="12427" y="12158"/>
                      </a:lnTo>
                      <a:lnTo>
                        <a:pt x="12427" y="7433"/>
                      </a:lnTo>
                      <a:lnTo>
                        <a:pt x="12427" y="7433"/>
                      </a:lnTo>
                      <a:arcTo wR="9719" hR="4727" stAng="16200000" swAng="-5400000"/>
                      <a:lnTo>
                        <a:pt x="2708" y="216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 rot="16200000">
                  <a:off x="5527800" y="4581720"/>
                  <a:ext cx="606240" cy="558720"/>
                </a:xfrm>
                <a:custGeom>
                  <a:avLst/>
                  <a:gdLst>
                    <a:gd name="textAreaLeft" fmla="*/ 0 w 606240"/>
                    <a:gd name="textAreaRight" fmla="*/ 606600 w 606240"/>
                    <a:gd name="textAreaTop" fmla="*/ 0 h 558720"/>
                    <a:gd name="textAreaBottom" fmla="*/ 558720 h 55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7435" stAng="10800000" swAng="5400000"/>
                      <a:lnTo>
                        <a:pt x="12427" y="4725"/>
                      </a:lnTo>
                      <a:lnTo>
                        <a:pt x="12427" y="0"/>
                      </a:lnTo>
                      <a:lnTo>
                        <a:pt x="21600" y="6079"/>
                      </a:lnTo>
                      <a:lnTo>
                        <a:pt x="12427" y="12158"/>
                      </a:lnTo>
                      <a:lnTo>
                        <a:pt x="12427" y="7433"/>
                      </a:lnTo>
                      <a:lnTo>
                        <a:pt x="12427" y="7433"/>
                      </a:lnTo>
                      <a:arcTo wR="9719" hR="4727" stAng="16200000" swAng="-5400000"/>
                      <a:lnTo>
                        <a:pt x="2708" y="216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3" name=""/>
          <p:cNvGrpSpPr/>
          <p:nvPr/>
        </p:nvGrpSpPr>
        <p:grpSpPr>
          <a:xfrm>
            <a:off x="7848720" y="3309840"/>
            <a:ext cx="842400" cy="1374840"/>
            <a:chOff x="7848720" y="3309840"/>
            <a:chExt cx="842400" cy="1374840"/>
          </a:xfrm>
        </p:grpSpPr>
        <p:grpSp>
          <p:nvGrpSpPr>
            <p:cNvPr id="304" name=""/>
            <p:cNvGrpSpPr/>
            <p:nvPr/>
          </p:nvGrpSpPr>
          <p:grpSpPr>
            <a:xfrm>
              <a:off x="8102880" y="3309840"/>
              <a:ext cx="237600" cy="252360"/>
              <a:chOff x="8102880" y="3309840"/>
              <a:chExt cx="237600" cy="2523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8107920" y="3322440"/>
                <a:ext cx="228240" cy="239760"/>
                <a:chOff x="8107920" y="3322440"/>
                <a:chExt cx="228240" cy="239760"/>
              </a:xfrm>
            </p:grpSpPr>
            <p:sp>
              <p:nvSpPr>
                <p:cNvPr id="306" name=""/>
                <p:cNvSpPr/>
                <p:nvPr/>
              </p:nvSpPr>
              <p:spPr>
                <a:xfrm flipH="1">
                  <a:off x="8107920" y="3322440"/>
                  <a:ext cx="228240" cy="236520"/>
                </a:xfrm>
                <a:custGeom>
                  <a:avLst/>
                  <a:gdLst/>
                  <a:ahLst/>
                  <a:rect l="l" t="t" r="r" b="b"/>
                  <a:pathLst>
                    <a:path w="287" h="447">
                      <a:moveTo>
                        <a:pt x="40" y="33"/>
                      </a:moveTo>
                      <a:lnTo>
                        <a:pt x="62" y="17"/>
                      </a:lnTo>
                      <a:lnTo>
                        <a:pt x="90" y="6"/>
                      </a:lnTo>
                      <a:lnTo>
                        <a:pt x="122" y="0"/>
                      </a:lnTo>
                      <a:lnTo>
                        <a:pt x="150" y="0"/>
                      </a:lnTo>
                      <a:lnTo>
                        <a:pt x="183" y="3"/>
                      </a:lnTo>
                      <a:lnTo>
                        <a:pt x="213" y="10"/>
                      </a:lnTo>
                      <a:lnTo>
                        <a:pt x="235" y="23"/>
                      </a:lnTo>
                      <a:lnTo>
                        <a:pt x="250" y="39"/>
                      </a:lnTo>
                      <a:lnTo>
                        <a:pt x="258" y="55"/>
                      </a:lnTo>
                      <a:lnTo>
                        <a:pt x="265" y="69"/>
                      </a:lnTo>
                      <a:lnTo>
                        <a:pt x="270" y="93"/>
                      </a:lnTo>
                      <a:lnTo>
                        <a:pt x="271" y="117"/>
                      </a:lnTo>
                      <a:lnTo>
                        <a:pt x="271" y="135"/>
                      </a:lnTo>
                      <a:lnTo>
                        <a:pt x="271" y="152"/>
                      </a:lnTo>
                      <a:lnTo>
                        <a:pt x="271" y="176"/>
                      </a:lnTo>
                      <a:lnTo>
                        <a:pt x="279" y="171"/>
                      </a:lnTo>
                      <a:lnTo>
                        <a:pt x="287" y="178"/>
                      </a:lnTo>
                      <a:lnTo>
                        <a:pt x="287" y="205"/>
                      </a:lnTo>
                      <a:lnTo>
                        <a:pt x="280" y="233"/>
                      </a:lnTo>
                      <a:lnTo>
                        <a:pt x="276" y="259"/>
                      </a:lnTo>
                      <a:lnTo>
                        <a:pt x="273" y="271"/>
                      </a:lnTo>
                      <a:lnTo>
                        <a:pt x="264" y="276"/>
                      </a:lnTo>
                      <a:lnTo>
                        <a:pt x="257" y="267"/>
                      </a:lnTo>
                      <a:lnTo>
                        <a:pt x="256" y="294"/>
                      </a:lnTo>
                      <a:lnTo>
                        <a:pt x="252" y="323"/>
                      </a:lnTo>
                      <a:lnTo>
                        <a:pt x="248" y="341"/>
                      </a:lnTo>
                      <a:lnTo>
                        <a:pt x="243" y="391"/>
                      </a:lnTo>
                      <a:lnTo>
                        <a:pt x="166" y="447"/>
                      </a:lnTo>
                      <a:lnTo>
                        <a:pt x="56" y="393"/>
                      </a:lnTo>
                      <a:lnTo>
                        <a:pt x="53" y="349"/>
                      </a:lnTo>
                      <a:lnTo>
                        <a:pt x="44" y="298"/>
                      </a:lnTo>
                      <a:lnTo>
                        <a:pt x="40" y="270"/>
                      </a:lnTo>
                      <a:lnTo>
                        <a:pt x="35" y="276"/>
                      </a:lnTo>
                      <a:lnTo>
                        <a:pt x="23" y="276"/>
                      </a:lnTo>
                      <a:lnTo>
                        <a:pt x="11" y="227"/>
                      </a:lnTo>
                      <a:lnTo>
                        <a:pt x="0" y="189"/>
                      </a:lnTo>
                      <a:lnTo>
                        <a:pt x="3" y="182"/>
                      </a:lnTo>
                      <a:lnTo>
                        <a:pt x="14" y="180"/>
                      </a:lnTo>
                      <a:lnTo>
                        <a:pt x="13" y="160"/>
                      </a:lnTo>
                      <a:lnTo>
                        <a:pt x="12" y="129"/>
                      </a:lnTo>
                      <a:lnTo>
                        <a:pt x="13" y="108"/>
                      </a:lnTo>
                      <a:lnTo>
                        <a:pt x="18" y="82"/>
                      </a:lnTo>
                      <a:lnTo>
                        <a:pt x="29" y="51"/>
                      </a:lnTo>
                      <a:lnTo>
                        <a:pt x="40" y="33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>
                  <a:off x="8193600" y="3325680"/>
                  <a:ext cx="142560" cy="236520"/>
                </a:xfrm>
                <a:custGeom>
                  <a:avLst/>
                  <a:gdLst/>
                  <a:ahLst/>
                  <a:rect l="l" t="t" r="r" b="b"/>
                  <a:pathLst>
                    <a:path w="180" h="445">
                      <a:moveTo>
                        <a:pt x="115" y="54"/>
                      </a:moveTo>
                      <a:lnTo>
                        <a:pt x="96" y="155"/>
                      </a:lnTo>
                      <a:lnTo>
                        <a:pt x="89" y="162"/>
                      </a:lnTo>
                      <a:lnTo>
                        <a:pt x="115" y="163"/>
                      </a:lnTo>
                      <a:lnTo>
                        <a:pt x="140" y="174"/>
                      </a:lnTo>
                      <a:lnTo>
                        <a:pt x="155" y="175"/>
                      </a:lnTo>
                      <a:lnTo>
                        <a:pt x="150" y="267"/>
                      </a:lnTo>
                      <a:lnTo>
                        <a:pt x="180" y="264"/>
                      </a:lnTo>
                      <a:lnTo>
                        <a:pt x="155" y="290"/>
                      </a:lnTo>
                      <a:lnTo>
                        <a:pt x="134" y="272"/>
                      </a:lnTo>
                      <a:lnTo>
                        <a:pt x="121" y="272"/>
                      </a:lnTo>
                      <a:lnTo>
                        <a:pt x="134" y="255"/>
                      </a:lnTo>
                      <a:lnTo>
                        <a:pt x="134" y="207"/>
                      </a:lnTo>
                      <a:lnTo>
                        <a:pt x="75" y="214"/>
                      </a:lnTo>
                      <a:lnTo>
                        <a:pt x="68" y="264"/>
                      </a:lnTo>
                      <a:lnTo>
                        <a:pt x="78" y="298"/>
                      </a:lnTo>
                      <a:lnTo>
                        <a:pt x="116" y="383"/>
                      </a:lnTo>
                      <a:lnTo>
                        <a:pt x="178" y="375"/>
                      </a:lnTo>
                      <a:lnTo>
                        <a:pt x="157" y="445"/>
                      </a:lnTo>
                      <a:lnTo>
                        <a:pt x="56" y="386"/>
                      </a:lnTo>
                      <a:lnTo>
                        <a:pt x="50" y="329"/>
                      </a:lnTo>
                      <a:lnTo>
                        <a:pt x="39" y="262"/>
                      </a:lnTo>
                      <a:lnTo>
                        <a:pt x="32" y="268"/>
                      </a:lnTo>
                      <a:lnTo>
                        <a:pt x="23" y="267"/>
                      </a:lnTo>
                      <a:lnTo>
                        <a:pt x="0" y="181"/>
                      </a:lnTo>
                      <a:lnTo>
                        <a:pt x="3" y="173"/>
                      </a:lnTo>
                      <a:lnTo>
                        <a:pt x="13" y="170"/>
                      </a:lnTo>
                      <a:lnTo>
                        <a:pt x="13" y="143"/>
                      </a:lnTo>
                      <a:lnTo>
                        <a:pt x="11" y="122"/>
                      </a:lnTo>
                      <a:lnTo>
                        <a:pt x="13" y="104"/>
                      </a:lnTo>
                      <a:lnTo>
                        <a:pt x="16" y="84"/>
                      </a:lnTo>
                      <a:lnTo>
                        <a:pt x="22" y="61"/>
                      </a:lnTo>
                      <a:lnTo>
                        <a:pt x="29" y="43"/>
                      </a:lnTo>
                      <a:lnTo>
                        <a:pt x="40" y="25"/>
                      </a:lnTo>
                      <a:lnTo>
                        <a:pt x="62" y="9"/>
                      </a:lnTo>
                      <a:lnTo>
                        <a:pt x="85" y="0"/>
                      </a:lnTo>
                      <a:lnTo>
                        <a:pt x="81" y="13"/>
                      </a:lnTo>
                      <a:lnTo>
                        <a:pt x="76" y="27"/>
                      </a:lnTo>
                      <a:lnTo>
                        <a:pt x="77" y="35"/>
                      </a:lnTo>
                      <a:lnTo>
                        <a:pt x="84" y="42"/>
                      </a:lnTo>
                      <a:lnTo>
                        <a:pt x="91" y="48"/>
                      </a:lnTo>
                      <a:lnTo>
                        <a:pt x="102" y="53"/>
                      </a:lnTo>
                      <a:lnTo>
                        <a:pt x="115" y="54"/>
                      </a:lnTo>
                      <a:close/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 flipH="1">
                <a:off x="8102880" y="3309840"/>
                <a:ext cx="237600" cy="141120"/>
              </a:xfrm>
              <a:custGeom>
                <a:avLst/>
                <a:gdLst/>
                <a:ahLst/>
                <a:rect l="l" t="t" r="r" b="b"/>
                <a:pathLst>
                  <a:path w="299" h="267">
                    <a:moveTo>
                      <a:pt x="22" y="267"/>
                    </a:moveTo>
                    <a:lnTo>
                      <a:pt x="0" y="202"/>
                    </a:lnTo>
                    <a:lnTo>
                      <a:pt x="3" y="130"/>
                    </a:lnTo>
                    <a:lnTo>
                      <a:pt x="10" y="83"/>
                    </a:lnTo>
                    <a:lnTo>
                      <a:pt x="22" y="61"/>
                    </a:lnTo>
                    <a:lnTo>
                      <a:pt x="36" y="43"/>
                    </a:lnTo>
                    <a:lnTo>
                      <a:pt x="61" y="22"/>
                    </a:lnTo>
                    <a:lnTo>
                      <a:pt x="98" y="11"/>
                    </a:lnTo>
                    <a:lnTo>
                      <a:pt x="142" y="0"/>
                    </a:lnTo>
                    <a:lnTo>
                      <a:pt x="187" y="8"/>
                    </a:lnTo>
                    <a:lnTo>
                      <a:pt x="223" y="18"/>
                    </a:lnTo>
                    <a:lnTo>
                      <a:pt x="243" y="27"/>
                    </a:lnTo>
                    <a:lnTo>
                      <a:pt x="266" y="38"/>
                    </a:lnTo>
                    <a:lnTo>
                      <a:pt x="275" y="52"/>
                    </a:lnTo>
                    <a:lnTo>
                      <a:pt x="285" y="76"/>
                    </a:lnTo>
                    <a:lnTo>
                      <a:pt x="297" y="121"/>
                    </a:lnTo>
                    <a:lnTo>
                      <a:pt x="299" y="160"/>
                    </a:lnTo>
                    <a:lnTo>
                      <a:pt x="299" y="195"/>
                    </a:lnTo>
                    <a:lnTo>
                      <a:pt x="299" y="211"/>
                    </a:lnTo>
                    <a:lnTo>
                      <a:pt x="289" y="246"/>
                    </a:lnTo>
                    <a:lnTo>
                      <a:pt x="293" y="204"/>
                    </a:lnTo>
                    <a:lnTo>
                      <a:pt x="273" y="213"/>
                    </a:lnTo>
                    <a:lnTo>
                      <a:pt x="266" y="237"/>
                    </a:lnTo>
                    <a:lnTo>
                      <a:pt x="262" y="214"/>
                    </a:lnTo>
                    <a:lnTo>
                      <a:pt x="266" y="184"/>
                    </a:lnTo>
                    <a:lnTo>
                      <a:pt x="246" y="141"/>
                    </a:lnTo>
                    <a:lnTo>
                      <a:pt x="254" y="118"/>
                    </a:lnTo>
                    <a:lnTo>
                      <a:pt x="227" y="127"/>
                    </a:lnTo>
                    <a:lnTo>
                      <a:pt x="201" y="136"/>
                    </a:lnTo>
                    <a:lnTo>
                      <a:pt x="175" y="133"/>
                    </a:lnTo>
                    <a:lnTo>
                      <a:pt x="153" y="127"/>
                    </a:lnTo>
                    <a:lnTo>
                      <a:pt x="134" y="124"/>
                    </a:lnTo>
                    <a:lnTo>
                      <a:pt x="149" y="136"/>
                    </a:lnTo>
                    <a:lnTo>
                      <a:pt x="137" y="136"/>
                    </a:lnTo>
                    <a:lnTo>
                      <a:pt x="103" y="134"/>
                    </a:lnTo>
                    <a:lnTo>
                      <a:pt x="78" y="122"/>
                    </a:lnTo>
                    <a:lnTo>
                      <a:pt x="59" y="115"/>
                    </a:lnTo>
                    <a:lnTo>
                      <a:pt x="62" y="130"/>
                    </a:lnTo>
                    <a:lnTo>
                      <a:pt x="56" y="157"/>
                    </a:lnTo>
                    <a:lnTo>
                      <a:pt x="48" y="178"/>
                    </a:lnTo>
                    <a:lnTo>
                      <a:pt x="44" y="195"/>
                    </a:lnTo>
                    <a:lnTo>
                      <a:pt x="43" y="214"/>
                    </a:lnTo>
                    <a:lnTo>
                      <a:pt x="43" y="233"/>
                    </a:lnTo>
                    <a:lnTo>
                      <a:pt x="32" y="214"/>
                    </a:lnTo>
                    <a:lnTo>
                      <a:pt x="20" y="212"/>
                    </a:lnTo>
                    <a:lnTo>
                      <a:pt x="11" y="225"/>
                    </a:lnTo>
                    <a:lnTo>
                      <a:pt x="22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7861680" y="4563720"/>
              <a:ext cx="651960" cy="120960"/>
              <a:chOff x="7861680" y="4563720"/>
              <a:chExt cx="651960" cy="120960"/>
            </a:xfrm>
          </p:grpSpPr>
          <p:sp>
            <p:nvSpPr>
              <p:cNvPr id="310" name=""/>
              <p:cNvSpPr/>
              <p:nvPr/>
            </p:nvSpPr>
            <p:spPr>
              <a:xfrm flipH="1">
                <a:off x="8239320" y="4563720"/>
                <a:ext cx="274320" cy="120960"/>
              </a:xfrm>
              <a:custGeom>
                <a:avLst/>
                <a:gdLst/>
                <a:ahLst/>
                <a:rect l="l" t="t" r="r" b="b"/>
                <a:pathLst>
                  <a:path w="346" h="229">
                    <a:moveTo>
                      <a:pt x="165" y="51"/>
                    </a:moveTo>
                    <a:lnTo>
                      <a:pt x="107" y="108"/>
                    </a:lnTo>
                    <a:lnTo>
                      <a:pt x="66" y="140"/>
                    </a:lnTo>
                    <a:lnTo>
                      <a:pt x="0" y="166"/>
                    </a:lnTo>
                    <a:lnTo>
                      <a:pt x="0" y="208"/>
                    </a:lnTo>
                    <a:lnTo>
                      <a:pt x="59" y="229"/>
                    </a:lnTo>
                    <a:lnTo>
                      <a:pt x="150" y="229"/>
                    </a:lnTo>
                    <a:lnTo>
                      <a:pt x="218" y="194"/>
                    </a:lnTo>
                    <a:lnTo>
                      <a:pt x="253" y="162"/>
                    </a:lnTo>
                    <a:lnTo>
                      <a:pt x="346" y="135"/>
                    </a:lnTo>
                    <a:lnTo>
                      <a:pt x="346" y="54"/>
                    </a:lnTo>
                    <a:lnTo>
                      <a:pt x="334" y="0"/>
                    </a:lnTo>
                    <a:lnTo>
                      <a:pt x="165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7861680" y="4570200"/>
                <a:ext cx="296640" cy="106560"/>
              </a:xfrm>
              <a:custGeom>
                <a:avLst/>
                <a:gdLst/>
                <a:ahLst/>
                <a:rect l="l" t="t" r="r" b="b"/>
                <a:pathLst>
                  <a:path w="373" h="202">
                    <a:moveTo>
                      <a:pt x="3" y="8"/>
                    </a:moveTo>
                    <a:lnTo>
                      <a:pt x="0" y="120"/>
                    </a:lnTo>
                    <a:lnTo>
                      <a:pt x="86" y="139"/>
                    </a:lnTo>
                    <a:lnTo>
                      <a:pt x="137" y="162"/>
                    </a:lnTo>
                    <a:lnTo>
                      <a:pt x="224" y="186"/>
                    </a:lnTo>
                    <a:lnTo>
                      <a:pt x="289" y="202"/>
                    </a:lnTo>
                    <a:lnTo>
                      <a:pt x="361" y="190"/>
                    </a:lnTo>
                    <a:lnTo>
                      <a:pt x="373" y="139"/>
                    </a:lnTo>
                    <a:lnTo>
                      <a:pt x="270" y="82"/>
                    </a:lnTo>
                    <a:lnTo>
                      <a:pt x="195" y="35"/>
                    </a:lnTo>
                    <a:lnTo>
                      <a:pt x="156" y="0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8423280" y="4039920"/>
              <a:ext cx="267840" cy="356400"/>
              <a:chOff x="8423280" y="4039920"/>
              <a:chExt cx="267840" cy="35640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8493480" y="4039920"/>
                <a:ext cx="99720" cy="98640"/>
                <a:chOff x="8493480" y="4039920"/>
                <a:chExt cx="99720" cy="9864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8555400" y="4041720"/>
                  <a:ext cx="37800" cy="95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552880" y="4039920"/>
                  <a:ext cx="2520" cy="98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8515800" y="4039920"/>
                  <a:ext cx="34560" cy="81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>
                  <a:off x="8493480" y="4039920"/>
                  <a:ext cx="55440" cy="63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8423280" y="4055760"/>
                <a:ext cx="267840" cy="340560"/>
                <a:chOff x="8423280" y="4055760"/>
                <a:chExt cx="267840" cy="340560"/>
              </a:xfrm>
            </p:grpSpPr>
            <p:sp>
              <p:nvSpPr>
                <p:cNvPr id="319" name=""/>
                <p:cNvSpPr/>
                <p:nvPr/>
              </p:nvSpPr>
              <p:spPr>
                <a:xfrm flipH="1">
                  <a:off x="8594640" y="4365360"/>
                  <a:ext cx="96120" cy="30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126" y="904"/>
                      </a:moveTo>
                      <a:arcTo wR="10800" hR="10800" stAng="-3983223" swAng="210650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126" y="904"/>
                      </a:moveTo>
                      <a:arcTo wR="10800" hR="10800" stAng="-3983223" swAng="21065063"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>
                  <a:off x="8467200" y="4057560"/>
                  <a:ext cx="223560" cy="325440"/>
                </a:xfrm>
                <a:custGeom>
                  <a:avLst/>
                  <a:gdLst/>
                  <a:ahLst/>
                  <a:rect l="l" t="t" r="r" b="b"/>
                  <a:pathLst>
                    <a:path w="283" h="613">
                      <a:moveTo>
                        <a:pt x="45" y="173"/>
                      </a:moveTo>
                      <a:lnTo>
                        <a:pt x="280" y="0"/>
                      </a:lnTo>
                      <a:lnTo>
                        <a:pt x="283" y="19"/>
                      </a:lnTo>
                      <a:lnTo>
                        <a:pt x="280" y="399"/>
                      </a:lnTo>
                      <a:lnTo>
                        <a:pt x="0" y="613"/>
                      </a:lnTo>
                      <a:lnTo>
                        <a:pt x="45" y="173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8442000" y="4063680"/>
                  <a:ext cx="247320" cy="320760"/>
                </a:xfrm>
                <a:custGeom>
                  <a:avLst/>
                  <a:gdLst/>
                  <a:ahLst/>
                  <a:rect l="l" t="t" r="r" b="b"/>
                  <a:pathLst>
                    <a:path w="312" h="606">
                      <a:moveTo>
                        <a:pt x="49" y="168"/>
                      </a:moveTo>
                      <a:lnTo>
                        <a:pt x="0" y="594"/>
                      </a:lnTo>
                      <a:lnTo>
                        <a:pt x="14" y="585"/>
                      </a:lnTo>
                      <a:lnTo>
                        <a:pt x="21" y="602"/>
                      </a:lnTo>
                      <a:lnTo>
                        <a:pt x="34" y="590"/>
                      </a:lnTo>
                      <a:lnTo>
                        <a:pt x="45" y="605"/>
                      </a:lnTo>
                      <a:lnTo>
                        <a:pt x="56" y="594"/>
                      </a:lnTo>
                      <a:lnTo>
                        <a:pt x="68" y="606"/>
                      </a:lnTo>
                      <a:lnTo>
                        <a:pt x="81" y="593"/>
                      </a:lnTo>
                      <a:lnTo>
                        <a:pt x="97" y="606"/>
                      </a:lnTo>
                      <a:lnTo>
                        <a:pt x="106" y="588"/>
                      </a:lnTo>
                      <a:lnTo>
                        <a:pt x="120" y="599"/>
                      </a:lnTo>
                      <a:lnTo>
                        <a:pt x="94" y="178"/>
                      </a:lnTo>
                      <a:lnTo>
                        <a:pt x="312" y="6"/>
                      </a:lnTo>
                      <a:lnTo>
                        <a:pt x="296" y="12"/>
                      </a:lnTo>
                      <a:lnTo>
                        <a:pt x="285" y="5"/>
                      </a:lnTo>
                      <a:lnTo>
                        <a:pt x="281" y="13"/>
                      </a:lnTo>
                      <a:lnTo>
                        <a:pt x="270" y="0"/>
                      </a:lnTo>
                      <a:lnTo>
                        <a:pt x="49" y="1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>
                  <a:off x="8423280" y="4055760"/>
                  <a:ext cx="195120" cy="330480"/>
                </a:xfrm>
                <a:custGeom>
                  <a:avLst/>
                  <a:gdLst/>
                  <a:ahLst/>
                  <a:rect l="l" t="t" r="r" b="b"/>
                  <a:pathLst>
                    <a:path w="244" h="622">
                      <a:moveTo>
                        <a:pt x="0" y="182"/>
                      </a:moveTo>
                      <a:lnTo>
                        <a:pt x="229" y="0"/>
                      </a:lnTo>
                      <a:lnTo>
                        <a:pt x="243" y="57"/>
                      </a:lnTo>
                      <a:lnTo>
                        <a:pt x="244" y="390"/>
                      </a:lnTo>
                      <a:lnTo>
                        <a:pt x="26" y="622"/>
                      </a:lnTo>
                      <a:lnTo>
                        <a:pt x="0" y="182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3" name=""/>
            <p:cNvSpPr/>
            <p:nvPr/>
          </p:nvSpPr>
          <p:spPr>
            <a:xfrm flipH="1">
              <a:off x="8458200" y="3984480"/>
              <a:ext cx="155520" cy="82440"/>
            </a:xfrm>
            <a:custGeom>
              <a:avLst/>
              <a:gdLst/>
              <a:ahLst/>
              <a:rect l="l" t="t" r="r" b="b"/>
              <a:pathLst>
                <a:path w="195" h="154">
                  <a:moveTo>
                    <a:pt x="57" y="15"/>
                  </a:moveTo>
                  <a:lnTo>
                    <a:pt x="16" y="52"/>
                  </a:lnTo>
                  <a:lnTo>
                    <a:pt x="0" y="99"/>
                  </a:lnTo>
                  <a:lnTo>
                    <a:pt x="43" y="145"/>
                  </a:lnTo>
                  <a:lnTo>
                    <a:pt x="84" y="154"/>
                  </a:lnTo>
                  <a:lnTo>
                    <a:pt x="115" y="141"/>
                  </a:lnTo>
                  <a:lnTo>
                    <a:pt x="145" y="149"/>
                  </a:lnTo>
                  <a:lnTo>
                    <a:pt x="180" y="107"/>
                  </a:lnTo>
                  <a:lnTo>
                    <a:pt x="195" y="56"/>
                  </a:lnTo>
                  <a:lnTo>
                    <a:pt x="156" y="0"/>
                  </a:lnTo>
                  <a:lnTo>
                    <a:pt x="57" y="15"/>
                  </a:lnTo>
                  <a:close/>
                </a:path>
              </a:pathLst>
            </a:custGeom>
            <a:solidFill>
              <a:srgbClr val="ffb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7848720" y="3522600"/>
              <a:ext cx="726840" cy="1081080"/>
              <a:chOff x="7848720" y="3522600"/>
              <a:chExt cx="726840" cy="1081080"/>
            </a:xfrm>
          </p:grpSpPr>
          <p:sp>
            <p:nvSpPr>
              <p:cNvPr id="325" name=""/>
              <p:cNvSpPr/>
              <p:nvPr/>
            </p:nvSpPr>
            <p:spPr>
              <a:xfrm flipH="1">
                <a:off x="8120160" y="3522600"/>
                <a:ext cx="193320" cy="361800"/>
              </a:xfrm>
              <a:custGeom>
                <a:avLst/>
                <a:gdLst/>
                <a:ahLst/>
                <a:rect l="l" t="t" r="r" b="b"/>
                <a:pathLst>
                  <a:path w="243" h="686">
                    <a:moveTo>
                      <a:pt x="143" y="686"/>
                    </a:moveTo>
                    <a:lnTo>
                      <a:pt x="0" y="43"/>
                    </a:lnTo>
                    <a:lnTo>
                      <a:pt x="27" y="6"/>
                    </a:lnTo>
                    <a:lnTo>
                      <a:pt x="123" y="58"/>
                    </a:lnTo>
                    <a:lnTo>
                      <a:pt x="215" y="0"/>
                    </a:lnTo>
                    <a:lnTo>
                      <a:pt x="243" y="36"/>
                    </a:lnTo>
                    <a:lnTo>
                      <a:pt x="143" y="686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8169840" y="3551040"/>
                <a:ext cx="72720" cy="325440"/>
              </a:xfrm>
              <a:custGeom>
                <a:avLst/>
                <a:gdLst/>
                <a:ahLst/>
                <a:rect l="l" t="t" r="r" b="b"/>
                <a:pathLst>
                  <a:path w="91" h="615">
                    <a:moveTo>
                      <a:pt x="28" y="0"/>
                    </a:moveTo>
                    <a:lnTo>
                      <a:pt x="37" y="0"/>
                    </a:lnTo>
                    <a:lnTo>
                      <a:pt x="68" y="45"/>
                    </a:lnTo>
                    <a:lnTo>
                      <a:pt x="50" y="77"/>
                    </a:lnTo>
                    <a:lnTo>
                      <a:pt x="74" y="158"/>
                    </a:lnTo>
                    <a:lnTo>
                      <a:pt x="89" y="233"/>
                    </a:lnTo>
                    <a:lnTo>
                      <a:pt x="91" y="320"/>
                    </a:lnTo>
                    <a:lnTo>
                      <a:pt x="82" y="503"/>
                    </a:lnTo>
                    <a:lnTo>
                      <a:pt x="78" y="613"/>
                    </a:lnTo>
                    <a:lnTo>
                      <a:pt x="28" y="615"/>
                    </a:lnTo>
                    <a:lnTo>
                      <a:pt x="18" y="501"/>
                    </a:lnTo>
                    <a:lnTo>
                      <a:pt x="3" y="320"/>
                    </a:lnTo>
                    <a:lnTo>
                      <a:pt x="3" y="235"/>
                    </a:lnTo>
                    <a:lnTo>
                      <a:pt x="10" y="159"/>
                    </a:lnTo>
                    <a:lnTo>
                      <a:pt x="24" y="80"/>
                    </a:lnTo>
                    <a:lnTo>
                      <a:pt x="0" y="5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7848720" y="3536640"/>
                <a:ext cx="726840" cy="1067040"/>
                <a:chOff x="7848720" y="3536640"/>
                <a:chExt cx="726840" cy="1067040"/>
              </a:xfrm>
            </p:grpSpPr>
            <p:sp>
              <p:nvSpPr>
                <p:cNvPr id="328" name=""/>
                <p:cNvSpPr/>
                <p:nvPr/>
              </p:nvSpPr>
              <p:spPr>
                <a:xfrm flipH="1">
                  <a:off x="7848360" y="3536640"/>
                  <a:ext cx="726840" cy="1067040"/>
                </a:xfrm>
                <a:custGeom>
                  <a:avLst/>
                  <a:gdLst/>
                  <a:ahLst/>
                  <a:rect l="l" t="t" r="r" b="b"/>
                  <a:pathLst>
                    <a:path w="915" h="2015">
                      <a:moveTo>
                        <a:pt x="333" y="10"/>
                      </a:moveTo>
                      <a:lnTo>
                        <a:pt x="154" y="99"/>
                      </a:lnTo>
                      <a:lnTo>
                        <a:pt x="39" y="426"/>
                      </a:lnTo>
                      <a:lnTo>
                        <a:pt x="12" y="551"/>
                      </a:lnTo>
                      <a:lnTo>
                        <a:pt x="0" y="864"/>
                      </a:lnTo>
                      <a:lnTo>
                        <a:pt x="122" y="862"/>
                      </a:lnTo>
                      <a:lnTo>
                        <a:pt x="132" y="587"/>
                      </a:lnTo>
                      <a:lnTo>
                        <a:pt x="215" y="387"/>
                      </a:lnTo>
                      <a:lnTo>
                        <a:pt x="226" y="683"/>
                      </a:lnTo>
                      <a:lnTo>
                        <a:pt x="211" y="1001"/>
                      </a:lnTo>
                      <a:lnTo>
                        <a:pt x="265" y="1008"/>
                      </a:lnTo>
                      <a:lnTo>
                        <a:pt x="256" y="1418"/>
                      </a:lnTo>
                      <a:lnTo>
                        <a:pt x="242" y="1999"/>
                      </a:lnTo>
                      <a:lnTo>
                        <a:pt x="318" y="2015"/>
                      </a:lnTo>
                      <a:lnTo>
                        <a:pt x="411" y="1976"/>
                      </a:lnTo>
                      <a:lnTo>
                        <a:pt x="483" y="1024"/>
                      </a:lnTo>
                      <a:lnTo>
                        <a:pt x="510" y="1566"/>
                      </a:lnTo>
                      <a:lnTo>
                        <a:pt x="529" y="1980"/>
                      </a:lnTo>
                      <a:lnTo>
                        <a:pt x="632" y="2015"/>
                      </a:lnTo>
                      <a:lnTo>
                        <a:pt x="716" y="2007"/>
                      </a:lnTo>
                      <a:lnTo>
                        <a:pt x="687" y="1247"/>
                      </a:lnTo>
                      <a:lnTo>
                        <a:pt x="701" y="1001"/>
                      </a:lnTo>
                      <a:lnTo>
                        <a:pt x="731" y="985"/>
                      </a:lnTo>
                      <a:lnTo>
                        <a:pt x="754" y="900"/>
                      </a:lnTo>
                      <a:lnTo>
                        <a:pt x="762" y="828"/>
                      </a:lnTo>
                      <a:lnTo>
                        <a:pt x="915" y="649"/>
                      </a:lnTo>
                      <a:lnTo>
                        <a:pt x="778" y="100"/>
                      </a:lnTo>
                      <a:lnTo>
                        <a:pt x="568" y="0"/>
                      </a:lnTo>
                      <a:lnTo>
                        <a:pt x="473" y="636"/>
                      </a:lnTo>
                      <a:lnTo>
                        <a:pt x="333" y="1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9" name=""/>
                <p:cNvGrpSpPr/>
                <p:nvPr/>
              </p:nvGrpSpPr>
              <p:grpSpPr>
                <a:xfrm>
                  <a:off x="8175960" y="3902040"/>
                  <a:ext cx="29880" cy="56880"/>
                  <a:chOff x="8175960" y="3902040"/>
                  <a:chExt cx="29880" cy="568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>
                    <a:off x="8175600" y="3902040"/>
                    <a:ext cx="29880" cy="19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8175600" y="3936960"/>
                    <a:ext cx="29880" cy="21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32" name=""/>
          <p:cNvSpPr/>
          <p:nvPr/>
        </p:nvSpPr>
        <p:spPr>
          <a:xfrm flipH="1">
            <a:off x="4911120" y="3745080"/>
            <a:ext cx="415800" cy="982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71120" y="1700280"/>
            <a:ext cx="6656400" cy="1859400"/>
            <a:chOff x="771120" y="1700280"/>
            <a:chExt cx="6656400" cy="1859400"/>
          </a:xfrm>
        </p:grpSpPr>
        <p:sp>
          <p:nvSpPr>
            <p:cNvPr id="334" name=""/>
            <p:cNvSpPr/>
            <p:nvPr/>
          </p:nvSpPr>
          <p:spPr>
            <a:xfrm flipH="1">
              <a:off x="770760" y="1700280"/>
              <a:ext cx="5172120" cy="1598400"/>
            </a:xfrm>
            <a:prstGeom prst="wedgeRoundRectCallout">
              <a:avLst>
                <a:gd name="adj1" fmla="val -78546"/>
                <a:gd name="adj2" fmla="val 53671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066320" y="1746360"/>
              <a:ext cx="45651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&gt; import grid_imp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&gt; factory = grid_impl.FACTORY (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register to a Name Servi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and wait for ORB reque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6" name=""/>
            <p:cNvCxnSpPr/>
            <p:nvPr/>
          </p:nvCxnSpPr>
          <p:spPr>
            <a:xfrm rot="5400000">
              <a:off x="6588000" y="2720160"/>
              <a:ext cx="465840" cy="1213560"/>
            </a:xfrm>
            <a:prstGeom prst="curvedConnector5">
              <a:avLst>
                <a:gd name="adj1" fmla="val 49806"/>
                <a:gd name="adj2" fmla="val 50000"/>
                <a:gd name="adj3" fmla="val 49806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7" name=""/>
          <p:cNvSpPr/>
          <p:nvPr/>
        </p:nvSpPr>
        <p:spPr>
          <a:xfrm>
            <a:off x="6110280" y="1758960"/>
            <a:ext cx="2438280" cy="13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8153280" y="1758960"/>
            <a:ext cx="39528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44760" y="1790640"/>
            <a:ext cx="256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grid_impl.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ass FACTORY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ass GRID 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774720" y="3070080"/>
            <a:ext cx="2865240" cy="1839600"/>
            <a:chOff x="774720" y="3070080"/>
            <a:chExt cx="2865240" cy="1839600"/>
          </a:xfrm>
        </p:grpSpPr>
        <p:sp>
          <p:nvSpPr>
            <p:cNvPr id="341" name=""/>
            <p:cNvSpPr/>
            <p:nvPr/>
          </p:nvSpPr>
          <p:spPr>
            <a:xfrm>
              <a:off x="2279520" y="4401000"/>
              <a:ext cx="4320" cy="50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74720" y="3070080"/>
              <a:ext cx="2865240" cy="1330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IDLcri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II    DSI     IFR SI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4720" y="3945960"/>
              <a:ext cx="28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2279520" y="3935880"/>
              <a:ext cx="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1534680" y="3945600"/>
              <a:ext cx="0" cy="45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961560" y="3605040"/>
              <a:ext cx="1196280" cy="252000"/>
              <a:chOff x="961560" y="3605040"/>
              <a:chExt cx="1196280" cy="252000"/>
            </a:xfrm>
          </p:grpSpPr>
          <p:sp>
            <p:nvSpPr>
              <p:cNvPr id="347" name=""/>
              <p:cNvSpPr/>
              <p:nvPr/>
            </p:nvSpPr>
            <p:spPr>
              <a:xfrm>
                <a:off x="961560" y="3729960"/>
                <a:ext cx="415800" cy="127080"/>
              </a:xfrm>
              <a:prstGeom prst="ellipse">
                <a:avLst/>
              </a:prstGeom>
              <a:solidFill>
                <a:srgbClr val="cc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742400" y="3605040"/>
                <a:ext cx="415440" cy="124920"/>
              </a:xfrm>
              <a:prstGeom prst="ellipse">
                <a:avLst/>
              </a:prstGeom>
              <a:solidFill>
                <a:srgbClr val="cc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 flipH="1">
              <a:off x="904680" y="3306240"/>
              <a:ext cx="415440" cy="1249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530680" y="3070080"/>
            <a:ext cx="2865600" cy="1839600"/>
            <a:chOff x="5530680" y="3070080"/>
            <a:chExt cx="2865600" cy="1839600"/>
          </a:xfrm>
        </p:grpSpPr>
        <p:sp>
          <p:nvSpPr>
            <p:cNvPr id="351" name=""/>
            <p:cNvSpPr/>
            <p:nvPr/>
          </p:nvSpPr>
          <p:spPr>
            <a:xfrm>
              <a:off x="7035840" y="4401000"/>
              <a:ext cx="4680" cy="50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530680" y="3070080"/>
              <a:ext cx="2865600" cy="1330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IDLscri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II    DSI     IFR SI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30680" y="3945960"/>
              <a:ext cx="286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035840" y="3935880"/>
              <a:ext cx="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91000" y="3945600"/>
              <a:ext cx="0" cy="45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5717880" y="3605040"/>
              <a:ext cx="1197000" cy="252000"/>
              <a:chOff x="5717880" y="3605040"/>
              <a:chExt cx="1197000" cy="252000"/>
            </a:xfrm>
          </p:grpSpPr>
          <p:sp>
            <p:nvSpPr>
              <p:cNvPr id="357" name=""/>
              <p:cNvSpPr/>
              <p:nvPr/>
            </p:nvSpPr>
            <p:spPr>
              <a:xfrm>
                <a:off x="5717880" y="3729960"/>
                <a:ext cx="416160" cy="127080"/>
              </a:xfrm>
              <a:prstGeom prst="ellipse">
                <a:avLst/>
              </a:prstGeom>
              <a:solidFill>
                <a:srgbClr val="cc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499080" y="3605040"/>
                <a:ext cx="415800" cy="124920"/>
              </a:xfrm>
              <a:prstGeom prst="ellipse">
                <a:avLst/>
              </a:prstGeom>
              <a:solidFill>
                <a:srgbClr val="cc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 flipH="1">
              <a:off x="5660280" y="3306240"/>
              <a:ext cx="415800" cy="1249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ORBA for End-Us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"/>
          <p:cNvSpPr/>
          <p:nvPr/>
        </p:nvSpPr>
        <p:spPr>
          <a:xfrm>
            <a:off x="4597560" y="4406760"/>
            <a:ext cx="0" cy="52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86200" y="3029040"/>
            <a:ext cx="1347840" cy="13777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52880" y="3090960"/>
            <a:ext cx="11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4560" y="3936960"/>
            <a:ext cx="463680" cy="4017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4624560"/>
            <a:ext cx="7939080" cy="812520"/>
          </a:xfrm>
          <a:prstGeom prst="leftRightArrow">
            <a:avLst>
              <a:gd name="adj1" fmla="val 50120"/>
              <a:gd name="adj2" fmla="val 10901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79120" y="5483160"/>
            <a:ext cx="573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ate complex client/server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BA becomes simple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ser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51600" y="4552920"/>
            <a:ext cx="1046160" cy="609480"/>
          </a:xfrm>
          <a:custGeom>
            <a:avLst/>
            <a:gdLst>
              <a:gd name="textAreaLeft" fmla="*/ 315360 w 1046160"/>
              <a:gd name="textAreaRight" fmla="*/ 817560 w 1046160"/>
              <a:gd name="textAreaTop" fmla="*/ 417600 h 609480"/>
              <a:gd name="textAreaBottom" fmla="*/ 476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840"/>
                </a:moveTo>
                <a:lnTo>
                  <a:pt x="6516" y="10080"/>
                </a:lnTo>
                <a:lnTo>
                  <a:pt x="6516" y="14803"/>
                </a:lnTo>
                <a:lnTo>
                  <a:pt x="14803" y="14803"/>
                </a:lnTo>
                <a:lnTo>
                  <a:pt x="14803" y="6516"/>
                </a:lnTo>
                <a:lnTo>
                  <a:pt x="10080" y="6516"/>
                </a:lnTo>
                <a:lnTo>
                  <a:pt x="15840" y="0"/>
                </a:lnTo>
                <a:lnTo>
                  <a:pt x="21600" y="6516"/>
                </a:lnTo>
                <a:lnTo>
                  <a:pt x="16877" y="6516"/>
                </a:lnTo>
                <a:lnTo>
                  <a:pt x="16877" y="16877"/>
                </a:lnTo>
                <a:lnTo>
                  <a:pt x="6516" y="16877"/>
                </a:lnTo>
                <a:lnTo>
                  <a:pt x="6516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1781280" y="4552920"/>
            <a:ext cx="1046160" cy="609480"/>
          </a:xfrm>
          <a:custGeom>
            <a:avLst/>
            <a:gdLst>
              <a:gd name="textAreaLeft" fmla="*/ 315720 w 1046160"/>
              <a:gd name="textAreaRight" fmla="*/ 817920 w 1046160"/>
              <a:gd name="textAreaTop" fmla="*/ 417600 h 609480"/>
              <a:gd name="textAreaBottom" fmla="*/ 476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840"/>
                </a:moveTo>
                <a:lnTo>
                  <a:pt x="6516" y="10080"/>
                </a:lnTo>
                <a:lnTo>
                  <a:pt x="6516" y="14803"/>
                </a:lnTo>
                <a:lnTo>
                  <a:pt x="14803" y="14803"/>
                </a:lnTo>
                <a:lnTo>
                  <a:pt x="14803" y="6516"/>
                </a:lnTo>
                <a:lnTo>
                  <a:pt x="10080" y="6516"/>
                </a:lnTo>
                <a:lnTo>
                  <a:pt x="15840" y="0"/>
                </a:lnTo>
                <a:lnTo>
                  <a:pt x="21600" y="6516"/>
                </a:lnTo>
                <a:lnTo>
                  <a:pt x="16877" y="6516"/>
                </a:lnTo>
                <a:lnTo>
                  <a:pt x="16877" y="16877"/>
                </a:lnTo>
                <a:lnTo>
                  <a:pt x="6516" y="16877"/>
                </a:lnTo>
                <a:lnTo>
                  <a:pt x="6516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7742160" y="1735200"/>
            <a:ext cx="792000" cy="1291680"/>
            <a:chOff x="7742160" y="1735200"/>
            <a:chExt cx="792000" cy="1291680"/>
          </a:xfrm>
        </p:grpSpPr>
        <p:grpSp>
          <p:nvGrpSpPr>
            <p:cNvPr id="370" name=""/>
            <p:cNvGrpSpPr/>
            <p:nvPr/>
          </p:nvGrpSpPr>
          <p:grpSpPr>
            <a:xfrm>
              <a:off x="7981560" y="1735200"/>
              <a:ext cx="222480" cy="235440"/>
              <a:chOff x="7981560" y="1735200"/>
              <a:chExt cx="222480" cy="23544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7984800" y="1746000"/>
                <a:ext cx="214560" cy="224640"/>
                <a:chOff x="7984800" y="1746000"/>
                <a:chExt cx="214560" cy="224640"/>
              </a:xfrm>
            </p:grpSpPr>
            <p:sp>
              <p:nvSpPr>
                <p:cNvPr id="372" name=""/>
                <p:cNvSpPr/>
                <p:nvPr/>
              </p:nvSpPr>
              <p:spPr>
                <a:xfrm flipH="1">
                  <a:off x="7984800" y="1746000"/>
                  <a:ext cx="214560" cy="222120"/>
                </a:xfrm>
                <a:custGeom>
                  <a:avLst/>
                  <a:gdLst/>
                  <a:ahLst/>
                  <a:rect l="l" t="t" r="r" b="b"/>
                  <a:pathLst>
                    <a:path w="270" h="419">
                      <a:moveTo>
                        <a:pt x="38" y="30"/>
                      </a:moveTo>
                      <a:lnTo>
                        <a:pt x="58" y="16"/>
                      </a:lnTo>
                      <a:lnTo>
                        <a:pt x="85" y="6"/>
                      </a:lnTo>
                      <a:lnTo>
                        <a:pt x="115" y="0"/>
                      </a:lnTo>
                      <a:lnTo>
                        <a:pt x="141" y="0"/>
                      </a:lnTo>
                      <a:lnTo>
                        <a:pt x="172" y="2"/>
                      </a:lnTo>
                      <a:lnTo>
                        <a:pt x="200" y="9"/>
                      </a:lnTo>
                      <a:lnTo>
                        <a:pt x="221" y="21"/>
                      </a:lnTo>
                      <a:lnTo>
                        <a:pt x="235" y="36"/>
                      </a:lnTo>
                      <a:lnTo>
                        <a:pt x="242" y="51"/>
                      </a:lnTo>
                      <a:lnTo>
                        <a:pt x="249" y="64"/>
                      </a:lnTo>
                      <a:lnTo>
                        <a:pt x="254" y="87"/>
                      </a:lnTo>
                      <a:lnTo>
                        <a:pt x="255" y="110"/>
                      </a:lnTo>
                      <a:lnTo>
                        <a:pt x="255" y="127"/>
                      </a:lnTo>
                      <a:lnTo>
                        <a:pt x="255" y="142"/>
                      </a:lnTo>
                      <a:lnTo>
                        <a:pt x="255" y="165"/>
                      </a:lnTo>
                      <a:lnTo>
                        <a:pt x="262" y="160"/>
                      </a:lnTo>
                      <a:lnTo>
                        <a:pt x="270" y="167"/>
                      </a:lnTo>
                      <a:lnTo>
                        <a:pt x="270" y="192"/>
                      </a:lnTo>
                      <a:lnTo>
                        <a:pt x="264" y="218"/>
                      </a:lnTo>
                      <a:lnTo>
                        <a:pt x="259" y="243"/>
                      </a:lnTo>
                      <a:lnTo>
                        <a:pt x="257" y="254"/>
                      </a:lnTo>
                      <a:lnTo>
                        <a:pt x="248" y="259"/>
                      </a:lnTo>
                      <a:lnTo>
                        <a:pt x="241" y="251"/>
                      </a:lnTo>
                      <a:lnTo>
                        <a:pt x="240" y="276"/>
                      </a:lnTo>
                      <a:lnTo>
                        <a:pt x="237" y="303"/>
                      </a:lnTo>
                      <a:lnTo>
                        <a:pt x="234" y="320"/>
                      </a:lnTo>
                      <a:lnTo>
                        <a:pt x="228" y="367"/>
                      </a:lnTo>
                      <a:lnTo>
                        <a:pt x="156" y="419"/>
                      </a:lnTo>
                      <a:lnTo>
                        <a:pt x="52" y="368"/>
                      </a:lnTo>
                      <a:lnTo>
                        <a:pt x="50" y="328"/>
                      </a:lnTo>
                      <a:lnTo>
                        <a:pt x="41" y="279"/>
                      </a:lnTo>
                      <a:lnTo>
                        <a:pt x="38" y="253"/>
                      </a:lnTo>
                      <a:lnTo>
                        <a:pt x="32" y="259"/>
                      </a:lnTo>
                      <a:lnTo>
                        <a:pt x="21" y="259"/>
                      </a:lnTo>
                      <a:lnTo>
                        <a:pt x="10" y="212"/>
                      </a:lnTo>
                      <a:lnTo>
                        <a:pt x="0" y="177"/>
                      </a:lnTo>
                      <a:lnTo>
                        <a:pt x="2" y="171"/>
                      </a:lnTo>
                      <a:lnTo>
                        <a:pt x="14" y="168"/>
                      </a:lnTo>
                      <a:lnTo>
                        <a:pt x="12" y="150"/>
                      </a:lnTo>
                      <a:lnTo>
                        <a:pt x="11" y="121"/>
                      </a:lnTo>
                      <a:lnTo>
                        <a:pt x="12" y="101"/>
                      </a:lnTo>
                      <a:lnTo>
                        <a:pt x="17" y="77"/>
                      </a:lnTo>
                      <a:lnTo>
                        <a:pt x="27" y="47"/>
                      </a:lnTo>
                      <a:lnTo>
                        <a:pt x="38" y="30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>
                  <a:off x="8065440" y="1750680"/>
                  <a:ext cx="133560" cy="219960"/>
                </a:xfrm>
                <a:custGeom>
                  <a:avLst/>
                  <a:gdLst/>
                  <a:ahLst/>
                  <a:rect l="l" t="t" r="r" b="b"/>
                  <a:pathLst>
                    <a:path w="169" h="418">
                      <a:moveTo>
                        <a:pt x="108" y="51"/>
                      </a:moveTo>
                      <a:lnTo>
                        <a:pt x="90" y="146"/>
                      </a:lnTo>
                      <a:lnTo>
                        <a:pt x="84" y="152"/>
                      </a:lnTo>
                      <a:lnTo>
                        <a:pt x="108" y="153"/>
                      </a:lnTo>
                      <a:lnTo>
                        <a:pt x="131" y="164"/>
                      </a:lnTo>
                      <a:lnTo>
                        <a:pt x="146" y="165"/>
                      </a:lnTo>
                      <a:lnTo>
                        <a:pt x="141" y="251"/>
                      </a:lnTo>
                      <a:lnTo>
                        <a:pt x="169" y="248"/>
                      </a:lnTo>
                      <a:lnTo>
                        <a:pt x="146" y="272"/>
                      </a:lnTo>
                      <a:lnTo>
                        <a:pt x="126" y="255"/>
                      </a:lnTo>
                      <a:lnTo>
                        <a:pt x="114" y="255"/>
                      </a:lnTo>
                      <a:lnTo>
                        <a:pt x="126" y="239"/>
                      </a:lnTo>
                      <a:lnTo>
                        <a:pt x="126" y="194"/>
                      </a:lnTo>
                      <a:lnTo>
                        <a:pt x="70" y="201"/>
                      </a:lnTo>
                      <a:lnTo>
                        <a:pt x="64" y="248"/>
                      </a:lnTo>
                      <a:lnTo>
                        <a:pt x="74" y="280"/>
                      </a:lnTo>
                      <a:lnTo>
                        <a:pt x="109" y="360"/>
                      </a:lnTo>
                      <a:lnTo>
                        <a:pt x="167" y="352"/>
                      </a:lnTo>
                      <a:lnTo>
                        <a:pt x="148" y="418"/>
                      </a:lnTo>
                      <a:lnTo>
                        <a:pt x="52" y="363"/>
                      </a:lnTo>
                      <a:lnTo>
                        <a:pt x="47" y="309"/>
                      </a:lnTo>
                      <a:lnTo>
                        <a:pt x="37" y="246"/>
                      </a:lnTo>
                      <a:lnTo>
                        <a:pt x="30" y="252"/>
                      </a:lnTo>
                      <a:lnTo>
                        <a:pt x="21" y="251"/>
                      </a:lnTo>
                      <a:lnTo>
                        <a:pt x="0" y="170"/>
                      </a:lnTo>
                      <a:lnTo>
                        <a:pt x="2" y="162"/>
                      </a:lnTo>
                      <a:lnTo>
                        <a:pt x="12" y="160"/>
                      </a:lnTo>
                      <a:lnTo>
                        <a:pt x="12" y="134"/>
                      </a:lnTo>
                      <a:lnTo>
                        <a:pt x="10" y="115"/>
                      </a:lnTo>
                      <a:lnTo>
                        <a:pt x="12" y="98"/>
                      </a:lnTo>
                      <a:lnTo>
                        <a:pt x="15" y="79"/>
                      </a:lnTo>
                      <a:lnTo>
                        <a:pt x="20" y="57"/>
                      </a:lnTo>
                      <a:lnTo>
                        <a:pt x="27" y="40"/>
                      </a:lnTo>
                      <a:lnTo>
                        <a:pt x="38" y="23"/>
                      </a:lnTo>
                      <a:lnTo>
                        <a:pt x="58" y="9"/>
                      </a:lnTo>
                      <a:lnTo>
                        <a:pt x="80" y="0"/>
                      </a:lnTo>
                      <a:lnTo>
                        <a:pt x="76" y="12"/>
                      </a:lnTo>
                      <a:lnTo>
                        <a:pt x="71" y="26"/>
                      </a:lnTo>
                      <a:lnTo>
                        <a:pt x="72" y="32"/>
                      </a:lnTo>
                      <a:lnTo>
                        <a:pt x="79" y="39"/>
                      </a:lnTo>
                      <a:lnTo>
                        <a:pt x="86" y="45"/>
                      </a:lnTo>
                      <a:lnTo>
                        <a:pt x="96" y="49"/>
                      </a:lnTo>
                      <a:lnTo>
                        <a:pt x="108" y="51"/>
                      </a:lnTo>
                      <a:close/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 flipH="1">
                <a:off x="7981560" y="1735200"/>
                <a:ext cx="222480" cy="131400"/>
              </a:xfrm>
              <a:custGeom>
                <a:avLst/>
                <a:gdLst/>
                <a:ahLst/>
                <a:rect l="l" t="t" r="r" b="b"/>
                <a:pathLst>
                  <a:path w="281" h="251">
                    <a:moveTo>
                      <a:pt x="20" y="251"/>
                    </a:moveTo>
                    <a:lnTo>
                      <a:pt x="0" y="190"/>
                    </a:lnTo>
                    <a:lnTo>
                      <a:pt x="2" y="122"/>
                    </a:lnTo>
                    <a:lnTo>
                      <a:pt x="9" y="78"/>
                    </a:lnTo>
                    <a:lnTo>
                      <a:pt x="20" y="57"/>
                    </a:lnTo>
                    <a:lnTo>
                      <a:pt x="33" y="40"/>
                    </a:lnTo>
                    <a:lnTo>
                      <a:pt x="56" y="21"/>
                    </a:lnTo>
                    <a:lnTo>
                      <a:pt x="92" y="10"/>
                    </a:lnTo>
                    <a:lnTo>
                      <a:pt x="133" y="0"/>
                    </a:lnTo>
                    <a:lnTo>
                      <a:pt x="175" y="7"/>
                    </a:lnTo>
                    <a:lnTo>
                      <a:pt x="209" y="17"/>
                    </a:lnTo>
                    <a:lnTo>
                      <a:pt x="227" y="25"/>
                    </a:lnTo>
                    <a:lnTo>
                      <a:pt x="250" y="35"/>
                    </a:lnTo>
                    <a:lnTo>
                      <a:pt x="257" y="49"/>
                    </a:lnTo>
                    <a:lnTo>
                      <a:pt x="267" y="71"/>
                    </a:lnTo>
                    <a:lnTo>
                      <a:pt x="279" y="113"/>
                    </a:lnTo>
                    <a:lnTo>
                      <a:pt x="281" y="151"/>
                    </a:lnTo>
                    <a:lnTo>
                      <a:pt x="281" y="183"/>
                    </a:lnTo>
                    <a:lnTo>
                      <a:pt x="281" y="198"/>
                    </a:lnTo>
                    <a:lnTo>
                      <a:pt x="271" y="231"/>
                    </a:lnTo>
                    <a:lnTo>
                      <a:pt x="275" y="191"/>
                    </a:lnTo>
                    <a:lnTo>
                      <a:pt x="256" y="200"/>
                    </a:lnTo>
                    <a:lnTo>
                      <a:pt x="250" y="223"/>
                    </a:lnTo>
                    <a:lnTo>
                      <a:pt x="245" y="202"/>
                    </a:lnTo>
                    <a:lnTo>
                      <a:pt x="250" y="173"/>
                    </a:lnTo>
                    <a:lnTo>
                      <a:pt x="231" y="133"/>
                    </a:lnTo>
                    <a:lnTo>
                      <a:pt x="239" y="111"/>
                    </a:lnTo>
                    <a:lnTo>
                      <a:pt x="213" y="119"/>
                    </a:lnTo>
                    <a:lnTo>
                      <a:pt x="189" y="128"/>
                    </a:lnTo>
                    <a:lnTo>
                      <a:pt x="164" y="125"/>
                    </a:lnTo>
                    <a:lnTo>
                      <a:pt x="143" y="119"/>
                    </a:lnTo>
                    <a:lnTo>
                      <a:pt x="125" y="117"/>
                    </a:lnTo>
                    <a:lnTo>
                      <a:pt x="140" y="128"/>
                    </a:lnTo>
                    <a:lnTo>
                      <a:pt x="129" y="128"/>
                    </a:lnTo>
                    <a:lnTo>
                      <a:pt x="96" y="126"/>
                    </a:lnTo>
                    <a:lnTo>
                      <a:pt x="73" y="114"/>
                    </a:lnTo>
                    <a:lnTo>
                      <a:pt x="55" y="108"/>
                    </a:lnTo>
                    <a:lnTo>
                      <a:pt x="57" y="122"/>
                    </a:lnTo>
                    <a:lnTo>
                      <a:pt x="52" y="147"/>
                    </a:lnTo>
                    <a:lnTo>
                      <a:pt x="44" y="168"/>
                    </a:lnTo>
                    <a:lnTo>
                      <a:pt x="41" y="183"/>
                    </a:lnTo>
                    <a:lnTo>
                      <a:pt x="40" y="202"/>
                    </a:lnTo>
                    <a:lnTo>
                      <a:pt x="40" y="218"/>
                    </a:lnTo>
                    <a:lnTo>
                      <a:pt x="30" y="202"/>
                    </a:lnTo>
                    <a:lnTo>
                      <a:pt x="19" y="199"/>
                    </a:lnTo>
                    <a:lnTo>
                      <a:pt x="10" y="212"/>
                    </a:lnTo>
                    <a:lnTo>
                      <a:pt x="20" y="2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7752960" y="2914560"/>
              <a:ext cx="614520" cy="112320"/>
              <a:chOff x="7752960" y="2914560"/>
              <a:chExt cx="614520" cy="112320"/>
            </a:xfrm>
          </p:grpSpPr>
          <p:sp>
            <p:nvSpPr>
              <p:cNvPr id="376" name=""/>
              <p:cNvSpPr/>
              <p:nvPr/>
            </p:nvSpPr>
            <p:spPr>
              <a:xfrm flipH="1">
                <a:off x="8108280" y="2914560"/>
                <a:ext cx="258840" cy="112320"/>
              </a:xfrm>
              <a:custGeom>
                <a:avLst/>
                <a:gdLst/>
                <a:ahLst/>
                <a:rect l="l" t="t" r="r" b="b"/>
                <a:pathLst>
                  <a:path w="326" h="215">
                    <a:moveTo>
                      <a:pt x="156" y="47"/>
                    </a:moveTo>
                    <a:lnTo>
                      <a:pt x="101" y="102"/>
                    </a:lnTo>
                    <a:lnTo>
                      <a:pt x="62" y="131"/>
                    </a:lnTo>
                    <a:lnTo>
                      <a:pt x="0" y="156"/>
                    </a:lnTo>
                    <a:lnTo>
                      <a:pt x="0" y="196"/>
                    </a:lnTo>
                    <a:lnTo>
                      <a:pt x="56" y="215"/>
                    </a:lnTo>
                    <a:lnTo>
                      <a:pt x="141" y="215"/>
                    </a:lnTo>
                    <a:lnTo>
                      <a:pt x="206" y="182"/>
                    </a:lnTo>
                    <a:lnTo>
                      <a:pt x="238" y="153"/>
                    </a:lnTo>
                    <a:lnTo>
                      <a:pt x="326" y="127"/>
                    </a:lnTo>
                    <a:lnTo>
                      <a:pt x="326" y="51"/>
                    </a:lnTo>
                    <a:lnTo>
                      <a:pt x="315" y="0"/>
                    </a:lnTo>
                    <a:lnTo>
                      <a:pt x="156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7752960" y="2918880"/>
                <a:ext cx="279360" cy="99720"/>
              </a:xfrm>
              <a:custGeom>
                <a:avLst/>
                <a:gdLst/>
                <a:ahLst/>
                <a:rect l="l" t="t" r="r" b="b"/>
                <a:pathLst>
                  <a:path w="351" h="190">
                    <a:moveTo>
                      <a:pt x="4" y="8"/>
                    </a:moveTo>
                    <a:lnTo>
                      <a:pt x="0" y="113"/>
                    </a:lnTo>
                    <a:lnTo>
                      <a:pt x="81" y="131"/>
                    </a:lnTo>
                    <a:lnTo>
                      <a:pt x="129" y="153"/>
                    </a:lnTo>
                    <a:lnTo>
                      <a:pt x="211" y="175"/>
                    </a:lnTo>
                    <a:lnTo>
                      <a:pt x="272" y="190"/>
                    </a:lnTo>
                    <a:lnTo>
                      <a:pt x="340" y="179"/>
                    </a:lnTo>
                    <a:lnTo>
                      <a:pt x="351" y="131"/>
                    </a:lnTo>
                    <a:lnTo>
                      <a:pt x="255" y="77"/>
                    </a:lnTo>
                    <a:lnTo>
                      <a:pt x="184" y="33"/>
                    </a:lnTo>
                    <a:lnTo>
                      <a:pt x="147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8283240" y="2420640"/>
              <a:ext cx="250920" cy="335160"/>
              <a:chOff x="8283240" y="2420640"/>
              <a:chExt cx="250920" cy="33516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8348400" y="2420640"/>
                <a:ext cx="93960" cy="91800"/>
                <a:chOff x="8348400" y="2420640"/>
                <a:chExt cx="93960" cy="918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8406000" y="2422080"/>
                  <a:ext cx="36360" cy="90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8402760" y="2420640"/>
                  <a:ext cx="3240" cy="91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8367480" y="2420640"/>
                  <a:ext cx="34920" cy="759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>
                  <a:off x="8348400" y="2420640"/>
                  <a:ext cx="50760" cy="60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8283240" y="2436480"/>
                <a:ext cx="250920" cy="319320"/>
                <a:chOff x="8283240" y="2436480"/>
                <a:chExt cx="250920" cy="319320"/>
              </a:xfrm>
            </p:grpSpPr>
            <p:sp>
              <p:nvSpPr>
                <p:cNvPr id="385" name=""/>
                <p:cNvSpPr/>
                <p:nvPr/>
              </p:nvSpPr>
              <p:spPr>
                <a:xfrm flipH="1">
                  <a:off x="8444160" y="2726280"/>
                  <a:ext cx="90000" cy="29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186" y="931"/>
                      </a:moveTo>
                      <a:arcTo wR="10800" hR="10800" stAng="-3962250" swAng="210581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186" y="931"/>
                      </a:moveTo>
                      <a:arcTo wR="10800" hR="10800" stAng="-3962250" swAng="21058135"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>
                  <a:off x="8324640" y="2437560"/>
                  <a:ext cx="209520" cy="304560"/>
                </a:xfrm>
                <a:custGeom>
                  <a:avLst/>
                  <a:gdLst/>
                  <a:ahLst/>
                  <a:rect l="l" t="t" r="r" b="b"/>
                  <a:pathLst>
                    <a:path w="266" h="577">
                      <a:moveTo>
                        <a:pt x="42" y="163"/>
                      </a:moveTo>
                      <a:lnTo>
                        <a:pt x="263" y="0"/>
                      </a:lnTo>
                      <a:lnTo>
                        <a:pt x="266" y="18"/>
                      </a:lnTo>
                      <a:lnTo>
                        <a:pt x="263" y="375"/>
                      </a:lnTo>
                      <a:lnTo>
                        <a:pt x="0" y="577"/>
                      </a:lnTo>
                      <a:lnTo>
                        <a:pt x="42" y="163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>
                  <a:off x="8298720" y="2442240"/>
                  <a:ext cx="233640" cy="301320"/>
                </a:xfrm>
                <a:custGeom>
                  <a:avLst/>
                  <a:gdLst/>
                  <a:ahLst/>
                  <a:rect l="l" t="t" r="r" b="b"/>
                  <a:pathLst>
                    <a:path w="294" h="570">
                      <a:moveTo>
                        <a:pt x="47" y="158"/>
                      </a:moveTo>
                      <a:lnTo>
                        <a:pt x="0" y="559"/>
                      </a:lnTo>
                      <a:lnTo>
                        <a:pt x="14" y="551"/>
                      </a:lnTo>
                      <a:lnTo>
                        <a:pt x="20" y="567"/>
                      </a:lnTo>
                      <a:lnTo>
                        <a:pt x="33" y="555"/>
                      </a:lnTo>
                      <a:lnTo>
                        <a:pt x="43" y="569"/>
                      </a:lnTo>
                      <a:lnTo>
                        <a:pt x="54" y="559"/>
                      </a:lnTo>
                      <a:lnTo>
                        <a:pt x="65" y="570"/>
                      </a:lnTo>
                      <a:lnTo>
                        <a:pt x="77" y="558"/>
                      </a:lnTo>
                      <a:lnTo>
                        <a:pt x="92" y="570"/>
                      </a:lnTo>
                      <a:lnTo>
                        <a:pt x="100" y="553"/>
                      </a:lnTo>
                      <a:lnTo>
                        <a:pt x="114" y="563"/>
                      </a:lnTo>
                      <a:lnTo>
                        <a:pt x="89" y="168"/>
                      </a:lnTo>
                      <a:lnTo>
                        <a:pt x="294" y="6"/>
                      </a:lnTo>
                      <a:lnTo>
                        <a:pt x="279" y="11"/>
                      </a:lnTo>
                      <a:lnTo>
                        <a:pt x="268" y="5"/>
                      </a:lnTo>
                      <a:lnTo>
                        <a:pt x="265" y="13"/>
                      </a:lnTo>
                      <a:lnTo>
                        <a:pt x="255" y="0"/>
                      </a:lnTo>
                      <a:lnTo>
                        <a:pt x="47" y="1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>
                  <a:off x="8282880" y="2436480"/>
                  <a:ext cx="182520" cy="308880"/>
                </a:xfrm>
                <a:custGeom>
                  <a:avLst/>
                  <a:gdLst/>
                  <a:ahLst/>
                  <a:rect l="l" t="t" r="r" b="b"/>
                  <a:pathLst>
                    <a:path w="230" h="584">
                      <a:moveTo>
                        <a:pt x="0" y="170"/>
                      </a:moveTo>
                      <a:lnTo>
                        <a:pt x="215" y="0"/>
                      </a:lnTo>
                      <a:lnTo>
                        <a:pt x="229" y="53"/>
                      </a:lnTo>
                      <a:lnTo>
                        <a:pt x="230" y="366"/>
                      </a:lnTo>
                      <a:lnTo>
                        <a:pt x="24" y="584"/>
                      </a:lnTo>
                      <a:lnTo>
                        <a:pt x="0" y="17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9" name=""/>
            <p:cNvSpPr/>
            <p:nvPr/>
          </p:nvSpPr>
          <p:spPr>
            <a:xfrm flipH="1">
              <a:off x="8314920" y="2369880"/>
              <a:ext cx="146160" cy="75960"/>
            </a:xfrm>
            <a:custGeom>
              <a:avLst/>
              <a:gdLst/>
              <a:ahLst/>
              <a:rect l="l" t="t" r="r" b="b"/>
              <a:pathLst>
                <a:path w="184" h="145">
                  <a:moveTo>
                    <a:pt x="54" y="15"/>
                  </a:moveTo>
                  <a:lnTo>
                    <a:pt x="15" y="50"/>
                  </a:lnTo>
                  <a:lnTo>
                    <a:pt x="0" y="94"/>
                  </a:lnTo>
                  <a:lnTo>
                    <a:pt x="40" y="137"/>
                  </a:lnTo>
                  <a:lnTo>
                    <a:pt x="79" y="145"/>
                  </a:lnTo>
                  <a:lnTo>
                    <a:pt x="108" y="133"/>
                  </a:lnTo>
                  <a:lnTo>
                    <a:pt x="136" y="140"/>
                  </a:lnTo>
                  <a:lnTo>
                    <a:pt x="169" y="101"/>
                  </a:lnTo>
                  <a:lnTo>
                    <a:pt x="184" y="53"/>
                  </a:lnTo>
                  <a:lnTo>
                    <a:pt x="147" y="0"/>
                  </a:lnTo>
                  <a:lnTo>
                    <a:pt x="54" y="15"/>
                  </a:lnTo>
                  <a:close/>
                </a:path>
              </a:pathLst>
            </a:custGeom>
            <a:solidFill>
              <a:srgbClr val="ffb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7742160" y="1935000"/>
              <a:ext cx="682560" cy="1015200"/>
              <a:chOff x="7742160" y="1935000"/>
              <a:chExt cx="682560" cy="1015200"/>
            </a:xfrm>
          </p:grpSpPr>
          <p:sp>
            <p:nvSpPr>
              <p:cNvPr id="391" name=""/>
              <p:cNvSpPr/>
              <p:nvPr/>
            </p:nvSpPr>
            <p:spPr>
              <a:xfrm flipH="1">
                <a:off x="7997040" y="1935000"/>
                <a:ext cx="181080" cy="339480"/>
              </a:xfrm>
              <a:custGeom>
                <a:avLst/>
                <a:gdLst/>
                <a:ahLst/>
                <a:rect l="l" t="t" r="r" b="b"/>
                <a:pathLst>
                  <a:path w="229" h="644">
                    <a:moveTo>
                      <a:pt x="134" y="644"/>
                    </a:moveTo>
                    <a:lnTo>
                      <a:pt x="0" y="41"/>
                    </a:lnTo>
                    <a:lnTo>
                      <a:pt x="25" y="6"/>
                    </a:lnTo>
                    <a:lnTo>
                      <a:pt x="115" y="54"/>
                    </a:lnTo>
                    <a:lnTo>
                      <a:pt x="202" y="0"/>
                    </a:lnTo>
                    <a:lnTo>
                      <a:pt x="229" y="34"/>
                    </a:lnTo>
                    <a:lnTo>
                      <a:pt x="134" y="644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8043480" y="1961640"/>
                <a:ext cx="68400" cy="306000"/>
              </a:xfrm>
              <a:custGeom>
                <a:avLst/>
                <a:gdLst/>
                <a:ahLst/>
                <a:rect l="l" t="t" r="r" b="b"/>
                <a:pathLst>
                  <a:path w="86" h="578">
                    <a:moveTo>
                      <a:pt x="26" y="0"/>
                    </a:moveTo>
                    <a:lnTo>
                      <a:pt x="35" y="0"/>
                    </a:lnTo>
                    <a:lnTo>
                      <a:pt x="64" y="42"/>
                    </a:lnTo>
                    <a:lnTo>
                      <a:pt x="47" y="72"/>
                    </a:lnTo>
                    <a:lnTo>
                      <a:pt x="69" y="148"/>
                    </a:lnTo>
                    <a:lnTo>
                      <a:pt x="84" y="218"/>
                    </a:lnTo>
                    <a:lnTo>
                      <a:pt x="86" y="301"/>
                    </a:lnTo>
                    <a:lnTo>
                      <a:pt x="77" y="473"/>
                    </a:lnTo>
                    <a:lnTo>
                      <a:pt x="74" y="575"/>
                    </a:lnTo>
                    <a:lnTo>
                      <a:pt x="26" y="578"/>
                    </a:lnTo>
                    <a:lnTo>
                      <a:pt x="17" y="470"/>
                    </a:lnTo>
                    <a:lnTo>
                      <a:pt x="3" y="301"/>
                    </a:lnTo>
                    <a:lnTo>
                      <a:pt x="3" y="220"/>
                    </a:lnTo>
                    <a:lnTo>
                      <a:pt x="9" y="149"/>
                    </a:lnTo>
                    <a:lnTo>
                      <a:pt x="23" y="75"/>
                    </a:lnTo>
                    <a:lnTo>
                      <a:pt x="0" y="5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7742160" y="1949040"/>
                <a:ext cx="682560" cy="1001160"/>
                <a:chOff x="7742160" y="1949040"/>
                <a:chExt cx="682560" cy="1001160"/>
              </a:xfrm>
            </p:grpSpPr>
            <p:sp>
              <p:nvSpPr>
                <p:cNvPr id="394" name=""/>
                <p:cNvSpPr/>
                <p:nvPr/>
              </p:nvSpPr>
              <p:spPr>
                <a:xfrm flipH="1">
                  <a:off x="7742160" y="1949040"/>
                  <a:ext cx="682560" cy="1001160"/>
                </a:xfrm>
                <a:custGeom>
                  <a:avLst/>
                  <a:gdLst/>
                  <a:ahLst/>
                  <a:rect l="l" t="t" r="r" b="b"/>
                  <a:pathLst>
                    <a:path w="860" h="1894">
                      <a:moveTo>
                        <a:pt x="313" y="9"/>
                      </a:moveTo>
                      <a:lnTo>
                        <a:pt x="144" y="93"/>
                      </a:lnTo>
                      <a:lnTo>
                        <a:pt x="37" y="400"/>
                      </a:lnTo>
                      <a:lnTo>
                        <a:pt x="11" y="518"/>
                      </a:lnTo>
                      <a:lnTo>
                        <a:pt x="0" y="812"/>
                      </a:lnTo>
                      <a:lnTo>
                        <a:pt x="114" y="811"/>
                      </a:lnTo>
                      <a:lnTo>
                        <a:pt x="124" y="552"/>
                      </a:lnTo>
                      <a:lnTo>
                        <a:pt x="202" y="364"/>
                      </a:lnTo>
                      <a:lnTo>
                        <a:pt x="212" y="642"/>
                      </a:lnTo>
                      <a:lnTo>
                        <a:pt x="199" y="941"/>
                      </a:lnTo>
                      <a:lnTo>
                        <a:pt x="249" y="948"/>
                      </a:lnTo>
                      <a:lnTo>
                        <a:pt x="241" y="1333"/>
                      </a:lnTo>
                      <a:lnTo>
                        <a:pt x="228" y="1879"/>
                      </a:lnTo>
                      <a:lnTo>
                        <a:pt x="299" y="1894"/>
                      </a:lnTo>
                      <a:lnTo>
                        <a:pt x="387" y="1858"/>
                      </a:lnTo>
                      <a:lnTo>
                        <a:pt x="454" y="962"/>
                      </a:lnTo>
                      <a:lnTo>
                        <a:pt x="480" y="1472"/>
                      </a:lnTo>
                      <a:lnTo>
                        <a:pt x="498" y="1861"/>
                      </a:lnTo>
                      <a:lnTo>
                        <a:pt x="594" y="1894"/>
                      </a:lnTo>
                      <a:lnTo>
                        <a:pt x="673" y="1887"/>
                      </a:lnTo>
                      <a:lnTo>
                        <a:pt x="645" y="1173"/>
                      </a:lnTo>
                      <a:lnTo>
                        <a:pt x="659" y="941"/>
                      </a:lnTo>
                      <a:lnTo>
                        <a:pt x="688" y="926"/>
                      </a:lnTo>
                      <a:lnTo>
                        <a:pt x="709" y="846"/>
                      </a:lnTo>
                      <a:lnTo>
                        <a:pt x="716" y="778"/>
                      </a:lnTo>
                      <a:lnTo>
                        <a:pt x="860" y="611"/>
                      </a:lnTo>
                      <a:lnTo>
                        <a:pt x="731" y="94"/>
                      </a:lnTo>
                      <a:lnTo>
                        <a:pt x="534" y="0"/>
                      </a:lnTo>
                      <a:lnTo>
                        <a:pt x="444" y="598"/>
                      </a:lnTo>
                      <a:lnTo>
                        <a:pt x="313" y="9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" name=""/>
                <p:cNvGrpSpPr/>
                <p:nvPr/>
              </p:nvGrpSpPr>
              <p:grpSpPr>
                <a:xfrm>
                  <a:off x="8049960" y="2291400"/>
                  <a:ext cx="28440" cy="53280"/>
                  <a:chOff x="8049960" y="2291400"/>
                  <a:chExt cx="28440" cy="5328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>
                    <a:off x="8049600" y="2291400"/>
                    <a:ext cx="28440" cy="17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>
                    <a:off x="8049600" y="2322720"/>
                    <a:ext cx="28440" cy="21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685800" y="1733400"/>
            <a:ext cx="795240" cy="12956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 rot="5400000">
            <a:off x="1550160" y="208836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rot="16200000">
            <a:off x="6779520" y="2088360"/>
            <a:ext cx="814320" cy="866880"/>
          </a:xfrm>
          <a:custGeom>
            <a:avLst/>
            <a:gdLst>
              <a:gd name="textAreaLeft" fmla="*/ 360 w 814320"/>
              <a:gd name="textAreaRight" fmla="*/ 81504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98960" y="19843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04360" y="19843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y scripting Objec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guided tour of IDL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IDLscrip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IDLscript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dvanced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rbaScript: the firs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040" y="124740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he IDLscript Langu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Presentation of the language and its semantic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The IDLscript Language Co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xical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cri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ssig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bjects and Basic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ntrol Flow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Lexical R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ments begin by 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entifiers are case sens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ew keywords (1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ome punctuation tok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iterals similar to OMG ID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Floating-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harac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i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638000"/>
            <a:ext cx="8178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 script is a set of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 statement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 null statement (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 statement block (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{ statements }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n ex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 variable management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 control flow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 procedure decl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 class decl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n exception management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 module management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1928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n expression 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 parenthesed ex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 literal, an identifier, an array or dictionary cre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n arithmetic, relational, or logical ex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 procedural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n attribute ge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 method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n indexed ge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evaluation of an expression is an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semantics depends on manipulat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express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26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xical literal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3.1415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’c’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«Hello World!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xical identifiers refer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named objects :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objects contained into variables :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my_v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rray literal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[ 10, ’c’, «Hello World!», true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ictionary literal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{ «key»: «value», 2: true, ’c’: 3.1415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Expressions and opera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rithmetic operator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ary ones: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inary ones: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lational operator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&gt;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ogical operator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negation: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lassical semantics for basic objec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Other express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581120"/>
            <a:ext cx="817884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ocedur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expression(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ttribute ge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expression.attribut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(or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expr!attr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etho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expression.method(…)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(or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expr!method(…)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ndexed ge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expression[expression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Note that semantics depends on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A(10)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procedur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calling or typ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instan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a!m(10)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deferred call if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is a CORBA object ref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Assign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ariable assig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my_var = ex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claration at the first assig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ttribute assig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object.attribute = expressio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(or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o!a = 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emantics depends on th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ndexed assig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object[expression] = ex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emantics depends on th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Objects and Basic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34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very IDLscript entity is an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very object has a type which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_typ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_is_a(aType)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_toString()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very type is also an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ype conformity can be check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asic types are named by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diction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24740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hy scripting object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Main advantages of scripting objec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Examples on Basic Typ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&gt;&gt;&gt; b =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&gt;&gt;&gt; b._toString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«true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&gt;&gt;&gt; b._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&lt; type boolean { . . . }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&gt;&gt;&gt; b._type == boole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&gt;&gt;&gt; b._is_a(ch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&gt;&gt;&gt; boolean._is_a(lo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itto for other basic types (and on any typ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Ty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trings are constant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tring objects suppor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attribut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l = s.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indexed getting notatio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 = s[i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+ operator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s = s + c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s = c + 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ll relational operators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b = s1 != s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various search methods: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index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r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other methods: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toUpper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fr-FR" sz="36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 Ty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n array object is a dynamic container of any IDLscript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rray objects suppor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attribut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l = a.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indexed getting notatio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o = a[i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+ operator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a = a1 + a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earch methods: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index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r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other methods: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append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insert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array type suppor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reat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array.create(1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fr-FR" sz="3600" spc="-1" strike="noStrike">
                <a:solidFill>
                  <a:srgbClr val="000000"/>
                </a:solidFill>
                <a:latin typeface="Courier New"/>
              </a:rPr>
              <a:t>dictionary</a:t>
            </a: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 ty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 dictionary object is a general container to stor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[ key - value ]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keys and values are of any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ictionary objects suppor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attribut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l = d.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keys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attribut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a = d.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attribut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a = d.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indexed getting notatio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v = d[k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various methods: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ontainsKey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Predefined Internal Proced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valuation of a stringified 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eval(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xecution of a script 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exec(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ad a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getli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int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print(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println(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Five Control Flow Stat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95600"/>
            <a:ext cx="84456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(condition) { statements }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{ statements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(condition) { statements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{ statements }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(condi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variable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expression { statements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ecla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proc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 name(parameters) { statements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ormal parameters are not statically ty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st parameters can have default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y default, variables ar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global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scope allows access to global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se of the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ocedures 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n be stored into variables, array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A Procedure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38000"/>
            <a:ext cx="81788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proc up (a, b) { return a &gt; b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proc down (a, b) { return a &lt; b }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proc sort (a, sort_criteria = up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for i in range (0, a.length -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for j in range (i + 1, a.length -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 ( sort_criteria (a[i], a[j]) 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temp = a[i] a[i] = a[j] a[j] = tem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a = [ 60 , 6543 , 4 , 1124 , 1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sort 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[1 , 4 , 60 , 124 , 654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sort (a, dow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[6543 , 124 , 60 , 4 , 1 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868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bject-Oriented Programm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lasses are user defined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olymorphism and overriding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ultiple inheritanc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Overloading not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lass attributes and methods suppor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nstance attributes and methods suppor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ecla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 name(parent_classes) { statements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95600"/>
            <a:ext cx="8178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part allows to def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lass attributes by assigning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lass methods by procedure decla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nstance methods by procedure decla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nstance methods must have an explicit first parameter that will refer to the invoked in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 convention is used to name the initialization method called at the instanci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nstance attributes are defined at their first assig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ORBA and Scrip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MG wants a scripting language for its component model (CORBA 3.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king the composition of CORBA component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moving complex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emory allocation and de-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emory poi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ilation and linking proced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nd-User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y only must focus on integration and business log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A Simple Class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9560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class Point2D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roc __Point2D__ (self,x,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self.x = 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self.y = 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oint2D.nb_created_points = Point2D.nb_created_points +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roc show (self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rintln ("Point2D(x=", self.x, ", y=", self.y, ")"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roc move (self, x,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self.x = self.x + 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self.y = self.y + 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roc how_many 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rintln (nb_created_points,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" Point2D instances are been created.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"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nb_created_points =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Using the Point2D Cla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3836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p = Point2D(1,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lt; Point2D inst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y =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p.move(10,1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p.show 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oint2D(x=11, y=1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p._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lt; class Point2D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roc __Point2D__ (self, x, 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roc show (self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roc move (self, x, 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roc how_many 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nb_created_points =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} 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Class Inheritance 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class Point3D(Point2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roc __Point3D__ (self,x,y,z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self.__Point2D__(x,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self.z = 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move2D = Point2D.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roc move (self, p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self.move2D (p.x, p.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self.z = self.z + p.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class ColoredPoint2D (Point2D) { . . .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class ColoredPoint3D (Point3D, ColoredPoint2D) { . . .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Classes are types and obj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 t = ColoredPoint3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p = t(10,10,10,"green"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p._type == ColoredPoint3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p._type == Point2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p._is_a(Point2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&gt;&gt; ColoredPoint3D._is_a(Point2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Internal Exce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n IDLscript interpreter must raise exceptions when execution problems occu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adArgumentNumber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a_string.toUpperCase(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adIndex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a_string[-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adTypeCoerc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a_string &lt;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xecutionStopped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while(true) { . . .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NotFound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a_string.an_attribu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NotSupported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(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Overflow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10 /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eadOnlyAttribut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.length 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yntaxError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.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Throwing User Exce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cripts can raise exce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 ex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rown exceptions are any IDLscript objec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throw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throw « A problem! 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throw [1, 2, 3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throw Point2D(1,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Handling Exce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construct allows scripts to handle internal/user thrown exce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. . . some script which throws an exception . .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(string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(array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(Point2D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(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638000"/>
            <a:ext cx="8178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odules are loadable scrip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ext files with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.cs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mportation is done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 MyModule, Another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CSPATH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environment variable defines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 module defines a scope contai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ssigned variables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MyModule.a_v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rocedure declarations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MyModule.a_pr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lass declarations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MyModule.a_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odules 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n be stored into variables, array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040" y="124740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he IDLscript Bin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Presentation of the binding of all OMG IDL construc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How to create them and how to manipulate the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The OMG IDL Binding 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2652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Lscript provides a dynamic OMG IDL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ccess directly and naturally to any ID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oaded from the Interface Reposi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No stubs/skeletons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OMG IDL naming scheme is fully reflected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DL identifiers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DLscript identif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DL scopes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DLscript sco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ORBA.Reposi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osNaming.NameComponent.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General Scripting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eractive and interpreted: User-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control and manag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local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les, processes, users: Unix shells, Per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phical widgets: Tcl/T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tabases: SQL, O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ssemble system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isual Basic, Emacs-Lisp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The OMG IDL Binding 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OMG IDL type system is fully reflected into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IDLscript type syst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asic types, modules, constants, enums, structs, unions, typedefs, sequences, arrays, exceptions, interfaces, TypeCodes, Anys, the CORBA module are reflected by IDLscript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xcepts currently: value types and value bo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types are IDLscrip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osNaming.NamingContext.AlreadyB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nstanciation by the IDLscript procedural call no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MG IDL Type Val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200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type values are IDLscript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tandard attributes and methods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_typ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_is_a(aType)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_toString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pecific attributes and methods are defined according to the OMG IDL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e.g.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IDL struct fiel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emantic of expression notations is defined according to the OMG IDL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e.g.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the indexed getting notation for IDL 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Basic OMG IDL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asic OMG IDL types are reflected by IDLscript types contained into the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CORBA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ORBA.Void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. . .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ORBA.W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nstanciation 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ORBA.Short(1)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ORBA.ULong(100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perators and automatic coercions between compatible IDL types and basic IDLscrip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ORBA.Short(1) + 1 &gt; CORBA.Double(3.141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Basic OMG IDL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Basic OMG IDL Types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IDLscript Type Identif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void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RBA.Vo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hort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RBA.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signed short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RBA.U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ong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RBA.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signed long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RBA.U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ong long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RBA.Long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signed long long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RBA.ULong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float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RBA.Flo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Basic OMG IDL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Basic OMG IDL Types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IDLscript Type Identifier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uble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RBA.Dou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ong double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RBA.LongDou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oolean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RBA.Boole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har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RBA.Ch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wchar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RBA.WCh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octet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RBA.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tring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RBA.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wstring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ORBA.W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MG IDL Val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v1 = CORBA.Short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v2 = CORBA.ULong(1000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v1 + v2 &gt; 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v3 = CORBA.String("Hello World!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v3.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v3 != "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Modu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445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modules are IDLscript objects defining a scope to access to inner IDL defin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nner definitions are accessed by the dotted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GridService.Fac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odule evaluation displays its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&gt;&gt;&gt; GridServic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&lt; OMG-IDL module GridService { . . . }; 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Modu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odule GridService {  . . . 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module MA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module MB { . . . 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6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Lscript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Grid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module GridService { . . . }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m = MA.M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 OMG-IDL module MA::MB { . . . }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Consta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constants are IDLscript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n be prefixed by their module or interface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nstant evaluation displays the IDL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&gt;&gt;&gt; 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&lt; OMG-IDL const double PI = 3.14159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&gt;&gt;&gt; Math.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&lt; OMG-IDL const double Math::PI = 3.14159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Consta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5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st double PI = 3.1415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module Math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const double PI = 3.1415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Lscript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const double PI = 3.14159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Math.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const double Math::PI = 3.14159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c = 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const double PI = 3.14159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c._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 OMG-IDL typedef double CORBA.Double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General Scripting Benefits, cont’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implicity of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ypeless, dynamic typing, garbage coll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asy to le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mpler than system programming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nhanced produ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asier development  (interactive mo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duced c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duce training and operating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En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714320"/>
            <a:ext cx="8426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enumerations are IDLscript types defining scopes which contain enumeration i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num evaluation displays the IDL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&gt;&gt;&gt; Mont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&lt; OMG-IDL enum Months { January, February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March, April,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May, June, July, Augus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eptember, October, November, December }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attribute getting notation is used for value cre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&gt;&gt;&gt; Months.Janu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En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enum Months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January, February, March, April, May, June, July,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August, September, October, November, Dece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Lscript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m = Mont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enum Months { January, February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March, April,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y, June, July, Augus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September, October, November, December }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En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num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 = Months.Janu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Months.Janu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._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enum Months { January, February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March, April, May, June, July, Augus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eptember, October, November, December }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._is_a(Month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57440"/>
            <a:ext cx="8686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structs are IDLscrip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truct creation is done by the call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StructIDLType(field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, …, field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hecks the number of fiel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utomatic coercion if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L struct values are IDLscript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truct fields are reflected by IDLscript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v = a_struct.a_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a_struct.a_field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ype checking when fields are set (+ automatic coerc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// This definition can be located inside or outside an IDL module or interface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struct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double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double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struct TwoPoints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Point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Point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28240" y="188568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Lscript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struct Point { double x; double y; }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Point.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typedef double CORBA.Double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TwoPo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struct TwoPoints { Point a; Point b; }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TwoPoints.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struct Point { double x; double y; }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 = 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6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 OMG-IDL struct Point { double x; double y; }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tructure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p1 = Point (1,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p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Point(1,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tp1 = TwoPoints([11,22],[33,44]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tp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TwoPoints(Point(11,22),Point(33,44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tp2 = TwoPoints(p1,Point(3,4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gt;&gt;&gt; tp3 = TwoPoints(Point(6,7),Point(8,9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28240" y="1885680"/>
            <a:ext cx="8915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tructure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p1.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RBA.Double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p1.x = 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p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Point(-1,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tp1.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Point(11,2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tp1.a.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RBA.Double(2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tp1._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 OMG-IDL struct TwoPoints { Point a; Point b; }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Un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38000"/>
            <a:ext cx="8178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unions are IDLscrip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nion creation is done by the call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UnionIDLType(discriminator,val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hecks the discriminator and th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utomatic coercion if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L union values are IDLscript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iscriminator is reflected by th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_d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readonly 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ion fields are reflected by IDLscript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ion field getting is checked according to the disc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iscriminator is set at field assig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Un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// This definition can be located inside or outside an IDL module or interface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union Union switch(unsigned shor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case 0: short m_shor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case 1: long m_lo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case 2: float m_floa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ORBA and Scripting Langu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cripting benefits can be applied to CORBA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 all of the development and execution step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sign and prototy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velopment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figuration and admini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iscovering and us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sembling softwar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naging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Un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Lscript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u = Un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union Union switch (unsigned shor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ase 0: short m_shor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ase 1: long m_lo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ase 2: float m_floa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}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u == Un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Un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nion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 = Union(0,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Union(0,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b = Union(2,10.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Union(2,10.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._type == b._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Un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n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._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RBA.UShort(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.m_sh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RBA.Short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.m_long =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.m_lo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RBA.Long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._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CORBA.UShort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Typede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typedefs are IDLscrip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typedef type is conform to its aliased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ypedef creation is done by the call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TypedefIDLType(field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, …, field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hecks the number of fields according to the aliased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utomatic coercion if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ypedef values are used according to the rules defined for the binding of the aliase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Typede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// This definition can be located inside or outside an IDL module or interface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ypedef unsigned short D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ypedef Point Coordinat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Lscript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5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D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typedef unsigned short Day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c = Coordin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typedef Point Coordinate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c.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 OMG-IDL typedef double CORBA.Double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Typede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ypede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d = Day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Day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c = Coordinate(1.1,2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ordinate(1.1,2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c.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RBA.Double(1.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c._is_a(Po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sequences are IDLscrip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nonymous sequence not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equence creation is done by the call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SequenceIDLType(item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, …, item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ype checking of items according to the seq. item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utomatic coercion if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L sequence values are IDLscript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with th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tems are accessed by the indexed no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v = a_sequence[index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a_sequence[index] = 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ype checking when items are set (+ automatic coerc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// This definition can be located inside or outside an IDL module or interface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ypedef sequence&lt;string&gt; SeqStri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ypedef sequence&lt;Months&gt; SeqMonth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ypedef sequence&lt;Point&gt; SeqPoi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Lscript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eq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typedef sequence&lt;string&gt; SeqString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eqMont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typedef sequence&lt;Months&gt; SeqMonths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 = Seq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 OMG-IDL typedef sequence&lt;Point&gt; SeqPoint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-76680" y="1809360"/>
            <a:ext cx="9448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equence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 = SeqString("One","Two","Three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eqString("One","Two","Three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 = SeqMonth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eqMonth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 = SeqPoint ( [1.1,2.2] ,[3.3,4.4] ,[5.5,6.6]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eqPoint(Point(1.1,2.2),Point(3.3,4.4),Point(5.5,6.6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1 = SeqPoint ( [1.1,2.2], Point(3.3,4.4), Point(CORBA.Double(5.5), CORBA.Double(6.6))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1._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 OMG-IDL typedef sequence&lt;Point&gt; SeqPoint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Some comments about the CORBA Scripting Langu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ust be 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object-oriented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to reflect the CORBA object / compon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ust 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seamlessly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integrate the OMG IDL typ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wo approa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ake an existing scripting language and 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map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OMG IDL concepts to its typ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sign a 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new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scripting language based on the OMG IDL typ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equence I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1[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Point(1.1,2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1[0] = [100,20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1[1].x = 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1.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for i in s1 { println (i)</a:t>
            </a:r>
            <a:r>
              <a:rPr b="1" sz="20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Point(100,20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Point(300,4.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Point(5.5,6.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Arr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arrays are IDLscrip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nonymous array not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rray creation is done by the call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ArrayIDLType(item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, …, item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number of items must be equal to the array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L array values are IDLscript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with th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tems are accessed by the indexed no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v = an_array[index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an_array[index] = 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tem type checking according to the array item type and automatic coercion if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Arr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// This definition can be located inside or outside an IDL module or interfa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ypedef long ArrayLong[10]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ypedef Point ArrayPo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IDLscript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rrayLo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typedef long[10] ArrayLong;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 = Array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 OMG-IDL typedef Point[10] ArrayPoint;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Arra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-114840" y="1542600"/>
            <a:ext cx="94870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rray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 = ArrayLong(1,2,3,4,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Exception : &lt; BadArraySize: array must have 10 items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File "stdin", line 1 in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 = ArrayLong(1,2,3,4,5,6,7,8,9,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ArrayLong(1,2,3,4,5,6,7,8,9,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 = ArrayPoint([1,1],[2,2],[3,3],[4,4],[5,5],[6,6]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[7,7],[8,8],[9,9],[10,10]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ArrayPoint(Point(1,1),Point(2,2),Point(3,3),Point(4,4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Point(5,5),Point(6,6),Point(7,7),Point(8,8),Point(9,9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Point(10,1 0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._type == Array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Arr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rray I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[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Point(1,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[0] = [100,10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[1].x = 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a.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for i in a { println (i)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Point(100,10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Point(200,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Point(3,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Exce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exceptions are IDLscrip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Lscript provides a hierarchical type graph containing all CORBA exce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CORBA.Ex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root of the hierarchy of CORBA exce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CORBA.SystemEx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super type of any system exce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urier New"/>
              </a:rPr>
              <a:t>CORBA.UserEx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he super type of any user defined exce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CORBA Exceptions Type Grap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"/>
          <p:cNvSpPr/>
          <p:nvPr/>
        </p:nvSpPr>
        <p:spPr>
          <a:xfrm>
            <a:off x="2214720" y="3375000"/>
            <a:ext cx="360" cy="2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07000" y="2773440"/>
            <a:ext cx="360" cy="2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147080" y="3400560"/>
            <a:ext cx="360" cy="2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554800" y="2800440"/>
            <a:ext cx="360" cy="25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14720" y="5021280"/>
            <a:ext cx="25200" cy="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14720" y="4629240"/>
            <a:ext cx="25200" cy="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859440" y="5021280"/>
            <a:ext cx="27000" cy="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859440" y="4629240"/>
            <a:ext cx="27000" cy="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9"/>
          <a:stretch/>
        </p:blipFill>
        <p:spPr>
          <a:xfrm>
            <a:off x="584280" y="1711440"/>
            <a:ext cx="8026200" cy="42037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5737680" y="594684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 OMG 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ser exce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47320" y="587052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Handling CORBA Exce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19040" y="1885680"/>
            <a:ext cx="826776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andling CORBA exceptions with the IDLscript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# a script cod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row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RBA.UNKNOW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sNaming.NamingContext.AlreadyBound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a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RBA.UserExceptio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RBA.SystemExceptio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s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# a finally script cod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BA System Exce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250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ystem exceptions are IDLscrip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ubtypes of th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ORBA.System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fined into th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ORBA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ORBA.UNKNOWN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. . .,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ORBA.INVALID_TRANSA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also th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RBA.CompletionStatus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enum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reation is done by the procedural call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SystemExceptionIDLType(minor,comple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minor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ompleted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can be o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ystem exception values are IDLscript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minor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ompleted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readonly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 CORBA System Exce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UNKNOWN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BAD_PAR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NO_MEMORY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IMP_LIM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COMM_FAILURE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INV_OBJRE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NO_PERMISSION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INTER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MARSHAL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INITIALI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NO_IMPLEMENT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BAD_TYPEC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BAD_OPERATION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NO_RESOUR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NO_RESPONSE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PERSIST_ST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BAD_INV_ORDER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TRANS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FREE_MEM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INV_ID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INV_FLAG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BAD_CON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OBJ_ADAPTER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DATA_CONVERS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OBJECT_NOT_EXIST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INTF_REP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TRANSACTION_REQUIRED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TRANSACTION_ROLLEDB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CORBA.INVALID_TRANSA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24740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 guided tour of IDLscri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Presentation of an example and how to use IDLscrip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Exce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ystem Exception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CORBA.UNKN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exception CORBA::UNKNOWN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unsigned long mino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RBA::CompletionStatus complete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}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CORBA.CompletionStat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enum CORBA::CompletionStatus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MPLETED_YES, COMPLETED_NO, COMPLETED_MAYB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}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CORBA.UNKNOWN._is_a(CORBA.Excep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Exce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ystem Exception Type</a:t>
            </a:r>
            <a:r>
              <a:rPr b="1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e = CORBA.UNKN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e._is_a(CORBA.SystemExcep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e._is_a(CORBA.UserExcep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1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Exce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ystem Exception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 = CORBA.UNKNOWN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 = CORBA.UNKNOWN(10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 = CORBA.UNKNOWN(100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RBA.CompletionStatus.COMPLETED_Y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.min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.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RBA.CompletionStatus.COMPLETED_Y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._type == CORBA.UNKN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Exce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ystem Exception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._is_a (CORBA.Excep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._is_a (CORBA.SystemExcep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s._is_a (CORBA.UserExcep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Exce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19280"/>
            <a:ext cx="86868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ser exceptions are IDLscrip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ubtypes of th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ORBA.UserExceptio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xception creation is done by the call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UserExceptionIDLType(field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, …, field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hecks the number of fiel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utomatic coercion if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L exception values are IDLscript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xception fields are IDLscript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v = an_exception.a_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an_exception.a_field = 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ype checking when fields are set (+ automatic coerc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Exce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ser Exception OMG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// This definition can be located inside or outside an IDL module or interface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exception EmptyException {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exception Exception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string 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Months 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Point 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Exce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733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Lscript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Empty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exception EmptyException {}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exception Exception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tring 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Months 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Point 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}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Exception.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lt; OMG-IDL struct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double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double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}; 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Exce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Lscript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Exception._is_a(CORBA.Excep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e =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e._is_a(CORBA.SystemExcep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e._is_a(CORBA.UserExcep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Exce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ser Exception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u = EmptyException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u = Exception ("Hello", Months.June, [100,100]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Exception("Hello",Months.June,Point(100,100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u.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"Hello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u._is_a (CORBA.Excep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u._is_a (CORBA.SystemExcep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&gt;&gt;&gt; u._is_a (CORBA.UserExcep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Binding for OMG IDL Interfac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2652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MG IDL interfaces are IDLscrip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L inheritance graph is reflected by the same IDLscript type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RBA object references are IDLscript objects with attributes and operations according to their OMG ID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nvocations are done through the D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arameter type checking is done via the IF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ll parameter passing modes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woways, oneway and deferred modes are suppor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6T09:14:48Z</dcterms:created>
  <dc:creator>Christophe Gransart</dc:creator>
  <dc:description/>
  <cp:keywords>CORBA</cp:keywords>
  <dc:language>en-US</dc:language>
  <cp:lastModifiedBy>Tof</cp:lastModifiedBy>
  <cp:lastPrinted>2000-04-17T14:22:43Z</cp:lastPrinted>
  <dcterms:modified xsi:type="dcterms:W3CDTF">2000-06-15T10:03:45Z</dcterms:modified>
  <cp:revision>626</cp:revision>
  <dc:subject>Tutorial EBI'2000</dc:subject>
  <dc:title>IDLscript : Gluing CORBA Objec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toto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tmp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