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BB4-6C64-47DE-B3DA-BFC33E35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D31-1625-4688-A0B9-6DFDAC00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39C-FDDB-4E83-932D-83F657B3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31B-E716-49A2-865E-6630E431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A37-03A9-43E6-BC24-69588F17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803-4A47-4077-8DD8-7164A706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5CC-2F4E-45FF-91B0-06781A5E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20E-DD1B-49E7-8991-CF39E632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6E1-D9DD-47D0-BDE5-F70F7286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45B-8A8C-4223-9123-F1E8FEF1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16D-1E48-4361-B592-6823527A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6C5-9CAF-4128-81F3-9812403E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755-E29A-4FD9-98CA-5055E1EAF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7320" y="1828440"/>
            <a:ext cx="965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Times New Roman"/>
              </a:rPr>
              <a:t>CORBA and </a:t>
            </a:r>
            <a:br>
              <a:rPr sz="9600"/>
            </a:br>
            <a:r>
              <a:rPr b="1" lang="en-GB" sz="9600" spc="-1" strike="noStrike">
                <a:solidFill>
                  <a:srgbClr val="000000"/>
                </a:solidFill>
                <a:latin typeface="Times New Roman"/>
              </a:rPr>
              <a:t>the We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tricia Rodriguez-To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trusted code downloaded from the Web runs within a very confined environment called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andbo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hich limits the resources to which the code has a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42680" y="526680"/>
            <a:ext cx="842004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are downloaded from the originating web site and will pass through a set of utilities run by the Java Virtual Machine (JV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 lo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and limits what is being loaded, from where and w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te code verifi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es that the byte code loaded represent Java code that adheres to all rules of the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urity 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runtime access to system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42680" y="323640"/>
            <a:ext cx="8420040" cy="57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1.0x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restrictive security checks that prevent all types of access to the system. Renders some applets usel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1.1.x and 1.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different levels of trust between client and server using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side needs to define these security levels for each site they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 always possible on the client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ent Ap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DB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et code=SeqDBApplet.class width=600 height=18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am name=url value=http://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appl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DBApplet.jav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re only differe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ise OR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B orb=ORB.ini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, pro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Parameter from html f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urlst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arameter(“url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5120" y="380880"/>
            <a:ext cx="8915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ference in applet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7920" y="2362320"/>
            <a:ext cx="8259840" cy="1465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PPLET CODE=“Client.class” ARCHIVE=“OB.j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HT=300 HEIGHT=20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PARAM NAME=“ref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=“IOR:……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7080" y="18032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HT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7920" y="4832280"/>
            <a:ext cx="8259840" cy="1465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B orb = ORB.init (this, new java.util.Properties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f = getParameter (“ref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mg.org.CORBA.Object obj = orb.string_to_object (re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 = BHelper.narrow (ob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7080" y="428004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an O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28640" y="2362320"/>
            <a:ext cx="5209920" cy="1313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g.omg.CORBA.ORBClass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.ooc.CORBA.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g.omg.CORBA.ORBSingletonClass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.ooc.CORBA.ORBSingle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1854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B, cgi-bin and Web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2480" y="2262240"/>
            <a:ext cx="222876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32600" y="2795760"/>
            <a:ext cx="165096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9440" y="226224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0240" y="1146240"/>
            <a:ext cx="3811680" cy="540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2480" y="1322280"/>
            <a:ext cx="2914560" cy="208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3480" y="4197240"/>
            <a:ext cx="3321000" cy="2089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57480" y="2023920"/>
            <a:ext cx="99036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0" y="131112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49480" y="2644920"/>
            <a:ext cx="789120" cy="63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54480" y="4413240"/>
            <a:ext cx="2395440" cy="833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11680" y="364824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4240" y="3879720"/>
            <a:ext cx="3718080" cy="129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39760" y="4278240"/>
            <a:ext cx="790560" cy="63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78080" y="49053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60640" y="5234040"/>
            <a:ext cx="990360" cy="9144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gi-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19360" y="4951080"/>
            <a:ext cx="293760" cy="5526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08000" y="3257280"/>
            <a:ext cx="1086120" cy="9874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92480" y="2646360"/>
            <a:ext cx="623880" cy="24624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36520" y="49320"/>
            <a:ext cx="79725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this EST been Mapp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93920" y="1797120"/>
            <a:ext cx="1320840" cy="1554120"/>
          </a:xfrm>
          <a:custGeom>
            <a:avLst/>
            <a:gdLst>
              <a:gd name="textAreaLeft" fmla="*/ 48600 w 1320840"/>
              <a:gd name="textAreaRight" fmla="*/ 1272240 w 1320840"/>
              <a:gd name="textAreaTop" fmla="*/ 57240 h 1554120"/>
              <a:gd name="textAreaBottom" fmla="*/ 1241280 h 1554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67080" y="3398760"/>
            <a:ext cx="3379680" cy="739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80160" y="1455840"/>
            <a:ext cx="3659040" cy="377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57920" y="1558800"/>
            <a:ext cx="35337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ppedClient.cg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gi-bin shell 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al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ppedClient.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CORBA  client written in JAV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BA 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ppe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03120" y="3448080"/>
          <a:ext cx="221472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448080"/>
                    <a:ext cx="221472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400040" y="2014560"/>
            <a:ext cx="1266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this EST been mapped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62120" y="4246560"/>
            <a:ext cx="329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cessed throug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mple web form that returns and HTML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 seen from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3760" y="0"/>
            <a:ext cx="8420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ppedHtml.c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66840" y="1017720"/>
            <a:ext cx="953928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#!/bin/sh 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cho Content-type: text/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[ $# = 0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 QUERY_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=`echo $QUERY_STRING | awk '{FS="&amp;"; print $1}' | awk '{FS="="; print $2}'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=`echo $QUERY_STRING | awk '{FS="&amp;"; print $2}' | awk '{FS="="; print $2}'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=$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="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ASSPATH=./MappedHtml.jar:./OB3.1.1.jar; export CLASS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TH=/sw/arch/java/JDK1/latest/bin:$PATH; expor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va ClientHtml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ttp://corba.ebi.ac.uk/RHdb/IOR/Mapped.ior $ID "" "$SP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|  grep -v "New Conn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BA &amp;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 applets to browse a database, analyz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s see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nning cgi-bin scripts/programs on the server and get results as HTML pag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s do not see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48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pped.i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7000" y="1298160"/>
            <a:ext cx="452124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ule embl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ule ebi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ule mapp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 Organism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ing tax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ing 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 FullNam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ing ur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ing db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ing acce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 is_mapp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ing map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ing map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ing chromoso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def sequence &lt;is_mapped&gt; mapped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5320" y="1346040"/>
            <a:ext cx="454644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 clusterInfo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llName clust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rganism spe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def sequence &lt;clusterInfo&gt; clusterInfo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 here the qu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face mappedDB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lusterInfoList getCluster(in string    accession, in Organism speci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ppedList getMapped(in clusterInfo     clust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36520" y="49320"/>
            <a:ext cx="79725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7280" y="214200"/>
            <a:ext cx="87915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tClusterDef.c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3040" y="1311120"/>
            <a:ext cx="878832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#!/bin/sh -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ho 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D=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=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SSPATH=./gcd.jar:./OB3.1.1.jar:./alltools.jar; export CLASS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TH=/sw/arch/java/JDK1/latest/bin:$PATH; expor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va GetClusterDe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ttp://corba.ebi.ac.uk/EST/IOR/alignmentDB_${SP}.ior http://corba.ebi.ac.uk/EST/IOR/clusterDB_${SP}.ior http://corba.ebi.ac.uk/EST/IOR/SimpleEstDB_2.IOR http://corba.ebi.ac.uk/RHdb/Clients/IOR/RHalloc.i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-acc $ID -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| grep -v Ok | grep -v ===== | ./GetClusterDef.p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077240" y="1428840"/>
            <a:ext cx="2354040" cy="12967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03960" y="2957400"/>
            <a:ext cx="2354400" cy="129708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2080" y="5267160"/>
            <a:ext cx="2394000" cy="1230480"/>
          </a:xfrm>
          <a:custGeom>
            <a:avLst/>
            <a:gdLst>
              <a:gd name="textAreaLeft" fmla="*/ 0 w 2394000"/>
              <a:gd name="textAreaRight" fmla="*/ 2394360 w 2394000"/>
              <a:gd name="textAreaTop" fmla="*/ 159480 h 1230480"/>
              <a:gd name="textAreaBottom" fmla="*/ 107100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this EST been Mapp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77000" y="1855800"/>
            <a:ext cx="98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2640" y="3510000"/>
            <a:ext cx="193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uroGeneInde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43760" y="5727600"/>
            <a:ext cx="121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H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93920" y="1797120"/>
            <a:ext cx="1320840" cy="1554120"/>
          </a:xfrm>
          <a:custGeom>
            <a:avLst/>
            <a:gdLst>
              <a:gd name="textAreaLeft" fmla="*/ 48600 w 1320840"/>
              <a:gd name="textAreaRight" fmla="*/ 1272240 w 1320840"/>
              <a:gd name="textAreaTop" fmla="*/ 57240 h 1554120"/>
              <a:gd name="textAreaBottom" fmla="*/ 1241280 h 1554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69000" y="2217600"/>
            <a:ext cx="1301760" cy="666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30920" y="3728880"/>
            <a:ext cx="1355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92840" y="4865760"/>
            <a:ext cx="1006560" cy="668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63400" y="3940200"/>
            <a:ext cx="996840" cy="2109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375000" y="2701800"/>
            <a:ext cx="2449080" cy="2448000"/>
            <a:chOff x="3375000" y="2701800"/>
            <a:chExt cx="2449080" cy="2448000"/>
          </a:xfrm>
        </p:grpSpPr>
        <p:sp>
          <p:nvSpPr>
            <p:cNvPr id="153" name=""/>
            <p:cNvSpPr/>
            <p:nvPr/>
          </p:nvSpPr>
          <p:spPr>
            <a:xfrm>
              <a:off x="3375000" y="2701800"/>
              <a:ext cx="2449080" cy="244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6840" y="2754360"/>
              <a:ext cx="236556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ped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s a CORBA serv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at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 CORBA cli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o the Clusters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Unigene and EuroGeneIndex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nd RHd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303120" y="3448080"/>
          <a:ext cx="221472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3448080"/>
                    <a:ext cx="221472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400040" y="2014560"/>
            <a:ext cx="1266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s this EST been mapped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L for th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pped.idl that serves the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since it is a client of 2 other serv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Hdb.idl for the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uster.idl for the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7120" y="1854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B, Applets and Web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02480" y="2262240"/>
            <a:ext cx="222732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32600" y="2795760"/>
            <a:ext cx="164952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45520" y="3252960"/>
            <a:ext cx="988920" cy="685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45520" y="4624560"/>
            <a:ext cx="988920" cy="6094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69160" y="226224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40520" y="3938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62720" y="27957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0240" y="1676520"/>
            <a:ext cx="3302280" cy="487656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73160" y="1981080"/>
            <a:ext cx="1485720" cy="1676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46320" y="3809880"/>
            <a:ext cx="1485720" cy="1676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5410080"/>
            <a:ext cx="990360" cy="9144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55600" y="198108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5760" y="2925720"/>
            <a:ext cx="788760" cy="63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82080" y="1873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06600" y="3259080"/>
            <a:ext cx="5043600" cy="292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643200" y="4270320"/>
            <a:ext cx="3030480" cy="563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09520" y="5538960"/>
            <a:ext cx="855720" cy="5410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70280" y="4903560"/>
            <a:ext cx="3452760" cy="376200"/>
          </a:xfrm>
          <a:prstGeom prst="line">
            <a:avLst/>
          </a:prstGeom>
          <a:ln cap="rnd" w="1908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Ap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04520" y="1590840"/>
            <a:ext cx="842004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pplet is a CORBA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browse a database, analyz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s see CORBA, classes are downloaded to the client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75000"/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s will need to save data, load data into the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st the browsers/JVM security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owser may have a different version of 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ow star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20840" y="1905120"/>
            <a:ext cx="2515680" cy="3124080"/>
            <a:chOff x="1320840" y="1905120"/>
            <a:chExt cx="2515680" cy="3124080"/>
          </a:xfrm>
        </p:grpSpPr>
        <p:sp>
          <p:nvSpPr>
            <p:cNvPr id="68" name=""/>
            <p:cNvSpPr/>
            <p:nvPr/>
          </p:nvSpPr>
          <p:spPr>
            <a:xfrm>
              <a:off x="1320840" y="1905120"/>
              <a:ext cx="2515680" cy="3124080"/>
            </a:xfrm>
            <a:custGeom>
              <a:avLst/>
              <a:gdLst>
                <a:gd name="textAreaLeft" fmla="*/ 122760 w 2515680"/>
                <a:gd name="textAreaRight" fmla="*/ 2392920 w 2515680"/>
                <a:gd name="textAreaTop" fmla="*/ 122760 h 3124080"/>
                <a:gd name="textAreaBottom" fmla="*/ 3001320 h 3124080"/>
              </a:gdLst>
              <a:ahLst/>
              <a:rect l="textAreaLeft" t="textAreaTop" r="textAreaRight" b="textAreaBottom"/>
              <a:pathLst>
                <a:path w="21600" h="26823">
                  <a:moveTo>
                    <a:pt x="3600" y="0"/>
                  </a:moveTo>
                  <a:arcTo wR="3600" hR="3600" stAng="16200000" swAng="-5400000"/>
                  <a:lnTo>
                    <a:pt x="0" y="23223"/>
                  </a:lnTo>
                  <a:arcTo wR="3600" hR="3600" stAng="10800000" swAng="-5400000"/>
                  <a:lnTo>
                    <a:pt x="18000" y="268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WW-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01720" y="3200400"/>
              <a:ext cx="1753560" cy="129492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934240" y="1523880"/>
            <a:ext cx="3200400" cy="26672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89640" y="2057400"/>
            <a:ext cx="2440080" cy="83808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13320" y="3124080"/>
            <a:ext cx="2516400" cy="91440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4419720"/>
            <a:ext cx="3200400" cy="16761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07200" y="4952880"/>
            <a:ext cx="2475000" cy="914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1" idx="1"/>
            <a:endCxn id="69" idx="7"/>
          </p:cNvCxnSpPr>
          <p:nvPr/>
        </p:nvCxnSpPr>
        <p:spPr>
          <a:xfrm flipH="1">
            <a:off x="3198240" y="2476440"/>
            <a:ext cx="3191400" cy="913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9" idx="6"/>
            <a:endCxn id="72" idx="1"/>
          </p:cNvCxnSpPr>
          <p:nvPr/>
        </p:nvCxnSpPr>
        <p:spPr>
          <a:xfrm flipV="1">
            <a:off x="3455640" y="3580920"/>
            <a:ext cx="2858040" cy="267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9" idx="6"/>
            <a:endCxn id="74" idx="1"/>
          </p:cNvCxnSpPr>
          <p:nvPr/>
        </p:nvCxnSpPr>
        <p:spPr>
          <a:xfrm>
            <a:off x="3456000" y="3847680"/>
            <a:ext cx="2851920" cy="1562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394880" y="453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94560" y="3733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5600" y="963720"/>
            <a:ext cx="9505800" cy="4983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87520" y="606888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ing is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0000" y="203040"/>
            <a:ext cx="7502400" cy="6342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10120" y="320760"/>
            <a:ext cx="3996000" cy="3471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995240" y="4035600"/>
            <a:ext cx="168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ing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/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6360" y="0"/>
            <a:ext cx="9385200" cy="644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3800" y="6400800"/>
            <a:ext cx="85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to load, save can be by mail, copy/paste if not to much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2200" y="1050840"/>
            <a:ext cx="9388440" cy="4767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0920" y="6127920"/>
            <a:ext cx="64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to big for Email, how to load new sequ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6:22Z</dcterms:created>
  <dc:creator>Systems Group</dc:creator>
  <dc:description/>
  <dc:language>en-US</dc:language>
  <cp:lastModifiedBy>atoke.inf.elte.hu</cp:lastModifiedBy>
  <cp:lastPrinted>2000-01-13T11:59:40Z</cp:lastPrinted>
  <dcterms:modified xsi:type="dcterms:W3CDTF">2005-02-20T15:27:12Z</dcterms:modified>
  <cp:revision>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ebi.ac.uk/~tome</vt:lpwstr>
  </property>
  <property fmtid="{D5CDD505-2E9C-101B-9397-08002B2CF9AE}" pid="9" name="LinkColor">
    <vt:r8>16711782</vt:r8>
  </property>
  <property fmtid="{D5CDD505-2E9C-101B-9397-08002B2CF9AE}" pid="10" name="MailAddress">
    <vt:lpwstr>tome@ebi.ac.uk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Users\senger\ws-corba\html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