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57988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619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4920" y="198108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4920" y="413064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7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43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7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43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18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4920" y="1981080"/>
            <a:ext cx="3718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609480"/>
            <a:ext cx="74674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4920" y="1981080"/>
            <a:ext cx="3718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18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4920" y="198108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4920" y="413064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4920" y="1981080"/>
            <a:ext cx="3718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619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5400" y="438120"/>
            <a:ext cx="180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240" y="43668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6320">
              <a:spcBef>
                <a:spcPts val="799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2880" indent="-336600">
              <a:spcBef>
                <a:spcPts val="799"/>
              </a:spcBef>
              <a:buClr>
                <a:srgbClr val="008000"/>
              </a:buClr>
              <a:buSzPct val="6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95440" indent="-336600">
              <a:spcBef>
                <a:spcPts val="799"/>
              </a:spcBef>
              <a:buClr>
                <a:srgbClr val="008000"/>
              </a:buClr>
              <a:buSzPct val="69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87720" indent="-345960">
              <a:spcBef>
                <a:spcPts val="799"/>
              </a:spcBef>
              <a:buClr>
                <a:srgbClr val="008000"/>
              </a:buClr>
              <a:buSzPct val="6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87720" indent="-345960">
              <a:spcBef>
                <a:spcPts val="799"/>
              </a:spcBef>
              <a:buClr>
                <a:srgbClr val="000000"/>
              </a:buClr>
              <a:buSzPct val="6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87720" indent="-345960">
              <a:spcBef>
                <a:spcPts val="799"/>
              </a:spcBef>
              <a:buClr>
                <a:srgbClr val="000000"/>
              </a:buClr>
              <a:buSzPct val="6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248520" y="64008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Times New Roman"/>
              </a:rPr>
              <a:t>L. Wang          28/01/00              </a:t>
            </a:r>
            <a:fld id="{7DDF4C3A-E7AD-4F93-8C48-54AC85A9E23E}" type="slidenum">
              <a:rPr b="0" lang="en-GB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r>
              <a:rPr b="0" lang="en-GB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6400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1760" y="12952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Times New Roman"/>
              </a:rPr>
              <a:t>Interoperabil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3352680"/>
            <a:ext cx="7238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Lichun W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mail: lcwang@ebi.ac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Interoperable Object References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(IOR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71600" y="228564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OR consists of  2 main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ype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fi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6600ff"/>
                </a:solidFill>
                <a:latin typeface="Times New Roman"/>
              </a:rPr>
              <a:t>IIOP-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6600ff"/>
                </a:solidFill>
                <a:latin typeface="Times New Roman"/>
              </a:rPr>
              <a:t>the endpoint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6600ff"/>
                </a:solidFill>
                <a:latin typeface="Times New Roman"/>
              </a:rPr>
              <a:t>the object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Structure of an 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ype ID: "IDL:ooc.com_CosNaming_ExtNamingContext:1.0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IOP 1.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193.62.196.63 44730 "DefaultNamingContex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71600" y="4724280"/>
            <a:ext cx="6476760" cy="685800"/>
            <a:chOff x="1371600" y="4724280"/>
            <a:chExt cx="6476760" cy="685800"/>
          </a:xfrm>
        </p:grpSpPr>
        <p:sp>
          <p:nvSpPr>
            <p:cNvPr id="319" name=""/>
            <p:cNvSpPr/>
            <p:nvPr/>
          </p:nvSpPr>
          <p:spPr>
            <a:xfrm>
              <a:off x="1371600" y="4724280"/>
              <a:ext cx="6476760" cy="6858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epository ID   Data for protocol 1  Data for protocol 2 …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71800" y="47242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05160" y="47242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62560" y="47242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276720" y="1905120"/>
            <a:ext cx="2286000" cy="457200"/>
          </a:xfrm>
          <a:prstGeom prst="wedgeRoundRectCallout">
            <a:avLst>
              <a:gd name="adj1" fmla="val -52708"/>
              <a:gd name="adj2" fmla="val 70138"/>
              <a:gd name="adj3" fmla="val 16667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ository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3124080"/>
            <a:ext cx="990720" cy="4572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81280" y="3200400"/>
            <a:ext cx="1219320" cy="380880"/>
          </a:xfrm>
          <a:prstGeom prst="wedgeRectCallout">
            <a:avLst>
              <a:gd name="adj1" fmla="val -44532"/>
              <a:gd name="adj2" fmla="val 70000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5880" y="3124080"/>
            <a:ext cx="1743120" cy="459720"/>
          </a:xfrm>
          <a:prstGeom prst="borderCallout2">
            <a:avLst>
              <a:gd name="adj1" fmla="val 18750"/>
              <a:gd name="adj2" fmla="val -8333"/>
              <a:gd name="adj3" fmla="val 24324"/>
              <a:gd name="adj4" fmla="val -4370"/>
              <a:gd name="adj5" fmla="val 128949"/>
              <a:gd name="adj6" fmla="val -2785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More IOR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4678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ype ID: "IDL:nsdb/Embl:1.0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rofil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1. IIOP 1.0 bach.ebi.ac.uk 1575 ":\bach.ebi.ac.uk:myemblserver:0::IR:nsdb_Embl.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2. Multiple Component Ta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51325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4324"/>
              <a:gd name="adj4" fmla="val -2703"/>
              <a:gd name="adj5" fmla="val -86615"/>
              <a:gd name="adj6" fmla="val -6114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ple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DCE ESI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vironment Specific Inter-ORB Protocol ( ESIOP) is specified for OSF DCE environment, DCE Common Inter-ORB Protocol (DCE-CIO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00600" y="4419720"/>
            <a:ext cx="1905120" cy="581400"/>
          </a:xfrm>
          <a:prstGeom prst="borderCallout2">
            <a:avLst>
              <a:gd name="adj1" fmla="val 18750"/>
              <a:gd name="adj2" fmla="val -8333"/>
              <a:gd name="adj3" fmla="val 19300"/>
              <a:gd name="adj4" fmla="val -4000"/>
              <a:gd name="adj5" fmla="val -43870"/>
              <a:gd name="adj6" fmla="val -5348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ff"/>
                </a:solidFill>
                <a:latin typeface="Times New Roman"/>
              </a:rPr>
              <a:t>op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Inter-ORB Protocol Relationsh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52680" y="2666880"/>
            <a:ext cx="2362320" cy="459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BA/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3962520"/>
            <a:ext cx="2514600" cy="45972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OP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33720" y="4419720"/>
            <a:ext cx="914400" cy="10159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4419720"/>
            <a:ext cx="1371600" cy="642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G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43600" y="4495680"/>
            <a:ext cx="1295280" cy="457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91320" y="4191120"/>
            <a:ext cx="1295280" cy="46980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3962520"/>
            <a:ext cx="1295280" cy="45972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I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429000" y="3124080"/>
            <a:ext cx="99072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00600" y="3124080"/>
            <a:ext cx="121932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066680" y="2666880"/>
            <a:ext cx="1752840" cy="1981440"/>
            <a:chOff x="1066680" y="2666880"/>
            <a:chExt cx="1752840" cy="1981440"/>
          </a:xfrm>
        </p:grpSpPr>
        <p:sp>
          <p:nvSpPr>
            <p:cNvPr id="344" name=""/>
            <p:cNvSpPr/>
            <p:nvPr/>
          </p:nvSpPr>
          <p:spPr>
            <a:xfrm>
              <a:off x="1066680" y="26668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Mandatory for COR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981080" y="3429000"/>
              <a:ext cx="533520" cy="5335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6520" y="3429000"/>
              <a:ext cx="457200" cy="12193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552720" y="2743200"/>
            <a:ext cx="1753200" cy="1143000"/>
            <a:chOff x="6552720" y="2743200"/>
            <a:chExt cx="1753200" cy="1143000"/>
          </a:xfrm>
        </p:grpSpPr>
        <p:sp>
          <p:nvSpPr>
            <p:cNvPr id="348" name=""/>
            <p:cNvSpPr/>
            <p:nvPr/>
          </p:nvSpPr>
          <p:spPr>
            <a:xfrm>
              <a:off x="6934320" y="2743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9900"/>
                  </a:solidFill>
                  <a:latin typeface="Times New Roman"/>
                </a:rPr>
                <a:t>option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552720" y="3276720"/>
              <a:ext cx="685800" cy="609480"/>
            </a:xfrm>
            <a:prstGeom prst="line">
              <a:avLst/>
            </a:prstGeom>
            <a:ln w="31680">
              <a:solidFill>
                <a:srgbClr val="00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Interoperability User Ro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5520" indent="-335520">
              <a:lnSpc>
                <a:spcPct val="150000"/>
              </a:lnSpc>
              <a:spcBef>
                <a:spcPts val="601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d users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the distribute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520" indent="-335520">
              <a:lnSpc>
                <a:spcPct val="150000"/>
              </a:lnSpc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ystem administrators &amp; ORB purchas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5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lect, purchase, install, configure, or maintain network of distributed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520" indent="-335520">
              <a:lnSpc>
                <a:spcPct val="150000"/>
              </a:lnSpc>
              <a:spcBef>
                <a:spcPts val="4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ct Programmers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gram clients and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520" indent="-335520">
              <a:lnSpc>
                <a:spcPct val="150000"/>
              </a:lnSpc>
              <a:spcBef>
                <a:spcPts val="4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B implementor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gram ORB interoper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95480" y="1523880"/>
            <a:ext cx="4953240" cy="762120"/>
          </a:xfrm>
          <a:prstGeom prst="cloudCallout">
            <a:avLst>
              <a:gd name="adj1" fmla="val -48365"/>
              <a:gd name="adj2" fmla="val 70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not see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43200" y="4343400"/>
            <a:ext cx="4038480" cy="533520"/>
          </a:xfrm>
          <a:prstGeom prst="wedgeRoundRectCallout">
            <a:avLst>
              <a:gd name="adj1" fmla="val -43518"/>
              <a:gd name="adj2" fmla="val 75597"/>
              <a:gd name="adj3" fmla="val 16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operability is trans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5334120"/>
            <a:ext cx="3352680" cy="459720"/>
          </a:xfrm>
          <a:prstGeom prst="borderCallout2">
            <a:avLst>
              <a:gd name="adj1" fmla="val 18750"/>
              <a:gd name="adj2" fmla="val -8333"/>
              <a:gd name="adj3" fmla="val 24324"/>
              <a:gd name="adj4" fmla="val -23578"/>
              <a:gd name="adj5" fmla="val 95615"/>
              <a:gd name="adj6" fmla="val -45736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y with GIOP/II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90920" y="2689200"/>
            <a:ext cx="6019560" cy="459720"/>
          </a:xfrm>
          <a:prstGeom prst="borderCallout2">
            <a:avLst>
              <a:gd name="adj1" fmla="val 18750"/>
              <a:gd name="adj2" fmla="val -8333"/>
              <a:gd name="adj3" fmla="val 24324"/>
              <a:gd name="adj4" fmla="val -5222"/>
              <a:gd name="adj5" fmla="val 102814"/>
              <a:gd name="adj6" fmla="val -9328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ledge of interoperability protocols hel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4674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Future Topic: Interoperability 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with non-CORBA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61976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crosoft’s version for distributed objec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imes New Roman"/>
              </a:rPr>
              <a:t>COM--Component Object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imes New Roman"/>
              </a:rPr>
              <a:t>DCOM--Distributed Component Object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ow effective access to CORBA servers through DCOM and the re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3751200" y="3068640"/>
            <a:ext cx="711360" cy="512640"/>
            <a:chOff x="3751200" y="3068640"/>
            <a:chExt cx="711360" cy="512640"/>
          </a:xfrm>
        </p:grpSpPr>
        <p:sp>
          <p:nvSpPr>
            <p:cNvPr id="359" name=""/>
            <p:cNvSpPr/>
            <p:nvPr/>
          </p:nvSpPr>
          <p:spPr>
            <a:xfrm>
              <a:off x="3751200" y="3068640"/>
              <a:ext cx="711360" cy="5126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62800" y="3133800"/>
              <a:ext cx="54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Sk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492280" y="3068640"/>
            <a:ext cx="730440" cy="527040"/>
            <a:chOff x="2492280" y="3068640"/>
            <a:chExt cx="730440" cy="527040"/>
          </a:xfrm>
        </p:grpSpPr>
        <p:sp>
          <p:nvSpPr>
            <p:cNvPr id="362" name=""/>
            <p:cNvSpPr/>
            <p:nvPr/>
          </p:nvSpPr>
          <p:spPr>
            <a:xfrm>
              <a:off x="2492280" y="3068640"/>
              <a:ext cx="730440" cy="5270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47000" y="3135600"/>
              <a:ext cx="56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Times New Roman"/>
                </a:rPr>
                <a:t>St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581280" y="4724280"/>
            <a:ext cx="2078280" cy="7858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52680" y="4572000"/>
            <a:ext cx="2078280" cy="785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4343400"/>
            <a:ext cx="2078280" cy="785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4114800"/>
            <a:ext cx="2078280" cy="7858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66880" y="3862440"/>
            <a:ext cx="2078280" cy="785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38280" y="3581280"/>
            <a:ext cx="2078280" cy="785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43200" y="3809880"/>
            <a:ext cx="136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492280" y="3068640"/>
            <a:ext cx="1970280" cy="527040"/>
            <a:chOff x="2492280" y="3068640"/>
            <a:chExt cx="1970280" cy="527040"/>
          </a:xfrm>
        </p:grpSpPr>
        <p:grpSp>
          <p:nvGrpSpPr>
            <p:cNvPr id="372" name=""/>
            <p:cNvGrpSpPr/>
            <p:nvPr/>
          </p:nvGrpSpPr>
          <p:grpSpPr>
            <a:xfrm>
              <a:off x="3751200" y="3068640"/>
              <a:ext cx="711360" cy="512640"/>
              <a:chOff x="3751200" y="3068640"/>
              <a:chExt cx="711360" cy="512640"/>
            </a:xfrm>
          </p:grpSpPr>
          <p:sp>
            <p:nvSpPr>
              <p:cNvPr id="373" name=""/>
              <p:cNvSpPr/>
              <p:nvPr/>
            </p:nvSpPr>
            <p:spPr>
              <a:xfrm>
                <a:off x="3751200" y="3068640"/>
                <a:ext cx="711360" cy="5126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862800" y="3133800"/>
                <a:ext cx="547200" cy="3052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Sk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2492280" y="3068640"/>
              <a:ext cx="730440" cy="527040"/>
              <a:chOff x="2492280" y="3068640"/>
              <a:chExt cx="730440" cy="527040"/>
            </a:xfrm>
          </p:grpSpPr>
          <p:sp>
            <p:nvSpPr>
              <p:cNvPr id="376" name=""/>
              <p:cNvSpPr/>
              <p:nvPr/>
            </p:nvSpPr>
            <p:spPr>
              <a:xfrm>
                <a:off x="2492280" y="3068640"/>
                <a:ext cx="730440" cy="5270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547000" y="3135600"/>
                <a:ext cx="560880" cy="3052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0000"/>
                    </a:solidFill>
                    <a:latin typeface="Times New Roman"/>
                  </a:rPr>
                  <a:t>Stu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8" name=""/>
          <p:cNvGrpSpPr/>
          <p:nvPr/>
        </p:nvGrpSpPr>
        <p:grpSpPr>
          <a:xfrm>
            <a:off x="2438280" y="2362320"/>
            <a:ext cx="898560" cy="726840"/>
            <a:chOff x="2438280" y="2362320"/>
            <a:chExt cx="898560" cy="726840"/>
          </a:xfrm>
        </p:grpSpPr>
        <p:sp>
          <p:nvSpPr>
            <p:cNvPr id="379" name=""/>
            <p:cNvSpPr/>
            <p:nvPr/>
          </p:nvSpPr>
          <p:spPr>
            <a:xfrm>
              <a:off x="2438280" y="2362320"/>
              <a:ext cx="898560" cy="7268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50600" y="2507400"/>
              <a:ext cx="731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641760" y="2362320"/>
            <a:ext cx="874800" cy="707760"/>
            <a:chOff x="3641760" y="2362320"/>
            <a:chExt cx="874800" cy="707760"/>
          </a:xfrm>
        </p:grpSpPr>
        <p:sp>
          <p:nvSpPr>
            <p:cNvPr id="382" name=""/>
            <p:cNvSpPr/>
            <p:nvPr/>
          </p:nvSpPr>
          <p:spPr>
            <a:xfrm>
              <a:off x="3641760" y="2362320"/>
              <a:ext cx="874800" cy="7077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95040" y="2503440"/>
              <a:ext cx="767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790720" y="2819520"/>
            <a:ext cx="1413360" cy="1128600"/>
            <a:chOff x="2790720" y="2819520"/>
            <a:chExt cx="1413360" cy="1128600"/>
          </a:xfrm>
        </p:grpSpPr>
        <p:grpSp>
          <p:nvGrpSpPr>
            <p:cNvPr id="385" name=""/>
            <p:cNvGrpSpPr/>
            <p:nvPr/>
          </p:nvGrpSpPr>
          <p:grpSpPr>
            <a:xfrm>
              <a:off x="2790720" y="2819520"/>
              <a:ext cx="618480" cy="1110240"/>
              <a:chOff x="2790720" y="2819520"/>
              <a:chExt cx="618480" cy="1110240"/>
            </a:xfrm>
          </p:grpSpPr>
          <p:sp>
            <p:nvSpPr>
              <p:cNvPr id="386" name=""/>
              <p:cNvSpPr/>
              <p:nvPr/>
            </p:nvSpPr>
            <p:spPr>
              <a:xfrm flipH="1">
                <a:off x="2822760" y="2819520"/>
                <a:ext cx="1440" cy="87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0575600">
                <a:off x="2809800" y="3301200"/>
                <a:ext cx="579960" cy="61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575" y="28"/>
                    </a:moveTo>
                    <a:arcTo wR="10800" hR="10800" stAng="-5153003" swAng="5153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575" y="28"/>
                    </a:moveTo>
                    <a:arcTo wR="10800" hR="10800" stAng="-5153003" swAng="5153003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3589200" y="2819520"/>
              <a:ext cx="614880" cy="1128600"/>
              <a:chOff x="3589200" y="2819520"/>
              <a:chExt cx="614880" cy="1128600"/>
            </a:xfrm>
          </p:grpSpPr>
          <p:sp>
            <p:nvSpPr>
              <p:cNvPr id="389" name=""/>
              <p:cNvSpPr/>
              <p:nvPr/>
            </p:nvSpPr>
            <p:spPr>
              <a:xfrm rot="5620200">
                <a:off x="3584880" y="3330720"/>
                <a:ext cx="622800" cy="57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575" y="28"/>
                    </a:moveTo>
                    <a:arcTo wR="10800" hR="10800" stAng="-5153003" swAng="5153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575" y="28"/>
                    </a:moveTo>
                    <a:arcTo wR="10800" hR="10800" stAng="-5153003" swAng="5153003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4175280" y="2819520"/>
                <a:ext cx="0" cy="870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3886200" y="2438280"/>
            <a:ext cx="874800" cy="708120"/>
            <a:chOff x="3886200" y="2438280"/>
            <a:chExt cx="874800" cy="708120"/>
          </a:xfrm>
        </p:grpSpPr>
        <p:sp>
          <p:nvSpPr>
            <p:cNvPr id="392" name=""/>
            <p:cNvSpPr/>
            <p:nvPr/>
          </p:nvSpPr>
          <p:spPr>
            <a:xfrm>
              <a:off x="3886200" y="2438280"/>
              <a:ext cx="874800" cy="708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39480" y="2579760"/>
              <a:ext cx="76752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114800" y="2514600"/>
            <a:ext cx="874800" cy="708120"/>
            <a:chOff x="4114800" y="2514600"/>
            <a:chExt cx="874800" cy="708120"/>
          </a:xfrm>
        </p:grpSpPr>
        <p:sp>
          <p:nvSpPr>
            <p:cNvPr id="395" name=""/>
            <p:cNvSpPr/>
            <p:nvPr/>
          </p:nvSpPr>
          <p:spPr>
            <a:xfrm>
              <a:off x="4114800" y="2514600"/>
              <a:ext cx="874800" cy="7081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168080" y="2656080"/>
              <a:ext cx="767520" cy="305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343400" y="2590920"/>
            <a:ext cx="874800" cy="707760"/>
            <a:chOff x="4343400" y="2590920"/>
            <a:chExt cx="874800" cy="707760"/>
          </a:xfrm>
        </p:grpSpPr>
        <p:sp>
          <p:nvSpPr>
            <p:cNvPr id="398" name=""/>
            <p:cNvSpPr/>
            <p:nvPr/>
          </p:nvSpPr>
          <p:spPr>
            <a:xfrm>
              <a:off x="4343400" y="2590920"/>
              <a:ext cx="874800" cy="7077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96680" y="2732040"/>
              <a:ext cx="767520" cy="30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572000" y="2666880"/>
            <a:ext cx="874800" cy="708120"/>
            <a:chOff x="4572000" y="2666880"/>
            <a:chExt cx="874800" cy="708120"/>
          </a:xfrm>
        </p:grpSpPr>
        <p:sp>
          <p:nvSpPr>
            <p:cNvPr id="401" name=""/>
            <p:cNvSpPr/>
            <p:nvPr/>
          </p:nvSpPr>
          <p:spPr>
            <a:xfrm>
              <a:off x="4572000" y="2666880"/>
              <a:ext cx="874800" cy="7081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25280" y="2808360"/>
              <a:ext cx="767520" cy="305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800600" y="2743200"/>
            <a:ext cx="874800" cy="708120"/>
            <a:chOff x="4800600" y="2743200"/>
            <a:chExt cx="874800" cy="708120"/>
          </a:xfrm>
        </p:grpSpPr>
        <p:sp>
          <p:nvSpPr>
            <p:cNvPr id="404" name=""/>
            <p:cNvSpPr/>
            <p:nvPr/>
          </p:nvSpPr>
          <p:spPr>
            <a:xfrm>
              <a:off x="4800600" y="2743200"/>
              <a:ext cx="874800" cy="70812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53880" y="2884680"/>
              <a:ext cx="767520" cy="305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1166760"/>
            <a:ext cx="3025800" cy="32529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6324480" y="26668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operability &amp;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373392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5880" y="4419720"/>
            <a:ext cx="27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uccess of CORB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ne Last W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3581280"/>
            <a:ext cx="152640" cy="825480"/>
          </a:xfrm>
          <a:custGeom>
            <a:avLst/>
            <a:gdLst/>
            <a:ahLst/>
            <a:rect l="l" t="t" r="r" b="b"/>
            <a:pathLst>
              <a:path w="192" h="520">
                <a:moveTo>
                  <a:pt x="48" y="0"/>
                </a:moveTo>
                <a:cubicBezTo>
                  <a:pt x="120" y="80"/>
                  <a:pt x="192" y="160"/>
                  <a:pt x="192" y="240"/>
                </a:cubicBezTo>
                <a:cubicBezTo>
                  <a:pt x="192" y="320"/>
                  <a:pt x="80" y="440"/>
                  <a:pt x="48" y="480"/>
                </a:cubicBezTo>
                <a:cubicBezTo>
                  <a:pt x="16" y="520"/>
                  <a:pt x="8" y="500"/>
                  <a:pt x="0" y="48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581280"/>
            <a:ext cx="152280" cy="825480"/>
          </a:xfrm>
          <a:custGeom>
            <a:avLst/>
            <a:gdLst/>
            <a:ahLst/>
            <a:rect l="l" t="t" r="r" b="b"/>
            <a:pathLst>
              <a:path w="192" h="520">
                <a:moveTo>
                  <a:pt x="48" y="0"/>
                </a:moveTo>
                <a:cubicBezTo>
                  <a:pt x="120" y="80"/>
                  <a:pt x="192" y="160"/>
                  <a:pt x="192" y="240"/>
                </a:cubicBezTo>
                <a:cubicBezTo>
                  <a:pt x="192" y="320"/>
                  <a:pt x="80" y="440"/>
                  <a:pt x="48" y="480"/>
                </a:cubicBezTo>
                <a:cubicBezTo>
                  <a:pt x="16" y="520"/>
                  <a:pt x="8" y="500"/>
                  <a:pt x="0" y="48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550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MG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, CORBA/IIOP 2.3.1 Specification,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Chapter 12-20, 99-10-07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ttp://www.omg.org/corba/cichpter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550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iegel J,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CORBA fundamentals and programming,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John Wiley &amp;Sons, INC, 199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550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anning, M. &amp; Vinoski, S.,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Advanced CORBA Programming with C++,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Addison Wesley, 1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550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cina, M. and Trecordi, V., Convergence of telecommunications and computing on networking models for integrated services and applications,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Proceedings of  the IEE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, 199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2701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2701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ccess to objects implemented by different tools using I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2701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ccess to objects implemented by different tools via Naming Ser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is the interoperability achie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operability user 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ture topic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operability with non-CORBA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768320" y="2895480"/>
            <a:ext cx="2078280" cy="785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822320" y="2382840"/>
            <a:ext cx="711360" cy="512640"/>
            <a:chOff x="1822320" y="2382840"/>
            <a:chExt cx="711360" cy="512640"/>
          </a:xfrm>
        </p:grpSpPr>
        <p:sp>
          <p:nvSpPr>
            <p:cNvPr id="419" name=""/>
            <p:cNvSpPr/>
            <p:nvPr/>
          </p:nvSpPr>
          <p:spPr>
            <a:xfrm>
              <a:off x="1822320" y="2382840"/>
              <a:ext cx="711360" cy="5126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75600" y="2446560"/>
              <a:ext cx="54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Times New Roman"/>
                </a:rPr>
                <a:t>St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149560" y="3048120"/>
            <a:ext cx="136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RB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RBa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3081240" y="2382840"/>
            <a:ext cx="711360" cy="512640"/>
            <a:chOff x="3081240" y="2382840"/>
            <a:chExt cx="711360" cy="512640"/>
          </a:xfrm>
        </p:grpSpPr>
        <p:sp>
          <p:nvSpPr>
            <p:cNvPr id="423" name=""/>
            <p:cNvSpPr/>
            <p:nvPr/>
          </p:nvSpPr>
          <p:spPr>
            <a:xfrm>
              <a:off x="3081240" y="2382840"/>
              <a:ext cx="711360" cy="5126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92840" y="2448000"/>
              <a:ext cx="54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Sk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768320" y="1676520"/>
            <a:ext cx="874800" cy="707760"/>
            <a:chOff x="1768320" y="1676520"/>
            <a:chExt cx="874800" cy="707760"/>
          </a:xfrm>
        </p:grpSpPr>
        <p:sp>
          <p:nvSpPr>
            <p:cNvPr id="426" name=""/>
            <p:cNvSpPr/>
            <p:nvPr/>
          </p:nvSpPr>
          <p:spPr>
            <a:xfrm>
              <a:off x="1768320" y="1676520"/>
              <a:ext cx="874800" cy="7077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77760" y="1817640"/>
              <a:ext cx="711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971800" y="1676520"/>
            <a:ext cx="874800" cy="707760"/>
            <a:chOff x="2971800" y="1676520"/>
            <a:chExt cx="874800" cy="707760"/>
          </a:xfrm>
        </p:grpSpPr>
        <p:sp>
          <p:nvSpPr>
            <p:cNvPr id="429" name=""/>
            <p:cNvSpPr/>
            <p:nvPr/>
          </p:nvSpPr>
          <p:spPr>
            <a:xfrm>
              <a:off x="2971800" y="1676520"/>
              <a:ext cx="874800" cy="7077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25080" y="1817640"/>
              <a:ext cx="767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5121360" y="1676520"/>
            <a:ext cx="1697040" cy="1753200"/>
            <a:chOff x="5121360" y="1676520"/>
            <a:chExt cx="1697040" cy="1753200"/>
          </a:xfrm>
        </p:grpSpPr>
        <p:grpSp>
          <p:nvGrpSpPr>
            <p:cNvPr id="432" name=""/>
            <p:cNvGrpSpPr/>
            <p:nvPr/>
          </p:nvGrpSpPr>
          <p:grpSpPr>
            <a:xfrm>
              <a:off x="5121360" y="2382840"/>
              <a:ext cx="1671480" cy="1046880"/>
              <a:chOff x="5121360" y="2382840"/>
              <a:chExt cx="1671480" cy="1046880"/>
            </a:xfrm>
          </p:grpSpPr>
          <p:sp>
            <p:nvSpPr>
              <p:cNvPr id="433" name=""/>
              <p:cNvSpPr/>
              <p:nvPr/>
            </p:nvSpPr>
            <p:spPr>
              <a:xfrm>
                <a:off x="5121360" y="2819520"/>
                <a:ext cx="1671480" cy="610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ORB1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Orbix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4" name=""/>
              <p:cNvGrpSpPr/>
              <p:nvPr/>
            </p:nvGrpSpPr>
            <p:grpSpPr>
              <a:xfrm>
                <a:off x="6035760" y="2382840"/>
                <a:ext cx="685800" cy="436680"/>
                <a:chOff x="6035760" y="2382840"/>
                <a:chExt cx="685800" cy="43668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6035760" y="2382840"/>
                  <a:ext cx="685800" cy="436680"/>
                </a:xfrm>
                <a:prstGeom prst="rect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143400" y="2438280"/>
                  <a:ext cx="526320" cy="3052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Sk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7" name=""/>
            <p:cNvGrpSpPr/>
            <p:nvPr/>
          </p:nvGrpSpPr>
          <p:grpSpPr>
            <a:xfrm>
              <a:off x="5943600" y="1676520"/>
              <a:ext cx="874800" cy="706320"/>
              <a:chOff x="5943600" y="1676520"/>
              <a:chExt cx="874800" cy="706320"/>
            </a:xfrm>
          </p:grpSpPr>
          <p:sp>
            <p:nvSpPr>
              <p:cNvPr id="438" name=""/>
              <p:cNvSpPr/>
              <p:nvPr/>
            </p:nvSpPr>
            <p:spPr>
              <a:xfrm>
                <a:off x="5943600" y="1676520"/>
                <a:ext cx="874800" cy="70632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996880" y="1817640"/>
                <a:ext cx="767520" cy="3052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20400" y="2133720"/>
            <a:ext cx="1397520" cy="1128240"/>
            <a:chOff x="2120400" y="2133720"/>
            <a:chExt cx="1397520" cy="1128240"/>
          </a:xfrm>
        </p:grpSpPr>
        <p:grpSp>
          <p:nvGrpSpPr>
            <p:cNvPr id="441" name=""/>
            <p:cNvGrpSpPr/>
            <p:nvPr/>
          </p:nvGrpSpPr>
          <p:grpSpPr>
            <a:xfrm>
              <a:off x="2120400" y="2133720"/>
              <a:ext cx="587520" cy="1109160"/>
              <a:chOff x="2120400" y="2133720"/>
              <a:chExt cx="587520" cy="1109160"/>
            </a:xfrm>
          </p:grpSpPr>
          <p:sp>
            <p:nvSpPr>
              <p:cNvPr id="442" name=""/>
              <p:cNvSpPr/>
              <p:nvPr/>
            </p:nvSpPr>
            <p:spPr>
              <a:xfrm flipH="1">
                <a:off x="2152800" y="2133720"/>
                <a:ext cx="1440" cy="87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0575600">
                <a:off x="2139480" y="2615400"/>
                <a:ext cx="549000" cy="61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575" y="28"/>
                    </a:moveTo>
                    <a:arcTo wR="10800" hR="10800" stAng="-5153003" swAng="5153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575" y="28"/>
                    </a:moveTo>
                    <a:arcTo wR="10800" hR="10800" stAng="-5153003" swAng="5153003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935080" y="2133720"/>
              <a:ext cx="582840" cy="1128240"/>
              <a:chOff x="2935080" y="2133720"/>
              <a:chExt cx="582840" cy="1128240"/>
            </a:xfrm>
          </p:grpSpPr>
          <p:sp>
            <p:nvSpPr>
              <p:cNvPr id="445" name=""/>
              <p:cNvSpPr/>
              <p:nvPr/>
            </p:nvSpPr>
            <p:spPr>
              <a:xfrm rot="5620200">
                <a:off x="2914920" y="2661480"/>
                <a:ext cx="622800" cy="54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575" y="28"/>
                    </a:moveTo>
                    <a:arcTo wR="10800" hR="10800" stAng="-5153003" swAng="5153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575" y="28"/>
                    </a:moveTo>
                    <a:arcTo wR="10800" hR="10800" stAng="-5153003" swAng="5153003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3489480" y="2133720"/>
                <a:ext cx="0" cy="870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6035760" y="4800600"/>
            <a:ext cx="874800" cy="706320"/>
            <a:chOff x="6035760" y="4800600"/>
            <a:chExt cx="874800" cy="706320"/>
          </a:xfrm>
        </p:grpSpPr>
        <p:sp>
          <p:nvSpPr>
            <p:cNvPr id="448" name=""/>
            <p:cNvSpPr/>
            <p:nvPr/>
          </p:nvSpPr>
          <p:spPr>
            <a:xfrm>
              <a:off x="6035760" y="4800600"/>
              <a:ext cx="874800" cy="7063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089040" y="4941720"/>
              <a:ext cx="767520" cy="305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121360" y="3733920"/>
            <a:ext cx="1773000" cy="1066680"/>
            <a:chOff x="5121360" y="3733920"/>
            <a:chExt cx="1773000" cy="1066680"/>
          </a:xfrm>
        </p:grpSpPr>
        <p:grpSp>
          <p:nvGrpSpPr>
            <p:cNvPr id="451" name=""/>
            <p:cNvGrpSpPr/>
            <p:nvPr/>
          </p:nvGrpSpPr>
          <p:grpSpPr>
            <a:xfrm>
              <a:off x="6111720" y="4343400"/>
              <a:ext cx="685440" cy="457200"/>
              <a:chOff x="6111720" y="4343400"/>
              <a:chExt cx="685440" cy="457200"/>
            </a:xfrm>
          </p:grpSpPr>
          <p:sp>
            <p:nvSpPr>
              <p:cNvPr id="452" name=""/>
              <p:cNvSpPr/>
              <p:nvPr/>
            </p:nvSpPr>
            <p:spPr>
              <a:xfrm>
                <a:off x="6111720" y="4343400"/>
                <a:ext cx="685440" cy="45720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61040" y="4401720"/>
                <a:ext cx="529560" cy="3052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Sk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5121360" y="3733920"/>
              <a:ext cx="1773000" cy="6094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73280" y="3733920"/>
              <a:ext cx="1366560" cy="6102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RB2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Orbix3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071800" y="3242520"/>
            <a:ext cx="4599720" cy="1809000"/>
            <a:chOff x="2071800" y="3242520"/>
            <a:chExt cx="4599720" cy="1809000"/>
          </a:xfrm>
        </p:grpSpPr>
        <p:grpSp>
          <p:nvGrpSpPr>
            <p:cNvPr id="457" name=""/>
            <p:cNvGrpSpPr/>
            <p:nvPr/>
          </p:nvGrpSpPr>
          <p:grpSpPr>
            <a:xfrm>
              <a:off x="6332760" y="4034880"/>
              <a:ext cx="338760" cy="1016640"/>
              <a:chOff x="6332760" y="4034880"/>
              <a:chExt cx="338760" cy="1016640"/>
            </a:xfrm>
          </p:grpSpPr>
          <p:sp>
            <p:nvSpPr>
              <p:cNvPr id="458" name=""/>
              <p:cNvSpPr/>
              <p:nvPr/>
            </p:nvSpPr>
            <p:spPr>
              <a:xfrm flipV="1" rot="15979800">
                <a:off x="6220080" y="4173840"/>
                <a:ext cx="563400" cy="30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575" y="28"/>
                    </a:moveTo>
                    <a:arcTo wR="10800" hR="10800" stAng="-5153003" swAng="5153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575" y="28"/>
                    </a:moveTo>
                    <a:arcTo wR="10800" hR="10800" stAng="-5153003" swAng="5153003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645240" y="4264560"/>
                <a:ext cx="0" cy="786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2071800" y="3242520"/>
              <a:ext cx="2154600" cy="795960"/>
              <a:chOff x="2071800" y="3242520"/>
              <a:chExt cx="2154600" cy="795960"/>
            </a:xfrm>
          </p:grpSpPr>
          <p:sp>
            <p:nvSpPr>
              <p:cNvPr id="461" name=""/>
              <p:cNvSpPr/>
              <p:nvPr/>
            </p:nvSpPr>
            <p:spPr>
              <a:xfrm flipV="1">
                <a:off x="4189680" y="3433680"/>
                <a:ext cx="5400" cy="604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flipV="1" rot="10575600">
                <a:off x="2082960" y="3311640"/>
                <a:ext cx="2131560" cy="42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575" y="28"/>
                    </a:moveTo>
                    <a:arcTo wR="10800" hR="10800" stAng="-5153003" swAng="5153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575" y="28"/>
                    </a:moveTo>
                    <a:arcTo wR="10800" hR="10800" stAng="-5153003" swAng="5153003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4206960" y="4038480"/>
              <a:ext cx="1371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1752480" y="3886200"/>
            <a:ext cx="1889280" cy="1773360"/>
            <a:chOff x="1752480" y="3886200"/>
            <a:chExt cx="1889280" cy="1773360"/>
          </a:xfrm>
        </p:grpSpPr>
        <p:grpSp>
          <p:nvGrpSpPr>
            <p:cNvPr id="465" name=""/>
            <p:cNvGrpSpPr/>
            <p:nvPr/>
          </p:nvGrpSpPr>
          <p:grpSpPr>
            <a:xfrm>
              <a:off x="1828800" y="4952880"/>
              <a:ext cx="874800" cy="706680"/>
              <a:chOff x="1828800" y="4952880"/>
              <a:chExt cx="874800" cy="706680"/>
            </a:xfrm>
          </p:grpSpPr>
          <p:sp>
            <p:nvSpPr>
              <p:cNvPr id="466" name=""/>
              <p:cNvSpPr/>
              <p:nvPr/>
            </p:nvSpPr>
            <p:spPr>
              <a:xfrm>
                <a:off x="1828800" y="4952880"/>
                <a:ext cx="874800" cy="70668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882080" y="5094000"/>
                <a:ext cx="767520" cy="30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1905120" y="4495680"/>
              <a:ext cx="685800" cy="457200"/>
              <a:chOff x="1905120" y="4495680"/>
              <a:chExt cx="685800" cy="457200"/>
            </a:xfrm>
          </p:grpSpPr>
          <p:sp>
            <p:nvSpPr>
              <p:cNvPr id="469" name=""/>
              <p:cNvSpPr/>
              <p:nvPr/>
            </p:nvSpPr>
            <p:spPr>
              <a:xfrm>
                <a:off x="1905120" y="4495680"/>
                <a:ext cx="685800" cy="457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954440" y="4554000"/>
                <a:ext cx="529560" cy="30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Sk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1752480" y="3886200"/>
              <a:ext cx="1889280" cy="6094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81080" y="4038480"/>
              <a:ext cx="1366920" cy="30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RBx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216240" y="2057400"/>
            <a:ext cx="3426120" cy="1219320"/>
            <a:chOff x="3216240" y="2057400"/>
            <a:chExt cx="3426120" cy="1219320"/>
          </a:xfrm>
        </p:grpSpPr>
        <p:sp>
          <p:nvSpPr>
            <p:cNvPr id="474" name=""/>
            <p:cNvSpPr/>
            <p:nvPr/>
          </p:nvSpPr>
          <p:spPr>
            <a:xfrm>
              <a:off x="3216240" y="3276720"/>
              <a:ext cx="2209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6211440" y="2057400"/>
              <a:ext cx="430920" cy="1125360"/>
              <a:chOff x="6211440" y="2057400"/>
              <a:chExt cx="430920" cy="1125360"/>
            </a:xfrm>
          </p:grpSpPr>
          <p:sp>
            <p:nvSpPr>
              <p:cNvPr id="476" name=""/>
              <p:cNvSpPr/>
              <p:nvPr/>
            </p:nvSpPr>
            <p:spPr>
              <a:xfrm rot="5620200">
                <a:off x="6115320" y="2663280"/>
                <a:ext cx="622800" cy="39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575" y="28"/>
                    </a:moveTo>
                    <a:arcTo wR="10800" hR="10800" stAng="-5153003" swAng="5153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575" y="28"/>
                    </a:moveTo>
                    <a:arcTo wR="10800" hR="10800" stAng="-5153003" swAng="5153003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6613560" y="2057400"/>
                <a:ext cx="0" cy="870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"/>
          <p:cNvSpPr/>
          <p:nvPr/>
        </p:nvSpPr>
        <p:spPr>
          <a:xfrm>
            <a:off x="2590920" y="9144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ttp://www.ebi.ac.uk/~lcwang/ior/HelloSequence.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67280" y="9907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ttp://www.ebi.ac.uk/~lcwang/ior/HelloSequence1.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67280" y="55627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ttp://www.ebi.ac.uk/~lcwang/ior/HelloSequence2.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5181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ttp://www.ebi.ac.uk/IOR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aming.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971800" y="2895480"/>
            <a:ext cx="152280" cy="825480"/>
            <a:chOff x="2971800" y="2895480"/>
            <a:chExt cx="152280" cy="825480"/>
          </a:xfrm>
        </p:grpSpPr>
        <p:sp>
          <p:nvSpPr>
            <p:cNvPr id="483" name=""/>
            <p:cNvSpPr/>
            <p:nvPr/>
          </p:nvSpPr>
          <p:spPr>
            <a:xfrm>
              <a:off x="2971800" y="2895480"/>
              <a:ext cx="101520" cy="825480"/>
            </a:xfrm>
            <a:custGeom>
              <a:avLst/>
              <a:gdLst/>
              <a:ahLst/>
              <a:rect l="l" t="t" r="r" b="b"/>
              <a:pathLst>
                <a:path w="192" h="520">
                  <a:moveTo>
                    <a:pt x="48" y="0"/>
                  </a:moveTo>
                  <a:cubicBezTo>
                    <a:pt x="120" y="80"/>
                    <a:pt x="192" y="160"/>
                    <a:pt x="192" y="240"/>
                  </a:cubicBezTo>
                  <a:cubicBezTo>
                    <a:pt x="192" y="320"/>
                    <a:pt x="80" y="440"/>
                    <a:pt x="48" y="480"/>
                  </a:cubicBezTo>
                  <a:cubicBezTo>
                    <a:pt x="16" y="520"/>
                    <a:pt x="8" y="500"/>
                    <a:pt x="0" y="480"/>
                  </a:cubicBezTo>
                </a:path>
              </a:pathLst>
            </a:custGeom>
            <a:noFill/>
            <a:ln w="12600">
              <a:solidFill>
                <a:srgbClr val="00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022560" y="2895480"/>
              <a:ext cx="101520" cy="825480"/>
            </a:xfrm>
            <a:custGeom>
              <a:avLst/>
              <a:gdLst/>
              <a:ahLst/>
              <a:rect l="l" t="t" r="r" b="b"/>
              <a:pathLst>
                <a:path w="192" h="520">
                  <a:moveTo>
                    <a:pt x="48" y="0"/>
                  </a:moveTo>
                  <a:cubicBezTo>
                    <a:pt x="120" y="80"/>
                    <a:pt x="192" y="160"/>
                    <a:pt x="192" y="240"/>
                  </a:cubicBezTo>
                  <a:cubicBezTo>
                    <a:pt x="192" y="320"/>
                    <a:pt x="80" y="440"/>
                    <a:pt x="48" y="480"/>
                  </a:cubicBezTo>
                  <a:cubicBezTo>
                    <a:pt x="16" y="520"/>
                    <a:pt x="8" y="500"/>
                    <a:pt x="0" y="480"/>
                  </a:cubicBezTo>
                </a:path>
              </a:pathLst>
            </a:custGeom>
            <a:noFill/>
            <a:ln w="12600">
              <a:solidFill>
                <a:srgbClr val="00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768320" y="2895480"/>
            <a:ext cx="2078280" cy="785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149560" y="3048120"/>
            <a:ext cx="136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RB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RBa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081240" y="2382840"/>
            <a:ext cx="711360" cy="512640"/>
            <a:chOff x="3081240" y="2382840"/>
            <a:chExt cx="711360" cy="512640"/>
          </a:xfrm>
        </p:grpSpPr>
        <p:sp>
          <p:nvSpPr>
            <p:cNvPr id="488" name=""/>
            <p:cNvSpPr/>
            <p:nvPr/>
          </p:nvSpPr>
          <p:spPr>
            <a:xfrm>
              <a:off x="3081240" y="2382840"/>
              <a:ext cx="711360" cy="5126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92840" y="2448000"/>
              <a:ext cx="547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Sk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1768320" y="1676520"/>
            <a:ext cx="898560" cy="1233360"/>
            <a:chOff x="1768320" y="1676520"/>
            <a:chExt cx="898560" cy="1233360"/>
          </a:xfrm>
        </p:grpSpPr>
        <p:grpSp>
          <p:nvGrpSpPr>
            <p:cNvPr id="491" name=""/>
            <p:cNvGrpSpPr/>
            <p:nvPr/>
          </p:nvGrpSpPr>
          <p:grpSpPr>
            <a:xfrm>
              <a:off x="1822320" y="2382840"/>
              <a:ext cx="730440" cy="527040"/>
              <a:chOff x="1822320" y="2382840"/>
              <a:chExt cx="730440" cy="527040"/>
            </a:xfrm>
          </p:grpSpPr>
          <p:sp>
            <p:nvSpPr>
              <p:cNvPr id="492" name=""/>
              <p:cNvSpPr/>
              <p:nvPr/>
            </p:nvSpPr>
            <p:spPr>
              <a:xfrm>
                <a:off x="1822320" y="2382840"/>
                <a:ext cx="730440" cy="5270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877040" y="2449800"/>
                <a:ext cx="560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0000"/>
                    </a:solidFill>
                    <a:latin typeface="Times New Roman"/>
                  </a:rPr>
                  <a:t>Stu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1768320" y="1676520"/>
              <a:ext cx="898560" cy="726840"/>
              <a:chOff x="1768320" y="1676520"/>
              <a:chExt cx="898560" cy="726840"/>
            </a:xfrm>
          </p:grpSpPr>
          <p:sp>
            <p:nvSpPr>
              <p:cNvPr id="495" name=""/>
              <p:cNvSpPr/>
              <p:nvPr/>
            </p:nvSpPr>
            <p:spPr>
              <a:xfrm>
                <a:off x="1768320" y="1676520"/>
                <a:ext cx="898560" cy="72684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80640" y="1821600"/>
                <a:ext cx="731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7" name=""/>
          <p:cNvGrpSpPr/>
          <p:nvPr/>
        </p:nvGrpSpPr>
        <p:grpSpPr>
          <a:xfrm>
            <a:off x="2971800" y="1676520"/>
            <a:ext cx="874800" cy="707760"/>
            <a:chOff x="2971800" y="1676520"/>
            <a:chExt cx="874800" cy="707760"/>
          </a:xfrm>
        </p:grpSpPr>
        <p:sp>
          <p:nvSpPr>
            <p:cNvPr id="498" name=""/>
            <p:cNvSpPr/>
            <p:nvPr/>
          </p:nvSpPr>
          <p:spPr>
            <a:xfrm>
              <a:off x="2971800" y="1676520"/>
              <a:ext cx="874800" cy="7077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25080" y="1817640"/>
              <a:ext cx="767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120760" y="2133720"/>
            <a:ext cx="1413360" cy="1128600"/>
            <a:chOff x="2120760" y="2133720"/>
            <a:chExt cx="1413360" cy="1128600"/>
          </a:xfrm>
        </p:grpSpPr>
        <p:grpSp>
          <p:nvGrpSpPr>
            <p:cNvPr id="501" name=""/>
            <p:cNvGrpSpPr/>
            <p:nvPr/>
          </p:nvGrpSpPr>
          <p:grpSpPr>
            <a:xfrm>
              <a:off x="2120760" y="2133720"/>
              <a:ext cx="618480" cy="1110240"/>
              <a:chOff x="2120760" y="2133720"/>
              <a:chExt cx="618480" cy="1110240"/>
            </a:xfrm>
          </p:grpSpPr>
          <p:sp>
            <p:nvSpPr>
              <p:cNvPr id="502" name=""/>
              <p:cNvSpPr/>
              <p:nvPr/>
            </p:nvSpPr>
            <p:spPr>
              <a:xfrm flipH="1">
                <a:off x="2152800" y="2133720"/>
                <a:ext cx="1440" cy="87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10575600">
                <a:off x="2139840" y="2615400"/>
                <a:ext cx="579960" cy="61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575" y="28"/>
                    </a:moveTo>
                    <a:arcTo wR="10800" hR="10800" stAng="-5153003" swAng="5153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575" y="28"/>
                    </a:moveTo>
                    <a:arcTo wR="10800" hR="10800" stAng="-5153003" swAng="5153003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2919240" y="2133720"/>
              <a:ext cx="614880" cy="1128600"/>
              <a:chOff x="2919240" y="2133720"/>
              <a:chExt cx="614880" cy="1128600"/>
            </a:xfrm>
          </p:grpSpPr>
          <p:sp>
            <p:nvSpPr>
              <p:cNvPr id="505" name=""/>
              <p:cNvSpPr/>
              <p:nvPr/>
            </p:nvSpPr>
            <p:spPr>
              <a:xfrm rot="5620200">
                <a:off x="2914920" y="2644920"/>
                <a:ext cx="622800" cy="57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575" y="28"/>
                    </a:moveTo>
                    <a:arcTo wR="10800" hR="10800" stAng="-5153003" swAng="5153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575" y="28"/>
                    </a:moveTo>
                    <a:arcTo wR="10800" hR="10800" stAng="-5153003" swAng="5153003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3505320" y="2133720"/>
                <a:ext cx="0" cy="870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7" name=""/>
          <p:cNvGrpSpPr/>
          <p:nvPr/>
        </p:nvGrpSpPr>
        <p:grpSpPr>
          <a:xfrm>
            <a:off x="6035760" y="4800600"/>
            <a:ext cx="874800" cy="706320"/>
            <a:chOff x="6035760" y="4800600"/>
            <a:chExt cx="874800" cy="706320"/>
          </a:xfrm>
        </p:grpSpPr>
        <p:sp>
          <p:nvSpPr>
            <p:cNvPr id="508" name=""/>
            <p:cNvSpPr/>
            <p:nvPr/>
          </p:nvSpPr>
          <p:spPr>
            <a:xfrm>
              <a:off x="6035760" y="4800600"/>
              <a:ext cx="874800" cy="7063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89040" y="4941720"/>
              <a:ext cx="767520" cy="305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121360" y="3733920"/>
            <a:ext cx="1773000" cy="1066680"/>
            <a:chOff x="5121360" y="3733920"/>
            <a:chExt cx="1773000" cy="1066680"/>
          </a:xfrm>
        </p:grpSpPr>
        <p:grpSp>
          <p:nvGrpSpPr>
            <p:cNvPr id="511" name=""/>
            <p:cNvGrpSpPr/>
            <p:nvPr/>
          </p:nvGrpSpPr>
          <p:grpSpPr>
            <a:xfrm>
              <a:off x="6111720" y="4343400"/>
              <a:ext cx="685440" cy="457200"/>
              <a:chOff x="6111720" y="4343400"/>
              <a:chExt cx="685440" cy="457200"/>
            </a:xfrm>
          </p:grpSpPr>
          <p:sp>
            <p:nvSpPr>
              <p:cNvPr id="512" name=""/>
              <p:cNvSpPr/>
              <p:nvPr/>
            </p:nvSpPr>
            <p:spPr>
              <a:xfrm>
                <a:off x="6111720" y="4343400"/>
                <a:ext cx="685440" cy="45720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61040" y="4401720"/>
                <a:ext cx="529560" cy="3052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Sk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5121360" y="3733920"/>
              <a:ext cx="1773000" cy="6094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73280" y="3733920"/>
              <a:ext cx="1366560" cy="6102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RB2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Orbix3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2071800" y="3242520"/>
            <a:ext cx="4660560" cy="1809000"/>
            <a:chOff x="2071800" y="3242520"/>
            <a:chExt cx="4660560" cy="1809000"/>
          </a:xfrm>
        </p:grpSpPr>
        <p:grpSp>
          <p:nvGrpSpPr>
            <p:cNvPr id="517" name=""/>
            <p:cNvGrpSpPr/>
            <p:nvPr/>
          </p:nvGrpSpPr>
          <p:grpSpPr>
            <a:xfrm>
              <a:off x="6392880" y="4034520"/>
              <a:ext cx="339480" cy="1017000"/>
              <a:chOff x="6392880" y="4034520"/>
              <a:chExt cx="339480" cy="1017000"/>
            </a:xfrm>
          </p:grpSpPr>
          <p:sp>
            <p:nvSpPr>
              <p:cNvPr id="518" name=""/>
              <p:cNvSpPr/>
              <p:nvPr/>
            </p:nvSpPr>
            <p:spPr>
              <a:xfrm flipV="1" rot="15979800">
                <a:off x="6280560" y="4173120"/>
                <a:ext cx="563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575" y="28"/>
                    </a:moveTo>
                    <a:arcTo wR="10800" hR="10800" stAng="-5153003" swAng="5153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575" y="28"/>
                    </a:moveTo>
                    <a:arcTo wR="10800" hR="10800" stAng="-5153003" swAng="5153003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05720" y="4264560"/>
                <a:ext cx="0" cy="786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2071800" y="3242520"/>
              <a:ext cx="3506760" cy="795960"/>
              <a:chOff x="2071800" y="3242520"/>
              <a:chExt cx="3506760" cy="79596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2071800" y="3242520"/>
                <a:ext cx="2154600" cy="795960"/>
                <a:chOff x="2071800" y="3242520"/>
                <a:chExt cx="2154600" cy="795960"/>
              </a:xfrm>
            </p:grpSpPr>
            <p:sp>
              <p:nvSpPr>
                <p:cNvPr id="522" name=""/>
                <p:cNvSpPr/>
                <p:nvPr/>
              </p:nvSpPr>
              <p:spPr>
                <a:xfrm flipV="1">
                  <a:off x="4189680" y="3433680"/>
                  <a:ext cx="5400" cy="604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 flipV="1" rot="10575600">
                  <a:off x="2082960" y="3311640"/>
                  <a:ext cx="2131560" cy="421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575" y="28"/>
                      </a:moveTo>
                      <a:arcTo wR="10800" hR="10800" stAng="-5153003" swAng="51530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575" y="28"/>
                      </a:moveTo>
                      <a:arcTo wR="10800" hR="10800" stAng="-5153003" swAng="5153003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4" name=""/>
              <p:cNvSpPr/>
              <p:nvPr/>
            </p:nvSpPr>
            <p:spPr>
              <a:xfrm>
                <a:off x="4206960" y="4038480"/>
                <a:ext cx="1371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5" name=""/>
          <p:cNvGrpSpPr/>
          <p:nvPr/>
        </p:nvGrpSpPr>
        <p:grpSpPr>
          <a:xfrm>
            <a:off x="1752480" y="3886200"/>
            <a:ext cx="1889280" cy="1773360"/>
            <a:chOff x="1752480" y="3886200"/>
            <a:chExt cx="1889280" cy="1773360"/>
          </a:xfrm>
        </p:grpSpPr>
        <p:grpSp>
          <p:nvGrpSpPr>
            <p:cNvPr id="526" name=""/>
            <p:cNvGrpSpPr/>
            <p:nvPr/>
          </p:nvGrpSpPr>
          <p:grpSpPr>
            <a:xfrm>
              <a:off x="1828800" y="4952880"/>
              <a:ext cx="874800" cy="706680"/>
              <a:chOff x="1828800" y="4952880"/>
              <a:chExt cx="874800" cy="706680"/>
            </a:xfrm>
          </p:grpSpPr>
          <p:sp>
            <p:nvSpPr>
              <p:cNvPr id="527" name=""/>
              <p:cNvSpPr/>
              <p:nvPr/>
            </p:nvSpPr>
            <p:spPr>
              <a:xfrm>
                <a:off x="1828800" y="4952880"/>
                <a:ext cx="874800" cy="70668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882080" y="5094000"/>
                <a:ext cx="767520" cy="30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1905120" y="4495680"/>
              <a:ext cx="685800" cy="457200"/>
              <a:chOff x="1905120" y="4495680"/>
              <a:chExt cx="685800" cy="457200"/>
            </a:xfrm>
          </p:grpSpPr>
          <p:sp>
            <p:nvSpPr>
              <p:cNvPr id="530" name=""/>
              <p:cNvSpPr/>
              <p:nvPr/>
            </p:nvSpPr>
            <p:spPr>
              <a:xfrm>
                <a:off x="1905120" y="4495680"/>
                <a:ext cx="685800" cy="457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954440" y="4554000"/>
                <a:ext cx="529560" cy="30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Sk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1752480" y="3886200"/>
              <a:ext cx="1889280" cy="6094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81080" y="4038480"/>
              <a:ext cx="1366920" cy="30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RBx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5105520" y="1676520"/>
            <a:ext cx="1712520" cy="1702800"/>
            <a:chOff x="5105520" y="1676520"/>
            <a:chExt cx="1712520" cy="1702800"/>
          </a:xfrm>
        </p:grpSpPr>
        <p:grpSp>
          <p:nvGrpSpPr>
            <p:cNvPr id="535" name=""/>
            <p:cNvGrpSpPr/>
            <p:nvPr/>
          </p:nvGrpSpPr>
          <p:grpSpPr>
            <a:xfrm>
              <a:off x="5105520" y="2351880"/>
              <a:ext cx="1686600" cy="1027440"/>
              <a:chOff x="5105520" y="2351880"/>
              <a:chExt cx="1686600" cy="1027440"/>
            </a:xfrm>
          </p:grpSpPr>
          <p:sp>
            <p:nvSpPr>
              <p:cNvPr id="536" name=""/>
              <p:cNvSpPr/>
              <p:nvPr/>
            </p:nvSpPr>
            <p:spPr>
              <a:xfrm>
                <a:off x="5105520" y="2769120"/>
                <a:ext cx="1686600" cy="610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ORB1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Orbix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6028200" y="2351880"/>
                <a:ext cx="691920" cy="417240"/>
                <a:chOff x="6028200" y="2351880"/>
                <a:chExt cx="691920" cy="4172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6028200" y="2351880"/>
                  <a:ext cx="691920" cy="417240"/>
                </a:xfrm>
                <a:prstGeom prst="rect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136560" y="2405880"/>
                  <a:ext cx="533520" cy="3052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</a:rPr>
                    <a:t>Sk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0" name=""/>
            <p:cNvGrpSpPr/>
            <p:nvPr/>
          </p:nvGrpSpPr>
          <p:grpSpPr>
            <a:xfrm>
              <a:off x="5935320" y="1676520"/>
              <a:ext cx="882720" cy="675360"/>
              <a:chOff x="5935320" y="1676520"/>
              <a:chExt cx="882720" cy="675360"/>
            </a:xfrm>
          </p:grpSpPr>
          <p:sp>
            <p:nvSpPr>
              <p:cNvPr id="541" name=""/>
              <p:cNvSpPr/>
              <p:nvPr/>
            </p:nvSpPr>
            <p:spPr>
              <a:xfrm>
                <a:off x="5935320" y="1676520"/>
                <a:ext cx="882720" cy="6753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988960" y="1811160"/>
                <a:ext cx="774360" cy="3052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3" name=""/>
          <p:cNvGrpSpPr/>
          <p:nvPr/>
        </p:nvGrpSpPr>
        <p:grpSpPr>
          <a:xfrm>
            <a:off x="3216240" y="2057400"/>
            <a:ext cx="3426120" cy="1219320"/>
            <a:chOff x="3216240" y="2057400"/>
            <a:chExt cx="3426120" cy="1219320"/>
          </a:xfrm>
        </p:grpSpPr>
        <p:sp>
          <p:nvSpPr>
            <p:cNvPr id="544" name=""/>
            <p:cNvSpPr/>
            <p:nvPr/>
          </p:nvSpPr>
          <p:spPr>
            <a:xfrm>
              <a:off x="3216240" y="3276720"/>
              <a:ext cx="2209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6211440" y="2057400"/>
              <a:ext cx="430920" cy="1125360"/>
              <a:chOff x="6211440" y="2057400"/>
              <a:chExt cx="430920" cy="1125360"/>
            </a:xfrm>
          </p:grpSpPr>
          <p:sp>
            <p:nvSpPr>
              <p:cNvPr id="546" name=""/>
              <p:cNvSpPr/>
              <p:nvPr/>
            </p:nvSpPr>
            <p:spPr>
              <a:xfrm rot="5620200">
                <a:off x="6115320" y="2663280"/>
                <a:ext cx="622800" cy="39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575" y="28"/>
                    </a:moveTo>
                    <a:arcTo wR="10800" hR="10800" stAng="-5153003" swAng="5153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575" y="28"/>
                    </a:moveTo>
                    <a:arcTo wR="10800" hR="10800" stAng="-5153003" swAng="5153003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6613560" y="2057400"/>
                <a:ext cx="0" cy="870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8" name=""/>
          <p:cNvGrpSpPr/>
          <p:nvPr/>
        </p:nvGrpSpPr>
        <p:grpSpPr>
          <a:xfrm>
            <a:off x="304920" y="2057400"/>
            <a:ext cx="1536480" cy="3200400"/>
            <a:chOff x="304920" y="2057400"/>
            <a:chExt cx="1536480" cy="3200400"/>
          </a:xfrm>
        </p:grpSpPr>
        <p:sp>
          <p:nvSpPr>
            <p:cNvPr id="549" name=""/>
            <p:cNvSpPr/>
            <p:nvPr/>
          </p:nvSpPr>
          <p:spPr>
            <a:xfrm>
              <a:off x="1143000" y="2057400"/>
              <a:ext cx="698400" cy="3200400"/>
            </a:xfrm>
            <a:custGeom>
              <a:avLst/>
              <a:gdLst/>
              <a:ahLst/>
              <a:rect l="l" t="t" r="r" b="b"/>
              <a:pathLst>
                <a:path w="440" h="1440">
                  <a:moveTo>
                    <a:pt x="392" y="0"/>
                  </a:moveTo>
                  <a:cubicBezTo>
                    <a:pt x="196" y="240"/>
                    <a:pt x="0" y="480"/>
                    <a:pt x="8" y="720"/>
                  </a:cubicBezTo>
                  <a:cubicBezTo>
                    <a:pt x="16" y="960"/>
                    <a:pt x="368" y="1320"/>
                    <a:pt x="440" y="1440"/>
                  </a:cubicBezTo>
                </a:path>
              </a:pathLst>
            </a:custGeom>
            <a:noFill/>
            <a:ln w="31680">
              <a:solidFill>
                <a:srgbClr val="0099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4920" y="3790800"/>
              <a:ext cx="1371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9900"/>
                  </a:solidFill>
                  <a:latin typeface="Times New Roman"/>
                </a:rPr>
                <a:t>Request with nam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228600" y="1905120"/>
            <a:ext cx="1600200" cy="3504960"/>
            <a:chOff x="228600" y="1905120"/>
            <a:chExt cx="1600200" cy="3504960"/>
          </a:xfrm>
        </p:grpSpPr>
        <p:sp>
          <p:nvSpPr>
            <p:cNvPr id="552" name=""/>
            <p:cNvSpPr/>
            <p:nvPr/>
          </p:nvSpPr>
          <p:spPr>
            <a:xfrm>
              <a:off x="685800" y="1905120"/>
              <a:ext cx="1143000" cy="3504960"/>
            </a:xfrm>
            <a:custGeom>
              <a:avLst/>
              <a:gdLst/>
              <a:ahLst/>
              <a:rect l="l" t="t" r="r" b="b"/>
              <a:pathLst>
                <a:path w="776" h="1536">
                  <a:moveTo>
                    <a:pt x="776" y="1536"/>
                  </a:moveTo>
                  <a:cubicBezTo>
                    <a:pt x="396" y="1256"/>
                    <a:pt x="16" y="976"/>
                    <a:pt x="8" y="720"/>
                  </a:cubicBezTo>
                  <a:cubicBezTo>
                    <a:pt x="0" y="464"/>
                    <a:pt x="608" y="120"/>
                    <a:pt x="728" y="0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28600" y="2209680"/>
              <a:ext cx="8380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ff"/>
                  </a:solidFill>
                  <a:latin typeface="Times New Roman"/>
                </a:rPr>
                <a:t>Return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ff00ff"/>
                  </a:solidFill>
                  <a:latin typeface="Times New Roman"/>
                </a:rPr>
                <a:t>ObjRe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742840" y="2057400"/>
            <a:ext cx="3200760" cy="4209120"/>
            <a:chOff x="2742840" y="2057400"/>
            <a:chExt cx="3200760" cy="4209120"/>
          </a:xfrm>
        </p:grpSpPr>
        <p:sp>
          <p:nvSpPr>
            <p:cNvPr id="555" name=""/>
            <p:cNvSpPr/>
            <p:nvPr/>
          </p:nvSpPr>
          <p:spPr>
            <a:xfrm flipH="1">
              <a:off x="2743200" y="5410080"/>
              <a:ext cx="3200400" cy="15264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2742840" y="2057400"/>
              <a:ext cx="3124080" cy="4209120"/>
              <a:chOff x="2742840" y="2057400"/>
              <a:chExt cx="3124080" cy="420912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2742840" y="2057400"/>
                <a:ext cx="3124080" cy="3276720"/>
                <a:chOff x="2742840" y="2057400"/>
                <a:chExt cx="3124080" cy="3276720"/>
              </a:xfrm>
            </p:grpSpPr>
            <p:sp>
              <p:nvSpPr>
                <p:cNvPr id="558" name=""/>
                <p:cNvSpPr/>
                <p:nvPr/>
              </p:nvSpPr>
              <p:spPr>
                <a:xfrm flipH="1">
                  <a:off x="2742840" y="5257800"/>
                  <a:ext cx="2057400" cy="763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H="1">
                  <a:off x="4876560" y="2057400"/>
                  <a:ext cx="9903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flipH="1">
                  <a:off x="4800600" y="2057400"/>
                  <a:ext cx="76320" cy="32004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2742840" y="2057400"/>
                <a:ext cx="1676880" cy="3124080"/>
                <a:chOff x="2742840" y="2057400"/>
                <a:chExt cx="1676880" cy="312408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3809880" y="2057400"/>
                  <a:ext cx="60984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3" name=""/>
                <p:cNvGrpSpPr/>
                <p:nvPr/>
              </p:nvGrpSpPr>
              <p:grpSpPr>
                <a:xfrm>
                  <a:off x="2742840" y="2057400"/>
                  <a:ext cx="1676880" cy="3124080"/>
                  <a:chOff x="2742840" y="2057400"/>
                  <a:chExt cx="1676880" cy="312408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>
                    <a:off x="2742840" y="5105520"/>
                    <a:ext cx="1600200" cy="759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prstDash val="dash"/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>
                    <a:off x="4343400" y="2057400"/>
                    <a:ext cx="76320" cy="304812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66" name=""/>
              <p:cNvSpPr/>
              <p:nvPr/>
            </p:nvSpPr>
            <p:spPr>
              <a:xfrm>
                <a:off x="2819520" y="5562720"/>
                <a:ext cx="2286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Register with Naming Servi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2895480" y="4800600"/>
            <a:ext cx="3123720" cy="929520"/>
            <a:chOff x="2895480" y="4800600"/>
            <a:chExt cx="3123720" cy="929520"/>
          </a:xfrm>
        </p:grpSpPr>
        <p:sp>
          <p:nvSpPr>
            <p:cNvPr id="568" name=""/>
            <p:cNvSpPr/>
            <p:nvPr/>
          </p:nvSpPr>
          <p:spPr>
            <a:xfrm>
              <a:off x="4419360" y="5105520"/>
              <a:ext cx="152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ff"/>
                  </a:solidFill>
                  <a:latin typeface="Times New Roman"/>
                </a:rPr>
                <a:t>io_test/HelloSeq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2895480" y="4800600"/>
              <a:ext cx="3123720" cy="929520"/>
              <a:chOff x="2895480" y="4800600"/>
              <a:chExt cx="3123720" cy="929520"/>
            </a:xfrm>
          </p:grpSpPr>
          <p:sp>
            <p:nvSpPr>
              <p:cNvPr id="570" name=""/>
              <p:cNvSpPr/>
              <p:nvPr/>
            </p:nvSpPr>
            <p:spPr>
              <a:xfrm>
                <a:off x="2895480" y="4800600"/>
                <a:ext cx="1371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66ff"/>
                    </a:solidFill>
                    <a:latin typeface="Times New Roman"/>
                  </a:rPr>
                  <a:t>io_test/HelloSe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495320" y="5486400"/>
                <a:ext cx="1523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66ff"/>
                    </a:solidFill>
                    <a:latin typeface="Times New Roman"/>
                  </a:rPr>
                  <a:t>io_test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GB" sz="1600" spc="-1" strike="noStrike">
                    <a:solidFill>
                      <a:srgbClr val="0066ff"/>
                    </a:solidFill>
                    <a:latin typeface="Times New Roman"/>
                  </a:rPr>
                  <a:t>HelloSeq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2" name=""/>
          <p:cNvGrpSpPr/>
          <p:nvPr/>
        </p:nvGrpSpPr>
        <p:grpSpPr>
          <a:xfrm>
            <a:off x="2971800" y="2895480"/>
            <a:ext cx="152280" cy="825480"/>
            <a:chOff x="2971800" y="2895480"/>
            <a:chExt cx="152280" cy="825480"/>
          </a:xfrm>
        </p:grpSpPr>
        <p:sp>
          <p:nvSpPr>
            <p:cNvPr id="573" name=""/>
            <p:cNvSpPr/>
            <p:nvPr/>
          </p:nvSpPr>
          <p:spPr>
            <a:xfrm>
              <a:off x="2971800" y="2895480"/>
              <a:ext cx="101520" cy="825480"/>
            </a:xfrm>
            <a:custGeom>
              <a:avLst/>
              <a:gdLst/>
              <a:ahLst/>
              <a:rect l="l" t="t" r="r" b="b"/>
              <a:pathLst>
                <a:path w="192" h="520">
                  <a:moveTo>
                    <a:pt x="48" y="0"/>
                  </a:moveTo>
                  <a:cubicBezTo>
                    <a:pt x="120" y="80"/>
                    <a:pt x="192" y="160"/>
                    <a:pt x="192" y="240"/>
                  </a:cubicBezTo>
                  <a:cubicBezTo>
                    <a:pt x="192" y="320"/>
                    <a:pt x="80" y="440"/>
                    <a:pt x="48" y="480"/>
                  </a:cubicBezTo>
                  <a:cubicBezTo>
                    <a:pt x="16" y="520"/>
                    <a:pt x="8" y="500"/>
                    <a:pt x="0" y="480"/>
                  </a:cubicBezTo>
                </a:path>
              </a:pathLst>
            </a:custGeom>
            <a:noFill/>
            <a:ln w="12600">
              <a:solidFill>
                <a:srgbClr val="00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22560" y="2895480"/>
              <a:ext cx="101520" cy="825480"/>
            </a:xfrm>
            <a:custGeom>
              <a:avLst/>
              <a:gdLst/>
              <a:ahLst/>
              <a:rect l="l" t="t" r="r" b="b"/>
              <a:pathLst>
                <a:path w="192" h="520">
                  <a:moveTo>
                    <a:pt x="48" y="0"/>
                  </a:moveTo>
                  <a:cubicBezTo>
                    <a:pt x="120" y="80"/>
                    <a:pt x="192" y="160"/>
                    <a:pt x="192" y="240"/>
                  </a:cubicBezTo>
                  <a:cubicBezTo>
                    <a:pt x="192" y="320"/>
                    <a:pt x="80" y="440"/>
                    <a:pt x="48" y="480"/>
                  </a:cubicBezTo>
                  <a:cubicBezTo>
                    <a:pt x="16" y="520"/>
                    <a:pt x="8" y="500"/>
                    <a:pt x="0" y="480"/>
                  </a:cubicBezTo>
                </a:path>
              </a:pathLst>
            </a:custGeom>
            <a:noFill/>
            <a:ln w="12600">
              <a:solidFill>
                <a:srgbClr val="00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3048120" y="5181480"/>
            <a:ext cx="152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4191120"/>
            <a:ext cx="152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2120" y="3200400"/>
            <a:ext cx="152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62520" y="2819520"/>
            <a:ext cx="152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What is Interope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4236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operability describes whether or not two components of a system that were developed with different tools or different vendor products can work toge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36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ORB interoperability specifies a comprehensive, flexible approach to supporting networks of objects that are distributed across and managed by multiple, heterogeneous CORBA-compliant OR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ORB-TO-ORB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219320" y="2743200"/>
            <a:ext cx="7010280" cy="2723040"/>
            <a:chOff x="1219320" y="2743200"/>
            <a:chExt cx="7010280" cy="2723040"/>
          </a:xfrm>
        </p:grpSpPr>
        <p:grpSp>
          <p:nvGrpSpPr>
            <p:cNvPr id="51" name=""/>
            <p:cNvGrpSpPr/>
            <p:nvPr/>
          </p:nvGrpSpPr>
          <p:grpSpPr>
            <a:xfrm>
              <a:off x="1219320" y="2743200"/>
              <a:ext cx="2895480" cy="2723040"/>
              <a:chOff x="1219320" y="2743200"/>
              <a:chExt cx="2895480" cy="2723040"/>
            </a:xfrm>
          </p:grpSpPr>
          <p:sp>
            <p:nvSpPr>
              <p:cNvPr id="52" name=""/>
              <p:cNvSpPr/>
              <p:nvPr/>
            </p:nvSpPr>
            <p:spPr>
              <a:xfrm>
                <a:off x="1219320" y="4324320"/>
                <a:ext cx="2895480" cy="11419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1295280" y="3621600"/>
                <a:ext cx="990720" cy="702000"/>
                <a:chOff x="1295280" y="3621600"/>
                <a:chExt cx="990720" cy="70200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1295280" y="3621600"/>
                  <a:ext cx="990720" cy="7020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71600" y="3709080"/>
                  <a:ext cx="761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Stu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" name=""/>
              <p:cNvSpPr/>
              <p:nvPr/>
            </p:nvSpPr>
            <p:spPr>
              <a:xfrm>
                <a:off x="1676520" y="4677840"/>
                <a:ext cx="190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ORB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3048120" y="3621600"/>
                <a:ext cx="990360" cy="702000"/>
                <a:chOff x="3048120" y="3621600"/>
                <a:chExt cx="990360" cy="70200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3048120" y="3621600"/>
                  <a:ext cx="990360" cy="7020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200400" y="3709080"/>
                  <a:ext cx="762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Ske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219320" y="2743200"/>
                <a:ext cx="1218960" cy="878040"/>
                <a:chOff x="1219320" y="2743200"/>
                <a:chExt cx="1218960" cy="8780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219320" y="2743200"/>
                  <a:ext cx="1218960" cy="878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371600" y="2918520"/>
                  <a:ext cx="99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Clien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2895480" y="2743200"/>
                <a:ext cx="1219320" cy="878040"/>
                <a:chOff x="2895480" y="2743200"/>
                <a:chExt cx="1219320" cy="87804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2895480" y="2743200"/>
                  <a:ext cx="1219320" cy="878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971800" y="2918520"/>
                  <a:ext cx="106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" name=""/>
            <p:cNvGrpSpPr/>
            <p:nvPr/>
          </p:nvGrpSpPr>
          <p:grpSpPr>
            <a:xfrm>
              <a:off x="5334120" y="2743200"/>
              <a:ext cx="2895480" cy="2723040"/>
              <a:chOff x="5334120" y="2743200"/>
              <a:chExt cx="2895480" cy="2723040"/>
            </a:xfrm>
          </p:grpSpPr>
          <p:sp>
            <p:nvSpPr>
              <p:cNvPr id="67" name=""/>
              <p:cNvSpPr/>
              <p:nvPr/>
            </p:nvSpPr>
            <p:spPr>
              <a:xfrm>
                <a:off x="5334120" y="4324320"/>
                <a:ext cx="2895480" cy="11419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5410080" y="3621600"/>
                <a:ext cx="990720" cy="702000"/>
                <a:chOff x="5410080" y="3621600"/>
                <a:chExt cx="990720" cy="7020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5410080" y="3621600"/>
                  <a:ext cx="990720" cy="70200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5486400" y="3709080"/>
                  <a:ext cx="761760" cy="459720"/>
                </a:xfrm>
                <a:prstGeom prst="rect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Stu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" name=""/>
              <p:cNvSpPr/>
              <p:nvPr/>
            </p:nvSpPr>
            <p:spPr>
              <a:xfrm>
                <a:off x="5791320" y="4677840"/>
                <a:ext cx="1904760" cy="45972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ORB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7162920" y="3621600"/>
                <a:ext cx="990360" cy="702000"/>
                <a:chOff x="7162920" y="3621600"/>
                <a:chExt cx="990360" cy="7020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162920" y="3621600"/>
                  <a:ext cx="990360" cy="70200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315200" y="3709080"/>
                  <a:ext cx="762120" cy="459720"/>
                </a:xfrm>
                <a:prstGeom prst="rect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Ske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5334120" y="2743200"/>
                <a:ext cx="1218960" cy="878040"/>
                <a:chOff x="5334120" y="2743200"/>
                <a:chExt cx="1218960" cy="8780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334120" y="2743200"/>
                  <a:ext cx="1218960" cy="878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33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486400" y="2918520"/>
                  <a:ext cx="990000" cy="459720"/>
                </a:xfrm>
                <a:prstGeom prst="rect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Clien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7010280" y="2743200"/>
                <a:ext cx="1219320" cy="878040"/>
                <a:chOff x="7010280" y="2743200"/>
                <a:chExt cx="1219320" cy="8780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7010280" y="2743200"/>
                  <a:ext cx="1219320" cy="878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33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086600" y="2918520"/>
                  <a:ext cx="1066680" cy="459720"/>
                </a:xfrm>
                <a:prstGeom prst="rect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Objec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" name=""/>
            <p:cNvSpPr/>
            <p:nvPr/>
          </p:nvSpPr>
          <p:spPr>
            <a:xfrm>
              <a:off x="1752480" y="3363120"/>
              <a:ext cx="1800" cy="1229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0575600">
              <a:off x="1736280" y="4066560"/>
              <a:ext cx="76500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575" y="28"/>
                  </a:moveTo>
                  <a:arcTo wR="10800" hR="10800" stAng="-5153003" swAng="515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575" y="28"/>
                  </a:moveTo>
                  <a:arcTo wR="10800" hR="10800" stAng="-5153003" swAng="5153003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4957920"/>
              <a:ext cx="320040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2807280" y="3363120"/>
              <a:ext cx="814320" cy="1594440"/>
              <a:chOff x="2807280" y="3363120"/>
              <a:chExt cx="814320" cy="1594440"/>
            </a:xfrm>
          </p:grpSpPr>
          <p:sp>
            <p:nvSpPr>
              <p:cNvPr id="85" name=""/>
              <p:cNvSpPr/>
              <p:nvPr/>
            </p:nvSpPr>
            <p:spPr>
              <a:xfrm rot="5620200">
                <a:off x="2773800" y="4113720"/>
                <a:ext cx="880920" cy="759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575" y="28"/>
                    </a:moveTo>
                    <a:arcTo wR="10800" hR="10800" stAng="-5153003" swAng="51530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575" y="28"/>
                    </a:moveTo>
                    <a:arcTo wR="10800" hR="10800" stAng="-5153003" swAng="5153003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3581280" y="3363120"/>
                <a:ext cx="0" cy="1229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 rot="5620200">
              <a:off x="6891480" y="4126320"/>
              <a:ext cx="881640" cy="76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575" y="28"/>
                  </a:moveTo>
                  <a:arcTo wR="10800" hR="10800" stAng="-5153003" swAng="57696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575" y="28"/>
                  </a:moveTo>
                  <a:arcTo wR="10800" hR="10800" stAng="-5153003" swAng="576961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696080" y="3363120"/>
              <a:ext cx="1800" cy="1229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6200" y="60948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Open Networking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4572000"/>
            <a:ext cx="5105520" cy="152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terconnection (Bea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lecom Services: POTS, ISDN, ATM, Wireles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V Services: CATV, Digital Satellite Broadcasting, VOD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 Pipes: Modem: POTS, ISDN, ADSL, Cabl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a: LAN, X.25, Frame Relay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eased Line:T1/E1, T3/E3, SONET/SDH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3581280"/>
            <a:ext cx="510552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Inter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CP/UDP end-to-end 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P/RSVP 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666880"/>
            <a:ext cx="5105520" cy="8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ff"/>
                </a:solidFill>
                <a:latin typeface="Times New Roman"/>
              </a:rPr>
              <a:t>Interoperability (Middlew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ame Servers, Security, Directories, Distributed Processing Environment, Transportable Programs &amp; Intelligent Agents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1523880"/>
            <a:ext cx="5105520" cy="109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mail, Fax, Telephony, Videoconferencing, Televisio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games, Web Browsing, Web Casting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B Access Services, Interactive Education, Interactive Television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066680" y="838080"/>
            <a:ext cx="1828800" cy="5169600"/>
            <a:chOff x="1066680" y="838080"/>
            <a:chExt cx="1828800" cy="5169600"/>
          </a:xfrm>
        </p:grpSpPr>
        <p:sp>
          <p:nvSpPr>
            <p:cNvPr id="95" name=""/>
            <p:cNvSpPr/>
            <p:nvPr/>
          </p:nvSpPr>
          <p:spPr>
            <a:xfrm>
              <a:off x="1076400" y="543888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066680" y="838080"/>
              <a:ext cx="1828800" cy="5169600"/>
              <a:chOff x="1066680" y="838080"/>
              <a:chExt cx="1828800" cy="516960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1066680" y="838080"/>
                <a:ext cx="1828800" cy="5169600"/>
                <a:chOff x="1066680" y="838080"/>
                <a:chExt cx="1828800" cy="51696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1066680" y="1523880"/>
                  <a:ext cx="1752840" cy="44838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spcAft>
                      <a:spcPts val="9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0000"/>
                      </a:solidFill>
                      <a:latin typeface="Times New Roman"/>
                    </a:rPr>
                    <a:t>Applica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1500"/>
                    </a:spcBef>
                    <a:spcAft>
                      <a:spcPts val="9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00ff"/>
                      </a:solidFill>
                      <a:latin typeface="Times New Roman"/>
                    </a:rPr>
                    <a:t>Presenta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1500"/>
                    </a:spcBef>
                    <a:spcAft>
                      <a:spcPts val="9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00ff"/>
                      </a:solidFill>
                      <a:latin typeface="Times New Roman"/>
                    </a:rPr>
                    <a:t>Sess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1500"/>
                    </a:spcBef>
                    <a:spcAft>
                      <a:spcPts val="9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66ff"/>
                      </a:solidFill>
                      <a:latin typeface="Times New Roman"/>
                    </a:rPr>
                    <a:t>Transpor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1500"/>
                    </a:spcBef>
                    <a:spcAft>
                      <a:spcPts val="9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66ff"/>
                      </a:solidFill>
                      <a:latin typeface="Times New Roman"/>
                    </a:rPr>
                    <a:t>Networ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1500"/>
                    </a:spcBef>
                    <a:spcAft>
                      <a:spcPts val="9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8000"/>
                      </a:solidFill>
                      <a:latin typeface="Times New Roman"/>
                    </a:rPr>
                    <a:t>Data Lin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1500"/>
                    </a:spcBef>
                    <a:spcAft>
                      <a:spcPts val="9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8000"/>
                      </a:solidFill>
                      <a:latin typeface="Times New Roman"/>
                    </a:rPr>
                    <a:t>Physic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066680" y="838080"/>
                  <a:ext cx="1828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200" spc="-1" strike="noStrike">
                      <a:solidFill>
                        <a:srgbClr val="ff0000"/>
                      </a:solidFill>
                      <a:latin typeface="Times New Roman"/>
                    </a:rPr>
                    <a:t>OSI Mode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1066680" y="4724280"/>
                <a:ext cx="175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66680" y="4038480"/>
                <a:ext cx="175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066680" y="3352680"/>
                <a:ext cx="175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66680" y="2743200"/>
                <a:ext cx="175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66680" y="2057400"/>
                <a:ext cx="175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3809880" y="2666880"/>
            <a:ext cx="5105520" cy="8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ff"/>
                </a:solidFill>
                <a:latin typeface="Times New Roman"/>
              </a:rPr>
              <a:t>Interoperability (Middlew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ame Servers, Security, Directories, Distributed Processing Environment, Transportable Programs &amp; Intelligent Agents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How is Interoperability Achie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ways to get ORBs to talk to each oth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imes New Roman"/>
              </a:rPr>
              <a:t>direct: all ORBs using same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imes New Roman"/>
              </a:rPr>
              <a:t>bridge support: ORBs using different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-ORB brid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l &amp; Internet Inter-ORB Protocols (GIOPs &amp; IIO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Immediate and Mediated Brid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362320" y="2286000"/>
            <a:ext cx="4952880" cy="1112760"/>
            <a:chOff x="2362320" y="2286000"/>
            <a:chExt cx="4952880" cy="1112760"/>
          </a:xfrm>
        </p:grpSpPr>
        <p:grpSp>
          <p:nvGrpSpPr>
            <p:cNvPr id="110" name=""/>
            <p:cNvGrpSpPr/>
            <p:nvPr/>
          </p:nvGrpSpPr>
          <p:grpSpPr>
            <a:xfrm>
              <a:off x="6934320" y="2438280"/>
              <a:ext cx="333360" cy="213840"/>
              <a:chOff x="6934320" y="2438280"/>
              <a:chExt cx="333360" cy="213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947640" y="2571120"/>
                <a:ext cx="306000" cy="68400"/>
                <a:chOff x="6947640" y="2571120"/>
                <a:chExt cx="306000" cy="6840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947640" y="2571120"/>
                  <a:ext cx="306000" cy="68400"/>
                </a:xfrm>
                <a:prstGeom prst="rect">
                  <a:avLst/>
                </a:prstGeom>
                <a:solidFill>
                  <a:srgbClr val="ff00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16840" y="2583000"/>
                  <a:ext cx="106920" cy="32400"/>
                </a:xfrm>
                <a:prstGeom prst="rect">
                  <a:avLst/>
                </a:prstGeom>
                <a:solidFill>
                  <a:srgbClr val="ff00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6934320" y="2608920"/>
                <a:ext cx="333360" cy="43200"/>
                <a:chOff x="6934320" y="2608920"/>
                <a:chExt cx="333360" cy="432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934320" y="2608920"/>
                  <a:ext cx="333360" cy="43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2562" y="0"/>
                      </a:moveTo>
                      <a:lnTo>
                        <a:pt x="17553" y="0"/>
                      </a:lnTo>
                      <a:lnTo>
                        <a:pt x="19885" y="17647"/>
                      </a:lnTo>
                      <a:lnTo>
                        <a:pt x="19962" y="18529"/>
                      </a:lnTo>
                      <a:lnTo>
                        <a:pt x="19885" y="19412"/>
                      </a:lnTo>
                      <a:lnTo>
                        <a:pt x="19732" y="19706"/>
                      </a:lnTo>
                      <a:lnTo>
                        <a:pt x="306" y="19706"/>
                      </a:lnTo>
                      <a:lnTo>
                        <a:pt x="153" y="19412"/>
                      </a:lnTo>
                      <a:lnTo>
                        <a:pt x="0" y="18235"/>
                      </a:lnTo>
                      <a:lnTo>
                        <a:pt x="76" y="17353"/>
                      </a:lnTo>
                      <a:lnTo>
                        <a:pt x="2562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52680" y="2617560"/>
                  <a:ext cx="222480" cy="273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2693" y="0"/>
                      </a:moveTo>
                      <a:lnTo>
                        <a:pt x="18968" y="0"/>
                      </a:lnTo>
                      <a:lnTo>
                        <a:pt x="19943" y="19535"/>
                      </a:lnTo>
                      <a:lnTo>
                        <a:pt x="0" y="19535"/>
                      </a:lnTo>
                      <a:lnTo>
                        <a:pt x="2693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181640" y="2617560"/>
                  <a:ext cx="66240" cy="273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731" y="0"/>
                      </a:lnTo>
                      <a:lnTo>
                        <a:pt x="19808" y="19535"/>
                      </a:lnTo>
                      <a:lnTo>
                        <a:pt x="3654" y="195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989400" y="2438280"/>
                <a:ext cx="222480" cy="132120"/>
                <a:chOff x="6989400" y="2438280"/>
                <a:chExt cx="222480" cy="1321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989400" y="2438280"/>
                  <a:ext cx="222480" cy="132120"/>
                </a:xfrm>
                <a:prstGeom prst="rect">
                  <a:avLst/>
                </a:prstGeom>
                <a:solidFill>
                  <a:srgbClr val="ff00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003440" y="2449080"/>
                  <a:ext cx="194400" cy="111960"/>
                </a:xfrm>
                <a:prstGeom prst="rect">
                  <a:avLst/>
                </a:prstGeom>
                <a:solidFill>
                  <a:srgbClr val="ff00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168680" y="2449080"/>
                  <a:ext cx="29160" cy="111960"/>
                </a:xfrm>
                <a:prstGeom prst="rect">
                  <a:avLst/>
                </a:prstGeom>
                <a:solidFill>
                  <a:srgbClr val="ff00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175160" y="2454480"/>
                  <a:ext cx="14760" cy="7920"/>
                </a:xfrm>
                <a:prstGeom prst="rect">
                  <a:avLst/>
                </a:prstGeom>
                <a:solidFill>
                  <a:srgbClr val="ff00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176960" y="2503080"/>
                  <a:ext cx="11520" cy="8280"/>
                </a:xfrm>
                <a:prstGeom prst="ellipse">
                  <a:avLst/>
                </a:prstGeom>
                <a:solidFill>
                  <a:srgbClr val="ff00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176960" y="2523600"/>
                  <a:ext cx="11520" cy="7920"/>
                </a:xfrm>
                <a:prstGeom prst="ellipse">
                  <a:avLst/>
                </a:prstGeom>
                <a:solidFill>
                  <a:srgbClr val="ff00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176960" y="2542680"/>
                  <a:ext cx="11520" cy="7920"/>
                </a:xfrm>
                <a:prstGeom prst="ellipse">
                  <a:avLst/>
                </a:prstGeom>
                <a:solidFill>
                  <a:srgbClr val="ff00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6" name=""/>
            <p:cNvSpPr/>
            <p:nvPr/>
          </p:nvSpPr>
          <p:spPr>
            <a:xfrm>
              <a:off x="2438640" y="289548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57800" y="2895480"/>
              <a:ext cx="198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6040" y="2286000"/>
              <a:ext cx="380880" cy="609480"/>
            </a:xfrm>
            <a:custGeom>
              <a:avLst/>
              <a:gdLst>
                <a:gd name="textAreaLeft" fmla="*/ 95040 w 380880"/>
                <a:gd name="textAreaRight" fmla="*/ 285840 w 3808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191120" y="259056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6920" y="2590560"/>
              <a:ext cx="3808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514600" y="2438280"/>
              <a:ext cx="1019160" cy="456480"/>
              <a:chOff x="2514600" y="2438280"/>
              <a:chExt cx="1019160" cy="45648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2514600" y="2438280"/>
                <a:ext cx="333360" cy="213840"/>
                <a:chOff x="2514600" y="2438280"/>
                <a:chExt cx="333360" cy="213840"/>
              </a:xfrm>
            </p:grpSpPr>
            <p:grpSp>
              <p:nvGrpSpPr>
                <p:cNvPr id="133" name=""/>
                <p:cNvGrpSpPr/>
                <p:nvPr/>
              </p:nvGrpSpPr>
              <p:grpSpPr>
                <a:xfrm>
                  <a:off x="2527920" y="2571120"/>
                  <a:ext cx="306000" cy="68400"/>
                  <a:chOff x="2527920" y="2571120"/>
                  <a:chExt cx="306000" cy="6840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2527920" y="2571120"/>
                    <a:ext cx="306000" cy="68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2697120" y="2583000"/>
                    <a:ext cx="106920" cy="32400"/>
                  </a:xfrm>
                  <a:prstGeom prst="rect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2514600" y="2608920"/>
                  <a:ext cx="333360" cy="43200"/>
                  <a:chOff x="2514600" y="2608920"/>
                  <a:chExt cx="333360" cy="4320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2514600" y="2608920"/>
                    <a:ext cx="33336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2562" y="0"/>
                        </a:moveTo>
                        <a:lnTo>
                          <a:pt x="17553" y="0"/>
                        </a:lnTo>
                        <a:lnTo>
                          <a:pt x="19885" y="17647"/>
                        </a:lnTo>
                        <a:lnTo>
                          <a:pt x="19962" y="18529"/>
                        </a:lnTo>
                        <a:lnTo>
                          <a:pt x="19885" y="19412"/>
                        </a:lnTo>
                        <a:lnTo>
                          <a:pt x="19732" y="19706"/>
                        </a:lnTo>
                        <a:lnTo>
                          <a:pt x="306" y="19706"/>
                        </a:lnTo>
                        <a:lnTo>
                          <a:pt x="153" y="19412"/>
                        </a:lnTo>
                        <a:lnTo>
                          <a:pt x="0" y="18235"/>
                        </a:lnTo>
                        <a:lnTo>
                          <a:pt x="76" y="17353"/>
                        </a:lnTo>
                        <a:lnTo>
                          <a:pt x="256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2532960" y="2617560"/>
                    <a:ext cx="2224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2693" y="0"/>
                        </a:moveTo>
                        <a:lnTo>
                          <a:pt x="18968" y="0"/>
                        </a:lnTo>
                        <a:lnTo>
                          <a:pt x="19943" y="19535"/>
                        </a:lnTo>
                        <a:lnTo>
                          <a:pt x="0" y="19535"/>
                        </a:lnTo>
                        <a:lnTo>
                          <a:pt x="269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2761920" y="2617560"/>
                    <a:ext cx="662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731" y="0"/>
                        </a:lnTo>
                        <a:lnTo>
                          <a:pt x="19808" y="19535"/>
                        </a:lnTo>
                        <a:lnTo>
                          <a:pt x="3654" y="1953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2569680" y="2438280"/>
                  <a:ext cx="222480" cy="132120"/>
                  <a:chOff x="2569680" y="2438280"/>
                  <a:chExt cx="222480" cy="13212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2569680" y="2438280"/>
                    <a:ext cx="222480" cy="132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2583720" y="2449080"/>
                    <a:ext cx="194400" cy="111960"/>
                  </a:xfrm>
                  <a:prstGeom prst="rect">
                    <a:avLst/>
                  </a:prstGeom>
                  <a:solidFill>
                    <a:srgbClr val="105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2748960" y="2449080"/>
                    <a:ext cx="29160" cy="11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2755440" y="2454480"/>
                    <a:ext cx="14760" cy="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2757240" y="2503080"/>
                    <a:ext cx="11520" cy="8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2757240" y="2523600"/>
                    <a:ext cx="11520" cy="7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2757240" y="2542680"/>
                    <a:ext cx="11520" cy="7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8" name=""/>
              <p:cNvGrpSpPr/>
              <p:nvPr/>
            </p:nvGrpSpPr>
            <p:grpSpPr>
              <a:xfrm>
                <a:off x="3200400" y="2438280"/>
                <a:ext cx="333360" cy="213840"/>
                <a:chOff x="3200400" y="2438280"/>
                <a:chExt cx="333360" cy="213840"/>
              </a:xfrm>
            </p:grpSpPr>
            <p:grpSp>
              <p:nvGrpSpPr>
                <p:cNvPr id="149" name=""/>
                <p:cNvGrpSpPr/>
                <p:nvPr/>
              </p:nvGrpSpPr>
              <p:grpSpPr>
                <a:xfrm>
                  <a:off x="3213720" y="2571120"/>
                  <a:ext cx="306000" cy="68400"/>
                  <a:chOff x="3213720" y="2571120"/>
                  <a:chExt cx="306000" cy="6840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3213720" y="2571120"/>
                    <a:ext cx="306000" cy="68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382920" y="2583000"/>
                    <a:ext cx="106920" cy="32400"/>
                  </a:xfrm>
                  <a:prstGeom prst="rect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3200400" y="2608920"/>
                  <a:ext cx="333360" cy="43200"/>
                  <a:chOff x="3200400" y="2608920"/>
                  <a:chExt cx="333360" cy="4320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3200400" y="2608920"/>
                    <a:ext cx="33336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2562" y="0"/>
                        </a:moveTo>
                        <a:lnTo>
                          <a:pt x="17553" y="0"/>
                        </a:lnTo>
                        <a:lnTo>
                          <a:pt x="19885" y="17647"/>
                        </a:lnTo>
                        <a:lnTo>
                          <a:pt x="19962" y="18529"/>
                        </a:lnTo>
                        <a:lnTo>
                          <a:pt x="19885" y="19412"/>
                        </a:lnTo>
                        <a:lnTo>
                          <a:pt x="19732" y="19706"/>
                        </a:lnTo>
                        <a:lnTo>
                          <a:pt x="306" y="19706"/>
                        </a:lnTo>
                        <a:lnTo>
                          <a:pt x="153" y="19412"/>
                        </a:lnTo>
                        <a:lnTo>
                          <a:pt x="0" y="18235"/>
                        </a:lnTo>
                        <a:lnTo>
                          <a:pt x="76" y="17353"/>
                        </a:lnTo>
                        <a:lnTo>
                          <a:pt x="256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3218760" y="2617560"/>
                    <a:ext cx="2224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2693" y="0"/>
                        </a:moveTo>
                        <a:lnTo>
                          <a:pt x="18968" y="0"/>
                        </a:lnTo>
                        <a:lnTo>
                          <a:pt x="19943" y="19535"/>
                        </a:lnTo>
                        <a:lnTo>
                          <a:pt x="0" y="19535"/>
                        </a:lnTo>
                        <a:lnTo>
                          <a:pt x="269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3447720" y="2617560"/>
                    <a:ext cx="662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731" y="0"/>
                        </a:lnTo>
                        <a:lnTo>
                          <a:pt x="19808" y="19535"/>
                        </a:lnTo>
                        <a:lnTo>
                          <a:pt x="3654" y="1953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3255480" y="2438280"/>
                  <a:ext cx="222480" cy="132120"/>
                  <a:chOff x="3255480" y="2438280"/>
                  <a:chExt cx="222480" cy="13212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3255480" y="2438280"/>
                    <a:ext cx="222480" cy="132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269520" y="2449080"/>
                    <a:ext cx="194400" cy="111960"/>
                  </a:xfrm>
                  <a:prstGeom prst="rect">
                    <a:avLst/>
                  </a:prstGeom>
                  <a:solidFill>
                    <a:srgbClr val="105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434760" y="2449080"/>
                    <a:ext cx="29160" cy="11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3441240" y="2454480"/>
                    <a:ext cx="14760" cy="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3443040" y="2503080"/>
                    <a:ext cx="11520" cy="8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3443040" y="2523600"/>
                    <a:ext cx="11520" cy="7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443040" y="2542680"/>
                    <a:ext cx="11520" cy="7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4" name=""/>
              <p:cNvSpPr/>
              <p:nvPr/>
            </p:nvSpPr>
            <p:spPr>
              <a:xfrm>
                <a:off x="2590920" y="2666520"/>
                <a:ext cx="15228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276720" y="2666880"/>
              <a:ext cx="15228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15000" y="2438280"/>
              <a:ext cx="1447560" cy="456480"/>
              <a:chOff x="5715000" y="2438280"/>
              <a:chExt cx="1447560" cy="45648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6324840" y="2438280"/>
                <a:ext cx="333360" cy="213840"/>
                <a:chOff x="6324840" y="2438280"/>
                <a:chExt cx="333360" cy="21384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338160" y="2571120"/>
                  <a:ext cx="306000" cy="68400"/>
                  <a:chOff x="6338160" y="2571120"/>
                  <a:chExt cx="306000" cy="684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338160" y="2571120"/>
                    <a:ext cx="306000" cy="68400"/>
                  </a:xfrm>
                  <a:prstGeom prst="rect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07360" y="2583000"/>
                    <a:ext cx="106920" cy="32400"/>
                  </a:xfrm>
                  <a:prstGeom prst="rect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324840" y="2608920"/>
                  <a:ext cx="333360" cy="43200"/>
                  <a:chOff x="6324840" y="2608920"/>
                  <a:chExt cx="333360" cy="4320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6324840" y="2608920"/>
                    <a:ext cx="33336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2562" y="0"/>
                        </a:moveTo>
                        <a:lnTo>
                          <a:pt x="17553" y="0"/>
                        </a:lnTo>
                        <a:lnTo>
                          <a:pt x="19885" y="17647"/>
                        </a:lnTo>
                        <a:lnTo>
                          <a:pt x="19962" y="18529"/>
                        </a:lnTo>
                        <a:lnTo>
                          <a:pt x="19885" y="19412"/>
                        </a:lnTo>
                        <a:lnTo>
                          <a:pt x="19732" y="19706"/>
                        </a:lnTo>
                        <a:lnTo>
                          <a:pt x="306" y="19706"/>
                        </a:lnTo>
                        <a:lnTo>
                          <a:pt x="153" y="19412"/>
                        </a:lnTo>
                        <a:lnTo>
                          <a:pt x="0" y="18235"/>
                        </a:lnTo>
                        <a:lnTo>
                          <a:pt x="76" y="17353"/>
                        </a:lnTo>
                        <a:lnTo>
                          <a:pt x="2562" y="0"/>
                        </a:lnTo>
                        <a:close/>
                      </a:path>
                    </a:pathLst>
                  </a:cu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6343200" y="2617560"/>
                    <a:ext cx="2224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2693" y="0"/>
                        </a:moveTo>
                        <a:lnTo>
                          <a:pt x="18968" y="0"/>
                        </a:lnTo>
                        <a:lnTo>
                          <a:pt x="19943" y="19535"/>
                        </a:lnTo>
                        <a:lnTo>
                          <a:pt x="0" y="19535"/>
                        </a:lnTo>
                        <a:lnTo>
                          <a:pt x="2693" y="0"/>
                        </a:lnTo>
                        <a:close/>
                      </a:path>
                    </a:pathLst>
                  </a:cu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6572160" y="2617560"/>
                    <a:ext cx="662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731" y="0"/>
                        </a:lnTo>
                        <a:lnTo>
                          <a:pt x="19808" y="19535"/>
                        </a:lnTo>
                        <a:lnTo>
                          <a:pt x="3654" y="1953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6379920" y="2438280"/>
                  <a:ext cx="222480" cy="132120"/>
                  <a:chOff x="6379920" y="2438280"/>
                  <a:chExt cx="222480" cy="1321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6379920" y="2438280"/>
                    <a:ext cx="222480" cy="132120"/>
                  </a:xfrm>
                  <a:prstGeom prst="rect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6393960" y="2449080"/>
                    <a:ext cx="194400" cy="111960"/>
                  </a:xfrm>
                  <a:prstGeom prst="rect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6559200" y="2449080"/>
                    <a:ext cx="29160" cy="111960"/>
                  </a:xfrm>
                  <a:prstGeom prst="rect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6565680" y="2454480"/>
                    <a:ext cx="14760" cy="7920"/>
                  </a:xfrm>
                  <a:prstGeom prst="rect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567480" y="2503080"/>
                    <a:ext cx="11520" cy="8280"/>
                  </a:xfrm>
                  <a:prstGeom prst="ellipse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567480" y="2523600"/>
                    <a:ext cx="11520" cy="7920"/>
                  </a:xfrm>
                  <a:prstGeom prst="ellipse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567480" y="2542680"/>
                    <a:ext cx="11520" cy="7920"/>
                  </a:xfrm>
                  <a:prstGeom prst="ellipse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3" name=""/>
              <p:cNvSpPr/>
              <p:nvPr/>
            </p:nvSpPr>
            <p:spPr>
              <a:xfrm flipH="1">
                <a:off x="6400800" y="2666520"/>
                <a:ext cx="15264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7010280" y="2666520"/>
                <a:ext cx="15228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5715000" y="2438280"/>
                <a:ext cx="333360" cy="213840"/>
                <a:chOff x="5715000" y="2438280"/>
                <a:chExt cx="333360" cy="2138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5728320" y="2571120"/>
                  <a:ext cx="306000" cy="68400"/>
                  <a:chOff x="5728320" y="2571120"/>
                  <a:chExt cx="306000" cy="6840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5728320" y="2571120"/>
                    <a:ext cx="306000" cy="68400"/>
                  </a:xfrm>
                  <a:prstGeom prst="rect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5897520" y="2583000"/>
                    <a:ext cx="106920" cy="32400"/>
                  </a:xfrm>
                  <a:prstGeom prst="rect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5715000" y="2608920"/>
                  <a:ext cx="333360" cy="43200"/>
                  <a:chOff x="5715000" y="2608920"/>
                  <a:chExt cx="333360" cy="4320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5715000" y="2608920"/>
                    <a:ext cx="33336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2562" y="0"/>
                        </a:moveTo>
                        <a:lnTo>
                          <a:pt x="17553" y="0"/>
                        </a:lnTo>
                        <a:lnTo>
                          <a:pt x="19885" y="17647"/>
                        </a:lnTo>
                        <a:lnTo>
                          <a:pt x="19962" y="18529"/>
                        </a:lnTo>
                        <a:lnTo>
                          <a:pt x="19885" y="19412"/>
                        </a:lnTo>
                        <a:lnTo>
                          <a:pt x="19732" y="19706"/>
                        </a:lnTo>
                        <a:lnTo>
                          <a:pt x="306" y="19706"/>
                        </a:lnTo>
                        <a:lnTo>
                          <a:pt x="153" y="19412"/>
                        </a:lnTo>
                        <a:lnTo>
                          <a:pt x="0" y="18235"/>
                        </a:lnTo>
                        <a:lnTo>
                          <a:pt x="76" y="17353"/>
                        </a:lnTo>
                        <a:lnTo>
                          <a:pt x="2562" y="0"/>
                        </a:lnTo>
                        <a:close/>
                      </a:path>
                    </a:pathLst>
                  </a:cu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5733360" y="2617560"/>
                    <a:ext cx="2224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2693" y="0"/>
                        </a:moveTo>
                        <a:lnTo>
                          <a:pt x="18968" y="0"/>
                        </a:lnTo>
                        <a:lnTo>
                          <a:pt x="19943" y="19535"/>
                        </a:lnTo>
                        <a:lnTo>
                          <a:pt x="0" y="19535"/>
                        </a:lnTo>
                        <a:lnTo>
                          <a:pt x="2693" y="0"/>
                        </a:lnTo>
                        <a:close/>
                      </a:path>
                    </a:pathLst>
                  </a:cu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962320" y="2617560"/>
                    <a:ext cx="662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731" y="0"/>
                        </a:lnTo>
                        <a:lnTo>
                          <a:pt x="19808" y="19535"/>
                        </a:lnTo>
                        <a:lnTo>
                          <a:pt x="3654" y="1953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5770080" y="2438280"/>
                  <a:ext cx="222480" cy="132120"/>
                  <a:chOff x="5770080" y="2438280"/>
                  <a:chExt cx="222480" cy="13212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5770080" y="2438280"/>
                    <a:ext cx="222480" cy="132120"/>
                  </a:xfrm>
                  <a:prstGeom prst="rect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5784120" y="2449080"/>
                    <a:ext cx="194400" cy="111960"/>
                  </a:xfrm>
                  <a:prstGeom prst="rect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5949360" y="2449080"/>
                    <a:ext cx="29160" cy="111960"/>
                  </a:xfrm>
                  <a:prstGeom prst="rect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5955840" y="2454480"/>
                    <a:ext cx="14760" cy="7920"/>
                  </a:xfrm>
                  <a:prstGeom prst="rect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5957640" y="2503080"/>
                    <a:ext cx="11520" cy="8280"/>
                  </a:xfrm>
                  <a:prstGeom prst="ellipse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5957640" y="2523600"/>
                    <a:ext cx="11520" cy="7920"/>
                  </a:xfrm>
                  <a:prstGeom prst="ellipse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5957640" y="2542680"/>
                    <a:ext cx="11520" cy="7920"/>
                  </a:xfrm>
                  <a:prstGeom prst="ellipse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1" name=""/>
              <p:cNvSpPr/>
              <p:nvPr/>
            </p:nvSpPr>
            <p:spPr>
              <a:xfrm flipH="1">
                <a:off x="5790960" y="2666520"/>
                <a:ext cx="15228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362320" y="2971440"/>
              <a:ext cx="182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tocol A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86400" y="2971440"/>
              <a:ext cx="182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tocol B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3124080"/>
              <a:ext cx="106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9900"/>
                  </a:solidFill>
                  <a:latin typeface="Times New Roman"/>
                </a:rPr>
                <a:t>Full Bri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914400" y="1752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mmediate Brid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3733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diated Brid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523880" y="4495680"/>
            <a:ext cx="6476760" cy="1387440"/>
            <a:chOff x="1523880" y="4495680"/>
            <a:chExt cx="6476760" cy="1387440"/>
          </a:xfrm>
        </p:grpSpPr>
        <p:sp>
          <p:nvSpPr>
            <p:cNvPr id="208" name=""/>
            <p:cNvSpPr/>
            <p:nvPr/>
          </p:nvSpPr>
          <p:spPr>
            <a:xfrm>
              <a:off x="6171840" y="5181480"/>
              <a:ext cx="182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tocol B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523880" y="4495680"/>
              <a:ext cx="6276960" cy="1387440"/>
              <a:chOff x="1523880" y="4495680"/>
              <a:chExt cx="6276960" cy="138744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7467480" y="4572000"/>
                <a:ext cx="333360" cy="214200"/>
                <a:chOff x="7467480" y="4572000"/>
                <a:chExt cx="333360" cy="214200"/>
              </a:xfrm>
            </p:grpSpPr>
            <p:grpSp>
              <p:nvGrpSpPr>
                <p:cNvPr id="211" name=""/>
                <p:cNvGrpSpPr/>
                <p:nvPr/>
              </p:nvGrpSpPr>
              <p:grpSpPr>
                <a:xfrm>
                  <a:off x="7480800" y="4704840"/>
                  <a:ext cx="306000" cy="68400"/>
                  <a:chOff x="7480800" y="4704840"/>
                  <a:chExt cx="306000" cy="6840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7480800" y="4704840"/>
                    <a:ext cx="306000" cy="68400"/>
                  </a:xfrm>
                  <a:prstGeom prst="rect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7650000" y="4716720"/>
                    <a:ext cx="106920" cy="32400"/>
                  </a:xfrm>
                  <a:prstGeom prst="rect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7467480" y="4743000"/>
                  <a:ext cx="333360" cy="43200"/>
                  <a:chOff x="7467480" y="4743000"/>
                  <a:chExt cx="333360" cy="4320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7467480" y="4743000"/>
                    <a:ext cx="33336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2562" y="0"/>
                        </a:moveTo>
                        <a:lnTo>
                          <a:pt x="17553" y="0"/>
                        </a:lnTo>
                        <a:lnTo>
                          <a:pt x="19885" y="17647"/>
                        </a:lnTo>
                        <a:lnTo>
                          <a:pt x="19962" y="18529"/>
                        </a:lnTo>
                        <a:lnTo>
                          <a:pt x="19885" y="19412"/>
                        </a:lnTo>
                        <a:lnTo>
                          <a:pt x="19732" y="19706"/>
                        </a:lnTo>
                        <a:lnTo>
                          <a:pt x="306" y="19706"/>
                        </a:lnTo>
                        <a:lnTo>
                          <a:pt x="153" y="19412"/>
                        </a:lnTo>
                        <a:lnTo>
                          <a:pt x="0" y="18235"/>
                        </a:lnTo>
                        <a:lnTo>
                          <a:pt x="76" y="17353"/>
                        </a:lnTo>
                        <a:lnTo>
                          <a:pt x="2562" y="0"/>
                        </a:lnTo>
                        <a:close/>
                      </a:path>
                    </a:pathLst>
                  </a:cu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7485840" y="4751640"/>
                    <a:ext cx="2224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2693" y="0"/>
                        </a:moveTo>
                        <a:lnTo>
                          <a:pt x="18968" y="0"/>
                        </a:lnTo>
                        <a:lnTo>
                          <a:pt x="19943" y="19535"/>
                        </a:lnTo>
                        <a:lnTo>
                          <a:pt x="0" y="19535"/>
                        </a:lnTo>
                        <a:lnTo>
                          <a:pt x="2693" y="0"/>
                        </a:lnTo>
                        <a:close/>
                      </a:path>
                    </a:pathLst>
                  </a:cu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7714800" y="4751640"/>
                    <a:ext cx="662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731" y="0"/>
                        </a:lnTo>
                        <a:lnTo>
                          <a:pt x="19808" y="19535"/>
                        </a:lnTo>
                        <a:lnTo>
                          <a:pt x="3654" y="1953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522560" y="4572000"/>
                  <a:ext cx="222480" cy="132120"/>
                  <a:chOff x="7522560" y="4572000"/>
                  <a:chExt cx="222480" cy="1321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522560" y="4572000"/>
                    <a:ext cx="222480" cy="132120"/>
                  </a:xfrm>
                  <a:prstGeom prst="rect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536600" y="4582800"/>
                    <a:ext cx="194400" cy="111960"/>
                  </a:xfrm>
                  <a:prstGeom prst="rect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701840" y="4582800"/>
                    <a:ext cx="29160" cy="111960"/>
                  </a:xfrm>
                  <a:prstGeom prst="rect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708320" y="4588200"/>
                    <a:ext cx="14760" cy="7920"/>
                  </a:xfrm>
                  <a:prstGeom prst="rect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710120" y="4636800"/>
                    <a:ext cx="11520" cy="8280"/>
                  </a:xfrm>
                  <a:prstGeom prst="ellipse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710120" y="4657320"/>
                    <a:ext cx="11520" cy="7920"/>
                  </a:xfrm>
                  <a:prstGeom prst="ellipse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7710120" y="4676400"/>
                    <a:ext cx="11520" cy="7920"/>
                  </a:xfrm>
                  <a:prstGeom prst="ellipse">
                    <a:avLst/>
                  </a:prstGeom>
                  <a:solidFill>
                    <a:srgbClr val="ff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6" name=""/>
              <p:cNvSpPr/>
              <p:nvPr/>
            </p:nvSpPr>
            <p:spPr>
              <a:xfrm>
                <a:off x="2209680" y="5029200"/>
                <a:ext cx="1143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943240" y="5029200"/>
                <a:ext cx="1752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581280" y="4495680"/>
                <a:ext cx="380880" cy="609840"/>
              </a:xfrm>
              <a:custGeom>
                <a:avLst/>
                <a:gdLst>
                  <a:gd name="textAreaLeft" fmla="*/ 95040 w 380880"/>
                  <a:gd name="textAreaRight" fmla="*/ 285840 w 380880"/>
                  <a:gd name="textAreaTop" fmla="*/ 0 h 609840"/>
                  <a:gd name="textAreaBottom" fmla="*/ 610200 h 60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16200" y="0"/>
                    </a:lnTo>
                    <a:lnTo>
                      <a:pt x="16200" y="8100"/>
                    </a:lnTo>
                    <a:lnTo>
                      <a:pt x="18900" y="8100"/>
                    </a:lnTo>
                    <a:lnTo>
                      <a:pt x="18900" y="5500"/>
                    </a:lnTo>
                    <a:lnTo>
                      <a:pt x="21600" y="10800"/>
                    </a:lnTo>
                    <a:lnTo>
                      <a:pt x="18900" y="16100"/>
                    </a:lnTo>
                    <a:lnTo>
                      <a:pt x="18900" y="13500"/>
                    </a:lnTo>
                    <a:lnTo>
                      <a:pt x="16200" y="13500"/>
                    </a:lnTo>
                    <a:lnTo>
                      <a:pt x="16200" y="21600"/>
                    </a:lnTo>
                    <a:lnTo>
                      <a:pt x="5400" y="21600"/>
                    </a:lnTo>
                    <a:lnTo>
                      <a:pt x="5400" y="13500"/>
                    </a:lnTo>
                    <a:lnTo>
                      <a:pt x="2700" y="13500"/>
                    </a:lnTo>
                    <a:lnTo>
                      <a:pt x="2700" y="16100"/>
                    </a:lnTo>
                    <a:lnTo>
                      <a:pt x="0" y="10800"/>
                    </a:lnTo>
                    <a:lnTo>
                      <a:pt x="2700" y="5500"/>
                    </a:lnTo>
                    <a:lnTo>
                      <a:pt x="2700" y="8100"/>
                    </a:lnTo>
                    <a:lnTo>
                      <a:pt x="5400" y="810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3352680" y="480024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90960" y="4800600"/>
                <a:ext cx="15228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2133360" y="4572000"/>
                <a:ext cx="1019160" cy="457200"/>
                <a:chOff x="2133360" y="4572000"/>
                <a:chExt cx="1019160" cy="45720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2133360" y="4572000"/>
                  <a:ext cx="333360" cy="214200"/>
                  <a:chOff x="2133360" y="4572000"/>
                  <a:chExt cx="333360" cy="214200"/>
                </a:xfrm>
              </p:grpSpPr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2146680" y="4704840"/>
                    <a:ext cx="306000" cy="68400"/>
                    <a:chOff x="2146680" y="4704840"/>
                    <a:chExt cx="306000" cy="684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2146680" y="4704840"/>
                      <a:ext cx="306000" cy="68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2315880" y="4716720"/>
                      <a:ext cx="106920" cy="324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2133360" y="4743000"/>
                    <a:ext cx="333360" cy="43200"/>
                    <a:chOff x="2133360" y="4743000"/>
                    <a:chExt cx="333360" cy="4320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2133360" y="4743000"/>
                      <a:ext cx="33336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2562" y="0"/>
                          </a:moveTo>
                          <a:lnTo>
                            <a:pt x="17553" y="0"/>
                          </a:lnTo>
                          <a:lnTo>
                            <a:pt x="19885" y="17647"/>
                          </a:lnTo>
                          <a:lnTo>
                            <a:pt x="19962" y="18529"/>
                          </a:lnTo>
                          <a:lnTo>
                            <a:pt x="19885" y="19412"/>
                          </a:lnTo>
                          <a:lnTo>
                            <a:pt x="19732" y="19706"/>
                          </a:lnTo>
                          <a:lnTo>
                            <a:pt x="306" y="19706"/>
                          </a:lnTo>
                          <a:lnTo>
                            <a:pt x="153" y="19412"/>
                          </a:lnTo>
                          <a:lnTo>
                            <a:pt x="0" y="18235"/>
                          </a:lnTo>
                          <a:lnTo>
                            <a:pt x="76" y="17353"/>
                          </a:lnTo>
                          <a:lnTo>
                            <a:pt x="2562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2151720" y="4751640"/>
                      <a:ext cx="22248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2693" y="0"/>
                          </a:moveTo>
                          <a:lnTo>
                            <a:pt x="18968" y="0"/>
                          </a:lnTo>
                          <a:lnTo>
                            <a:pt x="19943" y="19535"/>
                          </a:lnTo>
                          <a:lnTo>
                            <a:pt x="0" y="19535"/>
                          </a:lnTo>
                          <a:lnTo>
                            <a:pt x="2693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2380680" y="4751640"/>
                      <a:ext cx="6624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1731" y="0"/>
                          </a:lnTo>
                          <a:lnTo>
                            <a:pt x="19808" y="19535"/>
                          </a:lnTo>
                          <a:lnTo>
                            <a:pt x="3654" y="1953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2188440" y="4572000"/>
                    <a:ext cx="222480" cy="132120"/>
                    <a:chOff x="2188440" y="4572000"/>
                    <a:chExt cx="222480" cy="1321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2188440" y="4572000"/>
                      <a:ext cx="222480" cy="132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2202480" y="4582800"/>
                      <a:ext cx="194400" cy="111960"/>
                    </a:xfrm>
                    <a:prstGeom prst="rect">
                      <a:avLst/>
                    </a:prstGeom>
                    <a:solidFill>
                      <a:srgbClr val="1050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2367720" y="4582800"/>
                      <a:ext cx="29160" cy="111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2374200" y="4588200"/>
                      <a:ext cx="1476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2376000" y="4636800"/>
                      <a:ext cx="11520" cy="8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2376000" y="4657320"/>
                      <a:ext cx="11520" cy="7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2376000" y="4676400"/>
                      <a:ext cx="11520" cy="7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2819160" y="4572000"/>
                  <a:ext cx="333360" cy="214200"/>
                  <a:chOff x="2819160" y="4572000"/>
                  <a:chExt cx="333360" cy="214200"/>
                </a:xfrm>
              </p:grpSpPr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2832480" y="4704840"/>
                    <a:ext cx="306000" cy="68400"/>
                    <a:chOff x="2832480" y="4704840"/>
                    <a:chExt cx="306000" cy="68400"/>
                  </a:xfrm>
                </p:grpSpPr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2832480" y="4704840"/>
                      <a:ext cx="306000" cy="68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3001680" y="4716720"/>
                      <a:ext cx="106920" cy="324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2819160" y="4743000"/>
                    <a:ext cx="333360" cy="43200"/>
                    <a:chOff x="2819160" y="4743000"/>
                    <a:chExt cx="333360" cy="43200"/>
                  </a:xfrm>
                </p:grpSpPr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2819160" y="4743000"/>
                      <a:ext cx="33336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2562" y="0"/>
                          </a:moveTo>
                          <a:lnTo>
                            <a:pt x="17553" y="0"/>
                          </a:lnTo>
                          <a:lnTo>
                            <a:pt x="19885" y="17647"/>
                          </a:lnTo>
                          <a:lnTo>
                            <a:pt x="19962" y="18529"/>
                          </a:lnTo>
                          <a:lnTo>
                            <a:pt x="19885" y="19412"/>
                          </a:lnTo>
                          <a:lnTo>
                            <a:pt x="19732" y="19706"/>
                          </a:lnTo>
                          <a:lnTo>
                            <a:pt x="306" y="19706"/>
                          </a:lnTo>
                          <a:lnTo>
                            <a:pt x="153" y="19412"/>
                          </a:lnTo>
                          <a:lnTo>
                            <a:pt x="0" y="18235"/>
                          </a:lnTo>
                          <a:lnTo>
                            <a:pt x="76" y="17353"/>
                          </a:lnTo>
                          <a:lnTo>
                            <a:pt x="2562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2837520" y="4751640"/>
                      <a:ext cx="22248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2693" y="0"/>
                          </a:moveTo>
                          <a:lnTo>
                            <a:pt x="18968" y="0"/>
                          </a:lnTo>
                          <a:lnTo>
                            <a:pt x="19943" y="19535"/>
                          </a:lnTo>
                          <a:lnTo>
                            <a:pt x="0" y="19535"/>
                          </a:lnTo>
                          <a:lnTo>
                            <a:pt x="2693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3066480" y="4751640"/>
                      <a:ext cx="6624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1731" y="0"/>
                          </a:lnTo>
                          <a:lnTo>
                            <a:pt x="19808" y="19535"/>
                          </a:lnTo>
                          <a:lnTo>
                            <a:pt x="3654" y="1953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2874240" y="4572000"/>
                    <a:ext cx="222480" cy="132120"/>
                    <a:chOff x="2874240" y="4572000"/>
                    <a:chExt cx="222480" cy="13212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2874240" y="4572000"/>
                      <a:ext cx="222480" cy="132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2888280" y="4582800"/>
                      <a:ext cx="194400" cy="111960"/>
                    </a:xfrm>
                    <a:prstGeom prst="rect">
                      <a:avLst/>
                    </a:prstGeom>
                    <a:solidFill>
                      <a:srgbClr val="1050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3053520" y="4582800"/>
                      <a:ext cx="29160" cy="111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3060000" y="4588200"/>
                      <a:ext cx="1476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3061800" y="4636800"/>
                      <a:ext cx="11520" cy="8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3061800" y="4657320"/>
                      <a:ext cx="11520" cy="7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3061800" y="4676400"/>
                      <a:ext cx="11520" cy="7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64" name=""/>
                <p:cNvSpPr/>
                <p:nvPr/>
              </p:nvSpPr>
              <p:spPr>
                <a:xfrm>
                  <a:off x="2209680" y="4800600"/>
                  <a:ext cx="15228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2971440" y="4800600"/>
                <a:ext cx="15264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095880" y="4572000"/>
                <a:ext cx="1447200" cy="457200"/>
                <a:chOff x="6095880" y="4572000"/>
                <a:chExt cx="144720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705360" y="4572000"/>
                  <a:ext cx="333000" cy="214200"/>
                  <a:chOff x="6705360" y="4572000"/>
                  <a:chExt cx="333000" cy="214200"/>
                </a:xfrm>
              </p:grpSpPr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6718680" y="4704840"/>
                    <a:ext cx="305640" cy="68400"/>
                    <a:chOff x="6718680" y="4704840"/>
                    <a:chExt cx="305640" cy="6840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6718680" y="4704840"/>
                      <a:ext cx="305640" cy="68400"/>
                    </a:xfrm>
                    <a:prstGeom prst="rect">
                      <a:avLst/>
                    </a:pr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6887520" y="4716720"/>
                      <a:ext cx="106920" cy="32400"/>
                    </a:xfrm>
                    <a:prstGeom prst="rect">
                      <a:avLst/>
                    </a:pr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6705360" y="4743000"/>
                    <a:ext cx="333000" cy="43200"/>
                    <a:chOff x="6705360" y="4743000"/>
                    <a:chExt cx="333000" cy="4320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6705360" y="4743000"/>
                      <a:ext cx="33300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2562" y="0"/>
                          </a:moveTo>
                          <a:lnTo>
                            <a:pt x="17553" y="0"/>
                          </a:lnTo>
                          <a:lnTo>
                            <a:pt x="19885" y="17647"/>
                          </a:lnTo>
                          <a:lnTo>
                            <a:pt x="19962" y="18529"/>
                          </a:lnTo>
                          <a:lnTo>
                            <a:pt x="19885" y="19412"/>
                          </a:lnTo>
                          <a:lnTo>
                            <a:pt x="19732" y="19706"/>
                          </a:lnTo>
                          <a:lnTo>
                            <a:pt x="306" y="19706"/>
                          </a:lnTo>
                          <a:lnTo>
                            <a:pt x="153" y="19412"/>
                          </a:lnTo>
                          <a:lnTo>
                            <a:pt x="0" y="18235"/>
                          </a:lnTo>
                          <a:lnTo>
                            <a:pt x="76" y="17353"/>
                          </a:lnTo>
                          <a:lnTo>
                            <a:pt x="2562" y="0"/>
                          </a:lnTo>
                          <a:close/>
                        </a:path>
                      </a:pathLst>
                    </a:cu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6723720" y="4751640"/>
                      <a:ext cx="22212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2693" y="0"/>
                          </a:moveTo>
                          <a:lnTo>
                            <a:pt x="18968" y="0"/>
                          </a:lnTo>
                          <a:lnTo>
                            <a:pt x="19943" y="19535"/>
                          </a:lnTo>
                          <a:lnTo>
                            <a:pt x="0" y="19535"/>
                          </a:lnTo>
                          <a:lnTo>
                            <a:pt x="2693" y="0"/>
                          </a:lnTo>
                          <a:close/>
                        </a:path>
                      </a:pathLst>
                    </a:cu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6952320" y="4751640"/>
                      <a:ext cx="6624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1731" y="0"/>
                          </a:lnTo>
                          <a:lnTo>
                            <a:pt x="19808" y="19535"/>
                          </a:lnTo>
                          <a:lnTo>
                            <a:pt x="3654" y="1953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6760440" y="4572000"/>
                    <a:ext cx="222120" cy="132120"/>
                    <a:chOff x="6760440" y="4572000"/>
                    <a:chExt cx="222120" cy="1321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6760440" y="4572000"/>
                      <a:ext cx="222120" cy="132120"/>
                    </a:xfrm>
                    <a:prstGeom prst="rect">
                      <a:avLst/>
                    </a:pr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6774480" y="4582800"/>
                      <a:ext cx="194040" cy="111960"/>
                    </a:xfrm>
                    <a:prstGeom prst="rect">
                      <a:avLst/>
                    </a:pr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6939360" y="4582800"/>
                      <a:ext cx="29160" cy="111960"/>
                    </a:xfrm>
                    <a:prstGeom prst="rect">
                      <a:avLst/>
                    </a:pr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6945840" y="4588200"/>
                      <a:ext cx="14760" cy="7920"/>
                    </a:xfrm>
                    <a:prstGeom prst="rect">
                      <a:avLst/>
                    </a:pr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6947640" y="4636800"/>
                      <a:ext cx="11520" cy="8280"/>
                    </a:xfrm>
                    <a:prstGeom prst="ellipse">
                      <a:avLst/>
                    </a:pr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6947640" y="4657320"/>
                      <a:ext cx="11520" cy="7920"/>
                    </a:xfrm>
                    <a:prstGeom prst="ellipse">
                      <a:avLst/>
                    </a:pr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6947640" y="4676400"/>
                      <a:ext cx="11520" cy="7920"/>
                    </a:xfrm>
                    <a:prstGeom prst="ellipse">
                      <a:avLst/>
                    </a:pr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83" name=""/>
                <p:cNvSpPr/>
                <p:nvPr/>
              </p:nvSpPr>
              <p:spPr>
                <a:xfrm flipH="1">
                  <a:off x="6780960" y="4800600"/>
                  <a:ext cx="15228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7391160" y="4800600"/>
                  <a:ext cx="15192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5" name=""/>
                <p:cNvGrpSpPr/>
                <p:nvPr/>
              </p:nvGrpSpPr>
              <p:grpSpPr>
                <a:xfrm>
                  <a:off x="6095880" y="4572000"/>
                  <a:ext cx="333000" cy="214200"/>
                  <a:chOff x="6095880" y="4572000"/>
                  <a:chExt cx="333000" cy="214200"/>
                </a:xfrm>
              </p:grpSpPr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6109200" y="4704840"/>
                    <a:ext cx="305640" cy="68400"/>
                    <a:chOff x="6109200" y="4704840"/>
                    <a:chExt cx="305640" cy="6840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6109200" y="4704840"/>
                      <a:ext cx="305640" cy="68400"/>
                    </a:xfrm>
                    <a:prstGeom prst="rect">
                      <a:avLst/>
                    </a:pr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6278040" y="4716720"/>
                      <a:ext cx="106920" cy="32400"/>
                    </a:xfrm>
                    <a:prstGeom prst="rect">
                      <a:avLst/>
                    </a:pr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6095880" y="4743000"/>
                    <a:ext cx="333000" cy="43200"/>
                    <a:chOff x="6095880" y="4743000"/>
                    <a:chExt cx="333000" cy="4320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6095880" y="4743000"/>
                      <a:ext cx="33300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2562" y="0"/>
                          </a:moveTo>
                          <a:lnTo>
                            <a:pt x="17553" y="0"/>
                          </a:lnTo>
                          <a:lnTo>
                            <a:pt x="19885" y="17647"/>
                          </a:lnTo>
                          <a:lnTo>
                            <a:pt x="19962" y="18529"/>
                          </a:lnTo>
                          <a:lnTo>
                            <a:pt x="19885" y="19412"/>
                          </a:lnTo>
                          <a:lnTo>
                            <a:pt x="19732" y="19706"/>
                          </a:lnTo>
                          <a:lnTo>
                            <a:pt x="306" y="19706"/>
                          </a:lnTo>
                          <a:lnTo>
                            <a:pt x="153" y="19412"/>
                          </a:lnTo>
                          <a:lnTo>
                            <a:pt x="0" y="18235"/>
                          </a:lnTo>
                          <a:lnTo>
                            <a:pt x="76" y="17353"/>
                          </a:lnTo>
                          <a:lnTo>
                            <a:pt x="2562" y="0"/>
                          </a:lnTo>
                          <a:close/>
                        </a:path>
                      </a:pathLst>
                    </a:cu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6114240" y="4751640"/>
                      <a:ext cx="22212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2693" y="0"/>
                          </a:moveTo>
                          <a:lnTo>
                            <a:pt x="18968" y="0"/>
                          </a:lnTo>
                          <a:lnTo>
                            <a:pt x="19943" y="19535"/>
                          </a:lnTo>
                          <a:lnTo>
                            <a:pt x="0" y="19535"/>
                          </a:lnTo>
                          <a:lnTo>
                            <a:pt x="2693" y="0"/>
                          </a:lnTo>
                          <a:close/>
                        </a:path>
                      </a:pathLst>
                    </a:cu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6342840" y="4751640"/>
                      <a:ext cx="6624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1731" y="0"/>
                          </a:lnTo>
                          <a:lnTo>
                            <a:pt x="19808" y="19535"/>
                          </a:lnTo>
                          <a:lnTo>
                            <a:pt x="3654" y="1953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6150960" y="4572000"/>
                    <a:ext cx="222120" cy="132120"/>
                    <a:chOff x="6150960" y="4572000"/>
                    <a:chExt cx="222120" cy="13212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6150960" y="4572000"/>
                      <a:ext cx="222120" cy="132120"/>
                    </a:xfrm>
                    <a:prstGeom prst="rect">
                      <a:avLst/>
                    </a:pr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6165000" y="4582800"/>
                      <a:ext cx="194040" cy="111960"/>
                    </a:xfrm>
                    <a:prstGeom prst="rect">
                      <a:avLst/>
                    </a:pr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6329880" y="4582800"/>
                      <a:ext cx="29160" cy="111960"/>
                    </a:xfrm>
                    <a:prstGeom prst="rect">
                      <a:avLst/>
                    </a:pr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6336360" y="4588200"/>
                      <a:ext cx="14760" cy="7920"/>
                    </a:xfrm>
                    <a:prstGeom prst="rect">
                      <a:avLst/>
                    </a:pr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6338160" y="4636800"/>
                      <a:ext cx="11520" cy="8280"/>
                    </a:xfrm>
                    <a:prstGeom prst="ellipse">
                      <a:avLst/>
                    </a:pr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6338160" y="4657320"/>
                      <a:ext cx="11520" cy="7920"/>
                    </a:xfrm>
                    <a:prstGeom prst="ellipse">
                      <a:avLst/>
                    </a:pr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6338160" y="4676400"/>
                      <a:ext cx="11520" cy="7920"/>
                    </a:xfrm>
                    <a:prstGeom prst="ellipse">
                      <a:avLst/>
                    </a:prstGeom>
                    <a:solidFill>
                      <a:srgbClr val="ff00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01" name=""/>
                <p:cNvSpPr/>
                <p:nvPr/>
              </p:nvSpPr>
              <p:spPr>
                <a:xfrm flipH="1">
                  <a:off x="6171840" y="4800600"/>
                  <a:ext cx="15192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1523880" y="5181480"/>
                <a:ext cx="1828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Protocol A domai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504960" y="5334120"/>
                <a:ext cx="6858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9900"/>
                    </a:solidFill>
                    <a:latin typeface="Times New Roman"/>
                  </a:rPr>
                  <a:t>Half Brid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10080" y="4495680"/>
                <a:ext cx="380880" cy="609840"/>
              </a:xfrm>
              <a:custGeom>
                <a:avLst/>
                <a:gdLst>
                  <a:gd name="textAreaLeft" fmla="*/ 95040 w 380880"/>
                  <a:gd name="textAreaRight" fmla="*/ 285840 w 380880"/>
                  <a:gd name="textAreaTop" fmla="*/ 0 h 609840"/>
                  <a:gd name="textAreaBottom" fmla="*/ 610200 h 60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16200" y="0"/>
                    </a:lnTo>
                    <a:lnTo>
                      <a:pt x="16200" y="8100"/>
                    </a:lnTo>
                    <a:lnTo>
                      <a:pt x="18900" y="8100"/>
                    </a:lnTo>
                    <a:lnTo>
                      <a:pt x="18900" y="5500"/>
                    </a:lnTo>
                    <a:lnTo>
                      <a:pt x="21600" y="10800"/>
                    </a:lnTo>
                    <a:lnTo>
                      <a:pt x="18900" y="16100"/>
                    </a:lnTo>
                    <a:lnTo>
                      <a:pt x="18900" y="13500"/>
                    </a:lnTo>
                    <a:lnTo>
                      <a:pt x="16200" y="13500"/>
                    </a:lnTo>
                    <a:lnTo>
                      <a:pt x="16200" y="21600"/>
                    </a:lnTo>
                    <a:lnTo>
                      <a:pt x="5400" y="21600"/>
                    </a:lnTo>
                    <a:lnTo>
                      <a:pt x="5400" y="13500"/>
                    </a:lnTo>
                    <a:lnTo>
                      <a:pt x="2700" y="13500"/>
                    </a:lnTo>
                    <a:lnTo>
                      <a:pt x="2700" y="16100"/>
                    </a:lnTo>
                    <a:lnTo>
                      <a:pt x="0" y="10800"/>
                    </a:lnTo>
                    <a:lnTo>
                      <a:pt x="2700" y="5500"/>
                    </a:lnTo>
                    <a:lnTo>
                      <a:pt x="2700" y="8100"/>
                    </a:lnTo>
                    <a:lnTo>
                      <a:pt x="5400" y="810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410080" y="5334120"/>
                <a:ext cx="6858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9900"/>
                    </a:solidFill>
                    <a:latin typeface="Times New Roman"/>
                  </a:rPr>
                  <a:t>Half Brid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962160" y="4572000"/>
                <a:ext cx="144792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190760" y="4648320"/>
                <a:ext cx="990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3399"/>
                    </a:solidFill>
                    <a:latin typeface="Times New Roman"/>
                  </a:rPr>
                  <a:t>Protocol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90760" y="5029200"/>
                <a:ext cx="10666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66ff"/>
                    </a:solidFill>
                    <a:latin typeface="Times New Roman"/>
                  </a:rPr>
                  <a:t>(Backbone Protoco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General Inter-ORB Protocol (GIO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1976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Basic interoperability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nsport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mon Data Representation (CD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99"/>
              </a:spcBef>
              <a:buClr>
                <a:srgbClr val="008000"/>
              </a:buClr>
              <a:buSzPct val="69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ssag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66880" y="5072040"/>
            <a:ext cx="4191120" cy="947160"/>
          </a:xfrm>
          <a:prstGeom prst="borderCallout2">
            <a:avLst>
              <a:gd name="adj1" fmla="val 18750"/>
              <a:gd name="adj2" fmla="val -8333"/>
              <a:gd name="adj3" fmla="val 11921"/>
              <a:gd name="adj4" fmla="val -1819"/>
              <a:gd name="adj5" fmla="val 6379"/>
              <a:gd name="adj6" fmla="val -2226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cessary for clients and servers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Internet Inter-ORB Protocol (IIO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imes New Roman"/>
              </a:rPr>
              <a:t>GIOP is independent of a particular transpor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--abstrac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imes New Roman"/>
              </a:rPr>
              <a:t>IIOP is specific to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-concrete implementation of GI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imes New Roman"/>
              </a:rPr>
              <a:t>To turn GIOP into a concrete protocol, IIOP specifies the encoding of IO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encodes TCP/IP addressing info inside an 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atoke.inf.elte.hu</cp:lastModifiedBy>
  <cp:lastPrinted>2000-01-26T17:46:28Z</cp:lastPrinted>
  <dcterms:modified xsi:type="dcterms:W3CDTF">2005-02-20T15:30:48Z</dcterms:modified>
  <cp:revision>1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ebi.ac.uk/~lcwang</vt:lpwstr>
  </property>
  <property fmtid="{D5CDD505-2E9C-101B-9397-08002B2CF9AE}" pid="9" name="LinkColor">
    <vt:r8>16711782</vt:r8>
  </property>
  <property fmtid="{D5CDD505-2E9C-101B-9397-08002B2CF9AE}" pid="10" name="MailAddress">
    <vt:lpwstr>lcwang@ebi.ac.uk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Users\senger\ws-corba\html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