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411048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58200" y="198072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411048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8200" y="411048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24778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6480" y="1980720"/>
            <a:ext cx="24778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18560" y="1980720"/>
            <a:ext cx="24778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4110480"/>
            <a:ext cx="24778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6480" y="4110480"/>
            <a:ext cx="24778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18560" y="4110480"/>
            <a:ext cx="24778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5552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8200" y="1980720"/>
            <a:ext cx="375552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418680"/>
            <a:ext cx="76960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8200" y="1980720"/>
            <a:ext cx="375552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11048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5552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8200" y="198072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58200" y="411048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8200" y="198072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11048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99960" y="209520"/>
            <a:ext cx="1525680" cy="1525680"/>
            <a:chOff x="399960" y="209520"/>
            <a:chExt cx="1525680" cy="1525680"/>
          </a:xfrm>
        </p:grpSpPr>
        <p:sp>
          <p:nvSpPr>
            <p:cNvPr id="1" name=""/>
            <p:cNvSpPr/>
            <p:nvPr/>
          </p:nvSpPr>
          <p:spPr>
            <a:xfrm>
              <a:off x="552600" y="36180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4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99960" y="209520"/>
              <a:ext cx="1525680" cy="1525680"/>
              <a:chOff x="399960" y="209520"/>
              <a:chExt cx="1525680" cy="1525680"/>
            </a:xfrm>
          </p:grpSpPr>
          <p:sp>
            <p:nvSpPr>
              <p:cNvPr id="3" name=""/>
              <p:cNvSpPr/>
              <p:nvPr/>
            </p:nvSpPr>
            <p:spPr>
              <a:xfrm>
                <a:off x="116208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c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16208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9996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c0128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93240" y="6500880"/>
            <a:ext cx="1932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BA: IDL-Java map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IDL-Java mapping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5257800"/>
            <a:ext cx="419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rtin S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nger@EBI.ac.u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57240" y="2779560"/>
            <a:ext cx="6296040" cy="20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is easy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is easy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ould mapping be difficul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IDL to Java: Basic Type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72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IDL </a:t>
            </a:r>
            <a:r>
              <a:rPr b="0" i="1" lang="en-GB" sz="2800" spc="-1" strike="noStrike">
                <a:solidFill>
                  <a:srgbClr val="fc0128"/>
                </a:solidFill>
                <a:latin typeface="Times New Roman"/>
              </a:rPr>
              <a:t>char</a:t>
            </a:r>
            <a:br>
              <a:rPr sz="28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const char MyChar = ’A’;</a:t>
            </a:r>
            <a:br>
              <a:rPr sz="16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8400" y="1980720"/>
            <a:ext cx="377172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Java </a:t>
            </a:r>
            <a:r>
              <a:rPr b="0" i="1" lang="en-GB" sz="2800" spc="-1" strike="noStrike">
                <a:solidFill>
                  <a:srgbClr val="fc0128"/>
                </a:solidFill>
                <a:latin typeface="Times New Roman"/>
              </a:rPr>
              <a:t>char</a:t>
            </a:r>
            <a:br>
              <a:rPr sz="28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final public class MyChar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{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final public static char value = (char)’A’;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IDL to Java: Basic Type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72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IDL </a:t>
            </a:r>
            <a:r>
              <a:rPr b="0" i="1" lang="en-GB" sz="2800" spc="-1" strike="noStrike">
                <a:solidFill>
                  <a:srgbClr val="fc0128"/>
                </a:solidFill>
                <a:latin typeface="Times New Roman"/>
              </a:rPr>
              <a:t>octet</a:t>
            </a:r>
            <a:br>
              <a:rPr sz="28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void foo(in octet x);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38400" y="1980720"/>
            <a:ext cx="377172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Java </a:t>
            </a:r>
            <a:r>
              <a:rPr b="0" i="1" lang="en-GB" sz="2800" spc="-1" strike="noStrike">
                <a:solidFill>
                  <a:srgbClr val="fc0128"/>
                </a:solidFill>
                <a:latin typeface="Times New Roman"/>
              </a:rPr>
              <a:t>byte</a:t>
            </a:r>
            <a:br>
              <a:rPr sz="28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public void foo(byte x);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IDL to Java: Basic Type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72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IDL </a:t>
            </a:r>
            <a:r>
              <a:rPr b="0" i="1" lang="en-GB" sz="2800" spc="-1" strike="noStrike">
                <a:solidFill>
                  <a:srgbClr val="fc0128"/>
                </a:solidFill>
                <a:latin typeface="Times New Roman"/>
              </a:rPr>
              <a:t>boolean</a:t>
            </a:r>
            <a:br>
              <a:rPr sz="28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const boolean truth = TRUE;</a:t>
            </a:r>
            <a:br>
              <a:rPr sz="16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DL constant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RU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38400" y="1980720"/>
            <a:ext cx="377172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Java </a:t>
            </a:r>
            <a:r>
              <a:rPr b="0" i="1" lang="en-GB" sz="2800" spc="-1" strike="noStrike">
                <a:solidFill>
                  <a:srgbClr val="fc0128"/>
                </a:solidFill>
                <a:latin typeface="Times New Roman"/>
              </a:rPr>
              <a:t>boolean</a:t>
            </a:r>
            <a:br>
              <a:rPr sz="28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final public class truth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{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final public static boolean value = true;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ava constant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ru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IDL to Java: Basic Type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72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IDL </a:t>
            </a:r>
            <a:r>
              <a:rPr b="0" i="1" lang="en-GB" sz="2800" spc="-1" strike="noStrike">
                <a:solidFill>
                  <a:srgbClr val="fc0128"/>
                </a:solidFill>
                <a:latin typeface="Times New Roman"/>
              </a:rPr>
              <a:t>string</a:t>
            </a:r>
            <a:br>
              <a:rPr sz="28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const string MyString = “Hello World”;</a:t>
            </a:r>
            <a:br>
              <a:rPr sz="16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8400" y="1980720"/>
            <a:ext cx="377172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Java </a:t>
            </a:r>
            <a:r>
              <a:rPr b="0" i="1" lang="en-GB" sz="2800" spc="-1" strike="noStrike">
                <a:solidFill>
                  <a:srgbClr val="fc0128"/>
                </a:solidFill>
                <a:latin typeface="Times New Roman"/>
              </a:rPr>
              <a:t>java.lang.String</a:t>
            </a:r>
            <a:br>
              <a:rPr sz="28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final public class MyString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{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final public static String value = “Hello World”;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IDL to Java: Basic Type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72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IDL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(unsigned) sh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(unsigned)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(unsigned) long long?</a:t>
            </a:r>
            <a:br>
              <a:rPr sz="2400"/>
            </a:br>
            <a:br>
              <a:rPr sz="24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const unsigned short MyUnsignedShort = 158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38400" y="1980720"/>
            <a:ext cx="377172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Java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ong</a:t>
            </a:r>
            <a:br>
              <a:rPr sz="2400"/>
            </a:br>
            <a:br>
              <a:rPr sz="24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final public class MyUnsignedShort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{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final public static short value = (short)1580;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IDL to Java: Basic Type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72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IDL floating-poin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c0128"/>
                </a:solidFill>
                <a:latin typeface="Times New Roman"/>
              </a:rPr>
              <a:t>float, double</a:t>
            </a: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const double MyDouble = 1.23456789;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38400" y="1980720"/>
            <a:ext cx="377172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Java floating-poin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c0128"/>
                </a:solidFill>
                <a:latin typeface="Times New Roman"/>
              </a:rPr>
              <a:t>float, double</a:t>
            </a:r>
            <a:br>
              <a:rPr sz="2800"/>
            </a:br>
            <a:br>
              <a:rPr sz="28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final public class MyDouble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{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final public static double value = (double)1.23456789;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IDL to Java: Constructed Type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7208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IDL </a:t>
            </a:r>
            <a:r>
              <a:rPr b="0" i="1" lang="en-GB" sz="2800" spc="-1" strike="noStrike">
                <a:solidFill>
                  <a:srgbClr val="fc0128"/>
                </a:solidFill>
                <a:latin typeface="Times New Roman"/>
              </a:rPr>
              <a:t>Enum</a:t>
            </a:r>
            <a:br>
              <a:rPr sz="28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enum MyEnum {none,first,second};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38400" y="1600200"/>
            <a:ext cx="37717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Java </a:t>
            </a:r>
            <a:r>
              <a:rPr b="0" i="1" lang="en-GB" sz="2800" spc="-1" strike="noStrike">
                <a:solidFill>
                  <a:srgbClr val="fc0128"/>
                </a:solidFill>
                <a:latin typeface="Times New Roman"/>
              </a:rPr>
              <a:t>class</a:t>
            </a:r>
            <a:br>
              <a:rPr sz="28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final public class MyEnum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{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final public static int none = 0;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final public static int first = 1;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final public static int second = 2;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final public static int narrow(int i) throws CORBA.BAD_PARAM {..};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narrow method is for checking enum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IDL to Java: Constructed Type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72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IDL </a:t>
            </a:r>
            <a:r>
              <a:rPr b="0" i="1" lang="en-GB" sz="2800" spc="-1" strike="noStrike">
                <a:solidFill>
                  <a:srgbClr val="fc0128"/>
                </a:solidFill>
                <a:latin typeface="Times New Roman"/>
              </a:rPr>
              <a:t>struct</a:t>
            </a:r>
            <a:br>
              <a:rPr sz="28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struct MyStruct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{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long mylong;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string mystring;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};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38400" y="1981080"/>
            <a:ext cx="377172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Java </a:t>
            </a:r>
            <a:r>
              <a:rPr b="0" i="1" lang="en-GB" sz="2800" spc="-1" strike="noStrike">
                <a:solidFill>
                  <a:srgbClr val="fc0128"/>
                </a:solidFill>
                <a:latin typeface="Times New Roman"/>
              </a:rPr>
              <a:t>class</a:t>
            </a:r>
            <a:br>
              <a:rPr sz="28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final public class MyStruct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{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public MyStruct(int _mylong, String _mystring) {…};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public MyStruct() {…};</a:t>
            </a:r>
            <a:br>
              <a:rPr sz="1600"/>
            </a:b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public int mylong;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public String mystring;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IDL to Java: Constructed Type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IDL </a:t>
            </a:r>
            <a:r>
              <a:rPr b="0" i="1" lang="en-GB" sz="2800" spc="-1" strike="noStrike">
                <a:solidFill>
                  <a:srgbClr val="fc0128"/>
                </a:solidFill>
                <a:latin typeface="Times New Roman"/>
              </a:rPr>
              <a:t>union</a:t>
            </a:r>
            <a:br>
              <a:rPr sz="28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union MyUnion switch (EnumType)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{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case first:long win;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case second:long place;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default:long other;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};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9240" y="1981080"/>
            <a:ext cx="4240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Java </a:t>
            </a:r>
            <a:r>
              <a:rPr b="0" i="1" lang="en-GB" sz="2800" spc="-1" strike="noStrike">
                <a:solidFill>
                  <a:srgbClr val="fc0128"/>
                </a:solidFill>
                <a:latin typeface="Times New Roman"/>
              </a:rPr>
              <a:t>class</a:t>
            </a:r>
            <a:br>
              <a:rPr sz="28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final public class MyUnion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{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public MyUnion() {};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public int discriminator() {…};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public int win() {…};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public void win(int discriminator, int _val) {…};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public int place() {…};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public void place(int discriminator, int _val) {…};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public int other() {…};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public void other(int discriminator, int _val) {…};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IDL to Java: Constructed Type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72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IDL </a:t>
            </a:r>
            <a:r>
              <a:rPr b="0" i="1" lang="en-GB" sz="2800" spc="-1" strike="noStrike">
                <a:solidFill>
                  <a:srgbClr val="fc0128"/>
                </a:solidFill>
                <a:latin typeface="Times New Roman"/>
              </a:rPr>
              <a:t>sequence </a:t>
            </a: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and </a:t>
            </a:r>
            <a:r>
              <a:rPr b="0" i="1" lang="en-GB" sz="2800" spc="-1" strike="noStrike">
                <a:solidFill>
                  <a:srgbClr val="fc0128"/>
                </a:solidFill>
                <a:latin typeface="Times New Roman"/>
              </a:rPr>
              <a:t>array</a:t>
            </a:r>
            <a:br>
              <a:rPr sz="2800"/>
            </a:br>
            <a:br>
              <a:rPr sz="28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typedef sequence&lt; MyObject &gt; MySequence;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MySequence mystuf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rra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 map the same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38400" y="1980720"/>
            <a:ext cx="377172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Java array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public MySequence[] mystuff;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ava subscripting operator can be used on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1523880"/>
            <a:ext cx="3944880" cy="46623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79f"/>
                </a:solidFill>
                <a:latin typeface="Courier New"/>
              </a:rPr>
              <a:t>module MappingExample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st boolean  truth = TRU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st char     aChar = 'A'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st short    aShort = -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st unsigned short anUnsignedShort = 15907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st long     aLong = -12345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st unsigned long anUnsignedLong = 981008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st float    aFloat = 3.14159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st double   aDouble = 2.718281828459045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st string   aString = "Java"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fc0128"/>
                </a:solidFill>
                <a:latin typeface="Courier New"/>
              </a:rPr>
              <a:t>interface anOctet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oid foo (in octet x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fc0128"/>
                </a:solidFill>
                <a:latin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num EnumType { none, one, two 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truct StructType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ong thes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tring thos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union UnionType switch (EnumTyp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none:  long aNon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one:   long aOn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two:   long aTwo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efault:    long other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355840" y="3970440"/>
          <a:ext cx="1765440" cy="9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5840" y="3970440"/>
                    <a:ext cx="1765440" cy="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4495680" y="1523880"/>
            <a:ext cx="4419720" cy="46623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typedef sequence &lt; StructType &gt; StructSequenc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typedef sequence &lt; StructType,42 &gt; StructSequence4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truct SequenceContainer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tructSequence   contained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tructSequence42 contained4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hort            array [3][4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xception That { string reason; 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fc0128"/>
                </a:solidFill>
                <a:latin typeface="Courier New"/>
              </a:rPr>
              <a:t>interface Operations {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tring opNormal (in    StructType inPa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ut   string outPa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out short inoutPar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any opAny 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neway void opOneWay 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fc0128"/>
                </a:solidFill>
                <a:latin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fc0128"/>
                </a:solidFill>
                <a:latin typeface="Courier New"/>
              </a:rPr>
              <a:t>interface Attribute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attribute          long assignabl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only attribute long fetchabl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fc0128"/>
                </a:solidFill>
                <a:latin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fc0128"/>
                </a:solidFill>
                <a:latin typeface="Courier New"/>
              </a:rPr>
              <a:t>interface Derivated : Operation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tring opAdditional 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fc0128"/>
                </a:solidFill>
                <a:latin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79f"/>
                </a:solidFill>
                <a:latin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279f"/>
                </a:solidFill>
                <a:latin typeface="Times New Roman"/>
              </a:rPr>
              <a:t>Example: Mapping.idl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IDL to Java: Constructed Type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72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IDL </a:t>
            </a:r>
            <a:r>
              <a:rPr b="0" i="1" lang="en-GB" sz="2800" spc="-1" strike="noStrike">
                <a:solidFill>
                  <a:srgbClr val="fc0128"/>
                </a:solidFill>
                <a:latin typeface="Times New Roman"/>
              </a:rPr>
              <a:t>any</a:t>
            </a:r>
            <a:br>
              <a:rPr sz="28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typedef sequence&lt; any &gt; GenericSeq;</a:t>
            </a:r>
            <a:br>
              <a:rPr sz="1600"/>
            </a:b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GenericSeq myanys;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8400" y="1980720"/>
            <a:ext cx="377172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Java class CORBA.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s conversion functions to and from all predefined IDL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ault constructor or can be initialised from other mapped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IDL to Java: Constant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72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IDL </a:t>
            </a:r>
            <a:r>
              <a:rPr b="0" i="1" lang="en-GB" sz="2800" spc="-1" strike="noStrike">
                <a:solidFill>
                  <a:srgbClr val="fc0128"/>
                </a:solidFill>
                <a:latin typeface="Times New Roman"/>
              </a:rPr>
              <a:t>const</a:t>
            </a:r>
            <a:br>
              <a:rPr sz="2800"/>
            </a:br>
            <a:r>
              <a:rPr b="1" lang="en-GB" sz="1800" spc="-1" strike="noStrike">
                <a:solidFill>
                  <a:srgbClr val="00279f"/>
                </a:solidFill>
                <a:latin typeface="Courier New"/>
              </a:rPr>
              <a:t>const long MyLong = -12345;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ns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 inside an IDL interface are mapped 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final public static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alues within the corresponding Java interf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38400" y="1980720"/>
            <a:ext cx="377172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Java </a:t>
            </a:r>
            <a:r>
              <a:rPr b="0" i="1" lang="en-GB" sz="2800" spc="-1" strike="noStrike">
                <a:solidFill>
                  <a:srgbClr val="fc0128"/>
                </a:solidFill>
                <a:latin typeface="Times New Roman"/>
              </a:rPr>
              <a:t>static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public final class MyLo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final public static int value = (int)-1234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}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cessed by: MyLong.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279f"/>
                </a:solidFill>
                <a:latin typeface="Times New Roman"/>
              </a:rPr>
              <a:t>IDL to Java: Typedef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2080" y="1980720"/>
            <a:ext cx="433404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IDL </a:t>
            </a:r>
            <a:r>
              <a:rPr b="0" i="1" lang="en-GB" sz="2800" spc="-1" strike="noStrike">
                <a:solidFill>
                  <a:srgbClr val="fc0128"/>
                </a:solidFill>
                <a:latin typeface="Times New Roman"/>
              </a:rPr>
              <a:t>typed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typedef string MyStringTyp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const MyStringType mystring = “Hello”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38400" y="1980720"/>
            <a:ext cx="41670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Java does not have typedef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 the solution is to “unwind” the type until either a basic type (i.e. String) or a “non-typedef” user-defined type is 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final public class mystr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final public static String value = “Hello”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Mapping for Exception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4591080" cy="2610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62120" y="1676520"/>
            <a:ext cx="8001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Java </a:t>
            </a:r>
            <a:r>
              <a:rPr b="0" i="1" lang="en-US" sz="2800" spc="-1" strike="noStrike">
                <a:solidFill>
                  <a:srgbClr val="fc0128"/>
                </a:solidFill>
                <a:latin typeface="Times New Roman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ing variables for the fields of the exception and con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Exception are mapped in the same way, but there is no constructor for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Reference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69608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omg.org/library/specindx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CORBA/IIOP 2.2 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document: formal/98-02-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80000"/>
              </a:lnSpc>
              <a:spcBef>
                <a:spcPts val="601"/>
              </a:spcBef>
              <a:buClr>
                <a:srgbClr val="fc0128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pter 3: OMG IDL Syntax and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c0128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pter 24: Mapping OMG IDL to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40000"/>
              </a:lnSpc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industry.ebi.ac.uk/~senger/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IDL-Java mapping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IDL to Java: Generated classe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ny classes (files) gene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_*ImplBas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skele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_portable_stub_*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Helper, *Holde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e supporting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_tie_* for skeleton (delegation), not (yet) standardi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us classes for interfaces, structures,union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14400" y="2133720"/>
            <a:ext cx="3772080" cy="426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IDL </a:t>
            </a:r>
            <a:r>
              <a:rPr b="0" i="1" lang="en-GB" sz="2800" spc="-1" strike="noStrike">
                <a:solidFill>
                  <a:srgbClr val="fc0128"/>
                </a:solidFill>
                <a:latin typeface="Times New Roman"/>
              </a:rPr>
              <a:t>module</a:t>
            </a: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s</a:t>
            </a:r>
            <a:br>
              <a:rPr sz="2800"/>
            </a:br>
            <a:r>
              <a:rPr b="1" lang="en-GB" sz="1800" spc="-1" strike="noStrike">
                <a:solidFill>
                  <a:srgbClr val="00279f"/>
                </a:solidFill>
                <a:latin typeface="Courier New"/>
              </a:rPr>
              <a:t>module MyStuff</a:t>
            </a:r>
            <a:br>
              <a:rPr sz="1800"/>
            </a:br>
            <a:r>
              <a:rPr b="1" lang="en-GB" sz="1800" spc="-1" strike="noStrike">
                <a:solidFill>
                  <a:srgbClr val="00279f"/>
                </a:solidFill>
                <a:latin typeface="Courier New"/>
              </a:rPr>
              <a:t>{</a:t>
            </a:r>
            <a:br>
              <a:rPr sz="1800"/>
            </a:br>
            <a:r>
              <a:rPr b="1" lang="en-GB" sz="18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279f"/>
                </a:solidFill>
                <a:latin typeface="Courier New"/>
              </a:rPr>
              <a:t>…</a:t>
            </a:r>
            <a:br>
              <a:rPr sz="1800"/>
            </a:br>
            <a:r>
              <a:rPr b="1" lang="en-GB" sz="1800" spc="-1" strike="noStrike">
                <a:solidFill>
                  <a:srgbClr val="00279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vide a namespace to group a set of interfaces. Names are scoped using the “::” operator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IDL </a:t>
            </a:r>
            <a:r>
              <a:rPr b="0" i="1" lang="en-GB" sz="2800" spc="-1" strike="noStrike">
                <a:solidFill>
                  <a:srgbClr val="fc0128"/>
                </a:solidFill>
                <a:latin typeface="Times New Roman"/>
              </a:rPr>
              <a:t>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interface Foo { 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914400" y="418680"/>
            <a:ext cx="79516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IDL to Java: Modules and Interface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38400" y="2133720"/>
            <a:ext cx="3771720" cy="426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Java </a:t>
            </a:r>
            <a:r>
              <a:rPr b="0" i="1" lang="en-GB" sz="2800" spc="-1" strike="noStrike">
                <a:solidFill>
                  <a:srgbClr val="fc0128"/>
                </a:solidFill>
                <a:latin typeface="Times New Roman"/>
              </a:rPr>
              <a:t>package</a:t>
            </a: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s</a:t>
            </a:r>
            <a:br>
              <a:rPr sz="2800"/>
            </a:br>
            <a:r>
              <a:rPr b="1" lang="en-GB" sz="1800" spc="-1" strike="noStrike">
                <a:solidFill>
                  <a:srgbClr val="00279f"/>
                </a:solidFill>
                <a:latin typeface="Courier New"/>
              </a:rPr>
              <a:t>package MyStuff;</a:t>
            </a:r>
            <a:br>
              <a:rPr sz="1800"/>
            </a:br>
            <a:r>
              <a:rPr b="1" lang="en-GB" sz="1800" spc="-1" strike="noStrike">
                <a:solidFill>
                  <a:srgbClr val="00279f"/>
                </a:solidFill>
                <a:latin typeface="Courier New"/>
              </a:rPr>
              <a:t>…</a:t>
            </a:r>
            <a:br>
              <a:rPr sz="1800"/>
            </a:br>
            <a:r>
              <a:rPr b="1" lang="en-GB" sz="1800" spc="-1" strike="noStrike">
                <a:solidFill>
                  <a:srgbClr val="00279f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vide Internet-wide namespaces. Scoped using the “.” operator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Java </a:t>
            </a:r>
            <a:r>
              <a:rPr b="0" i="1" lang="en-GB" sz="2800" spc="-1" strike="noStrike">
                <a:solidFill>
                  <a:srgbClr val="fc0128"/>
                </a:solidFill>
                <a:latin typeface="Times New Roman"/>
              </a:rPr>
              <a:t>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public interface Foo {…};</a:t>
            </a: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IDL to Java: Parameter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ameter pa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va uses pass-by-value for parameters (including parameters that are referen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DL ha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u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ou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ypes of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ameter type maps to a normal Java parameter since it does not need to be 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u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ou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ameter types are passed via instances of Java “</a:t>
            </a: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Hold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Holder Classe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Hold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asses encapsulate the real value of a parameter which can then be reassign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member </a:t>
            </a:r>
            <a:r>
              <a:rPr b="0" lang="en-GB" sz="2400" spc="-1" strike="noStrike">
                <a:solidFill>
                  <a:srgbClr val="00279f"/>
                </a:solidFill>
                <a:latin typeface="Times New Roman"/>
              </a:rPr>
              <a:t>“valu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3124080"/>
            <a:ext cx="4876920" cy="30776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// user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// select a target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ample.Modes target = …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// prepare to receive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Holder outHolder = new IntHolder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// set up the in side of the in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Holder inoutHolder = new IntHolder (13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// make the inv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result = target.operation (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Holder, inoutHolde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// use the values of hol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Holder.valu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outHoulder.valu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97840" y="2590920"/>
            <a:ext cx="4128120" cy="1585800"/>
          </a:xfrm>
          <a:prstGeom prst="rect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// generated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ckage Exampl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erface Mode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operation (IntHolder outAr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Holder inoutArg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Helper Classe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user-defined IDL types have a Helper Java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and extract </a:t>
            </a: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CORBA::TypeCode of the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rrow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for interfaces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IDL to Java: Attribute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2280" y="1905120"/>
            <a:ext cx="443232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IDL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attribute long assign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readonly attribute long fetch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8400" y="1980720"/>
            <a:ext cx="41670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Java “get” and “set”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public int assignabl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public void assignable(int va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79f"/>
                </a:solidFill>
                <a:latin typeface="Courier New"/>
              </a:rPr>
              <a:t>public int fetchabl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80913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Basic Types (and their Java mapping)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617840" y="838080"/>
          <a:ext cx="6099120" cy="387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7840" y="838080"/>
                    <a:ext cx="6099120" cy="38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752480" y="1676520"/>
          <a:ext cx="6121440" cy="4819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676520"/>
                    <a:ext cx="612144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05T10:16:06Z</dcterms:created>
  <dc:creator>Martin Senger</dc:creator>
  <dc:description/>
  <cp:keywords/>
  <dc:language>en-US</dc:language>
  <cp:lastModifiedBy>atoke.inf.elte.hu</cp:lastModifiedBy>
  <cp:lastPrinted>1997-09-03T11:00:32Z</cp:lastPrinted>
  <dcterms:modified xsi:type="dcterms:W3CDTF">2005-02-20T15:26:08Z</dcterms:modified>
  <cp:revision>64</cp:revision>
  <dc:subject>CORBA Workshop</dc:subject>
  <dc:title>Interface Definition Langua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industry.ebi.ac.uk/~senger</vt:lpwstr>
  </property>
  <property fmtid="{D5CDD505-2E9C-101B-9397-08002B2CF9AE}" pid="9" name="LinkColor">
    <vt:r8>16711782</vt:r8>
  </property>
  <property fmtid="{D5CDD505-2E9C-101B-9397-08002B2CF9AE}" pid="10" name="MailAddress">
    <vt:lpwstr>senger@ebi.ac.uk</vt:lpwstr>
  </property>
  <property fmtid="{D5CDD505-2E9C-101B-9397-08002B2CF9AE}" pid="11" name="NavBtnPos">
    <vt:r8>1</vt:r8>
  </property>
  <property fmtid="{D5CDD505-2E9C-101B-9397-08002B2CF9AE}" pid="12" name="Other">
    <vt:lpwstr>A presentation for a CORBA workshop,
organised by the European Bioinformatics Institute, U.K.</vt:lpwstr>
  </property>
  <property fmtid="{D5CDD505-2E9C-101B-9397-08002B2CF9AE}" pid="13" name="OutputDir">
    <vt:lpwstr>F:\Martin\talks\corba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