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5798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49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7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3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7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3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480"/>
            <a:ext cx="746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49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5400" y="438120"/>
            <a:ext cx="1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240" y="4366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2880" indent="-33660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95440" indent="-33660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7720" indent="-34596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7720" indent="-345960">
              <a:spcBef>
                <a:spcPts val="799"/>
              </a:spcBef>
              <a:buClr>
                <a:srgbClr val="000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7720" indent="-345960">
              <a:spcBef>
                <a:spcPts val="799"/>
              </a:spcBef>
              <a:buClr>
                <a:srgbClr val="000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64008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Times New Roman"/>
              </a:rPr>
              <a:t>L. Wang          28/06/00              </a:t>
            </a:r>
            <a:fld id="{53E3661F-F10C-4E26-B6C1-A0898781B21B}" type="slidenum">
              <a:rPr b="0" lang="en-GB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inilogo%5B1%5D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6248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Times New Roman"/>
              </a:rPr>
              <a:t>Evi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Evictor Pattern for Memory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352680"/>
            <a:ext cx="72388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ichun W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ail: lcwang@ebi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L: http://www.ebi.ac.uk/~lcwang/corba-wks/evicto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5880" y="2743200"/>
            <a:ext cx="2210040" cy="12193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ff"/>
                </a:solidFill>
                <a:latin typeface="Times New Roman"/>
              </a:rPr>
              <a:t>Using a ServantLocato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19320" y="2362320"/>
            <a:ext cx="1218960" cy="761760"/>
            <a:chOff x="1219320" y="2362320"/>
            <a:chExt cx="1218960" cy="761760"/>
          </a:xfrm>
        </p:grpSpPr>
        <p:sp>
          <p:nvSpPr>
            <p:cNvPr id="161" name=""/>
            <p:cNvSpPr/>
            <p:nvPr/>
          </p:nvSpPr>
          <p:spPr>
            <a:xfrm>
              <a:off x="1219320" y="2362320"/>
              <a:ext cx="121896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560" y="2590560"/>
              <a:ext cx="68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733920" y="2286000"/>
            <a:ext cx="1218960" cy="762120"/>
            <a:chOff x="3733920" y="2286000"/>
            <a:chExt cx="1218960" cy="762120"/>
          </a:xfrm>
        </p:grpSpPr>
        <p:sp>
          <p:nvSpPr>
            <p:cNvPr id="164" name=""/>
            <p:cNvSpPr/>
            <p:nvPr/>
          </p:nvSpPr>
          <p:spPr>
            <a:xfrm>
              <a:off x="3733920" y="2286000"/>
              <a:ext cx="121896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160" y="2514600"/>
              <a:ext cx="68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809880" y="4038480"/>
            <a:ext cx="114300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343400"/>
            <a:ext cx="857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17524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2666880"/>
            <a:ext cx="838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71800" y="25909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590920"/>
            <a:ext cx="762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3048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4876920"/>
            <a:ext cx="1904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49528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29400" y="3352680"/>
            <a:ext cx="380880" cy="441360"/>
            <a:chOff x="6629400" y="3352680"/>
            <a:chExt cx="380880" cy="441360"/>
          </a:xfrm>
        </p:grpSpPr>
        <p:sp>
          <p:nvSpPr>
            <p:cNvPr id="180" name=""/>
            <p:cNvSpPr/>
            <p:nvPr/>
          </p:nvSpPr>
          <p:spPr>
            <a:xfrm>
              <a:off x="662940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248520" y="3352680"/>
            <a:ext cx="380880" cy="441360"/>
            <a:chOff x="6248520" y="3352680"/>
            <a:chExt cx="380880" cy="441360"/>
          </a:xfrm>
        </p:grpSpPr>
        <p:sp>
          <p:nvSpPr>
            <p:cNvPr id="183" name=""/>
            <p:cNvSpPr/>
            <p:nvPr/>
          </p:nvSpPr>
          <p:spPr>
            <a:xfrm>
              <a:off x="624852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080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3352680"/>
            <a:ext cx="380880" cy="441360"/>
            <a:chOff x="7010280" y="3352680"/>
            <a:chExt cx="380880" cy="441360"/>
          </a:xfrm>
        </p:grpSpPr>
        <p:sp>
          <p:nvSpPr>
            <p:cNvPr id="186" name=""/>
            <p:cNvSpPr/>
            <p:nvPr/>
          </p:nvSpPr>
          <p:spPr>
            <a:xfrm>
              <a:off x="701028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256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772400" y="3352680"/>
            <a:ext cx="380880" cy="441360"/>
            <a:chOff x="7772400" y="3352680"/>
            <a:chExt cx="380880" cy="441360"/>
          </a:xfrm>
        </p:grpSpPr>
        <p:sp>
          <p:nvSpPr>
            <p:cNvPr id="189" name=""/>
            <p:cNvSpPr/>
            <p:nvPr/>
          </p:nvSpPr>
          <p:spPr>
            <a:xfrm>
              <a:off x="777240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468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391520" y="3352680"/>
            <a:ext cx="380880" cy="441360"/>
            <a:chOff x="7391520" y="3352680"/>
            <a:chExt cx="380880" cy="441360"/>
          </a:xfrm>
        </p:grpSpPr>
        <p:sp>
          <p:nvSpPr>
            <p:cNvPr id="192" name=""/>
            <p:cNvSpPr/>
            <p:nvPr/>
          </p:nvSpPr>
          <p:spPr>
            <a:xfrm>
              <a:off x="739152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V="1">
            <a:off x="647712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23888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012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00100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49528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029200" y="3657600"/>
            <a:ext cx="1295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029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47242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65760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1240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33526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28954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ervant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4864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ictor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51814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Times New Roman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5257800"/>
            <a:ext cx="4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Times New Roman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19920" y="2743200"/>
            <a:ext cx="2743200" cy="1295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ff"/>
                </a:solidFill>
                <a:latin typeface="Times New Roman"/>
              </a:rPr>
              <a:t>Using a ServantLocator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19320" y="2362320"/>
            <a:ext cx="1218960" cy="761760"/>
            <a:chOff x="1219320" y="2362320"/>
            <a:chExt cx="1218960" cy="761760"/>
          </a:xfrm>
        </p:grpSpPr>
        <p:sp>
          <p:nvSpPr>
            <p:cNvPr id="216" name=""/>
            <p:cNvSpPr/>
            <p:nvPr/>
          </p:nvSpPr>
          <p:spPr>
            <a:xfrm>
              <a:off x="1219320" y="2362320"/>
              <a:ext cx="121896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560" y="2590560"/>
              <a:ext cx="68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33920" y="2286000"/>
            <a:ext cx="1218960" cy="762120"/>
            <a:chOff x="3733920" y="2286000"/>
            <a:chExt cx="1218960" cy="762120"/>
          </a:xfrm>
        </p:grpSpPr>
        <p:sp>
          <p:nvSpPr>
            <p:cNvPr id="219" name=""/>
            <p:cNvSpPr/>
            <p:nvPr/>
          </p:nvSpPr>
          <p:spPr>
            <a:xfrm>
              <a:off x="3733920" y="2286000"/>
              <a:ext cx="121896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160" y="2514600"/>
              <a:ext cx="68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809880" y="4038480"/>
            <a:ext cx="114300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343400"/>
            <a:ext cx="857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7524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666880"/>
            <a:ext cx="838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971800" y="25909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590920"/>
            <a:ext cx="762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048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4876920"/>
            <a:ext cx="1904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49528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629400" y="3352680"/>
            <a:ext cx="380880" cy="441360"/>
            <a:chOff x="6629400" y="3352680"/>
            <a:chExt cx="380880" cy="441360"/>
          </a:xfrm>
        </p:grpSpPr>
        <p:sp>
          <p:nvSpPr>
            <p:cNvPr id="235" name=""/>
            <p:cNvSpPr/>
            <p:nvPr/>
          </p:nvSpPr>
          <p:spPr>
            <a:xfrm>
              <a:off x="662940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168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248520" y="3352680"/>
            <a:ext cx="380880" cy="441360"/>
            <a:chOff x="6248520" y="3352680"/>
            <a:chExt cx="380880" cy="441360"/>
          </a:xfrm>
        </p:grpSpPr>
        <p:sp>
          <p:nvSpPr>
            <p:cNvPr id="238" name=""/>
            <p:cNvSpPr/>
            <p:nvPr/>
          </p:nvSpPr>
          <p:spPr>
            <a:xfrm>
              <a:off x="624852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080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305920" y="3352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010280" y="3352680"/>
            <a:ext cx="380880" cy="441360"/>
            <a:chOff x="7010280" y="3352680"/>
            <a:chExt cx="380880" cy="441360"/>
          </a:xfrm>
        </p:grpSpPr>
        <p:sp>
          <p:nvSpPr>
            <p:cNvPr id="242" name=""/>
            <p:cNvSpPr/>
            <p:nvPr/>
          </p:nvSpPr>
          <p:spPr>
            <a:xfrm>
              <a:off x="701028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56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772400" y="3352680"/>
            <a:ext cx="380880" cy="441360"/>
            <a:chOff x="7772400" y="3352680"/>
            <a:chExt cx="380880" cy="441360"/>
          </a:xfrm>
        </p:grpSpPr>
        <p:sp>
          <p:nvSpPr>
            <p:cNvPr id="245" name=""/>
            <p:cNvSpPr/>
            <p:nvPr/>
          </p:nvSpPr>
          <p:spPr>
            <a:xfrm>
              <a:off x="777240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468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391520" y="3352680"/>
            <a:ext cx="380880" cy="441360"/>
            <a:chOff x="7391520" y="3352680"/>
            <a:chExt cx="380880" cy="441360"/>
          </a:xfrm>
        </p:grpSpPr>
        <p:sp>
          <p:nvSpPr>
            <p:cNvPr id="248" name=""/>
            <p:cNvSpPr/>
            <p:nvPr/>
          </p:nvSpPr>
          <p:spPr>
            <a:xfrm>
              <a:off x="739152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3800" y="3429000"/>
              <a:ext cx="152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647712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85800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23888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62012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00100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49528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029200" y="3657600"/>
            <a:ext cx="1295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5029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7242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33526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31240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3526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1680" y="28954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ervant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5410080"/>
            <a:ext cx="1981080" cy="274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ictor Queue:L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51814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Times New Roman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5257800"/>
            <a:ext cx="4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Times New Roman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05920" y="4876920"/>
            <a:ext cx="3808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53452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305920" y="3276720"/>
            <a:ext cx="38088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3352680"/>
            <a:ext cx="380880" cy="381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229600" y="4724280"/>
            <a:ext cx="53352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4724280"/>
            <a:ext cx="533520" cy="60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57913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45820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601992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915400" y="350496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68644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048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73392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6095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54100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480" y="25909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966960" indent="-325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325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ant incarnate (in ObjectId oi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325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POA adap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325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325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id etherealize (in ObjectId o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325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POA adap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325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ervant serv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clean_in_progr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remainning_activatio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3280" y="3505320"/>
            <a:ext cx="24213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: preinvoke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3280" y="4648320"/>
            <a:ext cx="25401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: postinvoke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3048120" cy="42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victorQueue-- object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5280" y="2133720"/>
            <a:ext cx="434340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ctiveObjectMap--out of our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19920" y="1602720"/>
            <a:ext cx="1073880" cy="1528200"/>
            <a:chOff x="5119920" y="1602720"/>
            <a:chExt cx="1073880" cy="1528200"/>
          </a:xfrm>
        </p:grpSpPr>
        <p:sp>
          <p:nvSpPr>
            <p:cNvPr id="293" name=""/>
            <p:cNvSpPr/>
            <p:nvPr/>
          </p:nvSpPr>
          <p:spPr>
            <a:xfrm flipH="1">
              <a:off x="5846760" y="2867400"/>
              <a:ext cx="6948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17084400">
              <a:off x="5111280" y="1823040"/>
              <a:ext cx="1090800" cy="823320"/>
            </a:xfrm>
            <a:custGeom>
              <a:avLst/>
              <a:gdLst/>
              <a:ahLst/>
              <a:rect l="l" t="t" r="r" b="b"/>
              <a:pathLst>
                <a:path w="1008" h="288">
                  <a:moveTo>
                    <a:pt x="1008" y="288"/>
                  </a:moveTo>
                  <a:cubicBezTo>
                    <a:pt x="900" y="192"/>
                    <a:pt x="792" y="96"/>
                    <a:pt x="624" y="48"/>
                  </a:cubicBezTo>
                  <a:cubicBezTo>
                    <a:pt x="456" y="0"/>
                    <a:pt x="112" y="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172200" y="1752480"/>
            <a:ext cx="251460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ore queue position in each serv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ff"/>
                </a:solidFill>
                <a:latin typeface="Times New Roman"/>
              </a:rPr>
              <a:t>Using a ServantActivato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219320" y="2362320"/>
            <a:ext cx="1218960" cy="761760"/>
            <a:chOff x="1219320" y="2362320"/>
            <a:chExt cx="1218960" cy="761760"/>
          </a:xfrm>
        </p:grpSpPr>
        <p:sp>
          <p:nvSpPr>
            <p:cNvPr id="298" name=""/>
            <p:cNvSpPr/>
            <p:nvPr/>
          </p:nvSpPr>
          <p:spPr>
            <a:xfrm>
              <a:off x="1219320" y="2362320"/>
              <a:ext cx="121896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7560" y="2590560"/>
              <a:ext cx="68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781680" y="289548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Serv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33920" y="2286000"/>
            <a:ext cx="1218960" cy="762120"/>
            <a:chOff x="3733920" y="2286000"/>
            <a:chExt cx="1218960" cy="762120"/>
          </a:xfrm>
        </p:grpSpPr>
        <p:sp>
          <p:nvSpPr>
            <p:cNvPr id="302" name=""/>
            <p:cNvSpPr/>
            <p:nvPr/>
          </p:nvSpPr>
          <p:spPr>
            <a:xfrm>
              <a:off x="3733920" y="2286000"/>
              <a:ext cx="121896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62160" y="2514600"/>
              <a:ext cx="68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809880" y="4038480"/>
            <a:ext cx="114300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4343400"/>
            <a:ext cx="857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17524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666880"/>
            <a:ext cx="838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2971800" y="25909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2590920"/>
            <a:ext cx="762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3048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4876920"/>
            <a:ext cx="1904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7240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24680" y="49528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629400" y="3352680"/>
            <a:ext cx="380880" cy="380880"/>
            <a:chOff x="6629400" y="3352680"/>
            <a:chExt cx="380880" cy="380880"/>
          </a:xfrm>
        </p:grpSpPr>
        <p:sp>
          <p:nvSpPr>
            <p:cNvPr id="318" name=""/>
            <p:cNvSpPr/>
            <p:nvPr/>
          </p:nvSpPr>
          <p:spPr>
            <a:xfrm>
              <a:off x="662940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3429000"/>
              <a:ext cx="15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248520" y="3352680"/>
            <a:ext cx="380880" cy="380880"/>
            <a:chOff x="6248520" y="3352680"/>
            <a:chExt cx="380880" cy="380880"/>
          </a:xfrm>
        </p:grpSpPr>
        <p:sp>
          <p:nvSpPr>
            <p:cNvPr id="321" name=""/>
            <p:cNvSpPr/>
            <p:nvPr/>
          </p:nvSpPr>
          <p:spPr>
            <a:xfrm>
              <a:off x="624852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800" y="3429000"/>
              <a:ext cx="15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0280" y="3352680"/>
            <a:ext cx="380880" cy="380880"/>
            <a:chOff x="7010280" y="3352680"/>
            <a:chExt cx="380880" cy="380880"/>
          </a:xfrm>
        </p:grpSpPr>
        <p:sp>
          <p:nvSpPr>
            <p:cNvPr id="324" name=""/>
            <p:cNvSpPr/>
            <p:nvPr/>
          </p:nvSpPr>
          <p:spPr>
            <a:xfrm>
              <a:off x="701028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2560" y="3429000"/>
              <a:ext cx="15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772400" y="3352680"/>
            <a:ext cx="380880" cy="380880"/>
            <a:chOff x="7772400" y="3352680"/>
            <a:chExt cx="380880" cy="380880"/>
          </a:xfrm>
        </p:grpSpPr>
        <p:sp>
          <p:nvSpPr>
            <p:cNvPr id="327" name=""/>
            <p:cNvSpPr/>
            <p:nvPr/>
          </p:nvSpPr>
          <p:spPr>
            <a:xfrm>
              <a:off x="777240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24680" y="3429000"/>
              <a:ext cx="15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391520" y="3352680"/>
            <a:ext cx="380880" cy="380880"/>
            <a:chOff x="7391520" y="3352680"/>
            <a:chExt cx="380880" cy="380880"/>
          </a:xfrm>
        </p:grpSpPr>
        <p:sp>
          <p:nvSpPr>
            <p:cNvPr id="330" name=""/>
            <p:cNvSpPr/>
            <p:nvPr/>
          </p:nvSpPr>
          <p:spPr>
            <a:xfrm>
              <a:off x="7391520" y="3352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3429000"/>
              <a:ext cx="15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V="1">
            <a:off x="640080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8168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16292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54380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924680" y="373356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38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6292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49528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49528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029200" y="3657600"/>
            <a:ext cx="1295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5029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47242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65760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124080"/>
            <a:ext cx="1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3352680"/>
            <a:ext cx="1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ff"/>
                </a:solidFill>
                <a:latin typeface="Times New Roman"/>
              </a:rPr>
              <a:t>Using a ServantActivato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7339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34320" y="37339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37339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37339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733920"/>
            <a:ext cx="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54864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ictor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51814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Times New Roman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5257800"/>
            <a:ext cx="4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Times New Roman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Using ServantLoc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o touch on object implementa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ecise control over memory consumption and performance trade-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itfall:evictor queue is too small, performance will fall off drama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Using ServantActiv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erformance and scalability as using ServantLoc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isadv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mplementation not ea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sign (for some strategies) is complex and difficult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eping a hashtable doubles storage overhead for keeping track of 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Garbage Collection of Serv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Shutt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Evi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Time-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icit Keep-A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erse Keep-Alive per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erse Keep-Alive per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cting Client Dis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-3423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ributed Reference 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Final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ibuted garbage collection is unsolved, still belongs to research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ture CORBA will cove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ly Evictor Pattern is the most promis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66680" y="20574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ictor using ServantLo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MG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CORBA/IIOP 2.3.1 Specification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apter 11 The Portable Object Adaptor, 99-10-07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www.omg.org/corba/cichpter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fali, R. &amp; Harkey, D.,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ing with Java and Corba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hn Wiley &amp;Sons, INC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nning, M. &amp; Vinoski, S.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dvanced CORBA Programming with C++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ddison Wesley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es of CORBA Object and Servant  Lif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a of Evictor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sic Evictor Strate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Evi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rbage Collection of Serv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emory consumption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lients:</a:t>
            </a: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reate and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estroy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L definition may not have destro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 might neglect to call dest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 crashes before it can call dest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twork might be dis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wer failure on client site prevent 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--“objects” no longer of interests 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--reclaims the resources used by servants implemen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States of CORBA Object and Servant Life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752480"/>
            <a:ext cx="3048120" cy="441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8080" y="3657600"/>
            <a:ext cx="1371600" cy="990360"/>
            <a:chOff x="838080" y="3657600"/>
            <a:chExt cx="1371600" cy="990360"/>
          </a:xfrm>
        </p:grpSpPr>
        <p:sp>
          <p:nvSpPr>
            <p:cNvPr id="52" name=""/>
            <p:cNvSpPr/>
            <p:nvPr/>
          </p:nvSpPr>
          <p:spPr>
            <a:xfrm>
              <a:off x="838080" y="3657600"/>
              <a:ext cx="1371600" cy="990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6360" y="3886200"/>
              <a:ext cx="1050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on-ex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277800" y="373392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981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Times New Roman"/>
              </a:rPr>
              <a:t>Object 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657600" y="2209680"/>
            <a:ext cx="2133720" cy="1524240"/>
            <a:chOff x="3657600" y="2209680"/>
            <a:chExt cx="2133720" cy="1524240"/>
          </a:xfrm>
        </p:grpSpPr>
        <p:sp>
          <p:nvSpPr>
            <p:cNvPr id="57" name=""/>
            <p:cNvSpPr/>
            <p:nvPr/>
          </p:nvSpPr>
          <p:spPr>
            <a:xfrm>
              <a:off x="3657600" y="2209680"/>
              <a:ext cx="2133720" cy="152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40640" y="251460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Activ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809880" y="2819520"/>
              <a:ext cx="1905120" cy="685800"/>
              <a:chOff x="3809880" y="2819520"/>
              <a:chExt cx="1905120" cy="685800"/>
            </a:xfrm>
          </p:grpSpPr>
          <p:sp>
            <p:nvSpPr>
              <p:cNvPr id="60" name=""/>
              <p:cNvSpPr/>
              <p:nvPr/>
            </p:nvSpPr>
            <p:spPr>
              <a:xfrm>
                <a:off x="3809880" y="2819520"/>
                <a:ext cx="190512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41360" y="3048120"/>
                <a:ext cx="1527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ervant Incarnat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3581280" y="4191120"/>
            <a:ext cx="2362320" cy="1447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5181480"/>
            <a:ext cx="15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bject De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33920" y="4419720"/>
            <a:ext cx="1972800" cy="685800"/>
            <a:chOff x="3733920" y="4419720"/>
            <a:chExt cx="1972800" cy="685800"/>
          </a:xfrm>
        </p:grpSpPr>
        <p:sp>
          <p:nvSpPr>
            <p:cNvPr id="65" name=""/>
            <p:cNvSpPr/>
            <p:nvPr/>
          </p:nvSpPr>
          <p:spPr>
            <a:xfrm>
              <a:off x="3733920" y="4419720"/>
              <a:ext cx="1972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72240" y="4648320"/>
              <a:ext cx="168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ervant Ethereal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162920" y="3657600"/>
            <a:ext cx="1447560" cy="990360"/>
            <a:chOff x="7162920" y="3657600"/>
            <a:chExt cx="1447560" cy="990360"/>
          </a:xfrm>
        </p:grpSpPr>
        <p:sp>
          <p:nvSpPr>
            <p:cNvPr id="68" name=""/>
            <p:cNvSpPr/>
            <p:nvPr/>
          </p:nvSpPr>
          <p:spPr>
            <a:xfrm>
              <a:off x="7162920" y="3657600"/>
              <a:ext cx="1447560" cy="990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0440" y="3886200"/>
              <a:ext cx="1050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on-ex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09680" y="4191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4191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3434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80988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De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6576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Times New Roman"/>
              </a:rPr>
              <a:t>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657600"/>
            <a:ext cx="9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Times New Roman"/>
              </a:rPr>
              <a:t>De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Idea of  Evictor Pat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instantiate servants on demand, i.e., on an incoming method-call on an object by a cl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eck the number of instantiated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if the number reaches a limit, delete an instantiated servant and then instantiate a new servant for the curren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Basic Evictor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LRI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Least Recently Instant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LR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the Least Recent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LF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the Least Frequent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HM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the Highest Memory 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W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a Weighted Function based on 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combination of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457200"/>
            <a:ext cx="8534520" cy="5869800"/>
            <a:chOff x="228600" y="457200"/>
            <a:chExt cx="8534520" cy="5869800"/>
          </a:xfrm>
        </p:grpSpPr>
        <p:grpSp>
          <p:nvGrpSpPr>
            <p:cNvPr id="82" name=""/>
            <p:cNvGrpSpPr/>
            <p:nvPr/>
          </p:nvGrpSpPr>
          <p:grpSpPr>
            <a:xfrm>
              <a:off x="228600" y="1218960"/>
              <a:ext cx="2133720" cy="2667240"/>
              <a:chOff x="228600" y="1218960"/>
              <a:chExt cx="2133720" cy="2667240"/>
            </a:xfrm>
          </p:grpSpPr>
          <p:sp>
            <p:nvSpPr>
              <p:cNvPr id="83" name=""/>
              <p:cNvSpPr/>
              <p:nvPr/>
            </p:nvSpPr>
            <p:spPr>
              <a:xfrm>
                <a:off x="228600" y="1828800"/>
                <a:ext cx="2133720" cy="2057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74800" y="182880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ff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6" idx="2"/>
                <a:endCxn id="84" idx="0"/>
              </p:cNvCxnSpPr>
              <p:nvPr/>
            </p:nvCxnSpPr>
            <p:spPr>
              <a:xfrm flipH="1">
                <a:off x="1294920" y="1218960"/>
                <a:ext cx="267120" cy="610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58560" y="1828800"/>
              <a:ext cx="4884840" cy="2057400"/>
              <a:chOff x="358560" y="1828800"/>
              <a:chExt cx="4884840" cy="2057400"/>
            </a:xfrm>
          </p:grpSpPr>
          <p:pic>
            <p:nvPicPr>
              <p:cNvPr id="88" name="red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8400" y="2971800"/>
                <a:ext cx="114120" cy="1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8560" y="2209680"/>
                <a:ext cx="187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extract POA 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from Object Ke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10040" y="1828800"/>
                <a:ext cx="2133360" cy="2057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55880" y="1828800"/>
                <a:ext cx="82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ff"/>
                    </a:solidFill>
                    <a:latin typeface="Times New Roman"/>
                  </a:rPr>
                  <a:t>P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" name=""/>
              <p:cNvCxnSpPr>
                <a:stCxn id="88" idx="3"/>
                <a:endCxn id="90" idx="1"/>
              </p:cNvCxnSpPr>
              <p:nvPr/>
            </p:nvCxnSpPr>
            <p:spPr>
              <a:xfrm flipV="1">
                <a:off x="1352520" y="2857320"/>
                <a:ext cx="1758240" cy="172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93" name=""/>
              <p:cNvSpPr/>
              <p:nvPr/>
            </p:nvSpPr>
            <p:spPr>
              <a:xfrm>
                <a:off x="2440080" y="2301840"/>
                <a:ext cx="555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fi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PO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457200"/>
              <a:ext cx="2666880" cy="1282320"/>
              <a:chOff x="228600" y="457200"/>
              <a:chExt cx="2666880" cy="1282320"/>
            </a:xfrm>
          </p:grpSpPr>
          <p:sp>
            <p:nvSpPr>
              <p:cNvPr id="86" name=""/>
              <p:cNvSpPr/>
              <p:nvPr/>
            </p:nvSpPr>
            <p:spPr>
              <a:xfrm>
                <a:off x="228600" y="457200"/>
                <a:ext cx="266688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Object Refere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(with Object Ke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3600" y="1219320"/>
                <a:ext cx="1153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from a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31840" y="2971800"/>
              <a:ext cx="2971800" cy="3352680"/>
              <a:chOff x="231840" y="2971800"/>
              <a:chExt cx="2971800" cy="3352680"/>
            </a:xfrm>
          </p:grpSpPr>
          <p:pic>
            <p:nvPicPr>
              <p:cNvPr id="97" name="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0" y="3276720"/>
                <a:ext cx="11412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917280" y="29718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1840" y="4952880"/>
                <a:ext cx="2971800" cy="1371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0120" y="5410080"/>
                <a:ext cx="259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ff"/>
                    </a:solidFill>
                    <a:latin typeface="Times New Roman"/>
                  </a:rPr>
                  <a:t>Adaptor Activa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1" name=""/>
              <p:cNvCxnSpPr>
                <a:stCxn id="97" idx="2"/>
                <a:endCxn id="100" idx="0"/>
              </p:cNvCxnSpPr>
              <p:nvPr/>
            </p:nvCxnSpPr>
            <p:spPr>
              <a:xfrm>
                <a:off x="1294920" y="3390480"/>
                <a:ext cx="423000" cy="20199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288000" y="4049640"/>
                <a:ext cx="1338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all Adap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Activator i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POA not fou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717200" y="3885480"/>
              <a:ext cx="2459520" cy="1524240"/>
              <a:chOff x="1717200" y="3885480"/>
              <a:chExt cx="2459520" cy="1524240"/>
            </a:xfrm>
          </p:grpSpPr>
          <p:cxnSp>
            <p:nvCxnSpPr>
              <p:cNvPr id="104" name=""/>
              <p:cNvCxnSpPr>
                <a:stCxn id="100" idx="0"/>
                <a:endCxn id="90" idx="2"/>
              </p:cNvCxnSpPr>
              <p:nvPr/>
            </p:nvCxnSpPr>
            <p:spPr>
              <a:xfrm flipV="1">
                <a:off x="1717200" y="3885480"/>
                <a:ext cx="2459880" cy="15246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05" name=""/>
              <p:cNvSpPr/>
              <p:nvPr/>
            </p:nvSpPr>
            <p:spPr>
              <a:xfrm>
                <a:off x="2228400" y="411480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reate PO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240000" y="2209680"/>
              <a:ext cx="4162320" cy="1676160"/>
              <a:chOff x="3240000" y="2209680"/>
              <a:chExt cx="4162320" cy="1676160"/>
            </a:xfrm>
          </p:grpSpPr>
          <p:sp>
            <p:nvSpPr>
              <p:cNvPr id="107" name=""/>
              <p:cNvSpPr/>
              <p:nvPr/>
            </p:nvSpPr>
            <p:spPr>
              <a:xfrm>
                <a:off x="3240000" y="220968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extract Object 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from Object Ke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5268960" y="2362320"/>
                <a:ext cx="2133360" cy="1523520"/>
                <a:chOff x="5268960" y="2362320"/>
                <a:chExt cx="2133360" cy="15235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268960" y="2362320"/>
                  <a:ext cx="2133360" cy="152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307120" y="2417760"/>
                  <a:ext cx="2057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66ff"/>
                      </a:solidFill>
                      <a:latin typeface="Times New Roman"/>
                    </a:rPr>
                    <a:t>Active Object Ma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5853240" y="274320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Object 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53240" y="3505320"/>
                <a:ext cx="9144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Object 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53240" y="312408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Object 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4" name="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4119480" y="3200400"/>
                <a:ext cx="114480" cy="114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5" name=""/>
              <p:cNvCxnSpPr>
                <a:stCxn id="114" idx="3"/>
                <a:endCxn id="109" idx="1"/>
              </p:cNvCxnSpPr>
              <p:nvPr/>
            </p:nvCxnSpPr>
            <p:spPr>
              <a:xfrm flipV="1">
                <a:off x="4233600" y="3123360"/>
                <a:ext cx="1035720" cy="1342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6" name=""/>
            <p:cNvGrpSpPr/>
            <p:nvPr/>
          </p:nvGrpSpPr>
          <p:grpSpPr>
            <a:xfrm>
              <a:off x="6767280" y="2251080"/>
              <a:ext cx="1995840" cy="1406160"/>
              <a:chOff x="6767280" y="2251080"/>
              <a:chExt cx="1995840" cy="1406160"/>
            </a:xfrm>
          </p:grpSpPr>
          <p:sp>
            <p:nvSpPr>
              <p:cNvPr id="117" name=""/>
              <p:cNvSpPr/>
              <p:nvPr/>
            </p:nvSpPr>
            <p:spPr>
              <a:xfrm>
                <a:off x="7848720" y="3314880"/>
                <a:ext cx="9144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66ff"/>
                    </a:solidFill>
                    <a:latin typeface="Times New Roman"/>
                  </a:rPr>
                  <a:t>Serv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48720" y="274320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66ff"/>
                    </a:solidFill>
                    <a:latin typeface="Times New Roman"/>
                  </a:rPr>
                  <a:t>Serv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1" idx="3"/>
                <a:endCxn id="118" idx="1"/>
              </p:cNvCxnSpPr>
              <p:nvPr/>
            </p:nvCxnSpPr>
            <p:spPr>
              <a:xfrm>
                <a:off x="6767280" y="2895120"/>
                <a:ext cx="108180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20" name=""/>
              <p:cNvCxnSpPr>
                <a:stCxn id="113" idx="3"/>
                <a:endCxn id="117" idx="1"/>
              </p:cNvCxnSpPr>
              <p:nvPr/>
            </p:nvCxnSpPr>
            <p:spPr>
              <a:xfrm>
                <a:off x="6767280" y="3276360"/>
                <a:ext cx="1081800" cy="191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21" name=""/>
              <p:cNvCxnSpPr>
                <a:stCxn id="112" idx="3"/>
                <a:endCxn id="117" idx="1"/>
              </p:cNvCxnSpPr>
              <p:nvPr/>
            </p:nvCxnSpPr>
            <p:spPr>
              <a:xfrm flipV="1">
                <a:off x="6767280" y="3466440"/>
                <a:ext cx="1081800" cy="191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7387560" y="2251080"/>
                <a:ext cx="906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incarn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serv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735360" y="1828800"/>
              <a:ext cx="3666960" cy="1445400"/>
              <a:chOff x="3735360" y="1828800"/>
              <a:chExt cx="3666960" cy="14454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268960" y="1828800"/>
                <a:ext cx="2133360" cy="457200"/>
                <a:chOff x="5268960" y="1828800"/>
                <a:chExt cx="2133360" cy="457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268960" y="1828800"/>
                  <a:ext cx="21333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757546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307120" y="1846080"/>
                  <a:ext cx="2057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66ff"/>
                      </a:solidFill>
                      <a:latin typeface="Times New Roman"/>
                    </a:rPr>
                    <a:t>Default Serva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3735360" y="293688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9480" y="2895480"/>
                <a:ext cx="114480" cy="114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29" name=""/>
              <p:cNvCxnSpPr>
                <a:stCxn id="128" idx="3"/>
                <a:endCxn id="126" idx="1"/>
              </p:cNvCxnSpPr>
              <p:nvPr/>
            </p:nvCxnSpPr>
            <p:spPr>
              <a:xfrm flipV="1">
                <a:off x="4233600" y="2014200"/>
                <a:ext cx="1073520" cy="9388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30" name=""/>
            <p:cNvGrpSpPr/>
            <p:nvPr/>
          </p:nvGrpSpPr>
          <p:grpSpPr>
            <a:xfrm>
              <a:off x="3735360" y="3241800"/>
              <a:ext cx="3667320" cy="3085200"/>
              <a:chOff x="3735360" y="3241800"/>
              <a:chExt cx="3667320" cy="3085200"/>
            </a:xfrm>
          </p:grpSpPr>
          <p:sp>
            <p:nvSpPr>
              <p:cNvPr id="131" name=""/>
              <p:cNvSpPr/>
              <p:nvPr/>
            </p:nvSpPr>
            <p:spPr>
              <a:xfrm>
                <a:off x="4430880" y="4952880"/>
                <a:ext cx="2971800" cy="13716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88640" y="5867280"/>
                <a:ext cx="245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ff"/>
                    </a:solidFill>
                    <a:latin typeface="Times New Roman"/>
                  </a:rPr>
                  <a:t>Servant Manag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3" name="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4119480" y="3505320"/>
                <a:ext cx="1144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735360" y="32418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5" name=""/>
              <p:cNvCxnSpPr>
                <a:stCxn id="133" idx="3"/>
                <a:endCxn id="132" idx="0"/>
              </p:cNvCxnSpPr>
              <p:nvPr/>
            </p:nvCxnSpPr>
            <p:spPr>
              <a:xfrm>
                <a:off x="4233960" y="3561840"/>
                <a:ext cx="1684800" cy="230544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36" name=""/>
            <p:cNvGrpSpPr/>
            <p:nvPr/>
          </p:nvGrpSpPr>
          <p:grpSpPr>
            <a:xfrm>
              <a:off x="4621320" y="3619080"/>
              <a:ext cx="3684600" cy="2248200"/>
              <a:chOff x="4621320" y="3619080"/>
              <a:chExt cx="3684600" cy="2248200"/>
            </a:xfrm>
          </p:grpSpPr>
          <p:sp>
            <p:nvSpPr>
              <p:cNvPr id="137" name=""/>
              <p:cNvSpPr/>
              <p:nvPr/>
            </p:nvSpPr>
            <p:spPr>
              <a:xfrm>
                <a:off x="4621320" y="5105520"/>
                <a:ext cx="121896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Activ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92920" y="5105520"/>
                <a:ext cx="121896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Loc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9" name=""/>
              <p:cNvCxnSpPr>
                <a:stCxn id="132" idx="0"/>
                <a:endCxn id="117" idx="2"/>
              </p:cNvCxnSpPr>
              <p:nvPr/>
            </p:nvCxnSpPr>
            <p:spPr>
              <a:xfrm flipV="1">
                <a:off x="5917680" y="3619080"/>
                <a:ext cx="2388600" cy="22485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40" name=""/>
              <p:cNvSpPr/>
              <p:nvPr/>
            </p:nvSpPr>
            <p:spPr>
              <a:xfrm>
                <a:off x="7391520" y="4343400"/>
                <a:ext cx="747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re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serv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230440" y="3885480"/>
              <a:ext cx="1404000" cy="1219680"/>
              <a:chOff x="5230440" y="3885480"/>
              <a:chExt cx="1404000" cy="1219680"/>
            </a:xfrm>
          </p:grpSpPr>
          <p:cxnSp>
            <p:nvCxnSpPr>
              <p:cNvPr id="142" name=""/>
              <p:cNvCxnSpPr>
                <a:stCxn id="137" idx="0"/>
                <a:endCxn id="109" idx="2"/>
              </p:cNvCxnSpPr>
              <p:nvPr/>
            </p:nvCxnSpPr>
            <p:spPr>
              <a:xfrm flipV="1">
                <a:off x="5230440" y="3885480"/>
                <a:ext cx="1105560" cy="12200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</p:cxnSp>
          <p:sp>
            <p:nvSpPr>
              <p:cNvPr id="143" name=""/>
              <p:cNvSpPr/>
              <p:nvPr/>
            </p:nvSpPr>
            <p:spPr>
              <a:xfrm>
                <a:off x="5927760" y="4165560"/>
                <a:ext cx="70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upd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ma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1440" y="3808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Implementation of Evi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Two Approaches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to Evictor Implement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Using a ServantLo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Using a ServantActiv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1008000" indent="-3391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ant preinvoke (in ObjectID oi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A adapto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dentifier ope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Cookie the_cooki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000" indent="-3391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postinvoke (in ObjectID oi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A adapto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dentifier ope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okie the_cooki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ervant the_serva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7120" y="3276720"/>
            <a:ext cx="232056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: incarnate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1280" y="4876920"/>
            <a:ext cx="247464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: etherialize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ff"/>
                </a:solidFill>
                <a:latin typeface="Times New Roman"/>
              </a:rPr>
              <a:t>Using 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ervantLocato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676520"/>
            <a:ext cx="2590920" cy="42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Vector Evictor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133720"/>
            <a:ext cx="2819520" cy="42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shtable ServantP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two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14440" y="2057400"/>
            <a:ext cx="1524240" cy="533520"/>
            <a:chOff x="4114440" y="2057400"/>
            <a:chExt cx="1524240" cy="533520"/>
          </a:xfrm>
        </p:grpSpPr>
        <p:sp>
          <p:nvSpPr>
            <p:cNvPr id="155" name=""/>
            <p:cNvSpPr/>
            <p:nvPr/>
          </p:nvSpPr>
          <p:spPr>
            <a:xfrm flipH="1">
              <a:off x="4114440" y="20574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720" y="2057400"/>
              <a:ext cx="1218960" cy="533520"/>
            </a:xfrm>
            <a:custGeom>
              <a:avLst/>
              <a:gdLst/>
              <a:ahLst/>
              <a:rect l="l" t="t" r="r" b="b"/>
              <a:pathLst>
                <a:path w="1008" h="288">
                  <a:moveTo>
                    <a:pt x="1008" y="288"/>
                  </a:moveTo>
                  <a:cubicBezTo>
                    <a:pt x="900" y="192"/>
                    <a:pt x="792" y="96"/>
                    <a:pt x="624" y="48"/>
                  </a:cubicBezTo>
                  <a:cubicBezTo>
                    <a:pt x="456" y="0"/>
                    <a:pt x="112" y="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6400" y="1523880"/>
            <a:ext cx="28195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heck EvictorQue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vict/instatiate serv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artin Senger</cp:lastModifiedBy>
  <cp:lastPrinted>2000-07-03T16:28:16Z</cp:lastPrinted>
  <dcterms:modified xsi:type="dcterms:W3CDTF">2000-08-01T00:56:17Z</dcterms:modified>
  <cp:revision>1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cwang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