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83A-CEA6-4F51-98BF-F03B479F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55D-FF21-410C-82E2-7D969E6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823-15CD-4492-9BB5-57574EE1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108-D0C5-48C1-9622-2824D8DF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194-AFCA-4D2C-8E7E-EC9A8C7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A0-118E-46FB-95A2-EFD6DBC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CD0-DE5B-489C-B69C-C3D3312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FB3-0BCF-48B6-929E-09FE1A6F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D48-EF84-4FFC-9437-FB51B9F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EA5-BCF9-4E54-97F2-58D4335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F9D-A6E3-43CD-A67D-5AC35EB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C48-31BA-4917-8F46-CB4E16A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9C04-5D7F-406E-9BEE-0F133E71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bjects by Value (OBV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ilip Lijnza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nsmitting valuetyp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type data goes ‘through the wir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g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tate’: just the data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62080" indent="-22860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members sometimes called ‘state variables’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arshalling (sending)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marshalling (receiving)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more involved than sending stru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alue factor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-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 facto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needed to unmarshal data ‘off the wire’ into local valuetype in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(un)marshalling: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marshall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or special requirements; see below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802440" indent="-2797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on’t confuse with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factory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keyword or factory pattern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752480"/>
            <a:ext cx="7162560" cy="131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ersonnel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Pers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_person(in string id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t_person(in Person the_person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000" y="4248000"/>
            <a:ext cx="536220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rsonnel pl = …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rson p = pl.get_person(some_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264280"/>
            <a:ext cx="5333760" cy="100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rsonnel pl = …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rson p = new PersonImpl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.put_person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3640" y="319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6760" y="3664080"/>
            <a:ext cx="1665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280" y="1143000"/>
            <a:ext cx="773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43400" y="4248000"/>
            <a:ext cx="2344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 is receiver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er is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4480" y="5264280"/>
            <a:ext cx="2318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 is sender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er is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value factory is needed o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eiv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nd; this can be client or server or bo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fault value facto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.omg.CORBA.portable.Value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dependent; Java signatur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Serializable read_value(inputStream)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tiate an ‘empty’ value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marshal data into this value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the value factory with the O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0000" y="380880"/>
            <a:ext cx="6886440" cy="436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MyPersonFactory implemen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ValueFactory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the only method that needs implementing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public Serializabl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read_value(org.omg.CORBA_2_3.portable.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Inputstream inputStream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//instantiate a new Person: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Person p = new PersonImp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//unmarshall data into it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inputStream.read_value((Serializable)p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// ready!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return p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00" y="5029200"/>
            <a:ext cx="8562600" cy="161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initialize orb, and cast it to valuetype-aware type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b.omg.CORBA_2_3.ORB orb =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(org.omg.CORBA_2_3.ORB)ORB.init(args, prop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b.register_value_factory(PersonHelper.id(),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new MyPersonFactor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Usage: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6000" y="2666880"/>
            <a:ext cx="6581520" cy="3751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rson p = new PersonImpl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or get it someh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rson p = somewhere.get_perso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accessing data 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rint(p.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using the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rint(p.ag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…  how are they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re keywords …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/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Inheritance from interfaces: keyword </a:t>
            </a:r>
            <a:r>
              <a:rPr b="1" lang="en-GB" sz="4400" spc="-1" strike="noStrike">
                <a:solidFill>
                  <a:srgbClr val="333399"/>
                </a:solidFill>
                <a:latin typeface="Courier New"/>
              </a:rPr>
              <a:t>suppor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heritance from other valu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heritance from interf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ust now also implement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i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s with all valuetype methods, this is local!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5120" y="3406680"/>
            <a:ext cx="694728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erface Printable  { print();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aluetype Person supports Printable {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// as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urier New"/>
              </a:rPr>
              <a:t>truncatable</a:t>
            </a: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 inheritan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an IDL method  </a:t>
            </a:r>
            <a:r>
              <a:rPr b="1" lang="en-GB" sz="2800" spc="-1" strike="noStrike">
                <a:solidFill>
                  <a:srgbClr val="006600"/>
                </a:solidFill>
                <a:latin typeface="Courier New"/>
              </a:rPr>
              <a:t>Person get_person() 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may produce valuetype instances of base type </a:t>
            </a:r>
            <a:r>
              <a:rPr b="1" lang="en-GB" sz="2800" spc="-1" strike="noStrike">
                <a:solidFill>
                  <a:srgbClr val="006600"/>
                </a:solidFill>
                <a:latin typeface="Courier New"/>
              </a:rPr>
              <a:t>Person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6600"/>
                </a:solidFill>
                <a:uFillTx/>
                <a:latin typeface="Times New Roman"/>
              </a:rPr>
              <a:t>or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 extensions of Person, e.g. </a:t>
            </a:r>
            <a:r>
              <a:rPr b="1" lang="en-GB" sz="2800" spc="-1" strike="noStrike">
                <a:solidFill>
                  <a:srgbClr val="006600"/>
                </a:solidFill>
                <a:latin typeface="Courier New"/>
              </a:rPr>
              <a:t>Employee</a:t>
            </a: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Receiver may not know about </a:t>
            </a:r>
            <a:r>
              <a:rPr b="1" lang="en-GB" sz="2800" spc="-1" strike="noStrike">
                <a:solidFill>
                  <a:srgbClr val="006600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But it may not be semantically valid to simply ‘cast’ an extended type to its base type by ‘forgetting’ the extra bits in the extended typ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urier New"/>
              </a:rPr>
              <a:t>truncatable</a:t>
            </a: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 inheritan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indicate, in IDL, when it is valid to truncate an extended type to it’s base type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y, the receiving end can still use the same value fac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908520"/>
            <a:ext cx="749592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aluetype Employee: truncatable Person {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public string department;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nd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ransmitting valuetype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actorie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dvanced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heritance, accessibility, custom marshalling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bstract interface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Accessibility: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ywords 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 is trans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s the data invisible to othe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strictly an implementation issu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Times New Roman"/>
              </a:rPr>
              <a:t>(some argue this doesn’t belong in IDL)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itializer or </a:t>
            </a:r>
            <a:r>
              <a:rPr b="1" lang="en-GB" sz="4400" spc="-1" strike="noStrike">
                <a:solidFill>
                  <a:srgbClr val="333399"/>
                </a:solidFill>
                <a:latin typeface="Courier New"/>
              </a:rPr>
              <a:t>factory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metho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a static metho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_i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ersonHelper, which calls implementation in Person value factory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extra constructor for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useful when same value factory is used on both end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5280" y="1959120"/>
            <a:ext cx="694728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type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//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factory create_it(in string id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// …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urier New"/>
              </a:rPr>
              <a:t>factory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methods (cont’d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generation of interface PersonValue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ignature: </a:t>
            </a:r>
            <a:br>
              <a:rPr sz="2800"/>
            </a:b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public Person create_it(String id);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actor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implements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PersonValueFactor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rather than ValueFactory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herefore must implement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create_it()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as well as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read_value()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custom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valuetyp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erformance, one can transmit valuetypes in other ways.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nly the ‘essential’ data members are sent; factory at the receiving end ‘reconstructs’ full valuetype locall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data is sent in compressed form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job for custom valu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custom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valuetypes (cont’d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Impl  now must impl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.omg.CORBA.portable.Custom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rather than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org.omg.CORBA.portable.StreamableValu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arshal() and unmarshal() methods: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05680" y="2057400"/>
            <a:ext cx="49356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ustom valuetype Person {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// rest as befor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3680" y="2057400"/>
            <a:ext cx="8410320" cy="405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ersonImpl extends Pers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marshal(org.omg.DataOutputStream o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os.write_string( Utils.compress( this.name )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os.write_short( this.birth_year - 1900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unmarshal(org.omg.DataInputStream is) 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name = Utils.uncompress( is.read_string()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birth_year = is.read_short() + 190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//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// class PersonIm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abstract interface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ins method signatures to be used by  real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(inheriting from it), as well as real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(using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suppor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d w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 at runtim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n whether something is an object or a value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 code uses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arrow(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(in Java) to know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8600" y="1117440"/>
            <a:ext cx="8105400" cy="527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 interface Formattabl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tring format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SeqObj: Formattabl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some methods and/or attribu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type SeqVal supports Formatt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ome data members and/or metho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SeqDisplayer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This method accepts both SeqObjs and SeqVal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display(in Formattable a_formattabl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9144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xample: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types useful for ‘extendib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se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truncatable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type methods are controversi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ithout them, IDL describ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server behaviour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with valuetype methods, IDL also describes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Times New Roman"/>
              </a:rPr>
              <a:t>client behaviour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hat is OBV ?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CORBA data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mbines aspects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heritance, methods, null-semantic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spects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cal-ness’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in CORBA 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hy OBV ?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objects are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vocation of a method require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nd-tr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oo much for simple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.g., database record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 inheritance, no method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mple example: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6560" y="2165400"/>
            <a:ext cx="511848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type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ing nam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rivate short birth_ye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hort age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6200" y="4832280"/>
            <a:ext cx="53013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type Employee: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ing departmen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9960" y="2174760"/>
            <a:ext cx="1953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55720" y="3343320"/>
            <a:ext cx="1130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35920" y="4114800"/>
            <a:ext cx="1555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181480" y="24382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62720" y="44956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886200" y="3505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50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53600" y="1447920"/>
            <a:ext cx="1469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27400" y="1828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0880" y="1447920"/>
            <a:ext cx="1247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8288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0" y="4191120"/>
            <a:ext cx="169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38080" y="304776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hich means: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type Pers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wo data member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irth_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alogous to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struct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ember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so must have an implementa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g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cal; calling it doe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involve ORB!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lik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has an additional memb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ingle inheritance only!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Java mapp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type Person =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ublic abstract class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ava instance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IDL: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ublic string name ==&gt;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Java: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ublic String name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IDL: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rivate short birth_year ==&gt;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Java: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rotected short birth_year 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b2dfdf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</a:rPr>
              <a:t>Java mapping (methods)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blic abstrac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IDL: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short age() ==&gt;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Java: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ublic abstract short age();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mplement by extending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Person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(generated class </a:t>
            </a:r>
            <a:r>
              <a:rPr b="1" lang="en-GB" sz="2400" spc="-1" strike="noStrike">
                <a:solidFill>
                  <a:srgbClr val="993300"/>
                </a:solidFill>
                <a:latin typeface="Courier New"/>
              </a:rPr>
              <a:t>Person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is </a:t>
            </a:r>
            <a:r>
              <a:rPr b="1" lang="en-GB" sz="2400" spc="-1" strike="noStrike">
                <a:solidFill>
                  <a:srgbClr val="993300"/>
                </a:solidFill>
                <a:latin typeface="Courier New"/>
              </a:rPr>
              <a:t>abstract 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even if there are no methods in the IDL of the valuetype)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9360" y="444600"/>
            <a:ext cx="511848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type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ing nam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rivate short birth_ye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hort age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9000" y="2514600"/>
            <a:ext cx="566712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abstract class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ing nam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rotected short birth_ye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abstract short age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560" y="4559400"/>
            <a:ext cx="7861680" cy="192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MyPersonImpl extends Pers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hort age()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Utils.ThisYear() - birth_yea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62840" y="1143000"/>
            <a:ext cx="688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280" y="2057400"/>
            <a:ext cx="18252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.jav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68920" y="3809880"/>
            <a:ext cx="2116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98800" y="137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17184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23888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ystems Group</cp:lastModifiedBy>
  <dcterms:modified xsi:type="dcterms:W3CDTF">2000-06-26T10:25:10Z</dcterms:modified>
  <cp:revision>63</cp:revision>
  <dc:subject/>
  <dc:title>Objects by Val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ebi.ac.uk/~lijnzaad</vt:lpwstr>
  </property>
  <property fmtid="{D5CDD505-2E9C-101B-9397-08002B2CF9AE}" pid="9" name="LinkColor">
    <vt:r8>16711782</vt:r8>
  </property>
  <property fmtid="{D5CDD505-2E9C-101B-9397-08002B2CF9AE}" pid="10" name="MailAddress">
    <vt:lpwstr>lijnzaad@ebi.ac.uk</vt:lpwstr>
  </property>
  <property fmtid="{D5CDD505-2E9C-101B-9397-08002B2CF9AE}" pid="11" name="NavBtnPos">
    <vt:r8>1</vt:r8>
  </property>
  <property fmtid="{D5CDD505-2E9C-101B-9397-08002B2CF9AE}" pid="12" name="Other">
    <vt:lpwstr>Objects by Value</vt:lpwstr>
  </property>
  <property fmtid="{D5CDD505-2E9C-101B-9397-08002B2CF9AE}" pid="13" name="OutputDir">
    <vt:lpwstr>F:\work\ws-corba\talks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