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E91-1618-4637-9ED0-DD344F1C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25A-BF27-44F8-8069-DC727C46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947-7601-4948-890F-D67FB7B5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FDA-E9EA-4960-A7ED-76E92C0D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97A-B452-4DC9-A0CC-E50E823E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E91-02A0-4365-B47C-03145617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F27-9993-4648-9493-1A6A7B93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79E-281E-4D7C-8641-94445514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999-768F-47ED-8791-63C09A70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337-C7D5-486E-A43F-E153625D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4F8-0E3E-4B2E-907B-01F14EE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1B4-35EB-4F63-9E1D-E0798790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5B60-19BD-43B1-AB73-1E6895C02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m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96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Na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88B-B02A-4036-835F-264F84C4036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inceton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.princeton.edu, optima.cs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ima.cs.princeton.edu, 192.12.69.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e.princeton.edu, helios.ee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helios.ee.princeton.edu, 128.196.28.166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jupiter.physics.princeton.edu, 128.196.4.1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aturn.physics.princeton.edu, 128.196.4.2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ars.physics.princeton.edu, 128.196.4.3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venus.physics.princeton.edu, 128.196.4.4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26A-C6AF-4C24-8663-60365DDF29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S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.princeton.edu, optima.cs.princeton.edu, MX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eltenham.cs.princeton.edu, 192.12.69.60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e.cs.princeton.edu, cheltenham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ima.cs.princeton.edu, 192.12.69.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.cs.princeton.edu, optima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askerville.cs.princeton.edu, 192.12.69.3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as.cs.princeton.edu, baskerville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896-32AD-4524-B248-3153629CC8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me Resolu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10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ser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know root at only one place (not each ho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-wid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1523880"/>
            <a:ext cx="6161760" cy="4206600"/>
            <a:chOff x="2057400" y="1523880"/>
            <a:chExt cx="6161760" cy="4206600"/>
          </a:xfrm>
        </p:grpSpPr>
        <p:sp>
          <p:nvSpPr>
            <p:cNvPr id="197" name=""/>
            <p:cNvSpPr/>
            <p:nvPr/>
          </p:nvSpPr>
          <p:spPr>
            <a:xfrm>
              <a:off x="7708680" y="164412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00760" y="181368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84920" y="19846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72240" y="33001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ce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8240" y="34736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80600" y="364212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72760" y="50364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91760" y="52088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77000" y="53798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54480" y="554832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17880" y="1523880"/>
              <a:ext cx="683640" cy="794520"/>
            </a:xfrm>
            <a:custGeom>
              <a:avLst/>
              <a:gdLst/>
              <a:ahLst/>
              <a:rect l="l" t="t" r="r" b="b"/>
              <a:pathLst>
                <a:path w="504" h="562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504" y="562"/>
                  </a:lnTo>
                  <a:lnTo>
                    <a:pt x="504" y="5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17880" y="3193920"/>
              <a:ext cx="683640" cy="790200"/>
            </a:xfrm>
            <a:custGeom>
              <a:avLst/>
              <a:gdLst/>
              <a:ahLst/>
              <a:rect l="l" t="t" r="r" b="b"/>
              <a:pathLst>
                <a:path w="504" h="559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59"/>
                  </a:lnTo>
                  <a:lnTo>
                    <a:pt x="504" y="559"/>
                  </a:lnTo>
                  <a:lnTo>
                    <a:pt x="504" y="55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32720" y="33001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6320" y="347220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21560" y="36406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56320" y="3193920"/>
              <a:ext cx="684000" cy="790200"/>
            </a:xfrm>
            <a:custGeom>
              <a:avLst/>
              <a:gdLst/>
              <a:ahLst/>
              <a:rect l="l" t="t" r="r" b="b"/>
              <a:pathLst>
                <a:path w="504" h="559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59"/>
                  </a:lnTo>
                  <a:lnTo>
                    <a:pt x="504" y="559"/>
                  </a:lnTo>
                  <a:lnTo>
                    <a:pt x="504" y="55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17880" y="4916160"/>
              <a:ext cx="683640" cy="794520"/>
            </a:xfrm>
            <a:custGeom>
              <a:avLst/>
              <a:gdLst/>
              <a:ahLst/>
              <a:rect l="l" t="t" r="r" b="b"/>
              <a:pathLst>
                <a:path w="504" h="562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504" y="562"/>
                  </a:lnTo>
                  <a:lnTo>
                    <a:pt x="504" y="5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53960" y="349488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7400" y="3374640"/>
              <a:ext cx="754560" cy="425520"/>
            </a:xfrm>
            <a:custGeom>
              <a:avLst/>
              <a:gdLst/>
              <a:ahLst/>
              <a:rect l="l" t="t" r="r" b="b"/>
              <a:pathLst>
                <a:path w="556" h="301">
                  <a:moveTo>
                    <a:pt x="277" y="301"/>
                  </a:moveTo>
                  <a:lnTo>
                    <a:pt x="322" y="301"/>
                  </a:lnTo>
                  <a:lnTo>
                    <a:pt x="368" y="294"/>
                  </a:lnTo>
                  <a:lnTo>
                    <a:pt x="407" y="285"/>
                  </a:lnTo>
                  <a:lnTo>
                    <a:pt x="444" y="273"/>
                  </a:lnTo>
                  <a:lnTo>
                    <a:pt x="474" y="258"/>
                  </a:lnTo>
                  <a:lnTo>
                    <a:pt x="504" y="240"/>
                  </a:lnTo>
                  <a:lnTo>
                    <a:pt x="526" y="219"/>
                  </a:lnTo>
                  <a:lnTo>
                    <a:pt x="544" y="197"/>
                  </a:lnTo>
                  <a:lnTo>
                    <a:pt x="553" y="176"/>
                  </a:lnTo>
                  <a:lnTo>
                    <a:pt x="556" y="152"/>
                  </a:lnTo>
                  <a:lnTo>
                    <a:pt x="553" y="127"/>
                  </a:lnTo>
                  <a:lnTo>
                    <a:pt x="544" y="103"/>
                  </a:lnTo>
                  <a:lnTo>
                    <a:pt x="526" y="82"/>
                  </a:lnTo>
                  <a:lnTo>
                    <a:pt x="504" y="61"/>
                  </a:lnTo>
                  <a:lnTo>
                    <a:pt x="474" y="45"/>
                  </a:lnTo>
                  <a:lnTo>
                    <a:pt x="444" y="30"/>
                  </a:lnTo>
                  <a:lnTo>
                    <a:pt x="407" y="18"/>
                  </a:lnTo>
                  <a:lnTo>
                    <a:pt x="368" y="9"/>
                  </a:lnTo>
                  <a:lnTo>
                    <a:pt x="322" y="3"/>
                  </a:lnTo>
                  <a:lnTo>
                    <a:pt x="277" y="0"/>
                  </a:lnTo>
                  <a:lnTo>
                    <a:pt x="234" y="3"/>
                  </a:lnTo>
                  <a:lnTo>
                    <a:pt x="188" y="9"/>
                  </a:lnTo>
                  <a:lnTo>
                    <a:pt x="149" y="18"/>
                  </a:lnTo>
                  <a:lnTo>
                    <a:pt x="113" y="30"/>
                  </a:lnTo>
                  <a:lnTo>
                    <a:pt x="79" y="45"/>
                  </a:lnTo>
                  <a:lnTo>
                    <a:pt x="52" y="61"/>
                  </a:lnTo>
                  <a:lnTo>
                    <a:pt x="31" y="82"/>
                  </a:lnTo>
                  <a:lnTo>
                    <a:pt x="12" y="103"/>
                  </a:lnTo>
                  <a:lnTo>
                    <a:pt x="3" y="127"/>
                  </a:lnTo>
                  <a:lnTo>
                    <a:pt x="0" y="152"/>
                  </a:lnTo>
                  <a:lnTo>
                    <a:pt x="3" y="176"/>
                  </a:lnTo>
                  <a:lnTo>
                    <a:pt x="12" y="197"/>
                  </a:lnTo>
                  <a:lnTo>
                    <a:pt x="31" y="219"/>
                  </a:lnTo>
                  <a:lnTo>
                    <a:pt x="52" y="240"/>
                  </a:lnTo>
                  <a:lnTo>
                    <a:pt x="79" y="258"/>
                  </a:lnTo>
                  <a:lnTo>
                    <a:pt x="113" y="273"/>
                  </a:lnTo>
                  <a:lnTo>
                    <a:pt x="149" y="285"/>
                  </a:lnTo>
                  <a:lnTo>
                    <a:pt x="188" y="294"/>
                  </a:lnTo>
                  <a:lnTo>
                    <a:pt x="234" y="301"/>
                  </a:lnTo>
                  <a:lnTo>
                    <a:pt x="277" y="301"/>
                  </a:lnTo>
                  <a:lnTo>
                    <a:pt x="277" y="30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17160" y="3159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11040" y="332820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06960" y="369432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12.69.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11640" y="386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03320" y="3549960"/>
              <a:ext cx="186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9400" y="3520080"/>
              <a:ext cx="110880" cy="60840"/>
            </a:xfrm>
            <a:custGeom>
              <a:avLst/>
              <a:gdLst/>
              <a:ahLst/>
              <a:rect l="l" t="t" r="r" b="b"/>
              <a:pathLst>
                <a:path w="82" h="43">
                  <a:moveTo>
                    <a:pt x="0" y="43"/>
                  </a:moveTo>
                  <a:lnTo>
                    <a:pt x="82" y="21"/>
                  </a:lnTo>
                  <a:lnTo>
                    <a:pt x="0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882160" y="3666240"/>
              <a:ext cx="1877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91440" y="3636360"/>
              <a:ext cx="110880" cy="6480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79" y="0"/>
                  </a:moveTo>
                  <a:lnTo>
                    <a:pt x="0" y="21"/>
                  </a:lnTo>
                  <a:lnTo>
                    <a:pt x="82" y="46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9800000">
              <a:off x="5725440" y="230472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440320" y="2008440"/>
              <a:ext cx="1990440" cy="11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8720" y="1962000"/>
              <a:ext cx="110880" cy="80280"/>
            </a:xfrm>
            <a:custGeom>
              <a:avLst/>
              <a:gdLst/>
              <a:ahLst/>
              <a:rect l="l" t="t" r="r" b="b"/>
              <a:pathLst>
                <a:path w="82" h="57">
                  <a:moveTo>
                    <a:pt x="18" y="57"/>
                  </a:moveTo>
                  <a:lnTo>
                    <a:pt x="82" y="0"/>
                  </a:lnTo>
                  <a:lnTo>
                    <a:pt x="0" y="21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531040" y="2069640"/>
              <a:ext cx="1978200" cy="11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52560" y="3224880"/>
              <a:ext cx="111240" cy="84600"/>
            </a:xfrm>
            <a:custGeom>
              <a:avLst/>
              <a:gdLst/>
              <a:ahLst/>
              <a:rect l="l" t="t" r="r" b="b"/>
              <a:pathLst>
                <a:path w="82" h="60">
                  <a:moveTo>
                    <a:pt x="58" y="0"/>
                  </a:moveTo>
                  <a:lnTo>
                    <a:pt x="0" y="60"/>
                  </a:lnTo>
                  <a:lnTo>
                    <a:pt x="82" y="39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9800000">
              <a:off x="5560920" y="2629080"/>
              <a:ext cx="21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ceton.edu, 128.196.128.2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980000">
              <a:off x="5834160" y="443520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40320" y="3855600"/>
              <a:ext cx="19944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98720" y="5199120"/>
              <a:ext cx="110880" cy="9036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0" y="34"/>
                  </a:moveTo>
                  <a:lnTo>
                    <a:pt x="82" y="64"/>
                  </a:lnTo>
                  <a:lnTo>
                    <a:pt x="27" y="0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522760" y="4036680"/>
              <a:ext cx="1990440" cy="136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44640" y="3984120"/>
              <a:ext cx="110880" cy="9036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79" y="27"/>
                  </a:moveTo>
                  <a:lnTo>
                    <a:pt x="0" y="0"/>
                  </a:lnTo>
                  <a:lnTo>
                    <a:pt x="58" y="64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7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980000">
              <a:off x="5571360" y="4670280"/>
              <a:ext cx="165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80000">
              <a:off x="5538600" y="459792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12.69.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86000" y="330948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543640" y="3640680"/>
              <a:ext cx="196200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52560" y="3611160"/>
              <a:ext cx="111240" cy="63360"/>
            </a:xfrm>
            <a:custGeom>
              <a:avLst/>
              <a:gdLst/>
              <a:ahLst/>
              <a:rect l="l" t="t" r="r" b="b"/>
              <a:pathLst>
                <a:path w="82" h="45">
                  <a:moveTo>
                    <a:pt x="82" y="0"/>
                  </a:moveTo>
                  <a:lnTo>
                    <a:pt x="0" y="24"/>
                  </a:lnTo>
                  <a:lnTo>
                    <a:pt x="82" y="45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44640" y="3529080"/>
              <a:ext cx="1962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86120" y="3499200"/>
              <a:ext cx="111240" cy="5904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0" y="42"/>
                  </a:moveTo>
                  <a:lnTo>
                    <a:pt x="82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49480" y="3671640"/>
              <a:ext cx="201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s.princeton.edu, 192.12.69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83080" y="173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92240" y="244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4440" y="306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88920" y="3904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88920" y="467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48720" y="5384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645-E2AF-4C27-B3E4-EE4256B6D0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ed File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ranspa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F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cs.princeton.edu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: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by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No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n/fs/fac5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by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t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versus Sh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F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afs/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4DC-A5D1-43ED-82DA-6F02A920EF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upid Naming Trick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User 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direct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28A-1739-43C1-9629-C4B5F70D0F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name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loc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embership in a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a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 knowledge of a secr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set of possible 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s of a set of name to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d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505-CCC4-40CF-86E7-26E445B3F2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perti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versus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transparent versus location-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ersus hierarch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ersus lo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lute versus rel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rchitecture versus by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versus ambigu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B18-DB02-49E7-8102-9893DC5526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ltenham.cs.princeton.edu    192.12.69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12.69.17    80:23:A8:33:5B:9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    (server, file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ry Peterson    llp@cs.princeton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E13-5924-4F81-A37A-954399C835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arby ps printer with short queue and 2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03520" y="1600200"/>
            <a:ext cx="5304960" cy="3514320"/>
            <a:chOff x="1703520" y="1600200"/>
            <a:chExt cx="5304960" cy="3514320"/>
          </a:xfrm>
        </p:grpSpPr>
        <p:sp>
          <p:nvSpPr>
            <p:cNvPr id="56" name=""/>
            <p:cNvSpPr/>
            <p:nvPr/>
          </p:nvSpPr>
          <p:spPr>
            <a:xfrm>
              <a:off x="1904400" y="24051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4760" y="26380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03520" y="2337480"/>
              <a:ext cx="876600" cy="612360"/>
            </a:xfrm>
            <a:custGeom>
              <a:avLst/>
              <a:gdLst/>
              <a:ahLst/>
              <a:rect l="l" t="t" r="r" b="b"/>
              <a:pathLst>
                <a:path w="615" h="436">
                  <a:moveTo>
                    <a:pt x="615" y="436"/>
                  </a:moveTo>
                  <a:lnTo>
                    <a:pt x="615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615" y="436"/>
                  </a:lnTo>
                  <a:lnTo>
                    <a:pt x="615" y="4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11080" y="240516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43320" y="26380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2160" y="16002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88600" y="2337480"/>
              <a:ext cx="869400" cy="612360"/>
            </a:xfrm>
            <a:custGeom>
              <a:avLst/>
              <a:gdLst/>
              <a:ahLst/>
              <a:rect l="l" t="t" r="r" b="b"/>
              <a:pathLst>
                <a:path w="610" h="436">
                  <a:moveTo>
                    <a:pt x="610" y="436"/>
                  </a:moveTo>
                  <a:lnTo>
                    <a:pt x="610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610" y="436"/>
                  </a:lnTo>
                  <a:lnTo>
                    <a:pt x="610" y="4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13400" y="1864080"/>
              <a:ext cx="6840" cy="35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7760" y="2188800"/>
              <a:ext cx="78480" cy="13752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0"/>
                  </a:moveTo>
                  <a:lnTo>
                    <a:pt x="30" y="98"/>
                  </a:lnTo>
                  <a:lnTo>
                    <a:pt x="5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13400" y="2950200"/>
              <a:ext cx="68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7760" y="3273120"/>
              <a:ext cx="78480" cy="138960"/>
            </a:xfrm>
            <a:custGeom>
              <a:avLst/>
              <a:gdLst/>
              <a:ahLst/>
              <a:rect l="l" t="t" r="r" b="b"/>
              <a:pathLst>
                <a:path w="55" h="99">
                  <a:moveTo>
                    <a:pt x="0" y="0"/>
                  </a:moveTo>
                  <a:lnTo>
                    <a:pt x="30" y="99"/>
                  </a:lnTo>
                  <a:lnTo>
                    <a:pt x="5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640" y="35920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88600" y="3418200"/>
              <a:ext cx="869400" cy="612000"/>
            </a:xfrm>
            <a:custGeom>
              <a:avLst/>
              <a:gdLst/>
              <a:ahLst/>
              <a:rect l="l" t="t" r="r" b="b"/>
              <a:pathLst>
                <a:path w="610" h="436">
                  <a:moveTo>
                    <a:pt x="610" y="436"/>
                  </a:moveTo>
                  <a:lnTo>
                    <a:pt x="610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610" y="436"/>
                  </a:lnTo>
                  <a:lnTo>
                    <a:pt x="610" y="4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46440" y="46720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88600" y="4498200"/>
              <a:ext cx="869400" cy="616320"/>
            </a:xfrm>
            <a:custGeom>
              <a:avLst/>
              <a:gdLst/>
              <a:ahLst/>
              <a:rect l="l" t="t" r="r" b="b"/>
              <a:pathLst>
                <a:path w="610" h="439">
                  <a:moveTo>
                    <a:pt x="610" y="435"/>
                  </a:moveTo>
                  <a:lnTo>
                    <a:pt x="610" y="0"/>
                  </a:lnTo>
                  <a:lnTo>
                    <a:pt x="0" y="0"/>
                  </a:lnTo>
                  <a:lnTo>
                    <a:pt x="0" y="439"/>
                  </a:lnTo>
                  <a:lnTo>
                    <a:pt x="610" y="439"/>
                  </a:lnTo>
                  <a:lnTo>
                    <a:pt x="610" y="43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13400" y="4030200"/>
              <a:ext cx="68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7760" y="4353480"/>
              <a:ext cx="78480" cy="13788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0"/>
                  </a:moveTo>
                  <a:lnTo>
                    <a:pt x="30" y="98"/>
                  </a:lnTo>
                  <a:lnTo>
                    <a:pt x="5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0880" y="1726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11240" y="1966680"/>
              <a:ext cx="149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s.princeton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11960" y="311328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2.12.69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0880" y="3350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84160" y="2266200"/>
              <a:ext cx="1485360" cy="209160"/>
            </a:xfrm>
            <a:custGeom>
              <a:avLst/>
              <a:gdLst/>
              <a:ahLst/>
              <a:rect l="l" t="t" r="r" b="b"/>
              <a:pathLst>
                <a:path w="1042" h="149">
                  <a:moveTo>
                    <a:pt x="1042" y="149"/>
                  </a:moveTo>
                  <a:lnTo>
                    <a:pt x="1037" y="145"/>
                  </a:lnTo>
                  <a:lnTo>
                    <a:pt x="1020" y="132"/>
                  </a:lnTo>
                  <a:lnTo>
                    <a:pt x="995" y="115"/>
                  </a:lnTo>
                  <a:lnTo>
                    <a:pt x="952" y="94"/>
                  </a:lnTo>
                  <a:lnTo>
                    <a:pt x="901" y="73"/>
                  </a:lnTo>
                  <a:lnTo>
                    <a:pt x="837" y="51"/>
                  </a:lnTo>
                  <a:lnTo>
                    <a:pt x="756" y="30"/>
                  </a:lnTo>
                  <a:lnTo>
                    <a:pt x="666" y="13"/>
                  </a:lnTo>
                  <a:lnTo>
                    <a:pt x="563" y="4"/>
                  </a:lnTo>
                  <a:lnTo>
                    <a:pt x="444" y="0"/>
                  </a:lnTo>
                  <a:lnTo>
                    <a:pt x="371" y="4"/>
                  </a:lnTo>
                  <a:lnTo>
                    <a:pt x="299" y="9"/>
                  </a:lnTo>
                  <a:lnTo>
                    <a:pt x="235" y="21"/>
                  </a:lnTo>
                  <a:lnTo>
                    <a:pt x="175" y="34"/>
                  </a:lnTo>
                  <a:lnTo>
                    <a:pt x="124" y="47"/>
                  </a:lnTo>
                  <a:lnTo>
                    <a:pt x="81" y="60"/>
                  </a:lnTo>
                  <a:lnTo>
                    <a:pt x="47" y="73"/>
                  </a:lnTo>
                  <a:lnTo>
                    <a:pt x="21" y="81"/>
                  </a:lnTo>
                  <a:lnTo>
                    <a:pt x="4" y="90"/>
                  </a:lnTo>
                  <a:lnTo>
                    <a:pt x="0" y="9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85880" y="2350080"/>
              <a:ext cx="133560" cy="9540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73" y="0"/>
                  </a:moveTo>
                  <a:lnTo>
                    <a:pt x="0" y="68"/>
                  </a:lnTo>
                  <a:lnTo>
                    <a:pt x="94" y="4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85880" y="2818080"/>
              <a:ext cx="1492560" cy="216000"/>
            </a:xfrm>
            <a:custGeom>
              <a:avLst/>
              <a:gdLst/>
              <a:ahLst/>
              <a:rect l="l" t="t" r="r" b="b"/>
              <a:pathLst>
                <a:path w="1047" h="154">
                  <a:moveTo>
                    <a:pt x="0" y="0"/>
                  </a:moveTo>
                  <a:lnTo>
                    <a:pt x="5" y="4"/>
                  </a:lnTo>
                  <a:lnTo>
                    <a:pt x="22" y="17"/>
                  </a:lnTo>
                  <a:lnTo>
                    <a:pt x="52" y="34"/>
                  </a:lnTo>
                  <a:lnTo>
                    <a:pt x="94" y="55"/>
                  </a:lnTo>
                  <a:lnTo>
                    <a:pt x="146" y="77"/>
                  </a:lnTo>
                  <a:lnTo>
                    <a:pt x="210" y="102"/>
                  </a:lnTo>
                  <a:lnTo>
                    <a:pt x="291" y="119"/>
                  </a:lnTo>
                  <a:lnTo>
                    <a:pt x="380" y="137"/>
                  </a:lnTo>
                  <a:lnTo>
                    <a:pt x="483" y="149"/>
                  </a:lnTo>
                  <a:lnTo>
                    <a:pt x="603" y="154"/>
                  </a:lnTo>
                  <a:lnTo>
                    <a:pt x="675" y="149"/>
                  </a:lnTo>
                  <a:lnTo>
                    <a:pt x="748" y="141"/>
                  </a:lnTo>
                  <a:lnTo>
                    <a:pt x="812" y="132"/>
                  </a:lnTo>
                  <a:lnTo>
                    <a:pt x="872" y="119"/>
                  </a:lnTo>
                  <a:lnTo>
                    <a:pt x="923" y="102"/>
                  </a:lnTo>
                  <a:lnTo>
                    <a:pt x="966" y="90"/>
                  </a:lnTo>
                  <a:lnTo>
                    <a:pt x="1000" y="77"/>
                  </a:lnTo>
                  <a:lnTo>
                    <a:pt x="1025" y="68"/>
                  </a:lnTo>
                  <a:lnTo>
                    <a:pt x="1042" y="60"/>
                  </a:lnTo>
                  <a:lnTo>
                    <a:pt x="1047" y="6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41720" y="2847600"/>
              <a:ext cx="133560" cy="9684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21" y="69"/>
                  </a:moveTo>
                  <a:lnTo>
                    <a:pt x="94" y="0"/>
                  </a:lnTo>
                  <a:lnTo>
                    <a:pt x="0" y="22"/>
                  </a:lnTo>
                  <a:lnTo>
                    <a:pt x="21" y="69"/>
                  </a:lnTo>
                  <a:lnTo>
                    <a:pt x="2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4200" y="1895040"/>
              <a:ext cx="220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@ cs.princeton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90800" y="1623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91600" y="304704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2.12.69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25000" y="3039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1600" y="410904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2.12.69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14920" y="4118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DF0-D984-4890-A145-EFB0B22F1B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main Naming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nstrap.cs.prince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E09F02" descr=""/>
          <p:cNvPicPr/>
          <p:nvPr/>
        </p:nvPicPr>
        <p:blipFill>
          <a:blip r:embed="rId1"/>
          <a:stretch/>
        </p:blipFill>
        <p:spPr>
          <a:xfrm>
            <a:off x="990720" y="2292480"/>
            <a:ext cx="7373880" cy="22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B62-A5BE-41D7-955B-D89210D47E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me Serv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hierarchy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6680" y="3156120"/>
            <a:ext cx="331920" cy="701640"/>
          </a:xfrm>
          <a:custGeom>
            <a:avLst/>
            <a:gdLst/>
            <a:ahLst/>
            <a:rect l="l" t="t" r="r" b="b"/>
            <a:pathLst>
              <a:path w="209" h="442">
                <a:moveTo>
                  <a:pt x="209" y="442"/>
                </a:moveTo>
                <a:lnTo>
                  <a:pt x="209" y="0"/>
                </a:lnTo>
                <a:lnTo>
                  <a:pt x="0" y="0"/>
                </a:lnTo>
                <a:lnTo>
                  <a:pt x="0" y="442"/>
                </a:lnTo>
                <a:lnTo>
                  <a:pt x="209" y="442"/>
                </a:lnTo>
                <a:lnTo>
                  <a:pt x="209" y="442"/>
                </a:ln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5840" y="3156120"/>
            <a:ext cx="753840" cy="701640"/>
          </a:xfrm>
          <a:custGeom>
            <a:avLst/>
            <a:gdLst/>
            <a:ahLst/>
            <a:rect l="l" t="t" r="r" b="b"/>
            <a:pathLst>
              <a:path w="475" h="442">
                <a:moveTo>
                  <a:pt x="475" y="442"/>
                </a:moveTo>
                <a:lnTo>
                  <a:pt x="475" y="0"/>
                </a:lnTo>
                <a:lnTo>
                  <a:pt x="0" y="0"/>
                </a:lnTo>
                <a:lnTo>
                  <a:pt x="0" y="442"/>
                </a:lnTo>
                <a:lnTo>
                  <a:pt x="475" y="442"/>
                </a:lnTo>
                <a:lnTo>
                  <a:pt x="475" y="44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66840" y="2598840"/>
            <a:ext cx="951120" cy="1258920"/>
          </a:xfrm>
          <a:custGeom>
            <a:avLst/>
            <a:gdLst/>
            <a:ahLst/>
            <a:rect l="l" t="t" r="r" b="b"/>
            <a:pathLst>
              <a:path w="599" h="793">
                <a:moveTo>
                  <a:pt x="0" y="0"/>
                </a:moveTo>
                <a:lnTo>
                  <a:pt x="3" y="321"/>
                </a:lnTo>
                <a:lnTo>
                  <a:pt x="272" y="321"/>
                </a:lnTo>
                <a:lnTo>
                  <a:pt x="272" y="793"/>
                </a:lnTo>
                <a:lnTo>
                  <a:pt x="599" y="793"/>
                </a:lnTo>
                <a:lnTo>
                  <a:pt x="599" y="351"/>
                </a:lnTo>
                <a:lnTo>
                  <a:pt x="434" y="351"/>
                </a:lnTo>
                <a:lnTo>
                  <a:pt x="434" y="2"/>
                </a:lnTo>
                <a:lnTo>
                  <a:pt x="3" y="2"/>
                </a:lnTo>
                <a:lnTo>
                  <a:pt x="3" y="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3160" y="2598840"/>
            <a:ext cx="409680" cy="566640"/>
          </a:xfrm>
          <a:custGeom>
            <a:avLst/>
            <a:gdLst/>
            <a:ahLst/>
            <a:rect l="l" t="t" r="r" b="b"/>
            <a:pathLst>
              <a:path w="258" h="357">
                <a:moveTo>
                  <a:pt x="258" y="354"/>
                </a:moveTo>
                <a:lnTo>
                  <a:pt x="258" y="0"/>
                </a:lnTo>
                <a:lnTo>
                  <a:pt x="0" y="0"/>
                </a:lnTo>
                <a:lnTo>
                  <a:pt x="0" y="357"/>
                </a:lnTo>
                <a:lnTo>
                  <a:pt x="258" y="357"/>
                </a:lnTo>
                <a:lnTo>
                  <a:pt x="258" y="357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55720" y="1757520"/>
            <a:ext cx="5378760" cy="636480"/>
          </a:xfrm>
          <a:custGeom>
            <a:avLst/>
            <a:gdLst/>
            <a:ahLst/>
            <a:rect l="l" t="t" r="r" b="b"/>
            <a:pathLst>
              <a:path w="3388" h="401">
                <a:moveTo>
                  <a:pt x="3388" y="401"/>
                </a:moveTo>
                <a:lnTo>
                  <a:pt x="3388" y="0"/>
                </a:lnTo>
                <a:lnTo>
                  <a:pt x="0" y="0"/>
                </a:lnTo>
                <a:lnTo>
                  <a:pt x="0" y="401"/>
                </a:lnTo>
                <a:lnTo>
                  <a:pt x="3388" y="401"/>
                </a:lnTo>
                <a:lnTo>
                  <a:pt x="3388" y="401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8120" y="1817640"/>
            <a:ext cx="906480" cy="314280"/>
          </a:xfrm>
          <a:custGeom>
            <a:avLst/>
            <a:gdLst/>
            <a:ahLst/>
            <a:rect l="l" t="t" r="r" b="b"/>
            <a:pathLst>
              <a:path w="571" h="198">
                <a:moveTo>
                  <a:pt x="0" y="198"/>
                </a:moveTo>
                <a:lnTo>
                  <a:pt x="2" y="0"/>
                </a:lnTo>
                <a:lnTo>
                  <a:pt x="571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03240" y="2149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d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1160" y="2149560"/>
            <a:ext cx="26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22280" y="2629080"/>
            <a:ext cx="61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ncet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872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0312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07080" y="2629080"/>
            <a:ext cx="18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9120" y="31478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31720" y="3147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5120" y="366696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x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97560" y="366696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x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85960" y="3147840"/>
            <a:ext cx="46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82280" y="262908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9268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708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9920" y="262908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70840" y="26290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s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6432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6836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72680" y="2629080"/>
            <a:ext cx="18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26290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p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0564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004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320" y="2629080"/>
            <a:ext cx="29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v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0480" y="2629080"/>
            <a:ext cx="30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472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056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9200" y="2629080"/>
            <a:ext cx="26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8320" y="21495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99160" y="214956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46600" y="214956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25120" y="21495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80080" y="214956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71040" y="2149560"/>
            <a:ext cx="8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02640" y="2349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77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61040" y="2349360"/>
            <a:ext cx="254160" cy="244440"/>
          </a:xfrm>
          <a:custGeom>
            <a:avLst/>
            <a:gdLst/>
            <a:ahLst/>
            <a:rect l="l" t="t" r="r" b="b"/>
            <a:pathLst>
              <a:path w="160" h="154">
                <a:moveTo>
                  <a:pt x="80" y="0"/>
                </a:moveTo>
                <a:lnTo>
                  <a:pt x="0" y="154"/>
                </a:lnTo>
                <a:lnTo>
                  <a:pt x="160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40480" y="2349360"/>
            <a:ext cx="25272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392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77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5320" y="2863800"/>
            <a:ext cx="253800" cy="244440"/>
          </a:xfrm>
          <a:custGeom>
            <a:avLst/>
            <a:gdLst/>
            <a:ahLst/>
            <a:rect l="l" t="t" r="r" b="b"/>
            <a:pathLst>
              <a:path w="160" h="154">
                <a:moveTo>
                  <a:pt x="77" y="0"/>
                </a:moveTo>
                <a:lnTo>
                  <a:pt x="0" y="154"/>
                </a:lnTo>
                <a:lnTo>
                  <a:pt x="160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7696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8000" y="2863800"/>
            <a:ext cx="257400" cy="244440"/>
          </a:xfrm>
          <a:custGeom>
            <a:avLst/>
            <a:gdLst/>
            <a:ahLst/>
            <a:rect l="l" t="t" r="r" b="b"/>
            <a:pathLst>
              <a:path w="162" h="154">
                <a:moveTo>
                  <a:pt x="80" y="0"/>
                </a:moveTo>
                <a:lnTo>
                  <a:pt x="0" y="154"/>
                </a:lnTo>
                <a:lnTo>
                  <a:pt x="162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6640" y="3360600"/>
            <a:ext cx="252360" cy="249480"/>
          </a:xfrm>
          <a:custGeom>
            <a:avLst/>
            <a:gdLst/>
            <a:ahLst/>
            <a:rect l="l" t="t" r="r" b="b"/>
            <a:pathLst>
              <a:path w="159" h="157">
                <a:moveTo>
                  <a:pt x="79" y="0"/>
                </a:moveTo>
                <a:lnTo>
                  <a:pt x="0" y="157"/>
                </a:lnTo>
                <a:lnTo>
                  <a:pt x="159" y="157"/>
                </a:lnTo>
                <a:lnTo>
                  <a:pt x="79" y="3"/>
                </a:lnTo>
                <a:lnTo>
                  <a:pt x="79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33840" y="3360600"/>
            <a:ext cx="252360" cy="249480"/>
          </a:xfrm>
          <a:custGeom>
            <a:avLst/>
            <a:gdLst/>
            <a:ahLst/>
            <a:rect l="l" t="t" r="r" b="b"/>
            <a:pathLst>
              <a:path w="159" h="157">
                <a:moveTo>
                  <a:pt x="80" y="0"/>
                </a:moveTo>
                <a:lnTo>
                  <a:pt x="0" y="157"/>
                </a:lnTo>
                <a:lnTo>
                  <a:pt x="159" y="157"/>
                </a:lnTo>
                <a:lnTo>
                  <a:pt x="80" y="3"/>
                </a:lnTo>
                <a:lnTo>
                  <a:pt x="8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0212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3080" y="2863800"/>
            <a:ext cx="25272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79" y="0"/>
                </a:moveTo>
                <a:lnTo>
                  <a:pt x="0" y="154"/>
                </a:lnTo>
                <a:lnTo>
                  <a:pt x="159" y="154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2260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21200" y="2863800"/>
            <a:ext cx="257400" cy="244440"/>
          </a:xfrm>
          <a:custGeom>
            <a:avLst/>
            <a:gdLst/>
            <a:ahLst/>
            <a:rect l="l" t="t" r="r" b="b"/>
            <a:pathLst>
              <a:path w="162" h="154">
                <a:moveTo>
                  <a:pt x="80" y="0"/>
                </a:moveTo>
                <a:lnTo>
                  <a:pt x="0" y="154"/>
                </a:lnTo>
                <a:lnTo>
                  <a:pt x="162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44640" y="2833560"/>
            <a:ext cx="1006560" cy="314280"/>
          </a:xfrm>
          <a:custGeom>
            <a:avLst/>
            <a:gdLst/>
            <a:ahLst/>
            <a:rect l="l" t="t" r="r" b="b"/>
            <a:pathLst>
              <a:path w="634" h="198">
                <a:moveTo>
                  <a:pt x="0" y="198"/>
                </a:moveTo>
                <a:lnTo>
                  <a:pt x="351" y="0"/>
                </a:lnTo>
                <a:lnTo>
                  <a:pt x="634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01920" y="2833560"/>
            <a:ext cx="1440" cy="30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6040" y="2341440"/>
            <a:ext cx="596880" cy="292320"/>
          </a:xfrm>
          <a:custGeom>
            <a:avLst/>
            <a:gdLst/>
            <a:ahLst/>
            <a:rect l="l" t="t" r="r" b="b"/>
            <a:pathLst>
              <a:path w="376" h="184">
                <a:moveTo>
                  <a:pt x="0" y="184"/>
                </a:moveTo>
                <a:lnTo>
                  <a:pt x="192" y="0"/>
                </a:lnTo>
                <a:lnTo>
                  <a:pt x="376" y="18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49680" y="2354400"/>
            <a:ext cx="547560" cy="279360"/>
          </a:xfrm>
          <a:custGeom>
            <a:avLst/>
            <a:gdLst/>
            <a:ahLst/>
            <a:rect l="l" t="t" r="r" b="b"/>
            <a:pathLst>
              <a:path w="345" h="176">
                <a:moveTo>
                  <a:pt x="0" y="176"/>
                </a:moveTo>
                <a:lnTo>
                  <a:pt x="148" y="0"/>
                </a:lnTo>
                <a:lnTo>
                  <a:pt x="345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91160" y="2354400"/>
            <a:ext cx="326880" cy="279360"/>
          </a:xfrm>
          <a:custGeom>
            <a:avLst/>
            <a:gdLst/>
            <a:ahLst/>
            <a:rect l="l" t="t" r="r" b="b"/>
            <a:pathLst>
              <a:path w="206" h="176">
                <a:moveTo>
                  <a:pt x="0" y="176"/>
                </a:moveTo>
                <a:lnTo>
                  <a:pt x="104" y="0"/>
                </a:lnTo>
                <a:lnTo>
                  <a:pt x="206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97640" y="2354400"/>
            <a:ext cx="326880" cy="279360"/>
          </a:xfrm>
          <a:custGeom>
            <a:avLst/>
            <a:gdLst/>
            <a:ahLst/>
            <a:rect l="l" t="t" r="r" b="b"/>
            <a:pathLst>
              <a:path w="206" h="176">
                <a:moveTo>
                  <a:pt x="0" y="176"/>
                </a:moveTo>
                <a:lnTo>
                  <a:pt x="104" y="0"/>
                </a:lnTo>
                <a:lnTo>
                  <a:pt x="206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51560" y="2354400"/>
            <a:ext cx="327240" cy="279360"/>
          </a:xfrm>
          <a:custGeom>
            <a:avLst/>
            <a:gdLst/>
            <a:ahLst/>
            <a:rect l="l" t="t" r="r" b="b"/>
            <a:pathLst>
              <a:path w="206" h="176">
                <a:moveTo>
                  <a:pt x="0" y="176"/>
                </a:moveTo>
                <a:lnTo>
                  <a:pt x="104" y="0"/>
                </a:lnTo>
                <a:lnTo>
                  <a:pt x="206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1817640"/>
            <a:ext cx="5103720" cy="314280"/>
          </a:xfrm>
          <a:custGeom>
            <a:avLst/>
            <a:gdLst/>
            <a:ahLst/>
            <a:rect l="l" t="t" r="r" b="b"/>
            <a:pathLst>
              <a:path w="3215" h="198">
                <a:moveTo>
                  <a:pt x="0" y="195"/>
                </a:moveTo>
                <a:lnTo>
                  <a:pt x="1279" y="0"/>
                </a:lnTo>
                <a:lnTo>
                  <a:pt x="3215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09960" y="1817640"/>
            <a:ext cx="3618000" cy="314280"/>
          </a:xfrm>
          <a:custGeom>
            <a:avLst/>
            <a:gdLst/>
            <a:ahLst/>
            <a:rect l="l" t="t" r="r" b="b"/>
            <a:pathLst>
              <a:path w="2279" h="198">
                <a:moveTo>
                  <a:pt x="2279" y="176"/>
                </a:moveTo>
                <a:lnTo>
                  <a:pt x="593" y="0"/>
                </a:lnTo>
                <a:lnTo>
                  <a:pt x="0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51360" y="1817640"/>
            <a:ext cx="2324160" cy="314280"/>
          </a:xfrm>
          <a:custGeom>
            <a:avLst/>
            <a:gdLst/>
            <a:ahLst/>
            <a:rect l="l" t="t" r="r" b="b"/>
            <a:pathLst>
              <a:path w="1464" h="198">
                <a:moveTo>
                  <a:pt x="1464" y="179"/>
                </a:moveTo>
                <a:lnTo>
                  <a:pt x="0" y="0"/>
                </a:lnTo>
                <a:lnTo>
                  <a:pt x="1112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65360" y="3335400"/>
            <a:ext cx="179280" cy="30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44640" y="3335400"/>
            <a:ext cx="177840" cy="31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1520" y="4764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48320" y="3657600"/>
            <a:ext cx="3581280" cy="2286000"/>
            <a:chOff x="4648320" y="3657600"/>
            <a:chExt cx="3581280" cy="2286000"/>
          </a:xfrm>
        </p:grpSpPr>
        <p:sp>
          <p:nvSpPr>
            <p:cNvPr id="159" name=""/>
            <p:cNvSpPr/>
            <p:nvPr/>
          </p:nvSpPr>
          <p:spPr>
            <a:xfrm>
              <a:off x="6648480" y="36939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960" y="38448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3840" y="470520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ce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41120" y="48546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03120" y="470520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03320" y="48546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81040" y="556416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1760" y="57150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11320" y="5564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69680" y="57150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2200" y="3657600"/>
              <a:ext cx="1339920" cy="380880"/>
            </a:xfrm>
            <a:custGeom>
              <a:avLst/>
              <a:gdLst/>
              <a:ahLst/>
              <a:rect l="l" t="t" r="r" b="b"/>
              <a:pathLst>
                <a:path w="1298" h="377">
                  <a:moveTo>
                    <a:pt x="1294" y="377"/>
                  </a:moveTo>
                  <a:lnTo>
                    <a:pt x="1298" y="0"/>
                  </a:lnTo>
                  <a:lnTo>
                    <a:pt x="0" y="0"/>
                  </a:lnTo>
                  <a:lnTo>
                    <a:pt x="0" y="377"/>
                  </a:lnTo>
                  <a:lnTo>
                    <a:pt x="1298" y="377"/>
                  </a:lnTo>
                  <a:lnTo>
                    <a:pt x="1298" y="3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8000" y="4689360"/>
              <a:ext cx="1059120" cy="353880"/>
            </a:xfrm>
            <a:custGeom>
              <a:avLst/>
              <a:gdLst/>
              <a:ahLst/>
              <a:rect l="l" t="t" r="r" b="b"/>
              <a:pathLst>
                <a:path w="921" h="369">
                  <a:moveTo>
                    <a:pt x="917" y="365"/>
                  </a:moveTo>
                  <a:lnTo>
                    <a:pt x="921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921" y="369"/>
                  </a:lnTo>
                  <a:lnTo>
                    <a:pt x="921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5533920"/>
              <a:ext cx="955440" cy="409680"/>
            </a:xfrm>
            <a:custGeom>
              <a:avLst/>
              <a:gdLst/>
              <a:ahLst/>
              <a:rect l="l" t="t" r="r" b="b"/>
              <a:pathLst>
                <a:path w="794" h="369">
                  <a:moveTo>
                    <a:pt x="794" y="365"/>
                  </a:moveTo>
                  <a:lnTo>
                    <a:pt x="794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794" y="369"/>
                  </a:lnTo>
                  <a:lnTo>
                    <a:pt x="794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5880" y="5533920"/>
              <a:ext cx="936720" cy="409680"/>
            </a:xfrm>
            <a:custGeom>
              <a:avLst/>
              <a:gdLst/>
              <a:ahLst/>
              <a:rect l="l" t="t" r="r" b="b"/>
              <a:pathLst>
                <a:path w="794" h="369">
                  <a:moveTo>
                    <a:pt x="794" y="365"/>
                  </a:moveTo>
                  <a:lnTo>
                    <a:pt x="794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794" y="369"/>
                  </a:lnTo>
                  <a:lnTo>
                    <a:pt x="794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83440" y="4689360"/>
              <a:ext cx="1046160" cy="352440"/>
            </a:xfrm>
            <a:custGeom>
              <a:avLst/>
              <a:gdLst/>
              <a:ahLst/>
              <a:rect l="l" t="t" r="r" b="b"/>
              <a:pathLst>
                <a:path w="917" h="369">
                  <a:moveTo>
                    <a:pt x="917" y="365"/>
                  </a:moveTo>
                  <a:lnTo>
                    <a:pt x="917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917" y="369"/>
                  </a:lnTo>
                  <a:lnTo>
                    <a:pt x="917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229360" y="5037120"/>
              <a:ext cx="47304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76800" y="5449680"/>
              <a:ext cx="81000" cy="84240"/>
            </a:xfrm>
            <a:custGeom>
              <a:avLst/>
              <a:gdLst/>
              <a:ahLst/>
              <a:rect l="l" t="t" r="r" b="b"/>
              <a:pathLst>
                <a:path w="75" h="87">
                  <a:moveTo>
                    <a:pt x="36" y="0"/>
                  </a:moveTo>
                  <a:lnTo>
                    <a:pt x="0" y="87"/>
                  </a:lnTo>
                  <a:lnTo>
                    <a:pt x="75" y="3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8720" y="5041800"/>
              <a:ext cx="41760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23200" y="5449680"/>
              <a:ext cx="82440" cy="795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0" y="27"/>
                  </a:moveTo>
                  <a:lnTo>
                    <a:pt x="75" y="83"/>
                  </a:lnTo>
                  <a:lnTo>
                    <a:pt x="39" y="0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970600" y="4038480"/>
              <a:ext cx="60336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15160" y="4605120"/>
              <a:ext cx="85680" cy="8100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40" y="0"/>
                  </a:moveTo>
                  <a:lnTo>
                    <a:pt x="0" y="84"/>
                  </a:lnTo>
                  <a:lnTo>
                    <a:pt x="79" y="3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45200" y="4033800"/>
              <a:ext cx="595440" cy="60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05720" y="4610160"/>
              <a:ext cx="87480" cy="7920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32"/>
                  </a:moveTo>
                  <a:lnTo>
                    <a:pt x="80" y="84"/>
                  </a:lnTo>
                  <a:lnTo>
                    <a:pt x="40" y="0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96000" y="46879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89520" y="55512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945040" y="562752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886200"/>
            <a:ext cx="4495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zone implemented by two or m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 serv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862-F48B-4D9E-98B2-2FDF13C3B5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ource Record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ame server maintains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ource reco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Class, T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/Value: not necessarily host names to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: Value gives domain name for host running name server that knows how to resolve names within specified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AME: Value gives canonical name for particle host; used to define ali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X: Value gives domain name for host running mail server that accepts messages for specified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: allow other entities to defin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: how long the resource record is 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FA4-EA78-4418-9DE8-5FC5B8FA72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ot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ceton.edu, cit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it.princeton.edu, 128.196.128.233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isco.com, thumper.cisco.com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humper.ciscoe.com, 128.96.32.20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6AE-2FF0-47BC-8D38-E8ED808B40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Ryan Peterson</cp:lastModifiedBy>
  <dcterms:modified xsi:type="dcterms:W3CDTF">2000-02-05T19:26:25Z</dcterms:modified>
  <cp:revision>13</cp:revision>
  <dc:subject/>
  <dc:title>Naming</dc:title>
</cp:coreProperties>
</file>