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B40-8BA5-4F13-BC0D-277AD9BE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ABE-94EC-4DFF-8FCA-77DBEED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42E-C194-4908-9145-63685C4E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2BE-10D6-4A99-861B-FCAF920C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7DB-DC05-495F-8F7F-239BD663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7B4-6892-4331-9199-CBA36BF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AF6-1A67-493C-A9E3-435FD1BB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EC4-5B8E-4698-BC4F-276997F7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F6F-C0E6-47FB-A966-610C8DAA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5A7-11A1-4A48-897F-F9014A2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74A-F548-43D6-944B-66A45EF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D92-C858-4655-B778-FB4C4DC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E377-7FCB-4F80-B5E0-CABDEFBE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int-to-Poin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3A6-FCC9-4E58-99B0-785B3C2BD64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ame is 125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ONET: Synchronous 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S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S-1 = 51.8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E02F13" descr=""/>
          <p:cNvPicPr/>
          <p:nvPr/>
        </p:nvPicPr>
        <p:blipFill>
          <a:blip r:embed="rId1"/>
          <a:stretch/>
        </p:blipFill>
        <p:spPr>
          <a:xfrm>
            <a:off x="457200" y="3790800"/>
            <a:ext cx="4038480" cy="1810080"/>
          </a:xfrm>
          <a:prstGeom prst="rect">
            <a:avLst/>
          </a:prstGeom>
          <a:ln w="0">
            <a:noFill/>
          </a:ln>
        </p:spPr>
      </p:pic>
      <p:pic>
        <p:nvPicPr>
          <p:cNvPr id="199" name="PE02F14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886200" cy="15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0D0-F5A2-49FD-B564-A30F8C9578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yclic Redundancy Che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redundant data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,000 (1500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degree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SG=10011010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egree of some divisor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447-9CCD-4FC1-BDE4-91722995AB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C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is even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remain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implies no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remainder zero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as zero (no error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xactly divisibl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320-1D96-440D-8B55-0FF9F53D70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ecting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ingle-bit errors, as long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s have non-zero coeffic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uble-bit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a factor with at least thre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dd number of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the fac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‘burst’ error (i.e., sequence of consecutive error bits) for which the length of the burst i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urst errors of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also b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able 2.6 on page 102 for comm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C7B-F56C-4F2D-AB18-31C724B11A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hecksum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message as a sequence of 16-bit integers; sum using 16-bit ones-complement arithmetic; take ones-complement of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870280"/>
            <a:ext cx="586728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ksum(u_short *buf, 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ister u_long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ount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*buf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um &amp; 0xFFFF0000)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rry occurred, so wrap around */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&amp;= 0xFFFF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~(sum &amp; 0xFFF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E21-1400-4497-AE66-7E62AAF5FE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knowledgements &amp; 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10" name="PE02F19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222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46E-D5B5-4648-B725-5B25627CE3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op-and-Wa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keeping the pipe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Mbps 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ms RTT = 67.5Kb (8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frames imples 1/8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20574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428640" y="2438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28195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2864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0280" y="15238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8920" y="15238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9F7-A18B-44A0-9EE7-A92F964681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multiple outstanding (un-ACKed)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bound on un-ACKed frames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38280" y="2819520"/>
            <a:ext cx="4300200" cy="3235320"/>
            <a:chOff x="2438280" y="2819520"/>
            <a:chExt cx="4300200" cy="3235320"/>
          </a:xfrm>
        </p:grpSpPr>
        <p:sp>
          <p:nvSpPr>
            <p:cNvPr id="224" name=""/>
            <p:cNvSpPr/>
            <p:nvPr/>
          </p:nvSpPr>
          <p:spPr>
            <a:xfrm>
              <a:off x="3403440" y="281952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6040" y="281952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2498040" y="4572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2395800" y="43542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2000" y="3124440"/>
              <a:ext cx="6120" cy="29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3040" y="3141720"/>
              <a:ext cx="6480" cy="29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2000" y="3367080"/>
              <a:ext cx="2522520" cy="5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5440" y="3905280"/>
              <a:ext cx="15408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0" y="42"/>
                  </a:moveTo>
                  <a:lnTo>
                    <a:pt x="97" y="38"/>
                  </a:lnTo>
                  <a:lnTo>
                    <a:pt x="16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800160" y="3971880"/>
              <a:ext cx="252252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8120" y="4613400"/>
              <a:ext cx="141480" cy="7920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77" y="0"/>
                  </a:moveTo>
                  <a:lnTo>
                    <a:pt x="0" y="46"/>
                  </a:lnTo>
                  <a:lnTo>
                    <a:pt x="89" y="50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25920" y="3551400"/>
              <a:ext cx="1440" cy="19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9200" y="5456160"/>
              <a:ext cx="73080" cy="13968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0" y="0"/>
                  </a:moveTo>
                  <a:lnTo>
                    <a:pt x="23" y="88"/>
                  </a:lnTo>
                  <a:lnTo>
                    <a:pt x="4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72000" y="3575160"/>
              <a:ext cx="253512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81920" y="411948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800160" y="4192560"/>
              <a:ext cx="25160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78120" y="4827600"/>
              <a:ext cx="14148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77" y="0"/>
                  </a:moveTo>
                  <a:lnTo>
                    <a:pt x="0" y="46"/>
                  </a:lnTo>
                  <a:lnTo>
                    <a:pt x="89" y="4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78120" y="3807000"/>
              <a:ext cx="252252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81920" y="4345200"/>
              <a:ext cx="147600" cy="72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800160" y="4411800"/>
              <a:ext cx="2516040" cy="68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8120" y="5059440"/>
              <a:ext cx="14148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77" y="0"/>
                  </a:moveTo>
                  <a:lnTo>
                    <a:pt x="0" y="42"/>
                  </a:lnTo>
                  <a:lnTo>
                    <a:pt x="89" y="4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4686480"/>
              <a:ext cx="25354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5440" y="5224680"/>
              <a:ext cx="147600" cy="72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6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78120" y="4907160"/>
              <a:ext cx="254664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1920" y="545004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38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78120" y="5132520"/>
              <a:ext cx="2535480" cy="57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1920" y="566892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3"/>
                  </a:moveTo>
                  <a:lnTo>
                    <a:pt x="93" y="39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72000" y="4454640"/>
              <a:ext cx="254628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81920" y="4986360"/>
              <a:ext cx="152280" cy="7308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46"/>
                  </a:moveTo>
                  <a:lnTo>
                    <a:pt x="96" y="38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4736880" y="555660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4525920" y="547344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4736880" y="420732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4525920" y="412560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986-50F3-4771-A9EF-2EDABB1A4F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Sen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sequence number to each fr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window siz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acknowledgment receiv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frame sen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CK arr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up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700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209680" y="3809880"/>
            <a:ext cx="4834080" cy="1215000"/>
            <a:chOff x="2209680" y="3809880"/>
            <a:chExt cx="4834080" cy="1215000"/>
          </a:xfrm>
        </p:grpSpPr>
        <p:sp>
          <p:nvSpPr>
            <p:cNvPr id="260" name=""/>
            <p:cNvSpPr/>
            <p:nvPr/>
          </p:nvSpPr>
          <p:spPr>
            <a:xfrm>
              <a:off x="2548080" y="4233600"/>
              <a:ext cx="4066920" cy="290520"/>
            </a:xfrm>
            <a:custGeom>
              <a:avLst/>
              <a:gdLst/>
              <a:ahLst/>
              <a:rect l="l" t="t" r="r" b="b"/>
              <a:pathLst>
                <a:path w="4380" h="283">
                  <a:moveTo>
                    <a:pt x="57" y="0"/>
                  </a:moveTo>
                  <a:lnTo>
                    <a:pt x="4361" y="0"/>
                  </a:lnTo>
                  <a:lnTo>
                    <a:pt x="4286" y="66"/>
                  </a:lnTo>
                  <a:lnTo>
                    <a:pt x="4347" y="109"/>
                  </a:lnTo>
                  <a:lnTo>
                    <a:pt x="4305" y="142"/>
                  </a:lnTo>
                  <a:lnTo>
                    <a:pt x="4380" y="184"/>
                  </a:lnTo>
                  <a:lnTo>
                    <a:pt x="4314" y="217"/>
                  </a:lnTo>
                  <a:lnTo>
                    <a:pt x="4371" y="283"/>
                  </a:lnTo>
                  <a:lnTo>
                    <a:pt x="61" y="283"/>
                  </a:lnTo>
                  <a:lnTo>
                    <a:pt x="66" y="236"/>
                  </a:lnTo>
                  <a:lnTo>
                    <a:pt x="0" y="203"/>
                  </a:lnTo>
                  <a:lnTo>
                    <a:pt x="66" y="165"/>
                  </a:lnTo>
                  <a:lnTo>
                    <a:pt x="9" y="128"/>
                  </a:lnTo>
                  <a:lnTo>
                    <a:pt x="80" y="85"/>
                  </a:lnTo>
                  <a:lnTo>
                    <a:pt x="33" y="66"/>
                  </a:lnTo>
                  <a:lnTo>
                    <a:pt x="75" y="33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60760" y="4089240"/>
              <a:ext cx="2163600" cy="106200"/>
            </a:xfrm>
            <a:custGeom>
              <a:avLst/>
              <a:gdLst/>
              <a:ahLst/>
              <a:rect l="l" t="t" r="r" b="b"/>
              <a:pathLst>
                <a:path w="2330" h="104">
                  <a:moveTo>
                    <a:pt x="0" y="95"/>
                  </a:moveTo>
                  <a:lnTo>
                    <a:pt x="0" y="0"/>
                  </a:lnTo>
                  <a:lnTo>
                    <a:pt x="2330" y="0"/>
                  </a:lnTo>
                  <a:lnTo>
                    <a:pt x="2330" y="1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2480" y="4225680"/>
              <a:ext cx="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54400" y="4233600"/>
              <a:ext cx="1440" cy="29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0760" y="4233600"/>
              <a:ext cx="1440" cy="29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9200" y="4225680"/>
              <a:ext cx="468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14880" y="4225680"/>
              <a:ext cx="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83080" y="4225680"/>
              <a:ext cx="32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94120" y="4225680"/>
              <a:ext cx="180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5520" y="4233600"/>
              <a:ext cx="14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8000" y="4225680"/>
              <a:ext cx="50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24360" y="4233600"/>
              <a:ext cx="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31080" y="4233600"/>
              <a:ext cx="14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38880" y="4233600"/>
              <a:ext cx="32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2080" y="38098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9960" y="38718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61960" y="481140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0120" y="481140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398760" y="4655520"/>
              <a:ext cx="1800" cy="1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68760"/>
              <a:ext cx="54000" cy="1062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104"/>
                  </a:moveTo>
                  <a:lnTo>
                    <a:pt x="29" y="0"/>
                  </a:lnTo>
                  <a:lnTo>
                    <a:pt x="0" y="104"/>
                  </a:lnTo>
                  <a:lnTo>
                    <a:pt x="57" y="104"/>
                  </a:lnTo>
                  <a:lnTo>
                    <a:pt x="5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75320" y="4660920"/>
              <a:ext cx="0" cy="126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8320" y="4573440"/>
              <a:ext cx="54000" cy="1062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104"/>
                  </a:moveTo>
                  <a:lnTo>
                    <a:pt x="28" y="0"/>
                  </a:lnTo>
                  <a:lnTo>
                    <a:pt x="0" y="104"/>
                  </a:lnTo>
                  <a:lnTo>
                    <a:pt x="57" y="104"/>
                  </a:lnTo>
                  <a:lnTo>
                    <a:pt x="5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41655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8080" y="41655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846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97F-1C20-4E58-81A7-CA590A6109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Recei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window siz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frame acceptab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frame receiv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cumulative A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7720" y="3117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08960" y="3276720"/>
            <a:ext cx="4802040" cy="1123920"/>
            <a:chOff x="2208960" y="3276720"/>
            <a:chExt cx="4802040" cy="1123920"/>
          </a:xfrm>
        </p:grpSpPr>
        <p:sp>
          <p:nvSpPr>
            <p:cNvPr id="289" name=""/>
            <p:cNvSpPr/>
            <p:nvPr/>
          </p:nvSpPr>
          <p:spPr>
            <a:xfrm>
              <a:off x="2556720" y="3762000"/>
              <a:ext cx="4015080" cy="224280"/>
            </a:xfrm>
            <a:custGeom>
              <a:avLst/>
              <a:gdLst/>
              <a:ahLst/>
              <a:rect l="l" t="t" r="r" b="b"/>
              <a:pathLst>
                <a:path w="4476" h="290">
                  <a:moveTo>
                    <a:pt x="58" y="0"/>
                  </a:moveTo>
                  <a:lnTo>
                    <a:pt x="4456" y="0"/>
                  </a:lnTo>
                  <a:lnTo>
                    <a:pt x="4384" y="68"/>
                  </a:lnTo>
                  <a:lnTo>
                    <a:pt x="4447" y="107"/>
                  </a:lnTo>
                  <a:lnTo>
                    <a:pt x="4403" y="140"/>
                  </a:lnTo>
                  <a:lnTo>
                    <a:pt x="4476" y="189"/>
                  </a:lnTo>
                  <a:lnTo>
                    <a:pt x="4413" y="222"/>
                  </a:lnTo>
                  <a:lnTo>
                    <a:pt x="4471" y="290"/>
                  </a:lnTo>
                  <a:lnTo>
                    <a:pt x="63" y="290"/>
                  </a:lnTo>
                  <a:lnTo>
                    <a:pt x="67" y="242"/>
                  </a:lnTo>
                  <a:lnTo>
                    <a:pt x="0" y="208"/>
                  </a:lnTo>
                  <a:lnTo>
                    <a:pt x="67" y="169"/>
                  </a:lnTo>
                  <a:lnTo>
                    <a:pt x="5" y="126"/>
                  </a:lnTo>
                  <a:lnTo>
                    <a:pt x="82" y="87"/>
                  </a:lnTo>
                  <a:lnTo>
                    <a:pt x="34" y="68"/>
                  </a:lnTo>
                  <a:lnTo>
                    <a:pt x="72" y="34"/>
                  </a:lnTo>
                  <a:lnTo>
                    <a:pt x="63" y="0"/>
                  </a:lnTo>
                  <a:lnTo>
                    <a:pt x="6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57880" y="3646080"/>
              <a:ext cx="2136600" cy="86760"/>
            </a:xfrm>
            <a:custGeom>
              <a:avLst/>
              <a:gdLst/>
              <a:ahLst/>
              <a:rect l="l" t="t" r="r" b="b"/>
              <a:pathLst>
                <a:path w="2383" h="112">
                  <a:moveTo>
                    <a:pt x="0" y="102"/>
                  </a:moveTo>
                  <a:lnTo>
                    <a:pt x="0" y="0"/>
                  </a:lnTo>
                  <a:lnTo>
                    <a:pt x="2383" y="0"/>
                  </a:lnTo>
                  <a:lnTo>
                    <a:pt x="2383" y="1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46600" y="3762000"/>
              <a:ext cx="144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2880" y="3753000"/>
              <a:ext cx="0" cy="222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57880" y="3762000"/>
              <a:ext cx="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46600" y="3753000"/>
              <a:ext cx="288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7200" y="3753000"/>
              <a:ext cx="14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3720" y="3758400"/>
              <a:ext cx="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7560" y="3758400"/>
              <a:ext cx="32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85000" y="3755160"/>
              <a:ext cx="0" cy="22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87400" y="3762000"/>
              <a:ext cx="180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1600" y="3758400"/>
              <a:ext cx="32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98680" y="3762000"/>
              <a:ext cx="180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3240" y="3758400"/>
              <a:ext cx="468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30440" y="327672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3600" y="338328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0920" y="4187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39240" y="418716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719160" y="4087440"/>
              <a:ext cx="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2160" y="4016160"/>
              <a:ext cx="52200" cy="8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8" y="111"/>
                  </a:moveTo>
                  <a:lnTo>
                    <a:pt x="29" y="0"/>
                  </a:lnTo>
                  <a:lnTo>
                    <a:pt x="0" y="111"/>
                  </a:lnTo>
                  <a:lnTo>
                    <a:pt x="58" y="111"/>
                  </a:lnTo>
                  <a:lnTo>
                    <a:pt x="5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43640" y="4089240"/>
              <a:ext cx="5040" cy="9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22760" y="4020120"/>
              <a:ext cx="50760" cy="8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3" y="106"/>
                  </a:moveTo>
                  <a:lnTo>
                    <a:pt x="29" y="0"/>
                  </a:lnTo>
                  <a:lnTo>
                    <a:pt x="0" y="111"/>
                  </a:lnTo>
                  <a:lnTo>
                    <a:pt x="58" y="111"/>
                  </a:lnTo>
                  <a:lnTo>
                    <a:pt x="58" y="111"/>
                  </a:lnTo>
                  <a:lnTo>
                    <a:pt x="5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8960" y="37108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41640" y="37108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52880" y="4952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5334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62A-B308-4B4C-A49D-A7F91704D7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ncoding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propagate over a physic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electromagne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va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binary data onto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0 as low signal and 1 as high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Non-Return to zero (NR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7920" y="4800600"/>
            <a:ext cx="6362640" cy="1120680"/>
            <a:chOff x="1447920" y="4800600"/>
            <a:chExt cx="6362640" cy="1120680"/>
          </a:xfrm>
        </p:grpSpPr>
        <p:sp>
          <p:nvSpPr>
            <p:cNvPr id="46" name=""/>
            <p:cNvSpPr/>
            <p:nvPr/>
          </p:nvSpPr>
          <p:spPr>
            <a:xfrm>
              <a:off x="1601640" y="4800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564660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669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179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71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63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696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165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592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102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594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100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592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088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594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086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596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88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5568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3160" y="510228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2360" y="5102280"/>
              <a:ext cx="61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508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220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05280" y="510228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240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160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54680" y="5102280"/>
              <a:ext cx="61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0532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52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3440" y="509904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94320" y="509904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3920" y="510228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6104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0412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6840" y="510228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98800" y="5457960"/>
              <a:ext cx="5711760" cy="350640"/>
            </a:xfrm>
            <a:custGeom>
              <a:avLst/>
              <a:gdLst/>
              <a:ahLst/>
              <a:rect l="l" t="t" r="r" b="b"/>
              <a:pathLst>
                <a:path w="3598" h="221">
                  <a:moveTo>
                    <a:pt x="3598" y="221"/>
                  </a:moveTo>
                  <a:lnTo>
                    <a:pt x="3346" y="221"/>
                  </a:lnTo>
                  <a:lnTo>
                    <a:pt x="3346" y="0"/>
                  </a:lnTo>
                  <a:lnTo>
                    <a:pt x="3126" y="0"/>
                  </a:lnTo>
                  <a:lnTo>
                    <a:pt x="3126" y="221"/>
                  </a:lnTo>
                  <a:lnTo>
                    <a:pt x="2240" y="221"/>
                  </a:lnTo>
                  <a:lnTo>
                    <a:pt x="2240" y="221"/>
                  </a:lnTo>
                  <a:lnTo>
                    <a:pt x="2240" y="0"/>
                  </a:lnTo>
                  <a:lnTo>
                    <a:pt x="2020" y="0"/>
                  </a:lnTo>
                  <a:lnTo>
                    <a:pt x="2020" y="221"/>
                  </a:lnTo>
                  <a:lnTo>
                    <a:pt x="1803" y="221"/>
                  </a:lnTo>
                  <a:lnTo>
                    <a:pt x="1803" y="221"/>
                  </a:lnTo>
                  <a:lnTo>
                    <a:pt x="1803" y="0"/>
                  </a:lnTo>
                  <a:lnTo>
                    <a:pt x="922" y="0"/>
                  </a:lnTo>
                  <a:lnTo>
                    <a:pt x="922" y="221"/>
                  </a:lnTo>
                  <a:lnTo>
                    <a:pt x="701" y="221"/>
                  </a:lnTo>
                  <a:lnTo>
                    <a:pt x="701" y="221"/>
                  </a:lnTo>
                  <a:lnTo>
                    <a:pt x="701" y="0"/>
                  </a:lnTo>
                  <a:lnTo>
                    <a:pt x="485" y="0"/>
                  </a:lnTo>
                  <a:lnTo>
                    <a:pt x="485" y="221"/>
                  </a:lnTo>
                  <a:lnTo>
                    <a:pt x="0" y="22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760-B3D5-4287-8FD9-24A46DE23A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quence Number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is finite; sequence numbers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must be larger then number of outstanding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qNu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3-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(0.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=RWS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transmit frame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 successfully, but ACK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transmit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expecting 7, 0..5, but receives second incarnation of 0.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SeqNum+1)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rrec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l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lides” between two halves of sequence numb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DDA-2063-4C81-AFC4-8D5FCD6E4F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urrent Logical Chann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 8 logical channels over a singl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top-and-wait on each logica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bits per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equence numb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equence numb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: 3-bit channel num, 1-bit sequence 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sliding window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abi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E96-EDA9-489D-A85A-0FBD2C3612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: Consecutive 1s or 0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signal (0) may be interpreted as n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ignal (1) leads to baseline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recover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4FF-9179-4501-ADEB-9D7338B70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Encoding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turn to Zero Inverted (NRZ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ransition from current signal to encode a one; stay at current signal to encode a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s the problem of consecutiv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XOR of the NRZ encoded data and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0%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9CC-48E7-4A48-9F5A-891BAA6195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B/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4 bits of data encoded in a 5-bi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it codes selected to have no more than one leading 0 and no more than two trailing 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 never get more than three consecutive 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5-bit codes are transmitted using NR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7B4-1B6B-4D7B-BD9B-B3B90BB5FC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720" y="2162160"/>
            <a:ext cx="7169760" cy="3210840"/>
            <a:chOff x="810720" y="2162160"/>
            <a:chExt cx="7169760" cy="3210840"/>
          </a:xfrm>
        </p:grpSpPr>
        <p:sp>
          <p:nvSpPr>
            <p:cNvPr id="90" name=""/>
            <p:cNvSpPr/>
            <p:nvPr/>
          </p:nvSpPr>
          <p:spPr>
            <a:xfrm>
              <a:off x="1666080" y="2162160"/>
              <a:ext cx="40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6240" y="298296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5320" y="371016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0720" y="437832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25600" y="508320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RZ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65400" y="4248000"/>
              <a:ext cx="369720" cy="355680"/>
            </a:xfrm>
            <a:custGeom>
              <a:avLst/>
              <a:gdLst/>
              <a:ahLst/>
              <a:rect l="l" t="t" r="r" b="b"/>
              <a:pathLst>
                <a:path w="233" h="224">
                  <a:moveTo>
                    <a:pt x="0" y="224"/>
                  </a:moveTo>
                  <a:lnTo>
                    <a:pt x="119" y="224"/>
                  </a:lnTo>
                  <a:lnTo>
                    <a:pt x="119" y="0"/>
                  </a:lnTo>
                  <a:lnTo>
                    <a:pt x="233" y="0"/>
                  </a:lnTo>
                  <a:lnTo>
                    <a:pt x="233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35120" y="4248000"/>
              <a:ext cx="1285920" cy="355680"/>
            </a:xfrm>
            <a:custGeom>
              <a:avLst/>
              <a:gdLst/>
              <a:ahLst/>
              <a:rect l="l" t="t" r="r" b="b"/>
              <a:pathLst>
                <a:path w="810" h="224">
                  <a:moveTo>
                    <a:pt x="806" y="224"/>
                  </a:moveTo>
                  <a:lnTo>
                    <a:pt x="810" y="0"/>
                  </a:lnTo>
                  <a:lnTo>
                    <a:pt x="572" y="0"/>
                  </a:lnTo>
                  <a:lnTo>
                    <a:pt x="572" y="224"/>
                  </a:lnTo>
                  <a:lnTo>
                    <a:pt x="343" y="224"/>
                  </a:lnTo>
                  <a:lnTo>
                    <a:pt x="343" y="224"/>
                  </a:lnTo>
                  <a:lnTo>
                    <a:pt x="343" y="0"/>
                  </a:lnTo>
                  <a:lnTo>
                    <a:pt x="115" y="0"/>
                  </a:lnTo>
                  <a:lnTo>
                    <a:pt x="115" y="224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14920" y="4248000"/>
              <a:ext cx="537840" cy="355680"/>
            </a:xfrm>
            <a:custGeom>
              <a:avLst/>
              <a:gdLst/>
              <a:ahLst/>
              <a:rect l="l" t="t" r="r" b="b"/>
              <a:pathLst>
                <a:path w="339" h="224">
                  <a:moveTo>
                    <a:pt x="0" y="224"/>
                  </a:moveTo>
                  <a:lnTo>
                    <a:pt x="110" y="224"/>
                  </a:lnTo>
                  <a:lnTo>
                    <a:pt x="110" y="0"/>
                  </a:lnTo>
                  <a:lnTo>
                    <a:pt x="224" y="0"/>
                  </a:lnTo>
                  <a:lnTo>
                    <a:pt x="224" y="224"/>
                  </a:lnTo>
                  <a:lnTo>
                    <a:pt x="339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2760" y="4248000"/>
              <a:ext cx="1263960" cy="355680"/>
            </a:xfrm>
            <a:custGeom>
              <a:avLst/>
              <a:gdLst/>
              <a:ahLst/>
              <a:rect l="l" t="t" r="r" b="b"/>
              <a:pathLst>
                <a:path w="796" h="224">
                  <a:moveTo>
                    <a:pt x="796" y="224"/>
                  </a:moveTo>
                  <a:lnTo>
                    <a:pt x="796" y="0"/>
                  </a:lnTo>
                  <a:lnTo>
                    <a:pt x="572" y="0"/>
                  </a:lnTo>
                  <a:lnTo>
                    <a:pt x="572" y="224"/>
                  </a:lnTo>
                  <a:lnTo>
                    <a:pt x="348" y="224"/>
                  </a:lnTo>
                  <a:lnTo>
                    <a:pt x="343" y="224"/>
                  </a:lnTo>
                  <a:lnTo>
                    <a:pt x="343" y="0"/>
                  </a:lnTo>
                  <a:lnTo>
                    <a:pt x="233" y="0"/>
                  </a:lnTo>
                  <a:lnTo>
                    <a:pt x="233" y="224"/>
                  </a:lnTo>
                  <a:lnTo>
                    <a:pt x="233" y="224"/>
                  </a:lnTo>
                  <a:lnTo>
                    <a:pt x="119" y="224"/>
                  </a:lnTo>
                  <a:lnTo>
                    <a:pt x="119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16720" y="4248000"/>
              <a:ext cx="741240" cy="355680"/>
            </a:xfrm>
            <a:custGeom>
              <a:avLst/>
              <a:gdLst/>
              <a:ahLst/>
              <a:rect l="l" t="t" r="r" b="b"/>
              <a:pathLst>
                <a:path w="467" h="224">
                  <a:moveTo>
                    <a:pt x="0" y="224"/>
                  </a:moveTo>
                  <a:lnTo>
                    <a:pt x="234" y="224"/>
                  </a:lnTo>
                  <a:lnTo>
                    <a:pt x="234" y="0"/>
                  </a:lnTo>
                  <a:lnTo>
                    <a:pt x="348" y="0"/>
                  </a:lnTo>
                  <a:lnTo>
                    <a:pt x="348" y="224"/>
                  </a:lnTo>
                  <a:lnTo>
                    <a:pt x="467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57960" y="4248000"/>
              <a:ext cx="1620720" cy="362160"/>
            </a:xfrm>
            <a:custGeom>
              <a:avLst/>
              <a:gdLst/>
              <a:ahLst/>
              <a:rect l="l" t="t" r="r" b="b"/>
              <a:pathLst>
                <a:path w="1021" h="228">
                  <a:moveTo>
                    <a:pt x="1021" y="228"/>
                  </a:moveTo>
                  <a:lnTo>
                    <a:pt x="1021" y="0"/>
                  </a:lnTo>
                  <a:lnTo>
                    <a:pt x="911" y="0"/>
                  </a:lnTo>
                  <a:lnTo>
                    <a:pt x="911" y="224"/>
                  </a:lnTo>
                  <a:lnTo>
                    <a:pt x="797" y="224"/>
                  </a:lnTo>
                  <a:lnTo>
                    <a:pt x="682" y="224"/>
                  </a:lnTo>
                  <a:lnTo>
                    <a:pt x="682" y="0"/>
                  </a:lnTo>
                  <a:lnTo>
                    <a:pt x="454" y="0"/>
                  </a:lnTo>
                  <a:lnTo>
                    <a:pt x="454" y="224"/>
                  </a:lnTo>
                  <a:lnTo>
                    <a:pt x="339" y="224"/>
                  </a:lnTo>
                  <a:lnTo>
                    <a:pt x="339" y="0"/>
                  </a:lnTo>
                  <a:lnTo>
                    <a:pt x="229" y="0"/>
                  </a:lnTo>
                  <a:lnTo>
                    <a:pt x="229" y="224"/>
                  </a:lnTo>
                  <a:lnTo>
                    <a:pt x="229" y="224"/>
                  </a:lnTo>
                  <a:lnTo>
                    <a:pt x="115" y="224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352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712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60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39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75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9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29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5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01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7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06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42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578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214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850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1880" y="2830680"/>
              <a:ext cx="5806800" cy="357120"/>
            </a:xfrm>
            <a:custGeom>
              <a:avLst/>
              <a:gdLst/>
              <a:ahLst/>
              <a:rect l="l" t="t" r="r" b="b"/>
              <a:pathLst>
                <a:path w="3658" h="225">
                  <a:moveTo>
                    <a:pt x="3658" y="225"/>
                  </a:moveTo>
                  <a:lnTo>
                    <a:pt x="3434" y="225"/>
                  </a:lnTo>
                  <a:lnTo>
                    <a:pt x="3434" y="0"/>
                  </a:lnTo>
                  <a:lnTo>
                    <a:pt x="3210" y="0"/>
                  </a:lnTo>
                  <a:lnTo>
                    <a:pt x="3210" y="225"/>
                  </a:lnTo>
                  <a:lnTo>
                    <a:pt x="2289" y="225"/>
                  </a:lnTo>
                  <a:lnTo>
                    <a:pt x="2289" y="0"/>
                  </a:lnTo>
                  <a:lnTo>
                    <a:pt x="2056" y="0"/>
                  </a:lnTo>
                  <a:lnTo>
                    <a:pt x="2056" y="225"/>
                  </a:lnTo>
                  <a:lnTo>
                    <a:pt x="1832" y="225"/>
                  </a:lnTo>
                  <a:lnTo>
                    <a:pt x="1832" y="225"/>
                  </a:lnTo>
                  <a:lnTo>
                    <a:pt x="1832" y="0"/>
                  </a:lnTo>
                  <a:lnTo>
                    <a:pt x="920" y="0"/>
                  </a:lnTo>
                  <a:lnTo>
                    <a:pt x="920" y="225"/>
                  </a:lnTo>
                  <a:lnTo>
                    <a:pt x="687" y="225"/>
                  </a:lnTo>
                  <a:lnTo>
                    <a:pt x="687" y="225"/>
                  </a:lnTo>
                  <a:lnTo>
                    <a:pt x="687" y="0"/>
                  </a:lnTo>
                  <a:lnTo>
                    <a:pt x="463" y="0"/>
                  </a:lnTo>
                  <a:lnTo>
                    <a:pt x="463" y="225"/>
                  </a:lnTo>
                  <a:lnTo>
                    <a:pt x="0" y="22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65400" y="4930920"/>
              <a:ext cx="5813280" cy="363240"/>
            </a:xfrm>
            <a:custGeom>
              <a:avLst/>
              <a:gdLst/>
              <a:ahLst/>
              <a:rect l="l" t="t" r="r" b="b"/>
              <a:pathLst>
                <a:path w="3662" h="229">
                  <a:moveTo>
                    <a:pt x="3662" y="0"/>
                  </a:moveTo>
                  <a:lnTo>
                    <a:pt x="3328" y="0"/>
                  </a:lnTo>
                  <a:lnTo>
                    <a:pt x="3328" y="229"/>
                  </a:lnTo>
                  <a:lnTo>
                    <a:pt x="2179" y="229"/>
                  </a:lnTo>
                  <a:lnTo>
                    <a:pt x="2179" y="0"/>
                  </a:lnTo>
                  <a:lnTo>
                    <a:pt x="1726" y="0"/>
                  </a:lnTo>
                  <a:lnTo>
                    <a:pt x="1726" y="229"/>
                  </a:lnTo>
                  <a:lnTo>
                    <a:pt x="1497" y="229"/>
                  </a:lnTo>
                  <a:lnTo>
                    <a:pt x="1497" y="0"/>
                  </a:lnTo>
                  <a:lnTo>
                    <a:pt x="1263" y="0"/>
                  </a:lnTo>
                  <a:lnTo>
                    <a:pt x="1263" y="229"/>
                  </a:lnTo>
                  <a:lnTo>
                    <a:pt x="1039" y="229"/>
                  </a:lnTo>
                  <a:lnTo>
                    <a:pt x="1039" y="0"/>
                  </a:lnTo>
                  <a:lnTo>
                    <a:pt x="586" y="0"/>
                  </a:lnTo>
                  <a:lnTo>
                    <a:pt x="586" y="229"/>
                  </a:lnTo>
                  <a:lnTo>
                    <a:pt x="467" y="229"/>
                  </a:lnTo>
                  <a:lnTo>
                    <a:pt x="0" y="2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540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5120" y="357984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87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623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59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81600" y="3579840"/>
              <a:ext cx="37116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2760" y="3579840"/>
              <a:ext cx="37008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1636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79960" y="3579840"/>
              <a:ext cx="355680" cy="3618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4" y="0"/>
                  </a:lnTo>
                  <a:lnTo>
                    <a:pt x="22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3564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924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2840" y="3579840"/>
              <a:ext cx="377640" cy="361800"/>
            </a:xfrm>
            <a:custGeom>
              <a:avLst/>
              <a:gdLst/>
              <a:ahLst/>
              <a:rect l="l" t="t" r="r" b="b"/>
              <a:pathLst>
                <a:path w="238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8" y="0"/>
                  </a:lnTo>
                  <a:lnTo>
                    <a:pt x="238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0480" y="3579840"/>
              <a:ext cx="355680" cy="3618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24" y="0"/>
                  </a:lnTo>
                  <a:lnTo>
                    <a:pt x="22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96160" y="357984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5" y="228"/>
                  </a:lnTo>
                  <a:lnTo>
                    <a:pt x="115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59760" y="3579840"/>
              <a:ext cx="36324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508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5400" y="2475000"/>
              <a:ext cx="648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3512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8160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27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360" y="2475000"/>
              <a:ext cx="648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99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564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9240" y="2475000"/>
              <a:ext cx="61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689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3256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9616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5976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508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78680" y="2475000"/>
              <a:ext cx="1800" cy="287640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872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232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592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6C1-D74A-4D99-B488-5860A157B0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sequence of bits into a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implemented by network 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3276720"/>
            <a:ext cx="7067520" cy="2394000"/>
            <a:chOff x="990720" y="3276720"/>
            <a:chExt cx="7067520" cy="2394000"/>
          </a:xfrm>
        </p:grpSpPr>
        <p:sp>
          <p:nvSpPr>
            <p:cNvPr id="155" name=""/>
            <p:cNvSpPr/>
            <p:nvPr/>
          </p:nvSpPr>
          <p:spPr>
            <a:xfrm>
              <a:off x="3337200" y="4075200"/>
              <a:ext cx="2311200" cy="1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3276720"/>
              <a:ext cx="1752840" cy="1569960"/>
            </a:xfrm>
            <a:custGeom>
              <a:avLst/>
              <a:gdLst/>
              <a:ahLst/>
              <a:rect l="l" t="t" r="r" b="b"/>
              <a:pathLst>
                <a:path w="1170" h="989">
                  <a:moveTo>
                    <a:pt x="0" y="0"/>
                  </a:moveTo>
                  <a:lnTo>
                    <a:pt x="1170" y="4"/>
                  </a:lnTo>
                  <a:lnTo>
                    <a:pt x="1170" y="989"/>
                  </a:lnTo>
                  <a:lnTo>
                    <a:pt x="0" y="989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5880" y="3762360"/>
              <a:ext cx="1117800" cy="623880"/>
            </a:xfrm>
            <a:custGeom>
              <a:avLst/>
              <a:gdLst/>
              <a:ahLst/>
              <a:rect l="l" t="t" r="r" b="b"/>
              <a:pathLst>
                <a:path w="704" h="393">
                  <a:moveTo>
                    <a:pt x="0" y="0"/>
                  </a:moveTo>
                  <a:lnTo>
                    <a:pt x="704" y="0"/>
                  </a:lnTo>
                  <a:lnTo>
                    <a:pt x="704" y="393"/>
                  </a:lnTo>
                  <a:lnTo>
                    <a:pt x="0" y="3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01000" y="3289320"/>
              <a:ext cx="1857240" cy="1569960"/>
            </a:xfrm>
            <a:custGeom>
              <a:avLst/>
              <a:gdLst/>
              <a:ahLst/>
              <a:rect l="l" t="t" r="r" b="b"/>
              <a:pathLst>
                <a:path w="1170" h="989">
                  <a:moveTo>
                    <a:pt x="1170" y="0"/>
                  </a:moveTo>
                  <a:lnTo>
                    <a:pt x="0" y="4"/>
                  </a:lnTo>
                  <a:lnTo>
                    <a:pt x="0" y="989"/>
                  </a:lnTo>
                  <a:lnTo>
                    <a:pt x="1170" y="989"/>
                  </a:lnTo>
                  <a:lnTo>
                    <a:pt x="1170" y="4"/>
                  </a:lnTo>
                  <a:lnTo>
                    <a:pt x="117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2280" y="3762360"/>
              <a:ext cx="1116000" cy="623880"/>
            </a:xfrm>
            <a:custGeom>
              <a:avLst/>
              <a:gdLst/>
              <a:ahLst/>
              <a:rect l="l" t="t" r="r" b="b"/>
              <a:pathLst>
                <a:path w="703" h="393">
                  <a:moveTo>
                    <a:pt x="0" y="0"/>
                  </a:moveTo>
                  <a:lnTo>
                    <a:pt x="703" y="0"/>
                  </a:lnTo>
                  <a:lnTo>
                    <a:pt x="703" y="393"/>
                  </a:lnTo>
                  <a:lnTo>
                    <a:pt x="0" y="3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2240" y="548820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48880" y="548820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2240" y="5540400"/>
              <a:ext cx="14904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94" y="0"/>
                  </a:moveTo>
                  <a:lnTo>
                    <a:pt x="0" y="25"/>
                  </a:lnTo>
                  <a:lnTo>
                    <a:pt x="94" y="4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3000" y="5540400"/>
              <a:ext cx="14940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9"/>
                  </a:moveTo>
                  <a:lnTo>
                    <a:pt x="94" y="25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92600" y="5580360"/>
              <a:ext cx="505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1040" y="5267520"/>
              <a:ext cx="73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ram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040" y="3768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6160" y="392436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ap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04280" y="392436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ap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0200" y="39243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76040" y="39243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6AA-36A5-42F6-97B1-4E7B76D32C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e frame with  special pattern: 0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HDLC, SDLC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pecial pattern appears in th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: insert 0 after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: delete 0 that follows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86000" y="3200400"/>
            <a:ext cx="5003640" cy="685800"/>
            <a:chOff x="2286000" y="3200400"/>
            <a:chExt cx="5003640" cy="685800"/>
          </a:xfrm>
        </p:grpSpPr>
        <p:sp>
          <p:nvSpPr>
            <p:cNvPr id="174" name=""/>
            <p:cNvSpPr/>
            <p:nvPr/>
          </p:nvSpPr>
          <p:spPr>
            <a:xfrm>
              <a:off x="5462640" y="3446640"/>
              <a:ext cx="361800" cy="425160"/>
            </a:xfrm>
            <a:custGeom>
              <a:avLst/>
              <a:gdLst/>
              <a:ahLst/>
              <a:rect l="l" t="t" r="r" b="b"/>
              <a:pathLst>
                <a:path w="326" h="447">
                  <a:moveTo>
                    <a:pt x="63" y="447"/>
                  </a:moveTo>
                  <a:lnTo>
                    <a:pt x="326" y="447"/>
                  </a:lnTo>
                  <a:lnTo>
                    <a:pt x="326" y="0"/>
                  </a:lnTo>
                  <a:lnTo>
                    <a:pt x="63" y="0"/>
                  </a:lnTo>
                  <a:lnTo>
                    <a:pt x="0" y="147"/>
                  </a:lnTo>
                  <a:lnTo>
                    <a:pt x="142" y="147"/>
                  </a:lnTo>
                  <a:lnTo>
                    <a:pt x="63" y="447"/>
                  </a:lnTo>
                  <a:lnTo>
                    <a:pt x="63" y="4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2640" y="3446640"/>
              <a:ext cx="361800" cy="425160"/>
            </a:xfrm>
            <a:custGeom>
              <a:avLst/>
              <a:gdLst/>
              <a:ahLst/>
              <a:rect l="l" t="t" r="r" b="b"/>
              <a:pathLst>
                <a:path w="326" h="447">
                  <a:moveTo>
                    <a:pt x="63" y="447"/>
                  </a:moveTo>
                  <a:lnTo>
                    <a:pt x="326" y="447"/>
                  </a:lnTo>
                  <a:lnTo>
                    <a:pt x="326" y="0"/>
                  </a:lnTo>
                  <a:lnTo>
                    <a:pt x="63" y="0"/>
                  </a:lnTo>
                  <a:lnTo>
                    <a:pt x="0" y="147"/>
                  </a:lnTo>
                  <a:lnTo>
                    <a:pt x="142" y="147"/>
                  </a:lnTo>
                  <a:lnTo>
                    <a:pt x="63" y="447"/>
                  </a:lnTo>
                  <a:lnTo>
                    <a:pt x="63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40080" y="3446640"/>
              <a:ext cx="1292400" cy="425160"/>
            </a:xfrm>
            <a:custGeom>
              <a:avLst/>
              <a:gdLst/>
              <a:ahLst/>
              <a:rect l="l" t="t" r="r" b="b"/>
              <a:pathLst>
                <a:path w="1168" h="447">
                  <a:moveTo>
                    <a:pt x="1094" y="447"/>
                  </a:moveTo>
                  <a:lnTo>
                    <a:pt x="0" y="447"/>
                  </a:lnTo>
                  <a:lnTo>
                    <a:pt x="0" y="0"/>
                  </a:lnTo>
                  <a:lnTo>
                    <a:pt x="1094" y="0"/>
                  </a:lnTo>
                  <a:lnTo>
                    <a:pt x="1010" y="205"/>
                  </a:lnTo>
                  <a:lnTo>
                    <a:pt x="1168" y="205"/>
                  </a:lnTo>
                  <a:lnTo>
                    <a:pt x="1094" y="447"/>
                  </a:lnTo>
                  <a:lnTo>
                    <a:pt x="1094" y="4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0080" y="3446640"/>
              <a:ext cx="1292400" cy="425160"/>
            </a:xfrm>
            <a:custGeom>
              <a:avLst/>
              <a:gdLst/>
              <a:ahLst/>
              <a:rect l="l" t="t" r="r" b="b"/>
              <a:pathLst>
                <a:path w="1168" h="447">
                  <a:moveTo>
                    <a:pt x="1094" y="447"/>
                  </a:moveTo>
                  <a:lnTo>
                    <a:pt x="0" y="447"/>
                  </a:lnTo>
                  <a:lnTo>
                    <a:pt x="0" y="0"/>
                  </a:lnTo>
                  <a:lnTo>
                    <a:pt x="1094" y="0"/>
                  </a:lnTo>
                  <a:lnTo>
                    <a:pt x="1010" y="205"/>
                  </a:lnTo>
                  <a:lnTo>
                    <a:pt x="1168" y="205"/>
                  </a:lnTo>
                  <a:lnTo>
                    <a:pt x="1094" y="447"/>
                  </a:lnTo>
                  <a:lnTo>
                    <a:pt x="1094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48080" y="3551400"/>
              <a:ext cx="58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7720" y="355140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0" y="3446640"/>
              <a:ext cx="1954080" cy="425160"/>
            </a:xfrm>
            <a:custGeom>
              <a:avLst/>
              <a:gdLst/>
              <a:ahLst/>
              <a:rect l="l" t="t" r="r" b="b"/>
              <a:pathLst>
                <a:path w="1767" h="447">
                  <a:moveTo>
                    <a:pt x="1762" y="0"/>
                  </a:moveTo>
                  <a:lnTo>
                    <a:pt x="0" y="0"/>
                  </a:lnTo>
                  <a:lnTo>
                    <a:pt x="0" y="447"/>
                  </a:lnTo>
                  <a:lnTo>
                    <a:pt x="1767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4440" y="3446640"/>
              <a:ext cx="1465200" cy="425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1480" y="3429000"/>
              <a:ext cx="0" cy="457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74920" y="3441600"/>
              <a:ext cx="4680" cy="430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15480" y="3200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7160" y="3200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6920" y="3205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0200" y="320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70880" y="355140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47560" y="34653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gi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46120" y="363708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81720" y="346536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9920" y="363204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82E-179D-4C5C-9ED6-4B6AC17635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payload length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D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unt field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catch when CRC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02F11" descr=""/>
          <p:cNvPicPr/>
          <p:nvPr/>
        </p:nvPicPr>
        <p:blipFill>
          <a:blip r:embed="rId1"/>
          <a:stretch/>
        </p:blipFill>
        <p:spPr>
          <a:xfrm>
            <a:off x="2514600" y="3427560"/>
            <a:ext cx="50785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920-678E-4C68-A249-3374ED9D60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5T20:31:16Z</dcterms:created>
  <dc:creator>klp</dc:creator>
  <dc:description/>
  <dc:language>en-US</dc:language>
  <cp:lastModifiedBy>Larry Peterson</cp:lastModifiedBy>
  <dcterms:modified xsi:type="dcterms:W3CDTF">2000-01-31T14:20:42Z</dcterms:modified>
  <cp:revision>15</cp:revision>
  <dc:subject/>
  <dc:title>Point-to-Point Links</dc:title>
</cp:coreProperties>
</file>