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9FE-EA5D-4264-BA58-2A85884A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3A7-B748-4F6C-A128-3B1C3AFB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0EB-DA46-4A1F-A78D-790170BD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667-0757-4D39-AECF-1D630F1D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09E-CBB4-4671-BD62-E18A9DF4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6E7-8D6D-4F51-9205-F951076C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4B2-4CEE-4F2B-AA86-0BD36D0D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685-837A-4B4E-913D-E7A01DBF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551-3952-43DE-8FC3-6214CC53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A99-88B2-45DD-BD0C-F0612C0D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E0E-8B37-4BAE-A093-6E1AD5E5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131-D41E-4BF1-9215-251638DF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B46B-319F-4D38-84F4-30107AB1D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hared Access Networ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19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 (Ether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ring (FD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(802.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7C0-2A12-4E03-99C3-6DCC1804DC7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easures TRT between successive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asured-TRT &gt; TTRT: token is late so don’t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asured-TRT &lt; TTRT: token is early so OK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lasses of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: can always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: can send only if token is 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se case: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RT between seei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-to-back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RT rotations not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99B-33EF-4DA3-8EFD-3C2DCCF796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Mainten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oken when initializing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error corrupts toke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holding token cr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ng a Token (and agreeing on T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when join ring or suspect a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im 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includes the node’s TT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eceive claim frame, update the bid and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claim frame makes it all the way around the 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id was the lo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knows TT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insert new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F8D-0B5E-4FB5-876D-271ABB1473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intenance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(cont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ing for a Valid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periodically see valid transmission (frame or t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gap = ring latency  + max frame &lt; = 2.5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imer at 2.5ms and send claim frame if it f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369-3DD1-4AEB-BBF5-8E10E7461D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LA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: 1 or 2 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pectrum radio (2.4G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d infrared (1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D3D-B22A-40DA-B8A8-DB92069E48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read Spectru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ignal over wider frequency band than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deigned to thwart j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H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over random sequence of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and receiver sh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eudorandom number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uses 7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MHz-wide frequency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AB4-A822-4ECC-BDE0-F588947C70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read Spectru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bit, send XOR of that bi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dom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known to both sender and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ipping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defines an 11-bit chipp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5080" y="4038480"/>
            <a:ext cx="7774560" cy="1774440"/>
            <a:chOff x="685080" y="4038480"/>
            <a:chExt cx="7774560" cy="1774440"/>
          </a:xfrm>
        </p:grpSpPr>
        <p:sp>
          <p:nvSpPr>
            <p:cNvPr id="171" name=""/>
            <p:cNvSpPr/>
            <p:nvPr/>
          </p:nvSpPr>
          <p:spPr>
            <a:xfrm>
              <a:off x="835560" y="4094280"/>
              <a:ext cx="4392720" cy="329040"/>
            </a:xfrm>
            <a:custGeom>
              <a:avLst/>
              <a:gdLst/>
              <a:ahLst/>
              <a:rect l="l" t="t" r="r" b="b"/>
              <a:pathLst>
                <a:path w="3079" h="253">
                  <a:moveTo>
                    <a:pt x="0" y="249"/>
                  </a:moveTo>
                  <a:lnTo>
                    <a:pt x="0" y="0"/>
                  </a:lnTo>
                  <a:lnTo>
                    <a:pt x="771" y="0"/>
                  </a:lnTo>
                  <a:lnTo>
                    <a:pt x="771" y="253"/>
                  </a:lnTo>
                  <a:lnTo>
                    <a:pt x="1540" y="253"/>
                  </a:lnTo>
                  <a:lnTo>
                    <a:pt x="1540" y="0"/>
                  </a:lnTo>
                  <a:lnTo>
                    <a:pt x="2311" y="0"/>
                  </a:lnTo>
                  <a:lnTo>
                    <a:pt x="2311" y="253"/>
                  </a:lnTo>
                  <a:lnTo>
                    <a:pt x="3079" y="253"/>
                  </a:lnTo>
                  <a:lnTo>
                    <a:pt x="3079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5560" y="4752000"/>
              <a:ext cx="4392720" cy="329040"/>
            </a:xfrm>
            <a:custGeom>
              <a:avLst/>
              <a:gdLst/>
              <a:ahLst/>
              <a:rect l="l" t="t" r="r" b="b"/>
              <a:pathLst>
                <a:path w="3079" h="253">
                  <a:moveTo>
                    <a:pt x="0" y="250"/>
                  </a:moveTo>
                  <a:lnTo>
                    <a:pt x="192" y="253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253"/>
                  </a:lnTo>
                  <a:lnTo>
                    <a:pt x="771" y="253"/>
                  </a:lnTo>
                  <a:lnTo>
                    <a:pt x="771" y="0"/>
                  </a:lnTo>
                  <a:lnTo>
                    <a:pt x="963" y="0"/>
                  </a:lnTo>
                  <a:lnTo>
                    <a:pt x="963" y="253"/>
                  </a:lnTo>
                  <a:lnTo>
                    <a:pt x="1155" y="253"/>
                  </a:lnTo>
                  <a:lnTo>
                    <a:pt x="1155" y="0"/>
                  </a:lnTo>
                  <a:lnTo>
                    <a:pt x="1540" y="0"/>
                  </a:lnTo>
                  <a:lnTo>
                    <a:pt x="1540" y="253"/>
                  </a:lnTo>
                  <a:lnTo>
                    <a:pt x="1732" y="253"/>
                  </a:lnTo>
                  <a:lnTo>
                    <a:pt x="1732" y="0"/>
                  </a:lnTo>
                  <a:lnTo>
                    <a:pt x="1924" y="0"/>
                  </a:lnTo>
                  <a:lnTo>
                    <a:pt x="1924" y="253"/>
                  </a:lnTo>
                  <a:lnTo>
                    <a:pt x="2116" y="253"/>
                  </a:lnTo>
                  <a:lnTo>
                    <a:pt x="2116" y="0"/>
                  </a:lnTo>
                  <a:lnTo>
                    <a:pt x="2503" y="0"/>
                  </a:lnTo>
                  <a:lnTo>
                    <a:pt x="2503" y="253"/>
                  </a:lnTo>
                  <a:lnTo>
                    <a:pt x="2887" y="253"/>
                  </a:lnTo>
                  <a:lnTo>
                    <a:pt x="2887" y="0"/>
                  </a:lnTo>
                  <a:lnTo>
                    <a:pt x="3079" y="0"/>
                  </a:lnTo>
                  <a:lnTo>
                    <a:pt x="3079" y="25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5560" y="5410800"/>
              <a:ext cx="4392720" cy="329400"/>
            </a:xfrm>
            <a:custGeom>
              <a:avLst/>
              <a:gdLst/>
              <a:ahLst/>
              <a:rect l="l" t="t" r="r" b="b"/>
              <a:pathLst>
                <a:path w="3079" h="253">
                  <a:moveTo>
                    <a:pt x="0" y="249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253"/>
                  </a:lnTo>
                  <a:lnTo>
                    <a:pt x="384" y="253"/>
                  </a:lnTo>
                  <a:lnTo>
                    <a:pt x="384" y="0"/>
                  </a:lnTo>
                  <a:lnTo>
                    <a:pt x="771" y="0"/>
                  </a:lnTo>
                  <a:lnTo>
                    <a:pt x="963" y="0"/>
                  </a:lnTo>
                  <a:lnTo>
                    <a:pt x="963" y="253"/>
                  </a:lnTo>
                  <a:lnTo>
                    <a:pt x="1155" y="253"/>
                  </a:lnTo>
                  <a:lnTo>
                    <a:pt x="1155" y="0"/>
                  </a:lnTo>
                  <a:lnTo>
                    <a:pt x="1540" y="0"/>
                  </a:lnTo>
                  <a:lnTo>
                    <a:pt x="1732" y="0"/>
                  </a:lnTo>
                  <a:lnTo>
                    <a:pt x="1732" y="253"/>
                  </a:lnTo>
                  <a:lnTo>
                    <a:pt x="1924" y="253"/>
                  </a:lnTo>
                  <a:lnTo>
                    <a:pt x="1924" y="0"/>
                  </a:lnTo>
                  <a:lnTo>
                    <a:pt x="2116" y="0"/>
                  </a:lnTo>
                  <a:lnTo>
                    <a:pt x="2116" y="253"/>
                  </a:lnTo>
                  <a:lnTo>
                    <a:pt x="2311" y="253"/>
                  </a:lnTo>
                  <a:lnTo>
                    <a:pt x="2311" y="0"/>
                  </a:lnTo>
                  <a:lnTo>
                    <a:pt x="2503" y="0"/>
                  </a:lnTo>
                  <a:lnTo>
                    <a:pt x="2503" y="253"/>
                  </a:lnTo>
                  <a:lnTo>
                    <a:pt x="2887" y="253"/>
                  </a:lnTo>
                  <a:lnTo>
                    <a:pt x="2887" y="0"/>
                  </a:lnTo>
                  <a:lnTo>
                    <a:pt x="3079" y="0"/>
                  </a:lnTo>
                  <a:lnTo>
                    <a:pt x="3079" y="25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76880" y="4942080"/>
              <a:ext cx="318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ndom sequence: 0100101101011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81560" y="4282920"/>
              <a:ext cx="146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stream: 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7240" y="5599440"/>
              <a:ext cx="289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OR of the two: 1011101110101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5080" y="4942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080" y="559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080" y="4282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080" y="5354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080" y="469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080" y="4038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F36-1913-437D-972A-D5ABC452D0B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llisions Avoid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o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E02F38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753000" cy="26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9F2-6479-44C5-9F52-9DD8039D95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CA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transmi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questToS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TS)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repli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earToS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TS)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ghbo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TS: keep qu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RTS but not CTS: ok to 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 sends ACK when has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s silent until see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llisions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when don’t receive 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E75-09D9-4A58-8872-364DA0075C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pporting Mobilit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 h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t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ss po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th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mobile node associates with an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E02F39" descr=""/>
          <p:cNvPicPr/>
          <p:nvPr/>
        </p:nvPicPr>
        <p:blipFill>
          <a:blip r:embed="rId1"/>
          <a:stretch/>
        </p:blipFill>
        <p:spPr>
          <a:xfrm>
            <a:off x="1828800" y="3124080"/>
            <a:ext cx="5465880" cy="31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884-32B3-405D-A61F-78FDCA4212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obilit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ing (selecting an 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send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P’s w/in reach reply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be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selects one AP; sends 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ociateRequ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repli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ociation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AP informs old AP via tethe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: when join or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: AP periodically send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a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AFF-107B-48AF-B60D-F8EC03E56F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thernet 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by Xerox PARC in mid-197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s in Aloha packet-radio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by Xerox, DEC, and Intel in 1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IEEE 802.3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MA/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05120" y="5153040"/>
            <a:ext cx="5638680" cy="931680"/>
            <a:chOff x="1905120" y="5153040"/>
            <a:chExt cx="5638680" cy="931680"/>
          </a:xfrm>
        </p:grpSpPr>
        <p:sp>
          <p:nvSpPr>
            <p:cNvPr id="46" name=""/>
            <p:cNvSpPr/>
            <p:nvPr/>
          </p:nvSpPr>
          <p:spPr>
            <a:xfrm>
              <a:off x="6732720" y="5478480"/>
              <a:ext cx="241200" cy="581040"/>
            </a:xfrm>
            <a:custGeom>
              <a:avLst/>
              <a:gdLst/>
              <a:ahLst/>
              <a:rect l="l" t="t" r="r" b="b"/>
              <a:pathLst>
                <a:path w="200" h="448">
                  <a:moveTo>
                    <a:pt x="63" y="448"/>
                  </a:moveTo>
                  <a:lnTo>
                    <a:pt x="200" y="448"/>
                  </a:lnTo>
                  <a:lnTo>
                    <a:pt x="200" y="0"/>
                  </a:lnTo>
                  <a:lnTo>
                    <a:pt x="63" y="0"/>
                  </a:lnTo>
                  <a:lnTo>
                    <a:pt x="0" y="148"/>
                  </a:lnTo>
                  <a:lnTo>
                    <a:pt x="142" y="148"/>
                  </a:lnTo>
                  <a:lnTo>
                    <a:pt x="63" y="448"/>
                  </a:lnTo>
                  <a:lnTo>
                    <a:pt x="63" y="44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32720" y="5478480"/>
              <a:ext cx="241200" cy="581040"/>
            </a:xfrm>
            <a:custGeom>
              <a:avLst/>
              <a:gdLst/>
              <a:ahLst/>
              <a:rect l="l" t="t" r="r" b="b"/>
              <a:pathLst>
                <a:path w="200" h="448">
                  <a:moveTo>
                    <a:pt x="63" y="448"/>
                  </a:moveTo>
                  <a:lnTo>
                    <a:pt x="200" y="448"/>
                  </a:lnTo>
                  <a:lnTo>
                    <a:pt x="200" y="0"/>
                  </a:lnTo>
                  <a:lnTo>
                    <a:pt x="63" y="0"/>
                  </a:lnTo>
                  <a:lnTo>
                    <a:pt x="0" y="148"/>
                  </a:lnTo>
                  <a:lnTo>
                    <a:pt x="142" y="148"/>
                  </a:lnTo>
                  <a:lnTo>
                    <a:pt x="63" y="448"/>
                  </a:lnTo>
                  <a:lnTo>
                    <a:pt x="63" y="44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3440" y="5478480"/>
              <a:ext cx="1065240" cy="581040"/>
            </a:xfrm>
            <a:custGeom>
              <a:avLst/>
              <a:gdLst/>
              <a:ahLst/>
              <a:rect l="l" t="t" r="r" b="b"/>
              <a:pathLst>
                <a:path w="884" h="448">
                  <a:moveTo>
                    <a:pt x="811" y="448"/>
                  </a:moveTo>
                  <a:lnTo>
                    <a:pt x="0" y="448"/>
                  </a:lnTo>
                  <a:lnTo>
                    <a:pt x="0" y="0"/>
                  </a:lnTo>
                  <a:lnTo>
                    <a:pt x="811" y="0"/>
                  </a:lnTo>
                  <a:lnTo>
                    <a:pt x="726" y="201"/>
                  </a:lnTo>
                  <a:lnTo>
                    <a:pt x="884" y="201"/>
                  </a:lnTo>
                  <a:lnTo>
                    <a:pt x="811" y="448"/>
                  </a:lnTo>
                  <a:lnTo>
                    <a:pt x="811" y="44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43440" y="5478480"/>
              <a:ext cx="1065240" cy="581040"/>
            </a:xfrm>
            <a:custGeom>
              <a:avLst/>
              <a:gdLst/>
              <a:ahLst/>
              <a:rect l="l" t="t" r="r" b="b"/>
              <a:pathLst>
                <a:path w="884" h="448">
                  <a:moveTo>
                    <a:pt x="811" y="448"/>
                  </a:moveTo>
                  <a:lnTo>
                    <a:pt x="0" y="448"/>
                  </a:lnTo>
                  <a:lnTo>
                    <a:pt x="0" y="0"/>
                  </a:lnTo>
                  <a:lnTo>
                    <a:pt x="811" y="0"/>
                  </a:lnTo>
                  <a:lnTo>
                    <a:pt x="726" y="201"/>
                  </a:lnTo>
                  <a:lnTo>
                    <a:pt x="884" y="201"/>
                  </a:lnTo>
                  <a:lnTo>
                    <a:pt x="811" y="448"/>
                  </a:lnTo>
                  <a:lnTo>
                    <a:pt x="811" y="44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36840" y="552132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37200" y="57513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05120" y="5478480"/>
              <a:ext cx="5638680" cy="581040"/>
            </a:xfrm>
            <a:custGeom>
              <a:avLst/>
              <a:gdLst/>
              <a:ahLst/>
              <a:rect l="l" t="t" r="r" b="b"/>
              <a:pathLst>
                <a:path w="4684" h="448">
                  <a:moveTo>
                    <a:pt x="4684" y="448"/>
                  </a:moveTo>
                  <a:lnTo>
                    <a:pt x="4684" y="0"/>
                  </a:lnTo>
                  <a:lnTo>
                    <a:pt x="0" y="0"/>
                  </a:lnTo>
                  <a:lnTo>
                    <a:pt x="0" y="448"/>
                  </a:lnTo>
                  <a:lnTo>
                    <a:pt x="4684" y="448"/>
                  </a:lnTo>
                  <a:lnTo>
                    <a:pt x="4684" y="44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32280" y="5478480"/>
              <a:ext cx="1440" cy="58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87800" y="5511960"/>
              <a:ext cx="6480" cy="572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43440" y="5478480"/>
              <a:ext cx="1800" cy="58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052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3692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3736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37640" y="5622840"/>
              <a:ext cx="49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32920" y="5622840"/>
              <a:ext cx="9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am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17480" y="551196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18200" y="576108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4680" y="5511960"/>
              <a:ext cx="6120" cy="572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05520" y="562284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22800" y="562284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780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243-DB89-414B-818F-C6ED311EA8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therne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, 48-bit unicast address assigned to each 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:0:e4:b1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: 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: first bit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: 10Mbps, 100Mbps, 1G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: 2500m (500m segments with 4 repea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Distributed algorithm that provides fai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DE8-4DA6-4A1F-84F9-948F6AF1B4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ransmit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ine is id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bound message size of 15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wait 9.6us between back-to-back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ine is bus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until idle and transmit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persisten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ecial cas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persis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20C-8B7B-44E9-9912-F6D2643ACF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llis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 for 32 bits, then stop transmitting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frame is 64 bytes (header + 46 bytes of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and 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st time: 0 or 51.2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time: 0, 51.2, or 102.4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rd time51.2, 102.4, or 153.6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1.2us, for randomly selec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.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up after several tries (usually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E1C-CCDB-4309-A7AA-66C8284165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llis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73400" y="2422440"/>
            <a:ext cx="42084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73360" y="2392200"/>
            <a:ext cx="119160" cy="61920"/>
          </a:xfrm>
          <a:custGeom>
            <a:avLst/>
            <a:gdLst/>
            <a:ahLst/>
            <a:rect l="l" t="t" r="r" b="b"/>
            <a:pathLst>
              <a:path w="78" h="44">
                <a:moveTo>
                  <a:pt x="0" y="41"/>
                </a:moveTo>
                <a:lnTo>
                  <a:pt x="78" y="21"/>
                </a:lnTo>
                <a:lnTo>
                  <a:pt x="0" y="0"/>
                </a:lnTo>
                <a:lnTo>
                  <a:pt x="0" y="44"/>
                </a:lnTo>
                <a:lnTo>
                  <a:pt x="0" y="44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3080" y="17431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06640" y="1676520"/>
            <a:ext cx="392040" cy="35856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00320" y="2035080"/>
            <a:ext cx="64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06880" y="17431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67560" y="1676520"/>
            <a:ext cx="388800" cy="35856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38920" y="2033640"/>
            <a:ext cx="468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58960" y="2211480"/>
            <a:ext cx="3497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06800" y="2335320"/>
            <a:ext cx="647640" cy="177840"/>
          </a:xfrm>
          <a:custGeom>
            <a:avLst/>
            <a:gdLst/>
            <a:ahLst/>
            <a:rect l="l" t="t" r="r" b="b"/>
            <a:pathLst>
              <a:path w="425" h="126">
                <a:moveTo>
                  <a:pt x="425" y="126"/>
                </a:moveTo>
                <a:lnTo>
                  <a:pt x="0" y="126"/>
                </a:lnTo>
                <a:lnTo>
                  <a:pt x="0" y="0"/>
                </a:lnTo>
                <a:lnTo>
                  <a:pt x="425" y="0"/>
                </a:lnTo>
                <a:lnTo>
                  <a:pt x="425" y="126"/>
                </a:lnTo>
                <a:lnTo>
                  <a:pt x="425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3080" y="29383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06640" y="2870280"/>
            <a:ext cx="392040" cy="35856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00320" y="3228840"/>
            <a:ext cx="64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06880" y="29383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67560" y="2870280"/>
            <a:ext cx="388800" cy="35856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200400"/>
            <a:ext cx="468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58960" y="3405240"/>
            <a:ext cx="3497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53200" y="3608280"/>
            <a:ext cx="42516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76920" y="3587760"/>
            <a:ext cx="119160" cy="61920"/>
          </a:xfrm>
          <a:custGeom>
            <a:avLst/>
            <a:gdLst/>
            <a:ahLst/>
            <a:rect l="l" t="t" r="r" b="b"/>
            <a:pathLst>
              <a:path w="78" h="44">
                <a:moveTo>
                  <a:pt x="0" y="40"/>
                </a:moveTo>
                <a:lnTo>
                  <a:pt x="78" y="20"/>
                </a:lnTo>
                <a:lnTo>
                  <a:pt x="0" y="0"/>
                </a:lnTo>
                <a:lnTo>
                  <a:pt x="0" y="44"/>
                </a:lnTo>
                <a:lnTo>
                  <a:pt x="0" y="44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15040" y="3530520"/>
            <a:ext cx="649080" cy="177840"/>
          </a:xfrm>
          <a:custGeom>
            <a:avLst/>
            <a:gdLst/>
            <a:ahLst/>
            <a:rect l="l" t="t" r="r" b="b"/>
            <a:pathLst>
              <a:path w="425" h="126">
                <a:moveTo>
                  <a:pt x="422" y="126"/>
                </a:moveTo>
                <a:lnTo>
                  <a:pt x="0" y="126"/>
                </a:lnTo>
                <a:lnTo>
                  <a:pt x="0" y="0"/>
                </a:lnTo>
                <a:lnTo>
                  <a:pt x="425" y="0"/>
                </a:lnTo>
                <a:lnTo>
                  <a:pt x="425" y="126"/>
                </a:lnTo>
                <a:lnTo>
                  <a:pt x="425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3080" y="41338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06640" y="4065480"/>
            <a:ext cx="392040" cy="35892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00320" y="4424400"/>
            <a:ext cx="648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06880" y="41338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67560" y="4065480"/>
            <a:ext cx="388800" cy="35892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38920" y="4417920"/>
            <a:ext cx="46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8960" y="4600440"/>
            <a:ext cx="34974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59440" y="4821120"/>
            <a:ext cx="43956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54720" y="4782960"/>
            <a:ext cx="119160" cy="61920"/>
          </a:xfrm>
          <a:custGeom>
            <a:avLst/>
            <a:gdLst/>
            <a:ahLst/>
            <a:rect l="l" t="t" r="r" b="b"/>
            <a:pathLst>
              <a:path w="78" h="44">
                <a:moveTo>
                  <a:pt x="0" y="41"/>
                </a:moveTo>
                <a:lnTo>
                  <a:pt x="78" y="20"/>
                </a:lnTo>
                <a:lnTo>
                  <a:pt x="0" y="0"/>
                </a:lnTo>
                <a:lnTo>
                  <a:pt x="0" y="44"/>
                </a:lnTo>
                <a:lnTo>
                  <a:pt x="0" y="44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86360" y="4724280"/>
            <a:ext cx="650880" cy="177840"/>
          </a:xfrm>
          <a:custGeom>
            <a:avLst/>
            <a:gdLst/>
            <a:ahLst/>
            <a:rect l="l" t="t" r="r" b="b"/>
            <a:pathLst>
              <a:path w="426" h="126">
                <a:moveTo>
                  <a:pt x="426" y="126"/>
                </a:moveTo>
                <a:lnTo>
                  <a:pt x="0" y="126"/>
                </a:lnTo>
                <a:lnTo>
                  <a:pt x="0" y="0"/>
                </a:lnTo>
                <a:lnTo>
                  <a:pt x="426" y="0"/>
                </a:lnTo>
                <a:lnTo>
                  <a:pt x="426" y="126"/>
                </a:lnTo>
                <a:lnTo>
                  <a:pt x="426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7240" y="4721400"/>
            <a:ext cx="326880" cy="180720"/>
          </a:xfrm>
          <a:custGeom>
            <a:avLst/>
            <a:gdLst/>
            <a:ahLst/>
            <a:rect l="l" t="t" r="r" b="b"/>
            <a:pathLst>
              <a:path w="214" h="129">
                <a:moveTo>
                  <a:pt x="0" y="0"/>
                </a:moveTo>
                <a:lnTo>
                  <a:pt x="214" y="3"/>
                </a:lnTo>
                <a:lnTo>
                  <a:pt x="214" y="129"/>
                </a:lnTo>
                <a:lnTo>
                  <a:pt x="0" y="129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7240" y="4721400"/>
            <a:ext cx="326880" cy="180720"/>
          </a:xfrm>
          <a:custGeom>
            <a:avLst/>
            <a:gdLst/>
            <a:ahLst/>
            <a:rect l="l" t="t" r="r" b="b"/>
            <a:pathLst>
              <a:path w="214" h="129">
                <a:moveTo>
                  <a:pt x="0" y="0"/>
                </a:moveTo>
                <a:lnTo>
                  <a:pt x="214" y="3"/>
                </a:lnTo>
                <a:lnTo>
                  <a:pt x="214" y="129"/>
                </a:lnTo>
                <a:lnTo>
                  <a:pt x="0" y="129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97440" y="4809960"/>
            <a:ext cx="936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03840" y="4782960"/>
            <a:ext cx="114480" cy="61920"/>
          </a:xfrm>
          <a:custGeom>
            <a:avLst/>
            <a:gdLst/>
            <a:ahLst/>
            <a:rect l="l" t="t" r="r" b="b"/>
            <a:pathLst>
              <a:path w="75" h="44">
                <a:moveTo>
                  <a:pt x="75" y="0"/>
                </a:moveTo>
                <a:lnTo>
                  <a:pt x="0" y="20"/>
                </a:lnTo>
                <a:lnTo>
                  <a:pt x="75" y="44"/>
                </a:lnTo>
                <a:lnTo>
                  <a:pt x="75" y="0"/>
                </a:lnTo>
                <a:lnTo>
                  <a:pt x="7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3080" y="53262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06640" y="5259240"/>
            <a:ext cx="392040" cy="35892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00320" y="5618160"/>
            <a:ext cx="648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06880" y="53262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67560" y="5259240"/>
            <a:ext cx="388800" cy="35892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5638680"/>
            <a:ext cx="468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58960" y="5796000"/>
            <a:ext cx="3497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00320" y="5915160"/>
            <a:ext cx="328680" cy="180720"/>
          </a:xfrm>
          <a:custGeom>
            <a:avLst/>
            <a:gdLst/>
            <a:ahLst/>
            <a:rect l="l" t="t" r="r" b="b"/>
            <a:pathLst>
              <a:path w="215" h="129">
                <a:moveTo>
                  <a:pt x="0" y="0"/>
                </a:moveTo>
                <a:lnTo>
                  <a:pt x="215" y="4"/>
                </a:lnTo>
                <a:lnTo>
                  <a:pt x="215" y="129"/>
                </a:lnTo>
                <a:lnTo>
                  <a:pt x="4" y="129"/>
                </a:lnTo>
                <a:lnTo>
                  <a:pt x="4" y="4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00320" y="5915160"/>
            <a:ext cx="328680" cy="180720"/>
          </a:xfrm>
          <a:custGeom>
            <a:avLst/>
            <a:gdLst/>
            <a:ahLst/>
            <a:rect l="l" t="t" r="r" b="b"/>
            <a:pathLst>
              <a:path w="215" h="129">
                <a:moveTo>
                  <a:pt x="0" y="0"/>
                </a:moveTo>
                <a:lnTo>
                  <a:pt x="215" y="4"/>
                </a:lnTo>
                <a:lnTo>
                  <a:pt x="215" y="129"/>
                </a:lnTo>
                <a:lnTo>
                  <a:pt x="4" y="129"/>
                </a:lnTo>
                <a:lnTo>
                  <a:pt x="4" y="4"/>
                </a:lnTo>
                <a:lnTo>
                  <a:pt x="4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67000" y="6005520"/>
            <a:ext cx="92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68720" y="5977080"/>
            <a:ext cx="119160" cy="63360"/>
          </a:xfrm>
          <a:custGeom>
            <a:avLst/>
            <a:gdLst/>
            <a:ahLst/>
            <a:rect l="l" t="t" r="r" b="b"/>
            <a:pathLst>
              <a:path w="78" h="45">
                <a:moveTo>
                  <a:pt x="74" y="0"/>
                </a:moveTo>
                <a:lnTo>
                  <a:pt x="0" y="21"/>
                </a:lnTo>
                <a:lnTo>
                  <a:pt x="78" y="45"/>
                </a:lnTo>
                <a:lnTo>
                  <a:pt x="78" y="0"/>
                </a:lnTo>
                <a:lnTo>
                  <a:pt x="78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943-081C-42D2-B24B-F24B8787B1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Ring Overview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Mbps IEEE 802.5 (based on earlier IBM 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Mbps Fiber Distributed Data Interface (FD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E02F29" descr=""/>
          <p:cNvPicPr/>
          <p:nvPr/>
        </p:nvPicPr>
        <p:blipFill>
          <a:blip r:embed="rId1"/>
          <a:stretch/>
        </p:blipFill>
        <p:spPr>
          <a:xfrm>
            <a:off x="3276720" y="3430440"/>
            <a:ext cx="2506680" cy="24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EB4-B131-4F7A-8940-C8E6EA58CC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Ring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s flow in one direction: upstream to downstr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bit pattern (token) rotates around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apture token before transm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token after done transm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ed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your frame when it comes back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s get round-robi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5280" y="5257800"/>
            <a:ext cx="6643440" cy="691920"/>
            <a:chOff x="1295280" y="5257800"/>
            <a:chExt cx="6643440" cy="691920"/>
          </a:xfrm>
        </p:grpSpPr>
        <p:sp>
          <p:nvSpPr>
            <p:cNvPr id="126" name=""/>
            <p:cNvSpPr/>
            <p:nvPr/>
          </p:nvSpPr>
          <p:spPr>
            <a:xfrm>
              <a:off x="5646960" y="5510520"/>
              <a:ext cx="284760" cy="439200"/>
            </a:xfrm>
            <a:custGeom>
              <a:avLst/>
              <a:gdLst/>
              <a:ahLst/>
              <a:rect l="l" t="t" r="r" b="b"/>
              <a:pathLst>
                <a:path w="216" h="341">
                  <a:moveTo>
                    <a:pt x="44" y="341"/>
                  </a:moveTo>
                  <a:lnTo>
                    <a:pt x="216" y="341"/>
                  </a:lnTo>
                  <a:lnTo>
                    <a:pt x="216" y="0"/>
                  </a:lnTo>
                  <a:lnTo>
                    <a:pt x="48" y="0"/>
                  </a:lnTo>
                  <a:lnTo>
                    <a:pt x="0" y="113"/>
                  </a:lnTo>
                  <a:lnTo>
                    <a:pt x="108" y="113"/>
                  </a:lnTo>
                  <a:lnTo>
                    <a:pt x="48" y="341"/>
                  </a:lnTo>
                  <a:lnTo>
                    <a:pt x="48" y="341"/>
                  </a:lnTo>
                  <a:lnTo>
                    <a:pt x="44" y="3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46960" y="5510520"/>
              <a:ext cx="284760" cy="439200"/>
            </a:xfrm>
            <a:custGeom>
              <a:avLst/>
              <a:gdLst/>
              <a:ahLst/>
              <a:rect l="l" t="t" r="r" b="b"/>
              <a:pathLst>
                <a:path w="216" h="341">
                  <a:moveTo>
                    <a:pt x="44" y="341"/>
                  </a:moveTo>
                  <a:lnTo>
                    <a:pt x="216" y="341"/>
                  </a:lnTo>
                  <a:lnTo>
                    <a:pt x="216" y="0"/>
                  </a:lnTo>
                  <a:lnTo>
                    <a:pt x="48" y="0"/>
                  </a:lnTo>
                  <a:lnTo>
                    <a:pt x="0" y="113"/>
                  </a:lnTo>
                  <a:lnTo>
                    <a:pt x="108" y="113"/>
                  </a:lnTo>
                  <a:lnTo>
                    <a:pt x="48" y="341"/>
                  </a:lnTo>
                  <a:lnTo>
                    <a:pt x="48" y="3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52920" y="5510520"/>
              <a:ext cx="1157040" cy="439200"/>
            </a:xfrm>
            <a:custGeom>
              <a:avLst/>
              <a:gdLst/>
              <a:ahLst/>
              <a:rect l="l" t="t" r="r" b="b"/>
              <a:pathLst>
                <a:path w="878" h="341">
                  <a:moveTo>
                    <a:pt x="818" y="341"/>
                  </a:moveTo>
                  <a:lnTo>
                    <a:pt x="0" y="341"/>
                  </a:lnTo>
                  <a:lnTo>
                    <a:pt x="0" y="0"/>
                  </a:lnTo>
                  <a:lnTo>
                    <a:pt x="822" y="0"/>
                  </a:lnTo>
                  <a:lnTo>
                    <a:pt x="758" y="153"/>
                  </a:lnTo>
                  <a:lnTo>
                    <a:pt x="878" y="153"/>
                  </a:lnTo>
                  <a:lnTo>
                    <a:pt x="822" y="341"/>
                  </a:lnTo>
                  <a:lnTo>
                    <a:pt x="822" y="341"/>
                  </a:lnTo>
                  <a:lnTo>
                    <a:pt x="818" y="3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52920" y="5510520"/>
              <a:ext cx="1157040" cy="439200"/>
            </a:xfrm>
            <a:custGeom>
              <a:avLst/>
              <a:gdLst/>
              <a:ahLst/>
              <a:rect l="l" t="t" r="r" b="b"/>
              <a:pathLst>
                <a:path w="878" h="341">
                  <a:moveTo>
                    <a:pt x="818" y="341"/>
                  </a:moveTo>
                  <a:lnTo>
                    <a:pt x="0" y="341"/>
                  </a:lnTo>
                  <a:lnTo>
                    <a:pt x="0" y="0"/>
                  </a:lnTo>
                  <a:lnTo>
                    <a:pt x="822" y="0"/>
                  </a:lnTo>
                  <a:lnTo>
                    <a:pt x="758" y="153"/>
                  </a:lnTo>
                  <a:lnTo>
                    <a:pt x="878" y="153"/>
                  </a:lnTo>
                  <a:lnTo>
                    <a:pt x="822" y="341"/>
                  </a:lnTo>
                  <a:lnTo>
                    <a:pt x="822" y="3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85360" y="561492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5280" y="5505120"/>
              <a:ext cx="3252240" cy="444600"/>
            </a:xfrm>
            <a:custGeom>
              <a:avLst/>
              <a:gdLst/>
              <a:ahLst/>
              <a:rect l="l" t="t" r="r" b="b"/>
              <a:pathLst>
                <a:path w="2468" h="345">
                  <a:moveTo>
                    <a:pt x="2468" y="0"/>
                  </a:moveTo>
                  <a:lnTo>
                    <a:pt x="0" y="4"/>
                  </a:lnTo>
                  <a:lnTo>
                    <a:pt x="0" y="345"/>
                  </a:lnTo>
                  <a:lnTo>
                    <a:pt x="2468" y="3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20920" y="5510520"/>
              <a:ext cx="2017800" cy="439200"/>
            </a:xfrm>
            <a:custGeom>
              <a:avLst/>
              <a:gdLst/>
              <a:ahLst/>
              <a:rect l="l" t="t" r="r" b="b"/>
              <a:pathLst>
                <a:path w="1531" h="341">
                  <a:moveTo>
                    <a:pt x="0" y="341"/>
                  </a:moveTo>
                  <a:lnTo>
                    <a:pt x="1531" y="341"/>
                  </a:lnTo>
                  <a:lnTo>
                    <a:pt x="1531" y="0"/>
                  </a:lnTo>
                  <a:lnTo>
                    <a:pt x="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0560" y="5505120"/>
              <a:ext cx="50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29840" y="5510520"/>
              <a:ext cx="504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01040" y="5510520"/>
              <a:ext cx="1080" cy="43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22960" y="52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24400" y="52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01400" y="52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40840" y="52628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68800" y="5618880"/>
              <a:ext cx="38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4320" y="5533560"/>
              <a:ext cx="57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46120" y="571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9160" y="5533560"/>
              <a:ext cx="51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9520" y="571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95800" y="553356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95800" y="571824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45520" y="5510520"/>
              <a:ext cx="144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1120" y="561888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93560" y="5257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75720" y="5257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40280" y="553356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9560" y="571824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7960" y="5505120"/>
              <a:ext cx="50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86760" y="5618880"/>
              <a:ext cx="50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62760" y="52628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305-2569-4A63-AC2B-E47952A6CA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imed Token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 Holding Time (T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limit on how long a station can hold the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 Rotation Time (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ong it takes the token to traverse the 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ve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ng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Token Rotation Time (T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d-upon upper bound on T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687-7FE9-4509-8E8B-E939C3D861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1:29:11Z</dcterms:created>
  <dc:creator>klp</dc:creator>
  <dc:description/>
  <dc:language>en-US</dc:language>
  <cp:lastModifiedBy>Larry Peterson</cp:lastModifiedBy>
  <dcterms:modified xsi:type="dcterms:W3CDTF">2000-02-07T15:57:07Z</dcterms:modified>
  <cp:revision>21</cp:revision>
  <dc:subject/>
  <dc:title>No Slide Title</dc:title>
</cp:coreProperties>
</file>