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9CA-C2FF-4419-A331-58594AEF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2FE-AD79-4DCB-AB82-E433F374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31A4-F6CA-4D91-8368-81E7A5A5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EEA6-8D29-4198-BC7F-35C8485E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12F-E88B-456B-9BFF-718DC2BC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74E9-94DB-4545-AFD3-3668A2BA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04A-9FEE-43F9-9CCF-F484150F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1234-E963-4EEB-A309-31A01980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9DF-0F6C-4AD7-BCA3-9F6CD484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BCB-251D-4A7F-BF99-510DD190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89A-3CA6-47DA-B8CA-2BAE192F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08D-A106-48E7-BF56-D36DBE77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5BC9-A8A2-49FD-B8EE-406693699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ernetworking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720"/>
            <a:ext cx="5105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Effort Servi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ddressing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B5FF-0B7E-4D98-9DA9-6D805974609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RP Packe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75800" y="2133720"/>
            <a:ext cx="5803920" cy="3504600"/>
            <a:chOff x="1675800" y="2133720"/>
            <a:chExt cx="5803920" cy="3504600"/>
          </a:xfrm>
        </p:grpSpPr>
        <p:sp>
          <p:nvSpPr>
            <p:cNvPr id="307" name=""/>
            <p:cNvSpPr/>
            <p:nvPr/>
          </p:nvSpPr>
          <p:spPr>
            <a:xfrm>
              <a:off x="3270960" y="48261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59520" y="4826160"/>
              <a:ext cx="224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etHardwareAddr (byte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09240" y="4826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47120" y="48261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34320" y="5278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24320" y="5278680"/>
              <a:ext cx="21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etProtocolAddr (bytes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49480" y="5278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86640" y="52786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50760" y="4358880"/>
              <a:ext cx="22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ProtocolAddr (byte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44040" y="435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83720" y="43588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38640" y="2542680"/>
              <a:ext cx="1463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 type =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34240" y="2542680"/>
              <a:ext cx="7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toco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15440" y="2542680"/>
              <a:ext cx="1078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pe = 0x0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83800" y="3904560"/>
              <a:ext cx="240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HardwareAddr (bytes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01280" y="39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38800" y="3904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54080" y="43588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46600" y="4358880"/>
              <a:ext cx="224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etHardwareAddr (bytes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91640" y="435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34920" y="43588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67760" y="3904560"/>
              <a:ext cx="22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ProtocolAddr (bytes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57800" y="39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01080" y="3904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49840" y="3008160"/>
              <a:ext cx="82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Len = 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80120" y="3008160"/>
              <a:ext cx="81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en = 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86120" y="3008160"/>
              <a:ext cx="78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29560" y="3453480"/>
              <a:ext cx="240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HardwareAddr (bytes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42720" y="345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83840" y="34534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31240" y="2446200"/>
              <a:ext cx="5659560" cy="3192120"/>
            </a:xfrm>
            <a:custGeom>
              <a:avLst/>
              <a:gdLst/>
              <a:ahLst/>
              <a:rect l="l" t="t" r="r" b="b"/>
              <a:pathLst>
                <a:path w="3693" h="1749">
                  <a:moveTo>
                    <a:pt x="3689" y="1749"/>
                  </a:moveTo>
                  <a:lnTo>
                    <a:pt x="3693" y="0"/>
                  </a:lnTo>
                  <a:lnTo>
                    <a:pt x="0" y="0"/>
                  </a:lnTo>
                  <a:lnTo>
                    <a:pt x="0" y="1749"/>
                  </a:lnTo>
                  <a:lnTo>
                    <a:pt x="3693" y="1749"/>
                  </a:lnTo>
                  <a:lnTo>
                    <a:pt x="3693" y="174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03320" y="2446200"/>
              <a:ext cx="6120" cy="914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03320" y="3812760"/>
              <a:ext cx="6120" cy="9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26560" y="2900520"/>
              <a:ext cx="566388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26560" y="3360600"/>
              <a:ext cx="5663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26560" y="3812760"/>
              <a:ext cx="5663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26560" y="4273200"/>
              <a:ext cx="5663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726560" y="4725720"/>
              <a:ext cx="5663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26560" y="5178600"/>
              <a:ext cx="5663880" cy="7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14800" y="2894760"/>
              <a:ext cx="0" cy="438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75800" y="2133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65120" y="2133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02520" y="2133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81000" y="2133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2D1-B54E-4404-BE77-11D9C3A219D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Control Message Protocol (ICMP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ho (p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irect (from router to source h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ination unreachable (protocol, port, or h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L exceeded (so datagrams don’t cycle fore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sum fai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embly fa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frag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EE4-B04A-4486-8861-31ADD9ACBC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 Internet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atenation of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267080" y="1447920"/>
            <a:ext cx="3591720" cy="2818800"/>
            <a:chOff x="4267080" y="1447920"/>
            <a:chExt cx="3591720" cy="2818800"/>
          </a:xfrm>
        </p:grpSpPr>
        <p:sp>
          <p:nvSpPr>
            <p:cNvPr id="46" name=""/>
            <p:cNvSpPr/>
            <p:nvPr/>
          </p:nvSpPr>
          <p:spPr>
            <a:xfrm>
              <a:off x="6481080" y="302688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453000" y="3000600"/>
              <a:ext cx="193320" cy="207000"/>
            </a:xfrm>
            <a:custGeom>
              <a:avLst/>
              <a:gdLst/>
              <a:ahLst/>
              <a:rect l="l" t="t" r="r" b="b"/>
              <a:pathLst>
                <a:path w="200" h="197">
                  <a:moveTo>
                    <a:pt x="197" y="197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197"/>
                  </a:lnTo>
                  <a:lnTo>
                    <a:pt x="200" y="197"/>
                  </a:lnTo>
                  <a:lnTo>
                    <a:pt x="200" y="1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6318720" y="3207600"/>
              <a:ext cx="2282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96960" y="277956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66000" y="275220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200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59960" y="2561760"/>
              <a:ext cx="2520" cy="19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11080" y="332748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85880" y="329904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97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77840" y="408420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57680" y="4056480"/>
              <a:ext cx="19296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197" y="197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16200" y="22345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91360" y="2208240"/>
              <a:ext cx="19296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97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87840" y="2415600"/>
              <a:ext cx="108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16160" y="223128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88440" y="220500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200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09400" y="2407320"/>
              <a:ext cx="252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06040" y="22345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85880" y="220824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97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98920" y="2407320"/>
              <a:ext cx="288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59960" y="2962440"/>
              <a:ext cx="4032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81120" y="2582640"/>
              <a:ext cx="116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 2 (Etherne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0600" y="1447920"/>
              <a:ext cx="116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 1 (Etherne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9200" y="3401280"/>
              <a:ext cx="20880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754160" y="3777480"/>
              <a:ext cx="1339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43320" y="408420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15960" y="405648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97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6052680" y="3889800"/>
              <a:ext cx="5976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89400" y="3509640"/>
              <a:ext cx="98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 3 (FDDI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08040" y="2395440"/>
              <a:ext cx="57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00040" y="2532240"/>
              <a:ext cx="82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point-to-poin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34360" y="174024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0"/>
                  </a:moveTo>
                  <a:lnTo>
                    <a:pt x="0" y="200"/>
                  </a:lnTo>
                  <a:lnTo>
                    <a:pt x="200" y="200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631200" y="1600200"/>
              <a:ext cx="252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60280" y="17665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37280" y="174024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0"/>
                  </a:moveTo>
                  <a:lnTo>
                    <a:pt x="0" y="200"/>
                  </a:lnTo>
                  <a:lnTo>
                    <a:pt x="200" y="200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130880" y="1604160"/>
              <a:ext cx="720" cy="13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70040" y="17665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39840" y="174024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0"/>
                  </a:moveTo>
                  <a:lnTo>
                    <a:pt x="3" y="200"/>
                  </a:lnTo>
                  <a:lnTo>
                    <a:pt x="200" y="200"/>
                  </a:lnTo>
                  <a:lnTo>
                    <a:pt x="200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636680" y="1599840"/>
              <a:ext cx="25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66840" y="17665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67080" y="2561760"/>
              <a:ext cx="150804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343560" y="1600200"/>
              <a:ext cx="1504440" cy="108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63880" y="3238200"/>
              <a:ext cx="1629000" cy="719640"/>
            </a:xfrm>
            <a:custGeom>
              <a:avLst/>
              <a:gdLst/>
              <a:ahLst/>
              <a:rect l="l" t="t" r="r" b="b"/>
              <a:pathLst>
                <a:path w="1685" h="684">
                  <a:moveTo>
                    <a:pt x="826" y="681"/>
                  </a:moveTo>
                  <a:lnTo>
                    <a:pt x="968" y="678"/>
                  </a:lnTo>
                  <a:lnTo>
                    <a:pt x="1101" y="665"/>
                  </a:lnTo>
                  <a:lnTo>
                    <a:pt x="1224" y="645"/>
                  </a:lnTo>
                  <a:lnTo>
                    <a:pt x="1337" y="620"/>
                  </a:lnTo>
                  <a:lnTo>
                    <a:pt x="1437" y="584"/>
                  </a:lnTo>
                  <a:lnTo>
                    <a:pt x="1524" y="542"/>
                  </a:lnTo>
                  <a:lnTo>
                    <a:pt x="1592" y="497"/>
                  </a:lnTo>
                  <a:lnTo>
                    <a:pt x="1643" y="449"/>
                  </a:lnTo>
                  <a:lnTo>
                    <a:pt x="1676" y="394"/>
                  </a:lnTo>
                  <a:lnTo>
                    <a:pt x="1685" y="332"/>
                  </a:lnTo>
                  <a:lnTo>
                    <a:pt x="1676" y="277"/>
                  </a:lnTo>
                  <a:lnTo>
                    <a:pt x="1643" y="226"/>
                  </a:lnTo>
                  <a:lnTo>
                    <a:pt x="1592" y="177"/>
                  </a:lnTo>
                  <a:lnTo>
                    <a:pt x="1524" y="132"/>
                  </a:lnTo>
                  <a:lnTo>
                    <a:pt x="1440" y="93"/>
                  </a:lnTo>
                  <a:lnTo>
                    <a:pt x="1340" y="61"/>
                  </a:lnTo>
                  <a:lnTo>
                    <a:pt x="1230" y="35"/>
                  </a:lnTo>
                  <a:lnTo>
                    <a:pt x="1107" y="16"/>
                  </a:lnTo>
                  <a:lnTo>
                    <a:pt x="975" y="3"/>
                  </a:lnTo>
                  <a:lnTo>
                    <a:pt x="836" y="0"/>
                  </a:lnTo>
                  <a:lnTo>
                    <a:pt x="704" y="6"/>
                  </a:lnTo>
                  <a:lnTo>
                    <a:pt x="574" y="19"/>
                  </a:lnTo>
                  <a:lnTo>
                    <a:pt x="455" y="38"/>
                  </a:lnTo>
                  <a:lnTo>
                    <a:pt x="345" y="64"/>
                  </a:lnTo>
                  <a:lnTo>
                    <a:pt x="245" y="97"/>
                  </a:lnTo>
                  <a:lnTo>
                    <a:pt x="161" y="132"/>
                  </a:lnTo>
                  <a:lnTo>
                    <a:pt x="93" y="174"/>
                  </a:lnTo>
                  <a:lnTo>
                    <a:pt x="41" y="222"/>
                  </a:lnTo>
                  <a:lnTo>
                    <a:pt x="9" y="271"/>
                  </a:lnTo>
                  <a:lnTo>
                    <a:pt x="0" y="323"/>
                  </a:lnTo>
                  <a:lnTo>
                    <a:pt x="9" y="377"/>
                  </a:lnTo>
                  <a:lnTo>
                    <a:pt x="38" y="429"/>
                  </a:lnTo>
                  <a:lnTo>
                    <a:pt x="87" y="481"/>
                  </a:lnTo>
                  <a:lnTo>
                    <a:pt x="151" y="526"/>
                  </a:lnTo>
                  <a:lnTo>
                    <a:pt x="232" y="571"/>
                  </a:lnTo>
                  <a:lnTo>
                    <a:pt x="326" y="607"/>
                  </a:lnTo>
                  <a:lnTo>
                    <a:pt x="435" y="639"/>
                  </a:lnTo>
                  <a:lnTo>
                    <a:pt x="555" y="662"/>
                  </a:lnTo>
                  <a:lnTo>
                    <a:pt x="687" y="678"/>
                  </a:lnTo>
                  <a:lnTo>
                    <a:pt x="826" y="684"/>
                  </a:lnTo>
                  <a:lnTo>
                    <a:pt x="826" y="684"/>
                  </a:lnTo>
                </a:path>
              </a:pathLst>
            </a:custGeom>
            <a:noFill/>
            <a:ln w="205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6549480" y="1950480"/>
              <a:ext cx="577080" cy="104976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143000" y="4495680"/>
            <a:ext cx="6095520" cy="1432080"/>
            <a:chOff x="1143000" y="4495680"/>
            <a:chExt cx="6095520" cy="1432080"/>
          </a:xfrm>
        </p:grpSpPr>
        <p:sp>
          <p:nvSpPr>
            <p:cNvPr id="90" name=""/>
            <p:cNvSpPr/>
            <p:nvPr/>
          </p:nvSpPr>
          <p:spPr>
            <a:xfrm>
              <a:off x="2093040" y="4851360"/>
              <a:ext cx="1241640" cy="996840"/>
            </a:xfrm>
            <a:custGeom>
              <a:avLst/>
              <a:gdLst/>
              <a:ahLst/>
              <a:rect l="l" t="t" r="r" b="b"/>
              <a:pathLst>
                <a:path w="1065" h="1129">
                  <a:moveTo>
                    <a:pt x="1065" y="1125"/>
                  </a:moveTo>
                  <a:lnTo>
                    <a:pt x="1065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1065" y="1129"/>
                  </a:lnTo>
                  <a:lnTo>
                    <a:pt x="1065" y="1129"/>
                  </a:lnTo>
                  <a:lnTo>
                    <a:pt x="1065" y="112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3280" y="485928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43000" y="4495680"/>
              <a:ext cx="703800" cy="1352520"/>
            </a:xfrm>
            <a:custGeom>
              <a:avLst/>
              <a:gdLst/>
              <a:ahLst/>
              <a:rect l="l" t="t" r="r" b="b"/>
              <a:pathLst>
                <a:path w="604" h="1532">
                  <a:moveTo>
                    <a:pt x="600" y="1528"/>
                  </a:moveTo>
                  <a:lnTo>
                    <a:pt x="604" y="0"/>
                  </a:lnTo>
                  <a:lnTo>
                    <a:pt x="0" y="0"/>
                  </a:lnTo>
                  <a:lnTo>
                    <a:pt x="0" y="1532"/>
                  </a:lnTo>
                  <a:lnTo>
                    <a:pt x="604" y="1532"/>
                  </a:lnTo>
                  <a:lnTo>
                    <a:pt x="604" y="1532"/>
                  </a:lnTo>
                  <a:lnTo>
                    <a:pt x="600" y="152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42440" y="55638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47600" y="556128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D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32320" y="5171760"/>
              <a:ext cx="14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81600" y="5524920"/>
              <a:ext cx="443880" cy="212760"/>
            </a:xfrm>
            <a:custGeom>
              <a:avLst/>
              <a:gdLst/>
              <a:ahLst/>
              <a:rect l="l" t="t" r="r" b="b"/>
              <a:pathLst>
                <a:path w="381" h="241">
                  <a:moveTo>
                    <a:pt x="381" y="241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1" y="241"/>
                  </a:lnTo>
                  <a:lnTo>
                    <a:pt x="381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75360" y="5134680"/>
              <a:ext cx="444960" cy="217080"/>
            </a:xfrm>
            <a:custGeom>
              <a:avLst/>
              <a:gdLst/>
              <a:ahLst/>
              <a:rect l="l" t="t" r="r" b="b"/>
              <a:pathLst>
                <a:path w="382" h="246">
                  <a:moveTo>
                    <a:pt x="382" y="242"/>
                  </a:moveTo>
                  <a:lnTo>
                    <a:pt x="382" y="0"/>
                  </a:lnTo>
                  <a:lnTo>
                    <a:pt x="0" y="0"/>
                  </a:lnTo>
                  <a:lnTo>
                    <a:pt x="0" y="246"/>
                  </a:lnTo>
                  <a:lnTo>
                    <a:pt x="382" y="246"/>
                  </a:lnTo>
                  <a:lnTo>
                    <a:pt x="382" y="2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32800" y="5184360"/>
              <a:ext cx="14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74400" y="5148000"/>
              <a:ext cx="443880" cy="217080"/>
            </a:xfrm>
            <a:custGeom>
              <a:avLst/>
              <a:gdLst/>
              <a:ahLst/>
              <a:rect l="l" t="t" r="r" b="b"/>
              <a:pathLst>
                <a:path w="381" h="246">
                  <a:moveTo>
                    <a:pt x="381" y="242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6"/>
                  </a:lnTo>
                  <a:lnTo>
                    <a:pt x="381" y="246"/>
                  </a:lnTo>
                  <a:lnTo>
                    <a:pt x="381" y="2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02240" y="5524920"/>
              <a:ext cx="443880" cy="212760"/>
            </a:xfrm>
            <a:custGeom>
              <a:avLst/>
              <a:gdLst/>
              <a:ahLst/>
              <a:rect l="l" t="t" r="r" b="b"/>
              <a:pathLst>
                <a:path w="381" h="241">
                  <a:moveTo>
                    <a:pt x="381" y="241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1" y="241"/>
                  </a:lnTo>
                  <a:lnTo>
                    <a:pt x="381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39200" y="55638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74400" y="5524920"/>
              <a:ext cx="443880" cy="216360"/>
            </a:xfrm>
            <a:custGeom>
              <a:avLst/>
              <a:gdLst/>
              <a:ahLst/>
              <a:rect l="l" t="t" r="r" b="b"/>
              <a:pathLst>
                <a:path w="381" h="245">
                  <a:moveTo>
                    <a:pt x="381" y="241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5"/>
                  </a:lnTo>
                  <a:lnTo>
                    <a:pt x="381" y="245"/>
                  </a:lnTo>
                  <a:lnTo>
                    <a:pt x="381" y="2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53240" y="48114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74400" y="4775400"/>
              <a:ext cx="443880" cy="212760"/>
            </a:xfrm>
            <a:custGeom>
              <a:avLst/>
              <a:gdLst/>
              <a:ahLst/>
              <a:rect l="l" t="t" r="r" b="b"/>
              <a:pathLst>
                <a:path w="381" h="241">
                  <a:moveTo>
                    <a:pt x="381" y="241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1" y="241"/>
                  </a:lnTo>
                  <a:lnTo>
                    <a:pt x="381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2396160" y="5351760"/>
              <a:ext cx="18504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19520" y="5352120"/>
              <a:ext cx="20268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58960" y="4851360"/>
              <a:ext cx="1246320" cy="996840"/>
            </a:xfrm>
            <a:custGeom>
              <a:avLst/>
              <a:gdLst/>
              <a:ahLst/>
              <a:rect l="l" t="t" r="r" b="b"/>
              <a:pathLst>
                <a:path w="1069" h="1129">
                  <a:moveTo>
                    <a:pt x="1065" y="1125"/>
                  </a:moveTo>
                  <a:lnTo>
                    <a:pt x="1069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1069" y="1129"/>
                  </a:lnTo>
                  <a:lnTo>
                    <a:pt x="1069" y="1129"/>
                  </a:lnTo>
                  <a:lnTo>
                    <a:pt x="1065" y="112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3800" y="485928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87120" y="556380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D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7160" y="556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99320" y="5171760"/>
              <a:ext cx="14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47520" y="5524920"/>
              <a:ext cx="443880" cy="212760"/>
            </a:xfrm>
            <a:custGeom>
              <a:avLst/>
              <a:gdLst/>
              <a:ahLst/>
              <a:rect l="l" t="t" r="r" b="b"/>
              <a:pathLst>
                <a:path w="381" h="241">
                  <a:moveTo>
                    <a:pt x="381" y="241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1" y="241"/>
                  </a:lnTo>
                  <a:lnTo>
                    <a:pt x="381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42360" y="5134680"/>
              <a:ext cx="443880" cy="217080"/>
            </a:xfrm>
            <a:custGeom>
              <a:avLst/>
              <a:gdLst/>
              <a:ahLst/>
              <a:rect l="l" t="t" r="r" b="b"/>
              <a:pathLst>
                <a:path w="381" h="246">
                  <a:moveTo>
                    <a:pt x="381" y="242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6"/>
                  </a:lnTo>
                  <a:lnTo>
                    <a:pt x="381" y="246"/>
                  </a:lnTo>
                  <a:lnTo>
                    <a:pt x="381" y="2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67800" y="5524920"/>
              <a:ext cx="448560" cy="212760"/>
            </a:xfrm>
            <a:custGeom>
              <a:avLst/>
              <a:gdLst/>
              <a:ahLst/>
              <a:rect l="l" t="t" r="r" b="b"/>
              <a:pathLst>
                <a:path w="385" h="241">
                  <a:moveTo>
                    <a:pt x="381" y="241"/>
                  </a:moveTo>
                  <a:lnTo>
                    <a:pt x="385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5" y="241"/>
                  </a:lnTo>
                  <a:lnTo>
                    <a:pt x="385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866760" y="5351760"/>
              <a:ext cx="18036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85080" y="5352120"/>
              <a:ext cx="19800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29200" y="4851360"/>
              <a:ext cx="1241640" cy="996840"/>
            </a:xfrm>
            <a:custGeom>
              <a:avLst/>
              <a:gdLst/>
              <a:ahLst/>
              <a:rect l="l" t="t" r="r" b="b"/>
              <a:pathLst>
                <a:path w="1065" h="1129">
                  <a:moveTo>
                    <a:pt x="1065" y="1125"/>
                  </a:moveTo>
                  <a:lnTo>
                    <a:pt x="1065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1065" y="1129"/>
                  </a:lnTo>
                  <a:lnTo>
                    <a:pt x="1065" y="1129"/>
                  </a:lnTo>
                  <a:lnTo>
                    <a:pt x="1065" y="112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45840" y="485928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08480" y="55638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05000" y="55612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66320" y="5171760"/>
              <a:ext cx="14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13080" y="5524920"/>
              <a:ext cx="448560" cy="212760"/>
            </a:xfrm>
            <a:custGeom>
              <a:avLst/>
              <a:gdLst/>
              <a:ahLst/>
              <a:rect l="l" t="t" r="r" b="b"/>
              <a:pathLst>
                <a:path w="385" h="241">
                  <a:moveTo>
                    <a:pt x="381" y="241"/>
                  </a:moveTo>
                  <a:lnTo>
                    <a:pt x="385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5" y="241"/>
                  </a:lnTo>
                  <a:lnTo>
                    <a:pt x="385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07920" y="5134680"/>
              <a:ext cx="448920" cy="217080"/>
            </a:xfrm>
            <a:custGeom>
              <a:avLst/>
              <a:gdLst/>
              <a:ahLst/>
              <a:rect l="l" t="t" r="r" b="b"/>
              <a:pathLst>
                <a:path w="385" h="246">
                  <a:moveTo>
                    <a:pt x="381" y="242"/>
                  </a:moveTo>
                  <a:lnTo>
                    <a:pt x="385" y="0"/>
                  </a:lnTo>
                  <a:lnTo>
                    <a:pt x="0" y="0"/>
                  </a:lnTo>
                  <a:lnTo>
                    <a:pt x="0" y="246"/>
                  </a:lnTo>
                  <a:lnTo>
                    <a:pt x="385" y="246"/>
                  </a:lnTo>
                  <a:lnTo>
                    <a:pt x="385" y="2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38040" y="5524920"/>
              <a:ext cx="443880" cy="212760"/>
            </a:xfrm>
            <a:custGeom>
              <a:avLst/>
              <a:gdLst/>
              <a:ahLst/>
              <a:rect l="l" t="t" r="r" b="b"/>
              <a:pathLst>
                <a:path w="381" h="241">
                  <a:moveTo>
                    <a:pt x="381" y="241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1" y="241"/>
                  </a:lnTo>
                  <a:lnTo>
                    <a:pt x="381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333400" y="5351760"/>
              <a:ext cx="17928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51000" y="5352120"/>
              <a:ext cx="20268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8120" y="45014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34360" y="4495680"/>
              <a:ext cx="704160" cy="1352520"/>
            </a:xfrm>
            <a:custGeom>
              <a:avLst/>
              <a:gdLst/>
              <a:ahLst/>
              <a:rect l="l" t="t" r="r" b="b"/>
              <a:pathLst>
                <a:path w="604" h="1532">
                  <a:moveTo>
                    <a:pt x="600" y="1528"/>
                  </a:moveTo>
                  <a:lnTo>
                    <a:pt x="604" y="0"/>
                  </a:lnTo>
                  <a:lnTo>
                    <a:pt x="0" y="0"/>
                  </a:lnTo>
                  <a:lnTo>
                    <a:pt x="0" y="1532"/>
                  </a:lnTo>
                  <a:lnTo>
                    <a:pt x="604" y="1532"/>
                  </a:lnTo>
                  <a:lnTo>
                    <a:pt x="604" y="1532"/>
                  </a:lnTo>
                  <a:lnTo>
                    <a:pt x="600" y="152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24520" y="5184360"/>
              <a:ext cx="14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66120" y="5148000"/>
              <a:ext cx="445320" cy="217080"/>
            </a:xfrm>
            <a:custGeom>
              <a:avLst/>
              <a:gdLst/>
              <a:ahLst/>
              <a:rect l="l" t="t" r="r" b="b"/>
              <a:pathLst>
                <a:path w="382" h="246">
                  <a:moveTo>
                    <a:pt x="382" y="242"/>
                  </a:moveTo>
                  <a:lnTo>
                    <a:pt x="382" y="0"/>
                  </a:lnTo>
                  <a:lnTo>
                    <a:pt x="0" y="0"/>
                  </a:lnTo>
                  <a:lnTo>
                    <a:pt x="0" y="246"/>
                  </a:lnTo>
                  <a:lnTo>
                    <a:pt x="382" y="246"/>
                  </a:lnTo>
                  <a:lnTo>
                    <a:pt x="382" y="2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2000" y="55638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66120" y="5524920"/>
              <a:ext cx="445320" cy="216360"/>
            </a:xfrm>
            <a:custGeom>
              <a:avLst/>
              <a:gdLst/>
              <a:ahLst/>
              <a:rect l="l" t="t" r="r" b="b"/>
              <a:pathLst>
                <a:path w="382" h="245">
                  <a:moveTo>
                    <a:pt x="382" y="241"/>
                  </a:moveTo>
                  <a:lnTo>
                    <a:pt x="382" y="0"/>
                  </a:lnTo>
                  <a:lnTo>
                    <a:pt x="0" y="0"/>
                  </a:lnTo>
                  <a:lnTo>
                    <a:pt x="0" y="245"/>
                  </a:lnTo>
                  <a:lnTo>
                    <a:pt x="382" y="245"/>
                  </a:lnTo>
                  <a:lnTo>
                    <a:pt x="382" y="2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44600" y="48114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66120" y="4775400"/>
              <a:ext cx="445320" cy="212760"/>
            </a:xfrm>
            <a:custGeom>
              <a:avLst/>
              <a:gdLst/>
              <a:ahLst/>
              <a:rect l="l" t="t" r="r" b="b"/>
              <a:pathLst>
                <a:path w="382" h="241">
                  <a:moveTo>
                    <a:pt x="382" y="241"/>
                  </a:moveTo>
                  <a:lnTo>
                    <a:pt x="382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2" y="241"/>
                  </a:lnTo>
                  <a:lnTo>
                    <a:pt x="382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91560" y="45014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94720" y="5741640"/>
              <a:ext cx="901080" cy="183600"/>
            </a:xfrm>
            <a:custGeom>
              <a:avLst/>
              <a:gdLst/>
              <a:ahLst/>
              <a:rect l="l" t="t" r="r" b="b"/>
              <a:pathLst>
                <a:path w="773" h="208">
                  <a:moveTo>
                    <a:pt x="0" y="0"/>
                  </a:moveTo>
                  <a:lnTo>
                    <a:pt x="3" y="208"/>
                  </a:lnTo>
                  <a:lnTo>
                    <a:pt x="773" y="208"/>
                  </a:lnTo>
                  <a:lnTo>
                    <a:pt x="77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22200" y="5738040"/>
              <a:ext cx="844200" cy="189720"/>
            </a:xfrm>
            <a:custGeom>
              <a:avLst/>
              <a:gdLst/>
              <a:ahLst/>
              <a:rect l="l" t="t" r="r" b="b"/>
              <a:pathLst>
                <a:path w="724" h="215">
                  <a:moveTo>
                    <a:pt x="0" y="0"/>
                  </a:moveTo>
                  <a:lnTo>
                    <a:pt x="0" y="215"/>
                  </a:lnTo>
                  <a:lnTo>
                    <a:pt x="724" y="215"/>
                  </a:lnTo>
                  <a:lnTo>
                    <a:pt x="724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88120" y="5738040"/>
              <a:ext cx="845280" cy="189720"/>
            </a:xfrm>
            <a:custGeom>
              <a:avLst/>
              <a:gdLst/>
              <a:ahLst/>
              <a:rect l="l" t="t" r="r" b="b"/>
              <a:pathLst>
                <a:path w="725" h="215">
                  <a:moveTo>
                    <a:pt x="0" y="0"/>
                  </a:moveTo>
                  <a:lnTo>
                    <a:pt x="0" y="215"/>
                  </a:lnTo>
                  <a:lnTo>
                    <a:pt x="725" y="215"/>
                  </a:lnTo>
                  <a:lnTo>
                    <a:pt x="725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3680" y="5738040"/>
              <a:ext cx="937440" cy="189720"/>
            </a:xfrm>
            <a:custGeom>
              <a:avLst/>
              <a:gdLst/>
              <a:ahLst/>
              <a:rect l="l" t="t" r="r" b="b"/>
              <a:pathLst>
                <a:path w="804" h="215">
                  <a:moveTo>
                    <a:pt x="0" y="0"/>
                  </a:moveTo>
                  <a:lnTo>
                    <a:pt x="4" y="215"/>
                  </a:lnTo>
                  <a:lnTo>
                    <a:pt x="804" y="215"/>
                  </a:lnTo>
                  <a:lnTo>
                    <a:pt x="804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898320" y="5378040"/>
              <a:ext cx="468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898320" y="4996440"/>
              <a:ext cx="468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494720" y="4991400"/>
              <a:ext cx="1080" cy="15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494720" y="5364720"/>
              <a:ext cx="108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1FA-BC02-4E10-98A3-BFB076DD74F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rvice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less (datagram-b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-effort delivery (unreliable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are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are delivered out of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plicate copies of a packet are deli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can be delayed for a lon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038120" y="3505320"/>
            <a:ext cx="3286800" cy="2514240"/>
            <a:chOff x="4038120" y="3505320"/>
            <a:chExt cx="3286800" cy="2514240"/>
          </a:xfrm>
        </p:grpSpPr>
        <p:sp>
          <p:nvSpPr>
            <p:cNvPr id="147" name=""/>
            <p:cNvSpPr/>
            <p:nvPr/>
          </p:nvSpPr>
          <p:spPr>
            <a:xfrm>
              <a:off x="4122000" y="37285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91840" y="372852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r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71360" y="372852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L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4600" y="3726000"/>
              <a:ext cx="26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10800" y="37260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34720" y="40039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30120" y="400392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09880" y="4003920"/>
              <a:ext cx="33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59680" y="42692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4760" y="426924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23680" y="4269240"/>
              <a:ext cx="59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ecks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53560" y="4533480"/>
              <a:ext cx="66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41600" y="4804200"/>
              <a:ext cx="89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tination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38040" y="5073840"/>
              <a:ext cx="99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s (variabl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66920" y="502416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40560" y="513540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variabl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67640" y="3663720"/>
              <a:ext cx="3180960" cy="1878120"/>
            </a:xfrm>
            <a:custGeom>
              <a:avLst/>
              <a:gdLst/>
              <a:ahLst/>
              <a:rect l="l" t="t" r="r" b="b"/>
              <a:pathLst>
                <a:path w="3458" h="2075">
                  <a:moveTo>
                    <a:pt x="3458" y="2071"/>
                  </a:moveTo>
                  <a:lnTo>
                    <a:pt x="3458" y="0"/>
                  </a:lnTo>
                  <a:lnTo>
                    <a:pt x="0" y="0"/>
                  </a:lnTo>
                  <a:lnTo>
                    <a:pt x="0" y="207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67640" y="3933360"/>
              <a:ext cx="318096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67640" y="4204080"/>
              <a:ext cx="318096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67640" y="4473720"/>
              <a:ext cx="318096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67640" y="4744440"/>
              <a:ext cx="3180960" cy="2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78800" y="5015880"/>
              <a:ext cx="3180960" cy="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68560" y="3669120"/>
              <a:ext cx="720" cy="817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43960" y="3659760"/>
              <a:ext cx="720" cy="27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68520" y="3933360"/>
              <a:ext cx="720" cy="270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78200" y="5018040"/>
              <a:ext cx="2520" cy="270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43960" y="4204080"/>
              <a:ext cx="720" cy="269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57240" y="3659760"/>
              <a:ext cx="720" cy="27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38120" y="350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23760" y="350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09400" y="350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89000" y="3505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47280" y="3505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84160" y="3505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67640" y="5288400"/>
              <a:ext cx="3180960" cy="368280"/>
            </a:xfrm>
            <a:custGeom>
              <a:avLst/>
              <a:gdLst/>
              <a:ahLst/>
              <a:rect l="l" t="t" r="r" b="b"/>
              <a:pathLst>
                <a:path w="3458" h="407">
                  <a:moveTo>
                    <a:pt x="0" y="375"/>
                  </a:moveTo>
                  <a:lnTo>
                    <a:pt x="0" y="0"/>
                  </a:lnTo>
                  <a:lnTo>
                    <a:pt x="3458" y="0"/>
                  </a:lnTo>
                  <a:lnTo>
                    <a:pt x="3458" y="375"/>
                  </a:lnTo>
                  <a:lnTo>
                    <a:pt x="3217" y="254"/>
                  </a:lnTo>
                  <a:lnTo>
                    <a:pt x="2926" y="349"/>
                  </a:lnTo>
                  <a:lnTo>
                    <a:pt x="2667" y="200"/>
                  </a:lnTo>
                  <a:lnTo>
                    <a:pt x="2481" y="349"/>
                  </a:lnTo>
                  <a:lnTo>
                    <a:pt x="2223" y="276"/>
                  </a:lnTo>
                  <a:lnTo>
                    <a:pt x="1964" y="345"/>
                  </a:lnTo>
                  <a:lnTo>
                    <a:pt x="1716" y="251"/>
                  </a:lnTo>
                  <a:lnTo>
                    <a:pt x="1520" y="367"/>
                  </a:lnTo>
                  <a:lnTo>
                    <a:pt x="1352" y="258"/>
                  </a:lnTo>
                  <a:lnTo>
                    <a:pt x="1155" y="324"/>
                  </a:lnTo>
                  <a:lnTo>
                    <a:pt x="984" y="251"/>
                  </a:lnTo>
                  <a:lnTo>
                    <a:pt x="780" y="407"/>
                  </a:lnTo>
                  <a:lnTo>
                    <a:pt x="612" y="265"/>
                  </a:lnTo>
                  <a:lnTo>
                    <a:pt x="387" y="345"/>
                  </a:lnTo>
                  <a:lnTo>
                    <a:pt x="208" y="265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67640" y="5288400"/>
              <a:ext cx="3180960" cy="368280"/>
            </a:xfrm>
            <a:custGeom>
              <a:avLst/>
              <a:gdLst/>
              <a:ahLst/>
              <a:rect l="l" t="t" r="r" b="b"/>
              <a:pathLst>
                <a:path w="3458" h="407">
                  <a:moveTo>
                    <a:pt x="0" y="375"/>
                  </a:moveTo>
                  <a:lnTo>
                    <a:pt x="0" y="0"/>
                  </a:lnTo>
                  <a:lnTo>
                    <a:pt x="3458" y="0"/>
                  </a:lnTo>
                  <a:lnTo>
                    <a:pt x="3458" y="375"/>
                  </a:lnTo>
                  <a:lnTo>
                    <a:pt x="3217" y="254"/>
                  </a:lnTo>
                  <a:lnTo>
                    <a:pt x="2926" y="349"/>
                  </a:lnTo>
                  <a:lnTo>
                    <a:pt x="2667" y="200"/>
                  </a:lnTo>
                  <a:lnTo>
                    <a:pt x="2481" y="349"/>
                  </a:lnTo>
                  <a:lnTo>
                    <a:pt x="2223" y="276"/>
                  </a:lnTo>
                  <a:lnTo>
                    <a:pt x="1964" y="345"/>
                  </a:lnTo>
                  <a:lnTo>
                    <a:pt x="1716" y="251"/>
                  </a:lnTo>
                  <a:lnTo>
                    <a:pt x="1520" y="367"/>
                  </a:lnTo>
                  <a:lnTo>
                    <a:pt x="1352" y="258"/>
                  </a:lnTo>
                  <a:lnTo>
                    <a:pt x="1155" y="324"/>
                  </a:lnTo>
                  <a:lnTo>
                    <a:pt x="984" y="251"/>
                  </a:lnTo>
                  <a:lnTo>
                    <a:pt x="780" y="407"/>
                  </a:lnTo>
                  <a:lnTo>
                    <a:pt x="612" y="265"/>
                  </a:lnTo>
                  <a:lnTo>
                    <a:pt x="387" y="345"/>
                  </a:lnTo>
                  <a:lnTo>
                    <a:pt x="208" y="265"/>
                  </a:lnTo>
                  <a:lnTo>
                    <a:pt x="0" y="378"/>
                  </a:lnTo>
                  <a:lnTo>
                    <a:pt x="0" y="3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30320" y="5318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71600" y="5568120"/>
              <a:ext cx="3180240" cy="451440"/>
            </a:xfrm>
            <a:custGeom>
              <a:avLst/>
              <a:gdLst/>
              <a:ahLst/>
              <a:rect l="l" t="t" r="r" b="b"/>
              <a:pathLst>
                <a:path w="3457" h="499">
                  <a:moveTo>
                    <a:pt x="0" y="175"/>
                  </a:moveTo>
                  <a:lnTo>
                    <a:pt x="4" y="499"/>
                  </a:lnTo>
                  <a:lnTo>
                    <a:pt x="3457" y="499"/>
                  </a:lnTo>
                  <a:lnTo>
                    <a:pt x="3457" y="171"/>
                  </a:lnTo>
                  <a:lnTo>
                    <a:pt x="3220" y="55"/>
                  </a:lnTo>
                  <a:lnTo>
                    <a:pt x="2929" y="149"/>
                  </a:lnTo>
                  <a:lnTo>
                    <a:pt x="2670" y="0"/>
                  </a:lnTo>
                  <a:lnTo>
                    <a:pt x="2485" y="149"/>
                  </a:lnTo>
                  <a:lnTo>
                    <a:pt x="2226" y="73"/>
                  </a:lnTo>
                  <a:lnTo>
                    <a:pt x="1964" y="146"/>
                  </a:lnTo>
                  <a:lnTo>
                    <a:pt x="1716" y="51"/>
                  </a:lnTo>
                  <a:lnTo>
                    <a:pt x="1519" y="164"/>
                  </a:lnTo>
                  <a:lnTo>
                    <a:pt x="1352" y="58"/>
                  </a:lnTo>
                  <a:lnTo>
                    <a:pt x="1155" y="124"/>
                  </a:lnTo>
                  <a:lnTo>
                    <a:pt x="984" y="51"/>
                  </a:lnTo>
                  <a:lnTo>
                    <a:pt x="780" y="208"/>
                  </a:lnTo>
                  <a:lnTo>
                    <a:pt x="612" y="66"/>
                  </a:lnTo>
                  <a:lnTo>
                    <a:pt x="390" y="146"/>
                  </a:lnTo>
                  <a:lnTo>
                    <a:pt x="211" y="66"/>
                  </a:lnTo>
                  <a:lnTo>
                    <a:pt x="4" y="178"/>
                  </a:lnTo>
                  <a:lnTo>
                    <a:pt x="4" y="178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71600" y="5568120"/>
              <a:ext cx="3180240" cy="451440"/>
            </a:xfrm>
            <a:custGeom>
              <a:avLst/>
              <a:gdLst/>
              <a:ahLst/>
              <a:rect l="l" t="t" r="r" b="b"/>
              <a:pathLst>
                <a:path w="3457" h="499">
                  <a:moveTo>
                    <a:pt x="0" y="175"/>
                  </a:moveTo>
                  <a:lnTo>
                    <a:pt x="4" y="499"/>
                  </a:lnTo>
                  <a:lnTo>
                    <a:pt x="3457" y="499"/>
                  </a:lnTo>
                  <a:lnTo>
                    <a:pt x="3457" y="171"/>
                  </a:lnTo>
                  <a:lnTo>
                    <a:pt x="3220" y="55"/>
                  </a:lnTo>
                  <a:lnTo>
                    <a:pt x="2929" y="149"/>
                  </a:lnTo>
                  <a:lnTo>
                    <a:pt x="2670" y="0"/>
                  </a:lnTo>
                  <a:lnTo>
                    <a:pt x="2485" y="149"/>
                  </a:lnTo>
                  <a:lnTo>
                    <a:pt x="2226" y="73"/>
                  </a:lnTo>
                  <a:lnTo>
                    <a:pt x="1964" y="146"/>
                  </a:lnTo>
                  <a:lnTo>
                    <a:pt x="1716" y="51"/>
                  </a:lnTo>
                  <a:lnTo>
                    <a:pt x="1519" y="164"/>
                  </a:lnTo>
                  <a:lnTo>
                    <a:pt x="1352" y="58"/>
                  </a:lnTo>
                  <a:lnTo>
                    <a:pt x="1155" y="124"/>
                  </a:lnTo>
                  <a:lnTo>
                    <a:pt x="984" y="51"/>
                  </a:lnTo>
                  <a:lnTo>
                    <a:pt x="780" y="208"/>
                  </a:lnTo>
                  <a:lnTo>
                    <a:pt x="612" y="66"/>
                  </a:lnTo>
                  <a:lnTo>
                    <a:pt x="390" y="146"/>
                  </a:lnTo>
                  <a:lnTo>
                    <a:pt x="211" y="66"/>
                  </a:lnTo>
                  <a:lnTo>
                    <a:pt x="4" y="178"/>
                  </a:lnTo>
                  <a:lnTo>
                    <a:pt x="4" y="1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AF1-A876-4ECB-8978-F429E472EE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agmentation and Reassembl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etwork has some M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 when necessary (MTU &lt; Datag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 to avoid fragmentation at source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fragmentation is pos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s are self-contained data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S-PDU (not cells) for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 reassembly until destination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recover from lost frag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DA67-0252-4C67-87F5-51F9A713EA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xample 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89" name="PE04F04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5257800" cy="20797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6400800" y="1066680"/>
            <a:ext cx="2097000" cy="1027080"/>
            <a:chOff x="6400800" y="1066680"/>
            <a:chExt cx="2097000" cy="1027080"/>
          </a:xfrm>
        </p:grpSpPr>
        <p:sp>
          <p:nvSpPr>
            <p:cNvPr id="191" name=""/>
            <p:cNvSpPr/>
            <p:nvPr/>
          </p:nvSpPr>
          <p:spPr>
            <a:xfrm>
              <a:off x="6680520" y="13395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03000" y="1339560"/>
              <a:ext cx="18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= 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9560" y="1339560"/>
              <a:ext cx="30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76320" y="1339560"/>
              <a:ext cx="195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20440" y="1104840"/>
              <a:ext cx="76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tar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81320" y="1344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800" y="1560240"/>
              <a:ext cx="75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s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95240" y="1841400"/>
              <a:ext cx="82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00 data by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00800" y="1066680"/>
              <a:ext cx="2090880" cy="1027080"/>
            </a:xfrm>
            <a:custGeom>
              <a:avLst/>
              <a:gdLst/>
              <a:ahLst/>
              <a:rect l="l" t="t" r="r" b="b"/>
              <a:pathLst>
                <a:path w="1816" h="741">
                  <a:moveTo>
                    <a:pt x="1813" y="741"/>
                  </a:moveTo>
                  <a:lnTo>
                    <a:pt x="1816" y="0"/>
                  </a:lnTo>
                  <a:lnTo>
                    <a:pt x="0" y="0"/>
                  </a:lnTo>
                  <a:lnTo>
                    <a:pt x="0" y="741"/>
                  </a:lnTo>
                  <a:lnTo>
                    <a:pt x="1816" y="741"/>
                  </a:lnTo>
                  <a:lnTo>
                    <a:pt x="1816" y="74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00800" y="1293480"/>
              <a:ext cx="20844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00800" y="1518840"/>
              <a:ext cx="20844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13400" y="1726920"/>
              <a:ext cx="20844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94720" y="1328400"/>
              <a:ext cx="0" cy="200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40640" y="1296720"/>
              <a:ext cx="1440" cy="2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93040" y="1296720"/>
              <a:ext cx="3240" cy="2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50120" y="1296720"/>
              <a:ext cx="1440" cy="2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400800" y="2743200"/>
            <a:ext cx="2097000" cy="3314520"/>
            <a:chOff x="6400800" y="2743200"/>
            <a:chExt cx="2097000" cy="3314520"/>
          </a:xfrm>
        </p:grpSpPr>
        <p:grpSp>
          <p:nvGrpSpPr>
            <p:cNvPr id="208" name=""/>
            <p:cNvGrpSpPr/>
            <p:nvPr/>
          </p:nvGrpSpPr>
          <p:grpSpPr>
            <a:xfrm>
              <a:off x="6400800" y="2743200"/>
              <a:ext cx="2097000" cy="1028520"/>
              <a:chOff x="6400800" y="2743200"/>
              <a:chExt cx="2097000" cy="1028520"/>
            </a:xfrm>
          </p:grpSpPr>
          <p:sp>
            <p:nvSpPr>
              <p:cNvPr id="209" name=""/>
              <p:cNvSpPr/>
              <p:nvPr/>
            </p:nvSpPr>
            <p:spPr>
              <a:xfrm>
                <a:off x="6680520" y="30175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d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903000" y="3017520"/>
                <a:ext cx="189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= 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909560" y="3017520"/>
                <a:ext cx="30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176320" y="3017520"/>
                <a:ext cx="195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= 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120440" y="2779560"/>
                <a:ext cx="761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tart of hea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681320" y="3017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129800" y="3233520"/>
                <a:ext cx="755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est of hea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122600" y="3514680"/>
                <a:ext cx="756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12 data byt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00800" y="2743200"/>
                <a:ext cx="2090880" cy="1028520"/>
              </a:xfrm>
              <a:custGeom>
                <a:avLst/>
                <a:gdLst/>
                <a:ahLst/>
                <a:rect l="l" t="t" r="r" b="b"/>
                <a:pathLst>
                  <a:path w="1816" h="742">
                    <a:moveTo>
                      <a:pt x="1813" y="739"/>
                    </a:moveTo>
                    <a:lnTo>
                      <a:pt x="1816" y="0"/>
                    </a:lnTo>
                    <a:lnTo>
                      <a:pt x="0" y="0"/>
                    </a:lnTo>
                    <a:lnTo>
                      <a:pt x="0" y="742"/>
                    </a:lnTo>
                    <a:lnTo>
                      <a:pt x="1816" y="742"/>
                    </a:lnTo>
                    <a:lnTo>
                      <a:pt x="1816" y="74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413400" y="2944800"/>
                <a:ext cx="20844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00800" y="3193920"/>
                <a:ext cx="208440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400800" y="3421080"/>
                <a:ext cx="2084400" cy="4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794720" y="2944800"/>
                <a:ext cx="0" cy="264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640640" y="2970000"/>
                <a:ext cx="1440" cy="223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493040" y="2970000"/>
                <a:ext cx="3240" cy="223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350120" y="2970000"/>
                <a:ext cx="1440" cy="223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6400800" y="3886200"/>
              <a:ext cx="2090520" cy="1028520"/>
              <a:chOff x="6400800" y="3886200"/>
              <a:chExt cx="2090520" cy="102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6680160" y="41608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d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902280" y="4160880"/>
                <a:ext cx="189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= 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854840" y="4160880"/>
                <a:ext cx="30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118000" y="4160880"/>
                <a:ext cx="324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= 51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119720" y="3922560"/>
                <a:ext cx="761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tart of hea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80960" y="416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129080" y="4381560"/>
                <a:ext cx="755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est of hea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122240" y="4657680"/>
                <a:ext cx="756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12 data byt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00800" y="3886200"/>
                <a:ext cx="2090520" cy="1028520"/>
              </a:xfrm>
              <a:custGeom>
                <a:avLst/>
                <a:gdLst/>
                <a:ahLst/>
                <a:rect l="l" t="t" r="r" b="b"/>
                <a:pathLst>
                  <a:path w="1816" h="742">
                    <a:moveTo>
                      <a:pt x="1813" y="739"/>
                    </a:moveTo>
                    <a:lnTo>
                      <a:pt x="1816" y="0"/>
                    </a:lnTo>
                    <a:lnTo>
                      <a:pt x="0" y="0"/>
                    </a:lnTo>
                    <a:lnTo>
                      <a:pt x="0" y="742"/>
                    </a:lnTo>
                    <a:lnTo>
                      <a:pt x="1816" y="742"/>
                    </a:lnTo>
                    <a:lnTo>
                      <a:pt x="1816" y="74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00800" y="4110120"/>
                <a:ext cx="208404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00800" y="4338720"/>
                <a:ext cx="2084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400800" y="4565520"/>
                <a:ext cx="20840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94360" y="4098960"/>
                <a:ext cx="2880" cy="225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40280" y="4113000"/>
                <a:ext cx="1080" cy="225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492680" y="4113000"/>
                <a:ext cx="2880" cy="225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349760" y="4113000"/>
                <a:ext cx="1080" cy="225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6400800" y="5029200"/>
              <a:ext cx="2097000" cy="1028520"/>
              <a:chOff x="6400800" y="5029200"/>
              <a:chExt cx="2097000" cy="1028520"/>
            </a:xfrm>
          </p:grpSpPr>
          <p:sp>
            <p:nvSpPr>
              <p:cNvPr id="243" name=""/>
              <p:cNvSpPr/>
              <p:nvPr/>
            </p:nvSpPr>
            <p:spPr>
              <a:xfrm>
                <a:off x="6680520" y="53038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d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903000" y="5303880"/>
                <a:ext cx="189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= 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25320" y="5303880"/>
                <a:ext cx="30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91360" y="5303880"/>
                <a:ext cx="387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= 102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120440" y="5070600"/>
                <a:ext cx="761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tart of hea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681320" y="5303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29800" y="5524560"/>
                <a:ext cx="755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est of hea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122600" y="5803920"/>
                <a:ext cx="756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76 data byt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00800" y="5029200"/>
                <a:ext cx="2090880" cy="1028520"/>
              </a:xfrm>
              <a:custGeom>
                <a:avLst/>
                <a:gdLst/>
                <a:ahLst/>
                <a:rect l="l" t="t" r="r" b="b"/>
                <a:pathLst>
                  <a:path w="1816" h="742">
                    <a:moveTo>
                      <a:pt x="1813" y="742"/>
                    </a:moveTo>
                    <a:lnTo>
                      <a:pt x="1816" y="0"/>
                    </a:lnTo>
                    <a:lnTo>
                      <a:pt x="0" y="0"/>
                    </a:lnTo>
                    <a:lnTo>
                      <a:pt x="0" y="742"/>
                    </a:lnTo>
                    <a:lnTo>
                      <a:pt x="1816" y="742"/>
                    </a:lnTo>
                    <a:lnTo>
                      <a:pt x="1816" y="74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00800" y="5257800"/>
                <a:ext cx="2084400" cy="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413400" y="5451480"/>
                <a:ext cx="2084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400800" y="5711760"/>
                <a:ext cx="2084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794720" y="5251320"/>
                <a:ext cx="3240" cy="22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640640" y="5261040"/>
                <a:ext cx="1440" cy="22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493040" y="5261040"/>
                <a:ext cx="3240" cy="22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50120" y="5261040"/>
                <a:ext cx="1440" cy="22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"/>
          <p:cNvSpPr/>
          <p:nvPr/>
        </p:nvSpPr>
        <p:spPr>
          <a:xfrm>
            <a:off x="7467480" y="2133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C09-F1E0-4BFA-B71D-1D8E702159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lobal Address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ly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ical: network +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t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3.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8.96.33.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.12.69.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190760" y="3124080"/>
            <a:ext cx="4097160" cy="2280960"/>
            <a:chOff x="4190760" y="3124080"/>
            <a:chExt cx="4097160" cy="2280960"/>
          </a:xfrm>
        </p:grpSpPr>
        <p:sp>
          <p:nvSpPr>
            <p:cNvPr id="263" name=""/>
            <p:cNvSpPr/>
            <p:nvPr/>
          </p:nvSpPr>
          <p:spPr>
            <a:xfrm>
              <a:off x="5095800" y="346644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13080" y="346644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05400" y="3124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17480" y="3124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34720" y="3466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41480" y="3368520"/>
              <a:ext cx="3646440" cy="403560"/>
            </a:xfrm>
            <a:custGeom>
              <a:avLst/>
              <a:gdLst/>
              <a:ahLst/>
              <a:rect l="l" t="t" r="r" b="b"/>
              <a:pathLst>
                <a:path w="2638" h="330">
                  <a:moveTo>
                    <a:pt x="2638" y="326"/>
                  </a:moveTo>
                  <a:lnTo>
                    <a:pt x="2638" y="0"/>
                  </a:lnTo>
                  <a:lnTo>
                    <a:pt x="0" y="0"/>
                  </a:lnTo>
                  <a:lnTo>
                    <a:pt x="0" y="330"/>
                  </a:lnTo>
                  <a:lnTo>
                    <a:pt x="2638" y="330"/>
                  </a:lnTo>
                  <a:lnTo>
                    <a:pt x="2638" y="33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34520" y="3368520"/>
              <a:ext cx="5400" cy="40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01120" y="3353760"/>
              <a:ext cx="5040" cy="40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94720" y="34430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35160" y="429588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78200" y="429588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95800" y="3952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77920" y="3952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34720" y="4295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28480" y="4295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41480" y="4197960"/>
              <a:ext cx="3646440" cy="397440"/>
            </a:xfrm>
            <a:custGeom>
              <a:avLst/>
              <a:gdLst/>
              <a:ahLst/>
              <a:rect l="l" t="t" r="r" b="b"/>
              <a:pathLst>
                <a:path w="2638" h="325">
                  <a:moveTo>
                    <a:pt x="2638" y="321"/>
                  </a:moveTo>
                  <a:lnTo>
                    <a:pt x="2638" y="0"/>
                  </a:lnTo>
                  <a:lnTo>
                    <a:pt x="0" y="0"/>
                  </a:lnTo>
                  <a:lnTo>
                    <a:pt x="0" y="325"/>
                  </a:lnTo>
                  <a:lnTo>
                    <a:pt x="2638" y="325"/>
                  </a:lnTo>
                  <a:lnTo>
                    <a:pt x="2638" y="3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34520" y="4197960"/>
              <a:ext cx="5400" cy="39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22160" y="4197960"/>
              <a:ext cx="1440" cy="39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96160" y="4176000"/>
              <a:ext cx="5040" cy="3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90760" y="42739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00640" y="510084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23800" y="510084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41120" y="4757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58800" y="4757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30040" y="5100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3520" y="5100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37000" y="5100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41480" y="5002920"/>
              <a:ext cx="3646440" cy="402120"/>
            </a:xfrm>
            <a:custGeom>
              <a:avLst/>
              <a:gdLst/>
              <a:ahLst/>
              <a:rect l="l" t="t" r="r" b="b"/>
              <a:pathLst>
                <a:path w="2638" h="329">
                  <a:moveTo>
                    <a:pt x="2638" y="326"/>
                  </a:moveTo>
                  <a:lnTo>
                    <a:pt x="2638" y="0"/>
                  </a:lnTo>
                  <a:lnTo>
                    <a:pt x="0" y="0"/>
                  </a:lnTo>
                  <a:lnTo>
                    <a:pt x="0" y="329"/>
                  </a:lnTo>
                  <a:lnTo>
                    <a:pt x="2638" y="329"/>
                  </a:lnTo>
                  <a:lnTo>
                    <a:pt x="2638" y="32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34520" y="5002920"/>
              <a:ext cx="540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68840" y="4998240"/>
              <a:ext cx="1440" cy="39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27560" y="5002920"/>
              <a:ext cx="1440" cy="40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40560" y="5002920"/>
              <a:ext cx="1080" cy="40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01920" y="509112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6C8-2709-4492-8B87-EBD33866F6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atagram Forwarding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datagram contains destination’s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rectly connected to destination network, then forward to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 directly connected to destination network, then forward to some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ing table maps network number into next 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host has a default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uter maintains a forward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R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ext 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terfac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terface 0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29200" y="43434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4648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10280" y="43434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4274-2C18-4AC0-9205-3C830419CC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dress Translation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IP addresses into physical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hop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 physical address in host part of IP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of IP to physical address b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request if IP address not i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machine responds with its physical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ntries are discarded if not refre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03F-F1CA-475C-9D8B-0F869F7AA8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RP Detai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Type: type of physical network (e.g., Ether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Type: type of higher layer protocol (e.g., 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LEN &amp; PLEN: length of physical and protocol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: request or respon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/Target-Physical/Protocol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 entries timeout in about 10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table with source when you are the targ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table if already have an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refresh table entries upon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3ED4-C08F-4A13-9015-A92E5372D6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1T02:01:05Z</dcterms:created>
  <dc:creator>klp</dc:creator>
  <dc:description/>
  <dc:language>en-US</dc:language>
  <cp:lastModifiedBy>Ryan Peterson</cp:lastModifiedBy>
  <dcterms:modified xsi:type="dcterms:W3CDTF">2000-02-05T18:20:25Z</dcterms:modified>
  <cp:revision>10</cp:revision>
  <dc:subject/>
  <dc:title>Internetworking </dc:title>
</cp:coreProperties>
</file>