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E5D-C0E7-4BB2-8C65-BABA8E3B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A22-9244-4CC1-80A5-515F441C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15E-459B-42F2-A07F-6C41B369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248-0757-42A0-A07B-FA7009D8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3E4-1C8B-4F80-9C51-EBB73605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2EB-8F26-4ACC-902A-AE881B7C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C98-7455-498A-B299-415F2694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F4A-803D-4EFE-A9D9-4CE55402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5E7-62A9-4711-AB1B-642B3EB8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CAE-C7A2-44D7-9BF6-9D8C8F17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06D-E1C0-4053-91EE-77719786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052-329F-4CB1-900A-69010D6D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5302-75B4-4E0C-9E46-09D35353A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mote Procedure Cal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748-9DA6-44D8-AA50-AA781DC3A35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AN Header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  Type;    /* REQ, REP, ACK, PROB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  CID;     /* unique channel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MID;     /* unique message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BID;     /* unique boot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Length;  /* length of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ProtNum; /* high-level protoc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ChanH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char    type;         /* CLIENT or SERV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char    status;       /* BUSY or ID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retries;      /* number of retri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timeout;      /* timeout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kReturn  ret_val;      /* return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*request;     /* request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*reply;       /* reply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aphore reply_sem;    /* client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mid;          /* message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bid;          /* boot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Chan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070-9FAF-4CDB-B550-BCB0EDB5F1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ynchronous vs Asynchronous Protoco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ush(Sessn 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op(Sessn s, Msg *msg, void *h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Demux(Protl hlp, Sessn 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all(Sessn s, Msg *req, Msg *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allPop(Sessn s, Msg *req, Msg *rep, void *h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allDemux(Protl hlp, Sessn s, Msg *req, Msg *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 is a hybrid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from abov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 from below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Pop/xDe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7D2-7E6A-482D-8C3F-D2BC01B865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Call(Sessn self, Msg *msg, Msg *rmsg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tate   *state = (ChanState *)self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Hdr     *h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       *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nsure only one transaction per channe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state-&gt;status != IDL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K_FAIL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status = BUS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ave copy of req msg and ptr to rep msg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ConstructCopy(&amp;state-&gt;request, ms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reply = rms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ll out header field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dr = state-&gt;hdr_templ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dr-&gt;Length = msgLen(ms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tate-&gt;mid == MAX_M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mid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dr-&gt;MID = ++state-&gt;m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D3D-666F-4EAE-822C-1508C02D0E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attach header to msg and send 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 = msgPush(msg, HDR_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_hdr_store(hdr, buf, HDR_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Push(xGetDown(self, 0), ms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chedule first timeout ev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retries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event = evSchedule(retransmit, self, state-&gt;time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ait for the reply msg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Wait(&amp;state-&gt;reply_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lean up state and retur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ush_msg(state-&gt;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status = I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tate-&gt;ret_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E88-59D7-4F13-8281-B14F81A576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ransmit(Event ev, int *arg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ssn        s = (Sessn)ar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tate    *state = (ChanState *)s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   t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ee if event was cancell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evIsCancelled(ev) ) 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nblock client if we've retried 4 tim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++state-&gt;retries &gt; 4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ret_val = XK_FAIL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Signal(state-&gt;rep_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transmit request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ConstructCopy(&amp;tmp, &amp;state-&gt;reques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Push(xGetDown(s, 0), &amp;tm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schedule event with exponential backof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Detach(state-&gt;ev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timeout = 2*state-&gt;time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event = evSchedule(retransmit, s,                               state-&gt;time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203-5A92-4F04-B320-194885532B0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Pop(Sessn self, Sessn lls, Msg *msg, void *in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ee if this is a CLIENT or SERVER sess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lf-&gt;state-&gt;type ==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chanServerPop(self, lls, msg, inHd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chanClientPop(self, lls, msg, inHd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C25-8457-4CF8-B403-9C1ACEE1499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ClientPop(Sessn self, Sessn lls, Msg *msg, void *in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tate    *state = (ChanState *)self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Hdr      *hdr = (ChanHdr *)inH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verify correctness of msg head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!clnt_msg_ok(state, hd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K_FAIL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ancel retransmit timeout ev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Cancel(state-&gt;ev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f ACK, then schedule PROBE and exit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hdr-&gt;Type == 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event = evSchedule(probe, s, PROB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K_SUC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ave reply and signal cli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Assign(state-&gt;reply, ms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ret_val = XK_SUC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Signal(&amp;state-&gt;reply_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K_SUC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988-9AA8-4FFA-B6FC-33683E0CE8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patcher (SELEC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886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atch to appropriate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counterpart to 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029200" y="1523880"/>
            <a:ext cx="3171600" cy="3504960"/>
            <a:chOff x="5029200" y="1523880"/>
            <a:chExt cx="3171600" cy="3504960"/>
          </a:xfrm>
        </p:grpSpPr>
        <p:sp>
          <p:nvSpPr>
            <p:cNvPr id="216" name=""/>
            <p:cNvSpPr/>
            <p:nvPr/>
          </p:nvSpPr>
          <p:spPr>
            <a:xfrm>
              <a:off x="5705280" y="3393720"/>
              <a:ext cx="279360" cy="1141560"/>
            </a:xfrm>
            <a:custGeom>
              <a:avLst/>
              <a:gdLst/>
              <a:ahLst/>
              <a:rect l="l" t="t" r="r" b="b"/>
              <a:pathLst>
                <a:path w="330" h="1173">
                  <a:moveTo>
                    <a:pt x="0" y="0"/>
                  </a:moveTo>
                  <a:lnTo>
                    <a:pt x="0" y="1173"/>
                  </a:lnTo>
                  <a:lnTo>
                    <a:pt x="330" y="117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9960" y="3398760"/>
              <a:ext cx="290520" cy="1136520"/>
            </a:xfrm>
            <a:custGeom>
              <a:avLst/>
              <a:gdLst/>
              <a:ahLst/>
              <a:rect l="l" t="t" r="r" b="b"/>
              <a:pathLst>
                <a:path w="344" h="1169">
                  <a:moveTo>
                    <a:pt x="0" y="1169"/>
                  </a:moveTo>
                  <a:lnTo>
                    <a:pt x="344" y="1169"/>
                  </a:lnTo>
                  <a:lnTo>
                    <a:pt x="34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29200" y="1523880"/>
              <a:ext cx="1341360" cy="2288880"/>
            </a:xfrm>
            <a:custGeom>
              <a:avLst/>
              <a:gdLst/>
              <a:ahLst/>
              <a:rect l="l" t="t" r="r" b="b"/>
              <a:pathLst>
                <a:path w="1590" h="2353">
                  <a:moveTo>
                    <a:pt x="1590" y="2353"/>
                  </a:moveTo>
                  <a:lnTo>
                    <a:pt x="1590" y="0"/>
                  </a:lnTo>
                  <a:lnTo>
                    <a:pt x="0" y="0"/>
                  </a:lnTo>
                  <a:lnTo>
                    <a:pt x="0" y="2353"/>
                  </a:lnTo>
                  <a:lnTo>
                    <a:pt x="1590" y="2353"/>
                  </a:lnTo>
                  <a:lnTo>
                    <a:pt x="1590" y="235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58000" y="1523880"/>
              <a:ext cx="1342800" cy="2288880"/>
            </a:xfrm>
            <a:custGeom>
              <a:avLst/>
              <a:gdLst/>
              <a:ahLst/>
              <a:rect l="l" t="t" r="r" b="b"/>
              <a:pathLst>
                <a:path w="1593" h="2353">
                  <a:moveTo>
                    <a:pt x="1590" y="2353"/>
                  </a:moveTo>
                  <a:lnTo>
                    <a:pt x="1593" y="0"/>
                  </a:lnTo>
                  <a:lnTo>
                    <a:pt x="0" y="0"/>
                  </a:lnTo>
                  <a:lnTo>
                    <a:pt x="0" y="2353"/>
                  </a:lnTo>
                  <a:lnTo>
                    <a:pt x="1593" y="2353"/>
                  </a:lnTo>
                  <a:lnTo>
                    <a:pt x="1593" y="2353"/>
                  </a:lnTo>
                  <a:lnTo>
                    <a:pt x="1590" y="235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74960" y="1698480"/>
              <a:ext cx="26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20600" y="2358720"/>
              <a:ext cx="39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50840" y="309204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9120" y="202068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C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39120" y="265896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C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56840" y="352548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6960" y="3525480"/>
              <a:ext cx="28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Pus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3160" y="2290680"/>
              <a:ext cx="439560" cy="287280"/>
            </a:xfrm>
            <a:custGeom>
              <a:avLst/>
              <a:gdLst/>
              <a:ahLst/>
              <a:rect l="l" t="t" r="r" b="b"/>
              <a:pathLst>
                <a:path w="521" h="295">
                  <a:moveTo>
                    <a:pt x="517" y="292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521" y="295"/>
                  </a:lnTo>
                  <a:lnTo>
                    <a:pt x="521" y="2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6400" y="1634760"/>
              <a:ext cx="439560" cy="287640"/>
            </a:xfrm>
            <a:custGeom>
              <a:avLst/>
              <a:gdLst/>
              <a:ahLst/>
              <a:rect l="l" t="t" r="r" b="b"/>
              <a:pathLst>
                <a:path w="521" h="295">
                  <a:moveTo>
                    <a:pt x="518" y="295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521" y="295"/>
                  </a:lnTo>
                  <a:lnTo>
                    <a:pt x="521" y="2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83160" y="2938320"/>
              <a:ext cx="439560" cy="455400"/>
            </a:xfrm>
            <a:custGeom>
              <a:avLst/>
              <a:gdLst/>
              <a:ahLst/>
              <a:rect l="l" t="t" r="r" b="b"/>
              <a:pathLst>
                <a:path w="521" h="469">
                  <a:moveTo>
                    <a:pt x="521" y="469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469"/>
                  </a:lnTo>
                  <a:lnTo>
                    <a:pt x="521" y="469"/>
                  </a:lnTo>
                  <a:lnTo>
                    <a:pt x="521" y="46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86120" y="3393720"/>
              <a:ext cx="1800" cy="31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73520" y="3695400"/>
              <a:ext cx="30240" cy="6372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0" y="0"/>
                  </a:moveTo>
                  <a:lnTo>
                    <a:pt x="17" y="66"/>
                  </a:lnTo>
                  <a:lnTo>
                    <a:pt x="3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798880" y="3438360"/>
              <a:ext cx="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8880" y="3392280"/>
              <a:ext cx="25560" cy="6012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31" y="59"/>
                  </a:moveTo>
                  <a:lnTo>
                    <a:pt x="17" y="0"/>
                  </a:lnTo>
                  <a:lnTo>
                    <a:pt x="0" y="62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3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02040" y="1922400"/>
              <a:ext cx="1800" cy="31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88000" y="2225520"/>
              <a:ext cx="29880" cy="6012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0"/>
                  </a:moveTo>
                  <a:lnTo>
                    <a:pt x="17" y="6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02040" y="2574720"/>
              <a:ext cx="1800" cy="317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88000" y="2877840"/>
              <a:ext cx="29880" cy="604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0"/>
                  </a:moveTo>
                  <a:lnTo>
                    <a:pt x="17" y="6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5480" y="169848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l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52560" y="2358720"/>
              <a:ext cx="39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81000" y="309204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73960" y="205704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Call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70720" y="270180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Call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72600" y="351288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14240" y="3512880"/>
              <a:ext cx="28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Pus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13320" y="2290680"/>
              <a:ext cx="439920" cy="287280"/>
            </a:xfrm>
            <a:custGeom>
              <a:avLst/>
              <a:gdLst/>
              <a:ahLst/>
              <a:rect l="l" t="t" r="r" b="b"/>
              <a:pathLst>
                <a:path w="521" h="295">
                  <a:moveTo>
                    <a:pt x="521" y="292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521" y="295"/>
                  </a:lnTo>
                  <a:lnTo>
                    <a:pt x="521" y="2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18360" y="1634760"/>
              <a:ext cx="439560" cy="287640"/>
            </a:xfrm>
            <a:custGeom>
              <a:avLst/>
              <a:gdLst/>
              <a:ahLst/>
              <a:rect l="l" t="t" r="r" b="b"/>
              <a:pathLst>
                <a:path w="521" h="295">
                  <a:moveTo>
                    <a:pt x="517" y="295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521" y="295"/>
                  </a:lnTo>
                  <a:lnTo>
                    <a:pt x="521" y="2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13320" y="2938320"/>
              <a:ext cx="439920" cy="455400"/>
            </a:xfrm>
            <a:custGeom>
              <a:avLst/>
              <a:gdLst/>
              <a:ahLst/>
              <a:rect l="l" t="t" r="r" b="b"/>
              <a:pathLst>
                <a:path w="521" h="469">
                  <a:moveTo>
                    <a:pt x="521" y="469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469"/>
                  </a:lnTo>
                  <a:lnTo>
                    <a:pt x="521" y="469"/>
                  </a:lnTo>
                  <a:lnTo>
                    <a:pt x="521" y="46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9880" y="3393720"/>
              <a:ext cx="0" cy="31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5480" y="3695400"/>
              <a:ext cx="28800" cy="637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0"/>
                  </a:moveTo>
                  <a:lnTo>
                    <a:pt x="17" y="66"/>
                  </a:lnTo>
                  <a:lnTo>
                    <a:pt x="3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7540560" y="3438360"/>
              <a:ext cx="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30840" y="3398760"/>
              <a:ext cx="27000" cy="601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2" y="59"/>
                  </a:moveTo>
                  <a:lnTo>
                    <a:pt x="18" y="0"/>
                  </a:lnTo>
                  <a:lnTo>
                    <a:pt x="0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434000" y="1973160"/>
              <a:ext cx="1800" cy="312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19960" y="1922400"/>
              <a:ext cx="28440" cy="6012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35" y="62"/>
                  </a:moveTo>
                  <a:lnTo>
                    <a:pt x="18" y="0"/>
                  </a:lnTo>
                  <a:lnTo>
                    <a:pt x="0" y="62"/>
                  </a:lnTo>
                  <a:lnTo>
                    <a:pt x="35" y="62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434000" y="2628720"/>
              <a:ext cx="1800" cy="30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19960" y="2577960"/>
              <a:ext cx="28440" cy="6012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35" y="62"/>
                  </a:moveTo>
                  <a:lnTo>
                    <a:pt x="18" y="0"/>
                  </a:lnTo>
                  <a:lnTo>
                    <a:pt x="0" y="62"/>
                  </a:lnTo>
                  <a:lnTo>
                    <a:pt x="35" y="62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08400" y="1550880"/>
              <a:ext cx="30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43440" y="4049640"/>
              <a:ext cx="506520" cy="485640"/>
            </a:xfrm>
            <a:custGeom>
              <a:avLst/>
              <a:gdLst/>
              <a:ahLst/>
              <a:rect l="l" t="t" r="r" b="b"/>
              <a:pathLst>
                <a:path w="600" h="500">
                  <a:moveTo>
                    <a:pt x="0" y="53"/>
                  </a:moveTo>
                  <a:lnTo>
                    <a:pt x="7" y="53"/>
                  </a:lnTo>
                  <a:lnTo>
                    <a:pt x="17" y="46"/>
                  </a:lnTo>
                  <a:lnTo>
                    <a:pt x="31" y="35"/>
                  </a:lnTo>
                  <a:lnTo>
                    <a:pt x="52" y="25"/>
                  </a:lnTo>
                  <a:lnTo>
                    <a:pt x="79" y="14"/>
                  </a:lnTo>
                  <a:lnTo>
                    <a:pt x="107" y="4"/>
                  </a:lnTo>
                  <a:lnTo>
                    <a:pt x="138" y="0"/>
                  </a:lnTo>
                  <a:lnTo>
                    <a:pt x="170" y="4"/>
                  </a:lnTo>
                  <a:lnTo>
                    <a:pt x="204" y="11"/>
                  </a:lnTo>
                  <a:lnTo>
                    <a:pt x="239" y="28"/>
                  </a:lnTo>
                  <a:lnTo>
                    <a:pt x="267" y="53"/>
                  </a:lnTo>
                  <a:lnTo>
                    <a:pt x="291" y="73"/>
                  </a:lnTo>
                  <a:lnTo>
                    <a:pt x="308" y="94"/>
                  </a:lnTo>
                  <a:lnTo>
                    <a:pt x="319" y="115"/>
                  </a:lnTo>
                  <a:lnTo>
                    <a:pt x="326" y="132"/>
                  </a:lnTo>
                  <a:lnTo>
                    <a:pt x="329" y="150"/>
                  </a:lnTo>
                  <a:lnTo>
                    <a:pt x="333" y="160"/>
                  </a:lnTo>
                  <a:lnTo>
                    <a:pt x="333" y="171"/>
                  </a:lnTo>
                  <a:lnTo>
                    <a:pt x="329" y="177"/>
                  </a:lnTo>
                  <a:lnTo>
                    <a:pt x="329" y="177"/>
                  </a:lnTo>
                  <a:lnTo>
                    <a:pt x="333" y="177"/>
                  </a:lnTo>
                  <a:lnTo>
                    <a:pt x="340" y="174"/>
                  </a:lnTo>
                  <a:lnTo>
                    <a:pt x="350" y="167"/>
                  </a:lnTo>
                  <a:lnTo>
                    <a:pt x="361" y="164"/>
                  </a:lnTo>
                  <a:lnTo>
                    <a:pt x="378" y="157"/>
                  </a:lnTo>
                  <a:lnTo>
                    <a:pt x="395" y="153"/>
                  </a:lnTo>
                  <a:lnTo>
                    <a:pt x="416" y="153"/>
                  </a:lnTo>
                  <a:lnTo>
                    <a:pt x="437" y="157"/>
                  </a:lnTo>
                  <a:lnTo>
                    <a:pt x="458" y="164"/>
                  </a:lnTo>
                  <a:lnTo>
                    <a:pt x="479" y="177"/>
                  </a:lnTo>
                  <a:lnTo>
                    <a:pt x="496" y="198"/>
                  </a:lnTo>
                  <a:lnTo>
                    <a:pt x="506" y="216"/>
                  </a:lnTo>
                  <a:lnTo>
                    <a:pt x="513" y="237"/>
                  </a:lnTo>
                  <a:lnTo>
                    <a:pt x="517" y="254"/>
                  </a:lnTo>
                  <a:lnTo>
                    <a:pt x="517" y="271"/>
                  </a:lnTo>
                  <a:lnTo>
                    <a:pt x="517" y="289"/>
                  </a:lnTo>
                  <a:lnTo>
                    <a:pt x="513" y="302"/>
                  </a:lnTo>
                  <a:lnTo>
                    <a:pt x="510" y="313"/>
                  </a:lnTo>
                  <a:lnTo>
                    <a:pt x="506" y="320"/>
                  </a:lnTo>
                  <a:lnTo>
                    <a:pt x="506" y="320"/>
                  </a:lnTo>
                  <a:lnTo>
                    <a:pt x="506" y="323"/>
                  </a:lnTo>
                  <a:lnTo>
                    <a:pt x="513" y="327"/>
                  </a:lnTo>
                  <a:lnTo>
                    <a:pt x="524" y="334"/>
                  </a:lnTo>
                  <a:lnTo>
                    <a:pt x="538" y="344"/>
                  </a:lnTo>
                  <a:lnTo>
                    <a:pt x="551" y="361"/>
                  </a:lnTo>
                  <a:lnTo>
                    <a:pt x="565" y="379"/>
                  </a:lnTo>
                  <a:lnTo>
                    <a:pt x="579" y="403"/>
                  </a:lnTo>
                  <a:lnTo>
                    <a:pt x="590" y="431"/>
                  </a:lnTo>
                  <a:lnTo>
                    <a:pt x="597" y="462"/>
                  </a:lnTo>
                  <a:lnTo>
                    <a:pt x="600" y="50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86440" y="4032000"/>
              <a:ext cx="660240" cy="500040"/>
            </a:xfrm>
            <a:custGeom>
              <a:avLst/>
              <a:gdLst/>
              <a:ahLst/>
              <a:rect l="l" t="t" r="r" b="b"/>
              <a:pathLst>
                <a:path w="781" h="514">
                  <a:moveTo>
                    <a:pt x="0" y="514"/>
                  </a:moveTo>
                  <a:lnTo>
                    <a:pt x="4" y="479"/>
                  </a:lnTo>
                  <a:lnTo>
                    <a:pt x="10" y="444"/>
                  </a:lnTo>
                  <a:lnTo>
                    <a:pt x="21" y="417"/>
                  </a:lnTo>
                  <a:lnTo>
                    <a:pt x="35" y="396"/>
                  </a:lnTo>
                  <a:lnTo>
                    <a:pt x="49" y="375"/>
                  </a:lnTo>
                  <a:lnTo>
                    <a:pt x="63" y="361"/>
                  </a:lnTo>
                  <a:lnTo>
                    <a:pt x="73" y="351"/>
                  </a:lnTo>
                  <a:lnTo>
                    <a:pt x="83" y="340"/>
                  </a:lnTo>
                  <a:lnTo>
                    <a:pt x="90" y="337"/>
                  </a:lnTo>
                  <a:lnTo>
                    <a:pt x="94" y="337"/>
                  </a:lnTo>
                  <a:lnTo>
                    <a:pt x="94" y="333"/>
                  </a:lnTo>
                  <a:lnTo>
                    <a:pt x="90" y="326"/>
                  </a:lnTo>
                  <a:lnTo>
                    <a:pt x="87" y="316"/>
                  </a:lnTo>
                  <a:lnTo>
                    <a:pt x="83" y="302"/>
                  </a:lnTo>
                  <a:lnTo>
                    <a:pt x="83" y="288"/>
                  </a:lnTo>
                  <a:lnTo>
                    <a:pt x="83" y="271"/>
                  </a:lnTo>
                  <a:lnTo>
                    <a:pt x="83" y="250"/>
                  </a:lnTo>
                  <a:lnTo>
                    <a:pt x="94" y="233"/>
                  </a:lnTo>
                  <a:lnTo>
                    <a:pt x="104" y="212"/>
                  </a:lnTo>
                  <a:lnTo>
                    <a:pt x="122" y="194"/>
                  </a:lnTo>
                  <a:lnTo>
                    <a:pt x="142" y="181"/>
                  </a:lnTo>
                  <a:lnTo>
                    <a:pt x="163" y="174"/>
                  </a:lnTo>
                  <a:lnTo>
                    <a:pt x="184" y="170"/>
                  </a:lnTo>
                  <a:lnTo>
                    <a:pt x="205" y="170"/>
                  </a:lnTo>
                  <a:lnTo>
                    <a:pt x="222" y="174"/>
                  </a:lnTo>
                  <a:lnTo>
                    <a:pt x="236" y="177"/>
                  </a:lnTo>
                  <a:lnTo>
                    <a:pt x="250" y="184"/>
                  </a:lnTo>
                  <a:lnTo>
                    <a:pt x="260" y="188"/>
                  </a:lnTo>
                  <a:lnTo>
                    <a:pt x="267" y="194"/>
                  </a:lnTo>
                  <a:lnTo>
                    <a:pt x="271" y="194"/>
                  </a:lnTo>
                  <a:lnTo>
                    <a:pt x="267" y="191"/>
                  </a:lnTo>
                  <a:lnTo>
                    <a:pt x="267" y="188"/>
                  </a:lnTo>
                  <a:lnTo>
                    <a:pt x="267" y="177"/>
                  </a:lnTo>
                  <a:lnTo>
                    <a:pt x="271" y="163"/>
                  </a:lnTo>
                  <a:lnTo>
                    <a:pt x="274" y="149"/>
                  </a:lnTo>
                  <a:lnTo>
                    <a:pt x="281" y="129"/>
                  </a:lnTo>
                  <a:lnTo>
                    <a:pt x="292" y="111"/>
                  </a:lnTo>
                  <a:lnTo>
                    <a:pt x="309" y="90"/>
                  </a:lnTo>
                  <a:lnTo>
                    <a:pt x="330" y="66"/>
                  </a:lnTo>
                  <a:lnTo>
                    <a:pt x="361" y="45"/>
                  </a:lnTo>
                  <a:lnTo>
                    <a:pt x="396" y="28"/>
                  </a:lnTo>
                  <a:lnTo>
                    <a:pt x="430" y="17"/>
                  </a:lnTo>
                  <a:lnTo>
                    <a:pt x="462" y="17"/>
                  </a:lnTo>
                  <a:lnTo>
                    <a:pt x="493" y="21"/>
                  </a:lnTo>
                  <a:lnTo>
                    <a:pt x="521" y="28"/>
                  </a:lnTo>
                  <a:lnTo>
                    <a:pt x="545" y="38"/>
                  </a:lnTo>
                  <a:lnTo>
                    <a:pt x="566" y="49"/>
                  </a:lnTo>
                  <a:lnTo>
                    <a:pt x="583" y="59"/>
                  </a:lnTo>
                  <a:lnTo>
                    <a:pt x="594" y="66"/>
                  </a:lnTo>
                  <a:lnTo>
                    <a:pt x="597" y="70"/>
                  </a:lnTo>
                  <a:lnTo>
                    <a:pt x="597" y="66"/>
                  </a:lnTo>
                  <a:lnTo>
                    <a:pt x="597" y="63"/>
                  </a:lnTo>
                  <a:lnTo>
                    <a:pt x="601" y="56"/>
                  </a:lnTo>
                  <a:lnTo>
                    <a:pt x="604" y="45"/>
                  </a:lnTo>
                  <a:lnTo>
                    <a:pt x="611" y="35"/>
                  </a:lnTo>
                  <a:lnTo>
                    <a:pt x="618" y="24"/>
                  </a:lnTo>
                  <a:lnTo>
                    <a:pt x="628" y="14"/>
                  </a:lnTo>
                  <a:lnTo>
                    <a:pt x="646" y="7"/>
                  </a:lnTo>
                  <a:lnTo>
                    <a:pt x="663" y="4"/>
                  </a:lnTo>
                  <a:lnTo>
                    <a:pt x="687" y="0"/>
                  </a:lnTo>
                  <a:lnTo>
                    <a:pt x="712" y="4"/>
                  </a:lnTo>
                  <a:lnTo>
                    <a:pt x="732" y="7"/>
                  </a:lnTo>
                  <a:lnTo>
                    <a:pt x="746" y="14"/>
                  </a:lnTo>
                  <a:lnTo>
                    <a:pt x="760" y="24"/>
                  </a:lnTo>
                  <a:lnTo>
                    <a:pt x="767" y="35"/>
                  </a:lnTo>
                  <a:lnTo>
                    <a:pt x="774" y="45"/>
                  </a:lnTo>
                  <a:lnTo>
                    <a:pt x="778" y="56"/>
                  </a:lnTo>
                  <a:lnTo>
                    <a:pt x="781" y="63"/>
                  </a:lnTo>
                  <a:lnTo>
                    <a:pt x="781" y="66"/>
                  </a:lnTo>
                  <a:lnTo>
                    <a:pt x="781" y="7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6440" y="4525560"/>
              <a:ext cx="504720" cy="487440"/>
            </a:xfrm>
            <a:custGeom>
              <a:avLst/>
              <a:gdLst/>
              <a:ahLst/>
              <a:rect l="l" t="t" r="r" b="b"/>
              <a:pathLst>
                <a:path w="597" h="500">
                  <a:moveTo>
                    <a:pt x="597" y="444"/>
                  </a:moveTo>
                  <a:lnTo>
                    <a:pt x="594" y="448"/>
                  </a:lnTo>
                  <a:lnTo>
                    <a:pt x="583" y="455"/>
                  </a:lnTo>
                  <a:lnTo>
                    <a:pt x="566" y="465"/>
                  </a:lnTo>
                  <a:lnTo>
                    <a:pt x="545" y="475"/>
                  </a:lnTo>
                  <a:lnTo>
                    <a:pt x="521" y="486"/>
                  </a:lnTo>
                  <a:lnTo>
                    <a:pt x="493" y="496"/>
                  </a:lnTo>
                  <a:lnTo>
                    <a:pt x="462" y="500"/>
                  </a:lnTo>
                  <a:lnTo>
                    <a:pt x="430" y="496"/>
                  </a:lnTo>
                  <a:lnTo>
                    <a:pt x="396" y="489"/>
                  </a:lnTo>
                  <a:lnTo>
                    <a:pt x="361" y="472"/>
                  </a:lnTo>
                  <a:lnTo>
                    <a:pt x="330" y="448"/>
                  </a:lnTo>
                  <a:lnTo>
                    <a:pt x="309" y="427"/>
                  </a:lnTo>
                  <a:lnTo>
                    <a:pt x="292" y="406"/>
                  </a:lnTo>
                  <a:lnTo>
                    <a:pt x="281" y="385"/>
                  </a:lnTo>
                  <a:lnTo>
                    <a:pt x="274" y="368"/>
                  </a:lnTo>
                  <a:lnTo>
                    <a:pt x="271" y="350"/>
                  </a:lnTo>
                  <a:lnTo>
                    <a:pt x="267" y="340"/>
                  </a:lnTo>
                  <a:lnTo>
                    <a:pt x="267" y="330"/>
                  </a:lnTo>
                  <a:lnTo>
                    <a:pt x="267" y="323"/>
                  </a:lnTo>
                  <a:lnTo>
                    <a:pt x="271" y="319"/>
                  </a:lnTo>
                  <a:lnTo>
                    <a:pt x="267" y="323"/>
                  </a:lnTo>
                  <a:lnTo>
                    <a:pt x="260" y="326"/>
                  </a:lnTo>
                  <a:lnTo>
                    <a:pt x="250" y="333"/>
                  </a:lnTo>
                  <a:lnTo>
                    <a:pt x="236" y="337"/>
                  </a:lnTo>
                  <a:lnTo>
                    <a:pt x="222" y="344"/>
                  </a:lnTo>
                  <a:lnTo>
                    <a:pt x="205" y="347"/>
                  </a:lnTo>
                  <a:lnTo>
                    <a:pt x="184" y="347"/>
                  </a:lnTo>
                  <a:lnTo>
                    <a:pt x="163" y="344"/>
                  </a:lnTo>
                  <a:lnTo>
                    <a:pt x="142" y="333"/>
                  </a:lnTo>
                  <a:lnTo>
                    <a:pt x="122" y="319"/>
                  </a:lnTo>
                  <a:lnTo>
                    <a:pt x="104" y="302"/>
                  </a:lnTo>
                  <a:lnTo>
                    <a:pt x="94" y="285"/>
                  </a:lnTo>
                  <a:lnTo>
                    <a:pt x="83" y="264"/>
                  </a:lnTo>
                  <a:lnTo>
                    <a:pt x="83" y="246"/>
                  </a:lnTo>
                  <a:lnTo>
                    <a:pt x="83" y="229"/>
                  </a:lnTo>
                  <a:lnTo>
                    <a:pt x="83" y="212"/>
                  </a:lnTo>
                  <a:lnTo>
                    <a:pt x="87" y="198"/>
                  </a:lnTo>
                  <a:lnTo>
                    <a:pt x="90" y="187"/>
                  </a:lnTo>
                  <a:lnTo>
                    <a:pt x="94" y="180"/>
                  </a:lnTo>
                  <a:lnTo>
                    <a:pt x="94" y="180"/>
                  </a:lnTo>
                  <a:lnTo>
                    <a:pt x="90" y="177"/>
                  </a:lnTo>
                  <a:lnTo>
                    <a:pt x="83" y="173"/>
                  </a:lnTo>
                  <a:lnTo>
                    <a:pt x="73" y="167"/>
                  </a:lnTo>
                  <a:lnTo>
                    <a:pt x="63" y="156"/>
                  </a:lnTo>
                  <a:lnTo>
                    <a:pt x="49" y="139"/>
                  </a:lnTo>
                  <a:lnTo>
                    <a:pt x="35" y="121"/>
                  </a:lnTo>
                  <a:lnTo>
                    <a:pt x="21" y="97"/>
                  </a:lnTo>
                  <a:lnTo>
                    <a:pt x="10" y="69"/>
                  </a:lnTo>
                  <a:lnTo>
                    <a:pt x="4" y="3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91160" y="4525560"/>
              <a:ext cx="658800" cy="503280"/>
            </a:xfrm>
            <a:custGeom>
              <a:avLst/>
              <a:gdLst/>
              <a:ahLst/>
              <a:rect l="l" t="t" r="r" b="b"/>
              <a:pathLst>
                <a:path w="781" h="517">
                  <a:moveTo>
                    <a:pt x="0" y="448"/>
                  </a:moveTo>
                  <a:lnTo>
                    <a:pt x="0" y="448"/>
                  </a:lnTo>
                  <a:lnTo>
                    <a:pt x="0" y="455"/>
                  </a:lnTo>
                  <a:lnTo>
                    <a:pt x="4" y="462"/>
                  </a:lnTo>
                  <a:lnTo>
                    <a:pt x="7" y="472"/>
                  </a:lnTo>
                  <a:lnTo>
                    <a:pt x="14" y="482"/>
                  </a:lnTo>
                  <a:lnTo>
                    <a:pt x="21" y="493"/>
                  </a:lnTo>
                  <a:lnTo>
                    <a:pt x="31" y="503"/>
                  </a:lnTo>
                  <a:lnTo>
                    <a:pt x="49" y="510"/>
                  </a:lnTo>
                  <a:lnTo>
                    <a:pt x="66" y="514"/>
                  </a:lnTo>
                  <a:lnTo>
                    <a:pt x="90" y="517"/>
                  </a:lnTo>
                  <a:lnTo>
                    <a:pt x="115" y="514"/>
                  </a:lnTo>
                  <a:lnTo>
                    <a:pt x="135" y="510"/>
                  </a:lnTo>
                  <a:lnTo>
                    <a:pt x="149" y="503"/>
                  </a:lnTo>
                  <a:lnTo>
                    <a:pt x="163" y="493"/>
                  </a:lnTo>
                  <a:lnTo>
                    <a:pt x="170" y="482"/>
                  </a:lnTo>
                  <a:lnTo>
                    <a:pt x="177" y="472"/>
                  </a:lnTo>
                  <a:lnTo>
                    <a:pt x="181" y="462"/>
                  </a:lnTo>
                  <a:lnTo>
                    <a:pt x="184" y="455"/>
                  </a:lnTo>
                  <a:lnTo>
                    <a:pt x="184" y="448"/>
                  </a:lnTo>
                  <a:lnTo>
                    <a:pt x="184" y="448"/>
                  </a:lnTo>
                  <a:lnTo>
                    <a:pt x="188" y="451"/>
                  </a:lnTo>
                  <a:lnTo>
                    <a:pt x="198" y="458"/>
                  </a:lnTo>
                  <a:lnTo>
                    <a:pt x="212" y="469"/>
                  </a:lnTo>
                  <a:lnTo>
                    <a:pt x="233" y="479"/>
                  </a:lnTo>
                  <a:lnTo>
                    <a:pt x="260" y="489"/>
                  </a:lnTo>
                  <a:lnTo>
                    <a:pt x="288" y="496"/>
                  </a:lnTo>
                  <a:lnTo>
                    <a:pt x="319" y="500"/>
                  </a:lnTo>
                  <a:lnTo>
                    <a:pt x="351" y="500"/>
                  </a:lnTo>
                  <a:lnTo>
                    <a:pt x="385" y="489"/>
                  </a:lnTo>
                  <a:lnTo>
                    <a:pt x="420" y="472"/>
                  </a:lnTo>
                  <a:lnTo>
                    <a:pt x="448" y="451"/>
                  </a:lnTo>
                  <a:lnTo>
                    <a:pt x="472" y="427"/>
                  </a:lnTo>
                  <a:lnTo>
                    <a:pt x="489" y="406"/>
                  </a:lnTo>
                  <a:lnTo>
                    <a:pt x="500" y="385"/>
                  </a:lnTo>
                  <a:lnTo>
                    <a:pt x="507" y="368"/>
                  </a:lnTo>
                  <a:lnTo>
                    <a:pt x="510" y="354"/>
                  </a:lnTo>
                  <a:lnTo>
                    <a:pt x="514" y="340"/>
                  </a:lnTo>
                  <a:lnTo>
                    <a:pt x="514" y="330"/>
                  </a:lnTo>
                  <a:lnTo>
                    <a:pt x="510" y="326"/>
                  </a:lnTo>
                  <a:lnTo>
                    <a:pt x="510" y="323"/>
                  </a:lnTo>
                  <a:lnTo>
                    <a:pt x="514" y="323"/>
                  </a:lnTo>
                  <a:lnTo>
                    <a:pt x="521" y="330"/>
                  </a:lnTo>
                  <a:lnTo>
                    <a:pt x="531" y="333"/>
                  </a:lnTo>
                  <a:lnTo>
                    <a:pt x="542" y="340"/>
                  </a:lnTo>
                  <a:lnTo>
                    <a:pt x="559" y="344"/>
                  </a:lnTo>
                  <a:lnTo>
                    <a:pt x="576" y="347"/>
                  </a:lnTo>
                  <a:lnTo>
                    <a:pt x="597" y="347"/>
                  </a:lnTo>
                  <a:lnTo>
                    <a:pt x="618" y="344"/>
                  </a:lnTo>
                  <a:lnTo>
                    <a:pt x="639" y="337"/>
                  </a:lnTo>
                  <a:lnTo>
                    <a:pt x="660" y="323"/>
                  </a:lnTo>
                  <a:lnTo>
                    <a:pt x="677" y="305"/>
                  </a:lnTo>
                  <a:lnTo>
                    <a:pt x="687" y="285"/>
                  </a:lnTo>
                  <a:lnTo>
                    <a:pt x="694" y="267"/>
                  </a:lnTo>
                  <a:lnTo>
                    <a:pt x="698" y="246"/>
                  </a:lnTo>
                  <a:lnTo>
                    <a:pt x="698" y="229"/>
                  </a:lnTo>
                  <a:lnTo>
                    <a:pt x="698" y="215"/>
                  </a:lnTo>
                  <a:lnTo>
                    <a:pt x="694" y="201"/>
                  </a:lnTo>
                  <a:lnTo>
                    <a:pt x="691" y="191"/>
                  </a:lnTo>
                  <a:lnTo>
                    <a:pt x="687" y="184"/>
                  </a:lnTo>
                  <a:lnTo>
                    <a:pt x="687" y="180"/>
                  </a:lnTo>
                  <a:lnTo>
                    <a:pt x="687" y="180"/>
                  </a:lnTo>
                  <a:lnTo>
                    <a:pt x="694" y="173"/>
                  </a:lnTo>
                  <a:lnTo>
                    <a:pt x="705" y="167"/>
                  </a:lnTo>
                  <a:lnTo>
                    <a:pt x="719" y="156"/>
                  </a:lnTo>
                  <a:lnTo>
                    <a:pt x="732" y="142"/>
                  </a:lnTo>
                  <a:lnTo>
                    <a:pt x="746" y="121"/>
                  </a:lnTo>
                  <a:lnTo>
                    <a:pt x="760" y="101"/>
                  </a:lnTo>
                  <a:lnTo>
                    <a:pt x="771" y="73"/>
                  </a:lnTo>
                  <a:lnTo>
                    <a:pt x="778" y="38"/>
                  </a:lnTo>
                  <a:lnTo>
                    <a:pt x="781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81120" y="15508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09480" y="4724280"/>
            <a:ext cx="678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Space for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: unique id for each possible proced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: program + procedur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3A3-DFA9-4D3D-8EF9-E0D6D726A4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 Co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Call(Sessn self, Msg *req, Msg *r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State *state=(SelectState *)self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       *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 = msgPush(req, H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_hdr_store(state-&gt;hdr, buf, H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Call(xGetDown(self, 0), req, re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CallPop(Sessn s, Sessn lls, Msg *req, Msg *rep, void *in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CallDemux(xGetUp(s), s, req, re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B8B-F6B7-4919-911E-D894B80A9C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ple RPC Sta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38480" y="1676520"/>
            <a:ext cx="1128960" cy="4190760"/>
            <a:chOff x="4038480" y="1676520"/>
            <a:chExt cx="1128960" cy="4190760"/>
          </a:xfrm>
        </p:grpSpPr>
        <p:sp>
          <p:nvSpPr>
            <p:cNvPr id="267" name=""/>
            <p:cNvSpPr/>
            <p:nvPr/>
          </p:nvSpPr>
          <p:spPr>
            <a:xfrm>
              <a:off x="4236840" y="363060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6280" y="5479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82720" y="454824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38480" y="4473720"/>
              <a:ext cx="1128960" cy="479160"/>
            </a:xfrm>
            <a:custGeom>
              <a:avLst/>
              <a:gdLst/>
              <a:ahLst/>
              <a:rect l="l" t="t" r="r" b="b"/>
              <a:pathLst>
                <a:path w="689" h="280">
                  <a:moveTo>
                    <a:pt x="685" y="276"/>
                  </a:moveTo>
                  <a:lnTo>
                    <a:pt x="689" y="0"/>
                  </a:lnTo>
                  <a:lnTo>
                    <a:pt x="0" y="0"/>
                  </a:lnTo>
                  <a:lnTo>
                    <a:pt x="0" y="280"/>
                  </a:lnTo>
                  <a:lnTo>
                    <a:pt x="689" y="280"/>
                  </a:lnTo>
                  <a:lnTo>
                    <a:pt x="689" y="28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38480" y="3548160"/>
              <a:ext cx="1128960" cy="490320"/>
            </a:xfrm>
            <a:custGeom>
              <a:avLst/>
              <a:gdLst/>
              <a:ahLst/>
              <a:rect l="l" t="t" r="r" b="b"/>
              <a:pathLst>
                <a:path w="689" h="285">
                  <a:moveTo>
                    <a:pt x="685" y="281"/>
                  </a:moveTo>
                  <a:lnTo>
                    <a:pt x="68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689" y="285"/>
                  </a:lnTo>
                  <a:lnTo>
                    <a:pt x="689" y="28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8480" y="5391000"/>
              <a:ext cx="1128960" cy="476280"/>
            </a:xfrm>
            <a:custGeom>
              <a:avLst/>
              <a:gdLst/>
              <a:ahLst/>
              <a:rect l="l" t="t" r="r" b="b"/>
              <a:pathLst>
                <a:path w="689" h="290">
                  <a:moveTo>
                    <a:pt x="685" y="285"/>
                  </a:moveTo>
                  <a:lnTo>
                    <a:pt x="689" y="0"/>
                  </a:lnTo>
                  <a:lnTo>
                    <a:pt x="0" y="0"/>
                  </a:lnTo>
                  <a:lnTo>
                    <a:pt x="0" y="290"/>
                  </a:lnTo>
                  <a:lnTo>
                    <a:pt x="689" y="290"/>
                  </a:lnTo>
                  <a:lnTo>
                    <a:pt x="689" y="29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60880" y="1771560"/>
              <a:ext cx="88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29640" y="270504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1440" y="2622600"/>
              <a:ext cx="1116000" cy="501480"/>
            </a:xfrm>
            <a:custGeom>
              <a:avLst/>
              <a:gdLst/>
              <a:ahLst/>
              <a:rect l="l" t="t" r="r" b="b"/>
              <a:pathLst>
                <a:path w="681" h="281">
                  <a:moveTo>
                    <a:pt x="677" y="281"/>
                  </a:moveTo>
                  <a:lnTo>
                    <a:pt x="681" y="0"/>
                  </a:lnTo>
                  <a:lnTo>
                    <a:pt x="0" y="0"/>
                  </a:lnTo>
                  <a:lnTo>
                    <a:pt x="0" y="281"/>
                  </a:lnTo>
                  <a:lnTo>
                    <a:pt x="681" y="281"/>
                  </a:lnTo>
                  <a:lnTo>
                    <a:pt x="681" y="28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44960" y="1676520"/>
              <a:ext cx="1122480" cy="466560"/>
            </a:xfrm>
            <a:custGeom>
              <a:avLst/>
              <a:gdLst/>
              <a:ahLst/>
              <a:rect l="l" t="t" r="r" b="b"/>
              <a:pathLst>
                <a:path w="681" h="281">
                  <a:moveTo>
                    <a:pt x="681" y="276"/>
                  </a:moveTo>
                  <a:lnTo>
                    <a:pt x="681" y="0"/>
                  </a:lnTo>
                  <a:lnTo>
                    <a:pt x="0" y="0"/>
                  </a:lnTo>
                  <a:lnTo>
                    <a:pt x="0" y="281"/>
                  </a:lnTo>
                  <a:lnTo>
                    <a:pt x="681" y="281"/>
                  </a:lnTo>
                  <a:lnTo>
                    <a:pt x="681" y="28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57600" y="3124080"/>
              <a:ext cx="0" cy="381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57600" y="495288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57600" y="403848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57600" y="2133720"/>
              <a:ext cx="0" cy="533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FDE-51B0-4DB5-BC2F-281276C294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PC Time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19560" y="1954080"/>
            <a:ext cx="6818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41400" y="1954080"/>
            <a:ext cx="78552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720000">
            <a:off x="3827520" y="2852280"/>
            <a:ext cx="99288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9680" y="2351160"/>
            <a:ext cx="7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9680" y="4834080"/>
            <a:ext cx="7920" cy="78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78360" y="2359080"/>
            <a:ext cx="7920" cy="120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78360" y="3560760"/>
            <a:ext cx="792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78360" y="4268880"/>
            <a:ext cx="7920" cy="135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50000" y="3568680"/>
            <a:ext cx="182520" cy="692280"/>
          </a:xfrm>
          <a:custGeom>
            <a:avLst/>
            <a:gdLst/>
            <a:ahLst/>
            <a:rect l="l" t="t" r="r" b="b"/>
            <a:pathLst>
              <a:path w="115" h="436">
                <a:moveTo>
                  <a:pt x="0" y="0"/>
                </a:moveTo>
                <a:lnTo>
                  <a:pt x="115" y="5"/>
                </a:lnTo>
                <a:lnTo>
                  <a:pt x="115" y="436"/>
                </a:lnTo>
                <a:lnTo>
                  <a:pt x="5" y="4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9680" y="2876400"/>
            <a:ext cx="2836800" cy="6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46880" y="3465360"/>
            <a:ext cx="190440" cy="103320"/>
          </a:xfrm>
          <a:custGeom>
            <a:avLst/>
            <a:gdLst/>
            <a:ahLst/>
            <a:rect l="l" t="t" r="r" b="b"/>
            <a:pathLst>
              <a:path w="120" h="65">
                <a:moveTo>
                  <a:pt x="0" y="60"/>
                </a:moveTo>
                <a:lnTo>
                  <a:pt x="120" y="65"/>
                </a:lnTo>
                <a:lnTo>
                  <a:pt x="20" y="0"/>
                </a:lnTo>
                <a:lnTo>
                  <a:pt x="0" y="60"/>
                </a:lnTo>
                <a:lnTo>
                  <a:pt x="0" y="6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880000">
            <a:off x="3772440" y="4199040"/>
            <a:ext cx="6818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924280" y="4268880"/>
            <a:ext cx="284616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81360" y="4754520"/>
            <a:ext cx="182520" cy="96840"/>
          </a:xfrm>
          <a:custGeom>
            <a:avLst/>
            <a:gdLst/>
            <a:ahLst/>
            <a:rect l="l" t="t" r="r" b="b"/>
            <a:pathLst>
              <a:path w="115" h="61">
                <a:moveTo>
                  <a:pt x="100" y="0"/>
                </a:moveTo>
                <a:lnTo>
                  <a:pt x="0" y="61"/>
                </a:lnTo>
                <a:lnTo>
                  <a:pt x="115" y="61"/>
                </a:lnTo>
                <a:lnTo>
                  <a:pt x="100" y="0"/>
                </a:lnTo>
                <a:lnTo>
                  <a:pt x="10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50240" y="3753000"/>
            <a:ext cx="12884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01840" y="2820960"/>
            <a:ext cx="9500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01840" y="4827600"/>
            <a:ext cx="9500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0560" y="3753000"/>
            <a:ext cx="9500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9680" y="2876400"/>
            <a:ext cx="7920" cy="1967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717-F9BE-43BE-9C98-A556AA1B67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CHAN: A Virtual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hanCall(Sessn s, Msg *req, Msg *r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ssn      cha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kReturn  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hanState *state=(VchanState *)s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ait for an idle channe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Wait(&amp;state-&gt;availabl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 = state-&gt;stack[--state-&gt;tos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se the channe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xCall(chan, req, re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ree the channe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stack[state-&gt;tos++] = cha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Signal(&amp;state-&gt;availabl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0A5-0959-4B1B-83EF-F43A27783F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nRPC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implements BLAST-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no selective 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RPC implements CHAN-equiva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not at-most-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P + SunRPC implement SELECT-equiva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dispatches to program (ports bound to pro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RPC dispatches to procedure within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E05F19" descr=""/>
          <p:cNvPicPr/>
          <p:nvPr/>
        </p:nvPicPr>
        <p:blipFill>
          <a:blip r:embed="rId1"/>
          <a:stretch/>
        </p:blipFill>
        <p:spPr>
          <a:xfrm>
            <a:off x="7010280" y="1600200"/>
            <a:ext cx="87336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8F7-6260-42D6-A509-33DC0DC122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nRPC Header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D (transaction id) is similar to CHAN’s 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does not remember last XID it servic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f client retransmits request while reply is in tran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76200" y="1676520"/>
            <a:ext cx="3664800" cy="3906720"/>
            <a:chOff x="4876200" y="1676520"/>
            <a:chExt cx="3664800" cy="3906720"/>
          </a:xfrm>
        </p:grpSpPr>
        <p:grpSp>
          <p:nvGrpSpPr>
            <p:cNvPr id="289" name=""/>
            <p:cNvGrpSpPr/>
            <p:nvPr/>
          </p:nvGrpSpPr>
          <p:grpSpPr>
            <a:xfrm>
              <a:off x="4876200" y="1676520"/>
              <a:ext cx="1631160" cy="3906720"/>
              <a:chOff x="4876200" y="1676520"/>
              <a:chExt cx="1631160" cy="3906720"/>
            </a:xfrm>
          </p:grpSpPr>
          <p:sp>
            <p:nvSpPr>
              <p:cNvPr id="290" name=""/>
              <p:cNvSpPr/>
              <p:nvPr/>
            </p:nvSpPr>
            <p:spPr>
              <a:xfrm>
                <a:off x="4889880" y="4681440"/>
                <a:ext cx="1611000" cy="395280"/>
              </a:xfrm>
              <a:custGeom>
                <a:avLst/>
                <a:gdLst/>
                <a:ahLst/>
                <a:rect l="l" t="t" r="r" b="b"/>
                <a:pathLst>
                  <a:path w="1015" h="249">
                    <a:moveTo>
                      <a:pt x="0" y="0"/>
                    </a:moveTo>
                    <a:lnTo>
                      <a:pt x="0" y="246"/>
                    </a:lnTo>
                    <a:lnTo>
                      <a:pt x="127" y="196"/>
                    </a:lnTo>
                    <a:lnTo>
                      <a:pt x="244" y="249"/>
                    </a:lnTo>
                    <a:lnTo>
                      <a:pt x="329" y="208"/>
                    </a:lnTo>
                    <a:lnTo>
                      <a:pt x="420" y="234"/>
                    </a:lnTo>
                    <a:lnTo>
                      <a:pt x="514" y="196"/>
                    </a:lnTo>
                    <a:lnTo>
                      <a:pt x="607" y="246"/>
                    </a:lnTo>
                    <a:lnTo>
                      <a:pt x="692" y="214"/>
                    </a:lnTo>
                    <a:lnTo>
                      <a:pt x="766" y="240"/>
                    </a:lnTo>
                    <a:lnTo>
                      <a:pt x="883" y="196"/>
                    </a:lnTo>
                    <a:lnTo>
                      <a:pt x="1015" y="237"/>
                    </a:lnTo>
                    <a:lnTo>
                      <a:pt x="10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89880" y="4681440"/>
                <a:ext cx="1611000" cy="395280"/>
              </a:xfrm>
              <a:custGeom>
                <a:avLst/>
                <a:gdLst/>
                <a:ahLst/>
                <a:rect l="l" t="t" r="r" b="b"/>
                <a:pathLst>
                  <a:path w="1015" h="249">
                    <a:moveTo>
                      <a:pt x="0" y="0"/>
                    </a:moveTo>
                    <a:lnTo>
                      <a:pt x="0" y="246"/>
                    </a:lnTo>
                    <a:lnTo>
                      <a:pt x="127" y="196"/>
                    </a:lnTo>
                    <a:lnTo>
                      <a:pt x="244" y="249"/>
                    </a:lnTo>
                    <a:lnTo>
                      <a:pt x="329" y="208"/>
                    </a:lnTo>
                    <a:lnTo>
                      <a:pt x="420" y="234"/>
                    </a:lnTo>
                    <a:lnTo>
                      <a:pt x="514" y="196"/>
                    </a:lnTo>
                    <a:lnTo>
                      <a:pt x="607" y="246"/>
                    </a:lnTo>
                    <a:lnTo>
                      <a:pt x="692" y="214"/>
                    </a:lnTo>
                    <a:lnTo>
                      <a:pt x="766" y="240"/>
                    </a:lnTo>
                    <a:lnTo>
                      <a:pt x="883" y="196"/>
                    </a:lnTo>
                    <a:lnTo>
                      <a:pt x="1015" y="237"/>
                    </a:lnTo>
                    <a:lnTo>
                      <a:pt x="101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89880" y="5118120"/>
                <a:ext cx="1611000" cy="465120"/>
              </a:xfrm>
              <a:custGeom>
                <a:avLst/>
                <a:gdLst/>
                <a:ahLst/>
                <a:rect l="l" t="t" r="r" b="b"/>
                <a:pathLst>
                  <a:path w="1015" h="293">
                    <a:moveTo>
                      <a:pt x="1012" y="293"/>
                    </a:moveTo>
                    <a:lnTo>
                      <a:pt x="1015" y="41"/>
                    </a:lnTo>
                    <a:lnTo>
                      <a:pt x="889" y="0"/>
                    </a:lnTo>
                    <a:lnTo>
                      <a:pt x="769" y="50"/>
                    </a:lnTo>
                    <a:lnTo>
                      <a:pt x="692" y="12"/>
                    </a:lnTo>
                    <a:lnTo>
                      <a:pt x="607" y="50"/>
                    </a:lnTo>
                    <a:lnTo>
                      <a:pt x="514" y="0"/>
                    </a:lnTo>
                    <a:lnTo>
                      <a:pt x="420" y="41"/>
                    </a:lnTo>
                    <a:lnTo>
                      <a:pt x="335" y="12"/>
                    </a:lnTo>
                    <a:lnTo>
                      <a:pt x="250" y="56"/>
                    </a:lnTo>
                    <a:lnTo>
                      <a:pt x="127" y="0"/>
                    </a:lnTo>
                    <a:lnTo>
                      <a:pt x="0" y="50"/>
                    </a:lnTo>
                    <a:lnTo>
                      <a:pt x="0" y="293"/>
                    </a:lnTo>
                    <a:lnTo>
                      <a:pt x="1015" y="293"/>
                    </a:lnTo>
                    <a:lnTo>
                      <a:pt x="1015" y="293"/>
                    </a:lnTo>
                    <a:lnTo>
                      <a:pt x="1012" y="2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89880" y="5118120"/>
                <a:ext cx="1611000" cy="465120"/>
              </a:xfrm>
              <a:custGeom>
                <a:avLst/>
                <a:gdLst/>
                <a:ahLst/>
                <a:rect l="l" t="t" r="r" b="b"/>
                <a:pathLst>
                  <a:path w="1015" h="293">
                    <a:moveTo>
                      <a:pt x="1012" y="293"/>
                    </a:moveTo>
                    <a:lnTo>
                      <a:pt x="1015" y="41"/>
                    </a:lnTo>
                    <a:lnTo>
                      <a:pt x="889" y="0"/>
                    </a:lnTo>
                    <a:lnTo>
                      <a:pt x="769" y="50"/>
                    </a:lnTo>
                    <a:lnTo>
                      <a:pt x="692" y="12"/>
                    </a:lnTo>
                    <a:lnTo>
                      <a:pt x="607" y="50"/>
                    </a:lnTo>
                    <a:lnTo>
                      <a:pt x="514" y="0"/>
                    </a:lnTo>
                    <a:lnTo>
                      <a:pt x="420" y="41"/>
                    </a:lnTo>
                    <a:lnTo>
                      <a:pt x="335" y="12"/>
                    </a:lnTo>
                    <a:lnTo>
                      <a:pt x="250" y="56"/>
                    </a:lnTo>
                    <a:lnTo>
                      <a:pt x="127" y="0"/>
                    </a:lnTo>
                    <a:lnTo>
                      <a:pt x="0" y="50"/>
                    </a:lnTo>
                    <a:lnTo>
                      <a:pt x="0" y="293"/>
                    </a:lnTo>
                    <a:lnTo>
                      <a:pt x="1015" y="293"/>
                    </a:lnTo>
                    <a:lnTo>
                      <a:pt x="1015" y="29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40760" y="473220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088960" y="2298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sgType = C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70280" y="1951200"/>
                <a:ext cx="25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44040" y="2638440"/>
                <a:ext cx="1099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PCVersion =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00720" y="2992320"/>
                <a:ext cx="586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36720" y="3346560"/>
                <a:ext cx="518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er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89880" y="1862280"/>
                <a:ext cx="1611000" cy="1758960"/>
              </a:xfrm>
              <a:custGeom>
                <a:avLst/>
                <a:gdLst/>
                <a:ahLst/>
                <a:rect l="l" t="t" r="r" b="b"/>
                <a:pathLst>
                  <a:path w="1015" h="1108">
                    <a:moveTo>
                      <a:pt x="1012" y="1108"/>
                    </a:moveTo>
                    <a:lnTo>
                      <a:pt x="1015" y="0"/>
                    </a:lnTo>
                    <a:lnTo>
                      <a:pt x="0" y="0"/>
                    </a:lnTo>
                    <a:lnTo>
                      <a:pt x="0" y="1108"/>
                    </a:lnTo>
                    <a:lnTo>
                      <a:pt x="1015" y="1108"/>
                    </a:lnTo>
                    <a:lnTo>
                      <a:pt x="1015" y="110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89880" y="2211480"/>
                <a:ext cx="16110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89880" y="2565360"/>
                <a:ext cx="16110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89880" y="2917800"/>
                <a:ext cx="1611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89880" y="3272040"/>
                <a:ext cx="1611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39160" y="3713040"/>
                <a:ext cx="706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ced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78440" y="4048200"/>
                <a:ext cx="1451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edentials (variabl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19920" y="4411800"/>
                <a:ext cx="1162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erifier (variabl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89880" y="3606840"/>
                <a:ext cx="1611000" cy="1069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89880" y="3978360"/>
                <a:ext cx="1611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89880" y="4327560"/>
                <a:ext cx="16110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76200" y="167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36000" y="16765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908040" y="1676520"/>
              <a:ext cx="1632960" cy="2134440"/>
              <a:chOff x="6908040" y="1676520"/>
              <a:chExt cx="1632960" cy="2134440"/>
            </a:xfrm>
          </p:grpSpPr>
          <p:sp>
            <p:nvSpPr>
              <p:cNvPr id="314" name=""/>
              <p:cNvSpPr/>
              <p:nvPr/>
            </p:nvSpPr>
            <p:spPr>
              <a:xfrm>
                <a:off x="6909120" y="2908080"/>
                <a:ext cx="1614240" cy="399600"/>
              </a:xfrm>
              <a:custGeom>
                <a:avLst/>
                <a:gdLst/>
                <a:ahLst/>
                <a:rect l="l" t="t" r="r" b="b"/>
                <a:pathLst>
                  <a:path w="1017" h="252">
                    <a:moveTo>
                      <a:pt x="0" y="0"/>
                    </a:moveTo>
                    <a:lnTo>
                      <a:pt x="3" y="246"/>
                    </a:lnTo>
                    <a:lnTo>
                      <a:pt x="129" y="197"/>
                    </a:lnTo>
                    <a:lnTo>
                      <a:pt x="246" y="252"/>
                    </a:lnTo>
                    <a:lnTo>
                      <a:pt x="331" y="211"/>
                    </a:lnTo>
                    <a:lnTo>
                      <a:pt x="422" y="235"/>
                    </a:lnTo>
                    <a:lnTo>
                      <a:pt x="516" y="197"/>
                    </a:lnTo>
                    <a:lnTo>
                      <a:pt x="610" y="246"/>
                    </a:lnTo>
                    <a:lnTo>
                      <a:pt x="695" y="214"/>
                    </a:lnTo>
                    <a:lnTo>
                      <a:pt x="768" y="244"/>
                    </a:lnTo>
                    <a:lnTo>
                      <a:pt x="885" y="197"/>
                    </a:lnTo>
                    <a:lnTo>
                      <a:pt x="1017" y="238"/>
                    </a:lnTo>
                    <a:lnTo>
                      <a:pt x="101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909120" y="2908080"/>
                <a:ext cx="1614240" cy="399600"/>
              </a:xfrm>
              <a:custGeom>
                <a:avLst/>
                <a:gdLst/>
                <a:ahLst/>
                <a:rect l="l" t="t" r="r" b="b"/>
                <a:pathLst>
                  <a:path w="1017" h="252">
                    <a:moveTo>
                      <a:pt x="0" y="0"/>
                    </a:moveTo>
                    <a:lnTo>
                      <a:pt x="3" y="246"/>
                    </a:lnTo>
                    <a:lnTo>
                      <a:pt x="129" y="197"/>
                    </a:lnTo>
                    <a:lnTo>
                      <a:pt x="246" y="252"/>
                    </a:lnTo>
                    <a:lnTo>
                      <a:pt x="331" y="211"/>
                    </a:lnTo>
                    <a:lnTo>
                      <a:pt x="422" y="235"/>
                    </a:lnTo>
                    <a:lnTo>
                      <a:pt x="516" y="197"/>
                    </a:lnTo>
                    <a:lnTo>
                      <a:pt x="610" y="246"/>
                    </a:lnTo>
                    <a:lnTo>
                      <a:pt x="695" y="214"/>
                    </a:lnTo>
                    <a:lnTo>
                      <a:pt x="768" y="244"/>
                    </a:lnTo>
                    <a:lnTo>
                      <a:pt x="885" y="197"/>
                    </a:lnTo>
                    <a:lnTo>
                      <a:pt x="1017" y="238"/>
                    </a:lnTo>
                    <a:lnTo>
                      <a:pt x="1017" y="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13800" y="3346200"/>
                <a:ext cx="1609560" cy="464760"/>
              </a:xfrm>
              <a:custGeom>
                <a:avLst/>
                <a:gdLst/>
                <a:ahLst/>
                <a:rect l="l" t="t" r="r" b="b"/>
                <a:pathLst>
                  <a:path w="1014" h="293">
                    <a:moveTo>
                      <a:pt x="1011" y="293"/>
                    </a:moveTo>
                    <a:lnTo>
                      <a:pt x="1014" y="41"/>
                    </a:lnTo>
                    <a:lnTo>
                      <a:pt x="885" y="0"/>
                    </a:lnTo>
                    <a:lnTo>
                      <a:pt x="768" y="50"/>
                    </a:lnTo>
                    <a:lnTo>
                      <a:pt x="692" y="14"/>
                    </a:lnTo>
                    <a:lnTo>
                      <a:pt x="607" y="50"/>
                    </a:lnTo>
                    <a:lnTo>
                      <a:pt x="513" y="0"/>
                    </a:lnTo>
                    <a:lnTo>
                      <a:pt x="419" y="41"/>
                    </a:lnTo>
                    <a:lnTo>
                      <a:pt x="334" y="14"/>
                    </a:lnTo>
                    <a:lnTo>
                      <a:pt x="246" y="58"/>
                    </a:lnTo>
                    <a:lnTo>
                      <a:pt x="126" y="0"/>
                    </a:lnTo>
                    <a:lnTo>
                      <a:pt x="0" y="50"/>
                    </a:lnTo>
                    <a:lnTo>
                      <a:pt x="0" y="293"/>
                    </a:lnTo>
                    <a:lnTo>
                      <a:pt x="1014" y="293"/>
                    </a:lnTo>
                    <a:lnTo>
                      <a:pt x="1014" y="293"/>
                    </a:lnTo>
                    <a:lnTo>
                      <a:pt x="1011" y="2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913800" y="3346200"/>
                <a:ext cx="1609560" cy="464760"/>
              </a:xfrm>
              <a:custGeom>
                <a:avLst/>
                <a:gdLst/>
                <a:ahLst/>
                <a:rect l="l" t="t" r="r" b="b"/>
                <a:pathLst>
                  <a:path w="1014" h="293">
                    <a:moveTo>
                      <a:pt x="1011" y="293"/>
                    </a:moveTo>
                    <a:lnTo>
                      <a:pt x="1014" y="41"/>
                    </a:lnTo>
                    <a:lnTo>
                      <a:pt x="885" y="0"/>
                    </a:lnTo>
                    <a:lnTo>
                      <a:pt x="768" y="50"/>
                    </a:lnTo>
                    <a:lnTo>
                      <a:pt x="692" y="14"/>
                    </a:lnTo>
                    <a:lnTo>
                      <a:pt x="607" y="50"/>
                    </a:lnTo>
                    <a:lnTo>
                      <a:pt x="513" y="0"/>
                    </a:lnTo>
                    <a:lnTo>
                      <a:pt x="419" y="41"/>
                    </a:lnTo>
                    <a:lnTo>
                      <a:pt x="334" y="14"/>
                    </a:lnTo>
                    <a:lnTo>
                      <a:pt x="246" y="58"/>
                    </a:lnTo>
                    <a:lnTo>
                      <a:pt x="126" y="0"/>
                    </a:lnTo>
                    <a:lnTo>
                      <a:pt x="0" y="50"/>
                    </a:lnTo>
                    <a:lnTo>
                      <a:pt x="0" y="293"/>
                    </a:lnTo>
                    <a:lnTo>
                      <a:pt x="1014" y="293"/>
                    </a:lnTo>
                    <a:lnTo>
                      <a:pt x="1014" y="29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558560" y="295884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060320" y="2293560"/>
                <a:ext cx="130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sgType = REP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92760" y="1946160"/>
                <a:ext cx="25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005240" y="2633400"/>
                <a:ext cx="143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tus = ACCEP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913800" y="1857240"/>
                <a:ext cx="1609560" cy="1050480"/>
              </a:xfrm>
              <a:custGeom>
                <a:avLst/>
                <a:gdLst/>
                <a:ahLst/>
                <a:rect l="l" t="t" r="r" b="b"/>
                <a:pathLst>
                  <a:path w="1014" h="662">
                    <a:moveTo>
                      <a:pt x="1011" y="662"/>
                    </a:moveTo>
                    <a:lnTo>
                      <a:pt x="1014" y="0"/>
                    </a:lnTo>
                    <a:lnTo>
                      <a:pt x="0" y="0"/>
                    </a:lnTo>
                    <a:lnTo>
                      <a:pt x="0" y="662"/>
                    </a:lnTo>
                    <a:lnTo>
                      <a:pt x="1014" y="662"/>
                    </a:lnTo>
                    <a:lnTo>
                      <a:pt x="1014" y="6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909120" y="2206440"/>
                <a:ext cx="1614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909120" y="2560320"/>
                <a:ext cx="16142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908040" y="167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69640" y="16765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0D7-460B-4C22-9B0C-1527F15328A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esentation Formatt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58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shalling (encoding) application data into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shalling (decoding) messages into applic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s we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809880" y="2057400"/>
            <a:ext cx="4543200" cy="1758240"/>
            <a:chOff x="3809880" y="2057400"/>
            <a:chExt cx="4543200" cy="1758240"/>
          </a:xfrm>
        </p:grpSpPr>
        <p:sp>
          <p:nvSpPr>
            <p:cNvPr id="330" name=""/>
            <p:cNvSpPr/>
            <p:nvPr/>
          </p:nvSpPr>
          <p:spPr>
            <a:xfrm>
              <a:off x="3906720" y="2057400"/>
              <a:ext cx="87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3360" y="22338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76840" y="288972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11840" y="30639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09880" y="2891880"/>
              <a:ext cx="1137960" cy="374760"/>
            </a:xfrm>
            <a:custGeom>
              <a:avLst/>
              <a:gdLst/>
              <a:ahLst/>
              <a:rect l="l" t="t" r="r" b="b"/>
              <a:pathLst>
                <a:path w="892" h="372">
                  <a:moveTo>
                    <a:pt x="892" y="372"/>
                  </a:moveTo>
                  <a:lnTo>
                    <a:pt x="892" y="0"/>
                  </a:lnTo>
                  <a:lnTo>
                    <a:pt x="0" y="0"/>
                  </a:lnTo>
                  <a:lnTo>
                    <a:pt x="0" y="372"/>
                  </a:lnTo>
                  <a:lnTo>
                    <a:pt x="892" y="372"/>
                  </a:lnTo>
                  <a:lnTo>
                    <a:pt x="892" y="37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78680" y="2410920"/>
              <a:ext cx="1080" cy="414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0600" y="2808360"/>
              <a:ext cx="55800" cy="78480"/>
            </a:xfrm>
            <a:custGeom>
              <a:avLst/>
              <a:gdLst/>
              <a:ahLst/>
              <a:rect l="l" t="t" r="r" b="b"/>
              <a:pathLst>
                <a:path w="44" h="78">
                  <a:moveTo>
                    <a:pt x="0" y="0"/>
                  </a:moveTo>
                  <a:lnTo>
                    <a:pt x="22" y="78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17000" y="2057400"/>
              <a:ext cx="87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08240" y="22338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88560" y="288972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23560" y="30639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14400" y="2891880"/>
              <a:ext cx="1138680" cy="374760"/>
            </a:xfrm>
            <a:custGeom>
              <a:avLst/>
              <a:gdLst/>
              <a:ahLst/>
              <a:rect l="l" t="t" r="r" b="b"/>
              <a:pathLst>
                <a:path w="893" h="372">
                  <a:moveTo>
                    <a:pt x="893" y="372"/>
                  </a:moveTo>
                  <a:lnTo>
                    <a:pt x="893" y="0"/>
                  </a:lnTo>
                  <a:lnTo>
                    <a:pt x="0" y="0"/>
                  </a:lnTo>
                  <a:lnTo>
                    <a:pt x="0" y="372"/>
                  </a:lnTo>
                  <a:lnTo>
                    <a:pt x="893" y="372"/>
                  </a:lnTo>
                  <a:lnTo>
                    <a:pt x="893" y="37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766640" y="2488680"/>
              <a:ext cx="0" cy="386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51520" y="2405880"/>
              <a:ext cx="59760" cy="8244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9" y="75"/>
                  </a:moveTo>
                  <a:lnTo>
                    <a:pt x="22" y="0"/>
                  </a:lnTo>
                  <a:lnTo>
                    <a:pt x="0" y="79"/>
                  </a:lnTo>
                  <a:lnTo>
                    <a:pt x="39" y="79"/>
                  </a:lnTo>
                  <a:lnTo>
                    <a:pt x="39" y="79"/>
                  </a:lnTo>
                  <a:lnTo>
                    <a:pt x="3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3640" y="3266640"/>
              <a:ext cx="3409560" cy="228600"/>
            </a:xfrm>
            <a:custGeom>
              <a:avLst/>
              <a:gdLst/>
              <a:ahLst/>
              <a:rect l="l" t="t" r="r" b="b"/>
              <a:pathLst>
                <a:path w="2673" h="227">
                  <a:moveTo>
                    <a:pt x="0" y="0"/>
                  </a:moveTo>
                  <a:lnTo>
                    <a:pt x="4" y="227"/>
                  </a:lnTo>
                  <a:lnTo>
                    <a:pt x="2673" y="227"/>
                  </a:lnTo>
                  <a:lnTo>
                    <a:pt x="2673" y="7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50080" y="3270600"/>
              <a:ext cx="67320" cy="9648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53" y="96"/>
                  </a:moveTo>
                  <a:lnTo>
                    <a:pt x="26" y="0"/>
                  </a:lnTo>
                  <a:lnTo>
                    <a:pt x="0" y="96"/>
                  </a:lnTo>
                  <a:lnTo>
                    <a:pt x="53" y="96"/>
                  </a:lnTo>
                  <a:lnTo>
                    <a:pt x="5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48320" y="36021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90360" y="3593160"/>
              <a:ext cx="815040" cy="215280"/>
            </a:xfrm>
            <a:custGeom>
              <a:avLst/>
              <a:gdLst/>
              <a:ahLst/>
              <a:rect l="l" t="t" r="r" b="b"/>
              <a:pathLst>
                <a:path w="639" h="214">
                  <a:moveTo>
                    <a:pt x="639" y="214"/>
                  </a:moveTo>
                  <a:lnTo>
                    <a:pt x="639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639" y="214"/>
                  </a:lnTo>
                  <a:lnTo>
                    <a:pt x="639" y="21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15280" y="36021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55880" y="3593160"/>
              <a:ext cx="815040" cy="215280"/>
            </a:xfrm>
            <a:custGeom>
              <a:avLst/>
              <a:gdLst/>
              <a:ahLst/>
              <a:rect l="l" t="t" r="r" b="b"/>
              <a:pathLst>
                <a:path w="639" h="214">
                  <a:moveTo>
                    <a:pt x="635" y="214"/>
                  </a:moveTo>
                  <a:lnTo>
                    <a:pt x="639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639" y="214"/>
                  </a:lnTo>
                  <a:lnTo>
                    <a:pt x="639" y="21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26680" y="36021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67640" y="3593160"/>
              <a:ext cx="809640" cy="215280"/>
            </a:xfrm>
            <a:custGeom>
              <a:avLst/>
              <a:gdLst/>
              <a:ahLst/>
              <a:rect l="l" t="t" r="r" b="b"/>
              <a:pathLst>
                <a:path w="635" h="214">
                  <a:moveTo>
                    <a:pt x="635" y="214"/>
                  </a:moveTo>
                  <a:lnTo>
                    <a:pt x="635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635" y="214"/>
                  </a:lnTo>
                  <a:lnTo>
                    <a:pt x="635" y="21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31400" y="350352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33720" y="350460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3962520" y="434340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data we do not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media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BEA-0F27-4199-9858-AAC5F063CC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iculti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 of bas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 point: IEEE 754 versus non-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: big-endian versus little-endian (e.g., 34,677,3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layout of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59200" y="2798640"/>
            <a:ext cx="6936480" cy="2637000"/>
            <a:chOff x="1159200" y="2798640"/>
            <a:chExt cx="6936480" cy="2637000"/>
          </a:xfrm>
        </p:grpSpPr>
        <p:sp>
          <p:nvSpPr>
            <p:cNvPr id="358" name=""/>
            <p:cNvSpPr/>
            <p:nvPr/>
          </p:nvSpPr>
          <p:spPr>
            <a:xfrm>
              <a:off x="6587280" y="2798640"/>
              <a:ext cx="56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126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95680" y="2798640"/>
              <a:ext cx="43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34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29560" y="2798640"/>
              <a:ext cx="43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17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92320" y="2798640"/>
              <a:ext cx="296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37720" y="3160080"/>
              <a:ext cx="1073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000001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59200" y="316008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ig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63840" y="3160080"/>
              <a:ext cx="724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ndia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66760" y="4052880"/>
              <a:ext cx="590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Little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17560" y="4052880"/>
              <a:ext cx="724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ndia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03080" y="3092040"/>
              <a:ext cx="4963680" cy="362520"/>
            </a:xfrm>
            <a:custGeom>
              <a:avLst/>
              <a:gdLst/>
              <a:ahLst/>
              <a:rect l="l" t="t" r="r" b="b"/>
              <a:pathLst>
                <a:path w="3367" h="283">
                  <a:moveTo>
                    <a:pt x="3367" y="278"/>
                  </a:moveTo>
                  <a:lnTo>
                    <a:pt x="3367" y="0"/>
                  </a:lnTo>
                  <a:lnTo>
                    <a:pt x="0" y="0"/>
                  </a:lnTo>
                  <a:lnTo>
                    <a:pt x="0" y="283"/>
                  </a:lnTo>
                  <a:lnTo>
                    <a:pt x="3367" y="283"/>
                  </a:lnTo>
                  <a:lnTo>
                    <a:pt x="3367" y="283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28360" y="3092040"/>
              <a:ext cx="1080" cy="36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47240" y="3092040"/>
              <a:ext cx="1440" cy="36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60440" y="3094560"/>
              <a:ext cx="0" cy="369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03080" y="3988800"/>
              <a:ext cx="4963680" cy="356040"/>
            </a:xfrm>
            <a:custGeom>
              <a:avLst/>
              <a:gdLst/>
              <a:ahLst/>
              <a:rect l="l" t="t" r="r" b="b"/>
              <a:pathLst>
                <a:path w="3367" h="278">
                  <a:moveTo>
                    <a:pt x="3367" y="278"/>
                  </a:moveTo>
                  <a:lnTo>
                    <a:pt x="3367" y="0"/>
                  </a:lnTo>
                  <a:lnTo>
                    <a:pt x="0" y="0"/>
                  </a:lnTo>
                  <a:lnTo>
                    <a:pt x="0" y="278"/>
                  </a:lnTo>
                  <a:lnTo>
                    <a:pt x="3367" y="278"/>
                  </a:lnTo>
                  <a:lnTo>
                    <a:pt x="3367" y="27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28360" y="3983760"/>
              <a:ext cx="1080" cy="36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47240" y="3983760"/>
              <a:ext cx="1440" cy="36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60440" y="4016880"/>
              <a:ext cx="0" cy="369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99240" y="3690360"/>
              <a:ext cx="296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01800" y="3690360"/>
              <a:ext cx="43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17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57640" y="3690360"/>
              <a:ext cx="43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34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66320" y="3690360"/>
              <a:ext cx="56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126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522160" y="4466520"/>
              <a:ext cx="1080" cy="41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82560" y="4363200"/>
              <a:ext cx="79560" cy="126360"/>
            </a:xfrm>
            <a:custGeom>
              <a:avLst/>
              <a:gdLst/>
              <a:ahLst/>
              <a:rect l="l" t="t" r="r" b="b"/>
              <a:pathLst>
                <a:path w="54" h="99">
                  <a:moveTo>
                    <a:pt x="54" y="99"/>
                  </a:moveTo>
                  <a:lnTo>
                    <a:pt x="27" y="0"/>
                  </a:lnTo>
                  <a:lnTo>
                    <a:pt x="0" y="99"/>
                  </a:lnTo>
                  <a:lnTo>
                    <a:pt x="54" y="99"/>
                  </a:lnTo>
                  <a:lnTo>
                    <a:pt x="5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466760" y="4466520"/>
              <a:ext cx="1080" cy="41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27160" y="4363200"/>
              <a:ext cx="79560" cy="126360"/>
            </a:xfrm>
            <a:custGeom>
              <a:avLst/>
              <a:gdLst/>
              <a:ahLst/>
              <a:rect l="l" t="t" r="r" b="b"/>
              <a:pathLst>
                <a:path w="54" h="99">
                  <a:moveTo>
                    <a:pt x="54" y="99"/>
                  </a:moveTo>
                  <a:lnTo>
                    <a:pt x="27" y="0"/>
                  </a:lnTo>
                  <a:lnTo>
                    <a:pt x="0" y="99"/>
                  </a:lnTo>
                  <a:lnTo>
                    <a:pt x="54" y="99"/>
                  </a:lnTo>
                  <a:lnTo>
                    <a:pt x="5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43240" y="4921560"/>
              <a:ext cx="496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43960" y="5145840"/>
              <a:ext cx="85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4920" y="4921560"/>
              <a:ext cx="442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37080" y="5145840"/>
              <a:ext cx="85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4132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9380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4716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8072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9700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2552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468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7032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114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858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826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562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2560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082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4660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144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114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858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826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82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498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082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270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340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624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429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325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0692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751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592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72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748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624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429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325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877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004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592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845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835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1932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958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7380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456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7060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908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273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24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38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273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024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832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598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305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056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882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4B6-BF3A-49AB-90B8-ECA5EE2239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types (e.g., ints, floats); must conv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 types (e.g., structures, arrays); must 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types (e.g., pointers); must linea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-makes-right (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46840" y="2832120"/>
            <a:ext cx="1579320" cy="1341360"/>
          </a:xfrm>
          <a:custGeom>
            <a:avLst/>
            <a:gdLst/>
            <a:ahLst/>
            <a:rect l="l" t="t" r="r" b="b"/>
            <a:pathLst>
              <a:path w="995" h="845">
                <a:moveTo>
                  <a:pt x="992" y="845"/>
                </a:moveTo>
                <a:lnTo>
                  <a:pt x="995" y="0"/>
                </a:lnTo>
                <a:lnTo>
                  <a:pt x="0" y="0"/>
                </a:lnTo>
                <a:lnTo>
                  <a:pt x="0" y="845"/>
                </a:lnTo>
                <a:lnTo>
                  <a:pt x="995" y="845"/>
                </a:lnTo>
                <a:lnTo>
                  <a:pt x="995" y="84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16400" y="3846600"/>
            <a:ext cx="22572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6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16400" y="2919240"/>
            <a:ext cx="817560" cy="195480"/>
          </a:xfrm>
          <a:custGeom>
            <a:avLst/>
            <a:gdLst/>
            <a:ahLst/>
            <a:rect l="l" t="t" r="r" b="b"/>
            <a:pathLst>
              <a:path w="515" h="123">
                <a:moveTo>
                  <a:pt x="512" y="123"/>
                </a:moveTo>
                <a:lnTo>
                  <a:pt x="515" y="0"/>
                </a:lnTo>
                <a:lnTo>
                  <a:pt x="0" y="0"/>
                </a:lnTo>
                <a:lnTo>
                  <a:pt x="0" y="123"/>
                </a:lnTo>
                <a:lnTo>
                  <a:pt x="515" y="123"/>
                </a:lnTo>
                <a:lnTo>
                  <a:pt x="515" y="123"/>
                </a:lnTo>
                <a:lnTo>
                  <a:pt x="512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16400" y="2919240"/>
            <a:ext cx="817560" cy="195480"/>
          </a:xfrm>
          <a:custGeom>
            <a:avLst/>
            <a:gdLst/>
            <a:ahLst/>
            <a:rect l="l" t="t" r="r" b="b"/>
            <a:pathLst>
              <a:path w="515" h="123">
                <a:moveTo>
                  <a:pt x="512" y="123"/>
                </a:moveTo>
                <a:lnTo>
                  <a:pt x="515" y="0"/>
                </a:lnTo>
                <a:lnTo>
                  <a:pt x="0" y="0"/>
                </a:lnTo>
                <a:lnTo>
                  <a:pt x="0" y="123"/>
                </a:lnTo>
                <a:lnTo>
                  <a:pt x="515" y="123"/>
                </a:lnTo>
                <a:lnTo>
                  <a:pt x="515" y="12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16400" y="3529080"/>
            <a:ext cx="22572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3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6400" y="3529080"/>
            <a:ext cx="22572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3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16400" y="3219480"/>
            <a:ext cx="225720" cy="20016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4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  <a:lnTo>
                  <a:pt x="140" y="12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16400" y="3219480"/>
            <a:ext cx="225720" cy="20016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4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78440" y="5200560"/>
            <a:ext cx="220680" cy="200160"/>
          </a:xfrm>
          <a:custGeom>
            <a:avLst/>
            <a:gdLst/>
            <a:ahLst/>
            <a:rect l="l" t="t" r="r" b="b"/>
            <a:pathLst>
              <a:path w="139" h="126">
                <a:moveTo>
                  <a:pt x="139" y="123"/>
                </a:moveTo>
                <a:lnTo>
                  <a:pt x="139" y="0"/>
                </a:lnTo>
                <a:lnTo>
                  <a:pt x="0" y="0"/>
                </a:lnTo>
                <a:lnTo>
                  <a:pt x="0" y="126"/>
                </a:lnTo>
                <a:lnTo>
                  <a:pt x="139" y="126"/>
                </a:lnTo>
                <a:lnTo>
                  <a:pt x="139" y="126"/>
                </a:lnTo>
                <a:lnTo>
                  <a:pt x="139" y="12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78440" y="5200560"/>
            <a:ext cx="220680" cy="200160"/>
          </a:xfrm>
          <a:custGeom>
            <a:avLst/>
            <a:gdLst/>
            <a:ahLst/>
            <a:rect l="l" t="t" r="r" b="b"/>
            <a:pathLst>
              <a:path w="139" h="126">
                <a:moveTo>
                  <a:pt x="139" y="123"/>
                </a:moveTo>
                <a:lnTo>
                  <a:pt x="139" y="0"/>
                </a:lnTo>
                <a:lnTo>
                  <a:pt x="0" y="0"/>
                </a:lnTo>
                <a:lnTo>
                  <a:pt x="0" y="126"/>
                </a:lnTo>
                <a:lnTo>
                  <a:pt x="139" y="126"/>
                </a:lnTo>
                <a:lnTo>
                  <a:pt x="139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91080" y="3529080"/>
            <a:ext cx="220680" cy="199800"/>
          </a:xfrm>
          <a:custGeom>
            <a:avLst/>
            <a:gdLst/>
            <a:ahLst/>
            <a:rect l="l" t="t" r="r" b="b"/>
            <a:pathLst>
              <a:path w="139" h="126">
                <a:moveTo>
                  <a:pt x="139" y="123"/>
                </a:moveTo>
                <a:lnTo>
                  <a:pt x="139" y="0"/>
                </a:lnTo>
                <a:lnTo>
                  <a:pt x="0" y="0"/>
                </a:lnTo>
                <a:lnTo>
                  <a:pt x="0" y="126"/>
                </a:lnTo>
                <a:lnTo>
                  <a:pt x="139" y="126"/>
                </a:lnTo>
                <a:lnTo>
                  <a:pt x="139" y="126"/>
                </a:lnTo>
                <a:lnTo>
                  <a:pt x="139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91080" y="3529080"/>
            <a:ext cx="220680" cy="199800"/>
          </a:xfrm>
          <a:custGeom>
            <a:avLst/>
            <a:gdLst/>
            <a:ahLst/>
            <a:rect l="l" t="t" r="r" b="b"/>
            <a:pathLst>
              <a:path w="139" h="126">
                <a:moveTo>
                  <a:pt x="139" y="123"/>
                </a:moveTo>
                <a:lnTo>
                  <a:pt x="139" y="0"/>
                </a:lnTo>
                <a:lnTo>
                  <a:pt x="0" y="0"/>
                </a:lnTo>
                <a:lnTo>
                  <a:pt x="0" y="126"/>
                </a:lnTo>
                <a:lnTo>
                  <a:pt x="139" y="126"/>
                </a:lnTo>
                <a:lnTo>
                  <a:pt x="139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61080" y="3529080"/>
            <a:ext cx="22536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39" y="123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  <a:lnTo>
                  <a:pt x="139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61080" y="3529080"/>
            <a:ext cx="22536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39" y="123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33960" y="3529080"/>
            <a:ext cx="222480" cy="19980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3960" y="3529080"/>
            <a:ext cx="222480" cy="19980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16600" y="3846600"/>
            <a:ext cx="552600" cy="199800"/>
          </a:xfrm>
          <a:custGeom>
            <a:avLst/>
            <a:gdLst/>
            <a:ahLst/>
            <a:rect l="l" t="t" r="r" b="b"/>
            <a:pathLst>
              <a:path w="348" h="126">
                <a:moveTo>
                  <a:pt x="346" y="126"/>
                </a:moveTo>
                <a:lnTo>
                  <a:pt x="348" y="0"/>
                </a:lnTo>
                <a:lnTo>
                  <a:pt x="0" y="0"/>
                </a:lnTo>
                <a:lnTo>
                  <a:pt x="0" y="126"/>
                </a:lnTo>
                <a:lnTo>
                  <a:pt x="348" y="126"/>
                </a:lnTo>
                <a:lnTo>
                  <a:pt x="348" y="126"/>
                </a:lnTo>
                <a:lnTo>
                  <a:pt x="346" y="12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16600" y="3846600"/>
            <a:ext cx="552600" cy="199800"/>
          </a:xfrm>
          <a:custGeom>
            <a:avLst/>
            <a:gdLst/>
            <a:ahLst/>
            <a:rect l="l" t="t" r="r" b="b"/>
            <a:pathLst>
              <a:path w="348" h="126">
                <a:moveTo>
                  <a:pt x="346" y="126"/>
                </a:moveTo>
                <a:lnTo>
                  <a:pt x="348" y="0"/>
                </a:lnTo>
                <a:lnTo>
                  <a:pt x="0" y="0"/>
                </a:lnTo>
                <a:lnTo>
                  <a:pt x="0" y="126"/>
                </a:lnTo>
                <a:lnTo>
                  <a:pt x="348" y="126"/>
                </a:lnTo>
                <a:lnTo>
                  <a:pt x="348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83280" y="5200560"/>
            <a:ext cx="547920" cy="200160"/>
          </a:xfrm>
          <a:custGeom>
            <a:avLst/>
            <a:gdLst/>
            <a:ahLst/>
            <a:rect l="l" t="t" r="r" b="b"/>
            <a:pathLst>
              <a:path w="345" h="126">
                <a:moveTo>
                  <a:pt x="345" y="123"/>
                </a:moveTo>
                <a:lnTo>
                  <a:pt x="345" y="0"/>
                </a:lnTo>
                <a:lnTo>
                  <a:pt x="0" y="0"/>
                </a:lnTo>
                <a:lnTo>
                  <a:pt x="0" y="126"/>
                </a:lnTo>
                <a:lnTo>
                  <a:pt x="345" y="126"/>
                </a:lnTo>
                <a:lnTo>
                  <a:pt x="345" y="126"/>
                </a:lnTo>
                <a:lnTo>
                  <a:pt x="345" y="12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83280" y="5200560"/>
            <a:ext cx="547920" cy="200160"/>
          </a:xfrm>
          <a:custGeom>
            <a:avLst/>
            <a:gdLst/>
            <a:ahLst/>
            <a:rect l="l" t="t" r="r" b="b"/>
            <a:pathLst>
              <a:path w="345" h="126">
                <a:moveTo>
                  <a:pt x="345" y="123"/>
                </a:moveTo>
                <a:lnTo>
                  <a:pt x="345" y="0"/>
                </a:lnTo>
                <a:lnTo>
                  <a:pt x="0" y="0"/>
                </a:lnTo>
                <a:lnTo>
                  <a:pt x="0" y="126"/>
                </a:lnTo>
                <a:lnTo>
                  <a:pt x="345" y="126"/>
                </a:lnTo>
                <a:lnTo>
                  <a:pt x="345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37120" y="4451400"/>
            <a:ext cx="1584360" cy="461880"/>
          </a:xfrm>
          <a:custGeom>
            <a:avLst/>
            <a:gdLst/>
            <a:ahLst/>
            <a:rect l="l" t="t" r="r" b="b"/>
            <a:pathLst>
              <a:path w="998" h="291">
                <a:moveTo>
                  <a:pt x="499" y="291"/>
                </a:moveTo>
                <a:lnTo>
                  <a:pt x="587" y="288"/>
                </a:lnTo>
                <a:lnTo>
                  <a:pt x="664" y="282"/>
                </a:lnTo>
                <a:lnTo>
                  <a:pt x="738" y="274"/>
                </a:lnTo>
                <a:lnTo>
                  <a:pt x="804" y="261"/>
                </a:lnTo>
                <a:lnTo>
                  <a:pt x="858" y="247"/>
                </a:lnTo>
                <a:lnTo>
                  <a:pt x="908" y="230"/>
                </a:lnTo>
                <a:lnTo>
                  <a:pt x="946" y="208"/>
                </a:lnTo>
                <a:lnTo>
                  <a:pt x="976" y="189"/>
                </a:lnTo>
                <a:lnTo>
                  <a:pt x="993" y="165"/>
                </a:lnTo>
                <a:lnTo>
                  <a:pt x="998" y="143"/>
                </a:lnTo>
                <a:lnTo>
                  <a:pt x="993" y="118"/>
                </a:lnTo>
                <a:lnTo>
                  <a:pt x="976" y="96"/>
                </a:lnTo>
                <a:lnTo>
                  <a:pt x="946" y="77"/>
                </a:lnTo>
                <a:lnTo>
                  <a:pt x="908" y="58"/>
                </a:lnTo>
                <a:lnTo>
                  <a:pt x="858" y="41"/>
                </a:lnTo>
                <a:lnTo>
                  <a:pt x="804" y="28"/>
                </a:lnTo>
                <a:lnTo>
                  <a:pt x="738" y="17"/>
                </a:lnTo>
                <a:lnTo>
                  <a:pt x="664" y="8"/>
                </a:lnTo>
                <a:lnTo>
                  <a:pt x="587" y="3"/>
                </a:lnTo>
                <a:lnTo>
                  <a:pt x="502" y="0"/>
                </a:lnTo>
                <a:lnTo>
                  <a:pt x="417" y="3"/>
                </a:lnTo>
                <a:lnTo>
                  <a:pt x="338" y="8"/>
                </a:lnTo>
                <a:lnTo>
                  <a:pt x="264" y="17"/>
                </a:lnTo>
                <a:lnTo>
                  <a:pt x="201" y="28"/>
                </a:lnTo>
                <a:lnTo>
                  <a:pt x="143" y="41"/>
                </a:lnTo>
                <a:lnTo>
                  <a:pt x="94" y="58"/>
                </a:lnTo>
                <a:lnTo>
                  <a:pt x="53" y="77"/>
                </a:lnTo>
                <a:lnTo>
                  <a:pt x="25" y="96"/>
                </a:lnTo>
                <a:lnTo>
                  <a:pt x="6" y="118"/>
                </a:lnTo>
                <a:lnTo>
                  <a:pt x="0" y="143"/>
                </a:lnTo>
                <a:lnTo>
                  <a:pt x="6" y="165"/>
                </a:lnTo>
                <a:lnTo>
                  <a:pt x="25" y="189"/>
                </a:lnTo>
                <a:lnTo>
                  <a:pt x="53" y="208"/>
                </a:lnTo>
                <a:lnTo>
                  <a:pt x="94" y="230"/>
                </a:lnTo>
                <a:lnTo>
                  <a:pt x="143" y="247"/>
                </a:lnTo>
                <a:lnTo>
                  <a:pt x="201" y="261"/>
                </a:lnTo>
                <a:lnTo>
                  <a:pt x="264" y="274"/>
                </a:lnTo>
                <a:lnTo>
                  <a:pt x="338" y="282"/>
                </a:lnTo>
                <a:lnTo>
                  <a:pt x="417" y="288"/>
                </a:lnTo>
                <a:lnTo>
                  <a:pt x="502" y="291"/>
                </a:lnTo>
                <a:lnTo>
                  <a:pt x="502" y="29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52760" y="4572000"/>
            <a:ext cx="103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sh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96720" y="3048120"/>
            <a:ext cx="20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54760" y="5200560"/>
            <a:ext cx="814320" cy="200160"/>
          </a:xfrm>
          <a:custGeom>
            <a:avLst/>
            <a:gdLst/>
            <a:ahLst/>
            <a:rect l="l" t="t" r="r" b="b"/>
            <a:pathLst>
              <a:path w="513" h="126">
                <a:moveTo>
                  <a:pt x="513" y="123"/>
                </a:moveTo>
                <a:lnTo>
                  <a:pt x="513" y="0"/>
                </a:lnTo>
                <a:lnTo>
                  <a:pt x="0" y="0"/>
                </a:lnTo>
                <a:lnTo>
                  <a:pt x="0" y="126"/>
                </a:lnTo>
                <a:lnTo>
                  <a:pt x="513" y="126"/>
                </a:lnTo>
                <a:lnTo>
                  <a:pt x="513" y="126"/>
                </a:lnTo>
                <a:lnTo>
                  <a:pt x="513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54760" y="5200560"/>
            <a:ext cx="814320" cy="200160"/>
          </a:xfrm>
          <a:custGeom>
            <a:avLst/>
            <a:gdLst/>
            <a:ahLst/>
            <a:rect l="l" t="t" r="r" b="b"/>
            <a:pathLst>
              <a:path w="513" h="126">
                <a:moveTo>
                  <a:pt x="513" y="123"/>
                </a:moveTo>
                <a:lnTo>
                  <a:pt x="513" y="0"/>
                </a:lnTo>
                <a:lnTo>
                  <a:pt x="0" y="0"/>
                </a:lnTo>
                <a:lnTo>
                  <a:pt x="0" y="126"/>
                </a:lnTo>
                <a:lnTo>
                  <a:pt x="513" y="126"/>
                </a:lnTo>
                <a:lnTo>
                  <a:pt x="513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9120" y="5200560"/>
            <a:ext cx="222480" cy="20016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9120" y="5200560"/>
            <a:ext cx="222480" cy="20016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16560" y="5200560"/>
            <a:ext cx="222480" cy="20016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16560" y="5200560"/>
            <a:ext cx="222480" cy="20016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39040" y="5200560"/>
            <a:ext cx="226800" cy="200160"/>
          </a:xfrm>
          <a:custGeom>
            <a:avLst/>
            <a:gdLst/>
            <a:ahLst/>
            <a:rect l="l" t="t" r="r" b="b"/>
            <a:pathLst>
              <a:path w="143" h="126">
                <a:moveTo>
                  <a:pt x="140" y="123"/>
                </a:moveTo>
                <a:lnTo>
                  <a:pt x="143" y="0"/>
                </a:lnTo>
                <a:lnTo>
                  <a:pt x="0" y="0"/>
                </a:lnTo>
                <a:lnTo>
                  <a:pt x="0" y="126"/>
                </a:lnTo>
                <a:lnTo>
                  <a:pt x="143" y="126"/>
                </a:lnTo>
                <a:lnTo>
                  <a:pt x="143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39040" y="5200560"/>
            <a:ext cx="226800" cy="200160"/>
          </a:xfrm>
          <a:custGeom>
            <a:avLst/>
            <a:gdLst/>
            <a:ahLst/>
            <a:rect l="l" t="t" r="r" b="b"/>
            <a:pathLst>
              <a:path w="143" h="126">
                <a:moveTo>
                  <a:pt x="140" y="123"/>
                </a:moveTo>
                <a:lnTo>
                  <a:pt x="143" y="0"/>
                </a:lnTo>
                <a:lnTo>
                  <a:pt x="0" y="0"/>
                </a:lnTo>
                <a:lnTo>
                  <a:pt x="0" y="126"/>
                </a:lnTo>
                <a:lnTo>
                  <a:pt x="143" y="126"/>
                </a:lnTo>
                <a:lnTo>
                  <a:pt x="143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56480" y="5200560"/>
            <a:ext cx="226800" cy="200160"/>
          </a:xfrm>
          <a:custGeom>
            <a:avLst/>
            <a:gdLst/>
            <a:ahLst/>
            <a:rect l="l" t="t" r="r" b="b"/>
            <a:pathLst>
              <a:path w="143" h="126">
                <a:moveTo>
                  <a:pt x="140" y="123"/>
                </a:moveTo>
                <a:lnTo>
                  <a:pt x="143" y="0"/>
                </a:lnTo>
                <a:lnTo>
                  <a:pt x="0" y="0"/>
                </a:lnTo>
                <a:lnTo>
                  <a:pt x="0" y="126"/>
                </a:lnTo>
                <a:lnTo>
                  <a:pt x="143" y="126"/>
                </a:lnTo>
                <a:lnTo>
                  <a:pt x="143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56480" y="5200560"/>
            <a:ext cx="226800" cy="200160"/>
          </a:xfrm>
          <a:custGeom>
            <a:avLst/>
            <a:gdLst/>
            <a:ahLst/>
            <a:rect l="l" t="t" r="r" b="b"/>
            <a:pathLst>
              <a:path w="143" h="126">
                <a:moveTo>
                  <a:pt x="140" y="123"/>
                </a:moveTo>
                <a:lnTo>
                  <a:pt x="143" y="0"/>
                </a:lnTo>
                <a:lnTo>
                  <a:pt x="0" y="0"/>
                </a:lnTo>
                <a:lnTo>
                  <a:pt x="0" y="126"/>
                </a:lnTo>
                <a:lnTo>
                  <a:pt x="143" y="126"/>
                </a:lnTo>
                <a:lnTo>
                  <a:pt x="143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38840" y="4176720"/>
            <a:ext cx="1440" cy="187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1840" y="4346640"/>
            <a:ext cx="52560" cy="100080"/>
          </a:xfrm>
          <a:custGeom>
            <a:avLst/>
            <a:gdLst/>
            <a:ahLst/>
            <a:rect l="l" t="t" r="r" b="b"/>
            <a:pathLst>
              <a:path w="33" h="63">
                <a:moveTo>
                  <a:pt x="0" y="0"/>
                </a:moveTo>
                <a:lnTo>
                  <a:pt x="17" y="63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38840" y="4913280"/>
            <a:ext cx="1440" cy="200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11840" y="5095800"/>
            <a:ext cx="52560" cy="100080"/>
          </a:xfrm>
          <a:custGeom>
            <a:avLst/>
            <a:gdLst/>
            <a:ahLst/>
            <a:rect l="l" t="t" r="r" b="b"/>
            <a:pathLst>
              <a:path w="33" h="63">
                <a:moveTo>
                  <a:pt x="0" y="0"/>
                </a:moveTo>
                <a:lnTo>
                  <a:pt x="17" y="63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38880" y="3941640"/>
            <a:ext cx="38736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08600" y="3921120"/>
            <a:ext cx="100080" cy="52560"/>
          </a:xfrm>
          <a:custGeom>
            <a:avLst/>
            <a:gdLst/>
            <a:ahLst/>
            <a:rect l="l" t="t" r="r" b="b"/>
            <a:pathLst>
              <a:path w="63" h="33">
                <a:moveTo>
                  <a:pt x="0" y="30"/>
                </a:moveTo>
                <a:lnTo>
                  <a:pt x="63" y="16"/>
                </a:lnTo>
                <a:lnTo>
                  <a:pt x="0" y="0"/>
                </a:lnTo>
                <a:lnTo>
                  <a:pt x="0" y="33"/>
                </a:lnTo>
                <a:lnTo>
                  <a:pt x="0" y="33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14A-0050-4FDF-889F-D3E793E641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ged versus untagg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47920" y="1752480"/>
            <a:ext cx="5715000" cy="469080"/>
            <a:chOff x="1447920" y="1752480"/>
            <a:chExt cx="5715000" cy="469080"/>
          </a:xfrm>
        </p:grpSpPr>
        <p:sp>
          <p:nvSpPr>
            <p:cNvPr id="487" name=""/>
            <p:cNvSpPr/>
            <p:nvPr/>
          </p:nvSpPr>
          <p:spPr>
            <a:xfrm>
              <a:off x="1546200" y="1798200"/>
              <a:ext cx="56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ype 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2880" y="197784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47920" y="1757160"/>
              <a:ext cx="5715000" cy="461160"/>
            </a:xfrm>
            <a:custGeom>
              <a:avLst/>
              <a:gdLst/>
              <a:ahLst/>
              <a:rect l="l" t="t" r="r" b="b"/>
              <a:pathLst>
                <a:path w="4233" h="575">
                  <a:moveTo>
                    <a:pt x="4227" y="575"/>
                  </a:moveTo>
                  <a:lnTo>
                    <a:pt x="4233" y="0"/>
                  </a:lnTo>
                  <a:lnTo>
                    <a:pt x="0" y="0"/>
                  </a:lnTo>
                  <a:lnTo>
                    <a:pt x="0" y="575"/>
                  </a:lnTo>
                  <a:lnTo>
                    <a:pt x="4233" y="575"/>
                  </a:lnTo>
                  <a:lnTo>
                    <a:pt x="4233" y="57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99760" y="1752480"/>
              <a:ext cx="1440" cy="466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91200" y="1882440"/>
              <a:ext cx="61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n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95600" y="1882440"/>
              <a:ext cx="71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 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94880" y="18824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178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52680" y="1752480"/>
              <a:ext cx="1440" cy="466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04520" y="1752480"/>
              <a:ext cx="1440" cy="126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04520" y="2087640"/>
              <a:ext cx="1440" cy="130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64640" y="1752480"/>
              <a:ext cx="1080" cy="126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64640" y="2087640"/>
              <a:ext cx="1080" cy="130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17560" y="1752480"/>
              <a:ext cx="1080" cy="126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17560" y="2087640"/>
              <a:ext cx="1080" cy="130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809880" y="2514600"/>
            <a:ext cx="4203360" cy="3505320"/>
            <a:chOff x="3809880" y="2514600"/>
            <a:chExt cx="4203360" cy="3505320"/>
          </a:xfrm>
        </p:grpSpPr>
        <p:sp>
          <p:nvSpPr>
            <p:cNvPr id="502" name=""/>
            <p:cNvSpPr/>
            <p:nvPr/>
          </p:nvSpPr>
          <p:spPr>
            <a:xfrm flipH="1">
              <a:off x="4700880" y="4340160"/>
              <a:ext cx="515520" cy="1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26720" y="4311360"/>
              <a:ext cx="96120" cy="5724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70" y="0"/>
                  </a:moveTo>
                  <a:lnTo>
                    <a:pt x="0" y="25"/>
                  </a:lnTo>
                  <a:lnTo>
                    <a:pt x="74" y="42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21720" y="4329000"/>
              <a:ext cx="510840" cy="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10600" y="4305960"/>
              <a:ext cx="102600" cy="50400"/>
            </a:xfrm>
            <a:custGeom>
              <a:avLst/>
              <a:gdLst/>
              <a:ahLst/>
              <a:rect l="l" t="t" r="r" b="b"/>
              <a:pathLst>
                <a:path w="79" h="37">
                  <a:moveTo>
                    <a:pt x="0" y="37"/>
                  </a:moveTo>
                  <a:lnTo>
                    <a:pt x="79" y="17"/>
                  </a:lnTo>
                  <a:lnTo>
                    <a:pt x="5" y="0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75120" y="311040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74760" y="41036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40640" y="43290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85520" y="43290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30200" y="5331960"/>
              <a:ext cx="3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00560" y="3641040"/>
              <a:ext cx="86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32600" y="46832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shal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31160" y="4907880"/>
              <a:ext cx="84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09880" y="409824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09880" y="5213880"/>
              <a:ext cx="804960" cy="47880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09880" y="300528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50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79600" y="3477240"/>
              <a:ext cx="0" cy="52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79600" y="4002120"/>
              <a:ext cx="53280" cy="1011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0" y="0"/>
                  </a:moveTo>
                  <a:lnTo>
                    <a:pt x="20" y="7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66080" y="2616840"/>
              <a:ext cx="69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76720" y="28411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criptor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42960" y="3061080"/>
              <a:ext cx="99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dure 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40680" y="410364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72920" y="4329000"/>
              <a:ext cx="67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52960" y="43290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83000" y="577620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16800" y="3641040"/>
              <a:ext cx="101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22160" y="409824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4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17800" y="3477240"/>
              <a:ext cx="0" cy="52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81440" y="3991320"/>
              <a:ext cx="54360" cy="10080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0" y="0"/>
                  </a:moveTo>
                  <a:lnTo>
                    <a:pt x="21" y="7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79600" y="4593240"/>
              <a:ext cx="0" cy="52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79600" y="5118480"/>
              <a:ext cx="53280" cy="10080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0" y="0"/>
                  </a:moveTo>
                  <a:lnTo>
                    <a:pt x="20" y="7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65280" y="31104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75560" y="410364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2240" y="43290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93160" y="43290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39280" y="5331960"/>
              <a:ext cx="3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07840" y="3641040"/>
              <a:ext cx="86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40960" y="46832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shal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38800" y="4907880"/>
              <a:ext cx="84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18600" y="409824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18600" y="5213880"/>
              <a:ext cx="804960" cy="47880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8600" y="300528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50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993720" y="4658760"/>
              <a:ext cx="0" cy="52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31080" y="4582080"/>
              <a:ext cx="110520" cy="7632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37" y="74"/>
                  </a:moveTo>
                  <a:lnTo>
                    <a:pt x="21" y="0"/>
                  </a:lnTo>
                  <a:lnTo>
                    <a:pt x="0" y="74"/>
                  </a:lnTo>
                  <a:lnTo>
                    <a:pt x="37" y="74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2000" y="5693040"/>
              <a:ext cx="2803680" cy="326880"/>
            </a:xfrm>
            <a:custGeom>
              <a:avLst/>
              <a:gdLst/>
              <a:ahLst/>
              <a:rect l="l" t="t" r="r" b="b"/>
              <a:pathLst>
                <a:path w="2152" h="239">
                  <a:moveTo>
                    <a:pt x="2148" y="61"/>
                  </a:moveTo>
                  <a:lnTo>
                    <a:pt x="2152" y="239"/>
                  </a:ln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88680" y="5698080"/>
              <a:ext cx="67680" cy="7632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70"/>
                  </a:moveTo>
                  <a:lnTo>
                    <a:pt x="21" y="0"/>
                  </a:lnTo>
                  <a:lnTo>
                    <a:pt x="0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3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056360" y="3542400"/>
              <a:ext cx="0" cy="5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56360" y="3477240"/>
              <a:ext cx="47880" cy="10080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37" y="70"/>
                  </a:moveTo>
                  <a:lnTo>
                    <a:pt x="21" y="0"/>
                  </a:lnTo>
                  <a:lnTo>
                    <a:pt x="0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96440" y="2514600"/>
              <a:ext cx="1234800" cy="946080"/>
            </a:xfrm>
            <a:custGeom>
              <a:avLst/>
              <a:gdLst/>
              <a:ahLst/>
              <a:rect l="l" t="t" r="r" b="b"/>
              <a:pathLst>
                <a:path w="948" h="692">
                  <a:moveTo>
                    <a:pt x="470" y="688"/>
                  </a:moveTo>
                  <a:lnTo>
                    <a:pt x="548" y="688"/>
                  </a:lnTo>
                  <a:lnTo>
                    <a:pt x="622" y="676"/>
                  </a:lnTo>
                  <a:lnTo>
                    <a:pt x="688" y="655"/>
                  </a:lnTo>
                  <a:lnTo>
                    <a:pt x="750" y="627"/>
                  </a:lnTo>
                  <a:lnTo>
                    <a:pt x="808" y="590"/>
                  </a:lnTo>
                  <a:lnTo>
                    <a:pt x="853" y="548"/>
                  </a:lnTo>
                  <a:lnTo>
                    <a:pt x="894" y="503"/>
                  </a:lnTo>
                  <a:lnTo>
                    <a:pt x="923" y="454"/>
                  </a:lnTo>
                  <a:lnTo>
                    <a:pt x="940" y="404"/>
                  </a:lnTo>
                  <a:lnTo>
                    <a:pt x="948" y="346"/>
                  </a:lnTo>
                  <a:lnTo>
                    <a:pt x="940" y="289"/>
                  </a:lnTo>
                  <a:lnTo>
                    <a:pt x="923" y="235"/>
                  </a:lnTo>
                  <a:lnTo>
                    <a:pt x="894" y="186"/>
                  </a:lnTo>
                  <a:lnTo>
                    <a:pt x="853" y="141"/>
                  </a:lnTo>
                  <a:lnTo>
                    <a:pt x="808" y="103"/>
                  </a:lnTo>
                  <a:lnTo>
                    <a:pt x="750" y="66"/>
                  </a:lnTo>
                  <a:lnTo>
                    <a:pt x="688" y="38"/>
                  </a:lnTo>
                  <a:lnTo>
                    <a:pt x="622" y="17"/>
                  </a:lnTo>
                  <a:lnTo>
                    <a:pt x="548" y="5"/>
                  </a:lnTo>
                  <a:lnTo>
                    <a:pt x="474" y="0"/>
                  </a:lnTo>
                  <a:lnTo>
                    <a:pt x="396" y="5"/>
                  </a:lnTo>
                  <a:lnTo>
                    <a:pt x="322" y="17"/>
                  </a:lnTo>
                  <a:lnTo>
                    <a:pt x="256" y="38"/>
                  </a:lnTo>
                  <a:lnTo>
                    <a:pt x="194" y="66"/>
                  </a:lnTo>
                  <a:lnTo>
                    <a:pt x="136" y="103"/>
                  </a:lnTo>
                  <a:lnTo>
                    <a:pt x="91" y="141"/>
                  </a:lnTo>
                  <a:lnTo>
                    <a:pt x="54" y="186"/>
                  </a:lnTo>
                  <a:lnTo>
                    <a:pt x="25" y="235"/>
                  </a:lnTo>
                  <a:lnTo>
                    <a:pt x="4" y="289"/>
                  </a:lnTo>
                  <a:lnTo>
                    <a:pt x="0" y="346"/>
                  </a:lnTo>
                  <a:lnTo>
                    <a:pt x="4" y="404"/>
                  </a:lnTo>
                  <a:lnTo>
                    <a:pt x="25" y="454"/>
                  </a:lnTo>
                  <a:lnTo>
                    <a:pt x="54" y="503"/>
                  </a:lnTo>
                  <a:lnTo>
                    <a:pt x="91" y="548"/>
                  </a:lnTo>
                  <a:lnTo>
                    <a:pt x="136" y="590"/>
                  </a:lnTo>
                  <a:lnTo>
                    <a:pt x="194" y="627"/>
                  </a:lnTo>
                  <a:lnTo>
                    <a:pt x="256" y="655"/>
                  </a:lnTo>
                  <a:lnTo>
                    <a:pt x="322" y="676"/>
                  </a:lnTo>
                  <a:lnTo>
                    <a:pt x="396" y="688"/>
                  </a:lnTo>
                  <a:lnTo>
                    <a:pt x="474" y="692"/>
                  </a:lnTo>
                  <a:lnTo>
                    <a:pt x="474" y="6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28240" y="405288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01640" y="405288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4C1-73EA-4185-ADDD-3C23BECCAC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ternal Data Representation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XD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Sun for use with Sun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type system (without function poin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agged (except array leng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208-4892-4D81-B9D0-C6268F9EF4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MAXNAME 25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MAXLIST 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item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   name[MAXNAM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list[MAXLIST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_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item(XDR *xdrs, struct item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xdr_int(xdrs, &amp;ptr-&gt;count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string(xdrs, &amp;ptr-&gt;name, MAXNAME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array(xdrs, &amp;ptr-&gt;list, &amp;ptr-&gt;cou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LIST, sizeof(int), xdr_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374840" y="4800600"/>
            <a:ext cx="6473520" cy="1371240"/>
            <a:chOff x="1374840" y="4800600"/>
            <a:chExt cx="6473520" cy="1371240"/>
          </a:xfrm>
        </p:grpSpPr>
        <p:sp>
          <p:nvSpPr>
            <p:cNvPr id="556" name=""/>
            <p:cNvSpPr/>
            <p:nvPr/>
          </p:nvSpPr>
          <p:spPr>
            <a:xfrm>
              <a:off x="1918800" y="480060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26520" y="480060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74840" y="4998600"/>
              <a:ext cx="5929920" cy="375120"/>
            </a:xfrm>
            <a:custGeom>
              <a:avLst/>
              <a:gdLst/>
              <a:ahLst/>
              <a:rect l="l" t="t" r="r" b="b"/>
              <a:pathLst>
                <a:path w="4077" h="305">
                  <a:moveTo>
                    <a:pt x="4073" y="301"/>
                  </a:moveTo>
                  <a:lnTo>
                    <a:pt x="4077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4077" y="305"/>
                  </a:lnTo>
                  <a:lnTo>
                    <a:pt x="4077" y="30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456920" y="4901040"/>
              <a:ext cx="40716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84560" y="4880160"/>
              <a:ext cx="93240" cy="432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61" y="0"/>
                  </a:moveTo>
                  <a:lnTo>
                    <a:pt x="0" y="17"/>
                  </a:lnTo>
                  <a:lnTo>
                    <a:pt x="64" y="3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1374840" y="4839480"/>
              <a:ext cx="108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953800" y="4839480"/>
              <a:ext cx="144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953800" y="4994280"/>
              <a:ext cx="1440" cy="370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53760" y="4901040"/>
              <a:ext cx="4111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50840" y="4880160"/>
              <a:ext cx="98640" cy="432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0" y="35"/>
                  </a:moveTo>
                  <a:lnTo>
                    <a:pt x="68" y="17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048120" y="4901040"/>
              <a:ext cx="170028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64240" y="4880160"/>
              <a:ext cx="94320" cy="43200"/>
            </a:xfrm>
            <a:custGeom>
              <a:avLst/>
              <a:gdLst/>
              <a:ahLst/>
              <a:rect l="l" t="t" r="r" b="b"/>
              <a:pathLst>
                <a:path w="65" h="35">
                  <a:moveTo>
                    <a:pt x="65" y="0"/>
                  </a:moveTo>
                  <a:lnTo>
                    <a:pt x="0" y="17"/>
                  </a:lnTo>
                  <a:lnTo>
                    <a:pt x="65" y="3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298640" y="4839480"/>
              <a:ext cx="576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32320" y="4901040"/>
              <a:ext cx="187776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99640" y="4880160"/>
              <a:ext cx="98640" cy="432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0" y="35"/>
                  </a:moveTo>
                  <a:lnTo>
                    <a:pt x="68" y="17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89720" y="509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67000" y="5095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08520" y="509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700080" y="509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68760" y="509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0160" y="509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71920" y="5095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46680" y="5095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38360" y="509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1770120" y="499464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161440" y="4994640"/>
              <a:ext cx="57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2558520" y="4994640"/>
              <a:ext cx="39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1770120" y="528516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161440" y="5285160"/>
              <a:ext cx="57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2558520" y="5285160"/>
              <a:ext cx="39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4539600" y="4994280"/>
              <a:ext cx="1080" cy="370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355560" y="499464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52640" y="499464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143960" y="4994640"/>
              <a:ext cx="39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4936680" y="499464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6105960" y="497736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332320" y="499464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729400" y="499464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355560" y="528516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752640" y="528516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143960" y="5285160"/>
              <a:ext cx="39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936680" y="528516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105960" y="527220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332320" y="528516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729400" y="528516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913440" y="499464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6525000" y="527220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913440" y="528516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54000" y="5598720"/>
              <a:ext cx="27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30000" y="5796720"/>
              <a:ext cx="6316920" cy="375120"/>
            </a:xfrm>
            <a:custGeom>
              <a:avLst/>
              <a:gdLst/>
              <a:ahLst/>
              <a:rect l="l" t="t" r="r" b="b"/>
              <a:pathLst>
                <a:path w="4343" h="305">
                  <a:moveTo>
                    <a:pt x="4343" y="301"/>
                  </a:moveTo>
                  <a:lnTo>
                    <a:pt x="4343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4343" y="305"/>
                  </a:lnTo>
                  <a:lnTo>
                    <a:pt x="4343" y="30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1608480" y="5699520"/>
              <a:ext cx="2884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36120" y="5677560"/>
              <a:ext cx="92880" cy="44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64" y="0"/>
                  </a:moveTo>
                  <a:lnTo>
                    <a:pt x="0" y="18"/>
                  </a:lnTo>
                  <a:lnTo>
                    <a:pt x="64" y="36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1525680" y="5637960"/>
              <a:ext cx="144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3105360" y="5792760"/>
              <a:ext cx="1080" cy="370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847280" y="5637960"/>
              <a:ext cx="108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04640" y="5699520"/>
              <a:ext cx="28476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42520" y="5677560"/>
              <a:ext cx="98640" cy="4428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0" y="36"/>
                  </a:moveTo>
                  <a:lnTo>
                    <a:pt x="68" y="18"/>
                  </a:lnTo>
                  <a:lnTo>
                    <a:pt x="4" y="0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60080" y="590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2318400" y="579312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231840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709880" y="5804280"/>
              <a:ext cx="0" cy="35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3506760" y="579312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299480" y="579312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088240" y="579312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276240" y="5792760"/>
              <a:ext cx="1440" cy="32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483520" y="579312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880600" y="579312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350676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29948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088240" y="608328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27624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5483520" y="608328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5880600" y="608328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7560" y="5793120"/>
              <a:ext cx="57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7064640" y="579312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667560" y="6083280"/>
              <a:ext cx="57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6464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2024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056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7116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08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1748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3196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6932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0000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0944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2428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6525000" y="497736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362720" y="604008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62720" y="580392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871800" y="580428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3871800" y="609912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754720" y="580392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2754720" y="604008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917000" y="580392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917000" y="604008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2AA-5FAE-44B0-A460-BD210FA0E10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bstract Syntax Notation One (ASN-1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SO stand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the C typ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or interpretted 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: Basic Encoding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ag, length,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762120" y="4659480"/>
            <a:ext cx="7835760" cy="750960"/>
            <a:chOff x="762120" y="4659480"/>
            <a:chExt cx="7835760" cy="750960"/>
          </a:xfrm>
        </p:grpSpPr>
        <p:sp>
          <p:nvSpPr>
            <p:cNvPr id="655" name=""/>
            <p:cNvSpPr/>
            <p:nvPr/>
          </p:nvSpPr>
          <p:spPr>
            <a:xfrm>
              <a:off x="5176800" y="5135760"/>
              <a:ext cx="5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07200" y="472788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06320" y="472788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44840" y="4727880"/>
              <a:ext cx="62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34120" y="4727880"/>
              <a:ext cx="5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70880" y="4727880"/>
              <a:ext cx="62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120" y="4672080"/>
              <a:ext cx="7835760" cy="388800"/>
            </a:xfrm>
            <a:custGeom>
              <a:avLst/>
              <a:gdLst/>
              <a:ahLst/>
              <a:rect l="l" t="t" r="r" b="b"/>
              <a:pathLst>
                <a:path w="5224" h="271">
                  <a:moveTo>
                    <a:pt x="5224" y="271"/>
                  </a:moveTo>
                  <a:lnTo>
                    <a:pt x="5224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5224" y="271"/>
                  </a:lnTo>
                  <a:lnTo>
                    <a:pt x="5224" y="27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71880" y="4664880"/>
              <a:ext cx="5760" cy="396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07440" y="4664880"/>
              <a:ext cx="1080" cy="396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94320" y="4659480"/>
              <a:ext cx="0" cy="41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62320" y="4659480"/>
              <a:ext cx="0" cy="41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26320" y="4659480"/>
              <a:ext cx="0" cy="41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039200" y="4866120"/>
              <a:ext cx="314640" cy="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1120" y="4828680"/>
              <a:ext cx="143640" cy="81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96" y="0"/>
                  </a:moveTo>
                  <a:lnTo>
                    <a:pt x="0" y="31"/>
                  </a:lnTo>
                  <a:lnTo>
                    <a:pt x="96" y="57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45760" y="4860000"/>
              <a:ext cx="3222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35200" y="4822560"/>
              <a:ext cx="151200" cy="74520"/>
            </a:xfrm>
            <a:custGeom>
              <a:avLst/>
              <a:gdLst/>
              <a:ahLst/>
              <a:rect l="l" t="t" r="r" b="b"/>
              <a:pathLst>
                <a:path w="101" h="52">
                  <a:moveTo>
                    <a:pt x="0" y="52"/>
                  </a:moveTo>
                  <a:lnTo>
                    <a:pt x="101" y="26"/>
                  </a:lnTo>
                  <a:lnTo>
                    <a:pt x="4" y="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545200" y="5288040"/>
              <a:ext cx="2558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21000" y="5249160"/>
              <a:ext cx="149760" cy="8136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100" y="0"/>
                  </a:moveTo>
                  <a:lnTo>
                    <a:pt x="0" y="27"/>
                  </a:lnTo>
                  <a:lnTo>
                    <a:pt x="100" y="57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62880" y="5280840"/>
              <a:ext cx="27100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46320" y="5243400"/>
              <a:ext cx="151200" cy="74520"/>
            </a:xfrm>
            <a:custGeom>
              <a:avLst/>
              <a:gdLst/>
              <a:ahLst/>
              <a:rect l="l" t="t" r="r" b="b"/>
              <a:pathLst>
                <a:path w="101" h="52">
                  <a:moveTo>
                    <a:pt x="0" y="52"/>
                  </a:moveTo>
                  <a:lnTo>
                    <a:pt x="101" y="26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4640" y="472788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39120" y="4727880"/>
              <a:ext cx="5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276600" y="4727880"/>
              <a:ext cx="62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14320" y="4659480"/>
              <a:ext cx="0" cy="41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12440" y="4664880"/>
              <a:ext cx="1080" cy="396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144200" y="4866120"/>
              <a:ext cx="314640" cy="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25760" y="4828680"/>
              <a:ext cx="143640" cy="81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96" y="0"/>
                  </a:moveTo>
                  <a:lnTo>
                    <a:pt x="0" y="31"/>
                  </a:lnTo>
                  <a:lnTo>
                    <a:pt x="96" y="57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04320" y="4860000"/>
              <a:ext cx="3690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40200" y="4822560"/>
              <a:ext cx="151200" cy="74520"/>
            </a:xfrm>
            <a:custGeom>
              <a:avLst/>
              <a:gdLst/>
              <a:ahLst/>
              <a:rect l="l" t="t" r="r" b="b"/>
              <a:pathLst>
                <a:path w="101" h="52">
                  <a:moveTo>
                    <a:pt x="0" y="52"/>
                  </a:moveTo>
                  <a:lnTo>
                    <a:pt x="101" y="26"/>
                  </a:lnTo>
                  <a:lnTo>
                    <a:pt x="4" y="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4" name="PE07F08" descr=""/>
          <p:cNvPicPr/>
          <p:nvPr/>
        </p:nvPicPr>
        <p:blipFill>
          <a:blip r:embed="rId1"/>
          <a:stretch/>
        </p:blipFill>
        <p:spPr>
          <a:xfrm>
            <a:off x="2133720" y="5578560"/>
            <a:ext cx="4114800" cy="59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0C5-A6D8-4804-98B5-E134977CCA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CP Component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ST: fragments and reassembles larg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: synchronizes request and reply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: dispatches request to the correc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38280" y="3048120"/>
            <a:ext cx="4267440" cy="3581280"/>
            <a:chOff x="2438280" y="3048120"/>
            <a:chExt cx="4267440" cy="3581280"/>
          </a:xfrm>
        </p:grpSpPr>
        <p:sp>
          <p:nvSpPr>
            <p:cNvPr id="66" name=""/>
            <p:cNvSpPr/>
            <p:nvPr/>
          </p:nvSpPr>
          <p:spPr>
            <a:xfrm>
              <a:off x="2438280" y="3056040"/>
              <a:ext cx="1703520" cy="2303280"/>
            </a:xfrm>
            <a:custGeom>
              <a:avLst/>
              <a:gdLst/>
              <a:ahLst/>
              <a:rect l="l" t="t" r="r" b="b"/>
              <a:pathLst>
                <a:path w="1651" h="2138">
                  <a:moveTo>
                    <a:pt x="1651" y="2138"/>
                  </a:moveTo>
                  <a:lnTo>
                    <a:pt x="1651" y="0"/>
                  </a:lnTo>
                  <a:lnTo>
                    <a:pt x="0" y="0"/>
                  </a:lnTo>
                  <a:lnTo>
                    <a:pt x="0" y="2138"/>
                  </a:lnTo>
                  <a:lnTo>
                    <a:pt x="1651" y="2138"/>
                  </a:lnTo>
                  <a:lnTo>
                    <a:pt x="1651" y="213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98960" y="3048120"/>
              <a:ext cx="1706760" cy="2303280"/>
            </a:xfrm>
            <a:custGeom>
              <a:avLst/>
              <a:gdLst/>
              <a:ahLst/>
              <a:rect l="l" t="t" r="r" b="b"/>
              <a:pathLst>
                <a:path w="1654" h="2138">
                  <a:moveTo>
                    <a:pt x="1651" y="2138"/>
                  </a:moveTo>
                  <a:lnTo>
                    <a:pt x="1654" y="0"/>
                  </a:lnTo>
                  <a:lnTo>
                    <a:pt x="0" y="0"/>
                  </a:lnTo>
                  <a:lnTo>
                    <a:pt x="0" y="2138"/>
                  </a:lnTo>
                  <a:lnTo>
                    <a:pt x="1654" y="2138"/>
                  </a:lnTo>
                  <a:lnTo>
                    <a:pt x="1654" y="2138"/>
                  </a:lnTo>
                  <a:lnTo>
                    <a:pt x="1651" y="213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25160" y="317196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97440" y="332424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clien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20120" y="3941640"/>
              <a:ext cx="32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66200" y="4092480"/>
              <a:ext cx="24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7280" y="47880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63600" y="494352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2120" y="356400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6400" y="371628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17480" y="363384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71840" y="43797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72640" y="437976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8280" y="3141720"/>
              <a:ext cx="614160" cy="387360"/>
            </a:xfrm>
            <a:custGeom>
              <a:avLst/>
              <a:gdLst/>
              <a:ahLst/>
              <a:rect l="l" t="t" r="r" b="b"/>
              <a:pathLst>
                <a:path w="595" h="360">
                  <a:moveTo>
                    <a:pt x="296" y="360"/>
                  </a:moveTo>
                  <a:lnTo>
                    <a:pt x="342" y="360"/>
                  </a:lnTo>
                  <a:lnTo>
                    <a:pt x="386" y="353"/>
                  </a:lnTo>
                  <a:lnTo>
                    <a:pt x="425" y="342"/>
                  </a:lnTo>
                  <a:lnTo>
                    <a:pt x="465" y="327"/>
                  </a:lnTo>
                  <a:lnTo>
                    <a:pt x="501" y="309"/>
                  </a:lnTo>
                  <a:lnTo>
                    <a:pt x="533" y="288"/>
                  </a:lnTo>
                  <a:lnTo>
                    <a:pt x="559" y="263"/>
                  </a:lnTo>
                  <a:lnTo>
                    <a:pt x="577" y="237"/>
                  </a:lnTo>
                  <a:lnTo>
                    <a:pt x="591" y="209"/>
                  </a:lnTo>
                  <a:lnTo>
                    <a:pt x="595" y="180"/>
                  </a:lnTo>
                  <a:lnTo>
                    <a:pt x="591" y="151"/>
                  </a:lnTo>
                  <a:lnTo>
                    <a:pt x="577" y="126"/>
                  </a:lnTo>
                  <a:lnTo>
                    <a:pt x="559" y="97"/>
                  </a:lnTo>
                  <a:lnTo>
                    <a:pt x="533" y="75"/>
                  </a:lnTo>
                  <a:lnTo>
                    <a:pt x="501" y="54"/>
                  </a:lnTo>
                  <a:lnTo>
                    <a:pt x="465" y="36"/>
                  </a:lnTo>
                  <a:lnTo>
                    <a:pt x="425" y="21"/>
                  </a:lnTo>
                  <a:lnTo>
                    <a:pt x="386" y="10"/>
                  </a:lnTo>
                  <a:lnTo>
                    <a:pt x="342" y="3"/>
                  </a:lnTo>
                  <a:lnTo>
                    <a:pt x="296" y="0"/>
                  </a:lnTo>
                  <a:lnTo>
                    <a:pt x="252" y="3"/>
                  </a:lnTo>
                  <a:lnTo>
                    <a:pt x="209" y="10"/>
                  </a:lnTo>
                  <a:lnTo>
                    <a:pt x="169" y="21"/>
                  </a:lnTo>
                  <a:lnTo>
                    <a:pt x="130" y="36"/>
                  </a:lnTo>
                  <a:lnTo>
                    <a:pt x="94" y="54"/>
                  </a:lnTo>
                  <a:lnTo>
                    <a:pt x="61" y="75"/>
                  </a:lnTo>
                  <a:lnTo>
                    <a:pt x="36" y="97"/>
                  </a:lnTo>
                  <a:lnTo>
                    <a:pt x="18" y="126"/>
                  </a:lnTo>
                  <a:lnTo>
                    <a:pt x="4" y="151"/>
                  </a:lnTo>
                  <a:lnTo>
                    <a:pt x="0" y="180"/>
                  </a:lnTo>
                  <a:lnTo>
                    <a:pt x="4" y="209"/>
                  </a:lnTo>
                  <a:lnTo>
                    <a:pt x="18" y="237"/>
                  </a:lnTo>
                  <a:lnTo>
                    <a:pt x="36" y="263"/>
                  </a:lnTo>
                  <a:lnTo>
                    <a:pt x="61" y="288"/>
                  </a:lnTo>
                  <a:lnTo>
                    <a:pt x="94" y="309"/>
                  </a:lnTo>
                  <a:lnTo>
                    <a:pt x="130" y="327"/>
                  </a:lnTo>
                  <a:lnTo>
                    <a:pt x="169" y="342"/>
                  </a:lnTo>
                  <a:lnTo>
                    <a:pt x="209" y="353"/>
                  </a:lnTo>
                  <a:lnTo>
                    <a:pt x="252" y="360"/>
                  </a:lnTo>
                  <a:lnTo>
                    <a:pt x="296" y="360"/>
                  </a:lnTo>
                  <a:lnTo>
                    <a:pt x="296" y="36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08160" y="3929040"/>
              <a:ext cx="557280" cy="331920"/>
            </a:xfrm>
            <a:custGeom>
              <a:avLst/>
              <a:gdLst/>
              <a:ahLst/>
              <a:rect l="l" t="t" r="r" b="b"/>
              <a:pathLst>
                <a:path w="541" h="307">
                  <a:moveTo>
                    <a:pt x="541" y="307"/>
                  </a:moveTo>
                  <a:lnTo>
                    <a:pt x="541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541" y="307"/>
                  </a:lnTo>
                  <a:lnTo>
                    <a:pt x="541" y="30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08160" y="4675320"/>
              <a:ext cx="557280" cy="525240"/>
            </a:xfrm>
            <a:custGeom>
              <a:avLst/>
              <a:gdLst/>
              <a:ahLst/>
              <a:rect l="l" t="t" r="r" b="b"/>
              <a:pathLst>
                <a:path w="541" h="487">
                  <a:moveTo>
                    <a:pt x="541" y="487"/>
                  </a:moveTo>
                  <a:lnTo>
                    <a:pt x="541" y="0"/>
                  </a:lnTo>
                  <a:lnTo>
                    <a:pt x="0" y="0"/>
                  </a:lnTo>
                  <a:lnTo>
                    <a:pt x="0" y="487"/>
                  </a:lnTo>
                  <a:lnTo>
                    <a:pt x="541" y="487"/>
                  </a:lnTo>
                  <a:lnTo>
                    <a:pt x="541" y="48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6920" y="4238640"/>
              <a:ext cx="0" cy="36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66920" y="4600440"/>
              <a:ext cx="36720" cy="73080"/>
            </a:xfrm>
            <a:custGeom>
              <a:avLst/>
              <a:gdLst/>
              <a:ahLst/>
              <a:rect l="l" t="t" r="r" b="b"/>
              <a:pathLst>
                <a:path w="36" h="69">
                  <a:moveTo>
                    <a:pt x="0" y="0"/>
                  </a:moveTo>
                  <a:lnTo>
                    <a:pt x="18" y="69"/>
                  </a:lnTo>
                  <a:lnTo>
                    <a:pt x="3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414600" y="4289040"/>
              <a:ext cx="0" cy="36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06680" y="4260960"/>
              <a:ext cx="36720" cy="68040"/>
            </a:xfrm>
            <a:custGeom>
              <a:avLst/>
              <a:gdLst/>
              <a:ahLst/>
              <a:rect l="l" t="t" r="r" b="b"/>
              <a:pathLst>
                <a:path w="36" h="64">
                  <a:moveTo>
                    <a:pt x="36" y="64"/>
                  </a:moveTo>
                  <a:lnTo>
                    <a:pt x="18" y="0"/>
                  </a:lnTo>
                  <a:lnTo>
                    <a:pt x="0" y="64"/>
                  </a:lnTo>
                  <a:lnTo>
                    <a:pt x="36" y="64"/>
                  </a:lnTo>
                  <a:lnTo>
                    <a:pt x="3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66920" y="3513240"/>
              <a:ext cx="0" cy="311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66920" y="3824280"/>
              <a:ext cx="36720" cy="6984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0" y="0"/>
                  </a:moveTo>
                  <a:lnTo>
                    <a:pt x="18" y="6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414600" y="3565440"/>
              <a:ext cx="0" cy="36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06680" y="3510000"/>
              <a:ext cx="36720" cy="6984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36" y="65"/>
                  </a:moveTo>
                  <a:lnTo>
                    <a:pt x="18" y="0"/>
                  </a:lnTo>
                  <a:lnTo>
                    <a:pt x="0" y="65"/>
                  </a:lnTo>
                  <a:lnTo>
                    <a:pt x="36" y="65"/>
                  </a:lnTo>
                  <a:lnTo>
                    <a:pt x="36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80800" y="3171960"/>
              <a:ext cx="35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7680" y="3324240"/>
              <a:ext cx="43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erve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5560" y="3933720"/>
              <a:ext cx="3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7400" y="4083120"/>
              <a:ext cx="24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31200" y="47800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25720" y="493560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14520" y="356400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60600" y="371628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78160" y="363384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27840" y="43797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38000" y="437976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40400" y="3141720"/>
              <a:ext cx="612720" cy="387360"/>
            </a:xfrm>
            <a:custGeom>
              <a:avLst/>
              <a:gdLst/>
              <a:ahLst/>
              <a:rect l="l" t="t" r="r" b="b"/>
              <a:pathLst>
                <a:path w="595" h="360">
                  <a:moveTo>
                    <a:pt x="300" y="360"/>
                  </a:moveTo>
                  <a:lnTo>
                    <a:pt x="343" y="360"/>
                  </a:lnTo>
                  <a:lnTo>
                    <a:pt x="386" y="353"/>
                  </a:lnTo>
                  <a:lnTo>
                    <a:pt x="429" y="342"/>
                  </a:lnTo>
                  <a:lnTo>
                    <a:pt x="469" y="327"/>
                  </a:lnTo>
                  <a:lnTo>
                    <a:pt x="505" y="309"/>
                  </a:lnTo>
                  <a:lnTo>
                    <a:pt x="534" y="288"/>
                  </a:lnTo>
                  <a:lnTo>
                    <a:pt x="559" y="263"/>
                  </a:lnTo>
                  <a:lnTo>
                    <a:pt x="581" y="237"/>
                  </a:lnTo>
                  <a:lnTo>
                    <a:pt x="592" y="209"/>
                  </a:lnTo>
                  <a:lnTo>
                    <a:pt x="595" y="180"/>
                  </a:lnTo>
                  <a:lnTo>
                    <a:pt x="592" y="151"/>
                  </a:lnTo>
                  <a:lnTo>
                    <a:pt x="581" y="126"/>
                  </a:lnTo>
                  <a:lnTo>
                    <a:pt x="559" y="97"/>
                  </a:lnTo>
                  <a:lnTo>
                    <a:pt x="534" y="75"/>
                  </a:lnTo>
                  <a:lnTo>
                    <a:pt x="505" y="54"/>
                  </a:lnTo>
                  <a:lnTo>
                    <a:pt x="469" y="36"/>
                  </a:lnTo>
                  <a:lnTo>
                    <a:pt x="429" y="21"/>
                  </a:lnTo>
                  <a:lnTo>
                    <a:pt x="386" y="10"/>
                  </a:lnTo>
                  <a:lnTo>
                    <a:pt x="343" y="3"/>
                  </a:lnTo>
                  <a:lnTo>
                    <a:pt x="300" y="0"/>
                  </a:lnTo>
                  <a:lnTo>
                    <a:pt x="256" y="3"/>
                  </a:lnTo>
                  <a:lnTo>
                    <a:pt x="213" y="10"/>
                  </a:lnTo>
                  <a:lnTo>
                    <a:pt x="170" y="21"/>
                  </a:lnTo>
                  <a:lnTo>
                    <a:pt x="130" y="36"/>
                  </a:lnTo>
                  <a:lnTo>
                    <a:pt x="94" y="54"/>
                  </a:lnTo>
                  <a:lnTo>
                    <a:pt x="65" y="75"/>
                  </a:lnTo>
                  <a:lnTo>
                    <a:pt x="36" y="97"/>
                  </a:lnTo>
                  <a:lnTo>
                    <a:pt x="18" y="126"/>
                  </a:lnTo>
                  <a:lnTo>
                    <a:pt x="8" y="151"/>
                  </a:lnTo>
                  <a:lnTo>
                    <a:pt x="0" y="180"/>
                  </a:lnTo>
                  <a:lnTo>
                    <a:pt x="8" y="209"/>
                  </a:lnTo>
                  <a:lnTo>
                    <a:pt x="18" y="237"/>
                  </a:lnTo>
                  <a:lnTo>
                    <a:pt x="36" y="263"/>
                  </a:lnTo>
                  <a:lnTo>
                    <a:pt x="65" y="288"/>
                  </a:lnTo>
                  <a:lnTo>
                    <a:pt x="94" y="309"/>
                  </a:lnTo>
                  <a:lnTo>
                    <a:pt x="130" y="327"/>
                  </a:lnTo>
                  <a:lnTo>
                    <a:pt x="170" y="342"/>
                  </a:lnTo>
                  <a:lnTo>
                    <a:pt x="213" y="353"/>
                  </a:lnTo>
                  <a:lnTo>
                    <a:pt x="256" y="360"/>
                  </a:lnTo>
                  <a:lnTo>
                    <a:pt x="300" y="360"/>
                  </a:lnTo>
                  <a:lnTo>
                    <a:pt x="300" y="36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3880" y="3929040"/>
              <a:ext cx="558720" cy="331920"/>
            </a:xfrm>
            <a:custGeom>
              <a:avLst/>
              <a:gdLst/>
              <a:ahLst/>
              <a:rect l="l" t="t" r="r" b="b"/>
              <a:pathLst>
                <a:path w="541" h="307">
                  <a:moveTo>
                    <a:pt x="537" y="307"/>
                  </a:moveTo>
                  <a:lnTo>
                    <a:pt x="541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541" y="307"/>
                  </a:lnTo>
                  <a:lnTo>
                    <a:pt x="541" y="30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73880" y="4675320"/>
              <a:ext cx="558720" cy="525240"/>
            </a:xfrm>
            <a:custGeom>
              <a:avLst/>
              <a:gdLst/>
              <a:ahLst/>
              <a:rect l="l" t="t" r="r" b="b"/>
              <a:pathLst>
                <a:path w="541" h="487">
                  <a:moveTo>
                    <a:pt x="537" y="487"/>
                  </a:moveTo>
                  <a:lnTo>
                    <a:pt x="541" y="0"/>
                  </a:lnTo>
                  <a:lnTo>
                    <a:pt x="0" y="0"/>
                  </a:lnTo>
                  <a:lnTo>
                    <a:pt x="0" y="487"/>
                  </a:lnTo>
                  <a:lnTo>
                    <a:pt x="541" y="487"/>
                  </a:lnTo>
                  <a:lnTo>
                    <a:pt x="541" y="48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726160" y="3579480"/>
              <a:ext cx="144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0320" y="3522600"/>
              <a:ext cx="34920" cy="698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3" y="61"/>
                  </a:moveTo>
                  <a:lnTo>
                    <a:pt x="15" y="0"/>
                  </a:lnTo>
                  <a:lnTo>
                    <a:pt x="0" y="65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89680" y="3513240"/>
              <a:ext cx="0" cy="36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89680" y="3875040"/>
              <a:ext cx="36360" cy="7164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0" y="0"/>
                  </a:moveTo>
                  <a:lnTo>
                    <a:pt x="18" y="6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726160" y="4320720"/>
              <a:ext cx="1440" cy="351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0320" y="4264200"/>
              <a:ext cx="34920" cy="698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3" y="65"/>
                  </a:moveTo>
                  <a:lnTo>
                    <a:pt x="15" y="0"/>
                  </a:lnTo>
                  <a:lnTo>
                    <a:pt x="0" y="65"/>
                  </a:lnTo>
                  <a:lnTo>
                    <a:pt x="33" y="65"/>
                  </a:lnTo>
                  <a:lnTo>
                    <a:pt x="3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89680" y="4238640"/>
              <a:ext cx="0" cy="36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89680" y="4600440"/>
              <a:ext cx="36360" cy="73080"/>
            </a:xfrm>
            <a:custGeom>
              <a:avLst/>
              <a:gdLst/>
              <a:ahLst/>
              <a:rect l="l" t="t" r="r" b="b"/>
              <a:pathLst>
                <a:path w="36" h="68">
                  <a:moveTo>
                    <a:pt x="0" y="0"/>
                  </a:moveTo>
                  <a:lnTo>
                    <a:pt x="18" y="6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79600" y="5200560"/>
              <a:ext cx="565200" cy="857520"/>
            </a:xfrm>
            <a:custGeom>
              <a:avLst/>
              <a:gdLst/>
              <a:ahLst/>
              <a:rect l="l" t="t" r="r" b="b"/>
              <a:pathLst>
                <a:path w="548" h="796">
                  <a:moveTo>
                    <a:pt x="0" y="0"/>
                  </a:moveTo>
                  <a:lnTo>
                    <a:pt x="0" y="796"/>
                  </a:lnTo>
                  <a:lnTo>
                    <a:pt x="548" y="79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21160" y="5200560"/>
              <a:ext cx="532080" cy="857520"/>
            </a:xfrm>
            <a:custGeom>
              <a:avLst/>
              <a:gdLst/>
              <a:ahLst/>
              <a:rect l="l" t="t" r="r" b="b"/>
              <a:pathLst>
                <a:path w="515" h="796">
                  <a:moveTo>
                    <a:pt x="0" y="793"/>
                  </a:moveTo>
                  <a:lnTo>
                    <a:pt x="515" y="796"/>
                  </a:lnTo>
                  <a:lnTo>
                    <a:pt x="5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1440" y="5506920"/>
              <a:ext cx="639720" cy="560520"/>
            </a:xfrm>
            <a:custGeom>
              <a:avLst/>
              <a:gdLst/>
              <a:ahLst/>
              <a:rect l="l" t="t" r="r" b="b"/>
              <a:pathLst>
                <a:path w="620" h="519">
                  <a:moveTo>
                    <a:pt x="0" y="50"/>
                  </a:moveTo>
                  <a:lnTo>
                    <a:pt x="3" y="50"/>
                  </a:lnTo>
                  <a:lnTo>
                    <a:pt x="14" y="43"/>
                  </a:lnTo>
                  <a:lnTo>
                    <a:pt x="32" y="32"/>
                  </a:lnTo>
                  <a:lnTo>
                    <a:pt x="54" y="21"/>
                  </a:lnTo>
                  <a:lnTo>
                    <a:pt x="79" y="10"/>
                  </a:lnTo>
                  <a:lnTo>
                    <a:pt x="108" y="3"/>
                  </a:lnTo>
                  <a:lnTo>
                    <a:pt x="140" y="0"/>
                  </a:lnTo>
                  <a:lnTo>
                    <a:pt x="176" y="0"/>
                  </a:lnTo>
                  <a:lnTo>
                    <a:pt x="209" y="10"/>
                  </a:lnTo>
                  <a:lnTo>
                    <a:pt x="245" y="28"/>
                  </a:lnTo>
                  <a:lnTo>
                    <a:pt x="277" y="50"/>
                  </a:lnTo>
                  <a:lnTo>
                    <a:pt x="299" y="75"/>
                  </a:lnTo>
                  <a:lnTo>
                    <a:pt x="317" y="97"/>
                  </a:lnTo>
                  <a:lnTo>
                    <a:pt x="328" y="115"/>
                  </a:lnTo>
                  <a:lnTo>
                    <a:pt x="335" y="133"/>
                  </a:lnTo>
                  <a:lnTo>
                    <a:pt x="342" y="151"/>
                  </a:lnTo>
                  <a:lnTo>
                    <a:pt x="342" y="165"/>
                  </a:lnTo>
                  <a:lnTo>
                    <a:pt x="342" y="173"/>
                  </a:lnTo>
                  <a:lnTo>
                    <a:pt x="342" y="180"/>
                  </a:lnTo>
                  <a:lnTo>
                    <a:pt x="342" y="183"/>
                  </a:lnTo>
                  <a:lnTo>
                    <a:pt x="342" y="180"/>
                  </a:lnTo>
                  <a:lnTo>
                    <a:pt x="349" y="176"/>
                  </a:lnTo>
                  <a:lnTo>
                    <a:pt x="360" y="173"/>
                  </a:lnTo>
                  <a:lnTo>
                    <a:pt x="375" y="165"/>
                  </a:lnTo>
                  <a:lnTo>
                    <a:pt x="389" y="162"/>
                  </a:lnTo>
                  <a:lnTo>
                    <a:pt x="407" y="158"/>
                  </a:lnTo>
                  <a:lnTo>
                    <a:pt x="429" y="155"/>
                  </a:lnTo>
                  <a:lnTo>
                    <a:pt x="450" y="158"/>
                  </a:lnTo>
                  <a:lnTo>
                    <a:pt x="472" y="169"/>
                  </a:lnTo>
                  <a:lnTo>
                    <a:pt x="494" y="183"/>
                  </a:lnTo>
                  <a:lnTo>
                    <a:pt x="512" y="201"/>
                  </a:lnTo>
                  <a:lnTo>
                    <a:pt x="526" y="223"/>
                  </a:lnTo>
                  <a:lnTo>
                    <a:pt x="533" y="241"/>
                  </a:lnTo>
                  <a:lnTo>
                    <a:pt x="537" y="263"/>
                  </a:lnTo>
                  <a:lnTo>
                    <a:pt x="537" y="281"/>
                  </a:lnTo>
                  <a:lnTo>
                    <a:pt x="533" y="295"/>
                  </a:lnTo>
                  <a:lnTo>
                    <a:pt x="530" y="310"/>
                  </a:lnTo>
                  <a:lnTo>
                    <a:pt x="526" y="320"/>
                  </a:lnTo>
                  <a:lnTo>
                    <a:pt x="522" y="328"/>
                  </a:lnTo>
                  <a:lnTo>
                    <a:pt x="522" y="331"/>
                  </a:lnTo>
                  <a:lnTo>
                    <a:pt x="526" y="331"/>
                  </a:lnTo>
                  <a:lnTo>
                    <a:pt x="533" y="335"/>
                  </a:lnTo>
                  <a:lnTo>
                    <a:pt x="544" y="342"/>
                  </a:lnTo>
                  <a:lnTo>
                    <a:pt x="558" y="356"/>
                  </a:lnTo>
                  <a:lnTo>
                    <a:pt x="573" y="371"/>
                  </a:lnTo>
                  <a:lnTo>
                    <a:pt x="587" y="389"/>
                  </a:lnTo>
                  <a:lnTo>
                    <a:pt x="598" y="414"/>
                  </a:lnTo>
                  <a:lnTo>
                    <a:pt x="609" y="443"/>
                  </a:lnTo>
                  <a:lnTo>
                    <a:pt x="616" y="479"/>
                  </a:lnTo>
                  <a:lnTo>
                    <a:pt x="620" y="51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44800" y="5483160"/>
              <a:ext cx="836640" cy="579600"/>
            </a:xfrm>
            <a:custGeom>
              <a:avLst/>
              <a:gdLst/>
              <a:ahLst/>
              <a:rect l="l" t="t" r="r" b="b"/>
              <a:pathLst>
                <a:path w="811" h="537">
                  <a:moveTo>
                    <a:pt x="0" y="537"/>
                  </a:moveTo>
                  <a:lnTo>
                    <a:pt x="3" y="497"/>
                  </a:lnTo>
                  <a:lnTo>
                    <a:pt x="11" y="465"/>
                  </a:lnTo>
                  <a:lnTo>
                    <a:pt x="21" y="436"/>
                  </a:lnTo>
                  <a:lnTo>
                    <a:pt x="36" y="411"/>
                  </a:lnTo>
                  <a:lnTo>
                    <a:pt x="50" y="389"/>
                  </a:lnTo>
                  <a:lnTo>
                    <a:pt x="65" y="375"/>
                  </a:lnTo>
                  <a:lnTo>
                    <a:pt x="79" y="364"/>
                  </a:lnTo>
                  <a:lnTo>
                    <a:pt x="90" y="357"/>
                  </a:lnTo>
                  <a:lnTo>
                    <a:pt x="97" y="353"/>
                  </a:lnTo>
                  <a:lnTo>
                    <a:pt x="101" y="350"/>
                  </a:lnTo>
                  <a:lnTo>
                    <a:pt x="97" y="346"/>
                  </a:lnTo>
                  <a:lnTo>
                    <a:pt x="94" y="342"/>
                  </a:lnTo>
                  <a:lnTo>
                    <a:pt x="90" y="332"/>
                  </a:lnTo>
                  <a:lnTo>
                    <a:pt x="86" y="317"/>
                  </a:lnTo>
                  <a:lnTo>
                    <a:pt x="86" y="299"/>
                  </a:lnTo>
                  <a:lnTo>
                    <a:pt x="86" y="281"/>
                  </a:lnTo>
                  <a:lnTo>
                    <a:pt x="90" y="263"/>
                  </a:lnTo>
                  <a:lnTo>
                    <a:pt x="97" y="241"/>
                  </a:lnTo>
                  <a:lnTo>
                    <a:pt x="108" y="223"/>
                  </a:lnTo>
                  <a:lnTo>
                    <a:pt x="130" y="202"/>
                  </a:lnTo>
                  <a:lnTo>
                    <a:pt x="151" y="187"/>
                  </a:lnTo>
                  <a:lnTo>
                    <a:pt x="173" y="180"/>
                  </a:lnTo>
                  <a:lnTo>
                    <a:pt x="194" y="177"/>
                  </a:lnTo>
                  <a:lnTo>
                    <a:pt x="213" y="177"/>
                  </a:lnTo>
                  <a:lnTo>
                    <a:pt x="231" y="180"/>
                  </a:lnTo>
                  <a:lnTo>
                    <a:pt x="249" y="187"/>
                  </a:lnTo>
                  <a:lnTo>
                    <a:pt x="263" y="191"/>
                  </a:lnTo>
                  <a:lnTo>
                    <a:pt x="270" y="198"/>
                  </a:lnTo>
                  <a:lnTo>
                    <a:pt x="277" y="202"/>
                  </a:lnTo>
                  <a:lnTo>
                    <a:pt x="281" y="202"/>
                  </a:lnTo>
                  <a:lnTo>
                    <a:pt x="281" y="202"/>
                  </a:lnTo>
                  <a:lnTo>
                    <a:pt x="281" y="195"/>
                  </a:lnTo>
                  <a:lnTo>
                    <a:pt x="281" y="184"/>
                  </a:lnTo>
                  <a:lnTo>
                    <a:pt x="281" y="169"/>
                  </a:lnTo>
                  <a:lnTo>
                    <a:pt x="285" y="155"/>
                  </a:lnTo>
                  <a:lnTo>
                    <a:pt x="292" y="137"/>
                  </a:lnTo>
                  <a:lnTo>
                    <a:pt x="303" y="115"/>
                  </a:lnTo>
                  <a:lnTo>
                    <a:pt x="321" y="94"/>
                  </a:lnTo>
                  <a:lnTo>
                    <a:pt x="346" y="72"/>
                  </a:lnTo>
                  <a:lnTo>
                    <a:pt x="375" y="47"/>
                  </a:lnTo>
                  <a:lnTo>
                    <a:pt x="411" y="29"/>
                  </a:lnTo>
                  <a:lnTo>
                    <a:pt x="447" y="18"/>
                  </a:lnTo>
                  <a:lnTo>
                    <a:pt x="479" y="18"/>
                  </a:lnTo>
                  <a:lnTo>
                    <a:pt x="512" y="22"/>
                  </a:lnTo>
                  <a:lnTo>
                    <a:pt x="544" y="32"/>
                  </a:lnTo>
                  <a:lnTo>
                    <a:pt x="569" y="43"/>
                  </a:lnTo>
                  <a:lnTo>
                    <a:pt x="591" y="54"/>
                  </a:lnTo>
                  <a:lnTo>
                    <a:pt x="605" y="65"/>
                  </a:lnTo>
                  <a:lnTo>
                    <a:pt x="616" y="72"/>
                  </a:lnTo>
                  <a:lnTo>
                    <a:pt x="620" y="72"/>
                  </a:lnTo>
                  <a:lnTo>
                    <a:pt x="620" y="72"/>
                  </a:lnTo>
                  <a:lnTo>
                    <a:pt x="623" y="65"/>
                  </a:lnTo>
                  <a:lnTo>
                    <a:pt x="623" y="58"/>
                  </a:lnTo>
                  <a:lnTo>
                    <a:pt x="627" y="47"/>
                  </a:lnTo>
                  <a:lnTo>
                    <a:pt x="634" y="36"/>
                  </a:lnTo>
                  <a:lnTo>
                    <a:pt x="641" y="25"/>
                  </a:lnTo>
                  <a:lnTo>
                    <a:pt x="656" y="18"/>
                  </a:lnTo>
                  <a:lnTo>
                    <a:pt x="670" y="7"/>
                  </a:lnTo>
                  <a:lnTo>
                    <a:pt x="692" y="4"/>
                  </a:lnTo>
                  <a:lnTo>
                    <a:pt x="717" y="0"/>
                  </a:lnTo>
                  <a:lnTo>
                    <a:pt x="742" y="4"/>
                  </a:lnTo>
                  <a:lnTo>
                    <a:pt x="760" y="7"/>
                  </a:lnTo>
                  <a:lnTo>
                    <a:pt x="778" y="18"/>
                  </a:lnTo>
                  <a:lnTo>
                    <a:pt x="789" y="25"/>
                  </a:lnTo>
                  <a:lnTo>
                    <a:pt x="800" y="36"/>
                  </a:lnTo>
                  <a:lnTo>
                    <a:pt x="804" y="47"/>
                  </a:lnTo>
                  <a:lnTo>
                    <a:pt x="807" y="58"/>
                  </a:lnTo>
                  <a:lnTo>
                    <a:pt x="811" y="65"/>
                  </a:lnTo>
                  <a:lnTo>
                    <a:pt x="811" y="72"/>
                  </a:lnTo>
                  <a:lnTo>
                    <a:pt x="811" y="72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4800" y="6049800"/>
              <a:ext cx="639720" cy="560520"/>
            </a:xfrm>
            <a:custGeom>
              <a:avLst/>
              <a:gdLst/>
              <a:ahLst/>
              <a:rect l="l" t="t" r="r" b="b"/>
              <a:pathLst>
                <a:path w="620" h="519">
                  <a:moveTo>
                    <a:pt x="620" y="461"/>
                  </a:moveTo>
                  <a:lnTo>
                    <a:pt x="616" y="469"/>
                  </a:lnTo>
                  <a:lnTo>
                    <a:pt x="605" y="476"/>
                  </a:lnTo>
                  <a:lnTo>
                    <a:pt x="591" y="487"/>
                  </a:lnTo>
                  <a:lnTo>
                    <a:pt x="569" y="498"/>
                  </a:lnTo>
                  <a:lnTo>
                    <a:pt x="544" y="508"/>
                  </a:lnTo>
                  <a:lnTo>
                    <a:pt x="512" y="516"/>
                  </a:lnTo>
                  <a:lnTo>
                    <a:pt x="479" y="519"/>
                  </a:lnTo>
                  <a:lnTo>
                    <a:pt x="447" y="519"/>
                  </a:lnTo>
                  <a:lnTo>
                    <a:pt x="411" y="508"/>
                  </a:lnTo>
                  <a:lnTo>
                    <a:pt x="375" y="490"/>
                  </a:lnTo>
                  <a:lnTo>
                    <a:pt x="346" y="465"/>
                  </a:lnTo>
                  <a:lnTo>
                    <a:pt x="321" y="443"/>
                  </a:lnTo>
                  <a:lnTo>
                    <a:pt x="303" y="422"/>
                  </a:lnTo>
                  <a:lnTo>
                    <a:pt x="292" y="400"/>
                  </a:lnTo>
                  <a:lnTo>
                    <a:pt x="285" y="382"/>
                  </a:lnTo>
                  <a:lnTo>
                    <a:pt x="281" y="368"/>
                  </a:lnTo>
                  <a:lnTo>
                    <a:pt x="281" y="353"/>
                  </a:lnTo>
                  <a:lnTo>
                    <a:pt x="281" y="343"/>
                  </a:lnTo>
                  <a:lnTo>
                    <a:pt x="281" y="335"/>
                  </a:lnTo>
                  <a:lnTo>
                    <a:pt x="281" y="335"/>
                  </a:lnTo>
                  <a:lnTo>
                    <a:pt x="277" y="335"/>
                  </a:lnTo>
                  <a:lnTo>
                    <a:pt x="270" y="339"/>
                  </a:lnTo>
                  <a:lnTo>
                    <a:pt x="263" y="346"/>
                  </a:lnTo>
                  <a:lnTo>
                    <a:pt x="249" y="353"/>
                  </a:lnTo>
                  <a:lnTo>
                    <a:pt x="231" y="357"/>
                  </a:lnTo>
                  <a:lnTo>
                    <a:pt x="213" y="361"/>
                  </a:lnTo>
                  <a:lnTo>
                    <a:pt x="194" y="361"/>
                  </a:lnTo>
                  <a:lnTo>
                    <a:pt x="173" y="357"/>
                  </a:lnTo>
                  <a:lnTo>
                    <a:pt x="151" y="350"/>
                  </a:lnTo>
                  <a:lnTo>
                    <a:pt x="130" y="335"/>
                  </a:lnTo>
                  <a:lnTo>
                    <a:pt x="108" y="317"/>
                  </a:lnTo>
                  <a:lnTo>
                    <a:pt x="97" y="296"/>
                  </a:lnTo>
                  <a:lnTo>
                    <a:pt x="90" y="274"/>
                  </a:lnTo>
                  <a:lnTo>
                    <a:pt x="86" y="256"/>
                  </a:lnTo>
                  <a:lnTo>
                    <a:pt x="86" y="238"/>
                  </a:lnTo>
                  <a:lnTo>
                    <a:pt x="86" y="220"/>
                  </a:lnTo>
                  <a:lnTo>
                    <a:pt x="90" y="209"/>
                  </a:lnTo>
                  <a:lnTo>
                    <a:pt x="94" y="198"/>
                  </a:lnTo>
                  <a:lnTo>
                    <a:pt x="97" y="191"/>
                  </a:lnTo>
                  <a:lnTo>
                    <a:pt x="101" y="188"/>
                  </a:lnTo>
                  <a:lnTo>
                    <a:pt x="97" y="188"/>
                  </a:lnTo>
                  <a:lnTo>
                    <a:pt x="90" y="180"/>
                  </a:lnTo>
                  <a:lnTo>
                    <a:pt x="79" y="173"/>
                  </a:lnTo>
                  <a:lnTo>
                    <a:pt x="65" y="162"/>
                  </a:lnTo>
                  <a:lnTo>
                    <a:pt x="50" y="148"/>
                  </a:lnTo>
                  <a:lnTo>
                    <a:pt x="36" y="126"/>
                  </a:lnTo>
                  <a:lnTo>
                    <a:pt x="21" y="105"/>
                  </a:lnTo>
                  <a:lnTo>
                    <a:pt x="11" y="72"/>
                  </a:lnTo>
                  <a:lnTo>
                    <a:pt x="3" y="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84520" y="6054840"/>
              <a:ext cx="836640" cy="574560"/>
            </a:xfrm>
            <a:custGeom>
              <a:avLst/>
              <a:gdLst/>
              <a:ahLst/>
              <a:rect l="l" t="t" r="r" b="b"/>
              <a:pathLst>
                <a:path w="811" h="533">
                  <a:moveTo>
                    <a:pt x="0" y="461"/>
                  </a:moveTo>
                  <a:lnTo>
                    <a:pt x="0" y="465"/>
                  </a:lnTo>
                  <a:lnTo>
                    <a:pt x="3" y="468"/>
                  </a:lnTo>
                  <a:lnTo>
                    <a:pt x="3" y="479"/>
                  </a:lnTo>
                  <a:lnTo>
                    <a:pt x="7" y="486"/>
                  </a:lnTo>
                  <a:lnTo>
                    <a:pt x="14" y="497"/>
                  </a:lnTo>
                  <a:lnTo>
                    <a:pt x="21" y="508"/>
                  </a:lnTo>
                  <a:lnTo>
                    <a:pt x="36" y="519"/>
                  </a:lnTo>
                  <a:lnTo>
                    <a:pt x="50" y="526"/>
                  </a:lnTo>
                  <a:lnTo>
                    <a:pt x="72" y="533"/>
                  </a:lnTo>
                  <a:lnTo>
                    <a:pt x="97" y="533"/>
                  </a:lnTo>
                  <a:lnTo>
                    <a:pt x="122" y="533"/>
                  </a:lnTo>
                  <a:lnTo>
                    <a:pt x="140" y="526"/>
                  </a:lnTo>
                  <a:lnTo>
                    <a:pt x="158" y="519"/>
                  </a:lnTo>
                  <a:lnTo>
                    <a:pt x="169" y="508"/>
                  </a:lnTo>
                  <a:lnTo>
                    <a:pt x="180" y="497"/>
                  </a:lnTo>
                  <a:lnTo>
                    <a:pt x="184" y="486"/>
                  </a:lnTo>
                  <a:lnTo>
                    <a:pt x="187" y="479"/>
                  </a:lnTo>
                  <a:lnTo>
                    <a:pt x="191" y="468"/>
                  </a:lnTo>
                  <a:lnTo>
                    <a:pt x="191" y="465"/>
                  </a:lnTo>
                  <a:lnTo>
                    <a:pt x="191" y="461"/>
                  </a:lnTo>
                  <a:lnTo>
                    <a:pt x="194" y="465"/>
                  </a:lnTo>
                  <a:lnTo>
                    <a:pt x="205" y="472"/>
                  </a:lnTo>
                  <a:lnTo>
                    <a:pt x="223" y="483"/>
                  </a:lnTo>
                  <a:lnTo>
                    <a:pt x="245" y="494"/>
                  </a:lnTo>
                  <a:lnTo>
                    <a:pt x="270" y="504"/>
                  </a:lnTo>
                  <a:lnTo>
                    <a:pt x="299" y="512"/>
                  </a:lnTo>
                  <a:lnTo>
                    <a:pt x="331" y="519"/>
                  </a:lnTo>
                  <a:lnTo>
                    <a:pt x="367" y="515"/>
                  </a:lnTo>
                  <a:lnTo>
                    <a:pt x="400" y="508"/>
                  </a:lnTo>
                  <a:lnTo>
                    <a:pt x="436" y="490"/>
                  </a:lnTo>
                  <a:lnTo>
                    <a:pt x="468" y="465"/>
                  </a:lnTo>
                  <a:lnTo>
                    <a:pt x="490" y="443"/>
                  </a:lnTo>
                  <a:lnTo>
                    <a:pt x="508" y="421"/>
                  </a:lnTo>
                  <a:lnTo>
                    <a:pt x="519" y="400"/>
                  </a:lnTo>
                  <a:lnTo>
                    <a:pt x="526" y="382"/>
                  </a:lnTo>
                  <a:lnTo>
                    <a:pt x="533" y="364"/>
                  </a:lnTo>
                  <a:lnTo>
                    <a:pt x="533" y="353"/>
                  </a:lnTo>
                  <a:lnTo>
                    <a:pt x="533" y="342"/>
                  </a:lnTo>
                  <a:lnTo>
                    <a:pt x="533" y="335"/>
                  </a:lnTo>
                  <a:lnTo>
                    <a:pt x="533" y="331"/>
                  </a:lnTo>
                  <a:lnTo>
                    <a:pt x="533" y="335"/>
                  </a:lnTo>
                  <a:lnTo>
                    <a:pt x="540" y="339"/>
                  </a:lnTo>
                  <a:lnTo>
                    <a:pt x="551" y="342"/>
                  </a:lnTo>
                  <a:lnTo>
                    <a:pt x="566" y="349"/>
                  </a:lnTo>
                  <a:lnTo>
                    <a:pt x="580" y="357"/>
                  </a:lnTo>
                  <a:lnTo>
                    <a:pt x="598" y="360"/>
                  </a:lnTo>
                  <a:lnTo>
                    <a:pt x="620" y="360"/>
                  </a:lnTo>
                  <a:lnTo>
                    <a:pt x="641" y="357"/>
                  </a:lnTo>
                  <a:lnTo>
                    <a:pt x="663" y="346"/>
                  </a:lnTo>
                  <a:lnTo>
                    <a:pt x="685" y="331"/>
                  </a:lnTo>
                  <a:lnTo>
                    <a:pt x="703" y="313"/>
                  </a:lnTo>
                  <a:lnTo>
                    <a:pt x="717" y="295"/>
                  </a:lnTo>
                  <a:lnTo>
                    <a:pt x="724" y="274"/>
                  </a:lnTo>
                  <a:lnTo>
                    <a:pt x="728" y="256"/>
                  </a:lnTo>
                  <a:lnTo>
                    <a:pt x="728" y="234"/>
                  </a:lnTo>
                  <a:lnTo>
                    <a:pt x="724" y="220"/>
                  </a:lnTo>
                  <a:lnTo>
                    <a:pt x="721" y="205"/>
                  </a:lnTo>
                  <a:lnTo>
                    <a:pt x="717" y="194"/>
                  </a:lnTo>
                  <a:lnTo>
                    <a:pt x="713" y="187"/>
                  </a:lnTo>
                  <a:lnTo>
                    <a:pt x="713" y="187"/>
                  </a:lnTo>
                  <a:lnTo>
                    <a:pt x="717" y="184"/>
                  </a:lnTo>
                  <a:lnTo>
                    <a:pt x="724" y="180"/>
                  </a:lnTo>
                  <a:lnTo>
                    <a:pt x="735" y="173"/>
                  </a:lnTo>
                  <a:lnTo>
                    <a:pt x="749" y="158"/>
                  </a:lnTo>
                  <a:lnTo>
                    <a:pt x="764" y="144"/>
                  </a:lnTo>
                  <a:lnTo>
                    <a:pt x="778" y="126"/>
                  </a:lnTo>
                  <a:lnTo>
                    <a:pt x="789" y="101"/>
                  </a:lnTo>
                  <a:lnTo>
                    <a:pt x="800" y="72"/>
                  </a:lnTo>
                  <a:lnTo>
                    <a:pt x="807" y="36"/>
                  </a:lnTo>
                  <a:lnTo>
                    <a:pt x="811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2FC-8A31-477D-B8F5-5AA70440E6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twork Data Representation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ND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10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D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the C typ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-makes-right (architecture ta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data items untag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stubs from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byte architecture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34120" y="1600200"/>
            <a:ext cx="3200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big-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little-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EBC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IEEE 7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V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= C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= 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E07F10" descr=""/>
          <p:cNvPicPr/>
          <p:nvPr/>
        </p:nvPicPr>
        <p:blipFill>
          <a:blip r:embed="rId1"/>
          <a:stretch/>
        </p:blipFill>
        <p:spPr>
          <a:xfrm>
            <a:off x="838080" y="5257800"/>
            <a:ext cx="742320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A9A-DF34-4C33-B453-D38B178B17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lk Transfer (BLAS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AAL and IP, tries to recover from lost frag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re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artial acknowledg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411160" y="1371600"/>
            <a:ext cx="2583720" cy="4619160"/>
            <a:chOff x="5411160" y="1371600"/>
            <a:chExt cx="2583720" cy="4619160"/>
          </a:xfrm>
        </p:grpSpPr>
        <p:sp>
          <p:nvSpPr>
            <p:cNvPr id="121" name=""/>
            <p:cNvSpPr/>
            <p:nvPr/>
          </p:nvSpPr>
          <p:spPr>
            <a:xfrm>
              <a:off x="5411160" y="137160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45080" y="137160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960000">
              <a:off x="6293160" y="184932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52000" y="1596960"/>
              <a:ext cx="1440" cy="4389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88160" y="1600920"/>
              <a:ext cx="1800" cy="438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2000" y="1790280"/>
              <a:ext cx="1922400" cy="477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960000">
              <a:off x="6299280" y="219348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960000">
              <a:off x="5980680" y="246168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960000">
              <a:off x="5980320" y="317484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960000">
              <a:off x="6307560" y="287496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960000">
              <a:off x="6303240" y="361836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960000">
              <a:off x="6298200" y="456804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960000">
              <a:off x="6298200" y="491112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700000">
              <a:off x="6401880" y="5384880"/>
              <a:ext cx="34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R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700000">
              <a:off x="6402240" y="4093920"/>
              <a:ext cx="34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R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52000" y="4847760"/>
              <a:ext cx="1922400" cy="47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53520" y="5298120"/>
              <a:ext cx="129600" cy="5364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35"/>
                  </a:moveTo>
                  <a:lnTo>
                    <a:pt x="79" y="39"/>
                  </a:lnTo>
                  <a:lnTo>
                    <a:pt x="13" y="0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758560" y="5352120"/>
              <a:ext cx="1924200" cy="409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7040" y="5729400"/>
              <a:ext cx="123480" cy="5940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65" y="0"/>
                  </a:moveTo>
                  <a:lnTo>
                    <a:pt x="0" y="39"/>
                  </a:lnTo>
                  <a:lnTo>
                    <a:pt x="75" y="43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52000" y="2474280"/>
              <a:ext cx="1263960" cy="31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90040" y="2745360"/>
              <a:ext cx="58680" cy="9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51520" y="2763360"/>
              <a:ext cx="11844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2000" y="3194640"/>
              <a:ext cx="1263960" cy="320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90040" y="3469680"/>
              <a:ext cx="58680" cy="9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851520" y="3487680"/>
              <a:ext cx="11844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758560" y="4064040"/>
              <a:ext cx="1924200" cy="410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52000" y="4447080"/>
              <a:ext cx="128160" cy="53640"/>
            </a:xfrm>
            <a:custGeom>
              <a:avLst/>
              <a:gdLst/>
              <a:ahLst/>
              <a:rect l="l" t="t" r="r" b="b"/>
              <a:pathLst>
                <a:path w="78" h="39">
                  <a:moveTo>
                    <a:pt x="65" y="0"/>
                  </a:moveTo>
                  <a:lnTo>
                    <a:pt x="0" y="39"/>
                  </a:lnTo>
                  <a:lnTo>
                    <a:pt x="78" y="3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52000" y="4500720"/>
              <a:ext cx="1933920" cy="48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3520" y="4951440"/>
              <a:ext cx="134640" cy="5364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0" y="36"/>
                  </a:moveTo>
                  <a:lnTo>
                    <a:pt x="82" y="39"/>
                  </a:lnTo>
                  <a:lnTo>
                    <a:pt x="13" y="0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57040" y="3555360"/>
              <a:ext cx="1928880" cy="48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53520" y="4006080"/>
              <a:ext cx="134640" cy="5364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0" y="36"/>
                  </a:moveTo>
                  <a:lnTo>
                    <a:pt x="82" y="39"/>
                  </a:lnTo>
                  <a:lnTo>
                    <a:pt x="13" y="0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57040" y="2807640"/>
              <a:ext cx="1928880" cy="48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3520" y="3262320"/>
              <a:ext cx="129600" cy="5364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36"/>
                  </a:moveTo>
                  <a:lnTo>
                    <a:pt x="79" y="39"/>
                  </a:lnTo>
                  <a:lnTo>
                    <a:pt x="13" y="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52000" y="2133000"/>
              <a:ext cx="1922400" cy="47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53520" y="2582280"/>
              <a:ext cx="134640" cy="5544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0" y="36"/>
                  </a:moveTo>
                  <a:lnTo>
                    <a:pt x="82" y="40"/>
                  </a:lnTo>
                  <a:lnTo>
                    <a:pt x="13" y="0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53520" y="2241000"/>
              <a:ext cx="129600" cy="5364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36"/>
                  </a:moveTo>
                  <a:lnTo>
                    <a:pt x="79" y="39"/>
                  </a:lnTo>
                  <a:lnTo>
                    <a:pt x="13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3B6-2171-4C2D-9F10-F124069F33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LAST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ending all fragments, set timer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ceive SRR, send missing fragments and reset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imer DONE expires, free fra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CEB-4006-40C3-80CF-E3DD6613B0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LAST Details (cont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irst fragments arrives, set timer LAST_F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ll fragments present, reassemble and pas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exceptional 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ast fragment arrives but message not comple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LAST_FRAG exp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RETRY expires for first or secon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RETRY expires a thir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up and free partial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C2C-9374-490D-A8D5-2ADC62CE6B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LAST Header Forma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715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 must protect against wrap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= DATA or S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Frags indicates number of frag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ask distinguishes among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ype=DATA, identifies this fra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ype=SRR, identifies missing frag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E05F13" descr=""/>
          <p:cNvPicPr/>
          <p:nvPr/>
        </p:nvPicPr>
        <p:blipFill>
          <a:blip r:embed="rId1"/>
          <a:stretch/>
        </p:blipFill>
        <p:spPr>
          <a:xfrm>
            <a:off x="6629400" y="1676520"/>
            <a:ext cx="170352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99F-A920-414F-8939-FB23467E21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quest/Reply (CHAN)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s message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izes client wit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-most-o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case                        Implicit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141560" y="3505320"/>
            <a:ext cx="2404440" cy="2514240"/>
            <a:chOff x="1141560" y="3505320"/>
            <a:chExt cx="2404440" cy="2514240"/>
          </a:xfrm>
        </p:grpSpPr>
        <p:sp>
          <p:nvSpPr>
            <p:cNvPr id="167" name=""/>
            <p:cNvSpPr/>
            <p:nvPr/>
          </p:nvSpPr>
          <p:spPr>
            <a:xfrm>
              <a:off x="1141560" y="350532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48040" y="35053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56480" y="3718440"/>
              <a:ext cx="1080" cy="2296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62600" y="3723120"/>
              <a:ext cx="720" cy="2296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960000">
              <a:off x="1921680" y="390348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6480" y="3843000"/>
              <a:ext cx="1710360" cy="455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51160" y="4325040"/>
              <a:ext cx="1706040" cy="396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960000">
              <a:off x="1921320" y="526896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700000">
              <a:off x="2012760" y="481140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700000">
              <a:off x="2027160" y="43686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6480" y="5229720"/>
              <a:ext cx="1706040" cy="46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3080" y="5664600"/>
              <a:ext cx="114480" cy="51840"/>
            </a:xfrm>
            <a:custGeom>
              <a:avLst/>
              <a:gdLst/>
              <a:ahLst/>
              <a:rect l="l" t="t" r="r" b="b"/>
              <a:pathLst>
                <a:path w="111" h="56">
                  <a:moveTo>
                    <a:pt x="0" y="51"/>
                  </a:moveTo>
                  <a:lnTo>
                    <a:pt x="111" y="56"/>
                  </a:lnTo>
                  <a:lnTo>
                    <a:pt x="19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451160" y="4811760"/>
              <a:ext cx="1706040" cy="392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61520" y="5174280"/>
              <a:ext cx="113400" cy="5076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92" y="0"/>
                  </a:moveTo>
                  <a:lnTo>
                    <a:pt x="0" y="55"/>
                  </a:lnTo>
                  <a:lnTo>
                    <a:pt x="110" y="55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61520" y="4692240"/>
              <a:ext cx="113400" cy="5076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92" y="0"/>
                  </a:moveTo>
                  <a:lnTo>
                    <a:pt x="0" y="55"/>
                  </a:lnTo>
                  <a:lnTo>
                    <a:pt x="110" y="55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3080" y="4273920"/>
              <a:ext cx="119520" cy="50760"/>
            </a:xfrm>
            <a:custGeom>
              <a:avLst/>
              <a:gdLst/>
              <a:ahLst/>
              <a:rect l="l" t="t" r="r" b="b"/>
              <a:pathLst>
                <a:path w="116" h="55">
                  <a:moveTo>
                    <a:pt x="0" y="50"/>
                  </a:moveTo>
                  <a:lnTo>
                    <a:pt x="116" y="55"/>
                  </a:lnTo>
                  <a:lnTo>
                    <a:pt x="23" y="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03720" y="3429000"/>
            <a:ext cx="2429280" cy="2514600"/>
            <a:chOff x="5103720" y="3429000"/>
            <a:chExt cx="2429280" cy="2514600"/>
          </a:xfrm>
        </p:grpSpPr>
        <p:sp>
          <p:nvSpPr>
            <p:cNvPr id="184" name=""/>
            <p:cNvSpPr/>
            <p:nvPr/>
          </p:nvSpPr>
          <p:spPr>
            <a:xfrm>
              <a:off x="5103720" y="3429000"/>
              <a:ext cx="55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95080" y="3429000"/>
              <a:ext cx="63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16840" y="3642840"/>
              <a:ext cx="720" cy="229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98120" y="3647160"/>
              <a:ext cx="720" cy="229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960000">
              <a:off x="5868720" y="3853080"/>
              <a:ext cx="98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quest 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12160" y="3762360"/>
              <a:ext cx="1692720" cy="45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409720" y="4249080"/>
              <a:ext cx="1688040" cy="39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960000">
              <a:off x="5862960" y="4764240"/>
              <a:ext cx="98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quest 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700000">
              <a:off x="5914080" y="515196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ply 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700000">
              <a:off x="5913000" y="425124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ply 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16840" y="4671360"/>
              <a:ext cx="1683360" cy="4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85440" y="5097960"/>
              <a:ext cx="112680" cy="51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5"/>
                  </a:moveTo>
                  <a:lnTo>
                    <a:pt x="97" y="49"/>
                  </a:lnTo>
                  <a:lnTo>
                    <a:pt x="17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410080" y="5154120"/>
              <a:ext cx="168336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21520" y="5511960"/>
              <a:ext cx="112680" cy="51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80" y="0"/>
                  </a:moveTo>
                  <a:lnTo>
                    <a:pt x="0" y="49"/>
                  </a:lnTo>
                  <a:lnTo>
                    <a:pt x="97" y="49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21520" y="4619520"/>
              <a:ext cx="108000" cy="5184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80" y="0"/>
                  </a:moveTo>
                  <a:lnTo>
                    <a:pt x="0" y="45"/>
                  </a:lnTo>
                  <a:lnTo>
                    <a:pt x="93" y="4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80760" y="4192920"/>
              <a:ext cx="112320" cy="51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4"/>
                  </a:moveTo>
                  <a:lnTo>
                    <a:pt x="97" y="49"/>
                  </a:lnTo>
                  <a:lnTo>
                    <a:pt x="17" y="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6039720" y="53971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5823360" y="5509800"/>
              <a:ext cx="36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54C-E2AA-4C82-B579-960DFFF35C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AN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message (request, reply, or 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RETRANSMIT 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essage id (M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(long running)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periodically sends “are you alive” prob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periodically sends “I’m alive” not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support multiple outstanding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hannel id (C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crash and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oot id (B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8DA-758C-4F46-A203-6D5AB4B696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21:34:11Z</dcterms:created>
  <dc:creator>klp</dc:creator>
  <dc:description/>
  <dc:language>en-US</dc:language>
  <cp:lastModifiedBy>Larry Peterson</cp:lastModifiedBy>
  <dcterms:modified xsi:type="dcterms:W3CDTF">2000-02-07T16:12:23Z</dcterms:modified>
  <cp:revision>19</cp:revision>
  <dc:subject/>
  <dc:title>Remote Procedure Call</dc:title>
</cp:coreProperties>
</file>