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2A4-D839-42E7-9699-CAAC35B3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FC0-6915-4AE9-8374-4F13957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236-B890-438E-8811-5D451C49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8A2-00EC-4873-9660-B36A39E8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FE2-76F2-4912-857B-FECDFE3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47A-FFEB-461B-9A5C-2612CEC5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F44-7058-4052-9F55-C30FB36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6DD-E684-4A62-BC38-DA18288A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969-8F10-4913-9B07-48B574C7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7CD-8325-4831-8235-3653A8D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CDC-4AF0-4DC1-B51E-564E536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726-D586-41BF-975E-7E289F3D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F1F0-1D15-4A2C-9F94-EC6441EE9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 Commun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&amp; Membership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88C-B46F-4744-BF87-42029D447D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dering: First Approa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ordering server assigns global sequenc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 apply to ordering server for numbers, or ordering server sends all message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deal with case where ordering server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 election we saw 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-back easy since sequence numbers are sequ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5C2-E4E2-40FE-80C4-0F7C7C3735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dering: Second Approa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ime message was 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on sending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ost address to break 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nd decent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nearly synchronized c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old back messages for a period equal to maximum clock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D7-93C9-4511-8B93-8C83DE444E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gical Tim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ght: often don’t care about when something happened, only about which thing happen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ened befor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means “X happened before 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X and Y occur in the same process and X occurs before Y, then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 is a message, then send(M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and 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, then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166-4E68-429F-BD10-1C2457E60D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gical Tim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events X and Y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(X and Y ar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 defines a parti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97280" y="4481640"/>
            <a:ext cx="4570200" cy="1463760"/>
            <a:chOff x="2897280" y="4481640"/>
            <a:chExt cx="4570200" cy="1463760"/>
          </a:xfrm>
        </p:grpSpPr>
        <p:sp>
          <p:nvSpPr>
            <p:cNvPr id="68" name=""/>
            <p:cNvSpPr/>
            <p:nvPr/>
          </p:nvSpPr>
          <p:spPr>
            <a:xfrm>
              <a:off x="3504960" y="48103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4960" y="53341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4960" y="586764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7280" y="45435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7280" y="50673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7280" y="55771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4724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360" y="4724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5160" y="5257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600" y="52578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160" y="579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6760" y="579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19160" y="4481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28640" y="4481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14440" y="5015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52880" y="5015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4760" y="55245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6400" y="554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572000" y="4818240"/>
            <a:ext cx="533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351400"/>
            <a:ext cx="38124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ED1-B4A2-404C-A68F-2660814997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Contex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ss sends a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the messages it has rece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ommunication represented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x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3 senders, deno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080" y="1981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99480" y="289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37339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50160" y="3733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0200" y="45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2080" y="45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41960" y="54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2347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48320" y="3166920"/>
            <a:ext cx="6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3186000"/>
            <a:ext cx="63828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314840" y="4062240"/>
            <a:ext cx="638280" cy="60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10160" y="4062240"/>
            <a:ext cx="65736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76480" y="4062240"/>
            <a:ext cx="552600" cy="60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38600" y="4905360"/>
            <a:ext cx="6570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76840" y="4905360"/>
            <a:ext cx="5526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D81-2EC7-499B-A5C1-F9C2799620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260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maintains a copy of the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of all copies equals “global grap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: mid + mid of all predecessor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of sender’s copy of contex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ed by number of participants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: add to local copy and deliver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back if not all predecessors ar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sender to retransmit missing messages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up to application in “context”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6B6-61EE-48D2-8DB5-DE3C057FAC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inspect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, precedes, prev, root,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ed by a message from all othe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an free all stable messages from its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ever be asked to retransmit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897-DA0E-4C2E-A3ED-11F74D9A37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st Fail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unning processes are able to continue exchang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contained in any running host’s copy will eventually be incorporated into every running host’s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out faile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s messag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9D9-3D96-49E5-BE2F-00D9EF47AA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Or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86696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graph preserves partial order amo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can produce same total order by running a topological sort on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since messages continually arr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next “wave” of messages to application as soon as one message in wave become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no future messages will be at same logic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protocol much trick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0B4-40B6-483F-A5EF-0B2E4AD3DA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Grou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et of processes that want to co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can join/leave either implicitly or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ss can belong to man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can be either open or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ulticast rather than point-to-poin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name (address) provides a useful level of in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issemination (e.g., n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071-93D2-40F6-BC82-355AC73325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cast Routing: 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on a LAN periodically announces the groups it belongs to using I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 update message (LSP) to include set of groups that have members on a particular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uter uses Dijkstra’s algorithm to compute shortest-path spanning tree for each source/group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uter caches tree for currently active source/group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6C8-0EAE-4877-A533-2D053D125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cast Routing: 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ath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already knows that shortest path to S goes through rout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multicast packet from S, forward on all outgoing links (except one it arrived on), iff packet arrived from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duplicate broadcast packets by letting only “parent” for LAN (relative to S)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 path to S (learn from distance v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st address to break 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E3D-E1FC-4F62-A92C-B5D48A4885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V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ath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prune networks have have no hosts in group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determine if LAN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/ no members in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if parent is only router on the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if any hosts are members of G using 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propagate “no members of G here”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ment (destination, cost) update sent to neighbors with set of groups for which this network is interested in receiving multicas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happens when multicast address become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C38-9A94-4873-92D4-0E4CFFE89C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plicated State Mach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s characterized as a state machine that modifies variables in response to outsid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machine is replicated to improv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 en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are atomic (applied at all functioning repl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plicas remain consistent (ops applied in same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 operations in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using group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576-4FE8-47A0-A49C-F06DDDC51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omic Mess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 property: a message is delivered to all members, or to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ecipient acknowledge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retransmits if ACK no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ender could crash before message is delivered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B82-9210-4E90-ACD2-61598634F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omic Messag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: if sender crashes, a recipient volunteers to be “backup sender” for 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sends message to everybody, waits for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imple algorithm to choose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method again if backup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remember all received messages in case we need to become backup s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protocol to “prune” ol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know it’s safe to pru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F74-9AE9-4109-86E7-AA26207013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Ord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: different members may see messages in different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group communication requires all members to agree about the order of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group, assign global ordering to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messages that arrive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A80-23C6-42E3-BDF1-FA09489736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cp:lastPrinted>2000-04-17T22:31:36Z</cp:lastPrinted>
  <dcterms:modified xsi:type="dcterms:W3CDTF">2003-11-07T01:17:24Z</dcterms:modified>
  <cp:revision>35</cp:revision>
  <dc:subject/>
  <dc:title>Naming</dc:title>
</cp:coreProperties>
</file>