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180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88F0-CC7D-4663-ADD4-0DCEA367BB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overview of static resource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= validate header,  addr cache lookup, TTL, checksum, choose des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“basic IP” instr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ook at how fast the processin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16 = 24, and all are multiples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oils down to problem central to HW fabrics : queuing 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-to-one correspondence of queues and outpu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bounded b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still bounded b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because extra output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to combine the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hose 16 queues per output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oS priorities – fairly 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still bounded by outpu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l contexts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 por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uns as fast as contexts can go, no wa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not at Princeton and cannot afford infinite port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contexts block on wait_for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blocking on wait_for_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extra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 context to packe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ifferent packe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instr budget, what fits in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to explain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A is within resource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view of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job: IP packets IN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few packets require extra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estined for router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traffic reflected in these two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S to meet these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: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g: complementary mechanism ,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introduced a pipeline, producer/consu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, can not always perfectly 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, if share all smaller, queue full, go to 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s goes to consu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pecif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set the process shares along the pip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some knowledge of forwarding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anna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qos, can we make our commi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, good use of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xample is link bound wanna study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e cpu h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ing became the k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 time, only very fewer process is elig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s used to forwarding packets as oppos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w and polling empty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ndle varying workload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off between performance and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: the batch number depends on the processing cost of th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is: when schedule a flow with at least bi backlog, the csw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ed will add no more than t%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 for latency sensitive flows time out sc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e approach mapping logical to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C, single CP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ple of advant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iginally works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nt trend: proxies, firewalls, QoS, etc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 what you pay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fficult to secure against DoS atta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ample: control over data OR data over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other appr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b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bad traffic patterns, all packets at LINE SPEED guaranteed basic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w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code common case packet as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wrong, same boat as prev sl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ainst recent trend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more packets want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30240" y="44017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our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Network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for “best of both worl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P is processor, you ca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e ta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Data Plane, but don’t forget Contro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2CA-5BF3-4025-9063-6E9BA121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610-DBF8-48E9-ACA1-D80B9D48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4CB-E496-4E98-8190-18C497A9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135-4811-44AD-96AA-75D83145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65D-3C19-44D5-97DC-61E8A869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2DCA-3558-4EBE-89AA-422BD1A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9D43-A62D-4292-B728-30D57EC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C51E-460F-4187-817E-D4822F0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F12-9EC6-436A-8562-93F08F56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8DFA-9C72-40ED-A56B-4189EE2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327-94B6-4BD5-A296-7B8B425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728-C724-4AFB-9A90-956F995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1A2-0113-42C1-ABDB-E482BA2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EFF6-3F2C-485F-BB0E-33A138C1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908-AB65-4823-AC35-576F86C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2FE3-F894-4196-876C-A9BFF22F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72A4-8D90-4606-A94A-BC01613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466-8225-4107-B344-D38B9B8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BFE-6674-45F8-AFB5-47C3075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5B9-A35B-424F-BBB8-0300ACE5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13E-8875-4DAE-88B2-D230815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0E-ACD7-484B-9653-C563B0B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6CF-F72F-47E5-B704-C98A2DC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6FA-75F7-4BA7-B2CD-B3538C3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E92-152E-4A5E-B124-AFF08AB7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outer Construction II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ing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641-1483-4F1C-9B72-C7FFB57F94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66680" y="2666880"/>
            <a:ext cx="6704640" cy="1771920"/>
            <a:chOff x="1066680" y="2666880"/>
            <a:chExt cx="6704640" cy="1771920"/>
          </a:xfrm>
        </p:grpSpPr>
        <p:grpSp>
          <p:nvGrpSpPr>
            <p:cNvPr id="311" name=""/>
            <p:cNvGrpSpPr/>
            <p:nvPr/>
          </p:nvGrpSpPr>
          <p:grpSpPr>
            <a:xfrm>
              <a:off x="5564160" y="2852640"/>
              <a:ext cx="2207160" cy="1586160"/>
              <a:chOff x="5564160" y="2852640"/>
              <a:chExt cx="2207160" cy="158616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199280" y="3462840"/>
                <a:ext cx="572040" cy="365760"/>
                <a:chOff x="7199280" y="3462840"/>
                <a:chExt cx="572040" cy="365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199280" y="3462840"/>
                  <a:ext cx="57204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899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6272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4444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078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261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992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564160" y="4073040"/>
                <a:ext cx="571680" cy="365760"/>
                <a:chOff x="5564160" y="4073040"/>
                <a:chExt cx="571680" cy="3657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564160" y="40730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05448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72724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80932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7276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89068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564160" y="40730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564160" y="3462840"/>
                <a:ext cx="571680" cy="365760"/>
                <a:chOff x="5564160" y="3462840"/>
                <a:chExt cx="571680" cy="3657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564160" y="34628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544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2724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80932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727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89068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64160" y="34628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564160" y="2852640"/>
                <a:ext cx="571680" cy="365760"/>
                <a:chOff x="5564160" y="2852640"/>
                <a:chExt cx="571680" cy="365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564160" y="285264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5448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2724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0932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97276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89068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564160" y="285264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36200" y="3646440"/>
                <a:ext cx="106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36200" y="4256640"/>
                <a:ext cx="16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36200" y="3035160"/>
                <a:ext cx="16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300000" y="3646080"/>
                <a:ext cx="326520" cy="61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00000" y="3035160"/>
                <a:ext cx="326520" cy="61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066680" y="2852640"/>
              <a:ext cx="2125080" cy="1586160"/>
              <a:chOff x="1066680" y="2852640"/>
              <a:chExt cx="2125080" cy="15861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066680" y="3463200"/>
                <a:ext cx="571680" cy="365760"/>
                <a:chOff x="1066680" y="3463200"/>
                <a:chExt cx="571680" cy="365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066680" y="3463200"/>
                  <a:ext cx="57168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570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22976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31184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752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3932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666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19720" y="3463200"/>
                <a:ext cx="572040" cy="365760"/>
                <a:chOff x="2619720" y="3463200"/>
                <a:chExt cx="572040" cy="365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19720" y="3463200"/>
                  <a:ext cx="572040" cy="36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1104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78316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86488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2832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4660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19720" y="3463200"/>
                  <a:ext cx="0" cy="36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638720" y="3646080"/>
                <a:ext cx="98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129040" y="2852640"/>
                <a:ext cx="1062360" cy="365400"/>
                <a:chOff x="2129040" y="2852640"/>
                <a:chExt cx="1062360" cy="3654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619360" y="2852640"/>
                  <a:ext cx="572040" cy="365400"/>
                  <a:chOff x="2619360" y="2852640"/>
                  <a:chExt cx="572040" cy="365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619360" y="2852640"/>
                    <a:ext cx="572040" cy="365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11004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78280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86452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02796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94624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619360" y="285264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2129040" y="3035880"/>
                  <a:ext cx="49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129040" y="4073400"/>
                <a:ext cx="1062360" cy="365400"/>
                <a:chOff x="2129040" y="4073400"/>
                <a:chExt cx="1062360" cy="3654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619360" y="4073400"/>
                  <a:ext cx="572040" cy="365400"/>
                  <a:chOff x="2619360" y="4073400"/>
                  <a:chExt cx="572040" cy="3654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619360" y="4073400"/>
                    <a:ext cx="572040" cy="365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11004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78280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6452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02796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94624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619360" y="4073400"/>
                    <a:ext cx="0" cy="365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2129040" y="4256640"/>
                  <a:ext cx="49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H="1" flipV="1">
                <a:off x="1802160" y="3646080"/>
                <a:ext cx="326520" cy="61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1802520" y="3035880"/>
                <a:ext cx="32652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192480" y="303552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92480" y="364572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92480" y="4257000"/>
              <a:ext cx="23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89680" y="26668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78360" y="32770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48160" y="3887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e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546-EF47-45ED-AA70-C9AAE34F2A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762120" y="2133720"/>
            <a:ext cx="6095880" cy="3581280"/>
          </a:xfrm>
          <a:custGeom>
            <a:avLst/>
            <a:gdLst/>
            <a:ahLst/>
            <a:rect l="l" t="t" r="r" b="b"/>
            <a:pathLst>
              <a:path w="3840" h="2256">
                <a:moveTo>
                  <a:pt x="3792" y="0"/>
                </a:moveTo>
                <a:lnTo>
                  <a:pt x="0" y="0"/>
                </a:lnTo>
                <a:lnTo>
                  <a:pt x="0" y="768"/>
                </a:lnTo>
                <a:lnTo>
                  <a:pt x="1296" y="768"/>
                </a:lnTo>
                <a:lnTo>
                  <a:pt x="1296" y="2256"/>
                </a:lnTo>
                <a:lnTo>
                  <a:pt x="3840" y="2256"/>
                </a:lnTo>
                <a:lnTo>
                  <a:pt x="3840" y="0"/>
                </a:lnTo>
                <a:lnTo>
                  <a:pt x="3792" y="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tel IXP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2730600"/>
            <a:ext cx="1143000" cy="507960"/>
            <a:chOff x="914400" y="2730600"/>
            <a:chExt cx="1143000" cy="507960"/>
          </a:xfrm>
        </p:grpSpPr>
        <p:sp>
          <p:nvSpPr>
            <p:cNvPr id="398" name=""/>
            <p:cNvSpPr/>
            <p:nvPr/>
          </p:nvSpPr>
          <p:spPr>
            <a:xfrm>
              <a:off x="914400" y="273060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7960" y="283212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ra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914400" y="3505320"/>
            <a:ext cx="1143000" cy="507960"/>
            <a:chOff x="914400" y="3505320"/>
            <a:chExt cx="1143000" cy="507960"/>
          </a:xfrm>
        </p:grpSpPr>
        <p:sp>
          <p:nvSpPr>
            <p:cNvPr id="401" name=""/>
            <p:cNvSpPr/>
            <p:nvPr/>
          </p:nvSpPr>
          <p:spPr>
            <a:xfrm>
              <a:off x="914400" y="350532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47960" y="360684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14400" y="4267080"/>
            <a:ext cx="1143000" cy="507960"/>
            <a:chOff x="914400" y="4267080"/>
            <a:chExt cx="1143000" cy="507960"/>
          </a:xfrm>
        </p:grpSpPr>
        <p:sp>
          <p:nvSpPr>
            <p:cNvPr id="404" name=""/>
            <p:cNvSpPr/>
            <p:nvPr/>
          </p:nvSpPr>
          <p:spPr>
            <a:xfrm>
              <a:off x="914400" y="4267080"/>
              <a:ext cx="1143000" cy="507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7960" y="4368600"/>
              <a:ext cx="874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048120" y="2362320"/>
            <a:ext cx="1493280" cy="1454040"/>
            <a:chOff x="3048120" y="2362320"/>
            <a:chExt cx="1493280" cy="1454040"/>
          </a:xfrm>
        </p:grpSpPr>
        <p:sp>
          <p:nvSpPr>
            <p:cNvPr id="407" name=""/>
            <p:cNvSpPr/>
            <p:nvPr/>
          </p:nvSpPr>
          <p:spPr>
            <a:xfrm>
              <a:off x="3048120" y="2362320"/>
              <a:ext cx="103644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39920" y="245916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32080" y="255600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22440" y="265284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14600" y="2749680"/>
              <a:ext cx="1036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04960" y="2844720"/>
              <a:ext cx="1036440" cy="9716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 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g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048120" y="4114800"/>
            <a:ext cx="1495440" cy="1438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16240" y="4681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133720" y="2971440"/>
            <a:ext cx="838080" cy="1524240"/>
            <a:chOff x="2133720" y="2971440"/>
            <a:chExt cx="838080" cy="1524240"/>
          </a:xfrm>
        </p:grpSpPr>
        <p:sp>
          <p:nvSpPr>
            <p:cNvPr id="416" name=""/>
            <p:cNvSpPr/>
            <p:nvPr/>
          </p:nvSpPr>
          <p:spPr>
            <a:xfrm>
              <a:off x="2133720" y="2971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4495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133720" y="2971440"/>
              <a:ext cx="8380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33720" y="2971800"/>
              <a:ext cx="8380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133720" y="297144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720" y="3733920"/>
              <a:ext cx="838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34120" y="2590920"/>
            <a:ext cx="1066680" cy="685800"/>
            <a:chOff x="5334120" y="2590920"/>
            <a:chExt cx="1066680" cy="685800"/>
          </a:xfrm>
        </p:grpSpPr>
        <p:sp>
          <p:nvSpPr>
            <p:cNvPr id="423" name=""/>
            <p:cNvSpPr/>
            <p:nvPr/>
          </p:nvSpPr>
          <p:spPr>
            <a:xfrm>
              <a:off x="57150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436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259092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34120" y="25909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4120" y="3276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33760" y="3428640"/>
            <a:ext cx="1066680" cy="685800"/>
            <a:chOff x="5333760" y="3428640"/>
            <a:chExt cx="1066680" cy="685800"/>
          </a:xfrm>
        </p:grpSpPr>
        <p:sp>
          <p:nvSpPr>
            <p:cNvPr id="429" name=""/>
            <p:cNvSpPr/>
            <p:nvPr/>
          </p:nvSpPr>
          <p:spPr>
            <a:xfrm rot="10800000">
              <a:off x="57909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0800000">
              <a:off x="55623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800000">
              <a:off x="5333760" y="3428640"/>
              <a:ext cx="228600" cy="685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560" y="41144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19560" y="34286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47960" y="2895480"/>
            <a:ext cx="609480" cy="914400"/>
            <a:chOff x="4647960" y="2895480"/>
            <a:chExt cx="609480" cy="914400"/>
          </a:xfrm>
        </p:grpSpPr>
        <p:sp>
          <p:nvSpPr>
            <p:cNvPr id="435" name=""/>
            <p:cNvSpPr/>
            <p:nvPr/>
          </p:nvSpPr>
          <p:spPr>
            <a:xfrm flipH="1">
              <a:off x="4647960" y="289548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647960" y="335268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477120" y="2692440"/>
            <a:ext cx="609480" cy="914400"/>
            <a:chOff x="6477120" y="2692440"/>
            <a:chExt cx="609480" cy="914400"/>
          </a:xfrm>
        </p:grpSpPr>
        <p:sp>
          <p:nvSpPr>
            <p:cNvPr id="438" name=""/>
            <p:cNvSpPr/>
            <p:nvPr/>
          </p:nvSpPr>
          <p:spPr>
            <a:xfrm flipV="1">
              <a:off x="6477120" y="314964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269244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238880" y="1930320"/>
            <a:ext cx="0" cy="32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238880" y="2235240"/>
            <a:ext cx="533520" cy="304920"/>
            <a:chOff x="7238880" y="2235240"/>
            <a:chExt cx="533520" cy="304920"/>
          </a:xfrm>
        </p:grpSpPr>
        <p:sp>
          <p:nvSpPr>
            <p:cNvPr id="442" name=""/>
            <p:cNvSpPr/>
            <p:nvPr/>
          </p:nvSpPr>
          <p:spPr>
            <a:xfrm>
              <a:off x="7238880" y="2387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67480" y="223524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238880" y="2616120"/>
            <a:ext cx="533520" cy="304920"/>
            <a:chOff x="7238880" y="2616120"/>
            <a:chExt cx="533520" cy="304920"/>
          </a:xfrm>
        </p:grpSpPr>
        <p:sp>
          <p:nvSpPr>
            <p:cNvPr id="445" name=""/>
            <p:cNvSpPr/>
            <p:nvPr/>
          </p:nvSpPr>
          <p:spPr>
            <a:xfrm>
              <a:off x="7238880" y="2768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67480" y="261612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38880" y="3835440"/>
            <a:ext cx="533520" cy="304920"/>
            <a:chOff x="7238880" y="3835440"/>
            <a:chExt cx="533520" cy="304920"/>
          </a:xfrm>
        </p:grpSpPr>
        <p:sp>
          <p:nvSpPr>
            <p:cNvPr id="448" name=""/>
            <p:cNvSpPr/>
            <p:nvPr/>
          </p:nvSpPr>
          <p:spPr>
            <a:xfrm>
              <a:off x="7238880" y="3987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67480" y="383544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238880" y="4216320"/>
            <a:ext cx="533520" cy="304920"/>
            <a:chOff x="7238880" y="4216320"/>
            <a:chExt cx="533520" cy="304920"/>
          </a:xfrm>
        </p:grpSpPr>
        <p:sp>
          <p:nvSpPr>
            <p:cNvPr id="451" name=""/>
            <p:cNvSpPr/>
            <p:nvPr/>
          </p:nvSpPr>
          <p:spPr>
            <a:xfrm>
              <a:off x="7238880" y="4368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7480" y="4216320"/>
              <a:ext cx="304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7620120" y="3073320"/>
            <a:ext cx="0" cy="6858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760" y="41148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6720120" y="47361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X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7454520" y="32371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1640" y="5410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XP1200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4673520"/>
            <a:ext cx="761760" cy="1575000"/>
          </a:xfrm>
          <a:prstGeom prst="downArrow">
            <a:avLst>
              <a:gd name="adj1" fmla="val 50000"/>
              <a:gd name="adj2" fmla="val 5169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4598640" y="544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I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AC1-B140-40F1-AFB8-A644B2A7AE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495680" y="2743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rocessor Hierarchy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4419720"/>
            <a:ext cx="2438280" cy="76176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1981080"/>
            <a:ext cx="2438280" cy="7621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200400"/>
            <a:ext cx="2438280" cy="7621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86200" y="502884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502920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02920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657600" y="380988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80988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429000" y="251460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29000" y="25146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251460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FB9-6E12-4659-861C-105C8A5F7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ipelin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743200" y="1724040"/>
            <a:ext cx="762120" cy="2895120"/>
            <a:chOff x="2743200" y="1724040"/>
            <a:chExt cx="762120" cy="2895120"/>
          </a:xfrm>
        </p:grpSpPr>
        <p:sp>
          <p:nvSpPr>
            <p:cNvPr id="476" name=""/>
            <p:cNvSpPr/>
            <p:nvPr/>
          </p:nvSpPr>
          <p:spPr>
            <a:xfrm>
              <a:off x="2743200" y="172404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43200" y="20286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3200" y="2333520"/>
              <a:ext cx="762120" cy="761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3200" y="263808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29430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43200" y="3247920"/>
              <a:ext cx="762120" cy="761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3200" y="355248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3200" y="38574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638680" y="1724040"/>
            <a:ext cx="762120" cy="2895120"/>
            <a:chOff x="5638680" y="1724040"/>
            <a:chExt cx="762120" cy="2895120"/>
          </a:xfrm>
        </p:grpSpPr>
        <p:sp>
          <p:nvSpPr>
            <p:cNvPr id="485" name=""/>
            <p:cNvSpPr/>
            <p:nvPr/>
          </p:nvSpPr>
          <p:spPr>
            <a:xfrm>
              <a:off x="5638680" y="172404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38680" y="20286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38680" y="2333520"/>
              <a:ext cx="762120" cy="761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263808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38680" y="29430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38680" y="3247920"/>
              <a:ext cx="762120" cy="761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8680" y="355248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38680" y="38574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62520" y="1800360"/>
            <a:ext cx="1143000" cy="106668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uf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3476520"/>
            <a:ext cx="1143000" cy="106704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eu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31719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31719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39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933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333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2333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89480" y="340200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26680" y="340200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79680" y="463248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98920" y="463248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0" y="2943360"/>
            <a:ext cx="1371600" cy="457200"/>
            <a:chOff x="6858000" y="2943360"/>
            <a:chExt cx="1371600" cy="457200"/>
          </a:xfrm>
        </p:grpSpPr>
        <p:sp>
          <p:nvSpPr>
            <p:cNvPr id="506" name=""/>
            <p:cNvSpPr/>
            <p:nvPr/>
          </p:nvSpPr>
          <p:spPr>
            <a:xfrm>
              <a:off x="6858000" y="294336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106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152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678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01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724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504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773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38080" y="2943360"/>
            <a:ext cx="1371600" cy="457200"/>
            <a:chOff x="838080" y="2943360"/>
            <a:chExt cx="1371600" cy="457200"/>
          </a:xfrm>
        </p:grpSpPr>
        <p:sp>
          <p:nvSpPr>
            <p:cNvPr id="516" name=""/>
            <p:cNvSpPr/>
            <p:nvPr/>
          </p:nvSpPr>
          <p:spPr>
            <a:xfrm>
              <a:off x="838080" y="294336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07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30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528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479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02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400" y="29433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914400" y="5562720"/>
            <a:ext cx="7315200" cy="457200"/>
            <a:chOff x="914400" y="5562720"/>
            <a:chExt cx="7315200" cy="457200"/>
          </a:xfrm>
        </p:grpSpPr>
        <p:sp>
          <p:nvSpPr>
            <p:cNvPr id="526" name=""/>
            <p:cNvSpPr/>
            <p:nvPr/>
          </p:nvSpPr>
          <p:spPr>
            <a:xfrm>
              <a:off x="91440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4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0988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9552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7664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5776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38880" y="5562720"/>
              <a:ext cx="990720" cy="45720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7212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53240" y="57913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E8F-8F69-4EBF-A003-BDA4FC9D6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rocess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9051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57760" y="19051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D45-7E4A-4457-A1A0-F00785AE5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 rot="21047400">
            <a:off x="2514600" y="3849840"/>
            <a:ext cx="1523880" cy="4572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47560" y="1844640"/>
          <a:ext cx="6843960" cy="48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844640"/>
                    <a:ext cx="684396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ipeline Evaluation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38320" y="41907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 Eth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0.142Mp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251460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independe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477-EE6D-4C87-A5EF-8BA7BD5C3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We Measured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contex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input / 8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inite offered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4-byte (minimum-sized) IP pa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different queuing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F29-1371-4572-ADC4-263451ECFC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ingle Protected Queu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4405320"/>
            <a:ext cx="77724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47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ion lower bound 1.67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49800" y="30481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8752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466800" y="2895120"/>
            <a:ext cx="457560" cy="304920"/>
            <a:chOff x="3466800" y="2895120"/>
            <a:chExt cx="457560" cy="304920"/>
          </a:xfrm>
        </p:grpSpPr>
        <p:sp>
          <p:nvSpPr>
            <p:cNvPr id="552" name=""/>
            <p:cNvSpPr/>
            <p:nvPr/>
          </p:nvSpPr>
          <p:spPr>
            <a:xfrm flipH="1" rot="10800000">
              <a:off x="363024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10800000">
              <a:off x="372816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10800000">
              <a:off x="3826440" y="289512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466800" y="32000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466800" y="289512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38752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8752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40160" y="31240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40160" y="340992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289548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2971800" y="2781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89548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0008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638680" y="2819520"/>
            <a:ext cx="1371600" cy="457200"/>
            <a:chOff x="5638680" y="2819520"/>
            <a:chExt cx="1371600" cy="457200"/>
          </a:xfrm>
        </p:grpSpPr>
        <p:sp>
          <p:nvSpPr>
            <p:cNvPr id="566" name=""/>
            <p:cNvSpPr/>
            <p:nvPr/>
          </p:nvSpPr>
          <p:spPr>
            <a:xfrm>
              <a:off x="563868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13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36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9588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485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5308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057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038480" y="304812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67D-AEA0-4230-8745-50A357613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ultiple Private Queu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4405320"/>
            <a:ext cx="77724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must select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29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54720" y="3048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71720" y="2018880"/>
            <a:ext cx="457560" cy="304920"/>
            <a:chOff x="3771720" y="2018880"/>
            <a:chExt cx="457560" cy="304920"/>
          </a:xfrm>
        </p:grpSpPr>
        <p:sp>
          <p:nvSpPr>
            <p:cNvPr id="581" name=""/>
            <p:cNvSpPr/>
            <p:nvPr/>
          </p:nvSpPr>
          <p:spPr>
            <a:xfrm flipH="1" rot="10800000">
              <a:off x="393516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10800000">
              <a:off x="40330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10800000">
              <a:off x="413136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771720" y="23238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771720" y="20188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269244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0240" y="2171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771720" y="2610000"/>
            <a:ext cx="457560" cy="304560"/>
            <a:chOff x="3771720" y="2610000"/>
            <a:chExt cx="457560" cy="304560"/>
          </a:xfrm>
        </p:grpSpPr>
        <p:sp>
          <p:nvSpPr>
            <p:cNvPr id="589" name=""/>
            <p:cNvSpPr/>
            <p:nvPr/>
          </p:nvSpPr>
          <p:spPr>
            <a:xfrm flipH="1" rot="10800000">
              <a:off x="393516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10800000">
              <a:off x="40330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10800000">
              <a:off x="413136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771720" y="291456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771720" y="26100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69244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0240" y="2762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771720" y="3772080"/>
            <a:ext cx="457560" cy="304560"/>
            <a:chOff x="3771720" y="3772080"/>
            <a:chExt cx="457560" cy="304560"/>
          </a:xfrm>
        </p:grpSpPr>
        <p:sp>
          <p:nvSpPr>
            <p:cNvPr id="597" name=""/>
            <p:cNvSpPr/>
            <p:nvPr/>
          </p:nvSpPr>
          <p:spPr>
            <a:xfrm flipH="1" rot="10800000">
              <a:off x="393516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rot="10800000">
              <a:off x="40330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10800000">
              <a:off x="413136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771720" y="40766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71720" y="37720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69244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70240" y="392436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44720" y="31240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44720" y="34099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35600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4432320" y="2781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5600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0500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943600" y="2819520"/>
            <a:ext cx="1371600" cy="457200"/>
            <a:chOff x="5943600" y="2819520"/>
            <a:chExt cx="1371600" cy="457200"/>
          </a:xfrm>
        </p:grpSpPr>
        <p:sp>
          <p:nvSpPr>
            <p:cNvPr id="611" name=""/>
            <p:cNvSpPr/>
            <p:nvPr/>
          </p:nvSpPr>
          <p:spPr>
            <a:xfrm>
              <a:off x="594360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485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08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534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057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106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629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FB0-C28E-4ECA-8935-1E0ABD182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ultiple Protected Queu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440" y="4405320"/>
            <a:ext cx="800100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must select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QoS scheduling (16 priority leve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 3.29 Mp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5180040" y="281952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57840" y="3048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074840" y="2018880"/>
            <a:ext cx="457560" cy="304920"/>
            <a:chOff x="4074840" y="2018880"/>
            <a:chExt cx="457560" cy="304920"/>
          </a:xfrm>
        </p:grpSpPr>
        <p:sp>
          <p:nvSpPr>
            <p:cNvPr id="625" name=""/>
            <p:cNvSpPr/>
            <p:nvPr/>
          </p:nvSpPr>
          <p:spPr>
            <a:xfrm flipH="1" rot="10800000">
              <a:off x="42382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rot="10800000">
              <a:off x="433620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10800000">
              <a:off x="4434480" y="2018880"/>
              <a:ext cx="97920" cy="304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074840" y="23238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074840" y="20188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286000" y="19432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074840" y="2610000"/>
            <a:ext cx="457560" cy="304560"/>
            <a:chOff x="4074840" y="2610000"/>
            <a:chExt cx="457560" cy="304560"/>
          </a:xfrm>
        </p:grpSpPr>
        <p:sp>
          <p:nvSpPr>
            <p:cNvPr id="632" name=""/>
            <p:cNvSpPr/>
            <p:nvPr/>
          </p:nvSpPr>
          <p:spPr>
            <a:xfrm flipH="1" rot="10800000">
              <a:off x="42382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rot="10800000">
              <a:off x="433620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rot="10800000">
              <a:off x="4434480" y="261000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074840" y="291456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074840" y="26100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2286000" y="253368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074840" y="3772080"/>
            <a:ext cx="457560" cy="304560"/>
            <a:chOff x="4074840" y="3772080"/>
            <a:chExt cx="457560" cy="304560"/>
          </a:xfrm>
        </p:grpSpPr>
        <p:sp>
          <p:nvSpPr>
            <p:cNvPr id="639" name=""/>
            <p:cNvSpPr/>
            <p:nvPr/>
          </p:nvSpPr>
          <p:spPr>
            <a:xfrm flipH="1" rot="10800000">
              <a:off x="42382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800000">
              <a:off x="433620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rot="10800000">
              <a:off x="4434480" y="3772080"/>
              <a:ext cx="97920" cy="3045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074840" y="407664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074840" y="377208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286000" y="3695760"/>
            <a:ext cx="457200" cy="4572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4099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659480" y="21715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4735080" y="278100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659480" y="339084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08120" y="327816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246720" y="2819520"/>
            <a:ext cx="1371600" cy="457200"/>
            <a:chOff x="6246720" y="2819520"/>
            <a:chExt cx="1371600" cy="457200"/>
          </a:xfrm>
        </p:grpSpPr>
        <p:sp>
          <p:nvSpPr>
            <p:cNvPr id="652" name=""/>
            <p:cNvSpPr/>
            <p:nvPr/>
          </p:nvSpPr>
          <p:spPr>
            <a:xfrm>
              <a:off x="6246720" y="2819520"/>
              <a:ext cx="1371600" cy="4572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993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16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039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65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088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1376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66040" y="28195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95480" y="213372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133720"/>
            <a:ext cx="11430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133720"/>
            <a:ext cx="114300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2133360"/>
            <a:ext cx="106704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95480" y="2743200"/>
            <a:ext cx="11430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895480" y="2133720"/>
            <a:ext cx="106704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895480" y="2742840"/>
            <a:ext cx="11430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D5E-0AAB-4A66-82F5-4D47C10E7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ing commodity components can be used to build IP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ing fabrics, network processor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s are being asked to support a growing array of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s, proxies, p2p nets, overlay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200-100E-46C2-BB71-78271F263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Processing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609480" y="16765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57760" y="16765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0A2-CD1E-4E87-8DC4-B1FA042E60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ycles to Wast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1676520"/>
            <a:ext cx="371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_for_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in_fif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sic_IP_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reg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last_frag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57760" y="1676520"/>
            <a:ext cx="40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contex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eed_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_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py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ut_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785-C0DF-42CB-84B2-F5E90101A4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ow Many “NOPs” Possible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685800" y="1698480"/>
          <a:ext cx="7696080" cy="45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98480"/>
                    <a:ext cx="769608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80040" y="384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316240" y="2362320"/>
            <a:ext cx="5333760" cy="1795320"/>
            <a:chOff x="2316240" y="2362320"/>
            <a:chExt cx="5333760" cy="1795320"/>
          </a:xfrm>
        </p:grpSpPr>
        <p:sp>
          <p:nvSpPr>
            <p:cNvPr id="681" name=""/>
            <p:cNvSpPr/>
            <p:nvPr/>
          </p:nvSpPr>
          <p:spPr>
            <a:xfrm>
              <a:off x="2316240" y="4157640"/>
              <a:ext cx="533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44120" y="2362320"/>
              <a:ext cx="322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XP1200 Evalualtion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2 Mpps = 8x100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9BA-D666-4E01-8649-F0CC5B718F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ta Plane Extension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139760" y="1827360"/>
          <a:ext cx="6755040" cy="443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827360"/>
                    <a:ext cx="675504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EC7-072C-435A-9C85-A21982CB9B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ontrol and Data Plan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295280" y="2133720"/>
            <a:ext cx="6858000" cy="380880"/>
            <a:chOff x="1295280" y="2133720"/>
            <a:chExt cx="6858000" cy="380880"/>
          </a:xfrm>
        </p:grpSpPr>
        <p:grpSp>
          <p:nvGrpSpPr>
            <p:cNvPr id="688" name=""/>
            <p:cNvGrpSpPr/>
            <p:nvPr/>
          </p:nvGrpSpPr>
          <p:grpSpPr>
            <a:xfrm>
              <a:off x="7467480" y="2133720"/>
              <a:ext cx="685800" cy="380880"/>
              <a:chOff x="7467480" y="2133720"/>
              <a:chExt cx="685800" cy="380880"/>
            </a:xfrm>
          </p:grpSpPr>
          <p:sp>
            <p:nvSpPr>
              <p:cNvPr id="689" name=""/>
              <p:cNvSpPr/>
              <p:nvPr/>
            </p:nvSpPr>
            <p:spPr>
              <a:xfrm>
                <a:off x="7467480" y="21337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0100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836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9608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7480" y="21337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295280" y="2133720"/>
              <a:ext cx="685800" cy="380880"/>
              <a:chOff x="1295280" y="2133720"/>
              <a:chExt cx="685800" cy="380880"/>
            </a:xfrm>
          </p:grpSpPr>
          <p:sp>
            <p:nvSpPr>
              <p:cNvPr id="695" name=""/>
              <p:cNvSpPr/>
              <p:nvPr/>
            </p:nvSpPr>
            <p:spPr>
              <a:xfrm>
                <a:off x="1295280" y="21337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2880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7616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523880" y="2133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95280" y="21337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2133360" y="232416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295280" y="4876920"/>
            <a:ext cx="6858000" cy="380880"/>
            <a:chOff x="1295280" y="4876920"/>
            <a:chExt cx="6858000" cy="380880"/>
          </a:xfrm>
        </p:grpSpPr>
        <p:grpSp>
          <p:nvGrpSpPr>
            <p:cNvPr id="702" name=""/>
            <p:cNvGrpSpPr/>
            <p:nvPr/>
          </p:nvGrpSpPr>
          <p:grpSpPr>
            <a:xfrm>
              <a:off x="7467480" y="4876920"/>
              <a:ext cx="685800" cy="380880"/>
              <a:chOff x="7467480" y="4876920"/>
              <a:chExt cx="685800" cy="380880"/>
            </a:xfrm>
          </p:grpSpPr>
          <p:sp>
            <p:nvSpPr>
              <p:cNvPr id="703" name=""/>
              <p:cNvSpPr/>
              <p:nvPr/>
            </p:nvSpPr>
            <p:spPr>
              <a:xfrm>
                <a:off x="7467480" y="48769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0100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4836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9608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480" y="48769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295280" y="4876920"/>
              <a:ext cx="685800" cy="380880"/>
              <a:chOff x="1295280" y="4876920"/>
              <a:chExt cx="685800" cy="380880"/>
            </a:xfrm>
          </p:grpSpPr>
          <p:sp>
            <p:nvSpPr>
              <p:cNvPr id="709" name=""/>
              <p:cNvSpPr/>
              <p:nvPr/>
            </p:nvSpPr>
            <p:spPr>
              <a:xfrm>
                <a:off x="1295280" y="487692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880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7616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23880" y="48769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295280" y="487692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2133360" y="506736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713040" y="464328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 Dr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37760" y="190656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ed Video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83600" y="22716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trol 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17880" y="5073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ata 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78200" y="3048120"/>
            <a:ext cx="159696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60820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114800"/>
            <a:ext cx="0" cy="439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5A6-0121-41B2-8034-607738C6DF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About the StrongARM?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s memory bus with Micro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respect resource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XP1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ntium 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Micro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might be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within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 instruction and data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recomme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5A6-9A68-45FA-AC85-450F883025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4495680" y="30481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6720" y="4724280"/>
            <a:ext cx="2438280" cy="76212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Eng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76720" y="2286000"/>
            <a:ext cx="2438280" cy="7621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3505320"/>
            <a:ext cx="2438280" cy="7617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53341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05520" y="5334120"/>
            <a:ext cx="0" cy="685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657600" y="411480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57600" y="411480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34120" y="4114800"/>
            <a:ext cx="0" cy="1905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429000" y="281952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281952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62720" y="281952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08040" y="2322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Kpp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10 cycles/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14800" y="4684680"/>
            <a:ext cx="27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7Mpps w/ no V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3Mpps w/ VRP bu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DEF-3B0C-4DF6-863B-F3C3854AB6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ntium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s protocols in the control pla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GP, OSPF, RSV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other router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proxies, active protocols, over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Scout OS + Linux IXP 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scheduler is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E20-D369-4A8C-AE01-7555FA7149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rocesse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1905120"/>
            <a:ext cx="480060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33520" y="3048120"/>
            <a:ext cx="1523880" cy="1371600"/>
            <a:chOff x="533520" y="3048120"/>
            <a:chExt cx="1523880" cy="1371600"/>
          </a:xfrm>
        </p:grpSpPr>
        <p:sp>
          <p:nvSpPr>
            <p:cNvPr id="745" name=""/>
            <p:cNvSpPr/>
            <p:nvPr/>
          </p:nvSpPr>
          <p:spPr>
            <a:xfrm>
              <a:off x="533520" y="3048120"/>
              <a:ext cx="152388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952560" y="3543480"/>
              <a:ext cx="685800" cy="380880"/>
              <a:chOff x="952560" y="3543480"/>
              <a:chExt cx="685800" cy="38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95256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860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3344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116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5256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7162920" y="3048120"/>
            <a:ext cx="1523880" cy="1371600"/>
            <a:chOff x="7162920" y="3048120"/>
            <a:chExt cx="1523880" cy="1371600"/>
          </a:xfrm>
        </p:grpSpPr>
        <p:sp>
          <p:nvSpPr>
            <p:cNvPr id="753" name=""/>
            <p:cNvSpPr/>
            <p:nvPr/>
          </p:nvSpPr>
          <p:spPr>
            <a:xfrm>
              <a:off x="7162920" y="3048120"/>
              <a:ext cx="152388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7581960" y="3543480"/>
              <a:ext cx="685800" cy="380880"/>
              <a:chOff x="7581960" y="3543480"/>
              <a:chExt cx="685800" cy="380880"/>
            </a:xfrm>
          </p:grpSpPr>
          <p:sp>
            <p:nvSpPr>
              <p:cNvPr id="755" name=""/>
              <p:cNvSpPr/>
              <p:nvPr/>
            </p:nvSpPr>
            <p:spPr>
              <a:xfrm>
                <a:off x="758196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154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6284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81056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8196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"/>
          <p:cNvGrpSpPr/>
          <p:nvPr/>
        </p:nvGrpSpPr>
        <p:grpSpPr>
          <a:xfrm>
            <a:off x="2971800" y="2781360"/>
            <a:ext cx="3200400" cy="1904760"/>
            <a:chOff x="2971800" y="2781360"/>
            <a:chExt cx="3200400" cy="1904760"/>
          </a:xfrm>
        </p:grpSpPr>
        <p:grpSp>
          <p:nvGrpSpPr>
            <p:cNvPr id="761" name=""/>
            <p:cNvGrpSpPr/>
            <p:nvPr/>
          </p:nvGrpSpPr>
          <p:grpSpPr>
            <a:xfrm>
              <a:off x="5486400" y="4305240"/>
              <a:ext cx="685800" cy="380880"/>
              <a:chOff x="5486400" y="4305240"/>
              <a:chExt cx="685800" cy="38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5486400" y="430524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01992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728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1500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86400" y="43052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5486400" y="3543480"/>
              <a:ext cx="685800" cy="380880"/>
              <a:chOff x="5486400" y="3543480"/>
              <a:chExt cx="685800" cy="38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548640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01992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672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71500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48640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2971800" y="4305240"/>
              <a:ext cx="685800" cy="380880"/>
              <a:chOff x="2971800" y="4305240"/>
              <a:chExt cx="685800" cy="38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2971800" y="430524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0532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00400" y="4305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71800" y="43052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2971800" y="3543480"/>
              <a:ext cx="685800" cy="380880"/>
              <a:chOff x="2971800" y="3543480"/>
              <a:chExt cx="685800" cy="380880"/>
            </a:xfrm>
          </p:grpSpPr>
          <p:sp>
            <p:nvSpPr>
              <p:cNvPr id="780" name=""/>
              <p:cNvSpPr/>
              <p:nvPr/>
            </p:nvSpPr>
            <p:spPr>
              <a:xfrm>
                <a:off x="2971800" y="354348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50532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200400" y="3543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71800" y="3543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486400" y="2781360"/>
              <a:ext cx="685800" cy="380880"/>
              <a:chOff x="5486400" y="2781360"/>
              <a:chExt cx="685800" cy="380880"/>
            </a:xfrm>
          </p:grpSpPr>
          <p:sp>
            <p:nvSpPr>
              <p:cNvPr id="786" name=""/>
              <p:cNvSpPr/>
              <p:nvPr/>
            </p:nvSpPr>
            <p:spPr>
              <a:xfrm>
                <a:off x="5486400" y="278136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1992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728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1500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86400" y="27813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971800" y="2781360"/>
              <a:ext cx="685800" cy="380880"/>
              <a:chOff x="2971800" y="2781360"/>
              <a:chExt cx="685800" cy="380880"/>
            </a:xfrm>
          </p:grpSpPr>
          <p:sp>
            <p:nvSpPr>
              <p:cNvPr id="792" name=""/>
              <p:cNvSpPr/>
              <p:nvPr/>
            </p:nvSpPr>
            <p:spPr>
              <a:xfrm>
                <a:off x="2971800" y="278136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0532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5268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200400" y="27813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71800" y="27813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3809880" y="29718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09880" y="44960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09880" y="3733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828800" y="3733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514600" y="2971440"/>
            <a:ext cx="1522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514600" y="3733920"/>
            <a:ext cx="457200" cy="761760"/>
            <a:chOff x="2514600" y="3733920"/>
            <a:chExt cx="457200" cy="761760"/>
          </a:xfrm>
        </p:grpSpPr>
        <p:sp>
          <p:nvSpPr>
            <p:cNvPr id="803" name=""/>
            <p:cNvSpPr/>
            <p:nvPr/>
          </p:nvSpPr>
          <p:spPr>
            <a:xfrm>
              <a:off x="2514600" y="3733920"/>
              <a:ext cx="15228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14600" y="37339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66880" y="4495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666880" y="2971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53080" y="3733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48520" y="29718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3733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248520" y="37339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27880" y="182700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57280" y="457020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57280" y="190476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0480" y="4571640"/>
            <a:ext cx="2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90480" y="40377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17320" y="51807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40320" y="40377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343400" y="3977280"/>
            <a:ext cx="457200" cy="442080"/>
            <a:chOff x="4343400" y="3977280"/>
            <a:chExt cx="457200" cy="442080"/>
          </a:xfrm>
        </p:grpSpPr>
        <p:sp>
          <p:nvSpPr>
            <p:cNvPr id="819" name=""/>
            <p:cNvSpPr/>
            <p:nvPr/>
          </p:nvSpPr>
          <p:spPr>
            <a:xfrm>
              <a:off x="4343400" y="3990960"/>
              <a:ext cx="45720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97760" y="397728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343400" y="2480400"/>
            <a:ext cx="457200" cy="414720"/>
            <a:chOff x="4343400" y="2480400"/>
            <a:chExt cx="457200" cy="414720"/>
          </a:xfrm>
        </p:grpSpPr>
        <p:sp>
          <p:nvSpPr>
            <p:cNvPr id="822" name=""/>
            <p:cNvSpPr/>
            <p:nvPr/>
          </p:nvSpPr>
          <p:spPr>
            <a:xfrm>
              <a:off x="4343400" y="25138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97760" y="248040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400800" y="3505320"/>
            <a:ext cx="457200" cy="533160"/>
            <a:chOff x="6400800" y="3505320"/>
            <a:chExt cx="457200" cy="533160"/>
          </a:xfrm>
        </p:grpSpPr>
        <p:sp>
          <p:nvSpPr>
            <p:cNvPr id="825" name=""/>
            <p:cNvSpPr/>
            <p:nvPr/>
          </p:nvSpPr>
          <p:spPr>
            <a:xfrm>
              <a:off x="6400800" y="3505320"/>
              <a:ext cx="457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55160" y="353592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286000" y="3505320"/>
            <a:ext cx="457200" cy="533160"/>
            <a:chOff x="2286000" y="3505320"/>
            <a:chExt cx="457200" cy="533160"/>
          </a:xfrm>
        </p:grpSpPr>
        <p:sp>
          <p:nvSpPr>
            <p:cNvPr id="828" name=""/>
            <p:cNvSpPr/>
            <p:nvPr/>
          </p:nvSpPr>
          <p:spPr>
            <a:xfrm>
              <a:off x="2286000" y="3505320"/>
              <a:ext cx="457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40360" y="353592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343400" y="3215160"/>
            <a:ext cx="457200" cy="442080"/>
            <a:chOff x="4343400" y="3215160"/>
            <a:chExt cx="457200" cy="442080"/>
          </a:xfrm>
        </p:grpSpPr>
        <p:sp>
          <p:nvSpPr>
            <p:cNvPr id="831" name=""/>
            <p:cNvSpPr/>
            <p:nvPr/>
          </p:nvSpPr>
          <p:spPr>
            <a:xfrm>
              <a:off x="4343400" y="3228840"/>
              <a:ext cx="45720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97760" y="3215160"/>
              <a:ext cx="349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CFA-4215-483C-B743-EC3010BBF3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457200" y="1536840"/>
          <a:ext cx="807732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6840"/>
                    <a:ext cx="807732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249-05B0-40E9-9DA5-393D8D24B3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39625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2133720"/>
            <a:ext cx="3048120" cy="144756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Router Architectur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81080" y="4800600"/>
            <a:ext cx="1295280" cy="1066320"/>
            <a:chOff x="1981080" y="4800600"/>
            <a:chExt cx="1295280" cy="1066320"/>
          </a:xfrm>
        </p:grpSpPr>
        <p:sp>
          <p:nvSpPr>
            <p:cNvPr id="97" name=""/>
            <p:cNvSpPr/>
            <p:nvPr/>
          </p:nvSpPr>
          <p:spPr>
            <a:xfrm>
              <a:off x="1981080" y="48006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440" y="48006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800600"/>
              <a:ext cx="1218960" cy="2282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54100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523880" y="3276720"/>
            <a:ext cx="2209680" cy="2590200"/>
            <a:chOff x="1523880" y="3276720"/>
            <a:chExt cx="2209680" cy="2590200"/>
          </a:xfrm>
        </p:grpSpPr>
        <p:sp>
          <p:nvSpPr>
            <p:cNvPr id="102" name=""/>
            <p:cNvSpPr/>
            <p:nvPr/>
          </p:nvSpPr>
          <p:spPr>
            <a:xfrm>
              <a:off x="1523880" y="3276720"/>
              <a:ext cx="152280" cy="2506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3276720"/>
              <a:ext cx="152280" cy="250668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276720"/>
              <a:ext cx="2133360" cy="16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8640" y="5616360"/>
              <a:ext cx="304920" cy="25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C8F-95CB-4DAA-A107-398373343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erformance (cont)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990720" y="160020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 rot="16200000">
            <a:off x="830880" y="3026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51C-2853-43FD-A02D-92F33606B0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cheduling Mechanism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rtional share forms the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reserves a cycl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isolation between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capacity fair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receives its share only when its source queue is not empty and sink queue is not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inimize context switch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DA9-2B9B-471C-8805-6EA743A41B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hare Assign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oS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link rate is given, derive cycl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rvative rate to inpu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atching level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nfluenced by admin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hares to balance system (avoid live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atching level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60E-72CD-487B-8C2F-84D48F147E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2895480"/>
            <a:ext cx="167652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90920" y="32004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909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90920" y="4419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62720" y="32004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4400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16480" y="299088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53400" y="3600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Q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55560" y="4191120"/>
            <a:ext cx="10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Q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03360" y="360036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886200" y="3200040"/>
            <a:ext cx="1676520" cy="609480"/>
          </a:xfrm>
          <a:prstGeom prst="line">
            <a:avLst/>
          </a:prstGeom>
          <a:ln cap="rnd" w="19080">
            <a:solidFill>
              <a:srgbClr val="00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3200400"/>
            <a:ext cx="1676520" cy="60948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886200" y="3809880"/>
            <a:ext cx="1676520" cy="609840"/>
          </a:xfrm>
          <a:prstGeom prst="line">
            <a:avLst/>
          </a:prstGeom>
          <a:ln cap="rnd" w="19080">
            <a:solidFill>
              <a:srgbClr val="00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61600" y="29908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57C-1EAC-448B-9FBF-74273C819B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Mixing Best Effort and Qo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981080" y="2286000"/>
          <a:ext cx="609624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0"/>
                    <a:ext cx="609624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offered load from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E37-DE27-43BE-A7EC-A210747C47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PU vs Link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905120" y="2500200"/>
          <a:ext cx="632448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00200"/>
                    <a:ext cx="632448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 50Kpps, increase its processing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709-7F24-4060-9520-3D3213DA17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Turn Batching Off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981080" y="1752480"/>
          <a:ext cx="609624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09624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efficiency: 66.2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6E8-9D8C-4814-9336-30C39A7C26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Enforce Time Sli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1905120" y="1676520"/>
          <a:ext cx="6019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019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 efficiency: 81.6% (30us quantu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020-D962-40EC-BADB-6386896BD7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Batching Throttl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r Granularity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processes as many packets as possible w/in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 Index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verhead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overhead under T%, then 1 / (1+T) &lt;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consider Fl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tive until it has accumulated at least 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, where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/ (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lt;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Threshold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flow that has waited 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5EF-4228-4F28-B9BD-E122DBFEC2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ynamic Control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specifies delay requiremen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xt switch overhead off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average flow 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ased on work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e batch-level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B44-B768-4143-B202-1C39FC591A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828800"/>
            <a:ext cx="3657600" cy="44956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oftware-Based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953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abilit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(~300 Kp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114800"/>
            <a:ext cx="304776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438280"/>
            <a:ext cx="304776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05120" y="4952880"/>
            <a:ext cx="1295280" cy="1067040"/>
            <a:chOff x="1905120" y="4952880"/>
            <a:chExt cx="1295280" cy="1067040"/>
          </a:xfrm>
        </p:grpSpPr>
        <p:sp>
          <p:nvSpPr>
            <p:cNvPr id="112" name=""/>
            <p:cNvSpPr/>
            <p:nvPr/>
          </p:nvSpPr>
          <p:spPr>
            <a:xfrm>
              <a:off x="1905120" y="4952880"/>
              <a:ext cx="228600" cy="99072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4952880"/>
              <a:ext cx="228600" cy="99072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5120" y="4952880"/>
              <a:ext cx="121896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5562720"/>
              <a:ext cx="380880" cy="457200"/>
            </a:xfrm>
            <a:prstGeom prst="downArrow">
              <a:avLst>
                <a:gd name="adj1" fmla="val 50000"/>
                <a:gd name="adj2" fmla="val 30009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447920" y="3429000"/>
            <a:ext cx="2209680" cy="2590560"/>
            <a:chOff x="1447920" y="3429000"/>
            <a:chExt cx="2209680" cy="2590560"/>
          </a:xfrm>
        </p:grpSpPr>
        <p:sp>
          <p:nvSpPr>
            <p:cNvPr id="117" name=""/>
            <p:cNvSpPr/>
            <p:nvPr/>
          </p:nvSpPr>
          <p:spPr>
            <a:xfrm>
              <a:off x="1447920" y="3429000"/>
              <a:ext cx="152280" cy="250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9000" y="3429000"/>
              <a:ext cx="152280" cy="25070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29000"/>
              <a:ext cx="2133360" cy="16740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5769000"/>
              <a:ext cx="304920" cy="25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2480" y="186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2EC-E824-4E0D-A99D-9DDACBACC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Packet Trac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68120" y="1295280"/>
          <a:ext cx="87696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295280"/>
                    <a:ext cx="87696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10E-0543-4392-B807-380B84332D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1676520"/>
            <a:ext cx="3505320" cy="20574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962520"/>
            <a:ext cx="3505320" cy="26668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ardware-Based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formance (25+ Mp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1911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1337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GP, RSV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81080" y="5029200"/>
            <a:ext cx="1295280" cy="1066320"/>
            <a:chOff x="1981080" y="5029200"/>
            <a:chExt cx="1295280" cy="1066320"/>
          </a:xfrm>
        </p:grpSpPr>
        <p:sp>
          <p:nvSpPr>
            <p:cNvPr id="129" name=""/>
            <p:cNvSpPr/>
            <p:nvPr/>
          </p:nvSpPr>
          <p:spPr>
            <a:xfrm>
              <a:off x="1981080" y="50292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440" y="5029200"/>
              <a:ext cx="228600" cy="9903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5029200"/>
              <a:ext cx="1218960" cy="2282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5480" y="56386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3880" y="3200400"/>
            <a:ext cx="2209680" cy="2895120"/>
            <a:chOff x="1523880" y="3200400"/>
            <a:chExt cx="2209680" cy="2895120"/>
          </a:xfrm>
        </p:grpSpPr>
        <p:sp>
          <p:nvSpPr>
            <p:cNvPr id="134" name=""/>
            <p:cNvSpPr/>
            <p:nvPr/>
          </p:nvSpPr>
          <p:spPr>
            <a:xfrm>
              <a:off x="1523880" y="3200400"/>
              <a:ext cx="152280" cy="280152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4960" y="3200400"/>
              <a:ext cx="152280" cy="280152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200400"/>
              <a:ext cx="2133360" cy="186840"/>
            </a:xfrm>
            <a:prstGeom prst="rect">
              <a:avLst/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8640" y="5815440"/>
              <a:ext cx="30492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1800" y="609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40E-BC2B-4935-A774-84332E7FD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NP-Based Router Architecture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st  ($15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76520"/>
            <a:ext cx="3505320" cy="20574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3505320" cy="26668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911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fl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133720"/>
            <a:ext cx="304812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fl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81080" y="5029200"/>
            <a:ext cx="1295280" cy="1066320"/>
            <a:chOff x="1981080" y="5029200"/>
            <a:chExt cx="1295280" cy="1066320"/>
          </a:xfrm>
        </p:grpSpPr>
        <p:sp>
          <p:nvSpPr>
            <p:cNvPr id="147" name=""/>
            <p:cNvSpPr/>
            <p:nvPr/>
          </p:nvSpPr>
          <p:spPr>
            <a:xfrm>
              <a:off x="1981080" y="5029200"/>
              <a:ext cx="228600" cy="99036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440" y="5029200"/>
              <a:ext cx="228600" cy="99036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5029200"/>
              <a:ext cx="1218960" cy="22824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563868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3880" y="3200400"/>
            <a:ext cx="2209680" cy="2895120"/>
            <a:chOff x="1523880" y="3200400"/>
            <a:chExt cx="2209680" cy="2895120"/>
          </a:xfrm>
        </p:grpSpPr>
        <p:sp>
          <p:nvSpPr>
            <p:cNvPr id="152" name=""/>
            <p:cNvSpPr/>
            <p:nvPr/>
          </p:nvSpPr>
          <p:spPr>
            <a:xfrm>
              <a:off x="1523880" y="3200400"/>
              <a:ext cx="152280" cy="2801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4960" y="3200400"/>
              <a:ext cx="152280" cy="2801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3200400"/>
              <a:ext cx="2133360" cy="18684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8640" y="5815440"/>
              <a:ext cx="30492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84080" y="609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P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C4F-34B3-4FA8-BD17-FD65BFB57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 General...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988320" y="2575080"/>
            <a:ext cx="195120" cy="363240"/>
          </a:xfrm>
          <a:prstGeom prst="rect">
            <a:avLst/>
          </a:prstGeom>
          <a:solidFill>
            <a:srgbClr val="9966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597720" y="2782800"/>
            <a:ext cx="1659240" cy="827640"/>
            <a:chOff x="6597720" y="2782800"/>
            <a:chExt cx="1659240" cy="827640"/>
          </a:xfrm>
        </p:grpSpPr>
        <p:sp>
          <p:nvSpPr>
            <p:cNvPr id="161" name=""/>
            <p:cNvSpPr/>
            <p:nvPr/>
          </p:nvSpPr>
          <p:spPr>
            <a:xfrm>
              <a:off x="6597720" y="2938320"/>
              <a:ext cx="976320" cy="517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X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964640" y="2782800"/>
              <a:ext cx="292320" cy="827640"/>
              <a:chOff x="7964640" y="2782800"/>
              <a:chExt cx="292320" cy="827640"/>
            </a:xfrm>
          </p:grpSpPr>
          <p:sp>
            <p:nvSpPr>
              <p:cNvPr id="163" name=""/>
              <p:cNvSpPr/>
              <p:nvPr/>
            </p:nvSpPr>
            <p:spPr>
              <a:xfrm>
                <a:off x="7964640" y="278280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64640" y="330012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V="1">
              <a:off x="7574040" y="293832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4040" y="330048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97720" y="2057400"/>
            <a:ext cx="976320" cy="517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8320" y="4545000"/>
            <a:ext cx="195120" cy="363600"/>
          </a:xfrm>
          <a:prstGeom prst="rect">
            <a:avLst/>
          </a:prstGeom>
          <a:solidFill>
            <a:srgbClr val="9966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597720" y="4753080"/>
            <a:ext cx="1659240" cy="827640"/>
            <a:chOff x="6597720" y="4753080"/>
            <a:chExt cx="1659240" cy="827640"/>
          </a:xfrm>
        </p:grpSpPr>
        <p:sp>
          <p:nvSpPr>
            <p:cNvPr id="170" name=""/>
            <p:cNvSpPr/>
            <p:nvPr/>
          </p:nvSpPr>
          <p:spPr>
            <a:xfrm>
              <a:off x="6597720" y="4908600"/>
              <a:ext cx="976320" cy="517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X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964640" y="4753080"/>
              <a:ext cx="292320" cy="827640"/>
              <a:chOff x="7964640" y="4753080"/>
              <a:chExt cx="292320" cy="82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7964640" y="475308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64640" y="5270400"/>
                <a:ext cx="292320" cy="31032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7574040" y="490860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74040" y="5270760"/>
              <a:ext cx="39060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597720" y="4027320"/>
            <a:ext cx="976320" cy="517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3171960"/>
            <a:ext cx="58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141880"/>
            <a:ext cx="58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02280" y="3483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48160" y="2990880"/>
            <a:ext cx="1855800" cy="2382840"/>
          </a:xfrm>
          <a:prstGeom prst="rect">
            <a:avLst/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8160" y="3171960"/>
            <a:ext cx="293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3184560"/>
            <a:ext cx="291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000" y="5154480"/>
            <a:ext cx="291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48160" y="5167440"/>
            <a:ext cx="293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41920" y="3171960"/>
            <a:ext cx="1270080" cy="19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1920" y="3171960"/>
            <a:ext cx="1270080" cy="198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90720" y="3716280"/>
            <a:ext cx="1659960" cy="828360"/>
            <a:chOff x="990720" y="3716280"/>
            <a:chExt cx="1659960" cy="828360"/>
          </a:xfrm>
        </p:grpSpPr>
        <p:sp>
          <p:nvSpPr>
            <p:cNvPr id="188" name=""/>
            <p:cNvSpPr/>
            <p:nvPr/>
          </p:nvSpPr>
          <p:spPr>
            <a:xfrm>
              <a:off x="990720" y="3871800"/>
              <a:ext cx="976320" cy="5176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nti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357280" y="3716280"/>
              <a:ext cx="293400" cy="828360"/>
              <a:chOff x="2357280" y="3716280"/>
              <a:chExt cx="293400" cy="828360"/>
            </a:xfrm>
          </p:grpSpPr>
          <p:sp>
            <p:nvSpPr>
              <p:cNvPr id="190" name=""/>
              <p:cNvSpPr/>
              <p:nvPr/>
            </p:nvSpPr>
            <p:spPr>
              <a:xfrm>
                <a:off x="2357280" y="3716280"/>
                <a:ext cx="293400" cy="31068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7280" y="4233960"/>
                <a:ext cx="293400" cy="31068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V="1">
              <a:off x="1967040" y="3871800"/>
              <a:ext cx="390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7040" y="4233960"/>
              <a:ext cx="390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76720" y="4027320"/>
            <a:ext cx="609480" cy="362160"/>
          </a:xfrm>
          <a:custGeom>
            <a:avLst/>
            <a:gdLst>
              <a:gd name="textAreaLeft" fmla="*/ 95040 w 609480"/>
              <a:gd name="textAreaRight" fmla="*/ 533520 w 60948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0D6-4A0C-4C3A-83AB-4FA115917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7720" y="2133720"/>
            <a:ext cx="4800600" cy="12952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267080"/>
            <a:ext cx="4800600" cy="1295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25680" y="3429000"/>
            <a:ext cx="144792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Architectural Overview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278720" y="22096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 Network Servic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69320" y="342900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7560" y="502920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 Hardware Configuration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47360" y="2438280"/>
            <a:ext cx="1676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792800">
            <a:off x="138240" y="36572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923600">
            <a:off x="138240" y="27428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4024080" y="36572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617600">
            <a:off x="4024440" y="2742840"/>
            <a:ext cx="2133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400800" y="2133720"/>
            <a:ext cx="2209320" cy="3461040"/>
            <a:chOff x="6400800" y="2133720"/>
            <a:chExt cx="2209320" cy="3461040"/>
          </a:xfrm>
        </p:grpSpPr>
        <p:sp>
          <p:nvSpPr>
            <p:cNvPr id="208" name=""/>
            <p:cNvSpPr/>
            <p:nvPr/>
          </p:nvSpPr>
          <p:spPr>
            <a:xfrm>
              <a:off x="6400800" y="2133720"/>
              <a:ext cx="2209320" cy="34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 Fl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warding Pa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itching Pa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00800" y="26668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00800" y="4251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98D-2118-43C6-AE58-070811DBA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Virtual Router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10080" y="5181480"/>
            <a:ext cx="1981080" cy="228600"/>
            <a:chOff x="5410080" y="5181480"/>
            <a:chExt cx="1981080" cy="228600"/>
          </a:xfrm>
        </p:grpSpPr>
        <p:grpSp>
          <p:nvGrpSpPr>
            <p:cNvPr id="214" name=""/>
            <p:cNvGrpSpPr/>
            <p:nvPr/>
          </p:nvGrpSpPr>
          <p:grpSpPr>
            <a:xfrm>
              <a:off x="6858000" y="5181480"/>
              <a:ext cx="533160" cy="228600"/>
              <a:chOff x="6858000" y="5181480"/>
              <a:chExt cx="533160" cy="228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858000" y="518148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1520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102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8660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388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625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858000" y="51814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410080" y="5181480"/>
              <a:ext cx="533160" cy="228600"/>
              <a:chOff x="5410080" y="5181480"/>
              <a:chExt cx="533160" cy="228600"/>
            </a:xfrm>
          </p:grpSpPr>
          <p:sp>
            <p:nvSpPr>
              <p:cNvPr id="223" name=""/>
              <p:cNvSpPr/>
              <p:nvPr/>
            </p:nvSpPr>
            <p:spPr>
              <a:xfrm>
                <a:off x="5410080" y="518148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72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623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3868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9096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464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518148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943600" y="5295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4120" y="1866960"/>
            <a:ext cx="1980720" cy="990720"/>
            <a:chOff x="5334120" y="1866960"/>
            <a:chExt cx="1980720" cy="990720"/>
          </a:xfrm>
        </p:grpSpPr>
        <p:grpSp>
          <p:nvGrpSpPr>
            <p:cNvPr id="232" name=""/>
            <p:cNvGrpSpPr/>
            <p:nvPr/>
          </p:nvGrpSpPr>
          <p:grpSpPr>
            <a:xfrm>
              <a:off x="5334120" y="2248200"/>
              <a:ext cx="533160" cy="228600"/>
              <a:chOff x="5334120" y="2248200"/>
              <a:chExt cx="533160" cy="228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4120" y="22482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9132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6272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1500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386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34120" y="22482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781680" y="2248200"/>
              <a:ext cx="533160" cy="228600"/>
              <a:chOff x="6781680" y="2248200"/>
              <a:chExt cx="533160" cy="228600"/>
            </a:xfrm>
          </p:grpSpPr>
          <p:sp>
            <p:nvSpPr>
              <p:cNvPr id="241" name=""/>
              <p:cNvSpPr/>
              <p:nvPr/>
            </p:nvSpPr>
            <p:spPr>
              <a:xfrm>
                <a:off x="6781680" y="22482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388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396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1028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6256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86240" y="22482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81680" y="22482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867280" y="2362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324480" y="1866960"/>
              <a:ext cx="990360" cy="228600"/>
              <a:chOff x="6324480" y="1866960"/>
              <a:chExt cx="990360" cy="2286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781680" y="1866960"/>
                <a:ext cx="533160" cy="228600"/>
                <a:chOff x="6781680" y="1866960"/>
                <a:chExt cx="53316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781680" y="1866960"/>
                  <a:ext cx="53316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2388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3396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0102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6256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08624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781680" y="186696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324480" y="198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324480" y="2629080"/>
              <a:ext cx="990360" cy="228600"/>
              <a:chOff x="6324480" y="2629080"/>
              <a:chExt cx="990360" cy="2286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781680" y="2629080"/>
                <a:ext cx="533160" cy="228600"/>
                <a:chOff x="6781680" y="2629080"/>
                <a:chExt cx="533160" cy="228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81680" y="2629080"/>
                  <a:ext cx="53316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2388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93396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0102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6256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08624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781680" y="2629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324480" y="27435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H="1" flipV="1">
              <a:off x="6019920" y="2361960"/>
              <a:ext cx="30456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019920" y="1981440"/>
              <a:ext cx="3045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4120" y="3390840"/>
            <a:ext cx="2057040" cy="990360"/>
            <a:chOff x="5334120" y="3390840"/>
            <a:chExt cx="2057040" cy="990360"/>
          </a:xfrm>
        </p:grpSpPr>
        <p:grpSp>
          <p:nvGrpSpPr>
            <p:cNvPr id="272" name=""/>
            <p:cNvGrpSpPr/>
            <p:nvPr/>
          </p:nvGrpSpPr>
          <p:grpSpPr>
            <a:xfrm>
              <a:off x="6858000" y="3771720"/>
              <a:ext cx="533160" cy="228600"/>
              <a:chOff x="6858000" y="3771720"/>
              <a:chExt cx="533160" cy="228600"/>
            </a:xfrm>
          </p:grpSpPr>
          <p:sp>
            <p:nvSpPr>
              <p:cNvPr id="273" name=""/>
              <p:cNvSpPr/>
              <p:nvPr/>
            </p:nvSpPr>
            <p:spPr>
              <a:xfrm>
                <a:off x="6858000" y="377172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152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102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6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388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6256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58000" y="377172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334120" y="4152600"/>
              <a:ext cx="533160" cy="228600"/>
              <a:chOff x="5334120" y="4152600"/>
              <a:chExt cx="5331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5334120" y="415260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9132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640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6272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1500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638680" y="4152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34120" y="415260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334120" y="3771720"/>
              <a:ext cx="533160" cy="228600"/>
              <a:chOff x="5334120" y="3771720"/>
              <a:chExt cx="533160" cy="228600"/>
            </a:xfrm>
          </p:grpSpPr>
          <p:sp>
            <p:nvSpPr>
              <p:cNvPr id="289" name=""/>
              <p:cNvSpPr/>
              <p:nvPr/>
            </p:nvSpPr>
            <p:spPr>
              <a:xfrm>
                <a:off x="5334120" y="377172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864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6272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1500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38680" y="3771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34120" y="377172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334120" y="3390840"/>
              <a:ext cx="533160" cy="228600"/>
              <a:chOff x="5334120" y="3390840"/>
              <a:chExt cx="533160" cy="228600"/>
            </a:xfrm>
          </p:grpSpPr>
          <p:sp>
            <p:nvSpPr>
              <p:cNvPr id="297" name=""/>
              <p:cNvSpPr/>
              <p:nvPr/>
            </p:nvSpPr>
            <p:spPr>
              <a:xfrm>
                <a:off x="5334120" y="3390840"/>
                <a:ext cx="5331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9132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6272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1500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38680" y="33908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34120" y="3390840"/>
                <a:ext cx="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86728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72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7280" y="35049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019920" y="3886200"/>
              <a:ext cx="3045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9920" y="3504960"/>
              <a:ext cx="30456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A2A-B597-4444-B377-1541D69B4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arry Peterson</dc:creator>
  <dc:description/>
  <dc:language>en-US</dc:language>
  <cp:lastModifiedBy>Elsevier</cp:lastModifiedBy>
  <cp:lastPrinted>1998-11-18T21:29:10Z</cp:lastPrinted>
  <dcterms:modified xsi:type="dcterms:W3CDTF">2003-11-07T01:18:16Z</dcterms:modified>
  <cp:revision>200</cp:revision>
  <dc:subject/>
  <dc:title>Scout: A Communication-Oriented Operating System</dc:title>
</cp:coreProperties>
</file>