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FB78-CF32-4771-A70D-330304CF9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729B-1741-4064-9331-7600A0677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8AF4-AB60-420C-9A0B-C5B80CB86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AD65-49DC-4A36-BB6B-404B743EE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B7E7-41AD-4995-A388-D41199C1D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5C80-CA98-41C8-BBD7-0C91C3285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3BCC-4536-4BD9-9172-124A1B2BE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0C85-B5E7-4EB8-A0F4-1B166ECE3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531B-01A4-436F-91C0-60D176796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7C1E-F772-42F5-AC66-E30305F3F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8DE4-D88B-477C-B0D0-DF0290553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2604-3A72-4A03-9F2D-156567DC0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ring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A13C5-E993-410D-8225-881C3EC89C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95280" y="3352320"/>
            <a:ext cx="5181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o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ing Window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1676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oint-to-Point Li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64C5-D041-48A3-9F94-80BDF67B8772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pproaches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ck-ba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frame is 125us l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 SONET: Synchronous Optical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S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TS-1 = 51.84 Mbp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02x13" descr=""/>
          <p:cNvPicPr/>
          <p:nvPr/>
        </p:nvPicPr>
        <p:blipFill>
          <a:blip r:embed="rId1"/>
          <a:stretch/>
        </p:blipFill>
        <p:spPr>
          <a:xfrm>
            <a:off x="444600" y="3886200"/>
            <a:ext cx="3609720" cy="1630440"/>
          </a:xfrm>
          <a:prstGeom prst="rect">
            <a:avLst/>
          </a:prstGeom>
          <a:ln w="0">
            <a:noFill/>
          </a:ln>
        </p:spPr>
      </p:pic>
      <p:pic>
        <p:nvPicPr>
          <p:cNvPr id="66" name="02x14" descr=""/>
          <p:cNvPicPr/>
          <p:nvPr/>
        </p:nvPicPr>
        <p:blipFill>
          <a:blip r:embed="rId2"/>
          <a:stretch/>
        </p:blipFill>
        <p:spPr>
          <a:xfrm>
            <a:off x="4572000" y="3886200"/>
            <a:ext cx="3470400" cy="156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1858-78FE-4387-971F-FC446C483FC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yclic Redundancy Check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ts of redundant data to 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bit mes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32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2,000 (1500 by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resen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bit message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1 degree polynom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 MSG=10011010 a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the degree of some divisor polynom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81C7-A84E-4001-99FE-5EA335B21D2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RC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mit polynomi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hat is evenly divisible b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ift lef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, i.e.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tract remainder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er polynomi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0 implies no err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ide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 b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 remainder zero i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was zero (no error),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exactly divisible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50A5-52D6-4523-9258-FB6CBDE8078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electing </a:t>
            </a:r>
            <a:r>
              <a:rPr b="0" i="1" lang="en-US" sz="4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4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single-bit errors, as long a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erms have non-zero coeffici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double-bit errors, as long a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contains a factor with at least three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odd number of errors, as long a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contains the factor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‘burst’ error (i.e., sequence of consecutive error bits) for which the length of the burst is less th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burst errors of larger th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 can also be det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Table 2.6 on page 102 for comm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129C-5530-4376-BA51-3659F531F2A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Internet Checksum Algorithm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ew message as a sequence of 16-bit integers; sum using 16-bit ones-complement arithmetic; take ones-complement of the res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057400" y="2870280"/>
            <a:ext cx="5867280" cy="33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_sh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ksum(u_short *buf, int coun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gister u_long sum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 (count--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m += *buf++;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sum &amp; 0xFFFF0000)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carry occurred, so wrap around */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m &amp;= 0xFFFF;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m++;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~(sum &amp; 0xFFFF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7F0D-1467-44AA-A765-649E13C4231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cknowledgements &amp; Timeout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77" name="02x19" descr=""/>
          <p:cNvPicPr/>
          <p:nvPr/>
        </p:nvPicPr>
        <p:blipFill>
          <a:blip r:embed="rId1"/>
          <a:stretch/>
        </p:blipFill>
        <p:spPr>
          <a:xfrm>
            <a:off x="2684520" y="1273320"/>
            <a:ext cx="4016160" cy="458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67C5-1258-450A-84D6-4B6331DB13D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top-and-Wai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41907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: keeping the pipe fu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5Mbps link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5ms RTT = 67.5Kb (8K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KB frames implies 1/8th link util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429000" y="1905120"/>
            <a:ext cx="0" cy="21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952880" y="1905120"/>
            <a:ext cx="0" cy="21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429000" y="2057400"/>
            <a:ext cx="1523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428640" y="2438280"/>
            <a:ext cx="15238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29000" y="2819520"/>
            <a:ext cx="1523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428640" y="3200400"/>
            <a:ext cx="1523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50280" y="152388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98920" y="1523880"/>
            <a:ext cx="9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cei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695A-F019-4E52-8A77-9778F84CFB7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liding Window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 multiple outstanding (un-ACKed) fr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per bound on un-ACKed frames, call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02x21" descr=""/>
          <p:cNvPicPr/>
          <p:nvPr/>
        </p:nvPicPr>
        <p:blipFill>
          <a:blip r:embed="rId1"/>
          <a:stretch/>
        </p:blipFill>
        <p:spPr>
          <a:xfrm>
            <a:off x="2643120" y="2851200"/>
            <a:ext cx="4140360" cy="3159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53C0-E091-4759-A0CF-0985758AAF4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W: Sender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0560" y="1442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ign sequence number to each frame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qN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 three state variab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 window size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st acknowledgment received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st frame sent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F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 invariant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F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vanc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en ACK arriv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ffer up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67000" y="429588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46840" y="429588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837080" y="3411360"/>
            <a:ext cx="6102720" cy="1249560"/>
            <a:chOff x="1837080" y="3411360"/>
            <a:chExt cx="6102720" cy="1249560"/>
          </a:xfrm>
        </p:grpSpPr>
        <p:sp>
          <p:nvSpPr>
            <p:cNvPr id="96" name=""/>
            <p:cNvSpPr/>
            <p:nvPr/>
          </p:nvSpPr>
          <p:spPr>
            <a:xfrm>
              <a:off x="2270520" y="3845520"/>
              <a:ext cx="5207760" cy="293760"/>
            </a:xfrm>
            <a:custGeom>
              <a:avLst/>
              <a:gdLst/>
              <a:ahLst/>
              <a:rect l="l" t="t" r="r" b="b"/>
              <a:pathLst>
                <a:path w="3370" h="220">
                  <a:moveTo>
                    <a:pt x="46" y="0"/>
                  </a:moveTo>
                  <a:lnTo>
                    <a:pt x="3355" y="0"/>
                  </a:lnTo>
                  <a:lnTo>
                    <a:pt x="3298" y="53"/>
                  </a:lnTo>
                  <a:lnTo>
                    <a:pt x="3343" y="84"/>
                  </a:lnTo>
                  <a:lnTo>
                    <a:pt x="3313" y="106"/>
                  </a:lnTo>
                  <a:lnTo>
                    <a:pt x="3370" y="144"/>
                  </a:lnTo>
                  <a:lnTo>
                    <a:pt x="3317" y="167"/>
                  </a:lnTo>
                  <a:lnTo>
                    <a:pt x="3362" y="220"/>
                  </a:lnTo>
                  <a:lnTo>
                    <a:pt x="46" y="220"/>
                  </a:lnTo>
                  <a:lnTo>
                    <a:pt x="53" y="182"/>
                  </a:lnTo>
                  <a:lnTo>
                    <a:pt x="0" y="159"/>
                  </a:lnTo>
                  <a:lnTo>
                    <a:pt x="53" y="129"/>
                  </a:lnTo>
                  <a:lnTo>
                    <a:pt x="8" y="99"/>
                  </a:lnTo>
                  <a:lnTo>
                    <a:pt x="61" y="68"/>
                  </a:lnTo>
                  <a:lnTo>
                    <a:pt x="27" y="53"/>
                  </a:lnTo>
                  <a:lnTo>
                    <a:pt x="57" y="27"/>
                  </a:lnTo>
                  <a:lnTo>
                    <a:pt x="46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70120" y="3699720"/>
              <a:ext cx="2767680" cy="105120"/>
            </a:xfrm>
            <a:custGeom>
              <a:avLst/>
              <a:gdLst/>
              <a:ahLst/>
              <a:rect l="l" t="t" r="r" b="b"/>
              <a:pathLst>
                <a:path w="1791" h="79">
                  <a:moveTo>
                    <a:pt x="0" y="75"/>
                  </a:moveTo>
                  <a:lnTo>
                    <a:pt x="0" y="0"/>
                  </a:lnTo>
                  <a:lnTo>
                    <a:pt x="1791" y="0"/>
                  </a:lnTo>
                  <a:lnTo>
                    <a:pt x="1791" y="7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780640" y="3850560"/>
              <a:ext cx="1080" cy="28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177720" y="3850560"/>
              <a:ext cx="1080" cy="28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570120" y="3850560"/>
              <a:ext cx="1080" cy="28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967200" y="3850560"/>
              <a:ext cx="1440" cy="28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359960" y="3845520"/>
              <a:ext cx="1440" cy="28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757040" y="3845520"/>
              <a:ext cx="1080" cy="28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149800" y="3845520"/>
              <a:ext cx="1080" cy="28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548320" y="3845520"/>
              <a:ext cx="1440" cy="28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945400" y="3845520"/>
              <a:ext cx="1080" cy="29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338160" y="3845520"/>
              <a:ext cx="1080" cy="28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735240" y="3845520"/>
              <a:ext cx="1080" cy="29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27640" y="3845520"/>
              <a:ext cx="1080" cy="28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651560" y="3411360"/>
              <a:ext cx="159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792680" y="3460680"/>
              <a:ext cx="438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Myriad Roman"/>
                </a:rPr>
                <a:t> </a:t>
              </a:r>
              <a:r>
                <a:rPr b="0" lang="en-GB" sz="1500" spc="-1" strike="noStrike">
                  <a:solidFill>
                    <a:srgbClr val="000000"/>
                  </a:solidFill>
                  <a:latin typeface="Myriad Roman"/>
                </a:rPr>
                <a:t>SW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209760" y="4432320"/>
              <a:ext cx="342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Myriad Roman"/>
                </a:rPr>
                <a:t>LA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008760" y="4432320"/>
              <a:ext cx="30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Myriad Roman"/>
                </a:rPr>
                <a:t>LF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3364560" y="4270320"/>
              <a:ext cx="144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30360" y="4179600"/>
              <a:ext cx="63360" cy="106920"/>
            </a:xfrm>
            <a:custGeom>
              <a:avLst/>
              <a:gdLst/>
              <a:ahLst/>
              <a:rect l="l" t="t" r="r" b="b"/>
              <a:pathLst>
                <a:path w="41" h="80">
                  <a:moveTo>
                    <a:pt x="41" y="80"/>
                  </a:moveTo>
                  <a:lnTo>
                    <a:pt x="22" y="0"/>
                  </a:lnTo>
                  <a:lnTo>
                    <a:pt x="0" y="80"/>
                  </a:lnTo>
                  <a:lnTo>
                    <a:pt x="41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6144480" y="4269960"/>
              <a:ext cx="144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109200" y="4185000"/>
              <a:ext cx="69480" cy="105120"/>
            </a:xfrm>
            <a:custGeom>
              <a:avLst/>
              <a:gdLst/>
              <a:ahLst/>
              <a:rect l="l" t="t" r="r" b="b"/>
              <a:pathLst>
                <a:path w="45" h="79">
                  <a:moveTo>
                    <a:pt x="45" y="79"/>
                  </a:moveTo>
                  <a:lnTo>
                    <a:pt x="23" y="0"/>
                  </a:lnTo>
                  <a:lnTo>
                    <a:pt x="0" y="79"/>
                  </a:lnTo>
                  <a:lnTo>
                    <a:pt x="45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837080" y="3770640"/>
              <a:ext cx="369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■ ■ 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570080" y="3770640"/>
              <a:ext cx="369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■ ■ 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79560" y="3500640"/>
              <a:ext cx="365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─</a:t>
              </a: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155E-A482-4C12-BCA7-F9D5D084264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W: Receiver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0176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 three state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eive window size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W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rgest frame acceptable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F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st frame received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F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 invariant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F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F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qN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riv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F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qNu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&lt;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F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acce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qNu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&lt;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F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qNu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F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discar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 cumulative ACK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17720" y="311796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952880" y="495288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477120" y="53341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4042800" y="3483000"/>
            <a:ext cx="4398120" cy="1342440"/>
            <a:chOff x="4042800" y="3483000"/>
            <a:chExt cx="4398120" cy="1342440"/>
          </a:xfrm>
        </p:grpSpPr>
        <p:sp>
          <p:nvSpPr>
            <p:cNvPr id="127" name=""/>
            <p:cNvSpPr/>
            <p:nvPr/>
          </p:nvSpPr>
          <p:spPr>
            <a:xfrm>
              <a:off x="4402080" y="3990960"/>
              <a:ext cx="3675960" cy="346320"/>
            </a:xfrm>
            <a:custGeom>
              <a:avLst/>
              <a:gdLst/>
              <a:ahLst/>
              <a:rect l="l" t="t" r="r" b="b"/>
              <a:pathLst>
                <a:path w="1885" h="121">
                  <a:moveTo>
                    <a:pt x="25" y="0"/>
                  </a:moveTo>
                  <a:lnTo>
                    <a:pt x="1877" y="0"/>
                  </a:lnTo>
                  <a:lnTo>
                    <a:pt x="1845" y="28"/>
                  </a:lnTo>
                  <a:lnTo>
                    <a:pt x="1870" y="44"/>
                  </a:lnTo>
                  <a:lnTo>
                    <a:pt x="1853" y="59"/>
                  </a:lnTo>
                  <a:lnTo>
                    <a:pt x="1885" y="78"/>
                  </a:lnTo>
                  <a:lnTo>
                    <a:pt x="1858" y="93"/>
                  </a:lnTo>
                  <a:lnTo>
                    <a:pt x="1883" y="121"/>
                  </a:lnTo>
                  <a:lnTo>
                    <a:pt x="25" y="121"/>
                  </a:lnTo>
                  <a:lnTo>
                    <a:pt x="27" y="102"/>
                  </a:lnTo>
                  <a:lnTo>
                    <a:pt x="0" y="87"/>
                  </a:lnTo>
                  <a:lnTo>
                    <a:pt x="27" y="70"/>
                  </a:lnTo>
                  <a:lnTo>
                    <a:pt x="2" y="53"/>
                  </a:lnTo>
                  <a:lnTo>
                    <a:pt x="34" y="36"/>
                  </a:lnTo>
                  <a:lnTo>
                    <a:pt x="13" y="28"/>
                  </a:lnTo>
                  <a:lnTo>
                    <a:pt x="30" y="13"/>
                  </a:lnTo>
                  <a:lnTo>
                    <a:pt x="25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316480" y="3807000"/>
              <a:ext cx="1955160" cy="135000"/>
            </a:xfrm>
            <a:custGeom>
              <a:avLst/>
              <a:gdLst/>
              <a:ahLst/>
              <a:rect l="l" t="t" r="r" b="b"/>
              <a:pathLst>
                <a:path w="1003" h="47">
                  <a:moveTo>
                    <a:pt x="0" y="43"/>
                  </a:moveTo>
                  <a:lnTo>
                    <a:pt x="0" y="0"/>
                  </a:lnTo>
                  <a:lnTo>
                    <a:pt x="1003" y="0"/>
                  </a:lnTo>
                  <a:lnTo>
                    <a:pt x="1003" y="47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757400" y="3990960"/>
              <a:ext cx="1440" cy="346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040000" y="3990960"/>
              <a:ext cx="1440" cy="346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321160" y="3990960"/>
              <a:ext cx="1080" cy="346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597280" y="3990960"/>
              <a:ext cx="1080" cy="346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878440" y="3984840"/>
              <a:ext cx="1080" cy="352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154560" y="3984840"/>
              <a:ext cx="2880" cy="352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435360" y="3984840"/>
              <a:ext cx="1440" cy="352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713280" y="3984840"/>
              <a:ext cx="1080" cy="352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995880" y="3990960"/>
              <a:ext cx="1080" cy="346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277040" y="3984840"/>
              <a:ext cx="1080" cy="352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553160" y="3990960"/>
              <a:ext cx="1080" cy="346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833960" y="3984840"/>
              <a:ext cx="1440" cy="352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378480" y="3589560"/>
              <a:ext cx="272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Myriad Roman"/>
                </a:rPr>
                <a:t> </a:t>
              </a:r>
              <a:r>
                <a:rPr b="0" lang="en-GB" sz="900" spc="-1" strike="noStrike">
                  <a:solidFill>
                    <a:srgbClr val="000000"/>
                  </a:solidFill>
                  <a:latin typeface="Myriad Roman"/>
                </a:rPr>
                <a:t>RW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60160" y="4687920"/>
              <a:ext cx="191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Myriad Roman"/>
                </a:rPr>
                <a:t>LF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034400" y="468792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Myriad Roman"/>
                </a:rPr>
                <a:t>LAF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5170320" y="4493880"/>
              <a:ext cx="1080" cy="150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146560" y="4384800"/>
              <a:ext cx="48600" cy="135000"/>
            </a:xfrm>
            <a:custGeom>
              <a:avLst/>
              <a:gdLst/>
              <a:ahLst/>
              <a:rect l="l" t="t" r="r" b="b"/>
              <a:pathLst>
                <a:path w="25" h="47">
                  <a:moveTo>
                    <a:pt x="25" y="47"/>
                  </a:moveTo>
                  <a:lnTo>
                    <a:pt x="12" y="0"/>
                  </a:lnTo>
                  <a:lnTo>
                    <a:pt x="0" y="47"/>
                  </a:lnTo>
                  <a:lnTo>
                    <a:pt x="2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7140240" y="4500360"/>
              <a:ext cx="1440" cy="150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115040" y="4391280"/>
              <a:ext cx="50400" cy="134640"/>
            </a:xfrm>
            <a:custGeom>
              <a:avLst/>
              <a:gdLst/>
              <a:ahLst/>
              <a:rect l="l" t="t" r="r" b="b"/>
              <a:pathLst>
                <a:path w="26" h="47">
                  <a:moveTo>
                    <a:pt x="26" y="47"/>
                  </a:moveTo>
                  <a:lnTo>
                    <a:pt x="13" y="0"/>
                  </a:lnTo>
                  <a:lnTo>
                    <a:pt x="0" y="47"/>
                  </a:lnTo>
                  <a:lnTo>
                    <a:pt x="26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042800" y="3990960"/>
              <a:ext cx="29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■ ■ 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47520" y="3990960"/>
              <a:ext cx="29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■ ■ 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217560" y="3483000"/>
              <a:ext cx="159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114240" y="3589560"/>
              <a:ext cx="365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─</a:t>
              </a: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E987-9A29-4268-A549-0F008765B12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Encoding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als propagate over a physical med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ulate electromagnetic w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 vary vol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de binary data onto sig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 0 as low signal and 1 as high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n as Non-Return to zero (NR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02x06" descr=""/>
          <p:cNvPicPr/>
          <p:nvPr/>
        </p:nvPicPr>
        <p:blipFill>
          <a:blip r:embed="rId1"/>
          <a:stretch/>
        </p:blipFill>
        <p:spPr>
          <a:xfrm>
            <a:off x="1279440" y="4808520"/>
            <a:ext cx="6282000" cy="111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FFC6-AF73-4176-A7D1-0ADFCEE762F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equence Number Spac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qN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eld is finite; sequence numbers wrap a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 number space must be larger then number of outstanding fr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W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xSeqNum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not suffic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ose 3-bi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qNu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ield (0..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S=RWS=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er transmit frames 0.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ive successfully, but ACKs l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er retransmits 0.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eiver expecting 7, 0..5, but receives second incarnation of 0.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W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MaxSeqNum+1)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correct 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uitively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qN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“slides” between two halves of sequence number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BF72-CE20-465A-AB07-A1092FF5B23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oncurrent Logical Channel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02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ex 8 logical channels over a single li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 stop-and-wait on each logical chann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three state bits per chann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nel bus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 sequence number 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sequence number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der: 3-bit channel num, 1-bit sequence n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-bits 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as sliding window protoco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parat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liabilit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C0C4-EEC8-4E00-9AEA-C210FABA47F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roblem: Consecutive 1s or 0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 signal (0) may be interpreted as no sig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 signal (1) leads to baseline wa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ble to recover cl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D596-3DED-4C45-93AE-1ED79FF60E2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lternative Encoding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-return to Zero Inverted (NRZ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a transition from current signal to encode a one; stay at current signal to encode a z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ves the problem of consecutive 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mit XOR of the NRZ encoded data and the c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50% efficient (bit rate = 1/2 baud ra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8A44-E8DC-4737-84BA-15DE34BB43A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Encodings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B/5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 4 bits of data encoded in a 5-bit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-bit codes selected to have no more than one leading 0 and no more than two trailing 0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us,  never get more than three consecutive 0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ing 5-bit codes are transmitted using NRZ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hieves 80% ef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8D2E-30CC-42FC-91DD-89D6537E36C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Encodings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53" name="02x07" descr=""/>
          <p:cNvPicPr/>
          <p:nvPr/>
        </p:nvPicPr>
        <p:blipFill>
          <a:blip r:embed="rId1"/>
          <a:stretch/>
        </p:blipFill>
        <p:spPr>
          <a:xfrm>
            <a:off x="1096920" y="2158920"/>
            <a:ext cx="6989760" cy="3113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BF40-FC83-4B57-A254-AE1F535572F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Framing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eak sequence of bits into a fr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ically implemented by network adap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02x08" descr=""/>
          <p:cNvPicPr/>
          <p:nvPr/>
        </p:nvPicPr>
        <p:blipFill>
          <a:blip r:embed="rId1"/>
          <a:stretch/>
        </p:blipFill>
        <p:spPr>
          <a:xfrm>
            <a:off x="1006560" y="3295800"/>
            <a:ext cx="6816600" cy="2355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62CE-E392-44EA-A832-34E128D50A5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pproache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71760"/>
            <a:ext cx="77724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inel-ba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ineate frame with  special pattern: 011111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 HDLC, SDLC, P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special pattern appears in the pay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it stuff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er: insert 0 after five consecutive 1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r: delete 0 that follows five consecutive 1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02x12" descr=""/>
          <p:cNvPicPr/>
          <p:nvPr/>
        </p:nvPicPr>
        <p:blipFill>
          <a:blip r:embed="rId1"/>
          <a:stretch/>
        </p:blipFill>
        <p:spPr>
          <a:xfrm>
            <a:off x="1728720" y="2949480"/>
            <a:ext cx="5451480" cy="922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D801-AD2F-4BB7-8E77-ACF8260E785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pproaches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ter-ba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e payload length in h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 DDC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unt field corrup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ion: catch when CRC fa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02x11" descr=""/>
          <p:cNvPicPr/>
          <p:nvPr/>
        </p:nvPicPr>
        <p:blipFill>
          <a:blip r:embed="rId1"/>
          <a:stretch/>
        </p:blipFill>
        <p:spPr>
          <a:xfrm>
            <a:off x="2452680" y="3476520"/>
            <a:ext cx="5041800" cy="83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8C63-CB7B-4D88-9B9C-3C55912A022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5T20:31:16Z</dcterms:created>
  <dc:creator>klp</dc:creator>
  <dc:description/>
  <dc:language>en-US</dc:language>
  <cp:lastModifiedBy>Elsevier</cp:lastModifiedBy>
  <dcterms:modified xsi:type="dcterms:W3CDTF">2003-11-07T00:20:30Z</dcterms:modified>
  <cp:revision>35</cp:revision>
  <dc:subject/>
  <dc:title>Point-to-Point Links</dc:title>
</cp:coreProperties>
</file>