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0AB-FA3D-423E-B0DE-1D09CC47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BF0-BE5D-42C1-B08E-B0FDA93C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ACA-D79B-4CCA-A342-B381D724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D39-4B10-4F34-B1CA-278E9B37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7EA-096B-4B58-B39E-C92F8313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346-38A1-4409-9065-27A05481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FCC-EE43-45C1-86DE-0D430912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B8E-ED5F-43E5-9D4D-7D08E21E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ED2-B5DF-4786-963A-5BC5B503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65B-29E6-447A-B328-426EE2E8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314-CE59-4E30-82F7-10A1EA7B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97A-E106-4255-9853-FA890ED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F8C5-7C61-4925-86C0-1C623BEBE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95280" y="3352320"/>
            <a:ext cx="5181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oint-to-Point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E3F-97C6-4FCE-B6EF-9AD99410BA7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rame is 125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SONET: Synchronous Optic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S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TS-1 = 51.84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02x13" descr=""/>
          <p:cNvPicPr/>
          <p:nvPr/>
        </p:nvPicPr>
        <p:blipFill>
          <a:blip r:embed="rId1"/>
          <a:stretch/>
        </p:blipFill>
        <p:spPr>
          <a:xfrm>
            <a:off x="444600" y="3886200"/>
            <a:ext cx="3609720" cy="1630440"/>
          </a:xfrm>
          <a:prstGeom prst="rect">
            <a:avLst/>
          </a:prstGeom>
          <a:ln w="0">
            <a:noFill/>
          </a:ln>
        </p:spPr>
      </p:pic>
      <p:pic>
        <p:nvPicPr>
          <p:cNvPr id="66" name="02x14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3470400" cy="156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870-8AA0-4B1F-9582-9C9269A550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yclic Redundancy Chec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 of redundant data to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2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,000 (1500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message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degree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MSG=10011010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degree of some divisor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2E1-0A8B-48C9-9EFD-5F14692FEE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C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is evenly divisible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lef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, 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remaind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implies no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remainder zero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as zero (no error)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xactly divisible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796-03C6-4D2B-9F0D-97A1815DDA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ecting 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ingle-bit errors, as long a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s have non-zero coeffici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uble-bit errors, as long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ains a factor with at least thre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odd number of errors, as long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ains the fact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‘burst’ error (i.e., sequence of consecutive error bits) for which the length of the burst is less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burst errors of larger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can also b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Table 2.6 on page 102 for comm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FBA-DD3A-4055-ACB4-2FCCCEDA07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Checksum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message as a sequence of 16-bit integers; sum using 16-bit ones-complement arithmetic; take ones-complement of th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2870280"/>
            <a:ext cx="586728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_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ksum(u_short *buf, 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gister u_long sum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count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*buf++;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um &amp; 0xFFFF0000)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arry occurred, so wrap around */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&amp;= 0xFFFF;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++;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~(sum &amp; 0xFFF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3EB-0932-42DD-9B62-3FA878505F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cknowledgements &amp; Timeou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7" name="02x19" descr=""/>
          <p:cNvPicPr/>
          <p:nvPr/>
        </p:nvPicPr>
        <p:blipFill>
          <a:blip r:embed="rId1"/>
          <a:stretch/>
        </p:blipFill>
        <p:spPr>
          <a:xfrm>
            <a:off x="2684520" y="1273320"/>
            <a:ext cx="4016160" cy="45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659-92E0-4AD7-AA4E-D3444270D85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op-and-Wai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keeping the pipe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Mbps li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ms RTT = 67.5Kb (8K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KB frames implies 1/8th link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1905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905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0574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428640" y="243828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8195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8640" y="32004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50280" y="15238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8920" y="15238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395-02FF-4D5B-9B5D-2B4CD9C3F8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iding Windo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multiple outstanding (un-ACKed)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bound on un-ACKed frames,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02x21" descr=""/>
          <p:cNvPicPr/>
          <p:nvPr/>
        </p:nvPicPr>
        <p:blipFill>
          <a:blip r:embed="rId1"/>
          <a:stretch/>
        </p:blipFill>
        <p:spPr>
          <a:xfrm>
            <a:off x="2643120" y="2851200"/>
            <a:ext cx="4140360" cy="315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83F-D52A-4AE7-8576-67E8C2AE4C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: Send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0560" y="144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sequence number to each fra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three stat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window siz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acknowledgment received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frame sen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invariant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ACK arr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up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7000" y="4295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6840" y="4295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37080" y="3411360"/>
            <a:ext cx="6102720" cy="1249560"/>
            <a:chOff x="1837080" y="3411360"/>
            <a:chExt cx="6102720" cy="1249560"/>
          </a:xfrm>
        </p:grpSpPr>
        <p:sp>
          <p:nvSpPr>
            <p:cNvPr id="96" name=""/>
            <p:cNvSpPr/>
            <p:nvPr/>
          </p:nvSpPr>
          <p:spPr>
            <a:xfrm>
              <a:off x="2270520" y="3845520"/>
              <a:ext cx="5207760" cy="293760"/>
            </a:xfrm>
            <a:custGeom>
              <a:avLst/>
              <a:gdLst/>
              <a:ahLst/>
              <a:rect l="l" t="t" r="r" b="b"/>
              <a:pathLst>
                <a:path w="3370" h="220">
                  <a:moveTo>
                    <a:pt x="46" y="0"/>
                  </a:moveTo>
                  <a:lnTo>
                    <a:pt x="3355" y="0"/>
                  </a:lnTo>
                  <a:lnTo>
                    <a:pt x="3298" y="53"/>
                  </a:lnTo>
                  <a:lnTo>
                    <a:pt x="3343" y="84"/>
                  </a:lnTo>
                  <a:lnTo>
                    <a:pt x="3313" y="106"/>
                  </a:lnTo>
                  <a:lnTo>
                    <a:pt x="3370" y="144"/>
                  </a:lnTo>
                  <a:lnTo>
                    <a:pt x="3317" y="167"/>
                  </a:lnTo>
                  <a:lnTo>
                    <a:pt x="3362" y="220"/>
                  </a:lnTo>
                  <a:lnTo>
                    <a:pt x="46" y="220"/>
                  </a:lnTo>
                  <a:lnTo>
                    <a:pt x="53" y="182"/>
                  </a:lnTo>
                  <a:lnTo>
                    <a:pt x="0" y="159"/>
                  </a:lnTo>
                  <a:lnTo>
                    <a:pt x="53" y="129"/>
                  </a:lnTo>
                  <a:lnTo>
                    <a:pt x="8" y="99"/>
                  </a:lnTo>
                  <a:lnTo>
                    <a:pt x="61" y="68"/>
                  </a:lnTo>
                  <a:lnTo>
                    <a:pt x="27" y="53"/>
                  </a:lnTo>
                  <a:lnTo>
                    <a:pt x="57" y="27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70120" y="3699720"/>
              <a:ext cx="2767680" cy="105120"/>
            </a:xfrm>
            <a:custGeom>
              <a:avLst/>
              <a:gdLst/>
              <a:ahLst/>
              <a:rect l="l" t="t" r="r" b="b"/>
              <a:pathLst>
                <a:path w="1791" h="79">
                  <a:moveTo>
                    <a:pt x="0" y="75"/>
                  </a:moveTo>
                  <a:lnTo>
                    <a:pt x="0" y="0"/>
                  </a:lnTo>
                  <a:lnTo>
                    <a:pt x="1791" y="0"/>
                  </a:lnTo>
                  <a:lnTo>
                    <a:pt x="1791" y="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80640" y="3850560"/>
              <a:ext cx="108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77720" y="3850560"/>
              <a:ext cx="108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70120" y="3850560"/>
              <a:ext cx="108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7200" y="3850560"/>
              <a:ext cx="1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59960" y="3845520"/>
              <a:ext cx="1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57040" y="3845520"/>
              <a:ext cx="108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49800" y="3845520"/>
              <a:ext cx="108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48320" y="3845520"/>
              <a:ext cx="144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5400" y="3845520"/>
              <a:ext cx="108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38160" y="3845520"/>
              <a:ext cx="108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35240" y="3845520"/>
              <a:ext cx="108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27640" y="3845520"/>
              <a:ext cx="108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51560" y="3411360"/>
              <a:ext cx="15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92680" y="3460680"/>
              <a:ext cx="43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SW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9760" y="4432320"/>
              <a:ext cx="34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L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08760" y="4432320"/>
              <a:ext cx="30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LF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364560" y="4270320"/>
              <a:ext cx="14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0360" y="4179600"/>
              <a:ext cx="63360" cy="106920"/>
            </a:xfrm>
            <a:custGeom>
              <a:avLst/>
              <a:gdLst/>
              <a:ahLst/>
              <a:rect l="l" t="t" r="r" b="b"/>
              <a:pathLst>
                <a:path w="41" h="80">
                  <a:moveTo>
                    <a:pt x="41" y="80"/>
                  </a:moveTo>
                  <a:lnTo>
                    <a:pt x="22" y="0"/>
                  </a:lnTo>
                  <a:lnTo>
                    <a:pt x="0" y="80"/>
                  </a:lnTo>
                  <a:lnTo>
                    <a:pt x="4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144480" y="4269960"/>
              <a:ext cx="144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09200" y="4185000"/>
              <a:ext cx="69480" cy="105120"/>
            </a:xfrm>
            <a:custGeom>
              <a:avLst/>
              <a:gdLst/>
              <a:ahLst/>
              <a:rect l="l" t="t" r="r" b="b"/>
              <a:pathLst>
                <a:path w="45" h="79">
                  <a:moveTo>
                    <a:pt x="45" y="79"/>
                  </a:moveTo>
                  <a:lnTo>
                    <a:pt x="23" y="0"/>
                  </a:lnTo>
                  <a:lnTo>
                    <a:pt x="0" y="79"/>
                  </a:lnTo>
                  <a:lnTo>
                    <a:pt x="4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37080" y="3770640"/>
              <a:ext cx="36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70080" y="3770640"/>
              <a:ext cx="36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9560" y="3500640"/>
              <a:ext cx="36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─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821-3179-4AAB-9D96-E2EE287E90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: Recei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017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three stat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 window siz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st frame acceptab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frame received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invariant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ac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disca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umulative AC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7720" y="3117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952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5334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042800" y="3483000"/>
            <a:ext cx="4398120" cy="1342440"/>
            <a:chOff x="4042800" y="3483000"/>
            <a:chExt cx="4398120" cy="1342440"/>
          </a:xfrm>
        </p:grpSpPr>
        <p:sp>
          <p:nvSpPr>
            <p:cNvPr id="127" name=""/>
            <p:cNvSpPr/>
            <p:nvPr/>
          </p:nvSpPr>
          <p:spPr>
            <a:xfrm>
              <a:off x="4402080" y="3990960"/>
              <a:ext cx="3675960" cy="346320"/>
            </a:xfrm>
            <a:custGeom>
              <a:avLst/>
              <a:gdLst/>
              <a:ahLst/>
              <a:rect l="l" t="t" r="r" b="b"/>
              <a:pathLst>
                <a:path w="1885" h="121">
                  <a:moveTo>
                    <a:pt x="25" y="0"/>
                  </a:moveTo>
                  <a:lnTo>
                    <a:pt x="1877" y="0"/>
                  </a:lnTo>
                  <a:lnTo>
                    <a:pt x="1845" y="28"/>
                  </a:lnTo>
                  <a:lnTo>
                    <a:pt x="1870" y="44"/>
                  </a:lnTo>
                  <a:lnTo>
                    <a:pt x="1853" y="59"/>
                  </a:lnTo>
                  <a:lnTo>
                    <a:pt x="1885" y="78"/>
                  </a:lnTo>
                  <a:lnTo>
                    <a:pt x="1858" y="93"/>
                  </a:lnTo>
                  <a:lnTo>
                    <a:pt x="1883" y="121"/>
                  </a:lnTo>
                  <a:lnTo>
                    <a:pt x="25" y="121"/>
                  </a:lnTo>
                  <a:lnTo>
                    <a:pt x="27" y="102"/>
                  </a:lnTo>
                  <a:lnTo>
                    <a:pt x="0" y="87"/>
                  </a:lnTo>
                  <a:lnTo>
                    <a:pt x="27" y="70"/>
                  </a:lnTo>
                  <a:lnTo>
                    <a:pt x="2" y="53"/>
                  </a:lnTo>
                  <a:lnTo>
                    <a:pt x="34" y="36"/>
                  </a:lnTo>
                  <a:lnTo>
                    <a:pt x="13" y="28"/>
                  </a:lnTo>
                  <a:lnTo>
                    <a:pt x="30" y="13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16480" y="3807000"/>
              <a:ext cx="1955160" cy="135000"/>
            </a:xfrm>
            <a:custGeom>
              <a:avLst/>
              <a:gdLst/>
              <a:ahLst/>
              <a:rect l="l" t="t" r="r" b="b"/>
              <a:pathLst>
                <a:path w="1003" h="47">
                  <a:moveTo>
                    <a:pt x="0" y="43"/>
                  </a:moveTo>
                  <a:lnTo>
                    <a:pt x="0" y="0"/>
                  </a:lnTo>
                  <a:lnTo>
                    <a:pt x="1003" y="0"/>
                  </a:lnTo>
                  <a:lnTo>
                    <a:pt x="1003" y="4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57400" y="3990960"/>
              <a:ext cx="144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40000" y="3990960"/>
              <a:ext cx="144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1160" y="3990960"/>
              <a:ext cx="108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7280" y="3990960"/>
              <a:ext cx="108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78440" y="3984840"/>
              <a:ext cx="108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54560" y="3984840"/>
              <a:ext cx="288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35360" y="3984840"/>
              <a:ext cx="14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13280" y="3984840"/>
              <a:ext cx="108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95880" y="3990960"/>
              <a:ext cx="108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77040" y="3984840"/>
              <a:ext cx="108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53160" y="3990960"/>
              <a:ext cx="1080" cy="34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33960" y="3984840"/>
              <a:ext cx="14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78480" y="3589560"/>
              <a:ext cx="27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RW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60160" y="468792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LF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34400" y="4687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LA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170320" y="4493880"/>
              <a:ext cx="108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6560" y="4384800"/>
              <a:ext cx="48600" cy="1350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5" y="47"/>
                  </a:moveTo>
                  <a:lnTo>
                    <a:pt x="12" y="0"/>
                  </a:lnTo>
                  <a:lnTo>
                    <a:pt x="0" y="47"/>
                  </a:lnTo>
                  <a:lnTo>
                    <a:pt x="2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140240" y="4500360"/>
              <a:ext cx="144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15040" y="4391280"/>
              <a:ext cx="50400" cy="134640"/>
            </a:xfrm>
            <a:custGeom>
              <a:avLst/>
              <a:gdLst/>
              <a:ahLst/>
              <a:rect l="l" t="t" r="r" b="b"/>
              <a:pathLst>
                <a:path w="26" h="47">
                  <a:moveTo>
                    <a:pt x="26" y="47"/>
                  </a:moveTo>
                  <a:lnTo>
                    <a:pt x="13" y="0"/>
                  </a:lnTo>
                  <a:lnTo>
                    <a:pt x="0" y="47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42800" y="3990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47520" y="3990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17560" y="3483000"/>
              <a:ext cx="15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14240" y="3589560"/>
              <a:ext cx="36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─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542-4A82-432C-BEAE-6B259BF392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ncoding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s propagate over a physical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 electromagnetic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va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 binary data onto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0 as low signal and 1 as high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as Non-Return to zero (NR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2x06" descr=""/>
          <p:cNvPicPr/>
          <p:nvPr/>
        </p:nvPicPr>
        <p:blipFill>
          <a:blip r:embed="rId1"/>
          <a:stretch/>
        </p:blipFill>
        <p:spPr>
          <a:xfrm>
            <a:off x="1279440" y="4808520"/>
            <a:ext cx="6282000" cy="11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BA9-C44C-469D-A68A-B8C99E7EC1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quence Number Sp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is finite; sequence numbers wrap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 space must be larger then number of outstanding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SeqNu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ot su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3-bi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 (0.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S=RWS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transmit frames 0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ive successfully, but ACKs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retransmits 0.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expecting 7, 0..5, but receives second incarnation of 0.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xSeqNum+1)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rrect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vely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slides” between two halves of sequence numbe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A96-B7A6-4776-9CC8-6273E1F87E5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current Logical Channe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 8 logical channels over a singl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stop-and-wait on each logical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three state bits per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bu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equence number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equence numb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: 3-bit channel num, 1-bit sequence 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bit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sliding window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iabil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E56-83E6-4C8C-8160-9E5FFDA856A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blem: Consecutive 1s or 0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signal (0) may be interpreted as no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ignal (1) leads to baseline w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ble to recover 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950-930C-4100-966B-17F0FD9CE5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ternative Encoding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turn to Zero Inverted (NRZ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transition from current signal to encode a one; stay at current signal to encode a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s the problem of consecutiv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XOR of the NRZ encoded data and the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50% efficient (bit rate = 1/2 baud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EEA-408A-4602-8D76-F95617BD07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coding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B/5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4 bits of data encoded in a 5-bi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bit codes selected to have no more than one leading 0 and no more than two trailing 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 never get more than three consecutive 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5-bit codes are transmitted using NRZ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80%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001-41C4-454A-8FBB-45A09E82CE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coding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3" name="02x07" descr=""/>
          <p:cNvPicPr/>
          <p:nvPr/>
        </p:nvPicPr>
        <p:blipFill>
          <a:blip r:embed="rId1"/>
          <a:stretch/>
        </p:blipFill>
        <p:spPr>
          <a:xfrm>
            <a:off x="1096920" y="2158920"/>
            <a:ext cx="6989760" cy="31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717-69D7-43A2-9C22-F368D14A60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m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sequence of bits into a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implemented by network ada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2x08" descr=""/>
          <p:cNvPicPr/>
          <p:nvPr/>
        </p:nvPicPr>
        <p:blipFill>
          <a:blip r:embed="rId1"/>
          <a:stretch/>
        </p:blipFill>
        <p:spPr>
          <a:xfrm>
            <a:off x="1006560" y="3295800"/>
            <a:ext cx="68166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38B-3B2A-41F6-A315-85ED727F75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7176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inel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neate frame with  special pattern: 0111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HDLC, SDLC,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pecial pattern appears in the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t stuf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: insert 0 after five consecutive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: delete 0 that follows five consecutive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2x12" descr=""/>
          <p:cNvPicPr/>
          <p:nvPr/>
        </p:nvPicPr>
        <p:blipFill>
          <a:blip r:embed="rId1"/>
          <a:stretch/>
        </p:blipFill>
        <p:spPr>
          <a:xfrm>
            <a:off x="1728720" y="2949480"/>
            <a:ext cx="5451480" cy="9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C92-5D35-4AAE-B68E-B1F4BE9FB6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pproach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ter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payload length in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DD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unt field cor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catch when CRC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02x11" descr=""/>
          <p:cNvPicPr/>
          <p:nvPr/>
        </p:nvPicPr>
        <p:blipFill>
          <a:blip r:embed="rId1"/>
          <a:stretch/>
        </p:blipFill>
        <p:spPr>
          <a:xfrm>
            <a:off x="2452680" y="3476520"/>
            <a:ext cx="5041800" cy="8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C41-4D0B-4F8F-9D5D-CFFCD467A2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5T20:31:16Z</dcterms:created>
  <dc:creator>klp</dc:creator>
  <dc:description/>
  <dc:language>en-US</dc:language>
  <cp:lastModifiedBy>Elsevier</cp:lastModifiedBy>
  <dcterms:modified xsi:type="dcterms:W3CDTF">2003-11-07T00:20:30Z</dcterms:modified>
  <cp:revision>35</cp:revision>
  <dc:subject/>
  <dc:title>Point-to-Point Links</dc:title>
</cp:coreProperties>
</file>