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4E01-F4C7-44FF-8108-266C79B43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22C0-9564-409A-91F6-5B031CDC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C5EF-2E0E-49FE-89D3-3D3255707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97FD-F8E8-4C35-8A44-10BFF9330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DB50-2A97-4BD4-8667-3735C246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F8BA-3D24-4027-9582-205D128C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9819-18D9-4288-A7DF-90B29FBC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FEE0-804E-4A2C-9943-8470C0EC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2F19-0A5D-4E59-8E8A-EE587D47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3A03-6684-445E-A3EF-22E43634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FD96-E86E-49EA-B574-9926C534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49AB-32DE-4643-95F6-7D5FE828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ing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F7E7-D0BF-49CF-9BCD-CCF6D988C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lements of a Protocol Implementa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3276360"/>
            <a:ext cx="3886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ubrout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98A2-2A23-4A63-A67F-487C2C743A1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essage Library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505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gment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90760" y="4764240"/>
            <a:ext cx="579240" cy="264960"/>
          </a:xfrm>
          <a:custGeom>
            <a:avLst/>
            <a:gdLst/>
            <a:ahLst/>
            <a:rect l="l" t="t" r="r" b="b"/>
            <a:pathLst>
              <a:path w="455" h="237">
                <a:moveTo>
                  <a:pt x="0" y="0"/>
                </a:moveTo>
                <a:lnTo>
                  <a:pt x="455" y="0"/>
                </a:lnTo>
                <a:lnTo>
                  <a:pt x="455" y="237"/>
                </a:lnTo>
                <a:lnTo>
                  <a:pt x="0" y="23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90760" y="4764240"/>
            <a:ext cx="579240" cy="264960"/>
          </a:xfrm>
          <a:custGeom>
            <a:avLst/>
            <a:gdLst/>
            <a:ahLst/>
            <a:rect l="l" t="t" r="r" b="b"/>
            <a:pathLst>
              <a:path w="455" h="237">
                <a:moveTo>
                  <a:pt x="0" y="0"/>
                </a:moveTo>
                <a:lnTo>
                  <a:pt x="455" y="0"/>
                </a:lnTo>
                <a:lnTo>
                  <a:pt x="455" y="237"/>
                </a:lnTo>
                <a:lnTo>
                  <a:pt x="0" y="237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56000" y="4764240"/>
            <a:ext cx="579600" cy="264960"/>
          </a:xfrm>
          <a:custGeom>
            <a:avLst/>
            <a:gdLst/>
            <a:ahLst/>
            <a:rect l="l" t="t" r="r" b="b"/>
            <a:pathLst>
              <a:path w="455" h="237">
                <a:moveTo>
                  <a:pt x="0" y="0"/>
                </a:moveTo>
                <a:lnTo>
                  <a:pt x="455" y="0"/>
                </a:lnTo>
                <a:lnTo>
                  <a:pt x="455" y="237"/>
                </a:lnTo>
                <a:lnTo>
                  <a:pt x="0" y="23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56000" y="4764240"/>
            <a:ext cx="579600" cy="264960"/>
          </a:xfrm>
          <a:custGeom>
            <a:avLst/>
            <a:gdLst/>
            <a:ahLst/>
            <a:rect l="l" t="t" r="r" b="b"/>
            <a:pathLst>
              <a:path w="455" h="237">
                <a:moveTo>
                  <a:pt x="0" y="0"/>
                </a:moveTo>
                <a:lnTo>
                  <a:pt x="455" y="0"/>
                </a:lnTo>
                <a:lnTo>
                  <a:pt x="455" y="237"/>
                </a:lnTo>
                <a:lnTo>
                  <a:pt x="0" y="237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22680" y="3875040"/>
            <a:ext cx="79200" cy="127080"/>
          </a:xfrm>
          <a:custGeom>
            <a:avLst/>
            <a:gdLst/>
            <a:ahLst/>
            <a:rect l="l" t="t" r="r" b="b"/>
            <a:pathLst>
              <a:path w="62" h="114">
                <a:moveTo>
                  <a:pt x="0" y="0"/>
                </a:moveTo>
                <a:lnTo>
                  <a:pt x="33" y="114"/>
                </a:lnTo>
                <a:lnTo>
                  <a:pt x="62" y="5"/>
                </a:lnTo>
                <a:lnTo>
                  <a:pt x="5" y="5"/>
                </a:lnTo>
                <a:lnTo>
                  <a:pt x="5" y="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55800" y="3740040"/>
            <a:ext cx="6480" cy="2095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22680" y="4551480"/>
            <a:ext cx="79200" cy="126720"/>
          </a:xfrm>
          <a:custGeom>
            <a:avLst/>
            <a:gdLst/>
            <a:ahLst/>
            <a:rect l="l" t="t" r="r" b="b"/>
            <a:pathLst>
              <a:path w="62" h="114">
                <a:moveTo>
                  <a:pt x="0" y="0"/>
                </a:moveTo>
                <a:lnTo>
                  <a:pt x="33" y="114"/>
                </a:lnTo>
                <a:lnTo>
                  <a:pt x="62" y="5"/>
                </a:lnTo>
                <a:lnTo>
                  <a:pt x="5" y="5"/>
                </a:lnTo>
                <a:lnTo>
                  <a:pt x="5" y="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55800" y="4386240"/>
            <a:ext cx="6480" cy="208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90760" y="4764240"/>
            <a:ext cx="579240" cy="264960"/>
          </a:xfrm>
          <a:custGeom>
            <a:avLst/>
            <a:gdLst/>
            <a:ahLst/>
            <a:rect l="l" t="t" r="r" b="b"/>
            <a:pathLst>
              <a:path w="455" h="237">
                <a:moveTo>
                  <a:pt x="0" y="0"/>
                </a:moveTo>
                <a:lnTo>
                  <a:pt x="455" y="0"/>
                </a:lnTo>
                <a:lnTo>
                  <a:pt x="455" y="237"/>
                </a:lnTo>
                <a:lnTo>
                  <a:pt x="0" y="23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90760" y="4764240"/>
            <a:ext cx="579240" cy="264960"/>
          </a:xfrm>
          <a:custGeom>
            <a:avLst/>
            <a:gdLst/>
            <a:ahLst/>
            <a:rect l="l" t="t" r="r" b="b"/>
            <a:pathLst>
              <a:path w="455" h="237">
                <a:moveTo>
                  <a:pt x="0" y="0"/>
                </a:moveTo>
                <a:lnTo>
                  <a:pt x="455" y="0"/>
                </a:lnTo>
                <a:lnTo>
                  <a:pt x="455" y="237"/>
                </a:lnTo>
                <a:lnTo>
                  <a:pt x="0" y="237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56000" y="4764240"/>
            <a:ext cx="579600" cy="264960"/>
          </a:xfrm>
          <a:custGeom>
            <a:avLst/>
            <a:gdLst/>
            <a:ahLst/>
            <a:rect l="l" t="t" r="r" b="b"/>
            <a:pathLst>
              <a:path w="455" h="237">
                <a:moveTo>
                  <a:pt x="0" y="0"/>
                </a:moveTo>
                <a:lnTo>
                  <a:pt x="455" y="0"/>
                </a:lnTo>
                <a:lnTo>
                  <a:pt x="455" y="237"/>
                </a:lnTo>
                <a:lnTo>
                  <a:pt x="0" y="23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56000" y="4764240"/>
            <a:ext cx="579600" cy="264960"/>
          </a:xfrm>
          <a:custGeom>
            <a:avLst/>
            <a:gdLst/>
            <a:ahLst/>
            <a:rect l="l" t="t" r="r" b="b"/>
            <a:pathLst>
              <a:path w="455" h="237">
                <a:moveTo>
                  <a:pt x="0" y="0"/>
                </a:moveTo>
                <a:lnTo>
                  <a:pt x="455" y="0"/>
                </a:lnTo>
                <a:lnTo>
                  <a:pt x="455" y="237"/>
                </a:lnTo>
                <a:lnTo>
                  <a:pt x="0" y="237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1200" y="4259160"/>
            <a:ext cx="37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27160" y="4492800"/>
            <a:ext cx="266760" cy="195120"/>
          </a:xfrm>
          <a:prstGeom prst="line">
            <a:avLst/>
          </a:prstGeom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51080" y="4651200"/>
            <a:ext cx="126720" cy="101880"/>
          </a:xfrm>
          <a:custGeom>
            <a:avLst/>
            <a:gdLst/>
            <a:ahLst/>
            <a:rect l="l" t="t" r="r" b="b"/>
            <a:pathLst>
              <a:path w="99" h="90">
                <a:moveTo>
                  <a:pt x="0" y="43"/>
                </a:moveTo>
                <a:lnTo>
                  <a:pt x="99" y="90"/>
                </a:lnTo>
                <a:lnTo>
                  <a:pt x="37" y="0"/>
                </a:lnTo>
                <a:lnTo>
                  <a:pt x="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92400" y="4492800"/>
            <a:ext cx="266760" cy="195120"/>
          </a:xfrm>
          <a:prstGeom prst="line">
            <a:avLst/>
          </a:prstGeom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16320" y="4651200"/>
            <a:ext cx="127080" cy="101880"/>
          </a:xfrm>
          <a:custGeom>
            <a:avLst/>
            <a:gdLst/>
            <a:ahLst/>
            <a:rect l="l" t="t" r="r" b="b"/>
            <a:pathLst>
              <a:path w="100" h="90">
                <a:moveTo>
                  <a:pt x="0" y="43"/>
                </a:moveTo>
                <a:lnTo>
                  <a:pt x="100" y="90"/>
                </a:lnTo>
                <a:lnTo>
                  <a:pt x="38" y="0"/>
                </a:lnTo>
                <a:lnTo>
                  <a:pt x="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68320" y="289548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436896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79640" y="3017880"/>
            <a:ext cx="266760" cy="196920"/>
          </a:xfrm>
          <a:prstGeom prst="line">
            <a:avLst/>
          </a:prstGeom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197080" y="3178080"/>
            <a:ext cx="979560" cy="378000"/>
            <a:chOff x="2197080" y="3178080"/>
            <a:chExt cx="979560" cy="378000"/>
          </a:xfrm>
        </p:grpSpPr>
        <p:sp>
          <p:nvSpPr>
            <p:cNvPr id="180" name=""/>
            <p:cNvSpPr/>
            <p:nvPr/>
          </p:nvSpPr>
          <p:spPr>
            <a:xfrm>
              <a:off x="2343240" y="3289320"/>
              <a:ext cx="833400" cy="266760"/>
            </a:xfrm>
            <a:custGeom>
              <a:avLst/>
              <a:gdLst/>
              <a:ahLst/>
              <a:rect l="l" t="t" r="r" b="b"/>
              <a:pathLst>
                <a:path w="655" h="237">
                  <a:moveTo>
                    <a:pt x="0" y="0"/>
                  </a:moveTo>
                  <a:lnTo>
                    <a:pt x="655" y="0"/>
                  </a:lnTo>
                  <a:lnTo>
                    <a:pt x="655" y="237"/>
                  </a:lnTo>
                  <a:lnTo>
                    <a:pt x="5" y="237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43240" y="3289320"/>
              <a:ext cx="833400" cy="266760"/>
            </a:xfrm>
            <a:custGeom>
              <a:avLst/>
              <a:gdLst/>
              <a:ahLst/>
              <a:rect l="l" t="t" r="r" b="b"/>
              <a:pathLst>
                <a:path w="655" h="237">
                  <a:moveTo>
                    <a:pt x="0" y="0"/>
                  </a:moveTo>
                  <a:lnTo>
                    <a:pt x="655" y="0"/>
                  </a:lnTo>
                  <a:lnTo>
                    <a:pt x="655" y="237"/>
                  </a:lnTo>
                  <a:lnTo>
                    <a:pt x="5" y="237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43240" y="3289320"/>
              <a:ext cx="833400" cy="266760"/>
            </a:xfrm>
            <a:custGeom>
              <a:avLst/>
              <a:gdLst/>
              <a:ahLst/>
              <a:rect l="l" t="t" r="r" b="b"/>
              <a:pathLst>
                <a:path w="655" h="237">
                  <a:moveTo>
                    <a:pt x="0" y="0"/>
                  </a:moveTo>
                  <a:lnTo>
                    <a:pt x="655" y="0"/>
                  </a:lnTo>
                  <a:lnTo>
                    <a:pt x="655" y="237"/>
                  </a:lnTo>
                  <a:lnTo>
                    <a:pt x="5" y="237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43240" y="3289320"/>
              <a:ext cx="833400" cy="266760"/>
            </a:xfrm>
            <a:custGeom>
              <a:avLst/>
              <a:gdLst/>
              <a:ahLst/>
              <a:rect l="l" t="t" r="r" b="b"/>
              <a:pathLst>
                <a:path w="655" h="237">
                  <a:moveTo>
                    <a:pt x="0" y="0"/>
                  </a:moveTo>
                  <a:lnTo>
                    <a:pt x="655" y="0"/>
                  </a:lnTo>
                  <a:lnTo>
                    <a:pt x="655" y="237"/>
                  </a:lnTo>
                  <a:lnTo>
                    <a:pt x="5" y="237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197080" y="3178080"/>
              <a:ext cx="133200" cy="100080"/>
            </a:xfrm>
            <a:custGeom>
              <a:avLst/>
              <a:gdLst/>
              <a:ahLst/>
              <a:rect l="l" t="t" r="r" b="b"/>
              <a:pathLst>
                <a:path w="105" h="90">
                  <a:moveTo>
                    <a:pt x="0" y="43"/>
                  </a:moveTo>
                  <a:lnTo>
                    <a:pt x="105" y="90"/>
                  </a:lnTo>
                  <a:lnTo>
                    <a:pt x="43" y="0"/>
                  </a:lnTo>
                  <a:lnTo>
                    <a:pt x="5" y="43"/>
                  </a:lnTo>
                  <a:lnTo>
                    <a:pt x="5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90400" y="3311640"/>
              <a:ext cx="72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bcdef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1574640" y="476244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51120" y="477504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92080" y="4762440"/>
            <a:ext cx="32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90120" y="4029120"/>
            <a:ext cx="1252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gFrag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38960" y="4029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63880" y="402912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35600" y="4029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41440" y="4029120"/>
            <a:ext cx="37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14400" y="4029120"/>
            <a:ext cx="34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3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50000" y="3355920"/>
            <a:ext cx="477720" cy="247680"/>
          </a:xfrm>
          <a:custGeom>
            <a:avLst/>
            <a:gdLst/>
            <a:ahLst/>
            <a:rect l="l" t="t" r="r" b="b"/>
            <a:pathLst>
              <a:path w="301" h="156">
                <a:moveTo>
                  <a:pt x="0" y="0"/>
                </a:moveTo>
                <a:lnTo>
                  <a:pt x="301" y="0"/>
                </a:lnTo>
                <a:lnTo>
                  <a:pt x="301" y="156"/>
                </a:lnTo>
                <a:lnTo>
                  <a:pt x="3" y="156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50000" y="3355920"/>
            <a:ext cx="477720" cy="247680"/>
          </a:xfrm>
          <a:custGeom>
            <a:avLst/>
            <a:gdLst/>
            <a:ahLst/>
            <a:rect l="l" t="t" r="r" b="b"/>
            <a:pathLst>
              <a:path w="301" h="156">
                <a:moveTo>
                  <a:pt x="0" y="0"/>
                </a:moveTo>
                <a:lnTo>
                  <a:pt x="301" y="0"/>
                </a:lnTo>
                <a:lnTo>
                  <a:pt x="301" y="156"/>
                </a:lnTo>
                <a:lnTo>
                  <a:pt x="3" y="156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43640" y="3355920"/>
            <a:ext cx="478080" cy="247680"/>
          </a:xfrm>
          <a:custGeom>
            <a:avLst/>
            <a:gdLst/>
            <a:ahLst/>
            <a:rect l="l" t="t" r="r" b="b"/>
            <a:pathLst>
              <a:path w="301" h="156">
                <a:moveTo>
                  <a:pt x="0" y="0"/>
                </a:moveTo>
                <a:lnTo>
                  <a:pt x="301" y="0"/>
                </a:lnTo>
                <a:lnTo>
                  <a:pt x="301" y="156"/>
                </a:lnTo>
                <a:lnTo>
                  <a:pt x="3" y="156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343640" y="3355920"/>
            <a:ext cx="478080" cy="247680"/>
          </a:xfrm>
          <a:custGeom>
            <a:avLst/>
            <a:gdLst/>
            <a:ahLst/>
            <a:rect l="l" t="t" r="r" b="b"/>
            <a:pathLst>
              <a:path w="301" h="156">
                <a:moveTo>
                  <a:pt x="0" y="0"/>
                </a:moveTo>
                <a:lnTo>
                  <a:pt x="301" y="0"/>
                </a:lnTo>
                <a:lnTo>
                  <a:pt x="301" y="156"/>
                </a:lnTo>
                <a:lnTo>
                  <a:pt x="3" y="156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07240" y="3943440"/>
            <a:ext cx="63360" cy="114120"/>
          </a:xfrm>
          <a:custGeom>
            <a:avLst/>
            <a:gdLst/>
            <a:ahLst/>
            <a:rect l="l" t="t" r="r" b="b"/>
            <a:pathLst>
              <a:path w="40" h="72">
                <a:moveTo>
                  <a:pt x="0" y="0"/>
                </a:moveTo>
                <a:lnTo>
                  <a:pt x="18" y="72"/>
                </a:lnTo>
                <a:lnTo>
                  <a:pt x="4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35680" y="3794040"/>
            <a:ext cx="180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07240" y="4560840"/>
            <a:ext cx="63360" cy="114480"/>
          </a:xfrm>
          <a:custGeom>
            <a:avLst/>
            <a:gdLst/>
            <a:ahLst/>
            <a:rect l="l" t="t" r="r" b="b"/>
            <a:pathLst>
              <a:path w="40" h="72">
                <a:moveTo>
                  <a:pt x="0" y="0"/>
                </a:moveTo>
                <a:lnTo>
                  <a:pt x="18" y="72"/>
                </a:lnTo>
                <a:lnTo>
                  <a:pt x="4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35680" y="4410000"/>
            <a:ext cx="180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50000" y="3355920"/>
            <a:ext cx="477720" cy="247680"/>
          </a:xfrm>
          <a:custGeom>
            <a:avLst/>
            <a:gdLst/>
            <a:ahLst/>
            <a:rect l="l" t="t" r="r" b="b"/>
            <a:pathLst>
              <a:path w="301" h="156">
                <a:moveTo>
                  <a:pt x="0" y="0"/>
                </a:moveTo>
                <a:lnTo>
                  <a:pt x="301" y="0"/>
                </a:lnTo>
                <a:lnTo>
                  <a:pt x="301" y="156"/>
                </a:lnTo>
                <a:lnTo>
                  <a:pt x="3" y="156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50000" y="3355920"/>
            <a:ext cx="477720" cy="247680"/>
          </a:xfrm>
          <a:custGeom>
            <a:avLst/>
            <a:gdLst/>
            <a:ahLst/>
            <a:rect l="l" t="t" r="r" b="b"/>
            <a:pathLst>
              <a:path w="301" h="156">
                <a:moveTo>
                  <a:pt x="0" y="0"/>
                </a:moveTo>
                <a:lnTo>
                  <a:pt x="301" y="0"/>
                </a:lnTo>
                <a:lnTo>
                  <a:pt x="301" y="156"/>
                </a:lnTo>
                <a:lnTo>
                  <a:pt x="3" y="156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343640" y="3355920"/>
            <a:ext cx="478080" cy="247680"/>
          </a:xfrm>
          <a:custGeom>
            <a:avLst/>
            <a:gdLst/>
            <a:ahLst/>
            <a:rect l="l" t="t" r="r" b="b"/>
            <a:pathLst>
              <a:path w="301" h="156">
                <a:moveTo>
                  <a:pt x="0" y="0"/>
                </a:moveTo>
                <a:lnTo>
                  <a:pt x="301" y="0"/>
                </a:lnTo>
                <a:lnTo>
                  <a:pt x="301" y="156"/>
                </a:lnTo>
                <a:lnTo>
                  <a:pt x="3" y="156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43640" y="3355920"/>
            <a:ext cx="478080" cy="247680"/>
          </a:xfrm>
          <a:custGeom>
            <a:avLst/>
            <a:gdLst/>
            <a:ahLst/>
            <a:rect l="l" t="t" r="r" b="b"/>
            <a:pathLst>
              <a:path w="301" h="156">
                <a:moveTo>
                  <a:pt x="0" y="0"/>
                </a:moveTo>
                <a:lnTo>
                  <a:pt x="301" y="0"/>
                </a:lnTo>
                <a:lnTo>
                  <a:pt x="301" y="156"/>
                </a:lnTo>
                <a:lnTo>
                  <a:pt x="3" y="156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203880" y="4570560"/>
            <a:ext cx="219240" cy="183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383160" y="4719600"/>
            <a:ext cx="109800" cy="93600"/>
          </a:xfrm>
          <a:custGeom>
            <a:avLst/>
            <a:gdLst/>
            <a:ahLst/>
            <a:rect l="l" t="t" r="r" b="b"/>
            <a:pathLst>
              <a:path w="69" h="59">
                <a:moveTo>
                  <a:pt x="0" y="28"/>
                </a:moveTo>
                <a:lnTo>
                  <a:pt x="69" y="59"/>
                </a:lnTo>
                <a:lnTo>
                  <a:pt x="25" y="0"/>
                </a:lnTo>
                <a:lnTo>
                  <a:pt x="0" y="28"/>
                </a:lnTo>
                <a:lnTo>
                  <a:pt x="0" y="2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60920" y="3102120"/>
            <a:ext cx="214560" cy="188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40560" y="3251160"/>
            <a:ext cx="104760" cy="98640"/>
          </a:xfrm>
          <a:custGeom>
            <a:avLst/>
            <a:gdLst/>
            <a:ahLst/>
            <a:rect l="l" t="t" r="r" b="b"/>
            <a:pathLst>
              <a:path w="66" h="62">
                <a:moveTo>
                  <a:pt x="0" y="28"/>
                </a:moveTo>
                <a:lnTo>
                  <a:pt x="66" y="62"/>
                </a:lnTo>
                <a:lnTo>
                  <a:pt x="25" y="0"/>
                </a:lnTo>
                <a:lnTo>
                  <a:pt x="0" y="28"/>
                </a:lnTo>
                <a:lnTo>
                  <a:pt x="0" y="2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050240" y="3102120"/>
            <a:ext cx="218880" cy="188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229520" y="3251160"/>
            <a:ext cx="109440" cy="98640"/>
          </a:xfrm>
          <a:custGeom>
            <a:avLst/>
            <a:gdLst/>
            <a:ahLst/>
            <a:rect l="l" t="t" r="r" b="b"/>
            <a:pathLst>
              <a:path w="69" h="62">
                <a:moveTo>
                  <a:pt x="0" y="28"/>
                </a:moveTo>
                <a:lnTo>
                  <a:pt x="69" y="62"/>
                </a:lnTo>
                <a:lnTo>
                  <a:pt x="28" y="0"/>
                </a:lnTo>
                <a:lnTo>
                  <a:pt x="3" y="28"/>
                </a:lnTo>
                <a:lnTo>
                  <a:pt x="3" y="28"/>
                </a:lnTo>
                <a:lnTo>
                  <a:pt x="0" y="2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57800" y="289548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05720" y="289548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14720" y="4456080"/>
            <a:ext cx="37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6920" y="335268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c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91520" y="33526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621400" y="4102200"/>
            <a:ext cx="283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gReassemble(new, m1, m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952880" y="16765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semble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553080" y="4724280"/>
            <a:ext cx="833400" cy="266760"/>
            <a:chOff x="6553080" y="4724280"/>
            <a:chExt cx="833400" cy="266760"/>
          </a:xfrm>
        </p:grpSpPr>
        <p:sp>
          <p:nvSpPr>
            <p:cNvPr id="221" name=""/>
            <p:cNvSpPr/>
            <p:nvPr/>
          </p:nvSpPr>
          <p:spPr>
            <a:xfrm>
              <a:off x="6553080" y="4724280"/>
              <a:ext cx="833400" cy="266760"/>
            </a:xfrm>
            <a:custGeom>
              <a:avLst/>
              <a:gdLst/>
              <a:ahLst/>
              <a:rect l="l" t="t" r="r" b="b"/>
              <a:pathLst>
                <a:path w="655" h="237">
                  <a:moveTo>
                    <a:pt x="0" y="0"/>
                  </a:moveTo>
                  <a:lnTo>
                    <a:pt x="655" y="0"/>
                  </a:lnTo>
                  <a:lnTo>
                    <a:pt x="655" y="237"/>
                  </a:lnTo>
                  <a:lnTo>
                    <a:pt x="5" y="237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53080" y="4724280"/>
              <a:ext cx="833400" cy="266760"/>
            </a:xfrm>
            <a:custGeom>
              <a:avLst/>
              <a:gdLst/>
              <a:ahLst/>
              <a:rect l="l" t="t" r="r" b="b"/>
              <a:pathLst>
                <a:path w="655" h="237">
                  <a:moveTo>
                    <a:pt x="0" y="0"/>
                  </a:moveTo>
                  <a:lnTo>
                    <a:pt x="655" y="0"/>
                  </a:lnTo>
                  <a:lnTo>
                    <a:pt x="655" y="237"/>
                  </a:lnTo>
                  <a:lnTo>
                    <a:pt x="5" y="237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53080" y="4724280"/>
              <a:ext cx="833400" cy="266760"/>
            </a:xfrm>
            <a:custGeom>
              <a:avLst/>
              <a:gdLst/>
              <a:ahLst/>
              <a:rect l="l" t="t" r="r" b="b"/>
              <a:pathLst>
                <a:path w="655" h="237">
                  <a:moveTo>
                    <a:pt x="0" y="0"/>
                  </a:moveTo>
                  <a:lnTo>
                    <a:pt x="655" y="0"/>
                  </a:lnTo>
                  <a:lnTo>
                    <a:pt x="655" y="237"/>
                  </a:lnTo>
                  <a:lnTo>
                    <a:pt x="5" y="237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53080" y="4724280"/>
              <a:ext cx="833400" cy="266760"/>
            </a:xfrm>
            <a:custGeom>
              <a:avLst/>
              <a:gdLst/>
              <a:ahLst/>
              <a:rect l="l" t="t" r="r" b="b"/>
              <a:pathLst>
                <a:path w="655" h="237">
                  <a:moveTo>
                    <a:pt x="0" y="0"/>
                  </a:moveTo>
                  <a:lnTo>
                    <a:pt x="655" y="0"/>
                  </a:lnTo>
                  <a:lnTo>
                    <a:pt x="655" y="237"/>
                  </a:lnTo>
                  <a:lnTo>
                    <a:pt x="5" y="237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00600" y="4746240"/>
              <a:ext cx="72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bcdef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287B-7487-49D0-956D-3692CF82B1D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vent Librar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ing Timeouts &amp; Book-keeping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vent evSchedule(EvFunc func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*argume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t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vCancelReturn evCancel(Event ev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3F5A-2601-4AF9-BAE2-D5F73D8F006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ap Librar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ultiplex Pa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p mapCreate(int number,int 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inding mapBind(Map ma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*ke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*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kReturn mapResolve(Map ma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*key,void **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CD5D-9E6D-43D2-A663-C590C74E1FB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xampl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Ses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Open(Protl self, Protl hlp, Part *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ss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_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ss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l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tive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lState  *pstate = (ProtlState *)self-&gt;st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zero((char *)&amp;key, sizeof(key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High level protocol must specify both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local and remote ASP por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y.localport = *((AspPort *) partPop(p[0]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y.remoteport = *((AspPort *) partPop(p[1]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Assume failure until proven otherwis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_s = XK_FAILUR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C397-3368-4466-A0F6-F0196637505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Open session on low-level protocol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ls = xOpen(self, xGetDown(self, 0), 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 lls != XK_FAILURE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y.lls = ll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Check for session in active map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mapResolve(pstate-&gt;activemap, &amp;ke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void **)&amp;asp_s) == XK_FAIL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Session not in map; initialize i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_s = asp_init_sessn(self, hlp, &amp;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 asp_s != XK_FAILURE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A successful open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asp_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Error has occurred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Close(ll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asp_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A58C-896E-4C07-A699-182D47D7636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XkReturn aspPush(Sessn s, Msg *ms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ssnState *sst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Hdr     hd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      *bu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create a header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state = (SessnState *) s-&gt;st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dr = sstate-&gt;hd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dr.ulen = msgLen(msg) + HLE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attach header and send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f = msgAddrHdr(msg, HLE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HdrStore(&amp;hdr, buf, HLEN, ms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xPush(xGetDown(s, 0), ms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8D4F-4967-4904-B328-01CF2DF0391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685440" y="30456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XkReturn aspDemux(Protl self, Sessn lls, Msg *ms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Hdr       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ssn        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tiveId     active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ssiveId    passive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lState   *pst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able       *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        *bu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state = (ProtlState *)self-&gt;st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extract the header from the messag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f = msgStripHdr(msg, HLE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HdrLoad(&amp;h, buf, HLEN, ms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construct a demux key from the header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zero((char *)&amp;activeid, sizeof(activeid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tiveid.localport = h.dpor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tiveid.remoteport = h.spor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tiveid.lls = ll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B914-9072-40E4-9909-A2EAE2B4E66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see if demux key is in the active map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mapResolve(pstate-&gt;activemap, &amp;active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void **)&amp;s) == XK_FAIL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didn't find an active session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so check passive map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ssiveid = h.dpor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mapResolve(pstate-&gt;passivemap, &amp;passive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void **)&amp;e) == XK_FAIL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drop the messag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XK_SUCCES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port was enabled, so create a new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session and inform hlp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 = asp_init_sessn(self, e-&gt;hlp, &amp;activei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OpenDone(e-&gt;hlp, s, self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pop the message to the session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xPop(s, lls, msg, &amp;h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E706-90FD-4D9E-9984-C7858B4F701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XkRetu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Pop(Sessn s, Sessn ds, Msg *msg, void *inHd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Hdr    *h = (AspHdr *) inHd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truncate message to length shown in header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(h-&gt;ulen - HLEN) &lt; msgLen(ms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gTruncate(msg, (int) h-&gt;ule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pass message up the protocol stack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xDemux(xGetUp(s), s, ms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CAB8-4CCB-4116-9569-070D34BF3C0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cket API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 so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socket(int domain, int type, int protoc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ain 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F_INET, PF_UN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= SOCK_STREAM, SOCK_DGRAM, SOCK_R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ive Open (on serv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bind(int socket, struct sockaddr *addr, int addr_l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listen(int socket, int backlo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accept(int socket, struct sockaddr *addr, int addr_l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E338-329D-4D76-B27F-E00198966AB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ckets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 Open (on cli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connect(int socket, struct sockaddr *add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addr_l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ing/Receiving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send(int socket, char *msg, int mlen, int fla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recv(int socket, char *buf, int blen, int fla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2D9B-9B58-49A9-9F40-5F4CE0A4A3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tocol-to-Protocol Interfac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e multiple 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 versus exten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context swi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ffer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data cop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8F6E-CBC9-4E8B-A99B-F91EF70F57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nfigura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419360" y="2362320"/>
            <a:ext cx="4267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=tuli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=eth protocols=tuli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=arp protocols=et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=ip protocols=eth,ar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=icmp protocols=i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=udp protocols=i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=tcp protocols=i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19320" y="1828800"/>
            <a:ext cx="2706120" cy="3429000"/>
            <a:chOff x="1219320" y="1828800"/>
            <a:chExt cx="2706120" cy="3429000"/>
          </a:xfrm>
        </p:grpSpPr>
        <p:sp>
          <p:nvSpPr>
            <p:cNvPr id="52" name=""/>
            <p:cNvSpPr/>
            <p:nvPr/>
          </p:nvSpPr>
          <p:spPr>
            <a:xfrm>
              <a:off x="1219320" y="1828800"/>
              <a:ext cx="6858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10040" y="1828800"/>
              <a:ext cx="6858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200760" y="1828800"/>
              <a:ext cx="6858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19320" y="3352680"/>
              <a:ext cx="6858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10040" y="2666880"/>
              <a:ext cx="6858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10040" y="3962160"/>
              <a:ext cx="6858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210040" y="4800600"/>
              <a:ext cx="6858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90920" y="2286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2819520" y="228600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29160" y="228600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590920" y="31240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1829160" y="312408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29160" y="3809880"/>
              <a:ext cx="4572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90920" y="44193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281600" y="186696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C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72680" y="186696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187080" y="186696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C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48280" y="270504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21480" y="335268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R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71960" y="4000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34440" y="4902120"/>
              <a:ext cx="78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UPL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3C5A-713B-4233-92BE-04D2357F297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tocol Object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 O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ssn xOpen(Protl hlp, Protl ll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rt *participa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ive O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kReturn xOpenEnable(Protl hlp,Protl ll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rt *participa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kReturn xOpenDone(Protl hl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tl llp,Sessn sess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rt *participa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ultiplex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kReturn xDemux(Protl hlp, Sessn ll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sg *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6DFB-001D-4C09-B4E4-015BF8CB8DB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ession Object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end-point of a cha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ret messages and maintain channel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rt operations for sending and receiving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a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kReturn xPush(Sessn lls,Msg *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iver a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kReturn xPop(Sessn hls, Sessn ll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sg *message,void *hd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8FC0-F8DD-484B-B7DC-60940B628D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cess Mode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71600" y="54100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-per-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54100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-per-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01x16" descr=""/>
          <p:cNvPicPr/>
          <p:nvPr/>
        </p:nvPicPr>
        <p:blipFill>
          <a:blip r:embed="rId1"/>
          <a:stretch/>
        </p:blipFill>
        <p:spPr>
          <a:xfrm>
            <a:off x="3200400" y="1752480"/>
            <a:ext cx="2527200" cy="36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4D9B-D66C-4BE9-ACC1-1F31D0EAD75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essage Librar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51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h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447200" y="2971800"/>
            <a:ext cx="1844640" cy="2437920"/>
            <a:chOff x="1447200" y="2971800"/>
            <a:chExt cx="1844640" cy="2437920"/>
          </a:xfrm>
        </p:grpSpPr>
        <p:sp>
          <p:nvSpPr>
            <p:cNvPr id="84" name=""/>
            <p:cNvSpPr/>
            <p:nvPr/>
          </p:nvSpPr>
          <p:spPr>
            <a:xfrm>
              <a:off x="1995120" y="3368880"/>
              <a:ext cx="844560" cy="376560"/>
            </a:xfrm>
            <a:custGeom>
              <a:avLst/>
              <a:gdLst/>
              <a:ahLst/>
              <a:rect l="l" t="t" r="r" b="b"/>
              <a:pathLst>
                <a:path w="722" h="293">
                  <a:moveTo>
                    <a:pt x="722" y="289"/>
                  </a:moveTo>
                  <a:lnTo>
                    <a:pt x="72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722" y="293"/>
                  </a:lnTo>
                  <a:lnTo>
                    <a:pt x="722" y="293"/>
                  </a:lnTo>
                  <a:lnTo>
                    <a:pt x="722" y="289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95120" y="3368880"/>
              <a:ext cx="844560" cy="376560"/>
            </a:xfrm>
            <a:custGeom>
              <a:avLst/>
              <a:gdLst/>
              <a:ahLst/>
              <a:rect l="l" t="t" r="r" b="b"/>
              <a:pathLst>
                <a:path w="722" h="293">
                  <a:moveTo>
                    <a:pt x="722" y="289"/>
                  </a:moveTo>
                  <a:lnTo>
                    <a:pt x="72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722" y="293"/>
                  </a:lnTo>
                  <a:lnTo>
                    <a:pt x="722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917720" y="5039640"/>
              <a:ext cx="1004760" cy="370080"/>
            </a:xfrm>
            <a:custGeom>
              <a:avLst/>
              <a:gdLst/>
              <a:ahLst/>
              <a:rect l="l" t="t" r="r" b="b"/>
              <a:pathLst>
                <a:path w="859" h="288">
                  <a:moveTo>
                    <a:pt x="859" y="288"/>
                  </a:moveTo>
                  <a:lnTo>
                    <a:pt x="859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859" y="288"/>
                  </a:lnTo>
                  <a:lnTo>
                    <a:pt x="859" y="28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17720" y="5039640"/>
              <a:ext cx="1004760" cy="370080"/>
            </a:xfrm>
            <a:custGeom>
              <a:avLst/>
              <a:gdLst/>
              <a:ahLst/>
              <a:rect l="l" t="t" r="r" b="b"/>
              <a:pathLst>
                <a:path w="859" h="288">
                  <a:moveTo>
                    <a:pt x="859" y="288"/>
                  </a:moveTo>
                  <a:lnTo>
                    <a:pt x="859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859" y="288"/>
                  </a:lnTo>
                  <a:lnTo>
                    <a:pt x="859" y="2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95120" y="3368880"/>
              <a:ext cx="844560" cy="376560"/>
            </a:xfrm>
            <a:custGeom>
              <a:avLst/>
              <a:gdLst/>
              <a:ahLst/>
              <a:rect l="l" t="t" r="r" b="b"/>
              <a:pathLst>
                <a:path w="722" h="293">
                  <a:moveTo>
                    <a:pt x="722" y="289"/>
                  </a:moveTo>
                  <a:lnTo>
                    <a:pt x="72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722" y="293"/>
                  </a:lnTo>
                  <a:lnTo>
                    <a:pt x="722" y="293"/>
                  </a:lnTo>
                  <a:lnTo>
                    <a:pt x="722" y="289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95120" y="3368880"/>
              <a:ext cx="844560" cy="376560"/>
            </a:xfrm>
            <a:custGeom>
              <a:avLst/>
              <a:gdLst/>
              <a:ahLst/>
              <a:rect l="l" t="t" r="r" b="b"/>
              <a:pathLst>
                <a:path w="722" h="293">
                  <a:moveTo>
                    <a:pt x="722" y="289"/>
                  </a:moveTo>
                  <a:lnTo>
                    <a:pt x="72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722" y="293"/>
                  </a:lnTo>
                  <a:lnTo>
                    <a:pt x="722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46680" y="3431880"/>
              <a:ext cx="636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bcdef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68160" y="4158720"/>
              <a:ext cx="477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cop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23200" y="415872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126880" y="41587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27320" y="415872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y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86880" y="41587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603160" y="415872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681640" y="415872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70360" y="4158720"/>
              <a:ext cx="309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3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46920" y="4364280"/>
              <a:ext cx="941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sgAdd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42960" y="436428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39440" y="436428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78040" y="436428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55800" y="436428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81880" y="4364280"/>
              <a:ext cx="309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3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106800" y="3995280"/>
              <a:ext cx="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30680" y="4208760"/>
              <a:ext cx="360" cy="2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17720" y="5039640"/>
              <a:ext cx="1004760" cy="370080"/>
            </a:xfrm>
            <a:custGeom>
              <a:avLst/>
              <a:gdLst/>
              <a:ahLst/>
              <a:rect l="l" t="t" r="r" b="b"/>
              <a:pathLst>
                <a:path w="859" h="288">
                  <a:moveTo>
                    <a:pt x="859" y="288"/>
                  </a:moveTo>
                  <a:lnTo>
                    <a:pt x="859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859" y="288"/>
                  </a:lnTo>
                  <a:lnTo>
                    <a:pt x="859" y="28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17720" y="5039640"/>
              <a:ext cx="1004760" cy="370080"/>
            </a:xfrm>
            <a:custGeom>
              <a:avLst/>
              <a:gdLst/>
              <a:ahLst/>
              <a:rect l="l" t="t" r="r" b="b"/>
              <a:pathLst>
                <a:path w="859" h="288">
                  <a:moveTo>
                    <a:pt x="859" y="288"/>
                  </a:moveTo>
                  <a:lnTo>
                    <a:pt x="859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859" y="288"/>
                  </a:lnTo>
                  <a:lnTo>
                    <a:pt x="859" y="2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01960" y="5104080"/>
              <a:ext cx="906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yzabcdef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15240" y="3830760"/>
              <a:ext cx="720" cy="20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87160" y="4015800"/>
              <a:ext cx="57240" cy="122040"/>
            </a:xfrm>
            <a:custGeom>
              <a:avLst/>
              <a:gdLst/>
              <a:ahLst/>
              <a:rect l="l" t="t" r="r" b="b"/>
              <a:pathLst>
                <a:path w="49" h="95">
                  <a:moveTo>
                    <a:pt x="0" y="0"/>
                  </a:moveTo>
                  <a:lnTo>
                    <a:pt x="24" y="95"/>
                  </a:lnTo>
                  <a:lnTo>
                    <a:pt x="4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15240" y="4642200"/>
              <a:ext cx="720" cy="21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387160" y="4827600"/>
              <a:ext cx="57240" cy="122040"/>
            </a:xfrm>
            <a:custGeom>
              <a:avLst/>
              <a:gdLst/>
              <a:ahLst/>
              <a:rect l="l" t="t" r="r" b="b"/>
              <a:pathLst>
                <a:path w="49" h="95">
                  <a:moveTo>
                    <a:pt x="0" y="0"/>
                  </a:moveTo>
                  <a:lnTo>
                    <a:pt x="24" y="95"/>
                  </a:lnTo>
                  <a:lnTo>
                    <a:pt x="49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47200" y="463572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24320" y="4758120"/>
              <a:ext cx="211680" cy="2016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02160" y="4917600"/>
              <a:ext cx="101520" cy="105120"/>
            </a:xfrm>
            <a:custGeom>
              <a:avLst/>
              <a:gdLst/>
              <a:ahLst/>
              <a:rect l="l" t="t" r="r" b="b"/>
              <a:pathLst>
                <a:path w="87" h="82">
                  <a:moveTo>
                    <a:pt x="0" y="37"/>
                  </a:moveTo>
                  <a:lnTo>
                    <a:pt x="87" y="82"/>
                  </a:lnTo>
                  <a:lnTo>
                    <a:pt x="33" y="0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24960" y="297180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01720" y="3088440"/>
              <a:ext cx="211680" cy="2016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74520" y="3252960"/>
              <a:ext cx="106560" cy="100080"/>
            </a:xfrm>
            <a:custGeom>
              <a:avLst/>
              <a:gdLst/>
              <a:ahLst/>
              <a:rect l="l" t="t" r="r" b="b"/>
              <a:pathLst>
                <a:path w="91" h="78">
                  <a:moveTo>
                    <a:pt x="0" y="37"/>
                  </a:moveTo>
                  <a:lnTo>
                    <a:pt x="91" y="78"/>
                  </a:lnTo>
                  <a:lnTo>
                    <a:pt x="33" y="0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485680" y="2971800"/>
            <a:ext cx="2626920" cy="2133360"/>
            <a:chOff x="5485680" y="2971800"/>
            <a:chExt cx="2626920" cy="2133360"/>
          </a:xfrm>
        </p:grpSpPr>
        <p:sp>
          <p:nvSpPr>
            <p:cNvPr id="121" name=""/>
            <p:cNvSpPr/>
            <p:nvPr/>
          </p:nvSpPr>
          <p:spPr>
            <a:xfrm>
              <a:off x="5958000" y="3315600"/>
              <a:ext cx="1025280" cy="329040"/>
            </a:xfrm>
            <a:custGeom>
              <a:avLst/>
              <a:gdLst/>
              <a:ahLst/>
              <a:rect l="l" t="t" r="r" b="b"/>
              <a:pathLst>
                <a:path w="862" h="293">
                  <a:moveTo>
                    <a:pt x="858" y="293"/>
                  </a:moveTo>
                  <a:lnTo>
                    <a:pt x="86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862" y="293"/>
                  </a:lnTo>
                  <a:lnTo>
                    <a:pt x="862" y="293"/>
                  </a:lnTo>
                  <a:lnTo>
                    <a:pt x="858" y="293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58000" y="3315600"/>
              <a:ext cx="1025280" cy="329040"/>
            </a:xfrm>
            <a:custGeom>
              <a:avLst/>
              <a:gdLst/>
              <a:ahLst/>
              <a:rect l="l" t="t" r="r" b="b"/>
              <a:pathLst>
                <a:path w="862" h="293">
                  <a:moveTo>
                    <a:pt x="858" y="293"/>
                  </a:moveTo>
                  <a:lnTo>
                    <a:pt x="86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862" y="293"/>
                  </a:lnTo>
                  <a:lnTo>
                    <a:pt x="862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85440" y="4776120"/>
              <a:ext cx="775080" cy="329040"/>
            </a:xfrm>
            <a:custGeom>
              <a:avLst/>
              <a:gdLst/>
              <a:ahLst/>
              <a:rect l="l" t="t" r="r" b="b"/>
              <a:pathLst>
                <a:path w="652" h="293">
                  <a:moveTo>
                    <a:pt x="652" y="289"/>
                  </a:moveTo>
                  <a:lnTo>
                    <a:pt x="65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652" y="293"/>
                  </a:lnTo>
                  <a:lnTo>
                    <a:pt x="652" y="293"/>
                  </a:lnTo>
                  <a:lnTo>
                    <a:pt x="652" y="289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85440" y="4776120"/>
              <a:ext cx="775080" cy="329040"/>
            </a:xfrm>
            <a:custGeom>
              <a:avLst/>
              <a:gdLst/>
              <a:ahLst/>
              <a:rect l="l" t="t" r="r" b="b"/>
              <a:pathLst>
                <a:path w="652" h="293">
                  <a:moveTo>
                    <a:pt x="652" y="289"/>
                  </a:moveTo>
                  <a:lnTo>
                    <a:pt x="65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652" y="293"/>
                  </a:lnTo>
                  <a:lnTo>
                    <a:pt x="652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958000" y="3315600"/>
              <a:ext cx="1025280" cy="329040"/>
            </a:xfrm>
            <a:custGeom>
              <a:avLst/>
              <a:gdLst/>
              <a:ahLst/>
              <a:rect l="l" t="t" r="r" b="b"/>
              <a:pathLst>
                <a:path w="862" h="293">
                  <a:moveTo>
                    <a:pt x="858" y="293"/>
                  </a:moveTo>
                  <a:lnTo>
                    <a:pt x="86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862" y="293"/>
                  </a:lnTo>
                  <a:lnTo>
                    <a:pt x="862" y="293"/>
                  </a:lnTo>
                  <a:lnTo>
                    <a:pt x="858" y="293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58000" y="3315600"/>
              <a:ext cx="1025280" cy="329040"/>
            </a:xfrm>
            <a:custGeom>
              <a:avLst/>
              <a:gdLst/>
              <a:ahLst/>
              <a:rect l="l" t="t" r="r" b="b"/>
              <a:pathLst>
                <a:path w="862" h="293">
                  <a:moveTo>
                    <a:pt x="858" y="293"/>
                  </a:moveTo>
                  <a:lnTo>
                    <a:pt x="86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862" y="293"/>
                  </a:lnTo>
                  <a:lnTo>
                    <a:pt x="862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98120" y="3369600"/>
              <a:ext cx="636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bcdef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53000" y="410796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92760" y="4107960"/>
              <a:ext cx="205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38920" y="4107960"/>
              <a:ext cx="991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sgStrip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90040" y="410796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92280" y="41079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15760" y="4107960"/>
              <a:ext cx="309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3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71200" y="3861720"/>
              <a:ext cx="3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89320" y="4047480"/>
              <a:ext cx="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85440" y="4776120"/>
              <a:ext cx="775080" cy="329040"/>
            </a:xfrm>
            <a:custGeom>
              <a:avLst/>
              <a:gdLst/>
              <a:ahLst/>
              <a:rect l="l" t="t" r="r" b="b"/>
              <a:pathLst>
                <a:path w="652" h="293">
                  <a:moveTo>
                    <a:pt x="652" y="289"/>
                  </a:moveTo>
                  <a:lnTo>
                    <a:pt x="65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652" y="293"/>
                  </a:lnTo>
                  <a:lnTo>
                    <a:pt x="652" y="293"/>
                  </a:lnTo>
                  <a:lnTo>
                    <a:pt x="652" y="289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85440" y="4776120"/>
              <a:ext cx="775080" cy="329040"/>
            </a:xfrm>
            <a:custGeom>
              <a:avLst/>
              <a:gdLst/>
              <a:ahLst/>
              <a:rect l="l" t="t" r="r" b="b"/>
              <a:pathLst>
                <a:path w="652" h="293">
                  <a:moveTo>
                    <a:pt x="652" y="289"/>
                  </a:moveTo>
                  <a:lnTo>
                    <a:pt x="65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652" y="293"/>
                  </a:lnTo>
                  <a:lnTo>
                    <a:pt x="652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38520" y="483660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f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68480" y="3719160"/>
              <a:ext cx="108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438600" y="3881160"/>
              <a:ext cx="59400" cy="106560"/>
            </a:xfrm>
            <a:custGeom>
              <a:avLst/>
              <a:gdLst/>
              <a:ahLst/>
              <a:rect l="l" t="t" r="r" b="b"/>
              <a:pathLst>
                <a:path w="50" h="95">
                  <a:moveTo>
                    <a:pt x="0" y="0"/>
                  </a:moveTo>
                  <a:lnTo>
                    <a:pt x="25" y="95"/>
                  </a:lnTo>
                  <a:lnTo>
                    <a:pt x="5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8480" y="4433040"/>
              <a:ext cx="108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438600" y="4590360"/>
              <a:ext cx="59400" cy="106560"/>
            </a:xfrm>
            <a:custGeom>
              <a:avLst/>
              <a:gdLst/>
              <a:ahLst/>
              <a:rect l="l" t="t" r="r" b="b"/>
              <a:pathLst>
                <a:path w="50" h="95">
                  <a:moveTo>
                    <a:pt x="0" y="0"/>
                  </a:moveTo>
                  <a:lnTo>
                    <a:pt x="25" y="95"/>
                  </a:lnTo>
                  <a:lnTo>
                    <a:pt x="5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66720" y="4836600"/>
              <a:ext cx="154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04960" y="483660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43280" y="4836600"/>
              <a:ext cx="205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538400" y="48366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47120" y="4836600"/>
              <a:ext cx="28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b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925400" y="48366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12240" y="4836600"/>
              <a:ext cx="360" cy="2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12760" y="44366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91680" y="4539960"/>
              <a:ext cx="214920" cy="1764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7720" y="4683600"/>
              <a:ext cx="108000" cy="87480"/>
            </a:xfrm>
            <a:custGeom>
              <a:avLst/>
              <a:gdLst/>
              <a:ahLst/>
              <a:rect l="l" t="t" r="r" b="b"/>
              <a:pathLst>
                <a:path w="91" h="78">
                  <a:moveTo>
                    <a:pt x="0" y="33"/>
                  </a:moveTo>
                  <a:lnTo>
                    <a:pt x="91" y="78"/>
                  </a:lnTo>
                  <a:lnTo>
                    <a:pt x="37" y="0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85680" y="297180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63520" y="3073680"/>
              <a:ext cx="216000" cy="1764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40640" y="3218040"/>
              <a:ext cx="108000" cy="87480"/>
            </a:xfrm>
            <a:custGeom>
              <a:avLst/>
              <a:gdLst/>
              <a:ahLst/>
              <a:rect l="l" t="t" r="r" b="b"/>
              <a:pathLst>
                <a:path w="91" h="78">
                  <a:moveTo>
                    <a:pt x="0" y="37"/>
                  </a:moveTo>
                  <a:lnTo>
                    <a:pt x="91" y="78"/>
                  </a:lnTo>
                  <a:lnTo>
                    <a:pt x="37" y="0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5257800" y="1981080"/>
            <a:ext cx="2438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p h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519A-0DAE-44F2-A562-E43588EE1DC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30T19:31:50Z</dcterms:created>
  <dc:creator>Ryan Peterson</dc:creator>
  <dc:description/>
  <dc:language>en-US</dc:language>
  <cp:lastModifiedBy>Elsevier</cp:lastModifiedBy>
  <dcterms:modified xsi:type="dcterms:W3CDTF">2003-11-06T00:26:16Z</dcterms:modified>
  <cp:revision>15</cp:revision>
  <dc:subject/>
  <dc:title>Elements of a Protocol Implementation</dc:title>
</cp:coreProperties>
</file>