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8.wmf" ContentType="image/x-wmf"/>
  <Override PartName="/ppt/media/image3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35.wmf" ContentType="image/x-wmf"/>
  <Override PartName="/ppt/media/image47.wmf" ContentType="image/x-wmf"/>
  <Override PartName="/ppt/media/image36.wmf" ContentType="image/x-wmf"/>
  <Override PartName="/ppt/media/image48.wmf" ContentType="image/x-wmf"/>
  <Override PartName="/ppt/media/image5.png" ContentType="image/png"/>
  <Override PartName="/ppt/media/image37.wmf" ContentType="image/x-wmf"/>
  <Override PartName="/ppt/media/image49.wmf" ContentType="image/x-wmf"/>
  <Override PartName="/ppt/media/image6.png" ContentType="image/png"/>
  <Override PartName="/ppt/media/image33.wmf" ContentType="image/x-wmf"/>
  <Override PartName="/ppt/media/image13.png" ContentType="image/png"/>
  <Override PartName="/ppt/media/image32.wmf" ContentType="image/x-wmf"/>
  <Override PartName="/ppt/media/image12.png" ContentType="image/png"/>
  <Override PartName="/ppt/media/image31.wmf" ContentType="image/x-wmf"/>
  <Override PartName="/ppt/media/image11.png" ContentType="image/png"/>
  <Override PartName="/ppt/media/image42.wmf" ContentType="image/x-wmf"/>
  <Override PartName="/ppt/media/image9.png" ContentType="image/png"/>
  <Override PartName="/ppt/media/image41.wmf" ContentType="image/x-wmf"/>
  <Override PartName="/ppt/media/image8.png" ContentType="image/png"/>
  <Override PartName="/ppt/media/image40.wmf" ContentType="image/x-wmf"/>
  <Override PartName="/ppt/media/image7.png" ContentType="image/png"/>
  <Override PartName="/ppt/media/image10.png" ContentType="image/png"/>
  <Override PartName="/ppt/media/image2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74FF-1173-4F54-A211-0DE54930B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1061-A713-40B7-A45E-D04E26046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de has a randomly assigned 128-bit nodeId, circular nam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operation: A message with key X, sent by any Pastry node, is deli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ive node with nodeId closest to X in at most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N steps (barring node failur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try uses a form of generalized hypercube routing, where the routing tables are initialized and updated dynam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140F-A4A0-4804-95E8-63EE9E8F4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 file storage is mapped onto the Pastry overlay network by maintaing the invariant that replicas of a file are stored on the k nodes that are numerically closest to the file’s numeric fileI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n insert operation, an insert request for the file is routed using the fileId as the key. The node closest to fileId replicates the file on the k-1 next nearest nodes in then name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8245-1780-410D-A039-E15DAB493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 file storage is mapped onto the Pastry overlay network by maintaing the invariant that replicas of a file are stored on the k nodes that are numerically closest to the file’s numeric fileI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n insert operation, an insert request for the file is routed using the fileId as the key. The node closest to fileId replicates the file on the k-1 next nearest nodes in then name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26FD-0826-4CB3-A5F0-21F69674C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point is shown pictorally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okup request is routed in at most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N steps to a node that stores a replica, if one ex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practice, the node among the k that first receives the message serves the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more, network locality properties of Pastry (not discussed in this talk) ensure that this is node is usually the node that is closest to the client in the network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65E4-0BBB-4FC8-976B-6761E514D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de has a randomly assigned 128-bit nodeId, circular nam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operation: A message with key X, sent by any Pastry node, is deli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ive node with nodeId closest to X in at most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N steps (barring node failur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try uses a form of generalized hypercube routing, where the routing tables are initialized and updated dynam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0D55-7E91-4393-9FBD-5C10D02E1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de has a randomly assigned 128-bit nodeId, circular nam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operation: A message with key X, sent by any Pastry node, is deli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ive node with nodeId closest to X in at most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N steps (barring node failur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try uses a form of generalized hypercube routing, where the routing tables are initialized and updated dynam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7A49-8117-4A4C-BB4F-F70956519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de has a randomly assigned 128-bit nodeId, circular nam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operation: A message with key X, sent by any Pastry node, is deli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ive node with nodeId closest to X in at most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N steps (barring node failur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try uses a form of generalized hypercube routing, where the routing tables are initialized and updated dynam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572-9DFC-4DCB-B642-B6D9551D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2E8-7AC1-4921-A442-908FD0D1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8171-5C88-4F78-A64D-82047FF8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6F9-CA04-4D17-B090-115FEBC8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980-201B-4CC9-A5EC-8A63C511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58C-9FC9-40B1-B932-B4B8EE31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688-76EF-48A7-997C-20CACFC3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F12-C021-4A28-A06F-B9C16473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21A-7018-4DCE-9698-2CAD666E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943-3F58-4D26-BEDE-2D4F381F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6CD-5DDC-44D8-9554-7BDE7E97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E87-3E52-474E-9AA4-62F96789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7472-A2C0-42FA-B68D-7F8571FA8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image" Target="../media/image38.wmf"/><Relationship Id="rId10" Type="http://schemas.openxmlformats.org/officeDocument/2006/relationships/image" Target="../media/image39.wmf"/><Relationship Id="rId11" Type="http://schemas.openxmlformats.org/officeDocument/2006/relationships/image" Target="../media/image40.wmf"/><Relationship Id="rId12" Type="http://schemas.openxmlformats.org/officeDocument/2006/relationships/image" Target="../media/image41.wmf"/><Relationship Id="rId13" Type="http://schemas.openxmlformats.org/officeDocument/2006/relationships/image" Target="../media/image42.wmf"/><Relationship Id="rId14" Type="http://schemas.openxmlformats.org/officeDocument/2006/relationships/image" Target="../media/image43.wmf"/><Relationship Id="rId15" Type="http://schemas.openxmlformats.org/officeDocument/2006/relationships/image" Target="../media/image44.wmf"/><Relationship Id="rId16" Type="http://schemas.openxmlformats.org/officeDocument/2006/relationships/image" Target="../media/image45.wmf"/><Relationship Id="rId17" Type="http://schemas.openxmlformats.org/officeDocument/2006/relationships/image" Target="../media/image46.wmf"/><Relationship Id="rId18" Type="http://schemas.openxmlformats.org/officeDocument/2006/relationships/image" Target="../media/image47.wmf"/><Relationship Id="rId19" Type="http://schemas.openxmlformats.org/officeDocument/2006/relationships/image" Target="../media/image48.wmf"/><Relationship Id="rId20" Type="http://schemas.openxmlformats.org/officeDocument/2006/relationships/image" Target="../media/image28.wmf"/><Relationship Id="rId2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image" Target="../media/image28.wmf"/><Relationship Id="rId12" Type="http://schemas.openxmlformats.org/officeDocument/2006/relationships/image" Target="../media/image28.wmf"/><Relationship Id="rId13" Type="http://schemas.openxmlformats.org/officeDocument/2006/relationships/image" Target="../media/image28.wmf"/><Relationship Id="rId14" Type="http://schemas.openxmlformats.org/officeDocument/2006/relationships/image" Target="../media/image28.wmf"/><Relationship Id="rId15" Type="http://schemas.openxmlformats.org/officeDocument/2006/relationships/image" Target="../media/image28.wmf"/><Relationship Id="rId16" Type="http://schemas.openxmlformats.org/officeDocument/2006/relationships/image" Target="../media/image28.wmf"/><Relationship Id="rId17" Type="http://schemas.openxmlformats.org/officeDocument/2006/relationships/image" Target="../media/image28.wmf"/><Relationship Id="rId18" Type="http://schemas.openxmlformats.org/officeDocument/2006/relationships/image" Target="../media/image28.wmf"/><Relationship Id="rId19" Type="http://schemas.openxmlformats.org/officeDocument/2006/relationships/image" Target="../media/image28.wmf"/><Relationship Id="rId20" Type="http://schemas.openxmlformats.org/officeDocument/2006/relationships/image" Target="../media/image28.wmf"/><Relationship Id="rId21" Type="http://schemas.openxmlformats.org/officeDocument/2006/relationships/image" Target="../media/image28.wmf"/><Relationship Id="rId22" Type="http://schemas.openxmlformats.org/officeDocument/2006/relationships/image" Target="../media/image28.wmf"/><Relationship Id="rId23" Type="http://schemas.openxmlformats.org/officeDocument/2006/relationships/image" Target="../media/image28.wmf"/><Relationship Id="rId24" Type="http://schemas.openxmlformats.org/officeDocument/2006/relationships/image" Target="../media/image28.wmf"/><Relationship Id="rId25" Type="http://schemas.openxmlformats.org/officeDocument/2006/relationships/image" Target="../media/image28.wmf"/><Relationship Id="rId26" Type="http://schemas.openxmlformats.org/officeDocument/2006/relationships/image" Target="../media/image28.wmf"/><Relationship Id="rId27" Type="http://schemas.openxmlformats.org/officeDocument/2006/relationships/image" Target="../media/image28.wmf"/><Relationship Id="rId28" Type="http://schemas.openxmlformats.org/officeDocument/2006/relationships/slideLayout" Target="../slideLayouts/slideLayout5.xml"/><Relationship Id="rId2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image" Target="../media/image28.wmf"/><Relationship Id="rId12" Type="http://schemas.openxmlformats.org/officeDocument/2006/relationships/image" Target="../media/image28.wmf"/><Relationship Id="rId13" Type="http://schemas.openxmlformats.org/officeDocument/2006/relationships/image" Target="../media/image28.wmf"/><Relationship Id="rId14" Type="http://schemas.openxmlformats.org/officeDocument/2006/relationships/image" Target="../media/image28.wmf"/><Relationship Id="rId15" Type="http://schemas.openxmlformats.org/officeDocument/2006/relationships/image" Target="../media/image28.wmf"/><Relationship Id="rId16" Type="http://schemas.openxmlformats.org/officeDocument/2006/relationships/image" Target="../media/image28.wmf"/><Relationship Id="rId17" Type="http://schemas.openxmlformats.org/officeDocument/2006/relationships/image" Target="../media/image28.wmf"/><Relationship Id="rId18" Type="http://schemas.openxmlformats.org/officeDocument/2006/relationships/image" Target="../media/image28.wmf"/><Relationship Id="rId19" Type="http://schemas.openxmlformats.org/officeDocument/2006/relationships/image" Target="../media/image28.wmf"/><Relationship Id="rId20" Type="http://schemas.openxmlformats.org/officeDocument/2006/relationships/image" Target="../media/image28.wmf"/><Relationship Id="rId21" Type="http://schemas.openxmlformats.org/officeDocument/2006/relationships/image" Target="../media/image28.wmf"/><Relationship Id="rId22" Type="http://schemas.openxmlformats.org/officeDocument/2006/relationships/image" Target="../media/image28.wmf"/><Relationship Id="rId23" Type="http://schemas.openxmlformats.org/officeDocument/2006/relationships/image" Target="../media/image28.wmf"/><Relationship Id="rId24" Type="http://schemas.openxmlformats.org/officeDocument/2006/relationships/image" Target="../media/image28.wmf"/><Relationship Id="rId25" Type="http://schemas.openxmlformats.org/officeDocument/2006/relationships/image" Target="../media/image28.wmf"/><Relationship Id="rId26" Type="http://schemas.openxmlformats.org/officeDocument/2006/relationships/image" Target="../media/image28.wmf"/><Relationship Id="rId27" Type="http://schemas.openxmlformats.org/officeDocument/2006/relationships/image" Target="../media/image28.wmf"/><Relationship Id="rId28" Type="http://schemas.openxmlformats.org/officeDocument/2006/relationships/slideLayout" Target="../slideLayouts/slideLayout5.xml"/><Relationship Id="rId2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image" Target="../media/image28.wmf"/><Relationship Id="rId12" Type="http://schemas.openxmlformats.org/officeDocument/2006/relationships/image" Target="../media/image28.wmf"/><Relationship Id="rId13" Type="http://schemas.openxmlformats.org/officeDocument/2006/relationships/image" Target="../media/image28.wmf"/><Relationship Id="rId14" Type="http://schemas.openxmlformats.org/officeDocument/2006/relationships/image" Target="../media/image28.wmf"/><Relationship Id="rId15" Type="http://schemas.openxmlformats.org/officeDocument/2006/relationships/image" Target="../media/image28.wmf"/><Relationship Id="rId16" Type="http://schemas.openxmlformats.org/officeDocument/2006/relationships/image" Target="../media/image28.wmf"/><Relationship Id="rId17" Type="http://schemas.openxmlformats.org/officeDocument/2006/relationships/image" Target="../media/image28.wmf"/><Relationship Id="rId18" Type="http://schemas.openxmlformats.org/officeDocument/2006/relationships/image" Target="../media/image28.wmf"/><Relationship Id="rId19" Type="http://schemas.openxmlformats.org/officeDocument/2006/relationships/image" Target="../media/image28.wmf"/><Relationship Id="rId20" Type="http://schemas.openxmlformats.org/officeDocument/2006/relationships/image" Target="../media/image28.wmf"/><Relationship Id="rId21" Type="http://schemas.openxmlformats.org/officeDocument/2006/relationships/image" Target="../media/image28.wmf"/><Relationship Id="rId22" Type="http://schemas.openxmlformats.org/officeDocument/2006/relationships/image" Target="../media/image28.wmf"/><Relationship Id="rId23" Type="http://schemas.openxmlformats.org/officeDocument/2006/relationships/image" Target="../media/image28.wmf"/><Relationship Id="rId24" Type="http://schemas.openxmlformats.org/officeDocument/2006/relationships/image" Target="../media/image28.wmf"/><Relationship Id="rId25" Type="http://schemas.openxmlformats.org/officeDocument/2006/relationships/image" Target="../media/image28.wmf"/><Relationship Id="rId26" Type="http://schemas.openxmlformats.org/officeDocument/2006/relationships/image" Target="../media/image28.wmf"/><Relationship Id="rId27" Type="http://schemas.openxmlformats.org/officeDocument/2006/relationships/slideLayout" Target="../slideLayouts/slideLayout5.xml"/><Relationship Id="rId2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5.xml"/><Relationship Id="rId2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image" Target="../media/image28.wmf"/><Relationship Id="rId12" Type="http://schemas.openxmlformats.org/officeDocument/2006/relationships/image" Target="../media/image28.wmf"/><Relationship Id="rId13" Type="http://schemas.openxmlformats.org/officeDocument/2006/relationships/image" Target="../media/image28.wmf"/><Relationship Id="rId14" Type="http://schemas.openxmlformats.org/officeDocument/2006/relationships/image" Target="../media/image28.wmf"/><Relationship Id="rId15" Type="http://schemas.openxmlformats.org/officeDocument/2006/relationships/image" Target="../media/image28.wmf"/><Relationship Id="rId16" Type="http://schemas.openxmlformats.org/officeDocument/2006/relationships/image" Target="../media/image28.wmf"/><Relationship Id="rId17" Type="http://schemas.openxmlformats.org/officeDocument/2006/relationships/image" Target="../media/image28.wmf"/><Relationship Id="rId18" Type="http://schemas.openxmlformats.org/officeDocument/2006/relationships/image" Target="../media/image28.wmf"/><Relationship Id="rId19" Type="http://schemas.openxmlformats.org/officeDocument/2006/relationships/image" Target="../media/image28.wmf"/><Relationship Id="rId20" Type="http://schemas.openxmlformats.org/officeDocument/2006/relationships/image" Target="../media/image28.wmf"/><Relationship Id="rId21" Type="http://schemas.openxmlformats.org/officeDocument/2006/relationships/image" Target="../media/image28.wmf"/><Relationship Id="rId22" Type="http://schemas.openxmlformats.org/officeDocument/2006/relationships/image" Target="../media/image28.wmf"/><Relationship Id="rId23" Type="http://schemas.openxmlformats.org/officeDocument/2006/relationships/image" Target="../media/image28.wmf"/><Relationship Id="rId24" Type="http://schemas.openxmlformats.org/officeDocument/2006/relationships/image" Target="../media/image28.wmf"/><Relationship Id="rId25" Type="http://schemas.openxmlformats.org/officeDocument/2006/relationships/image" Target="../media/image28.wmf"/><Relationship Id="rId26" Type="http://schemas.openxmlformats.org/officeDocument/2006/relationships/image" Target="../media/image28.wmf"/><Relationship Id="rId27" Type="http://schemas.openxmlformats.org/officeDocument/2006/relationships/image" Target="../media/image28.wmf"/><Relationship Id="rId28" Type="http://schemas.openxmlformats.org/officeDocument/2006/relationships/slideLayout" Target="../slideLayouts/slideLayout5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eer-to-Peer Network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327672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organizing overlay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system on top of P2P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ibutions from Peter Drusch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5C33-F6CC-4980-820D-CABAD427E29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3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eaf Se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00080" y="2892600"/>
            <a:ext cx="730404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ach node maintains IP addresses of  the nodes with the L numerically closest larger and smaller nodeIds, respectiv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g efficiency/robustn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 detection (keep-al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-specific local 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017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4303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6589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28875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31161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33447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35733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38019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40305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42591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44877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47163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49449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4"/>
          <a:stretch/>
        </p:blipFill>
        <p:spPr>
          <a:xfrm>
            <a:off x="51735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>
            <a:off x="54021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6"/>
          <a:stretch/>
        </p:blipFill>
        <p:spPr>
          <a:xfrm>
            <a:off x="56307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7"/>
          <a:stretch/>
        </p:blipFill>
        <p:spPr>
          <a:xfrm>
            <a:off x="58593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8"/>
          <a:stretch/>
        </p:blipFill>
        <p:spPr>
          <a:xfrm>
            <a:off x="60879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9"/>
          <a:stretch/>
        </p:blipFill>
        <p:spPr>
          <a:xfrm>
            <a:off x="6316560" y="144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0"/>
          <a:stretch/>
        </p:blipFill>
        <p:spPr>
          <a:xfrm>
            <a:off x="6545160" y="1447920"/>
            <a:ext cx="162000" cy="161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119480" y="1636560"/>
            <a:ext cx="0" cy="193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9480" y="1817640"/>
            <a:ext cx="18655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2290680" y="1804680"/>
            <a:ext cx="1828800" cy="12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75040" y="2009880"/>
            <a:ext cx="0" cy="349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75040" y="2346480"/>
            <a:ext cx="18655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984400" y="2346480"/>
            <a:ext cx="1790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2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ing Proced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3240" y="1494000"/>
            <a:ext cx="7788600" cy="45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destination is within range of our leaf se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to numerically closest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length of shared pref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digit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xist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to a known node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 shares at least as long a pre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is numerically closer than this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D71-B642-4342-AEAA-9AA0F1D4EAC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620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360" y="1698480"/>
            <a:ext cx="77724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grity of over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d unless L/2 simultaneous failures of nodes with adjacent node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routing ho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ailures: 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ed, 128/b + 1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failure recov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(N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st case, average case much be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CB3C-4D91-484F-ADEE-2BB67AE6F4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Node Addition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98920" y="4354200"/>
            <a:ext cx="334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09x26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81680" cy="420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758-5891-47ED-BE60-2B237A26A98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ode Departure (Failure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f set members exchange keep-aliv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f set repair (eager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quest set from farthest live node in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uting table repair (lazy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t table from peers in the same row, then higher 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C3B-C04E-4131-A56B-5E0D390347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PI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ute(M, X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ute mess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node with nodeId numerically closes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liver(M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liver mess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warding(M, X)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being forwarded towards ke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wLeaf(L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ort change in leaf 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ppl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A9E-CF6C-4967-9839-9BB0A2F305F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ST: Cooperative, archival file storage and distribu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03440" y="1633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ered on top of Pa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pers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cost (no bac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use of pooled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ST API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store replica of a file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verse storage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retrieve file from a nearby live storage node that holds a 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lai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free storage associated with a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mmu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11C-AF4D-49AC-B404-956AF4CB6A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PAST: File storage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324160" y="1692360"/>
            <a:ext cx="4581360" cy="4429080"/>
            <a:chOff x="2324160" y="1692360"/>
            <a:chExt cx="4581360" cy="4429080"/>
          </a:xfrm>
        </p:grpSpPr>
        <p:sp>
          <p:nvSpPr>
            <p:cNvPr id="213" name=""/>
            <p:cNvSpPr/>
            <p:nvPr/>
          </p:nvSpPr>
          <p:spPr>
            <a:xfrm>
              <a:off x="2400480" y="1692360"/>
              <a:ext cx="4419360" cy="434340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6743880" y="3597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6667560" y="3216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6438960" y="26830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6591240" y="46641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5"/>
            <a:stretch/>
          </p:blipFill>
          <p:spPr>
            <a:xfrm>
              <a:off x="6134040" y="52736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6"/>
            <a:stretch/>
          </p:blipFill>
          <p:spPr>
            <a:xfrm>
              <a:off x="2552760" y="29116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7"/>
            <a:stretch/>
          </p:blipFill>
          <p:spPr>
            <a:xfrm>
              <a:off x="2476440" y="451188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8"/>
            <a:stretch/>
          </p:blipFill>
          <p:spPr>
            <a:xfrm>
              <a:off x="2857680" y="24544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9"/>
            <a:stretch/>
          </p:blipFill>
          <p:spPr>
            <a:xfrm>
              <a:off x="3695760" y="18064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0"/>
            <a:stretch/>
          </p:blipFill>
          <p:spPr>
            <a:xfrm>
              <a:off x="4457880" y="59594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1"/>
            <a:stretch/>
          </p:blipFill>
          <p:spPr>
            <a:xfrm>
              <a:off x="5143680" y="16923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2"/>
            <a:stretch/>
          </p:blipFill>
          <p:spPr>
            <a:xfrm>
              <a:off x="3086280" y="22258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3"/>
            <a:stretch/>
          </p:blipFill>
          <p:spPr>
            <a:xfrm>
              <a:off x="2324160" y="3978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4"/>
            <a:stretch/>
          </p:blipFill>
          <p:spPr>
            <a:xfrm>
              <a:off x="3762360" y="5826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5"/>
            <a:stretch/>
          </p:blipFill>
          <p:spPr>
            <a:xfrm>
              <a:off x="2629080" y="48927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6"/>
            <a:stretch/>
          </p:blipFill>
          <p:spPr>
            <a:xfrm>
              <a:off x="3543480" y="57308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7"/>
            <a:stretch/>
          </p:blipFill>
          <p:spPr>
            <a:xfrm>
              <a:off x="5829480" y="55785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8"/>
            <a:stretch/>
          </p:blipFill>
          <p:spPr>
            <a:xfrm>
              <a:off x="4076640" y="16923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9"/>
            <a:stretch/>
          </p:blipFill>
          <p:spPr>
            <a:xfrm>
              <a:off x="5778360" y="2008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20"/>
            <a:stretch/>
          </p:blipFill>
          <p:spPr>
            <a:xfrm>
              <a:off x="2400480" y="32925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21"/>
            <a:stretch/>
          </p:blipFill>
          <p:spPr>
            <a:xfrm>
              <a:off x="6362640" y="50450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2"/>
            <a:stretch/>
          </p:blipFill>
          <p:spPr>
            <a:xfrm>
              <a:off x="5372280" y="58071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3"/>
            <a:stretch/>
          </p:blipFill>
          <p:spPr>
            <a:xfrm>
              <a:off x="3314880" y="557856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flipH="1">
              <a:off x="5778360" y="2513160"/>
              <a:ext cx="53352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77720" y="2799720"/>
              <a:ext cx="9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74209"/>
                  </a:solidFill>
                  <a:latin typeface="Times New Roman"/>
                </a:rPr>
                <a:t>file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9" name=""/>
            <p:cNvCxnSpPr>
              <a:stCxn id="236" idx="0"/>
              <a:endCxn id="240" idx="1"/>
            </p:cNvCxnSpPr>
            <p:nvPr/>
          </p:nvCxnSpPr>
          <p:spPr>
            <a:xfrm flipH="1" flipV="1" rot="5400000">
              <a:off x="4461840" y="3296520"/>
              <a:ext cx="1215360" cy="3349080"/>
            </a:xfrm>
            <a:prstGeom prst="curvedConnector2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pic>
          <p:nvPicPr>
            <p:cNvPr id="241" name="" descr=""/>
            <p:cNvPicPr/>
            <p:nvPr/>
          </p:nvPicPr>
          <p:blipFill>
            <a:blip r:embed="rId24"/>
            <a:stretch/>
          </p:blipFill>
          <p:spPr>
            <a:xfrm>
              <a:off x="6743880" y="4283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5"/>
            <a:stretch/>
          </p:blipFill>
          <p:spPr>
            <a:xfrm>
              <a:off x="5981760" y="214956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6"/>
            <a:stretch/>
          </p:blipFill>
          <p:spPr>
            <a:xfrm>
              <a:off x="3086280" y="542628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7"/>
            <a:stretch/>
          </p:blipFill>
          <p:spPr>
            <a:xfrm>
              <a:off x="3416400" y="19083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5" name=""/>
            <p:cNvCxnSpPr>
              <a:stCxn id="241" idx="1"/>
              <a:endCxn id="215" idx="1"/>
            </p:cNvCxnSpPr>
            <p:nvPr/>
          </p:nvCxnSpPr>
          <p:spPr>
            <a:xfrm rot="10800000">
              <a:off x="6667560" y="3296520"/>
              <a:ext cx="76680" cy="1067400"/>
            </a:xfrm>
            <a:prstGeom prst="curvedConnector5">
              <a:avLst>
                <a:gd name="adj1" fmla="val 401415"/>
                <a:gd name="adj2" fmla="val 50000"/>
                <a:gd name="adj3" fmla="val 401415"/>
              </a:avLst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15" idx="1"/>
              <a:endCxn id="216" idx="1"/>
            </p:cNvCxnSpPr>
            <p:nvPr/>
          </p:nvCxnSpPr>
          <p:spPr>
            <a:xfrm rot="10800000">
              <a:off x="6438240" y="2763000"/>
              <a:ext cx="229320" cy="534240"/>
            </a:xfrm>
            <a:prstGeom prst="curvedConnector5">
              <a:avLst>
                <a:gd name="adj1" fmla="val 200000"/>
                <a:gd name="adj2" fmla="val 49966"/>
                <a:gd name="adj3" fmla="val 200000"/>
              </a:avLst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247" name=""/>
            <p:cNvSpPr/>
            <p:nvPr/>
          </p:nvSpPr>
          <p:spPr>
            <a:xfrm>
              <a:off x="2841840" y="4144320"/>
              <a:ext cx="183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99"/>
                  </a:solidFill>
                  <a:latin typeface="Times New Roman"/>
                </a:rPr>
                <a:t>Insert </a:t>
              </a:r>
              <a:r>
                <a:rPr b="0" i="1" lang="en-US" sz="2800" spc="-1" strike="noStrike">
                  <a:solidFill>
                    <a:srgbClr val="66ff99"/>
                  </a:solidFill>
                  <a:latin typeface="Times New Roman"/>
                </a:rPr>
                <a:t>file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5BE-D36D-47A4-869C-734188C7F89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764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PAST: File storage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89440" y="2230560"/>
            <a:ext cx="3289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age Invari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“replicas”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d on k no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node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st to file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k is bounded by the leaf set 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720" y="1778040"/>
            <a:ext cx="4734360" cy="4505400"/>
            <a:chOff x="558720" y="1778040"/>
            <a:chExt cx="4734360" cy="4505400"/>
          </a:xfrm>
        </p:grpSpPr>
        <p:sp>
          <p:nvSpPr>
            <p:cNvPr id="251" name=""/>
            <p:cNvSpPr/>
            <p:nvPr/>
          </p:nvSpPr>
          <p:spPr>
            <a:xfrm>
              <a:off x="635040" y="1854360"/>
              <a:ext cx="4419720" cy="434340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4978440" y="37591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2"/>
            <a:stretch/>
          </p:blipFill>
          <p:spPr>
            <a:xfrm>
              <a:off x="4902120" y="33782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4673520" y="28447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4"/>
            <a:stretch/>
          </p:blipFill>
          <p:spPr>
            <a:xfrm>
              <a:off x="4826160" y="48261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5"/>
            <a:stretch/>
          </p:blipFill>
          <p:spPr>
            <a:xfrm>
              <a:off x="4368960" y="54356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6"/>
            <a:stretch/>
          </p:blipFill>
          <p:spPr>
            <a:xfrm>
              <a:off x="787320" y="30733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7"/>
            <a:stretch/>
          </p:blipFill>
          <p:spPr>
            <a:xfrm>
              <a:off x="711360" y="467352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tretch/>
          </p:blipFill>
          <p:spPr>
            <a:xfrm>
              <a:off x="1092240" y="26161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9"/>
            <a:stretch/>
          </p:blipFill>
          <p:spPr>
            <a:xfrm>
              <a:off x="1930320" y="20066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0"/>
            <a:stretch/>
          </p:blipFill>
          <p:spPr>
            <a:xfrm>
              <a:off x="2692440" y="61214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1"/>
            <a:stretch/>
          </p:blipFill>
          <p:spPr>
            <a:xfrm>
              <a:off x="3378240" y="18543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2"/>
            <a:stretch/>
          </p:blipFill>
          <p:spPr>
            <a:xfrm>
              <a:off x="1320840" y="23875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13"/>
            <a:stretch/>
          </p:blipFill>
          <p:spPr>
            <a:xfrm>
              <a:off x="558720" y="41403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4"/>
            <a:stretch/>
          </p:blipFill>
          <p:spPr>
            <a:xfrm>
              <a:off x="1996920" y="59878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5"/>
            <a:stretch/>
          </p:blipFill>
          <p:spPr>
            <a:xfrm>
              <a:off x="863640" y="50547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16"/>
            <a:stretch/>
          </p:blipFill>
          <p:spPr>
            <a:xfrm>
              <a:off x="1778040" y="58928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17"/>
            <a:stretch/>
          </p:blipFill>
          <p:spPr>
            <a:xfrm>
              <a:off x="4064040" y="57405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18"/>
            <a:stretch/>
          </p:blipFill>
          <p:spPr>
            <a:xfrm>
              <a:off x="2311560" y="1854360"/>
              <a:ext cx="1616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19"/>
            <a:stretch/>
          </p:blipFill>
          <p:spPr>
            <a:xfrm>
              <a:off x="4013280" y="217008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20"/>
            <a:stretch/>
          </p:blipFill>
          <p:spPr>
            <a:xfrm>
              <a:off x="635040" y="34545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21"/>
            <a:stretch/>
          </p:blipFill>
          <p:spPr>
            <a:xfrm>
              <a:off x="4597560" y="5207040"/>
              <a:ext cx="1616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22"/>
            <a:stretch/>
          </p:blipFill>
          <p:spPr>
            <a:xfrm>
              <a:off x="3606840" y="59691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3"/>
            <a:stretch/>
          </p:blipFill>
          <p:spPr>
            <a:xfrm>
              <a:off x="1549440" y="57405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 flipH="1">
              <a:off x="4012920" y="2674800"/>
              <a:ext cx="53316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12640" y="2961720"/>
              <a:ext cx="9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74209"/>
                  </a:solidFill>
                  <a:latin typeface="Times New Roman"/>
                </a:rPr>
                <a:t>file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74" idx="0"/>
              <a:endCxn id="255" idx="1"/>
            </p:cNvCxnSpPr>
            <p:nvPr/>
          </p:nvCxnSpPr>
          <p:spPr>
            <a:xfrm flipH="1" flipV="1" rot="5400000">
              <a:off x="2810880" y="3725280"/>
              <a:ext cx="834480" cy="3196440"/>
            </a:xfrm>
            <a:prstGeom prst="curvedConnector2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pic>
          <p:nvPicPr>
            <p:cNvPr id="278" name="" descr=""/>
            <p:cNvPicPr/>
            <p:nvPr/>
          </p:nvPicPr>
          <p:blipFill>
            <a:blip r:embed="rId24"/>
            <a:stretch/>
          </p:blipFill>
          <p:spPr>
            <a:xfrm>
              <a:off x="4978440" y="4444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5"/>
            <a:stretch/>
          </p:blipFill>
          <p:spPr>
            <a:xfrm>
              <a:off x="4216320" y="231156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26"/>
            <a:stretch/>
          </p:blipFill>
          <p:spPr>
            <a:xfrm>
              <a:off x="1320840" y="558792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27"/>
            <a:stretch/>
          </p:blipFill>
          <p:spPr>
            <a:xfrm>
              <a:off x="2616120" y="1778040"/>
              <a:ext cx="162000" cy="162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82" name=""/>
            <p:cNvCxnSpPr>
              <a:stCxn id="255" idx="1"/>
              <a:endCxn id="252" idx="1"/>
            </p:cNvCxnSpPr>
            <p:nvPr/>
          </p:nvCxnSpPr>
          <p:spPr>
            <a:xfrm flipH="1" rot="10800000">
              <a:off x="4825080" y="3839400"/>
              <a:ext cx="153000" cy="1067400"/>
            </a:xfrm>
            <a:prstGeom prst="curvedConnector5">
              <a:avLst>
                <a:gd name="adj1" fmla="val -150000"/>
                <a:gd name="adj2" fmla="val 50000"/>
                <a:gd name="adj3" fmla="val -150000"/>
              </a:avLst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cxnSp>
          <p:nvCxnSpPr>
            <p:cNvPr id="283" name=""/>
            <p:cNvCxnSpPr>
              <a:stCxn id="252" idx="1"/>
              <a:endCxn id="254" idx="1"/>
            </p:cNvCxnSpPr>
            <p:nvPr/>
          </p:nvCxnSpPr>
          <p:spPr>
            <a:xfrm rot="10800000">
              <a:off x="4672800" y="2925000"/>
              <a:ext cx="305640" cy="915120"/>
            </a:xfrm>
            <a:prstGeom prst="curvedConnector5">
              <a:avLst>
                <a:gd name="adj1" fmla="val 175000"/>
                <a:gd name="adj2" fmla="val 49980"/>
                <a:gd name="adj3" fmla="val 175000"/>
              </a:avLst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cxnSp>
          <p:nvCxnSpPr>
            <p:cNvPr id="284" name=""/>
            <p:cNvCxnSpPr>
              <a:stCxn id="254" idx="3"/>
              <a:endCxn id="253" idx="3"/>
            </p:cNvCxnSpPr>
            <p:nvPr/>
          </p:nvCxnSpPr>
          <p:spPr>
            <a:xfrm>
              <a:off x="4835160" y="2925720"/>
              <a:ext cx="229320" cy="534240"/>
            </a:xfrm>
            <a:prstGeom prst="curvedConnector5">
              <a:avLst>
                <a:gd name="adj1" fmla="val 200000"/>
                <a:gd name="adj2" fmla="val 49966"/>
                <a:gd name="adj3" fmla="val 200000"/>
              </a:avLst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54" idx="3"/>
              <a:endCxn id="270" idx="0"/>
            </p:cNvCxnSpPr>
            <p:nvPr/>
          </p:nvCxnSpPr>
          <p:spPr>
            <a:xfrm flipH="1" flipV="1">
              <a:off x="4093560" y="2169360"/>
              <a:ext cx="741960" cy="756360"/>
            </a:xfrm>
            <a:prstGeom prst="curvedConnector5">
              <a:avLst>
                <a:gd name="adj1" fmla="val -30825"/>
                <a:gd name="adj2" fmla="val 65095"/>
                <a:gd name="adj3" fmla="val -30825"/>
              </a:avLst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54" idx="3"/>
              <a:endCxn id="279" idx="3"/>
            </p:cNvCxnSpPr>
            <p:nvPr/>
          </p:nvCxnSpPr>
          <p:spPr>
            <a:xfrm flipH="1" flipV="1">
              <a:off x="4377960" y="2391840"/>
              <a:ext cx="457920" cy="534240"/>
            </a:xfrm>
            <a:prstGeom prst="curvedConnector5">
              <a:avLst>
                <a:gd name="adj1" fmla="val -49960"/>
                <a:gd name="adj2" fmla="val 49966"/>
                <a:gd name="adj3" fmla="val -49960"/>
              </a:avLst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287" name=""/>
            <p:cNvSpPr/>
            <p:nvPr/>
          </p:nvSpPr>
          <p:spPr>
            <a:xfrm>
              <a:off x="1400040" y="4393440"/>
              <a:ext cx="193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99"/>
                  </a:solidFill>
                  <a:latin typeface="Times New Roman"/>
                </a:rPr>
                <a:t>Insert </a:t>
              </a:r>
              <a:r>
                <a:rPr b="0" i="1" lang="en-US" sz="2800" spc="-1" strike="noStrike">
                  <a:solidFill>
                    <a:srgbClr val="66ff99"/>
                  </a:solidFill>
                  <a:latin typeface="Times New Roman"/>
                </a:rPr>
                <a:t>file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9813200">
              <a:off x="4273560" y="1866960"/>
              <a:ext cx="488880" cy="1857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56040" y="2170080"/>
              <a:ext cx="8125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=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0A1-74CF-4E2B-8A29-61E1F728877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ackgroun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2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PAST: File Retrieva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5680" y="2095560"/>
            <a:ext cx="4419360" cy="43434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699080" y="40006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622760" y="36194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394160" y="30862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546440" y="5067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4089240" y="56768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4241880" y="28576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7"/>
          <a:stretch/>
        </p:blipFill>
        <p:spPr>
          <a:xfrm>
            <a:off x="507960" y="33148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8"/>
          <a:stretch/>
        </p:blipFill>
        <p:spPr>
          <a:xfrm>
            <a:off x="431640" y="49150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9"/>
          <a:stretch/>
        </p:blipFill>
        <p:spPr>
          <a:xfrm>
            <a:off x="812880" y="28576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0"/>
          <a:stretch/>
        </p:blipFill>
        <p:spPr>
          <a:xfrm>
            <a:off x="1501920" y="2268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1"/>
          <a:stretch/>
        </p:blipFill>
        <p:spPr>
          <a:xfrm>
            <a:off x="2413080" y="63626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2"/>
          <a:stretch/>
        </p:blipFill>
        <p:spPr>
          <a:xfrm>
            <a:off x="3098880" y="20955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3"/>
          <a:stretch/>
        </p:blipFill>
        <p:spPr>
          <a:xfrm>
            <a:off x="1041480" y="26290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4"/>
          <a:stretch/>
        </p:blipFill>
        <p:spPr>
          <a:xfrm>
            <a:off x="1717560" y="62294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5"/>
          <a:stretch/>
        </p:blipFill>
        <p:spPr>
          <a:xfrm>
            <a:off x="584280" y="52959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6"/>
          <a:stretch/>
        </p:blipFill>
        <p:spPr>
          <a:xfrm>
            <a:off x="1498680" y="61340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7"/>
          <a:stretch/>
        </p:blipFill>
        <p:spPr>
          <a:xfrm>
            <a:off x="3784680" y="59817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8"/>
          <a:stretch/>
        </p:blipFill>
        <p:spPr>
          <a:xfrm>
            <a:off x="2031840" y="20955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9"/>
          <a:stretch/>
        </p:blipFill>
        <p:spPr>
          <a:xfrm>
            <a:off x="3403440" y="22478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0"/>
          <a:stretch/>
        </p:blipFill>
        <p:spPr>
          <a:xfrm>
            <a:off x="355680" y="36957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1"/>
          <a:stretch/>
        </p:blipFill>
        <p:spPr>
          <a:xfrm>
            <a:off x="4317840" y="54482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2"/>
          <a:stretch/>
        </p:blipFill>
        <p:spPr>
          <a:xfrm>
            <a:off x="3327480" y="6210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3"/>
          <a:stretch/>
        </p:blipFill>
        <p:spPr>
          <a:xfrm>
            <a:off x="1270080" y="598176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 flipH="1">
            <a:off x="3860640" y="3086280"/>
            <a:ext cx="53352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22200" y="331416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4209"/>
                </a:solidFill>
                <a:latin typeface="Times New Roman"/>
              </a:rPr>
              <a:t>fil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4"/>
          <a:stretch/>
        </p:blipFill>
        <p:spPr>
          <a:xfrm>
            <a:off x="4699080" y="46864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5"/>
          <a:stretch/>
        </p:blipFill>
        <p:spPr>
          <a:xfrm>
            <a:off x="3936960" y="25527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6"/>
          <a:stretch/>
        </p:blipFill>
        <p:spPr>
          <a:xfrm>
            <a:off x="1041480" y="5829480"/>
            <a:ext cx="162000" cy="1616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 rot="19813200">
            <a:off x="4089240" y="2247480"/>
            <a:ext cx="527040" cy="174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305" idx="2"/>
            <a:endCxn id="318" idx="1"/>
          </p:cNvCxnSpPr>
          <p:nvPr/>
        </p:nvCxnSpPr>
        <p:spPr>
          <a:xfrm flipH="1" rot="16200000">
            <a:off x="1921680" y="1990440"/>
            <a:ext cx="1977120" cy="3577320"/>
          </a:xfrm>
          <a:prstGeom prst="curvedConnector2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18" idx="1"/>
            <a:endCxn id="294" idx="1"/>
          </p:cNvCxnSpPr>
          <p:nvPr/>
        </p:nvCxnSpPr>
        <p:spPr>
          <a:xfrm rot="10800000">
            <a:off x="4622760" y="3699720"/>
            <a:ext cx="76680" cy="1067400"/>
          </a:xfrm>
          <a:prstGeom prst="curvedConnector5">
            <a:avLst>
              <a:gd name="adj1" fmla="val 401415"/>
              <a:gd name="adj2" fmla="val 50000"/>
              <a:gd name="adj3" fmla="val 401415"/>
            </a:avLst>
          </a:prstGeom>
          <a:ln w="255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5676840" y="3253680"/>
            <a:ext cx="3467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located in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 steps (expec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locates replica nearest clien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47120" y="300924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Times New Roman"/>
              </a:rPr>
              <a:t>Loo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25480" y="2186640"/>
            <a:ext cx="17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repl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2110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469-4189-4292-966F-FAC8823587D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2840" y="1447920"/>
            <a:ext cx="802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on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pster, Gnutella, Free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ademic Prot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ry, Chord, CAN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mmon Issu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, maintain overlay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arri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allocation/load bala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ty (network proxim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neric p2p subst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628-0CB2-41D1-B81F-38DFEDBDA5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rchite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2440" y="5214960"/>
            <a:ext cx="2111400" cy="68112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55760" y="532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03240" y="4016520"/>
            <a:ext cx="2111400" cy="680760"/>
          </a:xfrm>
          <a:prstGeom prst="rect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480" y="412740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P Sub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32080" y="2139840"/>
            <a:ext cx="1398600" cy="93528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82840" y="2211480"/>
            <a:ext cx="132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2800" y="2139840"/>
            <a:ext cx="1579680" cy="93528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0360" y="2160720"/>
            <a:ext cx="15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44720" y="3578400"/>
            <a:ext cx="5754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4954680"/>
            <a:ext cx="5754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73000" y="53370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1600" y="3586320"/>
            <a:ext cx="250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organ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ay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90920" y="248112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2p application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86120" y="4724280"/>
            <a:ext cx="0" cy="4636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73520" y="3127320"/>
            <a:ext cx="0" cy="8240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92120" y="3127320"/>
            <a:ext cx="1365480" cy="798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64040" y="2151000"/>
            <a:ext cx="1182600" cy="93528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320" y="2374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000240" y="3152880"/>
            <a:ext cx="1262160" cy="7603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188-471F-4666-B3B5-DBA9D76BC9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st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06320" y="1768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organizing overlay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ent h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up/insert object in &lt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routing steps (expec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-node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locality heu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6702-0B03-4211-AC07-11A36EF584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Object Distribu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11560" y="1596600"/>
            <a:ext cx="38275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sistent hashing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arger et al. ‘9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28 bit circular id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nodeId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uniform rand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bjI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uniform rand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variant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ode with numerically closest nodeId maintains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05040" y="1886040"/>
            <a:ext cx="3666960" cy="3900240"/>
            <a:chOff x="905040" y="1886040"/>
            <a:chExt cx="3666960" cy="3900240"/>
          </a:xfrm>
        </p:grpSpPr>
        <p:sp>
          <p:nvSpPr>
            <p:cNvPr id="81" name=""/>
            <p:cNvSpPr/>
            <p:nvPr/>
          </p:nvSpPr>
          <p:spPr>
            <a:xfrm>
              <a:off x="957240" y="2224080"/>
              <a:ext cx="3552840" cy="3486240"/>
            </a:xfrm>
            <a:custGeom>
              <a:avLst/>
              <a:gdLst/>
              <a:ahLst/>
              <a:rect l="l" t="t" r="r" b="b"/>
              <a:pathLst>
                <a:path w="2238" h="2196">
                  <a:moveTo>
                    <a:pt x="2238" y="1098"/>
                  </a:moveTo>
                  <a:lnTo>
                    <a:pt x="2238" y="1098"/>
                  </a:lnTo>
                  <a:lnTo>
                    <a:pt x="2235" y="1041"/>
                  </a:lnTo>
                  <a:lnTo>
                    <a:pt x="2232" y="987"/>
                  </a:lnTo>
                  <a:lnTo>
                    <a:pt x="2223" y="930"/>
                  </a:lnTo>
                  <a:lnTo>
                    <a:pt x="2214" y="876"/>
                  </a:lnTo>
                  <a:lnTo>
                    <a:pt x="2202" y="825"/>
                  </a:lnTo>
                  <a:lnTo>
                    <a:pt x="2187" y="771"/>
                  </a:lnTo>
                  <a:lnTo>
                    <a:pt x="2169" y="720"/>
                  </a:lnTo>
                  <a:lnTo>
                    <a:pt x="2148" y="672"/>
                  </a:lnTo>
                  <a:lnTo>
                    <a:pt x="2127" y="621"/>
                  </a:lnTo>
                  <a:lnTo>
                    <a:pt x="2103" y="576"/>
                  </a:lnTo>
                  <a:lnTo>
                    <a:pt x="2076" y="528"/>
                  </a:lnTo>
                  <a:lnTo>
                    <a:pt x="2046" y="483"/>
                  </a:lnTo>
                  <a:lnTo>
                    <a:pt x="2013" y="441"/>
                  </a:lnTo>
                  <a:lnTo>
                    <a:pt x="1980" y="399"/>
                  </a:lnTo>
                  <a:lnTo>
                    <a:pt x="1947" y="360"/>
                  </a:lnTo>
                  <a:lnTo>
                    <a:pt x="1908" y="321"/>
                  </a:lnTo>
                  <a:lnTo>
                    <a:pt x="1869" y="285"/>
                  </a:lnTo>
                  <a:lnTo>
                    <a:pt x="1830" y="249"/>
                  </a:lnTo>
                  <a:lnTo>
                    <a:pt x="1788" y="219"/>
                  </a:lnTo>
                  <a:lnTo>
                    <a:pt x="1743" y="186"/>
                  </a:lnTo>
                  <a:lnTo>
                    <a:pt x="1698" y="159"/>
                  </a:lnTo>
                  <a:lnTo>
                    <a:pt x="1650" y="132"/>
                  </a:lnTo>
                  <a:lnTo>
                    <a:pt x="1602" y="108"/>
                  </a:lnTo>
                  <a:lnTo>
                    <a:pt x="1554" y="87"/>
                  </a:lnTo>
                  <a:lnTo>
                    <a:pt x="1503" y="66"/>
                  </a:lnTo>
                  <a:lnTo>
                    <a:pt x="1452" y="48"/>
                  </a:lnTo>
                  <a:lnTo>
                    <a:pt x="1398" y="33"/>
                  </a:lnTo>
                  <a:lnTo>
                    <a:pt x="1344" y="21"/>
                  </a:lnTo>
                  <a:lnTo>
                    <a:pt x="1290" y="12"/>
                  </a:lnTo>
                  <a:lnTo>
                    <a:pt x="1233" y="6"/>
                  </a:lnTo>
                  <a:lnTo>
                    <a:pt x="1176" y="0"/>
                  </a:lnTo>
                  <a:lnTo>
                    <a:pt x="1119" y="0"/>
                  </a:lnTo>
                  <a:lnTo>
                    <a:pt x="1119" y="0"/>
                  </a:lnTo>
                  <a:lnTo>
                    <a:pt x="1062" y="0"/>
                  </a:lnTo>
                  <a:lnTo>
                    <a:pt x="1005" y="6"/>
                  </a:lnTo>
                  <a:lnTo>
                    <a:pt x="948" y="12"/>
                  </a:lnTo>
                  <a:lnTo>
                    <a:pt x="894" y="21"/>
                  </a:lnTo>
                  <a:lnTo>
                    <a:pt x="840" y="33"/>
                  </a:lnTo>
                  <a:lnTo>
                    <a:pt x="786" y="48"/>
                  </a:lnTo>
                  <a:lnTo>
                    <a:pt x="735" y="66"/>
                  </a:lnTo>
                  <a:lnTo>
                    <a:pt x="684" y="87"/>
                  </a:lnTo>
                  <a:lnTo>
                    <a:pt x="633" y="108"/>
                  </a:lnTo>
                  <a:lnTo>
                    <a:pt x="585" y="132"/>
                  </a:lnTo>
                  <a:lnTo>
                    <a:pt x="540" y="159"/>
                  </a:lnTo>
                  <a:lnTo>
                    <a:pt x="492" y="186"/>
                  </a:lnTo>
                  <a:lnTo>
                    <a:pt x="450" y="219"/>
                  </a:lnTo>
                  <a:lnTo>
                    <a:pt x="408" y="249"/>
                  </a:lnTo>
                  <a:lnTo>
                    <a:pt x="366" y="285"/>
                  </a:lnTo>
                  <a:lnTo>
                    <a:pt x="327" y="321"/>
                  </a:lnTo>
                  <a:lnTo>
                    <a:pt x="291" y="360"/>
                  </a:lnTo>
                  <a:lnTo>
                    <a:pt x="255" y="399"/>
                  </a:lnTo>
                  <a:lnTo>
                    <a:pt x="222" y="441"/>
                  </a:lnTo>
                  <a:lnTo>
                    <a:pt x="192" y="483"/>
                  </a:lnTo>
                  <a:lnTo>
                    <a:pt x="162" y="528"/>
                  </a:lnTo>
                  <a:lnTo>
                    <a:pt x="135" y="576"/>
                  </a:lnTo>
                  <a:lnTo>
                    <a:pt x="111" y="621"/>
                  </a:lnTo>
                  <a:lnTo>
                    <a:pt x="87" y="672"/>
                  </a:lnTo>
                  <a:lnTo>
                    <a:pt x="69" y="720"/>
                  </a:lnTo>
                  <a:lnTo>
                    <a:pt x="51" y="771"/>
                  </a:lnTo>
                  <a:lnTo>
                    <a:pt x="36" y="825"/>
                  </a:lnTo>
                  <a:lnTo>
                    <a:pt x="24" y="876"/>
                  </a:lnTo>
                  <a:lnTo>
                    <a:pt x="12" y="930"/>
                  </a:lnTo>
                  <a:lnTo>
                    <a:pt x="6" y="987"/>
                  </a:lnTo>
                  <a:lnTo>
                    <a:pt x="3" y="1041"/>
                  </a:lnTo>
                  <a:lnTo>
                    <a:pt x="0" y="1098"/>
                  </a:lnTo>
                  <a:lnTo>
                    <a:pt x="0" y="1098"/>
                  </a:lnTo>
                  <a:lnTo>
                    <a:pt x="3" y="1155"/>
                  </a:lnTo>
                  <a:lnTo>
                    <a:pt x="6" y="1212"/>
                  </a:lnTo>
                  <a:lnTo>
                    <a:pt x="12" y="1266"/>
                  </a:lnTo>
                  <a:lnTo>
                    <a:pt x="24" y="1320"/>
                  </a:lnTo>
                  <a:lnTo>
                    <a:pt x="36" y="1374"/>
                  </a:lnTo>
                  <a:lnTo>
                    <a:pt x="51" y="1425"/>
                  </a:lnTo>
                  <a:lnTo>
                    <a:pt x="69" y="1476"/>
                  </a:lnTo>
                  <a:lnTo>
                    <a:pt x="87" y="1527"/>
                  </a:lnTo>
                  <a:lnTo>
                    <a:pt x="111" y="1575"/>
                  </a:lnTo>
                  <a:lnTo>
                    <a:pt x="135" y="1623"/>
                  </a:lnTo>
                  <a:lnTo>
                    <a:pt x="162" y="1668"/>
                  </a:lnTo>
                  <a:lnTo>
                    <a:pt x="192" y="1713"/>
                  </a:lnTo>
                  <a:lnTo>
                    <a:pt x="222" y="1755"/>
                  </a:lnTo>
                  <a:lnTo>
                    <a:pt x="255" y="1797"/>
                  </a:lnTo>
                  <a:lnTo>
                    <a:pt x="291" y="1836"/>
                  </a:lnTo>
                  <a:lnTo>
                    <a:pt x="327" y="1875"/>
                  </a:lnTo>
                  <a:lnTo>
                    <a:pt x="366" y="1911"/>
                  </a:lnTo>
                  <a:lnTo>
                    <a:pt x="408" y="1947"/>
                  </a:lnTo>
                  <a:lnTo>
                    <a:pt x="450" y="1980"/>
                  </a:lnTo>
                  <a:lnTo>
                    <a:pt x="492" y="2010"/>
                  </a:lnTo>
                  <a:lnTo>
                    <a:pt x="540" y="2037"/>
                  </a:lnTo>
                  <a:lnTo>
                    <a:pt x="585" y="2064"/>
                  </a:lnTo>
                  <a:lnTo>
                    <a:pt x="633" y="2088"/>
                  </a:lnTo>
                  <a:lnTo>
                    <a:pt x="684" y="2112"/>
                  </a:lnTo>
                  <a:lnTo>
                    <a:pt x="735" y="2130"/>
                  </a:lnTo>
                  <a:lnTo>
                    <a:pt x="786" y="2148"/>
                  </a:lnTo>
                  <a:lnTo>
                    <a:pt x="840" y="2163"/>
                  </a:lnTo>
                  <a:lnTo>
                    <a:pt x="894" y="2175"/>
                  </a:lnTo>
                  <a:lnTo>
                    <a:pt x="948" y="2184"/>
                  </a:lnTo>
                  <a:lnTo>
                    <a:pt x="1005" y="2193"/>
                  </a:lnTo>
                  <a:lnTo>
                    <a:pt x="1062" y="2196"/>
                  </a:lnTo>
                  <a:lnTo>
                    <a:pt x="1119" y="2196"/>
                  </a:lnTo>
                  <a:lnTo>
                    <a:pt x="1119" y="2196"/>
                  </a:lnTo>
                  <a:lnTo>
                    <a:pt x="1176" y="2196"/>
                  </a:lnTo>
                  <a:lnTo>
                    <a:pt x="1233" y="2193"/>
                  </a:lnTo>
                  <a:lnTo>
                    <a:pt x="1290" y="2184"/>
                  </a:lnTo>
                  <a:lnTo>
                    <a:pt x="1344" y="2175"/>
                  </a:lnTo>
                  <a:lnTo>
                    <a:pt x="1398" y="2163"/>
                  </a:lnTo>
                  <a:lnTo>
                    <a:pt x="1452" y="2148"/>
                  </a:lnTo>
                  <a:lnTo>
                    <a:pt x="1503" y="2130"/>
                  </a:lnTo>
                  <a:lnTo>
                    <a:pt x="1554" y="2112"/>
                  </a:lnTo>
                  <a:lnTo>
                    <a:pt x="1602" y="2088"/>
                  </a:lnTo>
                  <a:lnTo>
                    <a:pt x="1650" y="2064"/>
                  </a:lnTo>
                  <a:lnTo>
                    <a:pt x="1698" y="2037"/>
                  </a:lnTo>
                  <a:lnTo>
                    <a:pt x="1743" y="2010"/>
                  </a:lnTo>
                  <a:lnTo>
                    <a:pt x="1788" y="1980"/>
                  </a:lnTo>
                  <a:lnTo>
                    <a:pt x="1830" y="1947"/>
                  </a:lnTo>
                  <a:lnTo>
                    <a:pt x="1869" y="1911"/>
                  </a:lnTo>
                  <a:lnTo>
                    <a:pt x="1908" y="1875"/>
                  </a:lnTo>
                  <a:lnTo>
                    <a:pt x="1947" y="1836"/>
                  </a:lnTo>
                  <a:lnTo>
                    <a:pt x="1980" y="1797"/>
                  </a:lnTo>
                  <a:lnTo>
                    <a:pt x="2013" y="1755"/>
                  </a:lnTo>
                  <a:lnTo>
                    <a:pt x="2046" y="1713"/>
                  </a:lnTo>
                  <a:lnTo>
                    <a:pt x="2076" y="1668"/>
                  </a:lnTo>
                  <a:lnTo>
                    <a:pt x="2103" y="1623"/>
                  </a:lnTo>
                  <a:lnTo>
                    <a:pt x="2127" y="1575"/>
                  </a:lnTo>
                  <a:lnTo>
                    <a:pt x="2148" y="1527"/>
                  </a:lnTo>
                  <a:lnTo>
                    <a:pt x="2169" y="1476"/>
                  </a:lnTo>
                  <a:lnTo>
                    <a:pt x="2187" y="1425"/>
                  </a:lnTo>
                  <a:lnTo>
                    <a:pt x="2202" y="1374"/>
                  </a:lnTo>
                  <a:lnTo>
                    <a:pt x="2214" y="1320"/>
                  </a:lnTo>
                  <a:lnTo>
                    <a:pt x="2223" y="1266"/>
                  </a:lnTo>
                  <a:lnTo>
                    <a:pt x="2232" y="1212"/>
                  </a:lnTo>
                  <a:lnTo>
                    <a:pt x="2235" y="1155"/>
                  </a:lnTo>
                  <a:lnTo>
                    <a:pt x="2238" y="1098"/>
                  </a:lnTo>
                  <a:lnTo>
                    <a:pt x="2238" y="10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700440" y="2933640"/>
              <a:ext cx="33336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90960" y="2881440"/>
              <a:ext cx="128520" cy="109440"/>
            </a:xfrm>
            <a:custGeom>
              <a:avLst/>
              <a:gdLst/>
              <a:ahLst/>
              <a:rect l="l" t="t" r="r" b="b"/>
              <a:pathLst>
                <a:path w="81" h="69">
                  <a:moveTo>
                    <a:pt x="36" y="69"/>
                  </a:moveTo>
                  <a:lnTo>
                    <a:pt x="81" y="0"/>
                  </a:lnTo>
                  <a:lnTo>
                    <a:pt x="0" y="3"/>
                  </a:lnTo>
                  <a:lnTo>
                    <a:pt x="3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91120" y="303840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obj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92720" y="4438800"/>
              <a:ext cx="57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nodei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85920" y="4495680"/>
              <a:ext cx="347760" cy="47880"/>
            </a:xfrm>
            <a:custGeom>
              <a:avLst/>
              <a:gdLst/>
              <a:ahLst/>
              <a:rect l="l" t="t" r="r" b="b"/>
              <a:pathLst>
                <a:path w="219" h="30">
                  <a:moveTo>
                    <a:pt x="219" y="0"/>
                  </a:moveTo>
                  <a:lnTo>
                    <a:pt x="0" y="3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1285920" y="4495680"/>
              <a:ext cx="347760" cy="47880"/>
            </a:xfrm>
            <a:prstGeom prst="line">
              <a:avLst/>
            </a:prstGeom>
            <a:ln w="1908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76480" y="4491000"/>
              <a:ext cx="118800" cy="10944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66" y="0"/>
                  </a:moveTo>
                  <a:lnTo>
                    <a:pt x="0" y="45"/>
                  </a:lnTo>
                  <a:lnTo>
                    <a:pt x="75" y="69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90680" y="4643280"/>
              <a:ext cx="347760" cy="138240"/>
            </a:xfrm>
            <a:custGeom>
              <a:avLst/>
              <a:gdLst/>
              <a:ahLst/>
              <a:rect l="l" t="t" r="r" b="b"/>
              <a:pathLst>
                <a:path w="219" h="87">
                  <a:moveTo>
                    <a:pt x="219" y="0"/>
                  </a:moveTo>
                  <a:lnTo>
                    <a:pt x="0" y="8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1390680" y="4643280"/>
              <a:ext cx="347760" cy="138240"/>
            </a:xfrm>
            <a:prstGeom prst="line">
              <a:avLst/>
            </a:prstGeom>
            <a:ln w="1908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90600" y="4734000"/>
              <a:ext cx="123840" cy="10008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51" y="0"/>
                  </a:moveTo>
                  <a:lnTo>
                    <a:pt x="0" y="57"/>
                  </a:lnTo>
                  <a:lnTo>
                    <a:pt x="78" y="63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47880" y="4853160"/>
              <a:ext cx="204840" cy="376200"/>
            </a:xfrm>
            <a:custGeom>
              <a:avLst/>
              <a:gdLst/>
              <a:ahLst/>
              <a:rect l="l" t="t" r="r" b="b"/>
              <a:pathLst>
                <a:path w="129" h="237">
                  <a:moveTo>
                    <a:pt x="129" y="0"/>
                  </a:moveTo>
                  <a:lnTo>
                    <a:pt x="0" y="23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847520" y="4853160"/>
              <a:ext cx="204840" cy="376200"/>
            </a:xfrm>
            <a:prstGeom prst="line">
              <a:avLst/>
            </a:prstGeom>
            <a:ln w="1908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00360" y="5200560"/>
              <a:ext cx="104760" cy="12384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3" y="0"/>
                  </a:moveTo>
                  <a:lnTo>
                    <a:pt x="0" y="78"/>
                  </a:lnTo>
                  <a:lnTo>
                    <a:pt x="66" y="3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757600" y="1947600"/>
              <a:ext cx="144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28160" y="18907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0" y="218124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2529000" y="2157480"/>
              <a:ext cx="15696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3147840" y="2219400"/>
              <a:ext cx="15732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>
              <a:off x="3438360" y="2343240"/>
              <a:ext cx="15732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3819600" y="2590920"/>
              <a:ext cx="15696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6"/>
            <a:stretch/>
          </p:blipFill>
          <p:spPr>
            <a:xfrm>
              <a:off x="4176720" y="3009960"/>
              <a:ext cx="15732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7"/>
            <a:stretch/>
          </p:blipFill>
          <p:spPr>
            <a:xfrm>
              <a:off x="4362480" y="3448080"/>
              <a:ext cx="15696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8"/>
            <a:stretch/>
          </p:blipFill>
          <p:spPr>
            <a:xfrm>
              <a:off x="4429080" y="3753000"/>
              <a:ext cx="14292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9"/>
            <a:stretch/>
          </p:blipFill>
          <p:spPr>
            <a:xfrm>
              <a:off x="4414680" y="4214880"/>
              <a:ext cx="14292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0"/>
            <a:stretch/>
          </p:blipFill>
          <p:spPr>
            <a:xfrm>
              <a:off x="4286160" y="461484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1"/>
            <a:stretch/>
          </p:blipFill>
          <p:spPr>
            <a:xfrm>
              <a:off x="4119480" y="4881600"/>
              <a:ext cx="15732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2"/>
            <a:stretch/>
          </p:blipFill>
          <p:spPr>
            <a:xfrm>
              <a:off x="3938760" y="5119560"/>
              <a:ext cx="15696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3"/>
            <a:stretch/>
          </p:blipFill>
          <p:spPr>
            <a:xfrm>
              <a:off x="3629160" y="5362560"/>
              <a:ext cx="15696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4"/>
            <a:stretch/>
          </p:blipFill>
          <p:spPr>
            <a:xfrm>
              <a:off x="3262320" y="552924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5"/>
            <a:stretch/>
          </p:blipFill>
          <p:spPr>
            <a:xfrm>
              <a:off x="2638440" y="5643720"/>
              <a:ext cx="15732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6"/>
            <a:stretch/>
          </p:blipFill>
          <p:spPr>
            <a:xfrm>
              <a:off x="2043000" y="554832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7"/>
            <a:stretch/>
          </p:blipFill>
          <p:spPr>
            <a:xfrm>
              <a:off x="1857240" y="5462640"/>
              <a:ext cx="15732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8"/>
            <a:stretch/>
          </p:blipFill>
          <p:spPr>
            <a:xfrm>
              <a:off x="1671480" y="534348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19"/>
            <a:stretch/>
          </p:blipFill>
          <p:spPr>
            <a:xfrm>
              <a:off x="1486080" y="5214960"/>
              <a:ext cx="15696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0"/>
            <a:stretch/>
          </p:blipFill>
          <p:spPr>
            <a:xfrm>
              <a:off x="1123920" y="4791240"/>
              <a:ext cx="15732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1"/>
            <a:stretch/>
          </p:blipFill>
          <p:spPr>
            <a:xfrm>
              <a:off x="990720" y="4491000"/>
              <a:ext cx="15696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2"/>
            <a:stretch/>
          </p:blipFill>
          <p:spPr>
            <a:xfrm>
              <a:off x="905040" y="4052880"/>
              <a:ext cx="14256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3"/>
            <a:stretch/>
          </p:blipFill>
          <p:spPr>
            <a:xfrm>
              <a:off x="933480" y="3505320"/>
              <a:ext cx="15696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4"/>
            <a:stretch/>
          </p:blipFill>
          <p:spPr>
            <a:xfrm>
              <a:off x="1057320" y="3166920"/>
              <a:ext cx="15696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5"/>
            <a:stretch/>
          </p:blipFill>
          <p:spPr>
            <a:xfrm>
              <a:off x="1295280" y="2800440"/>
              <a:ext cx="15732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26"/>
            <a:stretch/>
          </p:blipFill>
          <p:spPr>
            <a:xfrm>
              <a:off x="1538280" y="255744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7"/>
            <a:stretch/>
          </p:blipFill>
          <p:spPr>
            <a:xfrm>
              <a:off x="1900080" y="230976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118600" y="19051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92040" y="1886040"/>
              <a:ext cx="19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12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83280" y="1890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85160" y="19051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CBB-11F4-4C78-B994-C828FE5509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Object Insertion/Lookup</a:t>
            </a:r>
            <a:r>
              <a:rPr b="0" i="1" lang="en-GB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2160" y="1785960"/>
            <a:ext cx="4419720" cy="43434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65560" y="36910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89600" y="33098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61000" y="27766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913280" y="47577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456080" y="53672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874800" y="30052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798480" y="46054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1179360" y="25480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2017800" y="19382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2779560" y="60530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1"/>
          <a:stretch/>
        </p:blipFill>
        <p:spPr>
          <a:xfrm>
            <a:off x="3465360" y="17859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2"/>
          <a:stretch/>
        </p:blipFill>
        <p:spPr>
          <a:xfrm>
            <a:off x="1407960" y="23194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3"/>
          <a:stretch/>
        </p:blipFill>
        <p:spPr>
          <a:xfrm>
            <a:off x="646200" y="40719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4"/>
          <a:stretch/>
        </p:blipFill>
        <p:spPr>
          <a:xfrm>
            <a:off x="2084400" y="59198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5"/>
          <a:stretch/>
        </p:blipFill>
        <p:spPr>
          <a:xfrm>
            <a:off x="950760" y="4986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6"/>
          <a:stretch/>
        </p:blipFill>
        <p:spPr>
          <a:xfrm>
            <a:off x="1865160" y="58244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7"/>
          <a:stretch/>
        </p:blipFill>
        <p:spPr>
          <a:xfrm>
            <a:off x="4151160" y="56721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8"/>
          <a:stretch/>
        </p:blipFill>
        <p:spPr>
          <a:xfrm>
            <a:off x="2398680" y="17859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9"/>
          <a:stretch/>
        </p:blipFill>
        <p:spPr>
          <a:xfrm>
            <a:off x="3770280" y="19382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0"/>
          <a:stretch/>
        </p:blipFill>
        <p:spPr>
          <a:xfrm>
            <a:off x="722160" y="33861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1"/>
          <a:stretch/>
        </p:blipFill>
        <p:spPr>
          <a:xfrm>
            <a:off x="4684680" y="51386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2"/>
          <a:stretch/>
        </p:blipFill>
        <p:spPr>
          <a:xfrm>
            <a:off x="3693960" y="590076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H="1">
            <a:off x="4151160" y="268272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2840" y="2677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endCxn id="132" idx="2"/>
          </p:cNvCxnSpPr>
          <p:nvPr/>
        </p:nvCxnSpPr>
        <p:spPr>
          <a:xfrm flipV="1">
            <a:off x="1682640" y="2937960"/>
            <a:ext cx="3160080" cy="27885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55" name="" descr=""/>
          <p:cNvPicPr/>
          <p:nvPr/>
        </p:nvPicPr>
        <p:blipFill>
          <a:blip r:embed="rId23"/>
          <a:stretch/>
        </p:blipFill>
        <p:spPr>
          <a:xfrm>
            <a:off x="5065560" y="43768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4"/>
          <a:stretch/>
        </p:blipFill>
        <p:spPr>
          <a:xfrm>
            <a:off x="4303800" y="22431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5"/>
          <a:stretch/>
        </p:blipFill>
        <p:spPr>
          <a:xfrm>
            <a:off x="1407960" y="55198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6"/>
          <a:stretch/>
        </p:blipFill>
        <p:spPr>
          <a:xfrm>
            <a:off x="2703600" y="170964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66040" y="5713920"/>
            <a:ext cx="13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4200" y="1899720"/>
            <a:ext cx="2708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sg with key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routed to live node with nodeId closest to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mplete routing table not fea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959200" y="1295280"/>
            <a:ext cx="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62800" y="1294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35720" y="129420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7"/>
          <a:stretch/>
        </p:blipFill>
        <p:spPr>
          <a:xfrm>
            <a:off x="1636560" y="567216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5B7-A266-4A91-8822-CEB138479F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Routing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98920" y="4354200"/>
            <a:ext cx="334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 ste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og 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09x2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4647960" cy="409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DBC-54CA-417B-A3F7-61873FE6BE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7:24:23Z</dcterms:created>
  <dc:creator>klp</dc:creator>
  <dc:description/>
  <dc:language>en-US</dc:language>
  <cp:lastModifiedBy>Elsevier</cp:lastModifiedBy>
  <dcterms:modified xsi:type="dcterms:W3CDTF">2003-11-07T00:05:21Z</dcterms:modified>
  <cp:revision>29</cp:revision>
  <dc:subject/>
  <dc:title>Naming</dc:title>
</cp:coreProperties>
</file>