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F75-9D2B-4197-9760-79389FC9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833-2815-4D05-BE6D-71A7BB27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E42-4B87-410B-8BB3-168B778F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DAB-002E-43D7-BF2D-A76EBB68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2FE-A95F-4794-999F-9C2C0AAD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0E4-E962-469D-A684-87CFCDF1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5B8-9B2D-4033-A840-4FD2B2C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856-A49A-4637-B77B-594321C0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A29-5CC6-4DBC-8E5B-ED5E3D65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B59-7E61-4166-95B2-3465EFF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EFB-858D-4EAC-B696-F05746AB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8EC-BD58-47C3-9021-552C436E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7A5E-EA7E-47B7-89A9-D3F8AFD8F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lements of a Protocol Implemen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ubrou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986-3FED-491F-896F-9B79EF8713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Library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22680" y="3875040"/>
            <a:ext cx="79200" cy="12708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55800" y="3740040"/>
            <a:ext cx="6480" cy="209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22680" y="4551480"/>
            <a:ext cx="79200" cy="12672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55800" y="4386240"/>
            <a:ext cx="6480" cy="208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90760" y="4764240"/>
            <a:ext cx="57924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56000" y="4764240"/>
            <a:ext cx="579600" cy="26496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1200" y="4259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7160" y="4492800"/>
            <a:ext cx="266760" cy="1951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51080" y="4651200"/>
            <a:ext cx="126720" cy="101880"/>
          </a:xfrm>
          <a:custGeom>
            <a:avLst/>
            <a:gdLst/>
            <a:ahLst/>
            <a:rect l="l" t="t" r="r" b="b"/>
            <a:pathLst>
              <a:path w="99" h="90">
                <a:moveTo>
                  <a:pt x="0" y="43"/>
                </a:moveTo>
                <a:lnTo>
                  <a:pt x="99" y="90"/>
                </a:lnTo>
                <a:lnTo>
                  <a:pt x="37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92400" y="4492800"/>
            <a:ext cx="266760" cy="1951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16320" y="4651200"/>
            <a:ext cx="127080" cy="101880"/>
          </a:xfrm>
          <a:custGeom>
            <a:avLst/>
            <a:gdLst/>
            <a:ahLst/>
            <a:rect l="l" t="t" r="r" b="b"/>
            <a:pathLst>
              <a:path w="100" h="90">
                <a:moveTo>
                  <a:pt x="0" y="43"/>
                </a:moveTo>
                <a:lnTo>
                  <a:pt x="100" y="90"/>
                </a:lnTo>
                <a:lnTo>
                  <a:pt x="38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8320" y="28954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43689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3017880"/>
            <a:ext cx="266760" cy="1969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97080" y="3178080"/>
            <a:ext cx="979560" cy="378000"/>
            <a:chOff x="2197080" y="3178080"/>
            <a:chExt cx="979560" cy="378000"/>
          </a:xfrm>
        </p:grpSpPr>
        <p:sp>
          <p:nvSpPr>
            <p:cNvPr id="180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43240" y="328932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97080" y="3178080"/>
              <a:ext cx="133200" cy="100080"/>
            </a:xfrm>
            <a:custGeom>
              <a:avLst/>
              <a:gdLst/>
              <a:ahLst/>
              <a:rect l="l" t="t" r="r" b="b"/>
              <a:pathLst>
                <a:path w="105" h="90">
                  <a:moveTo>
                    <a:pt x="0" y="43"/>
                  </a:moveTo>
                  <a:lnTo>
                    <a:pt x="105" y="90"/>
                  </a:lnTo>
                  <a:lnTo>
                    <a:pt x="43" y="0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90400" y="33116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574640" y="47624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51120" y="477504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92080" y="476244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0120" y="402912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gFra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38960" y="4029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63880" y="40291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5600" y="4029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1440" y="40291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14400" y="40291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07240" y="3943440"/>
            <a:ext cx="63360" cy="114120"/>
          </a:xfrm>
          <a:custGeom>
            <a:avLst/>
            <a:gdLst/>
            <a:ahLst/>
            <a:rect l="l" t="t" r="r" b="b"/>
            <a:pathLst>
              <a:path w="40" h="72">
                <a:moveTo>
                  <a:pt x="0" y="0"/>
                </a:moveTo>
                <a:lnTo>
                  <a:pt x="18" y="72"/>
                </a:lnTo>
                <a:lnTo>
                  <a:pt x="4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35680" y="3794040"/>
            <a:ext cx="18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7240" y="4560840"/>
            <a:ext cx="63360" cy="114480"/>
          </a:xfrm>
          <a:custGeom>
            <a:avLst/>
            <a:gdLst/>
            <a:ahLst/>
            <a:rect l="l" t="t" r="r" b="b"/>
            <a:pathLst>
              <a:path w="40" h="72">
                <a:moveTo>
                  <a:pt x="0" y="0"/>
                </a:moveTo>
                <a:lnTo>
                  <a:pt x="18" y="72"/>
                </a:lnTo>
                <a:lnTo>
                  <a:pt x="4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35680" y="4410000"/>
            <a:ext cx="18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50000" y="3355920"/>
            <a:ext cx="47772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43640" y="3355920"/>
            <a:ext cx="478080" cy="247680"/>
          </a:xfrm>
          <a:custGeom>
            <a:avLst/>
            <a:gdLst/>
            <a:ahLst/>
            <a:rect l="l" t="t" r="r" b="b"/>
            <a:pathLst>
              <a:path w="301" h="156">
                <a:moveTo>
                  <a:pt x="0" y="0"/>
                </a:moveTo>
                <a:lnTo>
                  <a:pt x="301" y="0"/>
                </a:lnTo>
                <a:lnTo>
                  <a:pt x="301" y="156"/>
                </a:lnTo>
                <a:lnTo>
                  <a:pt x="3" y="15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03880" y="4570560"/>
            <a:ext cx="219240" cy="183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83160" y="4719600"/>
            <a:ext cx="109800" cy="93600"/>
          </a:xfrm>
          <a:custGeom>
            <a:avLst/>
            <a:gdLst/>
            <a:ahLst/>
            <a:rect l="l" t="t" r="r" b="b"/>
            <a:pathLst>
              <a:path w="69" h="59">
                <a:moveTo>
                  <a:pt x="0" y="28"/>
                </a:moveTo>
                <a:lnTo>
                  <a:pt x="69" y="59"/>
                </a:lnTo>
                <a:lnTo>
                  <a:pt x="25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0920" y="3102120"/>
            <a:ext cx="214560" cy="188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40560" y="3251160"/>
            <a:ext cx="104760" cy="98640"/>
          </a:xfrm>
          <a:custGeom>
            <a:avLst/>
            <a:gdLst/>
            <a:ahLst/>
            <a:rect l="l" t="t" r="r" b="b"/>
            <a:pathLst>
              <a:path w="66" h="62">
                <a:moveTo>
                  <a:pt x="0" y="28"/>
                </a:moveTo>
                <a:lnTo>
                  <a:pt x="66" y="62"/>
                </a:lnTo>
                <a:lnTo>
                  <a:pt x="25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50240" y="3102120"/>
            <a:ext cx="218880" cy="188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29520" y="3251160"/>
            <a:ext cx="109440" cy="98640"/>
          </a:xfrm>
          <a:custGeom>
            <a:avLst/>
            <a:gdLst/>
            <a:ahLst/>
            <a:rect l="l" t="t" r="r" b="b"/>
            <a:pathLst>
              <a:path w="69" h="62">
                <a:moveTo>
                  <a:pt x="0" y="28"/>
                </a:moveTo>
                <a:lnTo>
                  <a:pt x="69" y="62"/>
                </a:lnTo>
                <a:lnTo>
                  <a:pt x="28" y="0"/>
                </a:lnTo>
                <a:lnTo>
                  <a:pt x="3" y="28"/>
                </a:lnTo>
                <a:lnTo>
                  <a:pt x="3" y="28"/>
                </a:lnTo>
                <a:lnTo>
                  <a:pt x="0" y="2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289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89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14720" y="445608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6920" y="335268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3352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21400" y="4102200"/>
            <a:ext cx="283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gReassemble(new, m1, 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16765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553080" y="4724280"/>
            <a:ext cx="833400" cy="266760"/>
            <a:chOff x="6553080" y="4724280"/>
            <a:chExt cx="833400" cy="266760"/>
          </a:xfrm>
        </p:grpSpPr>
        <p:sp>
          <p:nvSpPr>
            <p:cNvPr id="221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4724280"/>
              <a:ext cx="833400" cy="266760"/>
            </a:xfrm>
            <a:custGeom>
              <a:avLst/>
              <a:gdLst/>
              <a:ahLst/>
              <a:rect l="l" t="t" r="r" b="b"/>
              <a:pathLst>
                <a:path w="655" h="237">
                  <a:moveTo>
                    <a:pt x="0" y="0"/>
                  </a:moveTo>
                  <a:lnTo>
                    <a:pt x="655" y="0"/>
                  </a:lnTo>
                  <a:lnTo>
                    <a:pt x="655" y="237"/>
                  </a:lnTo>
                  <a:lnTo>
                    <a:pt x="5" y="23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00600" y="474624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A8C-1C12-40EE-AF8B-14736D4917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ent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Timeouts &amp; Book-keeping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 evSchedule(EvFunc fun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argu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CancelReturn evCancel(Event e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A5A-927E-46F1-B4AD-D2B33EAA4A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p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ultiplex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 mapCreate(int number,int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ding mapBind(Map m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mapResolve(Map m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key,void **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A19-BD23-4106-82E0-CB587C6649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Se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Open(Protl self, Protl hlp, Part *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lState  *pstate = (ProtlState *)self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zero((char *)&amp;key, sizeof(key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High level protocol must specify both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local and remote ASP po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localport = *((AspPort *) partPop(p[0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remoteport = *((AspPort *) partPop(p[1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ssume failure until proven otherwis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 = XK_FAIL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0EA-9FFE-4890-BC29-AB5087624D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Open session on low-level protoco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ls = xOpen(self, xGetDown(self, 0),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ls != XK_FAIL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.lls = 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heck for session in act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activemap, &amp;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asp_s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ssion not in map; initialize i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_s = asp_init_sessn(self, hlp, &amp;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asp_s != XK_FAILUR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 successful ope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Error has occurr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lose(ll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sp_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A49-002E-49DF-AED2-5925950A66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 aspPush(Sessn 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State *s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 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     *bu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reate a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tate = (SessnState *) s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r = sstate-&gt;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dr.ulen = msgLen(msg) + HL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attach header and se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 = msgAddrHdr(msg, H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Store(&amp;hdr, buf, HLEN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Push(xGetDown(s, 0)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339-3D61-489A-9D45-11F11549CD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 aspDemux(Protl self, Sessn lls, Msg *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   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ssn       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     active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ssiveId    passive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lState   *p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able       *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       *bu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tate = (ProtlState *)self-&gt;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extract the header from the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 = msgStripHdr(msg, H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Load(&amp;h, buf, HLEN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nstruct a demux key from the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zero((char *)&amp;activeid, sizeof(activei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localport = h.d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remoteport = h.s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veid.lls = l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542-B89F-4F6D-83C4-7A948B2743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e if demux key is in the act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activemap, &amp;active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s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idn't find an active sess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o check passive ma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ssiveid = h.d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mapResolve(pstate-&gt;passivemap, &amp;passive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oid **)&amp;e) == XK_FAIL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drop the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K_SUCCE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ort was enabled, so create a new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ession and inform hl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 = asp_init_sessn(self, e-&gt;hlp, &amp;active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penDone(e-&gt;hlp, s, sel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op the message to the sess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Pop(s, lls, msg, &amp;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2A5-1F57-43B9-80FB-11FF60157A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Xk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Pop(Sessn s, Sessn ds, Msg *msg, void *inH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Hdr    *h = (AspHdr *) inH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truncate message to length shown in head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h-&gt;ulen - HLEN) &lt; msgLen(msg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Truncate(msg, (int) h-&gt;u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pass message up the protocol stac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Demux(xGetUp(s), s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E00-8186-4BF4-99A5-8D63D878F5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 AP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s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ocket(int domain, int type, in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_INET, PF_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= SOCK_STREAM, SOCK_DGRAM, SOCK_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 (on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ind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listen(int socket, int back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cept(int socket, struct sockaddr *addr, 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48B-0B25-480F-B7EE-C7451362B1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cket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 (on cli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connect(int socket, struct sockaddr *add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ddr_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/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end(int socket, char *msg, int m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recv(int socket, char *buf, int blen, int fl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D4C-7150-4886-9B39-E77EF77EC6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-to-Protocol Interfa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e multipl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sus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context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ata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6F5-B445-4BF9-8A95-FBD171CF06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figur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9360" y="2362320"/>
            <a:ext cx="4267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tul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eth protocols=tul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arp protocols=e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ip protocols=eth,ar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icm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ud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tcp protocols=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19320" y="1828800"/>
            <a:ext cx="2706120" cy="3429000"/>
            <a:chOff x="1219320" y="1828800"/>
            <a:chExt cx="2706120" cy="3429000"/>
          </a:xfrm>
        </p:grpSpPr>
        <p:sp>
          <p:nvSpPr>
            <p:cNvPr id="52" name=""/>
            <p:cNvSpPr/>
            <p:nvPr/>
          </p:nvSpPr>
          <p:spPr>
            <a:xfrm>
              <a:off x="121932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1004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00760" y="18288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9320" y="335268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10040" y="266688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10040" y="396216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10040" y="4800600"/>
              <a:ext cx="685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819520" y="2286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9160" y="2286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90920" y="3124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829160" y="31240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9160" y="38098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0920" y="44193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81600" y="18669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2680" y="18669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87080" y="1866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8280" y="27050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1480" y="33526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71960" y="4000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4440" y="490212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UPL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0C1-7C90-444A-838A-A72F810D97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Objec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ssn xOpen(Protl hlp, Protl l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OpenEnable(Protl hlp,Protl l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OpenDone(Protl h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l llp,Sessn ses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*particip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Demux(Protl hlp, Sessn 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 *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055-AC0D-482C-BEC7-5FE3C4AE62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ssion Objec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end-point of a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messages and maintain channe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 operations for sending and receivi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Push(Sessn lls,Msg *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kReturn xPop(Sessn hls, Sessn 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 *message,void *h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95B-7B42-4A5C-93E2-7E0D4E8DDA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ss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5410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-per-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410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-per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01x16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5272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A13-3785-4F68-8984-B3D209482D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Libr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47200" y="2971800"/>
            <a:ext cx="1844640" cy="2437920"/>
            <a:chOff x="1447200" y="2971800"/>
            <a:chExt cx="1844640" cy="2437920"/>
          </a:xfrm>
        </p:grpSpPr>
        <p:sp>
          <p:nvSpPr>
            <p:cNvPr id="84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  <a:lnTo>
                    <a:pt x="72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  <a:lnTo>
                    <a:pt x="72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95120" y="3368880"/>
              <a:ext cx="844560" cy="376560"/>
            </a:xfrm>
            <a:custGeom>
              <a:avLst/>
              <a:gdLst/>
              <a:ahLst/>
              <a:rect l="l" t="t" r="r" b="b"/>
              <a:pathLst>
                <a:path w="722" h="293">
                  <a:moveTo>
                    <a:pt x="722" y="289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722" y="293"/>
                  </a:lnTo>
                  <a:lnTo>
                    <a:pt x="72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46680" y="343188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8160" y="415872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cop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23200" y="41587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26880" y="415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27320" y="4158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y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86880" y="415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03160" y="41587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81640" y="415872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0360" y="415872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46920" y="436428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gAdd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42960" y="43642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39440" y="4364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78040" y="436428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43642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81880" y="436428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06800" y="3995280"/>
              <a:ext cx="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30680" y="420876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720" y="5039640"/>
              <a:ext cx="1004760" cy="370080"/>
            </a:xfrm>
            <a:custGeom>
              <a:avLst/>
              <a:gdLst/>
              <a:ahLst/>
              <a:rect l="l" t="t" r="r" b="b"/>
              <a:pathLst>
                <a:path w="859" h="288">
                  <a:moveTo>
                    <a:pt x="859" y="288"/>
                  </a:moveTo>
                  <a:lnTo>
                    <a:pt x="859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9" y="288"/>
                  </a:lnTo>
                  <a:lnTo>
                    <a:pt x="859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01960" y="5104080"/>
              <a:ext cx="90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yz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15240" y="3830760"/>
              <a:ext cx="720" cy="2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7160" y="4015800"/>
              <a:ext cx="57240" cy="12204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0" y="0"/>
                  </a:moveTo>
                  <a:lnTo>
                    <a:pt x="24" y="95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15240" y="4642200"/>
              <a:ext cx="720" cy="21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87160" y="4827600"/>
              <a:ext cx="57240" cy="12204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0" y="0"/>
                  </a:moveTo>
                  <a:lnTo>
                    <a:pt x="24" y="95"/>
                  </a:lnTo>
                  <a:lnTo>
                    <a:pt x="49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200" y="4635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24320" y="4758120"/>
              <a:ext cx="211680" cy="20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02160" y="4917600"/>
              <a:ext cx="101520" cy="1051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0" y="37"/>
                  </a:moveTo>
                  <a:lnTo>
                    <a:pt x="87" y="82"/>
                  </a:lnTo>
                  <a:lnTo>
                    <a:pt x="33" y="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4960" y="2971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01720" y="3088440"/>
              <a:ext cx="211680" cy="201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4520" y="3252960"/>
              <a:ext cx="106560" cy="1000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7"/>
                  </a:moveTo>
                  <a:lnTo>
                    <a:pt x="91" y="78"/>
                  </a:lnTo>
                  <a:lnTo>
                    <a:pt x="33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85680" y="2971800"/>
            <a:ext cx="2626920" cy="2133360"/>
            <a:chOff x="5485680" y="2971800"/>
            <a:chExt cx="2626920" cy="2133360"/>
          </a:xfrm>
        </p:grpSpPr>
        <p:sp>
          <p:nvSpPr>
            <p:cNvPr id="121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  <a:lnTo>
                    <a:pt x="858" y="29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  <a:lnTo>
                    <a:pt x="65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  <a:lnTo>
                    <a:pt x="858" y="29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58000" y="3315600"/>
              <a:ext cx="1025280" cy="329040"/>
            </a:xfrm>
            <a:custGeom>
              <a:avLst/>
              <a:gdLst/>
              <a:ahLst/>
              <a:rect l="l" t="t" r="r" b="b"/>
              <a:pathLst>
                <a:path w="862" h="293">
                  <a:moveTo>
                    <a:pt x="858" y="293"/>
                  </a:moveTo>
                  <a:lnTo>
                    <a:pt x="86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862" y="293"/>
                  </a:lnTo>
                  <a:lnTo>
                    <a:pt x="86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8120" y="336960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3000" y="41079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2760" y="4107960"/>
              <a:ext cx="20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8920" y="410796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gStrip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0040" y="410796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92280" y="4107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15760" y="410796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71200" y="386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89320" y="4047480"/>
              <a:ext cx="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  <a:lnTo>
                    <a:pt x="652" y="28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85440" y="4776120"/>
              <a:ext cx="775080" cy="329040"/>
            </a:xfrm>
            <a:custGeom>
              <a:avLst/>
              <a:gdLst/>
              <a:ahLst/>
              <a:rect l="l" t="t" r="r" b="b"/>
              <a:pathLst>
                <a:path w="652" h="293">
                  <a:moveTo>
                    <a:pt x="652" y="289"/>
                  </a:moveTo>
                  <a:lnTo>
                    <a:pt x="652" y="0"/>
                  </a:lnTo>
                  <a:lnTo>
                    <a:pt x="0" y="0"/>
                  </a:lnTo>
                  <a:lnTo>
                    <a:pt x="0" y="293"/>
                  </a:lnTo>
                  <a:lnTo>
                    <a:pt x="652" y="293"/>
                  </a:lnTo>
                  <a:lnTo>
                    <a:pt x="652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38520" y="483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68480" y="3719160"/>
              <a:ext cx="108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38600" y="3881160"/>
              <a:ext cx="59400" cy="1065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25" y="95"/>
                  </a:lnTo>
                  <a:lnTo>
                    <a:pt x="5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8480" y="4433040"/>
              <a:ext cx="10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8600" y="4590360"/>
              <a:ext cx="59400" cy="1065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25" y="95"/>
                  </a:lnTo>
                  <a:lnTo>
                    <a:pt x="5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66720" y="4836600"/>
              <a:ext cx="15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04960" y="48366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3280" y="4836600"/>
              <a:ext cx="20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38400" y="4836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47120" y="483660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25400" y="4836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12240" y="4836600"/>
              <a:ext cx="36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2760" y="44366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680" y="4539960"/>
              <a:ext cx="214920" cy="176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7720" y="4683600"/>
              <a:ext cx="108000" cy="874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3"/>
                  </a:moveTo>
                  <a:lnTo>
                    <a:pt x="91" y="78"/>
                  </a:lnTo>
                  <a:lnTo>
                    <a:pt x="37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5680" y="2971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63520" y="3073680"/>
              <a:ext cx="216000" cy="176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40640" y="3218040"/>
              <a:ext cx="108000" cy="87480"/>
            </a:xfrm>
            <a:custGeom>
              <a:avLst/>
              <a:gdLst/>
              <a:ahLst/>
              <a:rect l="l" t="t" r="r" b="b"/>
              <a:pathLst>
                <a:path w="91" h="78">
                  <a:moveTo>
                    <a:pt x="0" y="37"/>
                  </a:moveTo>
                  <a:lnTo>
                    <a:pt x="91" y="78"/>
                  </a:lnTo>
                  <a:lnTo>
                    <a:pt x="37" y="0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257800" y="1981080"/>
            <a:ext cx="2438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B6D-EF7F-49C2-961F-BFE1C68949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9:31:50Z</dcterms:created>
  <dc:creator>Ryan Peterson</dc:creator>
  <dc:description/>
  <dc:language>en-US</dc:language>
  <cp:lastModifiedBy>Elsevier</cp:lastModifiedBy>
  <dcterms:modified xsi:type="dcterms:W3CDTF">2003-11-06T00:26:16Z</dcterms:modified>
  <cp:revision>15</cp:revision>
  <dc:subject/>
  <dc:title>Elements of a Protocol Implementation</dc:title>
</cp:coreProperties>
</file>