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464-4E89-4BED-B74D-5B9EF84E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489-570F-417B-A751-92BAFF5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6BD-8621-4A7A-896F-FD64C518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13E-A618-4437-A526-4E197240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97C-3DF3-4B2B-ABCB-88AE8D7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F28-E228-4E7B-9EE1-91D935F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8B8-0FF7-4A1F-81C3-26FA85AE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A81-D6D1-4E9A-9D7C-07EEA8A3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E54-557C-411F-97C5-518F0A6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707-F823-4F88-A8B0-0D3BDB1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530-588E-421E-9834-644CA334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664-875C-409C-A471-9B7C0AEB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 4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3FF-DF96-4647-B6FE-3908DD91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19068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C33-9BE5-462D-B77E-B95BEE94E0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Goes Wrong in the Network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-level errors (electrical inter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-level errors (conges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nd nod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are deliver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parties eaves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B1F-06EE-42F7-A98E-9F219EFEA8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y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7880" y="15537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bstractions to hid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naturally lead to lay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abstractions at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01x09" descr=""/>
          <p:cNvPicPr/>
          <p:nvPr/>
        </p:nvPicPr>
        <p:blipFill>
          <a:blip r:embed="rId1"/>
          <a:stretch/>
        </p:blipFill>
        <p:spPr>
          <a:xfrm>
            <a:off x="1833480" y="3110040"/>
            <a:ext cx="5672160" cy="29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746-080A-4F11-98AE-D9DE48A0B6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s of a network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rotocol object has two different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perations on thi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er-to-pe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ssages exchanged with p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 “protocol” is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peer-to-pe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that implements thi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802-139F-43F3-8FF3-D6B57CF4E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faces</a:t>
            </a:r>
            <a:br>
              <a:rPr sz="3600"/>
            </a:b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5" name="01x10" descr=""/>
          <p:cNvPicPr/>
          <p:nvPr/>
        </p:nvPicPr>
        <p:blipFill>
          <a:blip r:embed="rId1"/>
          <a:stretch/>
        </p:blipFill>
        <p:spPr>
          <a:xfrm>
            <a:off x="1558800" y="1722600"/>
            <a:ext cx="6154920" cy="34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8AF-CA22-4C6A-BE46-C1C2C2AE46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Machin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er-to-peer communication is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is direct only at hardwa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62240" y="2822400"/>
            <a:ext cx="6228720" cy="3794040"/>
            <a:chOff x="1362240" y="2822400"/>
            <a:chExt cx="6228720" cy="3794040"/>
          </a:xfrm>
        </p:grpSpPr>
        <p:sp>
          <p:nvSpPr>
            <p:cNvPr id="229" name=""/>
            <p:cNvSpPr/>
            <p:nvPr/>
          </p:nvSpPr>
          <p:spPr>
            <a:xfrm>
              <a:off x="3499560" y="5433480"/>
              <a:ext cx="1855800" cy="1182960"/>
            </a:xfrm>
            <a:custGeom>
              <a:avLst/>
              <a:gdLst/>
              <a:ahLst/>
              <a:rect l="l" t="t" r="r" b="b"/>
              <a:pathLst>
                <a:path w="1212" h="922">
                  <a:moveTo>
                    <a:pt x="530" y="860"/>
                  </a:moveTo>
                  <a:lnTo>
                    <a:pt x="530" y="860"/>
                  </a:lnTo>
                  <a:lnTo>
                    <a:pt x="511" y="874"/>
                  </a:lnTo>
                  <a:lnTo>
                    <a:pt x="491" y="885"/>
                  </a:lnTo>
                  <a:lnTo>
                    <a:pt x="463" y="896"/>
                  </a:lnTo>
                  <a:lnTo>
                    <a:pt x="433" y="905"/>
                  </a:lnTo>
                  <a:lnTo>
                    <a:pt x="413" y="908"/>
                  </a:lnTo>
                  <a:lnTo>
                    <a:pt x="396" y="908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1" y="894"/>
                  </a:lnTo>
                  <a:lnTo>
                    <a:pt x="321" y="883"/>
                  </a:lnTo>
                  <a:lnTo>
                    <a:pt x="321" y="883"/>
                  </a:lnTo>
                  <a:lnTo>
                    <a:pt x="290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0" y="774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29" y="757"/>
                  </a:lnTo>
                  <a:lnTo>
                    <a:pt x="218" y="762"/>
                  </a:lnTo>
                  <a:lnTo>
                    <a:pt x="201" y="771"/>
                  </a:lnTo>
                  <a:lnTo>
                    <a:pt x="181" y="774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3" y="760"/>
                  </a:lnTo>
                  <a:lnTo>
                    <a:pt x="112" y="751"/>
                  </a:lnTo>
                  <a:lnTo>
                    <a:pt x="112" y="751"/>
                  </a:lnTo>
                  <a:lnTo>
                    <a:pt x="100" y="740"/>
                  </a:lnTo>
                  <a:lnTo>
                    <a:pt x="92" y="729"/>
                  </a:lnTo>
                  <a:lnTo>
                    <a:pt x="81" y="709"/>
                  </a:lnTo>
                  <a:lnTo>
                    <a:pt x="78" y="687"/>
                  </a:lnTo>
                  <a:lnTo>
                    <a:pt x="78" y="668"/>
                  </a:lnTo>
                  <a:lnTo>
                    <a:pt x="78" y="651"/>
                  </a:lnTo>
                  <a:lnTo>
                    <a:pt x="84" y="637"/>
                  </a:lnTo>
                  <a:lnTo>
                    <a:pt x="86" y="626"/>
                  </a:lnTo>
                  <a:lnTo>
                    <a:pt x="86" y="626"/>
                  </a:lnTo>
                  <a:lnTo>
                    <a:pt x="75" y="620"/>
                  </a:lnTo>
                  <a:lnTo>
                    <a:pt x="61" y="609"/>
                  </a:lnTo>
                  <a:lnTo>
                    <a:pt x="45" y="595"/>
                  </a:lnTo>
                  <a:lnTo>
                    <a:pt x="28" y="575"/>
                  </a:lnTo>
                  <a:lnTo>
                    <a:pt x="14" y="547"/>
                  </a:lnTo>
                  <a:lnTo>
                    <a:pt x="8" y="531"/>
                  </a:lnTo>
                  <a:lnTo>
                    <a:pt x="5" y="514"/>
                  </a:lnTo>
                  <a:lnTo>
                    <a:pt x="3" y="494"/>
                  </a:lnTo>
                  <a:lnTo>
                    <a:pt x="0" y="472"/>
                  </a:lnTo>
                  <a:lnTo>
                    <a:pt x="0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5" y="397"/>
                  </a:lnTo>
                  <a:lnTo>
                    <a:pt x="11" y="380"/>
                  </a:lnTo>
                  <a:lnTo>
                    <a:pt x="25" y="352"/>
                  </a:lnTo>
                  <a:lnTo>
                    <a:pt x="39" y="332"/>
                  </a:lnTo>
                  <a:lnTo>
                    <a:pt x="56" y="316"/>
                  </a:lnTo>
                  <a:lnTo>
                    <a:pt x="70" y="305"/>
                  </a:lnTo>
                  <a:lnTo>
                    <a:pt x="81" y="296"/>
                  </a:lnTo>
                  <a:lnTo>
                    <a:pt x="81" y="296"/>
                  </a:lnTo>
                  <a:lnTo>
                    <a:pt x="78" y="285"/>
                  </a:lnTo>
                  <a:lnTo>
                    <a:pt x="72" y="271"/>
                  </a:lnTo>
                  <a:lnTo>
                    <a:pt x="70" y="254"/>
                  </a:lnTo>
                  <a:lnTo>
                    <a:pt x="72" y="235"/>
                  </a:lnTo>
                  <a:lnTo>
                    <a:pt x="75" y="215"/>
                  </a:lnTo>
                  <a:lnTo>
                    <a:pt x="86" y="193"/>
                  </a:lnTo>
                  <a:lnTo>
                    <a:pt x="95" y="182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17" y="165"/>
                  </a:lnTo>
                  <a:lnTo>
                    <a:pt x="128" y="157"/>
                  </a:lnTo>
                  <a:lnTo>
                    <a:pt x="140" y="154"/>
                  </a:lnTo>
                  <a:lnTo>
                    <a:pt x="153" y="151"/>
                  </a:lnTo>
                  <a:lnTo>
                    <a:pt x="173" y="151"/>
                  </a:lnTo>
                  <a:lnTo>
                    <a:pt x="193" y="154"/>
                  </a:lnTo>
                  <a:lnTo>
                    <a:pt x="209" y="159"/>
                  </a:lnTo>
                  <a:lnTo>
                    <a:pt x="223" y="165"/>
                  </a:lnTo>
                  <a:lnTo>
                    <a:pt x="234" y="173"/>
                  </a:lnTo>
                  <a:lnTo>
                    <a:pt x="234" y="173"/>
                  </a:lnTo>
                  <a:lnTo>
                    <a:pt x="234" y="162"/>
                  </a:lnTo>
                  <a:lnTo>
                    <a:pt x="234" y="148"/>
                  </a:lnTo>
                  <a:lnTo>
                    <a:pt x="240" y="131"/>
                  </a:lnTo>
                  <a:lnTo>
                    <a:pt x="248" y="112"/>
                  </a:lnTo>
                  <a:lnTo>
                    <a:pt x="262" y="90"/>
                  </a:lnTo>
                  <a:lnTo>
                    <a:pt x="285" y="64"/>
                  </a:lnTo>
                  <a:lnTo>
                    <a:pt x="315" y="39"/>
                  </a:lnTo>
                  <a:lnTo>
                    <a:pt x="315" y="39"/>
                  </a:lnTo>
                  <a:lnTo>
                    <a:pt x="335" y="31"/>
                  </a:lnTo>
                  <a:lnTo>
                    <a:pt x="355" y="23"/>
                  </a:lnTo>
                  <a:lnTo>
                    <a:pt x="371" y="17"/>
                  </a:lnTo>
                  <a:lnTo>
                    <a:pt x="391" y="17"/>
                  </a:lnTo>
                  <a:lnTo>
                    <a:pt x="408" y="17"/>
                  </a:lnTo>
                  <a:lnTo>
                    <a:pt x="424" y="17"/>
                  </a:lnTo>
                  <a:lnTo>
                    <a:pt x="458" y="25"/>
                  </a:lnTo>
                  <a:lnTo>
                    <a:pt x="483" y="39"/>
                  </a:lnTo>
                  <a:lnTo>
                    <a:pt x="505" y="50"/>
                  </a:lnTo>
                  <a:lnTo>
                    <a:pt x="525" y="62"/>
                  </a:lnTo>
                  <a:lnTo>
                    <a:pt x="525" y="62"/>
                  </a:lnTo>
                  <a:lnTo>
                    <a:pt x="525" y="53"/>
                  </a:lnTo>
                  <a:lnTo>
                    <a:pt x="528" y="42"/>
                  </a:lnTo>
                  <a:lnTo>
                    <a:pt x="536" y="31"/>
                  </a:lnTo>
                  <a:lnTo>
                    <a:pt x="544" y="20"/>
                  </a:lnTo>
                  <a:lnTo>
                    <a:pt x="558" y="11"/>
                  </a:lnTo>
                  <a:lnTo>
                    <a:pt x="578" y="3"/>
                  </a:lnTo>
                  <a:lnTo>
                    <a:pt x="603" y="0"/>
                  </a:lnTo>
                  <a:lnTo>
                    <a:pt x="603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20"/>
                  </a:lnTo>
                  <a:lnTo>
                    <a:pt x="673" y="31"/>
                  </a:lnTo>
                  <a:lnTo>
                    <a:pt x="681" y="42"/>
                  </a:lnTo>
                  <a:lnTo>
                    <a:pt x="684" y="53"/>
                  </a:lnTo>
                  <a:lnTo>
                    <a:pt x="684" y="62"/>
                  </a:lnTo>
                  <a:lnTo>
                    <a:pt x="684" y="64"/>
                  </a:lnTo>
                  <a:lnTo>
                    <a:pt x="684" y="64"/>
                  </a:lnTo>
                  <a:lnTo>
                    <a:pt x="704" y="50"/>
                  </a:lnTo>
                  <a:lnTo>
                    <a:pt x="723" y="39"/>
                  </a:lnTo>
                  <a:lnTo>
                    <a:pt x="751" y="28"/>
                  </a:lnTo>
                  <a:lnTo>
                    <a:pt x="782" y="20"/>
                  </a:lnTo>
                  <a:lnTo>
                    <a:pt x="801" y="17"/>
                  </a:lnTo>
                  <a:lnTo>
                    <a:pt x="818" y="17"/>
                  </a:lnTo>
                  <a:lnTo>
                    <a:pt x="838" y="20"/>
                  </a:lnTo>
                  <a:lnTo>
                    <a:pt x="854" y="23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90"/>
                  </a:lnTo>
                  <a:lnTo>
                    <a:pt x="961" y="112"/>
                  </a:lnTo>
                  <a:lnTo>
                    <a:pt x="969" y="134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8"/>
                  </a:lnTo>
                  <a:lnTo>
                    <a:pt x="997" y="159"/>
                  </a:lnTo>
                  <a:lnTo>
                    <a:pt x="1014" y="154"/>
                  </a:lnTo>
                  <a:lnTo>
                    <a:pt x="1036" y="151"/>
                  </a:lnTo>
                  <a:lnTo>
                    <a:pt x="1055" y="151"/>
                  </a:lnTo>
                  <a:lnTo>
                    <a:pt x="1067" y="154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6"/>
                  </a:lnTo>
                  <a:lnTo>
                    <a:pt x="1134" y="215"/>
                  </a:lnTo>
                  <a:lnTo>
                    <a:pt x="1136" y="238"/>
                  </a:lnTo>
                  <a:lnTo>
                    <a:pt x="1139" y="257"/>
                  </a:lnTo>
                  <a:lnTo>
                    <a:pt x="1136" y="274"/>
                  </a:lnTo>
                  <a:lnTo>
                    <a:pt x="1131" y="288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39" y="307"/>
                  </a:lnTo>
                  <a:lnTo>
                    <a:pt x="1153" y="318"/>
                  </a:lnTo>
                  <a:lnTo>
                    <a:pt x="1167" y="332"/>
                  </a:lnTo>
                  <a:lnTo>
                    <a:pt x="1184" y="355"/>
                  </a:lnTo>
                  <a:lnTo>
                    <a:pt x="1198" y="383"/>
                  </a:lnTo>
                  <a:lnTo>
                    <a:pt x="1204" y="399"/>
                  </a:lnTo>
                  <a:lnTo>
                    <a:pt x="1206" y="416"/>
                  </a:lnTo>
                  <a:lnTo>
                    <a:pt x="1209" y="436"/>
                  </a:lnTo>
                  <a:lnTo>
                    <a:pt x="1209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09" y="480"/>
                  </a:lnTo>
                  <a:lnTo>
                    <a:pt x="1206" y="500"/>
                  </a:lnTo>
                  <a:lnTo>
                    <a:pt x="1198" y="536"/>
                  </a:lnTo>
                  <a:lnTo>
                    <a:pt x="1187" y="564"/>
                  </a:lnTo>
                  <a:lnTo>
                    <a:pt x="1173" y="587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39" y="640"/>
                  </a:lnTo>
                  <a:lnTo>
                    <a:pt x="1142" y="654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39" y="709"/>
                  </a:lnTo>
                  <a:lnTo>
                    <a:pt x="1128" y="732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7" y="760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4"/>
                  </a:lnTo>
                  <a:lnTo>
                    <a:pt x="1042" y="774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1" y="760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0" y="762"/>
                  </a:lnTo>
                  <a:lnTo>
                    <a:pt x="980" y="776"/>
                  </a:lnTo>
                  <a:lnTo>
                    <a:pt x="977" y="793"/>
                  </a:lnTo>
                  <a:lnTo>
                    <a:pt x="969" y="813"/>
                  </a:lnTo>
                  <a:lnTo>
                    <a:pt x="952" y="835"/>
                  </a:lnTo>
                  <a:lnTo>
                    <a:pt x="930" y="860"/>
                  </a:lnTo>
                  <a:lnTo>
                    <a:pt x="899" y="883"/>
                  </a:lnTo>
                  <a:lnTo>
                    <a:pt x="899" y="883"/>
                  </a:lnTo>
                  <a:lnTo>
                    <a:pt x="880" y="894"/>
                  </a:lnTo>
                  <a:lnTo>
                    <a:pt x="860" y="902"/>
                  </a:lnTo>
                  <a:lnTo>
                    <a:pt x="843" y="908"/>
                  </a:lnTo>
                  <a:lnTo>
                    <a:pt x="824" y="908"/>
                  </a:lnTo>
                  <a:lnTo>
                    <a:pt x="807" y="908"/>
                  </a:lnTo>
                  <a:lnTo>
                    <a:pt x="790" y="905"/>
                  </a:lnTo>
                  <a:lnTo>
                    <a:pt x="757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0" y="863"/>
                  </a:lnTo>
                  <a:lnTo>
                    <a:pt x="690" y="863"/>
                  </a:lnTo>
                  <a:lnTo>
                    <a:pt x="690" y="871"/>
                  </a:lnTo>
                  <a:lnTo>
                    <a:pt x="687" y="880"/>
                  </a:lnTo>
                  <a:lnTo>
                    <a:pt x="681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9"/>
                  </a:lnTo>
                  <a:lnTo>
                    <a:pt x="611" y="922"/>
                  </a:lnTo>
                  <a:lnTo>
                    <a:pt x="611" y="922"/>
                  </a:lnTo>
                  <a:lnTo>
                    <a:pt x="584" y="919"/>
                  </a:lnTo>
                  <a:lnTo>
                    <a:pt x="564" y="913"/>
                  </a:lnTo>
                  <a:lnTo>
                    <a:pt x="550" y="902"/>
                  </a:lnTo>
                  <a:lnTo>
                    <a:pt x="542" y="891"/>
                  </a:lnTo>
                  <a:lnTo>
                    <a:pt x="536" y="880"/>
                  </a:lnTo>
                  <a:lnTo>
                    <a:pt x="530" y="871"/>
                  </a:lnTo>
                  <a:lnTo>
                    <a:pt x="530" y="863"/>
                  </a:lnTo>
                  <a:lnTo>
                    <a:pt x="530" y="86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9560" y="5433480"/>
              <a:ext cx="1855800" cy="1182960"/>
            </a:xfrm>
            <a:custGeom>
              <a:avLst/>
              <a:gdLst/>
              <a:ahLst/>
              <a:rect l="l" t="t" r="r" b="b"/>
              <a:pathLst>
                <a:path w="1212" h="922">
                  <a:moveTo>
                    <a:pt x="530" y="860"/>
                  </a:moveTo>
                  <a:lnTo>
                    <a:pt x="530" y="860"/>
                  </a:lnTo>
                  <a:lnTo>
                    <a:pt x="511" y="874"/>
                  </a:lnTo>
                  <a:lnTo>
                    <a:pt x="491" y="885"/>
                  </a:lnTo>
                  <a:lnTo>
                    <a:pt x="463" y="896"/>
                  </a:lnTo>
                  <a:lnTo>
                    <a:pt x="433" y="905"/>
                  </a:lnTo>
                  <a:lnTo>
                    <a:pt x="413" y="908"/>
                  </a:lnTo>
                  <a:lnTo>
                    <a:pt x="396" y="908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1" y="894"/>
                  </a:lnTo>
                  <a:lnTo>
                    <a:pt x="321" y="883"/>
                  </a:lnTo>
                  <a:lnTo>
                    <a:pt x="321" y="883"/>
                  </a:lnTo>
                  <a:lnTo>
                    <a:pt x="290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0" y="774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29" y="757"/>
                  </a:lnTo>
                  <a:lnTo>
                    <a:pt x="218" y="762"/>
                  </a:lnTo>
                  <a:lnTo>
                    <a:pt x="201" y="771"/>
                  </a:lnTo>
                  <a:lnTo>
                    <a:pt x="181" y="774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3" y="760"/>
                  </a:lnTo>
                  <a:lnTo>
                    <a:pt x="112" y="751"/>
                  </a:lnTo>
                  <a:lnTo>
                    <a:pt x="112" y="751"/>
                  </a:lnTo>
                  <a:lnTo>
                    <a:pt x="100" y="740"/>
                  </a:lnTo>
                  <a:lnTo>
                    <a:pt x="92" y="729"/>
                  </a:lnTo>
                  <a:lnTo>
                    <a:pt x="81" y="709"/>
                  </a:lnTo>
                  <a:lnTo>
                    <a:pt x="78" y="687"/>
                  </a:lnTo>
                  <a:lnTo>
                    <a:pt x="78" y="668"/>
                  </a:lnTo>
                  <a:lnTo>
                    <a:pt x="78" y="651"/>
                  </a:lnTo>
                  <a:lnTo>
                    <a:pt x="84" y="637"/>
                  </a:lnTo>
                  <a:lnTo>
                    <a:pt x="86" y="626"/>
                  </a:lnTo>
                  <a:lnTo>
                    <a:pt x="86" y="626"/>
                  </a:lnTo>
                  <a:lnTo>
                    <a:pt x="75" y="620"/>
                  </a:lnTo>
                  <a:lnTo>
                    <a:pt x="61" y="609"/>
                  </a:lnTo>
                  <a:lnTo>
                    <a:pt x="45" y="595"/>
                  </a:lnTo>
                  <a:lnTo>
                    <a:pt x="28" y="575"/>
                  </a:lnTo>
                  <a:lnTo>
                    <a:pt x="14" y="547"/>
                  </a:lnTo>
                  <a:lnTo>
                    <a:pt x="8" y="531"/>
                  </a:lnTo>
                  <a:lnTo>
                    <a:pt x="5" y="514"/>
                  </a:lnTo>
                  <a:lnTo>
                    <a:pt x="3" y="494"/>
                  </a:lnTo>
                  <a:lnTo>
                    <a:pt x="0" y="472"/>
                  </a:lnTo>
                  <a:lnTo>
                    <a:pt x="0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5" y="397"/>
                  </a:lnTo>
                  <a:lnTo>
                    <a:pt x="11" y="380"/>
                  </a:lnTo>
                  <a:lnTo>
                    <a:pt x="25" y="352"/>
                  </a:lnTo>
                  <a:lnTo>
                    <a:pt x="39" y="332"/>
                  </a:lnTo>
                  <a:lnTo>
                    <a:pt x="56" y="316"/>
                  </a:lnTo>
                  <a:lnTo>
                    <a:pt x="70" y="305"/>
                  </a:lnTo>
                  <a:lnTo>
                    <a:pt x="81" y="296"/>
                  </a:lnTo>
                  <a:lnTo>
                    <a:pt x="81" y="296"/>
                  </a:lnTo>
                  <a:lnTo>
                    <a:pt x="78" y="285"/>
                  </a:lnTo>
                  <a:lnTo>
                    <a:pt x="72" y="271"/>
                  </a:lnTo>
                  <a:lnTo>
                    <a:pt x="70" y="254"/>
                  </a:lnTo>
                  <a:lnTo>
                    <a:pt x="72" y="235"/>
                  </a:lnTo>
                  <a:lnTo>
                    <a:pt x="75" y="215"/>
                  </a:lnTo>
                  <a:lnTo>
                    <a:pt x="86" y="193"/>
                  </a:lnTo>
                  <a:lnTo>
                    <a:pt x="95" y="182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17" y="165"/>
                  </a:lnTo>
                  <a:lnTo>
                    <a:pt x="128" y="157"/>
                  </a:lnTo>
                  <a:lnTo>
                    <a:pt x="140" y="154"/>
                  </a:lnTo>
                  <a:lnTo>
                    <a:pt x="153" y="151"/>
                  </a:lnTo>
                  <a:lnTo>
                    <a:pt x="173" y="151"/>
                  </a:lnTo>
                  <a:lnTo>
                    <a:pt x="193" y="154"/>
                  </a:lnTo>
                  <a:lnTo>
                    <a:pt x="209" y="159"/>
                  </a:lnTo>
                  <a:lnTo>
                    <a:pt x="223" y="165"/>
                  </a:lnTo>
                  <a:lnTo>
                    <a:pt x="234" y="173"/>
                  </a:lnTo>
                  <a:lnTo>
                    <a:pt x="234" y="173"/>
                  </a:lnTo>
                  <a:lnTo>
                    <a:pt x="234" y="162"/>
                  </a:lnTo>
                  <a:lnTo>
                    <a:pt x="234" y="148"/>
                  </a:lnTo>
                  <a:lnTo>
                    <a:pt x="240" y="131"/>
                  </a:lnTo>
                  <a:lnTo>
                    <a:pt x="248" y="112"/>
                  </a:lnTo>
                  <a:lnTo>
                    <a:pt x="262" y="90"/>
                  </a:lnTo>
                  <a:lnTo>
                    <a:pt x="285" y="64"/>
                  </a:lnTo>
                  <a:lnTo>
                    <a:pt x="315" y="39"/>
                  </a:lnTo>
                  <a:lnTo>
                    <a:pt x="315" y="39"/>
                  </a:lnTo>
                  <a:lnTo>
                    <a:pt x="335" y="31"/>
                  </a:lnTo>
                  <a:lnTo>
                    <a:pt x="355" y="23"/>
                  </a:lnTo>
                  <a:lnTo>
                    <a:pt x="371" y="17"/>
                  </a:lnTo>
                  <a:lnTo>
                    <a:pt x="391" y="17"/>
                  </a:lnTo>
                  <a:lnTo>
                    <a:pt x="408" y="17"/>
                  </a:lnTo>
                  <a:lnTo>
                    <a:pt x="424" y="17"/>
                  </a:lnTo>
                  <a:lnTo>
                    <a:pt x="458" y="25"/>
                  </a:lnTo>
                  <a:lnTo>
                    <a:pt x="483" y="39"/>
                  </a:lnTo>
                  <a:lnTo>
                    <a:pt x="505" y="50"/>
                  </a:lnTo>
                  <a:lnTo>
                    <a:pt x="525" y="62"/>
                  </a:lnTo>
                  <a:lnTo>
                    <a:pt x="525" y="62"/>
                  </a:lnTo>
                  <a:lnTo>
                    <a:pt x="525" y="53"/>
                  </a:lnTo>
                  <a:lnTo>
                    <a:pt x="528" y="42"/>
                  </a:lnTo>
                  <a:lnTo>
                    <a:pt x="536" y="31"/>
                  </a:lnTo>
                  <a:lnTo>
                    <a:pt x="544" y="20"/>
                  </a:lnTo>
                  <a:lnTo>
                    <a:pt x="558" y="11"/>
                  </a:lnTo>
                  <a:lnTo>
                    <a:pt x="578" y="3"/>
                  </a:lnTo>
                  <a:lnTo>
                    <a:pt x="603" y="0"/>
                  </a:lnTo>
                  <a:lnTo>
                    <a:pt x="603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20"/>
                  </a:lnTo>
                  <a:lnTo>
                    <a:pt x="673" y="31"/>
                  </a:lnTo>
                  <a:lnTo>
                    <a:pt x="681" y="42"/>
                  </a:lnTo>
                  <a:lnTo>
                    <a:pt x="684" y="53"/>
                  </a:lnTo>
                  <a:lnTo>
                    <a:pt x="684" y="62"/>
                  </a:lnTo>
                  <a:lnTo>
                    <a:pt x="684" y="64"/>
                  </a:lnTo>
                  <a:lnTo>
                    <a:pt x="684" y="64"/>
                  </a:lnTo>
                  <a:lnTo>
                    <a:pt x="704" y="50"/>
                  </a:lnTo>
                  <a:lnTo>
                    <a:pt x="723" y="39"/>
                  </a:lnTo>
                  <a:lnTo>
                    <a:pt x="751" y="28"/>
                  </a:lnTo>
                  <a:lnTo>
                    <a:pt x="782" y="20"/>
                  </a:lnTo>
                  <a:lnTo>
                    <a:pt x="801" y="17"/>
                  </a:lnTo>
                  <a:lnTo>
                    <a:pt x="818" y="17"/>
                  </a:lnTo>
                  <a:lnTo>
                    <a:pt x="838" y="20"/>
                  </a:lnTo>
                  <a:lnTo>
                    <a:pt x="854" y="23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90"/>
                  </a:lnTo>
                  <a:lnTo>
                    <a:pt x="961" y="112"/>
                  </a:lnTo>
                  <a:lnTo>
                    <a:pt x="969" y="134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8"/>
                  </a:lnTo>
                  <a:lnTo>
                    <a:pt x="997" y="159"/>
                  </a:lnTo>
                  <a:lnTo>
                    <a:pt x="1014" y="154"/>
                  </a:lnTo>
                  <a:lnTo>
                    <a:pt x="1036" y="151"/>
                  </a:lnTo>
                  <a:lnTo>
                    <a:pt x="1055" y="151"/>
                  </a:lnTo>
                  <a:lnTo>
                    <a:pt x="1067" y="154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6"/>
                  </a:lnTo>
                  <a:lnTo>
                    <a:pt x="1134" y="215"/>
                  </a:lnTo>
                  <a:lnTo>
                    <a:pt x="1136" y="238"/>
                  </a:lnTo>
                  <a:lnTo>
                    <a:pt x="1139" y="257"/>
                  </a:lnTo>
                  <a:lnTo>
                    <a:pt x="1136" y="274"/>
                  </a:lnTo>
                  <a:lnTo>
                    <a:pt x="1131" y="288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39" y="307"/>
                  </a:lnTo>
                  <a:lnTo>
                    <a:pt x="1153" y="318"/>
                  </a:lnTo>
                  <a:lnTo>
                    <a:pt x="1167" y="332"/>
                  </a:lnTo>
                  <a:lnTo>
                    <a:pt x="1184" y="355"/>
                  </a:lnTo>
                  <a:lnTo>
                    <a:pt x="1198" y="383"/>
                  </a:lnTo>
                  <a:lnTo>
                    <a:pt x="1204" y="399"/>
                  </a:lnTo>
                  <a:lnTo>
                    <a:pt x="1206" y="416"/>
                  </a:lnTo>
                  <a:lnTo>
                    <a:pt x="1209" y="436"/>
                  </a:lnTo>
                  <a:lnTo>
                    <a:pt x="1209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09" y="480"/>
                  </a:lnTo>
                  <a:lnTo>
                    <a:pt x="1206" y="500"/>
                  </a:lnTo>
                  <a:lnTo>
                    <a:pt x="1198" y="536"/>
                  </a:lnTo>
                  <a:lnTo>
                    <a:pt x="1187" y="564"/>
                  </a:lnTo>
                  <a:lnTo>
                    <a:pt x="1173" y="587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39" y="640"/>
                  </a:lnTo>
                  <a:lnTo>
                    <a:pt x="1142" y="654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39" y="709"/>
                  </a:lnTo>
                  <a:lnTo>
                    <a:pt x="1128" y="732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7" y="760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4"/>
                  </a:lnTo>
                  <a:lnTo>
                    <a:pt x="1042" y="774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1" y="760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0" y="762"/>
                  </a:lnTo>
                  <a:lnTo>
                    <a:pt x="980" y="776"/>
                  </a:lnTo>
                  <a:lnTo>
                    <a:pt x="977" y="793"/>
                  </a:lnTo>
                  <a:lnTo>
                    <a:pt x="969" y="813"/>
                  </a:lnTo>
                  <a:lnTo>
                    <a:pt x="952" y="835"/>
                  </a:lnTo>
                  <a:lnTo>
                    <a:pt x="930" y="860"/>
                  </a:lnTo>
                  <a:lnTo>
                    <a:pt x="899" y="883"/>
                  </a:lnTo>
                  <a:lnTo>
                    <a:pt x="899" y="883"/>
                  </a:lnTo>
                  <a:lnTo>
                    <a:pt x="880" y="894"/>
                  </a:lnTo>
                  <a:lnTo>
                    <a:pt x="860" y="902"/>
                  </a:lnTo>
                  <a:lnTo>
                    <a:pt x="843" y="908"/>
                  </a:lnTo>
                  <a:lnTo>
                    <a:pt x="824" y="908"/>
                  </a:lnTo>
                  <a:lnTo>
                    <a:pt x="807" y="908"/>
                  </a:lnTo>
                  <a:lnTo>
                    <a:pt x="790" y="905"/>
                  </a:lnTo>
                  <a:lnTo>
                    <a:pt x="757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0" y="863"/>
                  </a:lnTo>
                  <a:lnTo>
                    <a:pt x="690" y="863"/>
                  </a:lnTo>
                  <a:lnTo>
                    <a:pt x="690" y="871"/>
                  </a:lnTo>
                  <a:lnTo>
                    <a:pt x="687" y="880"/>
                  </a:lnTo>
                  <a:lnTo>
                    <a:pt x="681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9"/>
                  </a:lnTo>
                  <a:lnTo>
                    <a:pt x="611" y="922"/>
                  </a:lnTo>
                  <a:lnTo>
                    <a:pt x="611" y="922"/>
                  </a:lnTo>
                  <a:lnTo>
                    <a:pt x="584" y="919"/>
                  </a:lnTo>
                  <a:lnTo>
                    <a:pt x="564" y="913"/>
                  </a:lnTo>
                  <a:lnTo>
                    <a:pt x="550" y="902"/>
                  </a:lnTo>
                  <a:lnTo>
                    <a:pt x="542" y="891"/>
                  </a:lnTo>
                  <a:lnTo>
                    <a:pt x="536" y="880"/>
                  </a:lnTo>
                  <a:lnTo>
                    <a:pt x="530" y="871"/>
                  </a:lnTo>
                  <a:lnTo>
                    <a:pt x="530" y="863"/>
                  </a:lnTo>
                </a:path>
              </a:pathLst>
            </a:custGeom>
            <a:noFill/>
            <a:ln w="936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73640" y="5405040"/>
              <a:ext cx="1855800" cy="1181880"/>
            </a:xfrm>
            <a:custGeom>
              <a:avLst/>
              <a:gdLst/>
              <a:ahLst/>
              <a:rect l="l" t="t" r="r" b="b"/>
              <a:pathLst>
                <a:path w="1212" h="921">
                  <a:moveTo>
                    <a:pt x="531" y="860"/>
                  </a:moveTo>
                  <a:lnTo>
                    <a:pt x="531" y="860"/>
                  </a:lnTo>
                  <a:lnTo>
                    <a:pt x="514" y="874"/>
                  </a:lnTo>
                  <a:lnTo>
                    <a:pt x="492" y="885"/>
                  </a:lnTo>
                  <a:lnTo>
                    <a:pt x="464" y="896"/>
                  </a:lnTo>
                  <a:lnTo>
                    <a:pt x="433" y="905"/>
                  </a:lnTo>
                  <a:lnTo>
                    <a:pt x="416" y="907"/>
                  </a:lnTo>
                  <a:lnTo>
                    <a:pt x="397" y="907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4" y="893"/>
                  </a:lnTo>
                  <a:lnTo>
                    <a:pt x="324" y="882"/>
                  </a:lnTo>
                  <a:lnTo>
                    <a:pt x="324" y="882"/>
                  </a:lnTo>
                  <a:lnTo>
                    <a:pt x="291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3" y="773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32" y="757"/>
                  </a:lnTo>
                  <a:lnTo>
                    <a:pt x="218" y="762"/>
                  </a:lnTo>
                  <a:lnTo>
                    <a:pt x="201" y="768"/>
                  </a:lnTo>
                  <a:lnTo>
                    <a:pt x="182" y="773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6" y="759"/>
                  </a:lnTo>
                  <a:lnTo>
                    <a:pt x="115" y="751"/>
                  </a:lnTo>
                  <a:lnTo>
                    <a:pt x="115" y="751"/>
                  </a:lnTo>
                  <a:lnTo>
                    <a:pt x="103" y="740"/>
                  </a:lnTo>
                  <a:lnTo>
                    <a:pt x="95" y="729"/>
                  </a:lnTo>
                  <a:lnTo>
                    <a:pt x="84" y="709"/>
                  </a:lnTo>
                  <a:lnTo>
                    <a:pt x="78" y="687"/>
                  </a:lnTo>
                  <a:lnTo>
                    <a:pt x="78" y="667"/>
                  </a:lnTo>
                  <a:lnTo>
                    <a:pt x="81" y="650"/>
                  </a:lnTo>
                  <a:lnTo>
                    <a:pt x="84" y="636"/>
                  </a:lnTo>
                  <a:lnTo>
                    <a:pt x="89" y="625"/>
                  </a:lnTo>
                  <a:lnTo>
                    <a:pt x="89" y="625"/>
                  </a:lnTo>
                  <a:lnTo>
                    <a:pt x="76" y="617"/>
                  </a:lnTo>
                  <a:lnTo>
                    <a:pt x="62" y="609"/>
                  </a:lnTo>
                  <a:lnTo>
                    <a:pt x="45" y="595"/>
                  </a:lnTo>
                  <a:lnTo>
                    <a:pt x="31" y="575"/>
                  </a:lnTo>
                  <a:lnTo>
                    <a:pt x="17" y="547"/>
                  </a:lnTo>
                  <a:lnTo>
                    <a:pt x="11" y="530"/>
                  </a:lnTo>
                  <a:lnTo>
                    <a:pt x="6" y="514"/>
                  </a:lnTo>
                  <a:lnTo>
                    <a:pt x="3" y="494"/>
                  </a:lnTo>
                  <a:lnTo>
                    <a:pt x="3" y="472"/>
                  </a:lnTo>
                  <a:lnTo>
                    <a:pt x="3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9" y="396"/>
                  </a:lnTo>
                  <a:lnTo>
                    <a:pt x="14" y="380"/>
                  </a:lnTo>
                  <a:lnTo>
                    <a:pt x="25" y="352"/>
                  </a:lnTo>
                  <a:lnTo>
                    <a:pt x="42" y="332"/>
                  </a:lnTo>
                  <a:lnTo>
                    <a:pt x="56" y="315"/>
                  </a:lnTo>
                  <a:lnTo>
                    <a:pt x="70" y="304"/>
                  </a:lnTo>
                  <a:lnTo>
                    <a:pt x="84" y="296"/>
                  </a:lnTo>
                  <a:lnTo>
                    <a:pt x="84" y="296"/>
                  </a:lnTo>
                  <a:lnTo>
                    <a:pt x="78" y="285"/>
                  </a:lnTo>
                  <a:lnTo>
                    <a:pt x="76" y="271"/>
                  </a:lnTo>
                  <a:lnTo>
                    <a:pt x="73" y="254"/>
                  </a:lnTo>
                  <a:lnTo>
                    <a:pt x="73" y="234"/>
                  </a:lnTo>
                  <a:lnTo>
                    <a:pt x="78" y="212"/>
                  </a:lnTo>
                  <a:lnTo>
                    <a:pt x="89" y="192"/>
                  </a:lnTo>
                  <a:lnTo>
                    <a:pt x="98" y="181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20" y="165"/>
                  </a:lnTo>
                  <a:lnTo>
                    <a:pt x="131" y="156"/>
                  </a:lnTo>
                  <a:lnTo>
                    <a:pt x="143" y="153"/>
                  </a:lnTo>
                  <a:lnTo>
                    <a:pt x="154" y="151"/>
                  </a:lnTo>
                  <a:lnTo>
                    <a:pt x="176" y="151"/>
                  </a:lnTo>
                  <a:lnTo>
                    <a:pt x="196" y="153"/>
                  </a:lnTo>
                  <a:lnTo>
                    <a:pt x="212" y="159"/>
                  </a:lnTo>
                  <a:lnTo>
                    <a:pt x="226" y="165"/>
                  </a:lnTo>
                  <a:lnTo>
                    <a:pt x="238" y="173"/>
                  </a:lnTo>
                  <a:lnTo>
                    <a:pt x="238" y="173"/>
                  </a:lnTo>
                  <a:lnTo>
                    <a:pt x="235" y="162"/>
                  </a:lnTo>
                  <a:lnTo>
                    <a:pt x="238" y="148"/>
                  </a:lnTo>
                  <a:lnTo>
                    <a:pt x="240" y="131"/>
                  </a:lnTo>
                  <a:lnTo>
                    <a:pt x="249" y="112"/>
                  </a:lnTo>
                  <a:lnTo>
                    <a:pt x="263" y="89"/>
                  </a:lnTo>
                  <a:lnTo>
                    <a:pt x="285" y="64"/>
                  </a:lnTo>
                  <a:lnTo>
                    <a:pt x="318" y="39"/>
                  </a:lnTo>
                  <a:lnTo>
                    <a:pt x="318" y="39"/>
                  </a:lnTo>
                  <a:lnTo>
                    <a:pt x="335" y="31"/>
                  </a:lnTo>
                  <a:lnTo>
                    <a:pt x="355" y="22"/>
                  </a:lnTo>
                  <a:lnTo>
                    <a:pt x="374" y="17"/>
                  </a:lnTo>
                  <a:lnTo>
                    <a:pt x="391" y="17"/>
                  </a:lnTo>
                  <a:lnTo>
                    <a:pt x="411" y="17"/>
                  </a:lnTo>
                  <a:lnTo>
                    <a:pt x="427" y="17"/>
                  </a:lnTo>
                  <a:lnTo>
                    <a:pt x="458" y="25"/>
                  </a:lnTo>
                  <a:lnTo>
                    <a:pt x="486" y="36"/>
                  </a:lnTo>
                  <a:lnTo>
                    <a:pt x="506" y="50"/>
                  </a:lnTo>
                  <a:lnTo>
                    <a:pt x="525" y="61"/>
                  </a:lnTo>
                  <a:lnTo>
                    <a:pt x="525" y="61"/>
                  </a:lnTo>
                  <a:lnTo>
                    <a:pt x="528" y="53"/>
                  </a:lnTo>
                  <a:lnTo>
                    <a:pt x="531" y="42"/>
                  </a:lnTo>
                  <a:lnTo>
                    <a:pt x="536" y="31"/>
                  </a:lnTo>
                  <a:lnTo>
                    <a:pt x="545" y="19"/>
                  </a:lnTo>
                  <a:lnTo>
                    <a:pt x="561" y="11"/>
                  </a:lnTo>
                  <a:lnTo>
                    <a:pt x="581" y="3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19"/>
                  </a:lnTo>
                  <a:lnTo>
                    <a:pt x="676" y="31"/>
                  </a:lnTo>
                  <a:lnTo>
                    <a:pt x="682" y="42"/>
                  </a:lnTo>
                  <a:lnTo>
                    <a:pt x="684" y="53"/>
                  </a:lnTo>
                  <a:lnTo>
                    <a:pt x="687" y="61"/>
                  </a:lnTo>
                  <a:lnTo>
                    <a:pt x="687" y="64"/>
                  </a:lnTo>
                  <a:lnTo>
                    <a:pt x="687" y="64"/>
                  </a:lnTo>
                  <a:lnTo>
                    <a:pt x="704" y="50"/>
                  </a:lnTo>
                  <a:lnTo>
                    <a:pt x="726" y="39"/>
                  </a:lnTo>
                  <a:lnTo>
                    <a:pt x="751" y="28"/>
                  </a:lnTo>
                  <a:lnTo>
                    <a:pt x="785" y="19"/>
                  </a:lnTo>
                  <a:lnTo>
                    <a:pt x="802" y="17"/>
                  </a:lnTo>
                  <a:lnTo>
                    <a:pt x="818" y="17"/>
                  </a:lnTo>
                  <a:lnTo>
                    <a:pt x="838" y="19"/>
                  </a:lnTo>
                  <a:lnTo>
                    <a:pt x="857" y="22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89"/>
                  </a:lnTo>
                  <a:lnTo>
                    <a:pt x="964" y="112"/>
                  </a:lnTo>
                  <a:lnTo>
                    <a:pt x="972" y="131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7"/>
                  </a:lnTo>
                  <a:lnTo>
                    <a:pt x="1000" y="159"/>
                  </a:lnTo>
                  <a:lnTo>
                    <a:pt x="1017" y="153"/>
                  </a:lnTo>
                  <a:lnTo>
                    <a:pt x="1036" y="151"/>
                  </a:lnTo>
                  <a:lnTo>
                    <a:pt x="1059" y="151"/>
                  </a:lnTo>
                  <a:lnTo>
                    <a:pt x="1070" y="153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2"/>
                  </a:lnTo>
                  <a:lnTo>
                    <a:pt x="1134" y="215"/>
                  </a:lnTo>
                  <a:lnTo>
                    <a:pt x="1140" y="234"/>
                  </a:lnTo>
                  <a:lnTo>
                    <a:pt x="1140" y="254"/>
                  </a:lnTo>
                  <a:lnTo>
                    <a:pt x="1137" y="273"/>
                  </a:lnTo>
                  <a:lnTo>
                    <a:pt x="1134" y="285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42" y="307"/>
                  </a:lnTo>
                  <a:lnTo>
                    <a:pt x="1153" y="315"/>
                  </a:lnTo>
                  <a:lnTo>
                    <a:pt x="1170" y="332"/>
                  </a:lnTo>
                  <a:lnTo>
                    <a:pt x="1184" y="354"/>
                  </a:lnTo>
                  <a:lnTo>
                    <a:pt x="1198" y="382"/>
                  </a:lnTo>
                  <a:lnTo>
                    <a:pt x="1204" y="396"/>
                  </a:lnTo>
                  <a:lnTo>
                    <a:pt x="1207" y="416"/>
                  </a:lnTo>
                  <a:lnTo>
                    <a:pt x="1209" y="435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80"/>
                  </a:lnTo>
                  <a:lnTo>
                    <a:pt x="1209" y="500"/>
                  </a:lnTo>
                  <a:lnTo>
                    <a:pt x="1201" y="536"/>
                  </a:lnTo>
                  <a:lnTo>
                    <a:pt x="1187" y="564"/>
                  </a:lnTo>
                  <a:lnTo>
                    <a:pt x="1173" y="586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40" y="639"/>
                  </a:lnTo>
                  <a:lnTo>
                    <a:pt x="1142" y="653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40" y="709"/>
                  </a:lnTo>
                  <a:lnTo>
                    <a:pt x="1128" y="731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8" y="759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3"/>
                  </a:lnTo>
                  <a:lnTo>
                    <a:pt x="1042" y="773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2" y="759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3" y="762"/>
                  </a:lnTo>
                  <a:lnTo>
                    <a:pt x="980" y="776"/>
                  </a:lnTo>
                  <a:lnTo>
                    <a:pt x="978" y="793"/>
                  </a:lnTo>
                  <a:lnTo>
                    <a:pt x="969" y="812"/>
                  </a:lnTo>
                  <a:lnTo>
                    <a:pt x="955" y="835"/>
                  </a:lnTo>
                  <a:lnTo>
                    <a:pt x="933" y="857"/>
                  </a:lnTo>
                  <a:lnTo>
                    <a:pt x="899" y="882"/>
                  </a:lnTo>
                  <a:lnTo>
                    <a:pt x="899" y="882"/>
                  </a:lnTo>
                  <a:lnTo>
                    <a:pt x="880" y="893"/>
                  </a:lnTo>
                  <a:lnTo>
                    <a:pt x="863" y="902"/>
                  </a:lnTo>
                  <a:lnTo>
                    <a:pt x="844" y="907"/>
                  </a:lnTo>
                  <a:lnTo>
                    <a:pt x="827" y="907"/>
                  </a:lnTo>
                  <a:lnTo>
                    <a:pt x="807" y="907"/>
                  </a:lnTo>
                  <a:lnTo>
                    <a:pt x="790" y="905"/>
                  </a:lnTo>
                  <a:lnTo>
                    <a:pt x="760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3" y="860"/>
                  </a:lnTo>
                  <a:lnTo>
                    <a:pt x="693" y="860"/>
                  </a:lnTo>
                  <a:lnTo>
                    <a:pt x="690" y="871"/>
                  </a:lnTo>
                  <a:lnTo>
                    <a:pt x="687" y="879"/>
                  </a:lnTo>
                  <a:lnTo>
                    <a:pt x="682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8"/>
                  </a:lnTo>
                  <a:lnTo>
                    <a:pt x="612" y="921"/>
                  </a:lnTo>
                  <a:lnTo>
                    <a:pt x="612" y="921"/>
                  </a:lnTo>
                  <a:lnTo>
                    <a:pt x="587" y="918"/>
                  </a:lnTo>
                  <a:lnTo>
                    <a:pt x="567" y="913"/>
                  </a:lnTo>
                  <a:lnTo>
                    <a:pt x="553" y="902"/>
                  </a:lnTo>
                  <a:lnTo>
                    <a:pt x="542" y="891"/>
                  </a:lnTo>
                  <a:lnTo>
                    <a:pt x="536" y="879"/>
                  </a:lnTo>
                  <a:lnTo>
                    <a:pt x="534" y="871"/>
                  </a:lnTo>
                  <a:lnTo>
                    <a:pt x="531" y="8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73640" y="5405040"/>
              <a:ext cx="1855800" cy="1181880"/>
            </a:xfrm>
            <a:custGeom>
              <a:avLst/>
              <a:gdLst/>
              <a:ahLst/>
              <a:rect l="l" t="t" r="r" b="b"/>
              <a:pathLst>
                <a:path w="1212" h="921">
                  <a:moveTo>
                    <a:pt x="531" y="860"/>
                  </a:moveTo>
                  <a:lnTo>
                    <a:pt x="531" y="860"/>
                  </a:lnTo>
                  <a:lnTo>
                    <a:pt x="514" y="874"/>
                  </a:lnTo>
                  <a:lnTo>
                    <a:pt x="492" y="885"/>
                  </a:lnTo>
                  <a:lnTo>
                    <a:pt x="464" y="896"/>
                  </a:lnTo>
                  <a:lnTo>
                    <a:pt x="433" y="905"/>
                  </a:lnTo>
                  <a:lnTo>
                    <a:pt x="416" y="907"/>
                  </a:lnTo>
                  <a:lnTo>
                    <a:pt x="397" y="907"/>
                  </a:lnTo>
                  <a:lnTo>
                    <a:pt x="380" y="905"/>
                  </a:lnTo>
                  <a:lnTo>
                    <a:pt x="360" y="899"/>
                  </a:lnTo>
                  <a:lnTo>
                    <a:pt x="344" y="893"/>
                  </a:lnTo>
                  <a:lnTo>
                    <a:pt x="324" y="882"/>
                  </a:lnTo>
                  <a:lnTo>
                    <a:pt x="324" y="882"/>
                  </a:lnTo>
                  <a:lnTo>
                    <a:pt x="291" y="857"/>
                  </a:lnTo>
                  <a:lnTo>
                    <a:pt x="268" y="832"/>
                  </a:lnTo>
                  <a:lnTo>
                    <a:pt x="254" y="810"/>
                  </a:lnTo>
                  <a:lnTo>
                    <a:pt x="246" y="790"/>
                  </a:lnTo>
                  <a:lnTo>
                    <a:pt x="243" y="773"/>
                  </a:lnTo>
                  <a:lnTo>
                    <a:pt x="240" y="762"/>
                  </a:lnTo>
                  <a:lnTo>
                    <a:pt x="243" y="751"/>
                  </a:lnTo>
                  <a:lnTo>
                    <a:pt x="243" y="751"/>
                  </a:lnTo>
                  <a:lnTo>
                    <a:pt x="232" y="757"/>
                  </a:lnTo>
                  <a:lnTo>
                    <a:pt x="218" y="762"/>
                  </a:lnTo>
                  <a:lnTo>
                    <a:pt x="201" y="768"/>
                  </a:lnTo>
                  <a:lnTo>
                    <a:pt x="182" y="773"/>
                  </a:lnTo>
                  <a:lnTo>
                    <a:pt x="159" y="771"/>
                  </a:lnTo>
                  <a:lnTo>
                    <a:pt x="148" y="768"/>
                  </a:lnTo>
                  <a:lnTo>
                    <a:pt x="137" y="765"/>
                  </a:lnTo>
                  <a:lnTo>
                    <a:pt x="126" y="759"/>
                  </a:lnTo>
                  <a:lnTo>
                    <a:pt x="115" y="751"/>
                  </a:lnTo>
                  <a:lnTo>
                    <a:pt x="115" y="751"/>
                  </a:lnTo>
                  <a:lnTo>
                    <a:pt x="103" y="740"/>
                  </a:lnTo>
                  <a:lnTo>
                    <a:pt x="95" y="729"/>
                  </a:lnTo>
                  <a:lnTo>
                    <a:pt x="84" y="709"/>
                  </a:lnTo>
                  <a:lnTo>
                    <a:pt x="78" y="687"/>
                  </a:lnTo>
                  <a:lnTo>
                    <a:pt x="78" y="667"/>
                  </a:lnTo>
                  <a:lnTo>
                    <a:pt x="81" y="650"/>
                  </a:lnTo>
                  <a:lnTo>
                    <a:pt x="84" y="636"/>
                  </a:lnTo>
                  <a:lnTo>
                    <a:pt x="89" y="625"/>
                  </a:lnTo>
                  <a:lnTo>
                    <a:pt x="89" y="625"/>
                  </a:lnTo>
                  <a:lnTo>
                    <a:pt x="76" y="617"/>
                  </a:lnTo>
                  <a:lnTo>
                    <a:pt x="62" y="609"/>
                  </a:lnTo>
                  <a:lnTo>
                    <a:pt x="45" y="595"/>
                  </a:lnTo>
                  <a:lnTo>
                    <a:pt x="31" y="575"/>
                  </a:lnTo>
                  <a:lnTo>
                    <a:pt x="17" y="547"/>
                  </a:lnTo>
                  <a:lnTo>
                    <a:pt x="11" y="530"/>
                  </a:lnTo>
                  <a:lnTo>
                    <a:pt x="6" y="514"/>
                  </a:lnTo>
                  <a:lnTo>
                    <a:pt x="3" y="494"/>
                  </a:lnTo>
                  <a:lnTo>
                    <a:pt x="3" y="472"/>
                  </a:lnTo>
                  <a:lnTo>
                    <a:pt x="3" y="475"/>
                  </a:lnTo>
                  <a:lnTo>
                    <a:pt x="0" y="455"/>
                  </a:lnTo>
                  <a:lnTo>
                    <a:pt x="0" y="455"/>
                  </a:lnTo>
                  <a:lnTo>
                    <a:pt x="0" y="433"/>
                  </a:lnTo>
                  <a:lnTo>
                    <a:pt x="3" y="413"/>
                  </a:lnTo>
                  <a:lnTo>
                    <a:pt x="9" y="396"/>
                  </a:lnTo>
                  <a:lnTo>
                    <a:pt x="14" y="380"/>
                  </a:lnTo>
                  <a:lnTo>
                    <a:pt x="25" y="352"/>
                  </a:lnTo>
                  <a:lnTo>
                    <a:pt x="42" y="332"/>
                  </a:lnTo>
                  <a:lnTo>
                    <a:pt x="56" y="315"/>
                  </a:lnTo>
                  <a:lnTo>
                    <a:pt x="70" y="304"/>
                  </a:lnTo>
                  <a:lnTo>
                    <a:pt x="84" y="296"/>
                  </a:lnTo>
                  <a:lnTo>
                    <a:pt x="84" y="296"/>
                  </a:lnTo>
                  <a:lnTo>
                    <a:pt x="78" y="285"/>
                  </a:lnTo>
                  <a:lnTo>
                    <a:pt x="76" y="271"/>
                  </a:lnTo>
                  <a:lnTo>
                    <a:pt x="73" y="254"/>
                  </a:lnTo>
                  <a:lnTo>
                    <a:pt x="73" y="234"/>
                  </a:lnTo>
                  <a:lnTo>
                    <a:pt x="78" y="212"/>
                  </a:lnTo>
                  <a:lnTo>
                    <a:pt x="89" y="192"/>
                  </a:lnTo>
                  <a:lnTo>
                    <a:pt x="98" y="181"/>
                  </a:lnTo>
                  <a:lnTo>
                    <a:pt x="106" y="173"/>
                  </a:lnTo>
                  <a:lnTo>
                    <a:pt x="106" y="173"/>
                  </a:lnTo>
                  <a:lnTo>
                    <a:pt x="120" y="165"/>
                  </a:lnTo>
                  <a:lnTo>
                    <a:pt x="131" y="156"/>
                  </a:lnTo>
                  <a:lnTo>
                    <a:pt x="143" y="153"/>
                  </a:lnTo>
                  <a:lnTo>
                    <a:pt x="154" y="151"/>
                  </a:lnTo>
                  <a:lnTo>
                    <a:pt x="176" y="151"/>
                  </a:lnTo>
                  <a:lnTo>
                    <a:pt x="196" y="153"/>
                  </a:lnTo>
                  <a:lnTo>
                    <a:pt x="212" y="159"/>
                  </a:lnTo>
                  <a:lnTo>
                    <a:pt x="226" y="165"/>
                  </a:lnTo>
                  <a:lnTo>
                    <a:pt x="238" y="173"/>
                  </a:lnTo>
                  <a:lnTo>
                    <a:pt x="238" y="173"/>
                  </a:lnTo>
                  <a:lnTo>
                    <a:pt x="235" y="162"/>
                  </a:lnTo>
                  <a:lnTo>
                    <a:pt x="238" y="148"/>
                  </a:lnTo>
                  <a:lnTo>
                    <a:pt x="240" y="131"/>
                  </a:lnTo>
                  <a:lnTo>
                    <a:pt x="249" y="112"/>
                  </a:lnTo>
                  <a:lnTo>
                    <a:pt x="263" y="89"/>
                  </a:lnTo>
                  <a:lnTo>
                    <a:pt x="285" y="64"/>
                  </a:lnTo>
                  <a:lnTo>
                    <a:pt x="318" y="39"/>
                  </a:lnTo>
                  <a:lnTo>
                    <a:pt x="318" y="39"/>
                  </a:lnTo>
                  <a:lnTo>
                    <a:pt x="335" y="31"/>
                  </a:lnTo>
                  <a:lnTo>
                    <a:pt x="355" y="22"/>
                  </a:lnTo>
                  <a:lnTo>
                    <a:pt x="374" y="17"/>
                  </a:lnTo>
                  <a:lnTo>
                    <a:pt x="391" y="17"/>
                  </a:lnTo>
                  <a:lnTo>
                    <a:pt x="411" y="17"/>
                  </a:lnTo>
                  <a:lnTo>
                    <a:pt x="427" y="17"/>
                  </a:lnTo>
                  <a:lnTo>
                    <a:pt x="458" y="25"/>
                  </a:lnTo>
                  <a:lnTo>
                    <a:pt x="486" y="36"/>
                  </a:lnTo>
                  <a:lnTo>
                    <a:pt x="506" y="50"/>
                  </a:lnTo>
                  <a:lnTo>
                    <a:pt x="525" y="61"/>
                  </a:lnTo>
                  <a:lnTo>
                    <a:pt x="525" y="61"/>
                  </a:lnTo>
                  <a:lnTo>
                    <a:pt x="528" y="53"/>
                  </a:lnTo>
                  <a:lnTo>
                    <a:pt x="531" y="42"/>
                  </a:lnTo>
                  <a:lnTo>
                    <a:pt x="536" y="31"/>
                  </a:lnTo>
                  <a:lnTo>
                    <a:pt x="545" y="19"/>
                  </a:lnTo>
                  <a:lnTo>
                    <a:pt x="561" y="11"/>
                  </a:lnTo>
                  <a:lnTo>
                    <a:pt x="581" y="3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31" y="3"/>
                  </a:lnTo>
                  <a:lnTo>
                    <a:pt x="651" y="11"/>
                  </a:lnTo>
                  <a:lnTo>
                    <a:pt x="665" y="19"/>
                  </a:lnTo>
                  <a:lnTo>
                    <a:pt x="676" y="31"/>
                  </a:lnTo>
                  <a:lnTo>
                    <a:pt x="682" y="42"/>
                  </a:lnTo>
                  <a:lnTo>
                    <a:pt x="684" y="53"/>
                  </a:lnTo>
                  <a:lnTo>
                    <a:pt x="687" y="61"/>
                  </a:lnTo>
                  <a:lnTo>
                    <a:pt x="687" y="64"/>
                  </a:lnTo>
                  <a:lnTo>
                    <a:pt x="687" y="64"/>
                  </a:lnTo>
                  <a:lnTo>
                    <a:pt x="704" y="50"/>
                  </a:lnTo>
                  <a:lnTo>
                    <a:pt x="726" y="39"/>
                  </a:lnTo>
                  <a:lnTo>
                    <a:pt x="751" y="28"/>
                  </a:lnTo>
                  <a:lnTo>
                    <a:pt x="785" y="19"/>
                  </a:lnTo>
                  <a:lnTo>
                    <a:pt x="802" y="17"/>
                  </a:lnTo>
                  <a:lnTo>
                    <a:pt x="818" y="17"/>
                  </a:lnTo>
                  <a:lnTo>
                    <a:pt x="838" y="19"/>
                  </a:lnTo>
                  <a:lnTo>
                    <a:pt x="857" y="22"/>
                  </a:lnTo>
                  <a:lnTo>
                    <a:pt x="874" y="31"/>
                  </a:lnTo>
                  <a:lnTo>
                    <a:pt x="894" y="42"/>
                  </a:lnTo>
                  <a:lnTo>
                    <a:pt x="894" y="42"/>
                  </a:lnTo>
                  <a:lnTo>
                    <a:pt x="924" y="67"/>
                  </a:lnTo>
                  <a:lnTo>
                    <a:pt x="947" y="89"/>
                  </a:lnTo>
                  <a:lnTo>
                    <a:pt x="964" y="112"/>
                  </a:lnTo>
                  <a:lnTo>
                    <a:pt x="972" y="131"/>
                  </a:lnTo>
                  <a:lnTo>
                    <a:pt x="975" y="151"/>
                  </a:lnTo>
                  <a:lnTo>
                    <a:pt x="975" y="162"/>
                  </a:lnTo>
                  <a:lnTo>
                    <a:pt x="975" y="173"/>
                  </a:lnTo>
                  <a:lnTo>
                    <a:pt x="975" y="173"/>
                  </a:lnTo>
                  <a:lnTo>
                    <a:pt x="986" y="167"/>
                  </a:lnTo>
                  <a:lnTo>
                    <a:pt x="1000" y="159"/>
                  </a:lnTo>
                  <a:lnTo>
                    <a:pt x="1017" y="153"/>
                  </a:lnTo>
                  <a:lnTo>
                    <a:pt x="1036" y="151"/>
                  </a:lnTo>
                  <a:lnTo>
                    <a:pt x="1059" y="151"/>
                  </a:lnTo>
                  <a:lnTo>
                    <a:pt x="1070" y="153"/>
                  </a:lnTo>
                  <a:lnTo>
                    <a:pt x="1081" y="159"/>
                  </a:lnTo>
                  <a:lnTo>
                    <a:pt x="1092" y="165"/>
                  </a:lnTo>
                  <a:lnTo>
                    <a:pt x="1103" y="173"/>
                  </a:lnTo>
                  <a:lnTo>
                    <a:pt x="1103" y="173"/>
                  </a:lnTo>
                  <a:lnTo>
                    <a:pt x="1114" y="184"/>
                  </a:lnTo>
                  <a:lnTo>
                    <a:pt x="1123" y="192"/>
                  </a:lnTo>
                  <a:lnTo>
                    <a:pt x="1134" y="215"/>
                  </a:lnTo>
                  <a:lnTo>
                    <a:pt x="1140" y="234"/>
                  </a:lnTo>
                  <a:lnTo>
                    <a:pt x="1140" y="254"/>
                  </a:lnTo>
                  <a:lnTo>
                    <a:pt x="1137" y="273"/>
                  </a:lnTo>
                  <a:lnTo>
                    <a:pt x="1134" y="285"/>
                  </a:lnTo>
                  <a:lnTo>
                    <a:pt x="1128" y="299"/>
                  </a:lnTo>
                  <a:lnTo>
                    <a:pt x="1128" y="299"/>
                  </a:lnTo>
                  <a:lnTo>
                    <a:pt x="1142" y="307"/>
                  </a:lnTo>
                  <a:lnTo>
                    <a:pt x="1153" y="315"/>
                  </a:lnTo>
                  <a:lnTo>
                    <a:pt x="1170" y="332"/>
                  </a:lnTo>
                  <a:lnTo>
                    <a:pt x="1184" y="354"/>
                  </a:lnTo>
                  <a:lnTo>
                    <a:pt x="1198" y="382"/>
                  </a:lnTo>
                  <a:lnTo>
                    <a:pt x="1204" y="396"/>
                  </a:lnTo>
                  <a:lnTo>
                    <a:pt x="1207" y="416"/>
                  </a:lnTo>
                  <a:lnTo>
                    <a:pt x="1209" y="435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58"/>
                  </a:lnTo>
                  <a:lnTo>
                    <a:pt x="1212" y="480"/>
                  </a:lnTo>
                  <a:lnTo>
                    <a:pt x="1209" y="500"/>
                  </a:lnTo>
                  <a:lnTo>
                    <a:pt x="1201" y="536"/>
                  </a:lnTo>
                  <a:lnTo>
                    <a:pt x="1187" y="564"/>
                  </a:lnTo>
                  <a:lnTo>
                    <a:pt x="1173" y="586"/>
                  </a:lnTo>
                  <a:lnTo>
                    <a:pt x="1159" y="606"/>
                  </a:lnTo>
                  <a:lnTo>
                    <a:pt x="1145" y="617"/>
                  </a:lnTo>
                  <a:lnTo>
                    <a:pt x="1134" y="628"/>
                  </a:lnTo>
                  <a:lnTo>
                    <a:pt x="1134" y="628"/>
                  </a:lnTo>
                  <a:lnTo>
                    <a:pt x="1140" y="639"/>
                  </a:lnTo>
                  <a:lnTo>
                    <a:pt x="1142" y="653"/>
                  </a:lnTo>
                  <a:lnTo>
                    <a:pt x="1145" y="670"/>
                  </a:lnTo>
                  <a:lnTo>
                    <a:pt x="1145" y="690"/>
                  </a:lnTo>
                  <a:lnTo>
                    <a:pt x="1140" y="709"/>
                  </a:lnTo>
                  <a:lnTo>
                    <a:pt x="1128" y="731"/>
                  </a:lnTo>
                  <a:lnTo>
                    <a:pt x="1120" y="743"/>
                  </a:lnTo>
                  <a:lnTo>
                    <a:pt x="1109" y="751"/>
                  </a:lnTo>
                  <a:lnTo>
                    <a:pt x="1109" y="751"/>
                  </a:lnTo>
                  <a:lnTo>
                    <a:pt x="1098" y="759"/>
                  </a:lnTo>
                  <a:lnTo>
                    <a:pt x="1086" y="765"/>
                  </a:lnTo>
                  <a:lnTo>
                    <a:pt x="1075" y="771"/>
                  </a:lnTo>
                  <a:lnTo>
                    <a:pt x="1064" y="773"/>
                  </a:lnTo>
                  <a:lnTo>
                    <a:pt x="1042" y="773"/>
                  </a:lnTo>
                  <a:lnTo>
                    <a:pt x="1022" y="771"/>
                  </a:lnTo>
                  <a:lnTo>
                    <a:pt x="1005" y="765"/>
                  </a:lnTo>
                  <a:lnTo>
                    <a:pt x="992" y="759"/>
                  </a:lnTo>
                  <a:lnTo>
                    <a:pt x="980" y="751"/>
                  </a:lnTo>
                  <a:lnTo>
                    <a:pt x="980" y="751"/>
                  </a:lnTo>
                  <a:lnTo>
                    <a:pt x="983" y="762"/>
                  </a:lnTo>
                  <a:lnTo>
                    <a:pt x="980" y="776"/>
                  </a:lnTo>
                  <a:lnTo>
                    <a:pt x="978" y="793"/>
                  </a:lnTo>
                  <a:lnTo>
                    <a:pt x="969" y="812"/>
                  </a:lnTo>
                  <a:lnTo>
                    <a:pt x="955" y="835"/>
                  </a:lnTo>
                  <a:lnTo>
                    <a:pt x="933" y="857"/>
                  </a:lnTo>
                  <a:lnTo>
                    <a:pt x="899" y="882"/>
                  </a:lnTo>
                  <a:lnTo>
                    <a:pt x="899" y="882"/>
                  </a:lnTo>
                  <a:lnTo>
                    <a:pt x="880" y="893"/>
                  </a:lnTo>
                  <a:lnTo>
                    <a:pt x="863" y="902"/>
                  </a:lnTo>
                  <a:lnTo>
                    <a:pt x="844" y="907"/>
                  </a:lnTo>
                  <a:lnTo>
                    <a:pt x="827" y="907"/>
                  </a:lnTo>
                  <a:lnTo>
                    <a:pt x="807" y="907"/>
                  </a:lnTo>
                  <a:lnTo>
                    <a:pt x="790" y="905"/>
                  </a:lnTo>
                  <a:lnTo>
                    <a:pt x="760" y="896"/>
                  </a:lnTo>
                  <a:lnTo>
                    <a:pt x="732" y="885"/>
                  </a:lnTo>
                  <a:lnTo>
                    <a:pt x="709" y="874"/>
                  </a:lnTo>
                  <a:lnTo>
                    <a:pt x="693" y="860"/>
                  </a:lnTo>
                  <a:lnTo>
                    <a:pt x="693" y="860"/>
                  </a:lnTo>
                  <a:lnTo>
                    <a:pt x="690" y="871"/>
                  </a:lnTo>
                  <a:lnTo>
                    <a:pt x="687" y="879"/>
                  </a:lnTo>
                  <a:lnTo>
                    <a:pt x="682" y="891"/>
                  </a:lnTo>
                  <a:lnTo>
                    <a:pt x="670" y="902"/>
                  </a:lnTo>
                  <a:lnTo>
                    <a:pt x="656" y="913"/>
                  </a:lnTo>
                  <a:lnTo>
                    <a:pt x="637" y="918"/>
                  </a:lnTo>
                  <a:lnTo>
                    <a:pt x="612" y="921"/>
                  </a:lnTo>
                  <a:lnTo>
                    <a:pt x="612" y="921"/>
                  </a:lnTo>
                  <a:lnTo>
                    <a:pt x="587" y="918"/>
                  </a:lnTo>
                  <a:lnTo>
                    <a:pt x="567" y="913"/>
                  </a:lnTo>
                  <a:lnTo>
                    <a:pt x="553" y="902"/>
                  </a:lnTo>
                  <a:lnTo>
                    <a:pt x="542" y="891"/>
                  </a:lnTo>
                  <a:lnTo>
                    <a:pt x="536" y="879"/>
                  </a:lnTo>
                  <a:lnTo>
                    <a:pt x="534" y="871"/>
                  </a:lnTo>
                  <a:lnTo>
                    <a:pt x="531" y="860"/>
                  </a:lnTo>
                </a:path>
              </a:pathLst>
            </a:custGeom>
            <a:noFill/>
            <a:ln w="936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62240" y="2908080"/>
              <a:ext cx="2743560" cy="228924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62240" y="2822400"/>
              <a:ext cx="2872440" cy="85680"/>
            </a:xfrm>
            <a:custGeom>
              <a:avLst/>
              <a:gdLst/>
              <a:ahLst/>
              <a:rect l="l" t="t" r="r" b="b"/>
              <a:pathLst>
                <a:path w="1876" h="67">
                  <a:moveTo>
                    <a:pt x="0" y="67"/>
                  </a:moveTo>
                  <a:lnTo>
                    <a:pt x="1792" y="67"/>
                  </a:lnTo>
                  <a:lnTo>
                    <a:pt x="1876" y="0"/>
                  </a:lnTo>
                  <a:lnTo>
                    <a:pt x="83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05800" y="2822400"/>
              <a:ext cx="128520" cy="2374920"/>
            </a:xfrm>
            <a:custGeom>
              <a:avLst/>
              <a:gdLst/>
              <a:ahLst/>
              <a:rect l="l" t="t" r="r" b="b"/>
              <a:pathLst>
                <a:path w="84" h="1851">
                  <a:moveTo>
                    <a:pt x="84" y="0"/>
                  </a:moveTo>
                  <a:lnTo>
                    <a:pt x="0" y="67"/>
                  </a:lnTo>
                  <a:lnTo>
                    <a:pt x="0" y="1851"/>
                  </a:lnTo>
                  <a:lnTo>
                    <a:pt x="84" y="1787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3840" y="2908080"/>
              <a:ext cx="2745360" cy="228924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13840" y="2822400"/>
              <a:ext cx="2873880" cy="85680"/>
            </a:xfrm>
            <a:custGeom>
              <a:avLst/>
              <a:gdLst/>
              <a:ahLst/>
              <a:rect l="l" t="t" r="r" b="b"/>
              <a:pathLst>
                <a:path w="1877" h="67">
                  <a:moveTo>
                    <a:pt x="0" y="67"/>
                  </a:moveTo>
                  <a:lnTo>
                    <a:pt x="1793" y="67"/>
                  </a:lnTo>
                  <a:lnTo>
                    <a:pt x="1877" y="0"/>
                  </a:lnTo>
                  <a:lnTo>
                    <a:pt x="84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9560" y="2822400"/>
              <a:ext cx="131400" cy="2374920"/>
            </a:xfrm>
            <a:custGeom>
              <a:avLst/>
              <a:gdLst/>
              <a:ahLst/>
              <a:rect l="l" t="t" r="r" b="b"/>
              <a:pathLst>
                <a:path w="86" h="1851">
                  <a:moveTo>
                    <a:pt x="86" y="0"/>
                  </a:moveTo>
                  <a:lnTo>
                    <a:pt x="0" y="67"/>
                  </a:lnTo>
                  <a:lnTo>
                    <a:pt x="0" y="1851"/>
                  </a:lnTo>
                  <a:lnTo>
                    <a:pt x="86" y="178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7040" y="4997160"/>
              <a:ext cx="696240" cy="1017360"/>
            </a:xfrm>
            <a:custGeom>
              <a:avLst/>
              <a:gdLst/>
              <a:ahLst/>
              <a:rect l="l" t="t" r="r" b="b"/>
              <a:pathLst>
                <a:path w="455" h="793">
                  <a:moveTo>
                    <a:pt x="0" y="0"/>
                  </a:moveTo>
                  <a:lnTo>
                    <a:pt x="0" y="793"/>
                  </a:lnTo>
                  <a:lnTo>
                    <a:pt x="455" y="79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8960" y="4398120"/>
              <a:ext cx="1235160" cy="333360"/>
            </a:xfrm>
            <a:custGeom>
              <a:avLst/>
              <a:gdLst/>
              <a:ahLst/>
              <a:rect l="l" t="t" r="r" b="b"/>
              <a:pathLst>
                <a:path w="807" h="260">
                  <a:moveTo>
                    <a:pt x="0" y="3"/>
                  </a:moveTo>
                  <a:lnTo>
                    <a:pt x="390" y="260"/>
                  </a:lnTo>
                  <a:lnTo>
                    <a:pt x="8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58600" y="3742200"/>
              <a:ext cx="970560" cy="391320"/>
            </a:xfrm>
            <a:custGeom>
              <a:avLst/>
              <a:gdLst/>
              <a:ahLst/>
              <a:rect l="l" t="t" r="r" b="b"/>
              <a:pathLst>
                <a:path w="634" h="305">
                  <a:moveTo>
                    <a:pt x="0" y="6"/>
                  </a:moveTo>
                  <a:lnTo>
                    <a:pt x="319" y="305"/>
                  </a:lnTo>
                  <a:lnTo>
                    <a:pt x="6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430440" y="3746160"/>
              <a:ext cx="19260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69040" y="29466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Hos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5400" y="4179600"/>
              <a:ext cx="46224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48000" y="4129560"/>
              <a:ext cx="59400" cy="275760"/>
            </a:xfrm>
            <a:custGeom>
              <a:avLst/>
              <a:gdLst/>
              <a:ahLst/>
              <a:rect l="l" t="t" r="r" b="b"/>
              <a:pathLst>
                <a:path w="39" h="215">
                  <a:moveTo>
                    <a:pt x="39" y="0"/>
                  </a:moveTo>
                  <a:lnTo>
                    <a:pt x="39" y="178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5400" y="412956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92320" y="4258080"/>
              <a:ext cx="197280" cy="7956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62"/>
                  </a:moveTo>
                  <a:lnTo>
                    <a:pt x="8" y="62"/>
                  </a:lnTo>
                  <a:lnTo>
                    <a:pt x="8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22" y="39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1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4" y="45"/>
                  </a:lnTo>
                  <a:lnTo>
                    <a:pt x="34" y="45"/>
                  </a:lnTo>
                  <a:lnTo>
                    <a:pt x="31" y="3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4" y="28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"/>
                  </a:lnTo>
                  <a:lnTo>
                    <a:pt x="0" y="62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9"/>
                  </a:lnTo>
                  <a:lnTo>
                    <a:pt x="25" y="9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20" y="28"/>
                  </a:lnTo>
                  <a:lnTo>
                    <a:pt x="17" y="31"/>
                  </a:lnTo>
                  <a:lnTo>
                    <a:pt x="8" y="31"/>
                  </a:lnTo>
                  <a:lnTo>
                    <a:pt x="8" y="9"/>
                  </a:lnTo>
                  <a:close/>
                  <a:moveTo>
                    <a:pt x="48" y="62"/>
                  </a:moveTo>
                  <a:lnTo>
                    <a:pt x="53" y="62"/>
                  </a:lnTo>
                  <a:lnTo>
                    <a:pt x="53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70" y="39"/>
                  </a:lnTo>
                  <a:lnTo>
                    <a:pt x="73" y="48"/>
                  </a:lnTo>
                  <a:lnTo>
                    <a:pt x="73" y="48"/>
                  </a:lnTo>
                  <a:lnTo>
                    <a:pt x="78" y="6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8" y="37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8" y="28"/>
                  </a:lnTo>
                  <a:lnTo>
                    <a:pt x="81" y="23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1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3" y="3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8" y="3"/>
                  </a:lnTo>
                  <a:lnTo>
                    <a:pt x="48" y="62"/>
                  </a:lnTo>
                  <a:close/>
                  <a:moveTo>
                    <a:pt x="53" y="9"/>
                  </a:moveTo>
                  <a:lnTo>
                    <a:pt x="53" y="9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73" y="9"/>
                  </a:lnTo>
                  <a:lnTo>
                    <a:pt x="76" y="14"/>
                  </a:lnTo>
                  <a:lnTo>
                    <a:pt x="76" y="17"/>
                  </a:lnTo>
                  <a:lnTo>
                    <a:pt x="76" y="17"/>
                  </a:lnTo>
                  <a:lnTo>
                    <a:pt x="76" y="23"/>
                  </a:lnTo>
                  <a:lnTo>
                    <a:pt x="73" y="25"/>
                  </a:lnTo>
                  <a:lnTo>
                    <a:pt x="67" y="28"/>
                  </a:lnTo>
                  <a:lnTo>
                    <a:pt x="62" y="31"/>
                  </a:lnTo>
                  <a:lnTo>
                    <a:pt x="53" y="31"/>
                  </a:lnTo>
                  <a:lnTo>
                    <a:pt x="53" y="9"/>
                  </a:lnTo>
                  <a:close/>
                  <a:moveTo>
                    <a:pt x="92" y="62"/>
                  </a:moveTo>
                  <a:lnTo>
                    <a:pt x="101" y="62"/>
                  </a:lnTo>
                  <a:lnTo>
                    <a:pt x="101" y="37"/>
                  </a:lnTo>
                  <a:lnTo>
                    <a:pt x="101" y="37"/>
                  </a:lnTo>
                  <a:lnTo>
                    <a:pt x="106" y="39"/>
                  </a:lnTo>
                  <a:lnTo>
                    <a:pt x="106" y="39"/>
                  </a:lnTo>
                  <a:lnTo>
                    <a:pt x="117" y="37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9" y="25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29" y="11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17" y="3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3"/>
                  </a:lnTo>
                  <a:lnTo>
                    <a:pt x="92" y="62"/>
                  </a:lnTo>
                  <a:close/>
                  <a:moveTo>
                    <a:pt x="101" y="9"/>
                  </a:moveTo>
                  <a:lnTo>
                    <a:pt x="101" y="9"/>
                  </a:lnTo>
                  <a:lnTo>
                    <a:pt x="109" y="6"/>
                  </a:lnTo>
                  <a:lnTo>
                    <a:pt x="109" y="6"/>
                  </a:lnTo>
                  <a:lnTo>
                    <a:pt x="115" y="9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20"/>
                  </a:lnTo>
                  <a:lnTo>
                    <a:pt x="123" y="20"/>
                  </a:lnTo>
                  <a:lnTo>
                    <a:pt x="120" y="25"/>
                  </a:lnTo>
                  <a:lnTo>
                    <a:pt x="117" y="28"/>
                  </a:lnTo>
                  <a:lnTo>
                    <a:pt x="115" y="31"/>
                  </a:lnTo>
                  <a:lnTo>
                    <a:pt x="106" y="31"/>
                  </a:lnTo>
                  <a:lnTo>
                    <a:pt x="106" y="31"/>
                  </a:lnTo>
                  <a:lnTo>
                    <a:pt x="101" y="31"/>
                  </a:lnTo>
                  <a:lnTo>
                    <a:pt x="1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70520" y="4186080"/>
              <a:ext cx="46044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1320" y="4136040"/>
              <a:ext cx="61200" cy="275760"/>
            </a:xfrm>
            <a:custGeom>
              <a:avLst/>
              <a:gdLst/>
              <a:ahLst/>
              <a:rect l="l" t="t" r="r" b="b"/>
              <a:pathLst>
                <a:path w="40" h="215">
                  <a:moveTo>
                    <a:pt x="40" y="0"/>
                  </a:moveTo>
                  <a:lnTo>
                    <a:pt x="40" y="179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0520" y="413604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1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72760" y="4258080"/>
              <a:ext cx="226440" cy="79560"/>
            </a:xfrm>
            <a:custGeom>
              <a:avLst/>
              <a:gdLst/>
              <a:ahLst/>
              <a:rect l="l" t="t" r="r" b="b"/>
              <a:pathLst>
                <a:path w="148" h="62">
                  <a:moveTo>
                    <a:pt x="50" y="62"/>
                  </a:moveTo>
                  <a:lnTo>
                    <a:pt x="59" y="6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2" y="31"/>
                  </a:lnTo>
                  <a:lnTo>
                    <a:pt x="14" y="0"/>
                  </a:lnTo>
                  <a:lnTo>
                    <a:pt x="3" y="0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7" y="34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50" y="37"/>
                  </a:lnTo>
                  <a:lnTo>
                    <a:pt x="50" y="62"/>
                  </a:lnTo>
                  <a:close/>
                  <a:moveTo>
                    <a:pt x="67" y="59"/>
                  </a:moveTo>
                  <a:lnTo>
                    <a:pt x="67" y="59"/>
                  </a:lnTo>
                  <a:lnTo>
                    <a:pt x="72" y="6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2" y="62"/>
                  </a:lnTo>
                  <a:lnTo>
                    <a:pt x="98" y="59"/>
                  </a:lnTo>
                  <a:lnTo>
                    <a:pt x="100" y="53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78" y="23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8" y="9"/>
                  </a:lnTo>
                  <a:lnTo>
                    <a:pt x="81" y="9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95" y="9"/>
                  </a:lnTo>
                  <a:lnTo>
                    <a:pt x="98" y="9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1" y="3"/>
                  </a:lnTo>
                  <a:lnTo>
                    <a:pt x="72" y="6"/>
                  </a:lnTo>
                  <a:lnTo>
                    <a:pt x="70" y="11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2" y="28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92" y="39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5" y="56"/>
                  </a:lnTo>
                  <a:lnTo>
                    <a:pt x="70" y="53"/>
                  </a:lnTo>
                  <a:lnTo>
                    <a:pt x="67" y="59"/>
                  </a:lnTo>
                  <a:close/>
                  <a:moveTo>
                    <a:pt x="112" y="62"/>
                  </a:moveTo>
                  <a:lnTo>
                    <a:pt x="120" y="62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6" y="39"/>
                  </a:lnTo>
                  <a:lnTo>
                    <a:pt x="126" y="39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45" y="31"/>
                  </a:lnTo>
                  <a:lnTo>
                    <a:pt x="148" y="25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48" y="11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37" y="3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2" y="3"/>
                  </a:lnTo>
                  <a:lnTo>
                    <a:pt x="112" y="62"/>
                  </a:lnTo>
                  <a:close/>
                  <a:moveTo>
                    <a:pt x="120" y="9"/>
                  </a:moveTo>
                  <a:lnTo>
                    <a:pt x="120" y="9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34" y="9"/>
                  </a:lnTo>
                  <a:lnTo>
                    <a:pt x="137" y="11"/>
                  </a:lnTo>
                  <a:lnTo>
                    <a:pt x="140" y="14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40" y="25"/>
                  </a:lnTo>
                  <a:lnTo>
                    <a:pt x="137" y="28"/>
                  </a:lnTo>
                  <a:lnTo>
                    <a:pt x="134" y="31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0" y="31"/>
                  </a:lnTo>
                  <a:lnTo>
                    <a:pt x="1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41240" y="4785480"/>
              <a:ext cx="461880" cy="227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03480" y="4735440"/>
              <a:ext cx="59400" cy="277920"/>
            </a:xfrm>
            <a:custGeom>
              <a:avLst/>
              <a:gdLst/>
              <a:ahLst/>
              <a:rect l="l" t="t" r="r" b="b"/>
              <a:pathLst>
                <a:path w="39" h="217">
                  <a:moveTo>
                    <a:pt x="39" y="0"/>
                  </a:moveTo>
                  <a:lnTo>
                    <a:pt x="39" y="178"/>
                  </a:lnTo>
                  <a:lnTo>
                    <a:pt x="0" y="217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41240" y="4735440"/>
              <a:ext cx="52164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5920" y="4863960"/>
              <a:ext cx="226440" cy="75600"/>
            </a:xfrm>
            <a:custGeom>
              <a:avLst/>
              <a:gdLst/>
              <a:ahLst/>
              <a:rect l="l" t="t" r="r" b="b"/>
              <a:pathLst>
                <a:path w="148" h="59">
                  <a:moveTo>
                    <a:pt x="0" y="0"/>
                  </a:moveTo>
                  <a:lnTo>
                    <a:pt x="0" y="59"/>
                  </a:lnTo>
                  <a:lnTo>
                    <a:pt x="8" y="59"/>
                  </a:lnTo>
                  <a:lnTo>
                    <a:pt x="8" y="31"/>
                  </a:lnTo>
                  <a:lnTo>
                    <a:pt x="36" y="31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25"/>
                  </a:lnTo>
                  <a:lnTo>
                    <a:pt x="8" y="25"/>
                  </a:lnTo>
                  <a:lnTo>
                    <a:pt x="8" y="0"/>
                  </a:lnTo>
                  <a:lnTo>
                    <a:pt x="0" y="0"/>
                  </a:lnTo>
                  <a:close/>
                  <a:moveTo>
                    <a:pt x="56" y="0"/>
                  </a:moveTo>
                  <a:lnTo>
                    <a:pt x="56" y="59"/>
                  </a:lnTo>
                  <a:lnTo>
                    <a:pt x="64" y="59"/>
                  </a:lnTo>
                  <a:lnTo>
                    <a:pt x="64" y="31"/>
                  </a:lnTo>
                  <a:lnTo>
                    <a:pt x="92" y="31"/>
                  </a:lnTo>
                  <a:lnTo>
                    <a:pt x="92" y="59"/>
                  </a:lnTo>
                  <a:lnTo>
                    <a:pt x="100" y="59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92" y="25"/>
                  </a:lnTo>
                  <a:lnTo>
                    <a:pt x="64" y="25"/>
                  </a:lnTo>
                  <a:lnTo>
                    <a:pt x="64" y="0"/>
                  </a:lnTo>
                  <a:lnTo>
                    <a:pt x="56" y="0"/>
                  </a:lnTo>
                  <a:close/>
                  <a:moveTo>
                    <a:pt x="111" y="59"/>
                  </a:moveTo>
                  <a:lnTo>
                    <a:pt x="120" y="59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37" y="34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8" y="23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9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0"/>
                  </a:lnTo>
                  <a:lnTo>
                    <a:pt x="111" y="59"/>
                  </a:lnTo>
                  <a:close/>
                  <a:moveTo>
                    <a:pt x="120" y="6"/>
                  </a:moveTo>
                  <a:lnTo>
                    <a:pt x="120" y="6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34" y="6"/>
                  </a:lnTo>
                  <a:lnTo>
                    <a:pt x="137" y="9"/>
                  </a:lnTo>
                  <a:lnTo>
                    <a:pt x="139" y="11"/>
                  </a:lnTo>
                  <a:lnTo>
                    <a:pt x="142" y="17"/>
                  </a:lnTo>
                  <a:lnTo>
                    <a:pt x="142" y="17"/>
                  </a:lnTo>
                  <a:lnTo>
                    <a:pt x="139" y="23"/>
                  </a:lnTo>
                  <a:lnTo>
                    <a:pt x="137" y="25"/>
                  </a:lnTo>
                  <a:lnTo>
                    <a:pt x="134" y="28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0" y="28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34640" y="4398120"/>
              <a:ext cx="1235160" cy="333360"/>
            </a:xfrm>
            <a:custGeom>
              <a:avLst/>
              <a:gdLst/>
              <a:ahLst/>
              <a:rect l="l" t="t" r="r" b="b"/>
              <a:pathLst>
                <a:path w="807" h="260">
                  <a:moveTo>
                    <a:pt x="0" y="3"/>
                  </a:moveTo>
                  <a:lnTo>
                    <a:pt x="391" y="260"/>
                  </a:lnTo>
                  <a:lnTo>
                    <a:pt x="8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0520" y="3746160"/>
              <a:ext cx="918720" cy="387000"/>
            </a:xfrm>
            <a:custGeom>
              <a:avLst/>
              <a:gdLst/>
              <a:ahLst/>
              <a:rect l="l" t="t" r="r" b="b"/>
              <a:pathLst>
                <a:path w="600" h="302">
                  <a:moveTo>
                    <a:pt x="0" y="0"/>
                  </a:moveTo>
                  <a:lnTo>
                    <a:pt x="276" y="302"/>
                  </a:lnTo>
                  <a:lnTo>
                    <a:pt x="60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757920" y="3753720"/>
              <a:ext cx="23868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23520" y="2946600"/>
              <a:ext cx="42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Host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12520" y="4179600"/>
              <a:ext cx="46224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5120" y="4129560"/>
              <a:ext cx="59400" cy="275760"/>
            </a:xfrm>
            <a:custGeom>
              <a:avLst/>
              <a:gdLst/>
              <a:ahLst/>
              <a:rect l="l" t="t" r="r" b="b"/>
              <a:pathLst>
                <a:path w="39" h="215">
                  <a:moveTo>
                    <a:pt x="39" y="0"/>
                  </a:moveTo>
                  <a:lnTo>
                    <a:pt x="39" y="178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2520" y="412956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9800" y="4258080"/>
              <a:ext cx="195840" cy="79560"/>
            </a:xfrm>
            <a:custGeom>
              <a:avLst/>
              <a:gdLst/>
              <a:ahLst/>
              <a:rect l="l" t="t" r="r" b="b"/>
              <a:pathLst>
                <a:path w="128" h="62">
                  <a:moveTo>
                    <a:pt x="0" y="62"/>
                  </a:moveTo>
                  <a:lnTo>
                    <a:pt x="8" y="62"/>
                  </a:lnTo>
                  <a:lnTo>
                    <a:pt x="8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22" y="3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30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0" y="3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3" y="28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3" y="11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3"/>
                  </a:lnTo>
                  <a:lnTo>
                    <a:pt x="0" y="62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9" y="9"/>
                  </a:lnTo>
                  <a:lnTo>
                    <a:pt x="25" y="9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19" y="28"/>
                  </a:lnTo>
                  <a:lnTo>
                    <a:pt x="14" y="31"/>
                  </a:lnTo>
                  <a:lnTo>
                    <a:pt x="8" y="31"/>
                  </a:lnTo>
                  <a:lnTo>
                    <a:pt x="8" y="9"/>
                  </a:lnTo>
                  <a:close/>
                  <a:moveTo>
                    <a:pt x="47" y="62"/>
                  </a:moveTo>
                  <a:lnTo>
                    <a:pt x="53" y="62"/>
                  </a:lnTo>
                  <a:lnTo>
                    <a:pt x="53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70" y="39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75" y="6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8" y="37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8" y="28"/>
                  </a:lnTo>
                  <a:lnTo>
                    <a:pt x="81" y="23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1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0" y="3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3"/>
                  </a:lnTo>
                  <a:lnTo>
                    <a:pt x="47" y="62"/>
                  </a:lnTo>
                  <a:close/>
                  <a:moveTo>
                    <a:pt x="53" y="9"/>
                  </a:moveTo>
                  <a:lnTo>
                    <a:pt x="53" y="9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7" y="9"/>
                  </a:lnTo>
                  <a:lnTo>
                    <a:pt x="70" y="9"/>
                  </a:lnTo>
                  <a:lnTo>
                    <a:pt x="72" y="14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67" y="28"/>
                  </a:lnTo>
                  <a:lnTo>
                    <a:pt x="61" y="31"/>
                  </a:lnTo>
                  <a:lnTo>
                    <a:pt x="53" y="31"/>
                  </a:lnTo>
                  <a:lnTo>
                    <a:pt x="53" y="9"/>
                  </a:lnTo>
                  <a:close/>
                  <a:moveTo>
                    <a:pt x="92" y="62"/>
                  </a:moveTo>
                  <a:lnTo>
                    <a:pt x="100" y="62"/>
                  </a:lnTo>
                  <a:lnTo>
                    <a:pt x="100" y="37"/>
                  </a:lnTo>
                  <a:lnTo>
                    <a:pt x="100" y="37"/>
                  </a:lnTo>
                  <a:lnTo>
                    <a:pt x="106" y="39"/>
                  </a:lnTo>
                  <a:lnTo>
                    <a:pt x="106" y="39"/>
                  </a:lnTo>
                  <a:lnTo>
                    <a:pt x="117" y="37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8" y="25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8" y="11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17" y="3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2" y="3"/>
                  </a:lnTo>
                  <a:lnTo>
                    <a:pt x="92" y="62"/>
                  </a:lnTo>
                  <a:close/>
                  <a:moveTo>
                    <a:pt x="100" y="9"/>
                  </a:moveTo>
                  <a:lnTo>
                    <a:pt x="100" y="9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14" y="9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20" y="25"/>
                  </a:lnTo>
                  <a:lnTo>
                    <a:pt x="117" y="28"/>
                  </a:lnTo>
                  <a:lnTo>
                    <a:pt x="111" y="31"/>
                  </a:lnTo>
                  <a:lnTo>
                    <a:pt x="106" y="31"/>
                  </a:lnTo>
                  <a:lnTo>
                    <a:pt x="106" y="31"/>
                  </a:lnTo>
                  <a:lnTo>
                    <a:pt x="100" y="31"/>
                  </a:lnTo>
                  <a:lnTo>
                    <a:pt x="10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97640" y="4186080"/>
              <a:ext cx="460800" cy="225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58800" y="4136040"/>
              <a:ext cx="59400" cy="275760"/>
            </a:xfrm>
            <a:custGeom>
              <a:avLst/>
              <a:gdLst/>
              <a:ahLst/>
              <a:rect l="l" t="t" r="r" b="b"/>
              <a:pathLst>
                <a:path w="39" h="215">
                  <a:moveTo>
                    <a:pt x="39" y="0"/>
                  </a:moveTo>
                  <a:lnTo>
                    <a:pt x="39" y="179"/>
                  </a:lnTo>
                  <a:lnTo>
                    <a:pt x="0" y="215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7640" y="4136040"/>
              <a:ext cx="520560" cy="5004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9" y="0"/>
                  </a:lnTo>
                  <a:lnTo>
                    <a:pt x="340" y="0"/>
                  </a:lnTo>
                  <a:lnTo>
                    <a:pt x="301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95560" y="4258080"/>
              <a:ext cx="231120" cy="7956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53" y="62"/>
                  </a:moveTo>
                  <a:lnTo>
                    <a:pt x="61" y="62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5" y="3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62"/>
                  </a:lnTo>
                  <a:lnTo>
                    <a:pt x="8" y="62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6" y="34"/>
                  </a:lnTo>
                  <a:lnTo>
                    <a:pt x="28" y="62"/>
                  </a:lnTo>
                  <a:lnTo>
                    <a:pt x="33" y="62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3" y="37"/>
                  </a:lnTo>
                  <a:lnTo>
                    <a:pt x="53" y="62"/>
                  </a:lnTo>
                  <a:close/>
                  <a:moveTo>
                    <a:pt x="70" y="59"/>
                  </a:moveTo>
                  <a:lnTo>
                    <a:pt x="70" y="59"/>
                  </a:lnTo>
                  <a:lnTo>
                    <a:pt x="75" y="62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92" y="62"/>
                  </a:lnTo>
                  <a:lnTo>
                    <a:pt x="100" y="59"/>
                  </a:lnTo>
                  <a:lnTo>
                    <a:pt x="103" y="53"/>
                  </a:lnTo>
                  <a:lnTo>
                    <a:pt x="106" y="45"/>
                  </a:lnTo>
                  <a:lnTo>
                    <a:pt x="106" y="45"/>
                  </a:lnTo>
                  <a:lnTo>
                    <a:pt x="103" y="39"/>
                  </a:lnTo>
                  <a:lnTo>
                    <a:pt x="100" y="34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81" y="23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95" y="9"/>
                  </a:lnTo>
                  <a:lnTo>
                    <a:pt x="100" y="9"/>
                  </a:lnTo>
                  <a:lnTo>
                    <a:pt x="103" y="3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5" y="6"/>
                  </a:lnTo>
                  <a:lnTo>
                    <a:pt x="72" y="11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2" y="23"/>
                  </a:lnTo>
                  <a:lnTo>
                    <a:pt x="75" y="28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95" y="39"/>
                  </a:lnTo>
                  <a:lnTo>
                    <a:pt x="97" y="45"/>
                  </a:lnTo>
                  <a:lnTo>
                    <a:pt x="97" y="45"/>
                  </a:lnTo>
                  <a:lnTo>
                    <a:pt x="97" y="51"/>
                  </a:lnTo>
                  <a:lnTo>
                    <a:pt x="95" y="53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56"/>
                  </a:lnTo>
                  <a:lnTo>
                    <a:pt x="72" y="53"/>
                  </a:lnTo>
                  <a:lnTo>
                    <a:pt x="70" y="59"/>
                  </a:lnTo>
                  <a:close/>
                  <a:moveTo>
                    <a:pt x="114" y="62"/>
                  </a:moveTo>
                  <a:lnTo>
                    <a:pt x="123" y="62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28" y="39"/>
                  </a:lnTo>
                  <a:lnTo>
                    <a:pt x="128" y="39"/>
                  </a:lnTo>
                  <a:lnTo>
                    <a:pt x="139" y="37"/>
                  </a:lnTo>
                  <a:lnTo>
                    <a:pt x="148" y="31"/>
                  </a:lnTo>
                  <a:lnTo>
                    <a:pt x="148" y="31"/>
                  </a:lnTo>
                  <a:lnTo>
                    <a:pt x="151" y="25"/>
                  </a:lnTo>
                  <a:lnTo>
                    <a:pt x="151" y="20"/>
                  </a:lnTo>
                  <a:lnTo>
                    <a:pt x="151" y="20"/>
                  </a:lnTo>
                  <a:lnTo>
                    <a:pt x="151" y="11"/>
                  </a:lnTo>
                  <a:lnTo>
                    <a:pt x="145" y="6"/>
                  </a:lnTo>
                  <a:lnTo>
                    <a:pt x="145" y="6"/>
                  </a:lnTo>
                  <a:lnTo>
                    <a:pt x="139" y="3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4" y="3"/>
                  </a:lnTo>
                  <a:lnTo>
                    <a:pt x="114" y="62"/>
                  </a:lnTo>
                  <a:close/>
                  <a:moveTo>
                    <a:pt x="123" y="9"/>
                  </a:moveTo>
                  <a:lnTo>
                    <a:pt x="123" y="9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37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42" y="25"/>
                  </a:lnTo>
                  <a:lnTo>
                    <a:pt x="139" y="28"/>
                  </a:lnTo>
                  <a:lnTo>
                    <a:pt x="134" y="31"/>
                  </a:lnTo>
                  <a:lnTo>
                    <a:pt x="128" y="31"/>
                  </a:lnTo>
                  <a:lnTo>
                    <a:pt x="128" y="31"/>
                  </a:lnTo>
                  <a:lnTo>
                    <a:pt x="123" y="31"/>
                  </a:lnTo>
                  <a:lnTo>
                    <a:pt x="1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8360" y="4785480"/>
              <a:ext cx="462240" cy="227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0960" y="4735440"/>
              <a:ext cx="59400" cy="277920"/>
            </a:xfrm>
            <a:custGeom>
              <a:avLst/>
              <a:gdLst/>
              <a:ahLst/>
              <a:rect l="l" t="t" r="r" b="b"/>
              <a:pathLst>
                <a:path w="39" h="217">
                  <a:moveTo>
                    <a:pt x="39" y="0"/>
                  </a:moveTo>
                  <a:lnTo>
                    <a:pt x="39" y="178"/>
                  </a:lnTo>
                  <a:lnTo>
                    <a:pt x="0" y="217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8360" y="4735440"/>
              <a:ext cx="522000" cy="50040"/>
            </a:xfrm>
            <a:custGeom>
              <a:avLst/>
              <a:gdLst/>
              <a:ahLst/>
              <a:rect l="l" t="t" r="r" b="b"/>
              <a:pathLst>
                <a:path w="341" h="39">
                  <a:moveTo>
                    <a:pt x="0" y="39"/>
                  </a:moveTo>
                  <a:lnTo>
                    <a:pt x="39" y="0"/>
                  </a:lnTo>
                  <a:lnTo>
                    <a:pt x="341" y="0"/>
                  </a:lnTo>
                  <a:lnTo>
                    <a:pt x="302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61960" y="4863960"/>
              <a:ext cx="226440" cy="75600"/>
            </a:xfrm>
            <a:custGeom>
              <a:avLst/>
              <a:gdLst/>
              <a:ahLst/>
              <a:rect l="l" t="t" r="r" b="b"/>
              <a:pathLst>
                <a:path w="148" h="59">
                  <a:moveTo>
                    <a:pt x="0" y="0"/>
                  </a:moveTo>
                  <a:lnTo>
                    <a:pt x="0" y="59"/>
                  </a:lnTo>
                  <a:lnTo>
                    <a:pt x="6" y="59"/>
                  </a:lnTo>
                  <a:lnTo>
                    <a:pt x="6" y="31"/>
                  </a:lnTo>
                  <a:lnTo>
                    <a:pt x="37" y="31"/>
                  </a:lnTo>
                  <a:lnTo>
                    <a:pt x="37" y="59"/>
                  </a:lnTo>
                  <a:lnTo>
                    <a:pt x="42" y="59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7" y="25"/>
                  </a:lnTo>
                  <a:lnTo>
                    <a:pt x="6" y="25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56" y="0"/>
                  </a:moveTo>
                  <a:lnTo>
                    <a:pt x="56" y="59"/>
                  </a:lnTo>
                  <a:lnTo>
                    <a:pt x="65" y="59"/>
                  </a:lnTo>
                  <a:lnTo>
                    <a:pt x="65" y="31"/>
                  </a:lnTo>
                  <a:lnTo>
                    <a:pt x="93" y="31"/>
                  </a:lnTo>
                  <a:lnTo>
                    <a:pt x="93" y="59"/>
                  </a:lnTo>
                  <a:lnTo>
                    <a:pt x="101" y="59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93" y="25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56" y="0"/>
                  </a:lnTo>
                  <a:close/>
                  <a:moveTo>
                    <a:pt x="112" y="59"/>
                  </a:moveTo>
                  <a:lnTo>
                    <a:pt x="121" y="59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37" y="34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8" y="23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9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2" y="0"/>
                  </a:lnTo>
                  <a:lnTo>
                    <a:pt x="112" y="59"/>
                  </a:lnTo>
                  <a:close/>
                  <a:moveTo>
                    <a:pt x="121" y="6"/>
                  </a:moveTo>
                  <a:lnTo>
                    <a:pt x="121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7" y="9"/>
                  </a:lnTo>
                  <a:lnTo>
                    <a:pt x="140" y="11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0" y="23"/>
                  </a:lnTo>
                  <a:lnTo>
                    <a:pt x="137" y="25"/>
                  </a:lnTo>
                  <a:lnTo>
                    <a:pt x="132" y="28"/>
                  </a:lnTo>
                  <a:lnTo>
                    <a:pt x="126" y="31"/>
                  </a:lnTo>
                  <a:lnTo>
                    <a:pt x="126" y="31"/>
                  </a:lnTo>
                  <a:lnTo>
                    <a:pt x="121" y="28"/>
                  </a:lnTo>
                  <a:lnTo>
                    <a:pt x="1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55720" y="5011560"/>
              <a:ext cx="744120" cy="1003320"/>
            </a:xfrm>
            <a:custGeom>
              <a:avLst/>
              <a:gdLst/>
              <a:ahLst/>
              <a:rect l="l" t="t" r="r" b="b"/>
              <a:pathLst>
                <a:path w="486" h="782">
                  <a:moveTo>
                    <a:pt x="0" y="782"/>
                  </a:moveTo>
                  <a:lnTo>
                    <a:pt x="486" y="782"/>
                  </a:lnTo>
                  <a:lnTo>
                    <a:pt x="4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5080" y="3254760"/>
              <a:ext cx="73440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984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05080" y="3204720"/>
              <a:ext cx="794160" cy="50040"/>
            </a:xfrm>
            <a:custGeom>
              <a:avLst/>
              <a:gdLst/>
              <a:ahLst/>
              <a:rect l="l" t="t" r="r" b="b"/>
              <a:pathLst>
                <a:path w="519" h="39">
                  <a:moveTo>
                    <a:pt x="0" y="39"/>
                  </a:moveTo>
                  <a:lnTo>
                    <a:pt x="39" y="0"/>
                  </a:lnTo>
                  <a:lnTo>
                    <a:pt x="519" y="0"/>
                  </a:lnTo>
                  <a:lnTo>
                    <a:pt x="48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55280" y="336600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Fi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76280" y="35024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6040" y="3254760"/>
              <a:ext cx="73152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756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6040" y="3204720"/>
              <a:ext cx="79128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9" y="0"/>
                  </a:lnTo>
                  <a:lnTo>
                    <a:pt x="517" y="0"/>
                  </a:lnTo>
                  <a:lnTo>
                    <a:pt x="47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95160" y="3305880"/>
              <a:ext cx="43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Digit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69960" y="344196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libr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09760" y="35780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63760" y="3254760"/>
              <a:ext cx="73620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0032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63760" y="3204720"/>
              <a:ext cx="79164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9" y="0"/>
                  </a:lnTo>
                  <a:lnTo>
                    <a:pt x="517" y="0"/>
                  </a:lnTo>
                  <a:lnTo>
                    <a:pt x="481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36560" y="335844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Vide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6760" y="349596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69280" y="3254760"/>
              <a:ext cx="73188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116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69280" y="3204720"/>
              <a:ext cx="79164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7" y="0"/>
                  </a:lnTo>
                  <a:lnTo>
                    <a:pt x="517" y="0"/>
                  </a:lnTo>
                  <a:lnTo>
                    <a:pt x="47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16240" y="3362400"/>
              <a:ext cx="22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Fi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38320" y="349848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89440" y="3254760"/>
              <a:ext cx="73008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1952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89440" y="3204720"/>
              <a:ext cx="789840" cy="50040"/>
            </a:xfrm>
            <a:custGeom>
              <a:avLst/>
              <a:gdLst/>
              <a:ahLst/>
              <a:rect l="l" t="t" r="r" b="b"/>
              <a:pathLst>
                <a:path w="516" h="39">
                  <a:moveTo>
                    <a:pt x="0" y="39"/>
                  </a:moveTo>
                  <a:lnTo>
                    <a:pt x="39" y="0"/>
                  </a:lnTo>
                  <a:lnTo>
                    <a:pt x="516" y="0"/>
                  </a:lnTo>
                  <a:lnTo>
                    <a:pt x="477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7120" y="3298320"/>
              <a:ext cx="40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Digit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22280" y="343584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libr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61000" y="357048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08160" y="3254760"/>
              <a:ext cx="731880" cy="498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40040" y="3204720"/>
              <a:ext cx="59400" cy="549000"/>
            </a:xfrm>
            <a:custGeom>
              <a:avLst/>
              <a:gdLst/>
              <a:ahLst/>
              <a:rect l="l" t="t" r="r" b="b"/>
              <a:pathLst>
                <a:path w="39" h="428">
                  <a:moveTo>
                    <a:pt x="39" y="0"/>
                  </a:moveTo>
                  <a:lnTo>
                    <a:pt x="39" y="388"/>
                  </a:lnTo>
                  <a:lnTo>
                    <a:pt x="0" y="428"/>
                  </a:lnTo>
                  <a:lnTo>
                    <a:pt x="0" y="3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8160" y="3204720"/>
              <a:ext cx="791640" cy="50040"/>
            </a:xfrm>
            <a:custGeom>
              <a:avLst/>
              <a:gdLst/>
              <a:ahLst/>
              <a:rect l="l" t="t" r="r" b="b"/>
              <a:pathLst>
                <a:path w="517" h="39">
                  <a:moveTo>
                    <a:pt x="0" y="39"/>
                  </a:moveTo>
                  <a:lnTo>
                    <a:pt x="39" y="0"/>
                  </a:lnTo>
                  <a:lnTo>
                    <a:pt x="517" y="0"/>
                  </a:lnTo>
                  <a:lnTo>
                    <a:pt x="478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960" y="335844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Vide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1160" y="349596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F64-A8DD-4EE4-A385-C6DD32542B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chine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 and Demultiplexing (demux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ion (header/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16280" y="2496960"/>
            <a:ext cx="4460400" cy="3848040"/>
            <a:chOff x="1916280" y="2496960"/>
            <a:chExt cx="4460400" cy="3848040"/>
          </a:xfrm>
        </p:grpSpPr>
        <p:sp>
          <p:nvSpPr>
            <p:cNvPr id="308" name=""/>
            <p:cNvSpPr/>
            <p:nvPr/>
          </p:nvSpPr>
          <p:spPr>
            <a:xfrm>
              <a:off x="1935000" y="2587320"/>
              <a:ext cx="1436760" cy="222588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5000" y="2496960"/>
              <a:ext cx="1549440" cy="90360"/>
            </a:xfrm>
            <a:custGeom>
              <a:avLst/>
              <a:gdLst/>
              <a:ahLst/>
              <a:rect l="l" t="t" r="r" b="b"/>
              <a:pathLst>
                <a:path w="976" h="57">
                  <a:moveTo>
                    <a:pt x="0" y="57"/>
                  </a:moveTo>
                  <a:lnTo>
                    <a:pt x="905" y="57"/>
                  </a:lnTo>
                  <a:lnTo>
                    <a:pt x="976" y="0"/>
                  </a:lnTo>
                  <a:lnTo>
                    <a:pt x="7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71760" y="2496960"/>
              <a:ext cx="112680" cy="2316240"/>
            </a:xfrm>
            <a:custGeom>
              <a:avLst/>
              <a:gdLst/>
              <a:ahLst/>
              <a:rect l="l" t="t" r="r" b="b"/>
              <a:pathLst>
                <a:path w="71" h="1459">
                  <a:moveTo>
                    <a:pt x="71" y="0"/>
                  </a:moveTo>
                  <a:lnTo>
                    <a:pt x="0" y="57"/>
                  </a:lnTo>
                  <a:lnTo>
                    <a:pt x="0" y="1459"/>
                  </a:lnTo>
                  <a:lnTo>
                    <a:pt x="71" y="140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24360" y="2587320"/>
              <a:ext cx="1439640" cy="222588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24360" y="2496960"/>
              <a:ext cx="1552320" cy="90360"/>
            </a:xfrm>
            <a:custGeom>
              <a:avLst/>
              <a:gdLst/>
              <a:ahLst/>
              <a:rect l="l" t="t" r="r" b="b"/>
              <a:pathLst>
                <a:path w="978" h="57">
                  <a:moveTo>
                    <a:pt x="0" y="57"/>
                  </a:moveTo>
                  <a:lnTo>
                    <a:pt x="907" y="57"/>
                  </a:lnTo>
                  <a:lnTo>
                    <a:pt x="978" y="0"/>
                  </a:lnTo>
                  <a:lnTo>
                    <a:pt x="7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64000" y="2496960"/>
              <a:ext cx="112680" cy="2316240"/>
            </a:xfrm>
            <a:custGeom>
              <a:avLst/>
              <a:gdLst/>
              <a:ahLst/>
              <a:rect l="l" t="t" r="r" b="b"/>
              <a:pathLst>
                <a:path w="71" h="1459">
                  <a:moveTo>
                    <a:pt x="71" y="0"/>
                  </a:moveTo>
                  <a:lnTo>
                    <a:pt x="0" y="57"/>
                  </a:lnTo>
                  <a:lnTo>
                    <a:pt x="0" y="1459"/>
                  </a:lnTo>
                  <a:lnTo>
                    <a:pt x="71" y="140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76280" y="4919400"/>
              <a:ext cx="1876680" cy="1425600"/>
            </a:xfrm>
            <a:custGeom>
              <a:avLst/>
              <a:gdLst/>
              <a:ahLst/>
              <a:rect l="l" t="t" r="r" b="b"/>
              <a:pathLst>
                <a:path w="1182" h="898">
                  <a:moveTo>
                    <a:pt x="516" y="836"/>
                  </a:moveTo>
                  <a:lnTo>
                    <a:pt x="516" y="836"/>
                  </a:lnTo>
                  <a:lnTo>
                    <a:pt x="500" y="850"/>
                  </a:lnTo>
                  <a:lnTo>
                    <a:pt x="478" y="862"/>
                  </a:lnTo>
                  <a:lnTo>
                    <a:pt x="452" y="872"/>
                  </a:lnTo>
                  <a:lnTo>
                    <a:pt x="438" y="877"/>
                  </a:lnTo>
                  <a:lnTo>
                    <a:pt x="422" y="881"/>
                  </a:lnTo>
                  <a:lnTo>
                    <a:pt x="405" y="884"/>
                  </a:lnTo>
                  <a:lnTo>
                    <a:pt x="388" y="884"/>
                  </a:lnTo>
                  <a:lnTo>
                    <a:pt x="369" y="881"/>
                  </a:lnTo>
                  <a:lnTo>
                    <a:pt x="350" y="877"/>
                  </a:lnTo>
                  <a:lnTo>
                    <a:pt x="334" y="869"/>
                  </a:lnTo>
                  <a:lnTo>
                    <a:pt x="315" y="860"/>
                  </a:lnTo>
                  <a:lnTo>
                    <a:pt x="315" y="860"/>
                  </a:lnTo>
                  <a:lnTo>
                    <a:pt x="298" y="846"/>
                  </a:lnTo>
                  <a:lnTo>
                    <a:pt x="284" y="834"/>
                  </a:lnTo>
                  <a:lnTo>
                    <a:pt x="263" y="810"/>
                  </a:lnTo>
                  <a:lnTo>
                    <a:pt x="249" y="789"/>
                  </a:lnTo>
                  <a:lnTo>
                    <a:pt x="239" y="770"/>
                  </a:lnTo>
                  <a:lnTo>
                    <a:pt x="237" y="753"/>
                  </a:lnTo>
                  <a:lnTo>
                    <a:pt x="234" y="741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5" y="737"/>
                  </a:lnTo>
                  <a:lnTo>
                    <a:pt x="213" y="744"/>
                  </a:lnTo>
                  <a:lnTo>
                    <a:pt x="196" y="749"/>
                  </a:lnTo>
                  <a:lnTo>
                    <a:pt x="175" y="753"/>
                  </a:lnTo>
                  <a:lnTo>
                    <a:pt x="154" y="751"/>
                  </a:lnTo>
                  <a:lnTo>
                    <a:pt x="144" y="749"/>
                  </a:lnTo>
                  <a:lnTo>
                    <a:pt x="132" y="744"/>
                  </a:lnTo>
                  <a:lnTo>
                    <a:pt x="121" y="739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99" y="720"/>
                  </a:lnTo>
                  <a:lnTo>
                    <a:pt x="92" y="711"/>
                  </a:lnTo>
                  <a:lnTo>
                    <a:pt x="85" y="701"/>
                  </a:lnTo>
                  <a:lnTo>
                    <a:pt x="80" y="689"/>
                  </a:lnTo>
                  <a:lnTo>
                    <a:pt x="76" y="670"/>
                  </a:lnTo>
                  <a:lnTo>
                    <a:pt x="76" y="651"/>
                  </a:lnTo>
                  <a:lnTo>
                    <a:pt x="78" y="635"/>
                  </a:lnTo>
                  <a:lnTo>
                    <a:pt x="80" y="621"/>
                  </a:lnTo>
                  <a:lnTo>
                    <a:pt x="85" y="609"/>
                  </a:lnTo>
                  <a:lnTo>
                    <a:pt x="85" y="609"/>
                  </a:lnTo>
                  <a:lnTo>
                    <a:pt x="73" y="602"/>
                  </a:lnTo>
                  <a:lnTo>
                    <a:pt x="59" y="592"/>
                  </a:lnTo>
                  <a:lnTo>
                    <a:pt x="45" y="578"/>
                  </a:lnTo>
                  <a:lnTo>
                    <a:pt x="28" y="559"/>
                  </a:lnTo>
                  <a:lnTo>
                    <a:pt x="21" y="547"/>
                  </a:lnTo>
                  <a:lnTo>
                    <a:pt x="14" y="533"/>
                  </a:lnTo>
                  <a:lnTo>
                    <a:pt x="9" y="516"/>
                  </a:lnTo>
                  <a:lnTo>
                    <a:pt x="4" y="500"/>
                  </a:lnTo>
                  <a:lnTo>
                    <a:pt x="2" y="481"/>
                  </a:lnTo>
                  <a:lnTo>
                    <a:pt x="2" y="460"/>
                  </a:lnTo>
                  <a:lnTo>
                    <a:pt x="2" y="462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0" y="422"/>
                  </a:lnTo>
                  <a:lnTo>
                    <a:pt x="2" y="403"/>
                  </a:lnTo>
                  <a:lnTo>
                    <a:pt x="7" y="386"/>
                  </a:lnTo>
                  <a:lnTo>
                    <a:pt x="12" y="369"/>
                  </a:lnTo>
                  <a:lnTo>
                    <a:pt x="26" y="343"/>
                  </a:lnTo>
                  <a:lnTo>
                    <a:pt x="40" y="322"/>
                  </a:lnTo>
                  <a:lnTo>
                    <a:pt x="54" y="305"/>
                  </a:lnTo>
                  <a:lnTo>
                    <a:pt x="68" y="296"/>
                  </a:lnTo>
                  <a:lnTo>
                    <a:pt x="80" y="289"/>
                  </a:lnTo>
                  <a:lnTo>
                    <a:pt x="80" y="289"/>
                  </a:lnTo>
                  <a:lnTo>
                    <a:pt x="76" y="277"/>
                  </a:lnTo>
                  <a:lnTo>
                    <a:pt x="71" y="263"/>
                  </a:lnTo>
                  <a:lnTo>
                    <a:pt x="68" y="246"/>
                  </a:lnTo>
                  <a:lnTo>
                    <a:pt x="71" y="227"/>
                  </a:lnTo>
                  <a:lnTo>
                    <a:pt x="76" y="206"/>
                  </a:lnTo>
                  <a:lnTo>
                    <a:pt x="80" y="196"/>
                  </a:lnTo>
                  <a:lnTo>
                    <a:pt x="85" y="187"/>
                  </a:lnTo>
                  <a:lnTo>
                    <a:pt x="94" y="178"/>
                  </a:lnTo>
                  <a:lnTo>
                    <a:pt x="104" y="166"/>
                  </a:lnTo>
                  <a:lnTo>
                    <a:pt x="104" y="166"/>
                  </a:lnTo>
                  <a:lnTo>
                    <a:pt x="116" y="159"/>
                  </a:lnTo>
                  <a:lnTo>
                    <a:pt x="128" y="151"/>
                  </a:lnTo>
                  <a:lnTo>
                    <a:pt x="137" y="149"/>
                  </a:lnTo>
                  <a:lnTo>
                    <a:pt x="149" y="147"/>
                  </a:lnTo>
                  <a:lnTo>
                    <a:pt x="170" y="144"/>
                  </a:lnTo>
                  <a:lnTo>
                    <a:pt x="189" y="147"/>
                  </a:lnTo>
                  <a:lnTo>
                    <a:pt x="206" y="154"/>
                  </a:lnTo>
                  <a:lnTo>
                    <a:pt x="218" y="159"/>
                  </a:lnTo>
                  <a:lnTo>
                    <a:pt x="230" y="166"/>
                  </a:lnTo>
                  <a:lnTo>
                    <a:pt x="230" y="166"/>
                  </a:lnTo>
                  <a:lnTo>
                    <a:pt x="230" y="156"/>
                  </a:lnTo>
                  <a:lnTo>
                    <a:pt x="230" y="142"/>
                  </a:lnTo>
                  <a:lnTo>
                    <a:pt x="234" y="128"/>
                  </a:lnTo>
                  <a:lnTo>
                    <a:pt x="241" y="106"/>
                  </a:lnTo>
                  <a:lnTo>
                    <a:pt x="256" y="85"/>
                  </a:lnTo>
                  <a:lnTo>
                    <a:pt x="277" y="61"/>
                  </a:lnTo>
                  <a:lnTo>
                    <a:pt x="291" y="50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27" y="28"/>
                  </a:lnTo>
                  <a:lnTo>
                    <a:pt x="346" y="21"/>
                  </a:lnTo>
                  <a:lnTo>
                    <a:pt x="365" y="16"/>
                  </a:lnTo>
                  <a:lnTo>
                    <a:pt x="381" y="14"/>
                  </a:lnTo>
                  <a:lnTo>
                    <a:pt x="398" y="14"/>
                  </a:lnTo>
                  <a:lnTo>
                    <a:pt x="414" y="16"/>
                  </a:lnTo>
                  <a:lnTo>
                    <a:pt x="431" y="19"/>
                  </a:lnTo>
                  <a:lnTo>
                    <a:pt x="448" y="23"/>
                  </a:lnTo>
                  <a:lnTo>
                    <a:pt x="474" y="35"/>
                  </a:lnTo>
                  <a:lnTo>
                    <a:pt x="493" y="47"/>
                  </a:lnTo>
                  <a:lnTo>
                    <a:pt x="512" y="59"/>
                  </a:lnTo>
                  <a:lnTo>
                    <a:pt x="512" y="59"/>
                  </a:lnTo>
                  <a:lnTo>
                    <a:pt x="514" y="50"/>
                  </a:lnTo>
                  <a:lnTo>
                    <a:pt x="516" y="40"/>
                  </a:lnTo>
                  <a:lnTo>
                    <a:pt x="521" y="31"/>
                  </a:lnTo>
                  <a:lnTo>
                    <a:pt x="531" y="19"/>
                  </a:lnTo>
                  <a:lnTo>
                    <a:pt x="545" y="9"/>
                  </a:lnTo>
                  <a:lnTo>
                    <a:pt x="564" y="2"/>
                  </a:lnTo>
                  <a:lnTo>
                    <a:pt x="576" y="0"/>
                  </a:lnTo>
                  <a:lnTo>
                    <a:pt x="590" y="0"/>
                  </a:lnTo>
                  <a:lnTo>
                    <a:pt x="590" y="0"/>
                  </a:lnTo>
                  <a:lnTo>
                    <a:pt x="604" y="0"/>
                  </a:lnTo>
                  <a:lnTo>
                    <a:pt x="616" y="2"/>
                  </a:lnTo>
                  <a:lnTo>
                    <a:pt x="635" y="9"/>
                  </a:lnTo>
                  <a:lnTo>
                    <a:pt x="649" y="19"/>
                  </a:lnTo>
                  <a:lnTo>
                    <a:pt x="658" y="31"/>
                  </a:lnTo>
                  <a:lnTo>
                    <a:pt x="663" y="40"/>
                  </a:lnTo>
                  <a:lnTo>
                    <a:pt x="668" y="50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87" y="50"/>
                  </a:lnTo>
                  <a:lnTo>
                    <a:pt x="706" y="38"/>
                  </a:lnTo>
                  <a:lnTo>
                    <a:pt x="734" y="26"/>
                  </a:lnTo>
                  <a:lnTo>
                    <a:pt x="749" y="21"/>
                  </a:lnTo>
                  <a:lnTo>
                    <a:pt x="765" y="19"/>
                  </a:lnTo>
                  <a:lnTo>
                    <a:pt x="782" y="16"/>
                  </a:lnTo>
                  <a:lnTo>
                    <a:pt x="798" y="16"/>
                  </a:lnTo>
                  <a:lnTo>
                    <a:pt x="817" y="16"/>
                  </a:lnTo>
                  <a:lnTo>
                    <a:pt x="834" y="21"/>
                  </a:lnTo>
                  <a:lnTo>
                    <a:pt x="853" y="28"/>
                  </a:lnTo>
                  <a:lnTo>
                    <a:pt x="872" y="40"/>
                  </a:lnTo>
                  <a:lnTo>
                    <a:pt x="872" y="40"/>
                  </a:lnTo>
                  <a:lnTo>
                    <a:pt x="888" y="52"/>
                  </a:lnTo>
                  <a:lnTo>
                    <a:pt x="903" y="64"/>
                  </a:lnTo>
                  <a:lnTo>
                    <a:pt x="924" y="87"/>
                  </a:lnTo>
                  <a:lnTo>
                    <a:pt x="938" y="109"/>
                  </a:lnTo>
                  <a:lnTo>
                    <a:pt x="945" y="128"/>
                  </a:lnTo>
                  <a:lnTo>
                    <a:pt x="950" y="144"/>
                  </a:lnTo>
                  <a:lnTo>
                    <a:pt x="950" y="156"/>
                  </a:lnTo>
                  <a:lnTo>
                    <a:pt x="950" y="168"/>
                  </a:lnTo>
                  <a:lnTo>
                    <a:pt x="950" y="168"/>
                  </a:lnTo>
                  <a:lnTo>
                    <a:pt x="962" y="161"/>
                  </a:lnTo>
                  <a:lnTo>
                    <a:pt x="974" y="154"/>
                  </a:lnTo>
                  <a:lnTo>
                    <a:pt x="990" y="149"/>
                  </a:lnTo>
                  <a:lnTo>
                    <a:pt x="1009" y="147"/>
                  </a:lnTo>
                  <a:lnTo>
                    <a:pt x="1030" y="147"/>
                  </a:lnTo>
                  <a:lnTo>
                    <a:pt x="1042" y="149"/>
                  </a:lnTo>
                  <a:lnTo>
                    <a:pt x="1054" y="154"/>
                  </a:lnTo>
                  <a:lnTo>
                    <a:pt x="1064" y="161"/>
                  </a:lnTo>
                  <a:lnTo>
                    <a:pt x="1076" y="168"/>
                  </a:lnTo>
                  <a:lnTo>
                    <a:pt x="1076" y="168"/>
                  </a:lnTo>
                  <a:lnTo>
                    <a:pt x="1085" y="178"/>
                  </a:lnTo>
                  <a:lnTo>
                    <a:pt x="1094" y="187"/>
                  </a:lnTo>
                  <a:lnTo>
                    <a:pt x="1099" y="199"/>
                  </a:lnTo>
                  <a:lnTo>
                    <a:pt x="1104" y="208"/>
                  </a:lnTo>
                  <a:lnTo>
                    <a:pt x="1109" y="230"/>
                  </a:lnTo>
                  <a:lnTo>
                    <a:pt x="1111" y="249"/>
                  </a:lnTo>
                  <a:lnTo>
                    <a:pt x="1109" y="265"/>
                  </a:lnTo>
                  <a:lnTo>
                    <a:pt x="1104" y="277"/>
                  </a:lnTo>
                  <a:lnTo>
                    <a:pt x="1099" y="289"/>
                  </a:lnTo>
                  <a:lnTo>
                    <a:pt x="1099" y="289"/>
                  </a:lnTo>
                  <a:lnTo>
                    <a:pt x="1111" y="298"/>
                  </a:lnTo>
                  <a:lnTo>
                    <a:pt x="1125" y="308"/>
                  </a:lnTo>
                  <a:lnTo>
                    <a:pt x="1140" y="322"/>
                  </a:lnTo>
                  <a:lnTo>
                    <a:pt x="1154" y="343"/>
                  </a:lnTo>
                  <a:lnTo>
                    <a:pt x="1168" y="372"/>
                  </a:lnTo>
                  <a:lnTo>
                    <a:pt x="1173" y="386"/>
                  </a:lnTo>
                  <a:lnTo>
                    <a:pt x="1177" y="405"/>
                  </a:lnTo>
                  <a:lnTo>
                    <a:pt x="1180" y="424"/>
                  </a:lnTo>
                  <a:lnTo>
                    <a:pt x="1180" y="445"/>
                  </a:lnTo>
                  <a:lnTo>
                    <a:pt x="1182" y="445"/>
                  </a:lnTo>
                  <a:lnTo>
                    <a:pt x="1182" y="445"/>
                  </a:lnTo>
                  <a:lnTo>
                    <a:pt x="1180" y="467"/>
                  </a:lnTo>
                  <a:lnTo>
                    <a:pt x="1177" y="486"/>
                  </a:lnTo>
                  <a:lnTo>
                    <a:pt x="1175" y="505"/>
                  </a:lnTo>
                  <a:lnTo>
                    <a:pt x="1170" y="521"/>
                  </a:lnTo>
                  <a:lnTo>
                    <a:pt x="1156" y="550"/>
                  </a:lnTo>
                  <a:lnTo>
                    <a:pt x="1144" y="571"/>
                  </a:lnTo>
                  <a:lnTo>
                    <a:pt x="1130" y="590"/>
                  </a:lnTo>
                  <a:lnTo>
                    <a:pt x="1118" y="602"/>
                  </a:lnTo>
                  <a:lnTo>
                    <a:pt x="1106" y="611"/>
                  </a:lnTo>
                  <a:lnTo>
                    <a:pt x="1106" y="611"/>
                  </a:lnTo>
                  <a:lnTo>
                    <a:pt x="1111" y="623"/>
                  </a:lnTo>
                  <a:lnTo>
                    <a:pt x="1113" y="635"/>
                  </a:lnTo>
                  <a:lnTo>
                    <a:pt x="1116" y="651"/>
                  </a:lnTo>
                  <a:lnTo>
                    <a:pt x="1116" y="670"/>
                  </a:lnTo>
                  <a:lnTo>
                    <a:pt x="1111" y="692"/>
                  </a:lnTo>
                  <a:lnTo>
                    <a:pt x="1106" y="701"/>
                  </a:lnTo>
                  <a:lnTo>
                    <a:pt x="1099" y="713"/>
                  </a:lnTo>
                  <a:lnTo>
                    <a:pt x="1092" y="723"/>
                  </a:lnTo>
                  <a:lnTo>
                    <a:pt x="1083" y="732"/>
                  </a:lnTo>
                  <a:lnTo>
                    <a:pt x="1083" y="732"/>
                  </a:lnTo>
                  <a:lnTo>
                    <a:pt x="1071" y="739"/>
                  </a:lnTo>
                  <a:lnTo>
                    <a:pt x="1059" y="746"/>
                  </a:lnTo>
                  <a:lnTo>
                    <a:pt x="1047" y="751"/>
                  </a:lnTo>
                  <a:lnTo>
                    <a:pt x="1038" y="753"/>
                  </a:lnTo>
                  <a:lnTo>
                    <a:pt x="1016" y="753"/>
                  </a:lnTo>
                  <a:lnTo>
                    <a:pt x="995" y="751"/>
                  </a:lnTo>
                  <a:lnTo>
                    <a:pt x="981" y="744"/>
                  </a:lnTo>
                  <a:lnTo>
                    <a:pt x="967" y="739"/>
                  </a:lnTo>
                  <a:lnTo>
                    <a:pt x="955" y="732"/>
                  </a:lnTo>
                  <a:lnTo>
                    <a:pt x="955" y="732"/>
                  </a:lnTo>
                  <a:lnTo>
                    <a:pt x="957" y="741"/>
                  </a:lnTo>
                  <a:lnTo>
                    <a:pt x="957" y="756"/>
                  </a:lnTo>
                  <a:lnTo>
                    <a:pt x="952" y="772"/>
                  </a:lnTo>
                  <a:lnTo>
                    <a:pt x="945" y="791"/>
                  </a:lnTo>
                  <a:lnTo>
                    <a:pt x="929" y="813"/>
                  </a:lnTo>
                  <a:lnTo>
                    <a:pt x="907" y="836"/>
                  </a:lnTo>
                  <a:lnTo>
                    <a:pt x="893" y="848"/>
                  </a:lnTo>
                  <a:lnTo>
                    <a:pt x="876" y="860"/>
                  </a:lnTo>
                  <a:lnTo>
                    <a:pt x="876" y="860"/>
                  </a:lnTo>
                  <a:lnTo>
                    <a:pt x="858" y="872"/>
                  </a:lnTo>
                  <a:lnTo>
                    <a:pt x="841" y="879"/>
                  </a:lnTo>
                  <a:lnTo>
                    <a:pt x="822" y="884"/>
                  </a:lnTo>
                  <a:lnTo>
                    <a:pt x="805" y="884"/>
                  </a:lnTo>
                  <a:lnTo>
                    <a:pt x="786" y="884"/>
                  </a:lnTo>
                  <a:lnTo>
                    <a:pt x="770" y="881"/>
                  </a:lnTo>
                  <a:lnTo>
                    <a:pt x="753" y="879"/>
                  </a:lnTo>
                  <a:lnTo>
                    <a:pt x="739" y="874"/>
                  </a:lnTo>
                  <a:lnTo>
                    <a:pt x="713" y="862"/>
                  </a:lnTo>
                  <a:lnTo>
                    <a:pt x="692" y="850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3" y="848"/>
                  </a:lnTo>
                  <a:lnTo>
                    <a:pt x="670" y="858"/>
                  </a:lnTo>
                  <a:lnTo>
                    <a:pt x="663" y="869"/>
                  </a:lnTo>
                  <a:lnTo>
                    <a:pt x="654" y="879"/>
                  </a:lnTo>
                  <a:lnTo>
                    <a:pt x="640" y="888"/>
                  </a:lnTo>
                  <a:lnTo>
                    <a:pt x="621" y="896"/>
                  </a:lnTo>
                  <a:lnTo>
                    <a:pt x="609" y="898"/>
                  </a:lnTo>
                  <a:lnTo>
                    <a:pt x="597" y="898"/>
                  </a:lnTo>
                  <a:lnTo>
                    <a:pt x="597" y="898"/>
                  </a:lnTo>
                  <a:lnTo>
                    <a:pt x="583" y="898"/>
                  </a:lnTo>
                  <a:lnTo>
                    <a:pt x="571" y="896"/>
                  </a:lnTo>
                  <a:lnTo>
                    <a:pt x="552" y="888"/>
                  </a:lnTo>
                  <a:lnTo>
                    <a:pt x="538" y="879"/>
                  </a:lnTo>
                  <a:lnTo>
                    <a:pt x="528" y="869"/>
                  </a:lnTo>
                  <a:lnTo>
                    <a:pt x="521" y="858"/>
                  </a:lnTo>
                  <a:lnTo>
                    <a:pt x="519" y="848"/>
                  </a:lnTo>
                  <a:lnTo>
                    <a:pt x="516" y="839"/>
                  </a:lnTo>
                  <a:lnTo>
                    <a:pt x="516" y="836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6280" y="4919400"/>
              <a:ext cx="1876680" cy="1425600"/>
            </a:xfrm>
            <a:custGeom>
              <a:avLst/>
              <a:gdLst/>
              <a:ahLst/>
              <a:rect l="l" t="t" r="r" b="b"/>
              <a:pathLst>
                <a:path w="1182" h="898">
                  <a:moveTo>
                    <a:pt x="516" y="836"/>
                  </a:moveTo>
                  <a:lnTo>
                    <a:pt x="516" y="836"/>
                  </a:lnTo>
                  <a:lnTo>
                    <a:pt x="500" y="850"/>
                  </a:lnTo>
                  <a:lnTo>
                    <a:pt x="478" y="862"/>
                  </a:lnTo>
                  <a:lnTo>
                    <a:pt x="452" y="872"/>
                  </a:lnTo>
                  <a:lnTo>
                    <a:pt x="438" y="877"/>
                  </a:lnTo>
                  <a:lnTo>
                    <a:pt x="422" y="881"/>
                  </a:lnTo>
                  <a:lnTo>
                    <a:pt x="405" y="884"/>
                  </a:lnTo>
                  <a:lnTo>
                    <a:pt x="388" y="884"/>
                  </a:lnTo>
                  <a:lnTo>
                    <a:pt x="369" y="881"/>
                  </a:lnTo>
                  <a:lnTo>
                    <a:pt x="350" y="877"/>
                  </a:lnTo>
                  <a:lnTo>
                    <a:pt x="334" y="869"/>
                  </a:lnTo>
                  <a:lnTo>
                    <a:pt x="315" y="860"/>
                  </a:lnTo>
                  <a:lnTo>
                    <a:pt x="315" y="860"/>
                  </a:lnTo>
                  <a:lnTo>
                    <a:pt x="298" y="846"/>
                  </a:lnTo>
                  <a:lnTo>
                    <a:pt x="284" y="834"/>
                  </a:lnTo>
                  <a:lnTo>
                    <a:pt x="263" y="810"/>
                  </a:lnTo>
                  <a:lnTo>
                    <a:pt x="249" y="789"/>
                  </a:lnTo>
                  <a:lnTo>
                    <a:pt x="239" y="770"/>
                  </a:lnTo>
                  <a:lnTo>
                    <a:pt x="237" y="753"/>
                  </a:lnTo>
                  <a:lnTo>
                    <a:pt x="234" y="741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5" y="737"/>
                  </a:lnTo>
                  <a:lnTo>
                    <a:pt x="213" y="744"/>
                  </a:lnTo>
                  <a:lnTo>
                    <a:pt x="196" y="749"/>
                  </a:lnTo>
                  <a:lnTo>
                    <a:pt x="175" y="753"/>
                  </a:lnTo>
                  <a:lnTo>
                    <a:pt x="154" y="751"/>
                  </a:lnTo>
                  <a:lnTo>
                    <a:pt x="144" y="749"/>
                  </a:lnTo>
                  <a:lnTo>
                    <a:pt x="132" y="744"/>
                  </a:lnTo>
                  <a:lnTo>
                    <a:pt x="121" y="739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99" y="720"/>
                  </a:lnTo>
                  <a:lnTo>
                    <a:pt x="92" y="711"/>
                  </a:lnTo>
                  <a:lnTo>
                    <a:pt x="85" y="701"/>
                  </a:lnTo>
                  <a:lnTo>
                    <a:pt x="80" y="689"/>
                  </a:lnTo>
                  <a:lnTo>
                    <a:pt x="76" y="670"/>
                  </a:lnTo>
                  <a:lnTo>
                    <a:pt x="76" y="651"/>
                  </a:lnTo>
                  <a:lnTo>
                    <a:pt x="78" y="635"/>
                  </a:lnTo>
                  <a:lnTo>
                    <a:pt x="80" y="621"/>
                  </a:lnTo>
                  <a:lnTo>
                    <a:pt x="85" y="609"/>
                  </a:lnTo>
                  <a:lnTo>
                    <a:pt x="85" y="609"/>
                  </a:lnTo>
                  <a:lnTo>
                    <a:pt x="73" y="602"/>
                  </a:lnTo>
                  <a:lnTo>
                    <a:pt x="59" y="592"/>
                  </a:lnTo>
                  <a:lnTo>
                    <a:pt x="45" y="578"/>
                  </a:lnTo>
                  <a:lnTo>
                    <a:pt x="28" y="559"/>
                  </a:lnTo>
                  <a:lnTo>
                    <a:pt x="21" y="547"/>
                  </a:lnTo>
                  <a:lnTo>
                    <a:pt x="14" y="533"/>
                  </a:lnTo>
                  <a:lnTo>
                    <a:pt x="9" y="516"/>
                  </a:lnTo>
                  <a:lnTo>
                    <a:pt x="4" y="500"/>
                  </a:lnTo>
                  <a:lnTo>
                    <a:pt x="2" y="481"/>
                  </a:lnTo>
                  <a:lnTo>
                    <a:pt x="2" y="460"/>
                  </a:lnTo>
                  <a:lnTo>
                    <a:pt x="2" y="462"/>
                  </a:lnTo>
                  <a:lnTo>
                    <a:pt x="0" y="443"/>
                  </a:lnTo>
                  <a:lnTo>
                    <a:pt x="0" y="443"/>
                  </a:lnTo>
                  <a:lnTo>
                    <a:pt x="0" y="422"/>
                  </a:lnTo>
                  <a:lnTo>
                    <a:pt x="2" y="403"/>
                  </a:lnTo>
                  <a:lnTo>
                    <a:pt x="7" y="386"/>
                  </a:lnTo>
                  <a:lnTo>
                    <a:pt x="12" y="369"/>
                  </a:lnTo>
                  <a:lnTo>
                    <a:pt x="26" y="343"/>
                  </a:lnTo>
                  <a:lnTo>
                    <a:pt x="40" y="322"/>
                  </a:lnTo>
                  <a:lnTo>
                    <a:pt x="54" y="305"/>
                  </a:lnTo>
                  <a:lnTo>
                    <a:pt x="68" y="296"/>
                  </a:lnTo>
                  <a:lnTo>
                    <a:pt x="80" y="289"/>
                  </a:lnTo>
                  <a:lnTo>
                    <a:pt x="80" y="289"/>
                  </a:lnTo>
                  <a:lnTo>
                    <a:pt x="76" y="277"/>
                  </a:lnTo>
                  <a:lnTo>
                    <a:pt x="71" y="263"/>
                  </a:lnTo>
                  <a:lnTo>
                    <a:pt x="68" y="246"/>
                  </a:lnTo>
                  <a:lnTo>
                    <a:pt x="71" y="227"/>
                  </a:lnTo>
                  <a:lnTo>
                    <a:pt x="76" y="206"/>
                  </a:lnTo>
                  <a:lnTo>
                    <a:pt x="80" y="196"/>
                  </a:lnTo>
                  <a:lnTo>
                    <a:pt x="85" y="187"/>
                  </a:lnTo>
                  <a:lnTo>
                    <a:pt x="94" y="178"/>
                  </a:lnTo>
                  <a:lnTo>
                    <a:pt x="104" y="166"/>
                  </a:lnTo>
                  <a:lnTo>
                    <a:pt x="104" y="166"/>
                  </a:lnTo>
                  <a:lnTo>
                    <a:pt x="116" y="159"/>
                  </a:lnTo>
                  <a:lnTo>
                    <a:pt x="128" y="151"/>
                  </a:lnTo>
                  <a:lnTo>
                    <a:pt x="137" y="149"/>
                  </a:lnTo>
                  <a:lnTo>
                    <a:pt x="149" y="147"/>
                  </a:lnTo>
                  <a:lnTo>
                    <a:pt x="170" y="144"/>
                  </a:lnTo>
                  <a:lnTo>
                    <a:pt x="189" y="147"/>
                  </a:lnTo>
                  <a:lnTo>
                    <a:pt x="206" y="154"/>
                  </a:lnTo>
                  <a:lnTo>
                    <a:pt x="218" y="159"/>
                  </a:lnTo>
                  <a:lnTo>
                    <a:pt x="230" y="166"/>
                  </a:lnTo>
                  <a:lnTo>
                    <a:pt x="230" y="166"/>
                  </a:lnTo>
                  <a:lnTo>
                    <a:pt x="230" y="156"/>
                  </a:lnTo>
                  <a:lnTo>
                    <a:pt x="230" y="142"/>
                  </a:lnTo>
                  <a:lnTo>
                    <a:pt x="234" y="128"/>
                  </a:lnTo>
                  <a:lnTo>
                    <a:pt x="241" y="106"/>
                  </a:lnTo>
                  <a:lnTo>
                    <a:pt x="256" y="85"/>
                  </a:lnTo>
                  <a:lnTo>
                    <a:pt x="277" y="61"/>
                  </a:lnTo>
                  <a:lnTo>
                    <a:pt x="291" y="50"/>
                  </a:lnTo>
                  <a:lnTo>
                    <a:pt x="308" y="38"/>
                  </a:lnTo>
                  <a:lnTo>
                    <a:pt x="308" y="38"/>
                  </a:lnTo>
                  <a:lnTo>
                    <a:pt x="327" y="28"/>
                  </a:lnTo>
                  <a:lnTo>
                    <a:pt x="346" y="21"/>
                  </a:lnTo>
                  <a:lnTo>
                    <a:pt x="365" y="16"/>
                  </a:lnTo>
                  <a:lnTo>
                    <a:pt x="381" y="14"/>
                  </a:lnTo>
                  <a:lnTo>
                    <a:pt x="398" y="14"/>
                  </a:lnTo>
                  <a:lnTo>
                    <a:pt x="414" y="16"/>
                  </a:lnTo>
                  <a:lnTo>
                    <a:pt x="431" y="19"/>
                  </a:lnTo>
                  <a:lnTo>
                    <a:pt x="448" y="23"/>
                  </a:lnTo>
                  <a:lnTo>
                    <a:pt x="474" y="35"/>
                  </a:lnTo>
                  <a:lnTo>
                    <a:pt x="493" y="47"/>
                  </a:lnTo>
                  <a:lnTo>
                    <a:pt x="512" y="59"/>
                  </a:lnTo>
                  <a:lnTo>
                    <a:pt x="512" y="59"/>
                  </a:lnTo>
                  <a:lnTo>
                    <a:pt x="514" y="50"/>
                  </a:lnTo>
                  <a:lnTo>
                    <a:pt x="516" y="40"/>
                  </a:lnTo>
                  <a:lnTo>
                    <a:pt x="521" y="31"/>
                  </a:lnTo>
                  <a:lnTo>
                    <a:pt x="531" y="19"/>
                  </a:lnTo>
                  <a:lnTo>
                    <a:pt x="545" y="9"/>
                  </a:lnTo>
                  <a:lnTo>
                    <a:pt x="564" y="2"/>
                  </a:lnTo>
                  <a:lnTo>
                    <a:pt x="576" y="0"/>
                  </a:lnTo>
                  <a:lnTo>
                    <a:pt x="590" y="0"/>
                  </a:lnTo>
                  <a:lnTo>
                    <a:pt x="590" y="0"/>
                  </a:lnTo>
                  <a:lnTo>
                    <a:pt x="604" y="0"/>
                  </a:lnTo>
                  <a:lnTo>
                    <a:pt x="616" y="2"/>
                  </a:lnTo>
                  <a:lnTo>
                    <a:pt x="635" y="9"/>
                  </a:lnTo>
                  <a:lnTo>
                    <a:pt x="649" y="19"/>
                  </a:lnTo>
                  <a:lnTo>
                    <a:pt x="658" y="31"/>
                  </a:lnTo>
                  <a:lnTo>
                    <a:pt x="663" y="40"/>
                  </a:lnTo>
                  <a:lnTo>
                    <a:pt x="668" y="50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87" y="50"/>
                  </a:lnTo>
                  <a:lnTo>
                    <a:pt x="706" y="38"/>
                  </a:lnTo>
                  <a:lnTo>
                    <a:pt x="734" y="26"/>
                  </a:lnTo>
                  <a:lnTo>
                    <a:pt x="749" y="21"/>
                  </a:lnTo>
                  <a:lnTo>
                    <a:pt x="765" y="19"/>
                  </a:lnTo>
                  <a:lnTo>
                    <a:pt x="782" y="16"/>
                  </a:lnTo>
                  <a:lnTo>
                    <a:pt x="798" y="16"/>
                  </a:lnTo>
                  <a:lnTo>
                    <a:pt x="817" y="16"/>
                  </a:lnTo>
                  <a:lnTo>
                    <a:pt x="834" y="21"/>
                  </a:lnTo>
                  <a:lnTo>
                    <a:pt x="853" y="28"/>
                  </a:lnTo>
                  <a:lnTo>
                    <a:pt x="872" y="40"/>
                  </a:lnTo>
                  <a:lnTo>
                    <a:pt x="872" y="40"/>
                  </a:lnTo>
                  <a:lnTo>
                    <a:pt x="888" y="52"/>
                  </a:lnTo>
                  <a:lnTo>
                    <a:pt x="903" y="64"/>
                  </a:lnTo>
                  <a:lnTo>
                    <a:pt x="924" y="87"/>
                  </a:lnTo>
                  <a:lnTo>
                    <a:pt x="938" y="109"/>
                  </a:lnTo>
                  <a:lnTo>
                    <a:pt x="945" y="128"/>
                  </a:lnTo>
                  <a:lnTo>
                    <a:pt x="950" y="144"/>
                  </a:lnTo>
                  <a:lnTo>
                    <a:pt x="950" y="156"/>
                  </a:lnTo>
                  <a:lnTo>
                    <a:pt x="950" y="168"/>
                  </a:lnTo>
                  <a:lnTo>
                    <a:pt x="950" y="168"/>
                  </a:lnTo>
                  <a:lnTo>
                    <a:pt x="962" y="161"/>
                  </a:lnTo>
                  <a:lnTo>
                    <a:pt x="974" y="154"/>
                  </a:lnTo>
                  <a:lnTo>
                    <a:pt x="990" y="149"/>
                  </a:lnTo>
                  <a:lnTo>
                    <a:pt x="1009" y="147"/>
                  </a:lnTo>
                  <a:lnTo>
                    <a:pt x="1030" y="147"/>
                  </a:lnTo>
                  <a:lnTo>
                    <a:pt x="1042" y="149"/>
                  </a:lnTo>
                  <a:lnTo>
                    <a:pt x="1054" y="154"/>
                  </a:lnTo>
                  <a:lnTo>
                    <a:pt x="1064" y="161"/>
                  </a:lnTo>
                  <a:lnTo>
                    <a:pt x="1076" y="168"/>
                  </a:lnTo>
                  <a:lnTo>
                    <a:pt x="1076" y="168"/>
                  </a:lnTo>
                  <a:lnTo>
                    <a:pt x="1085" y="178"/>
                  </a:lnTo>
                  <a:lnTo>
                    <a:pt x="1094" y="187"/>
                  </a:lnTo>
                  <a:lnTo>
                    <a:pt x="1099" y="199"/>
                  </a:lnTo>
                  <a:lnTo>
                    <a:pt x="1104" y="208"/>
                  </a:lnTo>
                  <a:lnTo>
                    <a:pt x="1109" y="230"/>
                  </a:lnTo>
                  <a:lnTo>
                    <a:pt x="1111" y="249"/>
                  </a:lnTo>
                  <a:lnTo>
                    <a:pt x="1109" y="265"/>
                  </a:lnTo>
                  <a:lnTo>
                    <a:pt x="1104" y="277"/>
                  </a:lnTo>
                  <a:lnTo>
                    <a:pt x="1099" y="289"/>
                  </a:lnTo>
                  <a:lnTo>
                    <a:pt x="1099" y="289"/>
                  </a:lnTo>
                  <a:lnTo>
                    <a:pt x="1111" y="298"/>
                  </a:lnTo>
                  <a:lnTo>
                    <a:pt x="1125" y="308"/>
                  </a:lnTo>
                  <a:lnTo>
                    <a:pt x="1140" y="322"/>
                  </a:lnTo>
                  <a:lnTo>
                    <a:pt x="1154" y="343"/>
                  </a:lnTo>
                  <a:lnTo>
                    <a:pt x="1168" y="372"/>
                  </a:lnTo>
                  <a:lnTo>
                    <a:pt x="1173" y="386"/>
                  </a:lnTo>
                  <a:lnTo>
                    <a:pt x="1177" y="405"/>
                  </a:lnTo>
                  <a:lnTo>
                    <a:pt x="1180" y="424"/>
                  </a:lnTo>
                  <a:lnTo>
                    <a:pt x="1180" y="445"/>
                  </a:lnTo>
                  <a:lnTo>
                    <a:pt x="1182" y="445"/>
                  </a:lnTo>
                  <a:lnTo>
                    <a:pt x="1182" y="445"/>
                  </a:lnTo>
                  <a:lnTo>
                    <a:pt x="1180" y="467"/>
                  </a:lnTo>
                  <a:lnTo>
                    <a:pt x="1177" y="486"/>
                  </a:lnTo>
                  <a:lnTo>
                    <a:pt x="1175" y="505"/>
                  </a:lnTo>
                  <a:lnTo>
                    <a:pt x="1170" y="521"/>
                  </a:lnTo>
                  <a:lnTo>
                    <a:pt x="1156" y="550"/>
                  </a:lnTo>
                  <a:lnTo>
                    <a:pt x="1144" y="571"/>
                  </a:lnTo>
                  <a:lnTo>
                    <a:pt x="1130" y="590"/>
                  </a:lnTo>
                  <a:lnTo>
                    <a:pt x="1118" y="602"/>
                  </a:lnTo>
                  <a:lnTo>
                    <a:pt x="1106" y="611"/>
                  </a:lnTo>
                  <a:lnTo>
                    <a:pt x="1106" y="611"/>
                  </a:lnTo>
                  <a:lnTo>
                    <a:pt x="1111" y="623"/>
                  </a:lnTo>
                  <a:lnTo>
                    <a:pt x="1113" y="635"/>
                  </a:lnTo>
                  <a:lnTo>
                    <a:pt x="1116" y="651"/>
                  </a:lnTo>
                  <a:lnTo>
                    <a:pt x="1116" y="670"/>
                  </a:lnTo>
                  <a:lnTo>
                    <a:pt x="1111" y="692"/>
                  </a:lnTo>
                  <a:lnTo>
                    <a:pt x="1106" y="701"/>
                  </a:lnTo>
                  <a:lnTo>
                    <a:pt x="1099" y="713"/>
                  </a:lnTo>
                  <a:lnTo>
                    <a:pt x="1092" y="723"/>
                  </a:lnTo>
                  <a:lnTo>
                    <a:pt x="1083" y="732"/>
                  </a:lnTo>
                  <a:lnTo>
                    <a:pt x="1083" y="732"/>
                  </a:lnTo>
                  <a:lnTo>
                    <a:pt x="1071" y="739"/>
                  </a:lnTo>
                  <a:lnTo>
                    <a:pt x="1059" y="746"/>
                  </a:lnTo>
                  <a:lnTo>
                    <a:pt x="1047" y="751"/>
                  </a:lnTo>
                  <a:lnTo>
                    <a:pt x="1038" y="753"/>
                  </a:lnTo>
                  <a:lnTo>
                    <a:pt x="1016" y="753"/>
                  </a:lnTo>
                  <a:lnTo>
                    <a:pt x="995" y="751"/>
                  </a:lnTo>
                  <a:lnTo>
                    <a:pt x="981" y="744"/>
                  </a:lnTo>
                  <a:lnTo>
                    <a:pt x="967" y="739"/>
                  </a:lnTo>
                  <a:lnTo>
                    <a:pt x="955" y="732"/>
                  </a:lnTo>
                  <a:lnTo>
                    <a:pt x="955" y="732"/>
                  </a:lnTo>
                  <a:lnTo>
                    <a:pt x="957" y="741"/>
                  </a:lnTo>
                  <a:lnTo>
                    <a:pt x="957" y="756"/>
                  </a:lnTo>
                  <a:lnTo>
                    <a:pt x="952" y="772"/>
                  </a:lnTo>
                  <a:lnTo>
                    <a:pt x="945" y="791"/>
                  </a:lnTo>
                  <a:lnTo>
                    <a:pt x="929" y="813"/>
                  </a:lnTo>
                  <a:lnTo>
                    <a:pt x="907" y="836"/>
                  </a:lnTo>
                  <a:lnTo>
                    <a:pt x="893" y="848"/>
                  </a:lnTo>
                  <a:lnTo>
                    <a:pt x="876" y="860"/>
                  </a:lnTo>
                  <a:lnTo>
                    <a:pt x="876" y="860"/>
                  </a:lnTo>
                  <a:lnTo>
                    <a:pt x="858" y="872"/>
                  </a:lnTo>
                  <a:lnTo>
                    <a:pt x="841" y="879"/>
                  </a:lnTo>
                  <a:lnTo>
                    <a:pt x="822" y="884"/>
                  </a:lnTo>
                  <a:lnTo>
                    <a:pt x="805" y="884"/>
                  </a:lnTo>
                  <a:lnTo>
                    <a:pt x="786" y="884"/>
                  </a:lnTo>
                  <a:lnTo>
                    <a:pt x="770" y="881"/>
                  </a:lnTo>
                  <a:lnTo>
                    <a:pt x="753" y="879"/>
                  </a:lnTo>
                  <a:lnTo>
                    <a:pt x="739" y="874"/>
                  </a:lnTo>
                  <a:lnTo>
                    <a:pt x="713" y="862"/>
                  </a:lnTo>
                  <a:lnTo>
                    <a:pt x="692" y="850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3" y="848"/>
                  </a:lnTo>
                  <a:lnTo>
                    <a:pt x="670" y="858"/>
                  </a:lnTo>
                  <a:lnTo>
                    <a:pt x="663" y="869"/>
                  </a:lnTo>
                  <a:lnTo>
                    <a:pt x="654" y="879"/>
                  </a:lnTo>
                  <a:lnTo>
                    <a:pt x="640" y="888"/>
                  </a:lnTo>
                  <a:lnTo>
                    <a:pt x="621" y="896"/>
                  </a:lnTo>
                  <a:lnTo>
                    <a:pt x="609" y="898"/>
                  </a:lnTo>
                  <a:lnTo>
                    <a:pt x="597" y="898"/>
                  </a:lnTo>
                  <a:lnTo>
                    <a:pt x="597" y="898"/>
                  </a:lnTo>
                  <a:lnTo>
                    <a:pt x="583" y="898"/>
                  </a:lnTo>
                  <a:lnTo>
                    <a:pt x="571" y="896"/>
                  </a:lnTo>
                  <a:lnTo>
                    <a:pt x="552" y="888"/>
                  </a:lnTo>
                  <a:lnTo>
                    <a:pt x="538" y="879"/>
                  </a:lnTo>
                  <a:lnTo>
                    <a:pt x="528" y="869"/>
                  </a:lnTo>
                  <a:lnTo>
                    <a:pt x="521" y="858"/>
                  </a:lnTo>
                  <a:lnTo>
                    <a:pt x="519" y="848"/>
                  </a:lnTo>
                  <a:lnTo>
                    <a:pt x="516" y="839"/>
                  </a:lnTo>
                </a:path>
              </a:pathLst>
            </a:custGeom>
            <a:noFill/>
            <a:ln w="792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9640" y="4884480"/>
              <a:ext cx="1877760" cy="1427400"/>
            </a:xfrm>
            <a:custGeom>
              <a:avLst/>
              <a:gdLst/>
              <a:ahLst/>
              <a:rect l="l" t="t" r="r" b="b"/>
              <a:pathLst>
                <a:path w="1183" h="899">
                  <a:moveTo>
                    <a:pt x="519" y="837"/>
                  </a:moveTo>
                  <a:lnTo>
                    <a:pt x="519" y="837"/>
                  </a:lnTo>
                  <a:lnTo>
                    <a:pt x="500" y="849"/>
                  </a:lnTo>
                  <a:lnTo>
                    <a:pt x="481" y="861"/>
                  </a:lnTo>
                  <a:lnTo>
                    <a:pt x="455" y="872"/>
                  </a:lnTo>
                  <a:lnTo>
                    <a:pt x="439" y="877"/>
                  </a:lnTo>
                  <a:lnTo>
                    <a:pt x="424" y="880"/>
                  </a:lnTo>
                  <a:lnTo>
                    <a:pt x="405" y="882"/>
                  </a:lnTo>
                  <a:lnTo>
                    <a:pt x="389" y="882"/>
                  </a:lnTo>
                  <a:lnTo>
                    <a:pt x="372" y="882"/>
                  </a:lnTo>
                  <a:lnTo>
                    <a:pt x="353" y="877"/>
                  </a:lnTo>
                  <a:lnTo>
                    <a:pt x="334" y="870"/>
                  </a:lnTo>
                  <a:lnTo>
                    <a:pt x="315" y="858"/>
                  </a:lnTo>
                  <a:lnTo>
                    <a:pt x="315" y="858"/>
                  </a:lnTo>
                  <a:lnTo>
                    <a:pt x="299" y="846"/>
                  </a:lnTo>
                  <a:lnTo>
                    <a:pt x="284" y="835"/>
                  </a:lnTo>
                  <a:lnTo>
                    <a:pt x="263" y="811"/>
                  </a:lnTo>
                  <a:lnTo>
                    <a:pt x="249" y="790"/>
                  </a:lnTo>
                  <a:lnTo>
                    <a:pt x="242" y="771"/>
                  </a:lnTo>
                  <a:lnTo>
                    <a:pt x="237" y="754"/>
                  </a:lnTo>
                  <a:lnTo>
                    <a:pt x="237" y="742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8" y="737"/>
                  </a:lnTo>
                  <a:lnTo>
                    <a:pt x="213" y="745"/>
                  </a:lnTo>
                  <a:lnTo>
                    <a:pt x="197" y="749"/>
                  </a:lnTo>
                  <a:lnTo>
                    <a:pt x="178" y="752"/>
                  </a:lnTo>
                  <a:lnTo>
                    <a:pt x="157" y="752"/>
                  </a:lnTo>
                  <a:lnTo>
                    <a:pt x="145" y="749"/>
                  </a:lnTo>
                  <a:lnTo>
                    <a:pt x="135" y="745"/>
                  </a:lnTo>
                  <a:lnTo>
                    <a:pt x="123" y="737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102" y="721"/>
                  </a:lnTo>
                  <a:lnTo>
                    <a:pt x="93" y="711"/>
                  </a:lnTo>
                  <a:lnTo>
                    <a:pt x="88" y="700"/>
                  </a:lnTo>
                  <a:lnTo>
                    <a:pt x="83" y="690"/>
                  </a:lnTo>
                  <a:lnTo>
                    <a:pt x="78" y="669"/>
                  </a:lnTo>
                  <a:lnTo>
                    <a:pt x="76" y="650"/>
                  </a:lnTo>
                  <a:lnTo>
                    <a:pt x="78" y="633"/>
                  </a:lnTo>
                  <a:lnTo>
                    <a:pt x="83" y="621"/>
                  </a:lnTo>
                  <a:lnTo>
                    <a:pt x="88" y="609"/>
                  </a:lnTo>
                  <a:lnTo>
                    <a:pt x="88" y="609"/>
                  </a:lnTo>
                  <a:lnTo>
                    <a:pt x="74" y="602"/>
                  </a:lnTo>
                  <a:lnTo>
                    <a:pt x="62" y="593"/>
                  </a:lnTo>
                  <a:lnTo>
                    <a:pt x="45" y="579"/>
                  </a:lnTo>
                  <a:lnTo>
                    <a:pt x="31" y="557"/>
                  </a:lnTo>
                  <a:lnTo>
                    <a:pt x="24" y="545"/>
                  </a:lnTo>
                  <a:lnTo>
                    <a:pt x="17" y="534"/>
                  </a:lnTo>
                  <a:lnTo>
                    <a:pt x="12" y="517"/>
                  </a:lnTo>
                  <a:lnTo>
                    <a:pt x="7" y="500"/>
                  </a:lnTo>
                  <a:lnTo>
                    <a:pt x="5" y="482"/>
                  </a:lnTo>
                  <a:lnTo>
                    <a:pt x="2" y="460"/>
                  </a:lnTo>
                  <a:lnTo>
                    <a:pt x="2" y="463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2" y="422"/>
                  </a:lnTo>
                  <a:lnTo>
                    <a:pt x="5" y="403"/>
                  </a:lnTo>
                  <a:lnTo>
                    <a:pt x="7" y="384"/>
                  </a:lnTo>
                  <a:lnTo>
                    <a:pt x="14" y="370"/>
                  </a:lnTo>
                  <a:lnTo>
                    <a:pt x="26" y="342"/>
                  </a:lnTo>
                  <a:lnTo>
                    <a:pt x="40" y="323"/>
                  </a:lnTo>
                  <a:lnTo>
                    <a:pt x="57" y="306"/>
                  </a:lnTo>
                  <a:lnTo>
                    <a:pt x="69" y="29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6" y="275"/>
                  </a:lnTo>
                  <a:lnTo>
                    <a:pt x="74" y="263"/>
                  </a:lnTo>
                  <a:lnTo>
                    <a:pt x="71" y="247"/>
                  </a:lnTo>
                  <a:lnTo>
                    <a:pt x="71" y="228"/>
                  </a:lnTo>
                  <a:lnTo>
                    <a:pt x="76" y="207"/>
                  </a:lnTo>
                  <a:lnTo>
                    <a:pt x="81" y="197"/>
                  </a:lnTo>
                  <a:lnTo>
                    <a:pt x="88" y="185"/>
                  </a:lnTo>
                  <a:lnTo>
                    <a:pt x="95" y="176"/>
                  </a:lnTo>
                  <a:lnTo>
                    <a:pt x="107" y="166"/>
                  </a:lnTo>
                  <a:lnTo>
                    <a:pt x="107" y="166"/>
                  </a:lnTo>
                  <a:lnTo>
                    <a:pt x="116" y="159"/>
                  </a:lnTo>
                  <a:lnTo>
                    <a:pt x="128" y="152"/>
                  </a:lnTo>
                  <a:lnTo>
                    <a:pt x="140" y="147"/>
                  </a:lnTo>
                  <a:lnTo>
                    <a:pt x="149" y="145"/>
                  </a:lnTo>
                  <a:lnTo>
                    <a:pt x="171" y="145"/>
                  </a:lnTo>
                  <a:lnTo>
                    <a:pt x="192" y="147"/>
                  </a:lnTo>
                  <a:lnTo>
                    <a:pt x="209" y="154"/>
                  </a:lnTo>
                  <a:lnTo>
                    <a:pt x="221" y="159"/>
                  </a:lnTo>
                  <a:lnTo>
                    <a:pt x="232" y="166"/>
                  </a:lnTo>
                  <a:lnTo>
                    <a:pt x="232" y="166"/>
                  </a:lnTo>
                  <a:lnTo>
                    <a:pt x="230" y="157"/>
                  </a:lnTo>
                  <a:lnTo>
                    <a:pt x="232" y="143"/>
                  </a:lnTo>
                  <a:lnTo>
                    <a:pt x="235" y="126"/>
                  </a:lnTo>
                  <a:lnTo>
                    <a:pt x="244" y="107"/>
                  </a:lnTo>
                  <a:lnTo>
                    <a:pt x="258" y="86"/>
                  </a:lnTo>
                  <a:lnTo>
                    <a:pt x="280" y="62"/>
                  </a:lnTo>
                  <a:lnTo>
                    <a:pt x="294" y="50"/>
                  </a:lnTo>
                  <a:lnTo>
                    <a:pt x="311" y="38"/>
                  </a:lnTo>
                  <a:lnTo>
                    <a:pt x="311" y="38"/>
                  </a:lnTo>
                  <a:lnTo>
                    <a:pt x="330" y="27"/>
                  </a:lnTo>
                  <a:lnTo>
                    <a:pt x="346" y="19"/>
                  </a:lnTo>
                  <a:lnTo>
                    <a:pt x="365" y="15"/>
                  </a:lnTo>
                  <a:lnTo>
                    <a:pt x="384" y="15"/>
                  </a:lnTo>
                  <a:lnTo>
                    <a:pt x="401" y="15"/>
                  </a:lnTo>
                  <a:lnTo>
                    <a:pt x="417" y="17"/>
                  </a:lnTo>
                  <a:lnTo>
                    <a:pt x="434" y="19"/>
                  </a:lnTo>
                  <a:lnTo>
                    <a:pt x="448" y="24"/>
                  </a:lnTo>
                  <a:lnTo>
                    <a:pt x="474" y="36"/>
                  </a:lnTo>
                  <a:lnTo>
                    <a:pt x="495" y="48"/>
                  </a:lnTo>
                  <a:lnTo>
                    <a:pt x="512" y="60"/>
                  </a:lnTo>
                  <a:lnTo>
                    <a:pt x="512" y="60"/>
                  </a:lnTo>
                  <a:lnTo>
                    <a:pt x="514" y="50"/>
                  </a:lnTo>
                  <a:lnTo>
                    <a:pt x="517" y="41"/>
                  </a:lnTo>
                  <a:lnTo>
                    <a:pt x="524" y="29"/>
                  </a:lnTo>
                  <a:lnTo>
                    <a:pt x="533" y="19"/>
                  </a:lnTo>
                  <a:lnTo>
                    <a:pt x="548" y="10"/>
                  </a:lnTo>
                  <a:lnTo>
                    <a:pt x="566" y="3"/>
                  </a:lnTo>
                  <a:lnTo>
                    <a:pt x="578" y="0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604" y="0"/>
                  </a:lnTo>
                  <a:lnTo>
                    <a:pt x="616" y="3"/>
                  </a:lnTo>
                  <a:lnTo>
                    <a:pt x="635" y="10"/>
                  </a:lnTo>
                  <a:lnTo>
                    <a:pt x="649" y="19"/>
                  </a:lnTo>
                  <a:lnTo>
                    <a:pt x="659" y="29"/>
                  </a:lnTo>
                  <a:lnTo>
                    <a:pt x="666" y="41"/>
                  </a:lnTo>
                  <a:lnTo>
                    <a:pt x="668" y="50"/>
                  </a:lnTo>
                  <a:lnTo>
                    <a:pt x="671" y="60"/>
                  </a:lnTo>
                  <a:lnTo>
                    <a:pt x="671" y="62"/>
                  </a:lnTo>
                  <a:lnTo>
                    <a:pt x="671" y="62"/>
                  </a:lnTo>
                  <a:lnTo>
                    <a:pt x="687" y="48"/>
                  </a:lnTo>
                  <a:lnTo>
                    <a:pt x="709" y="36"/>
                  </a:lnTo>
                  <a:lnTo>
                    <a:pt x="735" y="27"/>
                  </a:lnTo>
                  <a:lnTo>
                    <a:pt x="749" y="22"/>
                  </a:lnTo>
                  <a:lnTo>
                    <a:pt x="766" y="17"/>
                  </a:lnTo>
                  <a:lnTo>
                    <a:pt x="782" y="15"/>
                  </a:lnTo>
                  <a:lnTo>
                    <a:pt x="801" y="15"/>
                  </a:lnTo>
                  <a:lnTo>
                    <a:pt x="818" y="17"/>
                  </a:lnTo>
                  <a:lnTo>
                    <a:pt x="837" y="22"/>
                  </a:lnTo>
                  <a:lnTo>
                    <a:pt x="853" y="29"/>
                  </a:lnTo>
                  <a:lnTo>
                    <a:pt x="872" y="38"/>
                  </a:lnTo>
                  <a:lnTo>
                    <a:pt x="872" y="38"/>
                  </a:lnTo>
                  <a:lnTo>
                    <a:pt x="889" y="53"/>
                  </a:lnTo>
                  <a:lnTo>
                    <a:pt x="903" y="64"/>
                  </a:lnTo>
                  <a:lnTo>
                    <a:pt x="924" y="88"/>
                  </a:lnTo>
                  <a:lnTo>
                    <a:pt x="941" y="109"/>
                  </a:lnTo>
                  <a:lnTo>
                    <a:pt x="948" y="128"/>
                  </a:lnTo>
                  <a:lnTo>
                    <a:pt x="953" y="145"/>
                  </a:lnTo>
                  <a:lnTo>
                    <a:pt x="953" y="157"/>
                  </a:lnTo>
                  <a:lnTo>
                    <a:pt x="950" y="169"/>
                  </a:lnTo>
                  <a:lnTo>
                    <a:pt x="950" y="169"/>
                  </a:lnTo>
                  <a:lnTo>
                    <a:pt x="962" y="162"/>
                  </a:lnTo>
                  <a:lnTo>
                    <a:pt x="976" y="154"/>
                  </a:lnTo>
                  <a:lnTo>
                    <a:pt x="993" y="150"/>
                  </a:lnTo>
                  <a:lnTo>
                    <a:pt x="1012" y="145"/>
                  </a:lnTo>
                  <a:lnTo>
                    <a:pt x="1033" y="147"/>
                  </a:lnTo>
                  <a:lnTo>
                    <a:pt x="1043" y="150"/>
                  </a:lnTo>
                  <a:lnTo>
                    <a:pt x="1055" y="154"/>
                  </a:lnTo>
                  <a:lnTo>
                    <a:pt x="1066" y="159"/>
                  </a:lnTo>
                  <a:lnTo>
                    <a:pt x="1078" y="169"/>
                  </a:lnTo>
                  <a:lnTo>
                    <a:pt x="1078" y="169"/>
                  </a:lnTo>
                  <a:lnTo>
                    <a:pt x="1088" y="178"/>
                  </a:lnTo>
                  <a:lnTo>
                    <a:pt x="1095" y="188"/>
                  </a:lnTo>
                  <a:lnTo>
                    <a:pt x="1102" y="197"/>
                  </a:lnTo>
                  <a:lnTo>
                    <a:pt x="1107" y="209"/>
                  </a:lnTo>
                  <a:lnTo>
                    <a:pt x="1111" y="228"/>
                  </a:lnTo>
                  <a:lnTo>
                    <a:pt x="1111" y="247"/>
                  </a:lnTo>
                  <a:lnTo>
                    <a:pt x="1109" y="263"/>
                  </a:lnTo>
                  <a:lnTo>
                    <a:pt x="1107" y="278"/>
                  </a:lnTo>
                  <a:lnTo>
                    <a:pt x="1102" y="290"/>
                  </a:lnTo>
                  <a:lnTo>
                    <a:pt x="1102" y="290"/>
                  </a:lnTo>
                  <a:lnTo>
                    <a:pt x="1114" y="297"/>
                  </a:lnTo>
                  <a:lnTo>
                    <a:pt x="1126" y="309"/>
                  </a:lnTo>
                  <a:lnTo>
                    <a:pt x="1142" y="323"/>
                  </a:lnTo>
                  <a:lnTo>
                    <a:pt x="1157" y="344"/>
                  </a:lnTo>
                  <a:lnTo>
                    <a:pt x="1168" y="370"/>
                  </a:lnTo>
                  <a:lnTo>
                    <a:pt x="1175" y="387"/>
                  </a:lnTo>
                  <a:lnTo>
                    <a:pt x="1178" y="403"/>
                  </a:lnTo>
                  <a:lnTo>
                    <a:pt x="1180" y="422"/>
                  </a:lnTo>
                  <a:lnTo>
                    <a:pt x="1183" y="444"/>
                  </a:lnTo>
                  <a:lnTo>
                    <a:pt x="1183" y="446"/>
                  </a:lnTo>
                  <a:lnTo>
                    <a:pt x="1183" y="446"/>
                  </a:lnTo>
                  <a:lnTo>
                    <a:pt x="1183" y="467"/>
                  </a:lnTo>
                  <a:lnTo>
                    <a:pt x="1180" y="486"/>
                  </a:lnTo>
                  <a:lnTo>
                    <a:pt x="1175" y="505"/>
                  </a:lnTo>
                  <a:lnTo>
                    <a:pt x="1171" y="522"/>
                  </a:lnTo>
                  <a:lnTo>
                    <a:pt x="1159" y="548"/>
                  </a:lnTo>
                  <a:lnTo>
                    <a:pt x="1145" y="572"/>
                  </a:lnTo>
                  <a:lnTo>
                    <a:pt x="1130" y="588"/>
                  </a:lnTo>
                  <a:lnTo>
                    <a:pt x="1119" y="600"/>
                  </a:lnTo>
                  <a:lnTo>
                    <a:pt x="1107" y="609"/>
                  </a:lnTo>
                  <a:lnTo>
                    <a:pt x="1107" y="609"/>
                  </a:lnTo>
                  <a:lnTo>
                    <a:pt x="1111" y="621"/>
                  </a:lnTo>
                  <a:lnTo>
                    <a:pt x="1116" y="636"/>
                  </a:lnTo>
                  <a:lnTo>
                    <a:pt x="1119" y="652"/>
                  </a:lnTo>
                  <a:lnTo>
                    <a:pt x="1119" y="671"/>
                  </a:lnTo>
                  <a:lnTo>
                    <a:pt x="1111" y="692"/>
                  </a:lnTo>
                  <a:lnTo>
                    <a:pt x="1109" y="702"/>
                  </a:lnTo>
                  <a:lnTo>
                    <a:pt x="1102" y="711"/>
                  </a:lnTo>
                  <a:lnTo>
                    <a:pt x="1093" y="721"/>
                  </a:lnTo>
                  <a:lnTo>
                    <a:pt x="1083" y="733"/>
                  </a:lnTo>
                  <a:lnTo>
                    <a:pt x="1083" y="733"/>
                  </a:lnTo>
                  <a:lnTo>
                    <a:pt x="1071" y="740"/>
                  </a:lnTo>
                  <a:lnTo>
                    <a:pt x="1062" y="747"/>
                  </a:lnTo>
                  <a:lnTo>
                    <a:pt x="1050" y="749"/>
                  </a:lnTo>
                  <a:lnTo>
                    <a:pt x="1038" y="752"/>
                  </a:lnTo>
                  <a:lnTo>
                    <a:pt x="1017" y="754"/>
                  </a:lnTo>
                  <a:lnTo>
                    <a:pt x="998" y="752"/>
                  </a:lnTo>
                  <a:lnTo>
                    <a:pt x="981" y="745"/>
                  </a:lnTo>
                  <a:lnTo>
                    <a:pt x="969" y="740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57" y="742"/>
                  </a:lnTo>
                  <a:lnTo>
                    <a:pt x="957" y="756"/>
                  </a:lnTo>
                  <a:lnTo>
                    <a:pt x="955" y="771"/>
                  </a:lnTo>
                  <a:lnTo>
                    <a:pt x="946" y="792"/>
                  </a:lnTo>
                  <a:lnTo>
                    <a:pt x="931" y="813"/>
                  </a:lnTo>
                  <a:lnTo>
                    <a:pt x="910" y="837"/>
                  </a:lnTo>
                  <a:lnTo>
                    <a:pt x="896" y="849"/>
                  </a:lnTo>
                  <a:lnTo>
                    <a:pt x="879" y="861"/>
                  </a:lnTo>
                  <a:lnTo>
                    <a:pt x="879" y="861"/>
                  </a:lnTo>
                  <a:lnTo>
                    <a:pt x="860" y="870"/>
                  </a:lnTo>
                  <a:lnTo>
                    <a:pt x="841" y="877"/>
                  </a:lnTo>
                  <a:lnTo>
                    <a:pt x="825" y="882"/>
                  </a:lnTo>
                  <a:lnTo>
                    <a:pt x="806" y="884"/>
                  </a:lnTo>
                  <a:lnTo>
                    <a:pt x="789" y="884"/>
                  </a:lnTo>
                  <a:lnTo>
                    <a:pt x="773" y="882"/>
                  </a:lnTo>
                  <a:lnTo>
                    <a:pt x="756" y="880"/>
                  </a:lnTo>
                  <a:lnTo>
                    <a:pt x="742" y="875"/>
                  </a:lnTo>
                  <a:lnTo>
                    <a:pt x="713" y="863"/>
                  </a:lnTo>
                  <a:lnTo>
                    <a:pt x="694" y="851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5" y="849"/>
                  </a:lnTo>
                  <a:lnTo>
                    <a:pt x="671" y="858"/>
                  </a:lnTo>
                  <a:lnTo>
                    <a:pt x="666" y="868"/>
                  </a:lnTo>
                  <a:lnTo>
                    <a:pt x="657" y="880"/>
                  </a:lnTo>
                  <a:lnTo>
                    <a:pt x="642" y="889"/>
                  </a:lnTo>
                  <a:lnTo>
                    <a:pt x="623" y="896"/>
                  </a:lnTo>
                  <a:lnTo>
                    <a:pt x="611" y="899"/>
                  </a:lnTo>
                  <a:lnTo>
                    <a:pt x="597" y="899"/>
                  </a:lnTo>
                  <a:lnTo>
                    <a:pt x="597" y="899"/>
                  </a:lnTo>
                  <a:lnTo>
                    <a:pt x="583" y="899"/>
                  </a:lnTo>
                  <a:lnTo>
                    <a:pt x="571" y="896"/>
                  </a:lnTo>
                  <a:lnTo>
                    <a:pt x="552" y="889"/>
                  </a:lnTo>
                  <a:lnTo>
                    <a:pt x="538" y="880"/>
                  </a:lnTo>
                  <a:lnTo>
                    <a:pt x="529" y="868"/>
                  </a:lnTo>
                  <a:lnTo>
                    <a:pt x="524" y="858"/>
                  </a:lnTo>
                  <a:lnTo>
                    <a:pt x="521" y="849"/>
                  </a:lnTo>
                  <a:lnTo>
                    <a:pt x="519" y="839"/>
                  </a:lnTo>
                  <a:lnTo>
                    <a:pt x="519" y="8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49640" y="4884480"/>
              <a:ext cx="1877760" cy="1427400"/>
            </a:xfrm>
            <a:custGeom>
              <a:avLst/>
              <a:gdLst/>
              <a:ahLst/>
              <a:rect l="l" t="t" r="r" b="b"/>
              <a:pathLst>
                <a:path w="1183" h="899">
                  <a:moveTo>
                    <a:pt x="519" y="837"/>
                  </a:moveTo>
                  <a:lnTo>
                    <a:pt x="519" y="837"/>
                  </a:lnTo>
                  <a:lnTo>
                    <a:pt x="500" y="849"/>
                  </a:lnTo>
                  <a:lnTo>
                    <a:pt x="481" y="861"/>
                  </a:lnTo>
                  <a:lnTo>
                    <a:pt x="455" y="872"/>
                  </a:lnTo>
                  <a:lnTo>
                    <a:pt x="439" y="877"/>
                  </a:lnTo>
                  <a:lnTo>
                    <a:pt x="424" y="880"/>
                  </a:lnTo>
                  <a:lnTo>
                    <a:pt x="405" y="882"/>
                  </a:lnTo>
                  <a:lnTo>
                    <a:pt x="389" y="882"/>
                  </a:lnTo>
                  <a:lnTo>
                    <a:pt x="372" y="882"/>
                  </a:lnTo>
                  <a:lnTo>
                    <a:pt x="353" y="877"/>
                  </a:lnTo>
                  <a:lnTo>
                    <a:pt x="334" y="870"/>
                  </a:lnTo>
                  <a:lnTo>
                    <a:pt x="315" y="858"/>
                  </a:lnTo>
                  <a:lnTo>
                    <a:pt x="315" y="858"/>
                  </a:lnTo>
                  <a:lnTo>
                    <a:pt x="299" y="846"/>
                  </a:lnTo>
                  <a:lnTo>
                    <a:pt x="284" y="835"/>
                  </a:lnTo>
                  <a:lnTo>
                    <a:pt x="263" y="811"/>
                  </a:lnTo>
                  <a:lnTo>
                    <a:pt x="249" y="790"/>
                  </a:lnTo>
                  <a:lnTo>
                    <a:pt x="242" y="771"/>
                  </a:lnTo>
                  <a:lnTo>
                    <a:pt x="237" y="754"/>
                  </a:lnTo>
                  <a:lnTo>
                    <a:pt x="237" y="742"/>
                  </a:lnTo>
                  <a:lnTo>
                    <a:pt x="237" y="730"/>
                  </a:lnTo>
                  <a:lnTo>
                    <a:pt x="237" y="730"/>
                  </a:lnTo>
                  <a:lnTo>
                    <a:pt x="228" y="737"/>
                  </a:lnTo>
                  <a:lnTo>
                    <a:pt x="213" y="745"/>
                  </a:lnTo>
                  <a:lnTo>
                    <a:pt x="197" y="749"/>
                  </a:lnTo>
                  <a:lnTo>
                    <a:pt x="178" y="752"/>
                  </a:lnTo>
                  <a:lnTo>
                    <a:pt x="157" y="752"/>
                  </a:lnTo>
                  <a:lnTo>
                    <a:pt x="145" y="749"/>
                  </a:lnTo>
                  <a:lnTo>
                    <a:pt x="135" y="745"/>
                  </a:lnTo>
                  <a:lnTo>
                    <a:pt x="123" y="737"/>
                  </a:lnTo>
                  <a:lnTo>
                    <a:pt x="111" y="730"/>
                  </a:lnTo>
                  <a:lnTo>
                    <a:pt x="111" y="730"/>
                  </a:lnTo>
                  <a:lnTo>
                    <a:pt x="102" y="721"/>
                  </a:lnTo>
                  <a:lnTo>
                    <a:pt x="93" y="711"/>
                  </a:lnTo>
                  <a:lnTo>
                    <a:pt x="88" y="700"/>
                  </a:lnTo>
                  <a:lnTo>
                    <a:pt x="83" y="690"/>
                  </a:lnTo>
                  <a:lnTo>
                    <a:pt x="78" y="669"/>
                  </a:lnTo>
                  <a:lnTo>
                    <a:pt x="76" y="650"/>
                  </a:lnTo>
                  <a:lnTo>
                    <a:pt x="78" y="633"/>
                  </a:lnTo>
                  <a:lnTo>
                    <a:pt x="83" y="621"/>
                  </a:lnTo>
                  <a:lnTo>
                    <a:pt x="88" y="609"/>
                  </a:lnTo>
                  <a:lnTo>
                    <a:pt x="88" y="609"/>
                  </a:lnTo>
                  <a:lnTo>
                    <a:pt x="74" y="602"/>
                  </a:lnTo>
                  <a:lnTo>
                    <a:pt x="62" y="593"/>
                  </a:lnTo>
                  <a:lnTo>
                    <a:pt x="45" y="579"/>
                  </a:lnTo>
                  <a:lnTo>
                    <a:pt x="31" y="557"/>
                  </a:lnTo>
                  <a:lnTo>
                    <a:pt x="24" y="545"/>
                  </a:lnTo>
                  <a:lnTo>
                    <a:pt x="17" y="534"/>
                  </a:lnTo>
                  <a:lnTo>
                    <a:pt x="12" y="517"/>
                  </a:lnTo>
                  <a:lnTo>
                    <a:pt x="7" y="500"/>
                  </a:lnTo>
                  <a:lnTo>
                    <a:pt x="5" y="482"/>
                  </a:lnTo>
                  <a:lnTo>
                    <a:pt x="2" y="460"/>
                  </a:lnTo>
                  <a:lnTo>
                    <a:pt x="2" y="463"/>
                  </a:lnTo>
                  <a:lnTo>
                    <a:pt x="0" y="444"/>
                  </a:lnTo>
                  <a:lnTo>
                    <a:pt x="0" y="444"/>
                  </a:lnTo>
                  <a:lnTo>
                    <a:pt x="2" y="422"/>
                  </a:lnTo>
                  <a:lnTo>
                    <a:pt x="5" y="403"/>
                  </a:lnTo>
                  <a:lnTo>
                    <a:pt x="7" y="384"/>
                  </a:lnTo>
                  <a:lnTo>
                    <a:pt x="14" y="370"/>
                  </a:lnTo>
                  <a:lnTo>
                    <a:pt x="26" y="342"/>
                  </a:lnTo>
                  <a:lnTo>
                    <a:pt x="40" y="323"/>
                  </a:lnTo>
                  <a:lnTo>
                    <a:pt x="57" y="306"/>
                  </a:lnTo>
                  <a:lnTo>
                    <a:pt x="69" y="29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6" y="275"/>
                  </a:lnTo>
                  <a:lnTo>
                    <a:pt x="74" y="263"/>
                  </a:lnTo>
                  <a:lnTo>
                    <a:pt x="71" y="247"/>
                  </a:lnTo>
                  <a:lnTo>
                    <a:pt x="71" y="228"/>
                  </a:lnTo>
                  <a:lnTo>
                    <a:pt x="76" y="207"/>
                  </a:lnTo>
                  <a:lnTo>
                    <a:pt x="81" y="197"/>
                  </a:lnTo>
                  <a:lnTo>
                    <a:pt x="88" y="185"/>
                  </a:lnTo>
                  <a:lnTo>
                    <a:pt x="95" y="176"/>
                  </a:lnTo>
                  <a:lnTo>
                    <a:pt x="107" y="166"/>
                  </a:lnTo>
                  <a:lnTo>
                    <a:pt x="107" y="166"/>
                  </a:lnTo>
                  <a:lnTo>
                    <a:pt x="116" y="159"/>
                  </a:lnTo>
                  <a:lnTo>
                    <a:pt x="128" y="152"/>
                  </a:lnTo>
                  <a:lnTo>
                    <a:pt x="140" y="147"/>
                  </a:lnTo>
                  <a:lnTo>
                    <a:pt x="149" y="145"/>
                  </a:lnTo>
                  <a:lnTo>
                    <a:pt x="171" y="145"/>
                  </a:lnTo>
                  <a:lnTo>
                    <a:pt x="192" y="147"/>
                  </a:lnTo>
                  <a:lnTo>
                    <a:pt x="209" y="154"/>
                  </a:lnTo>
                  <a:lnTo>
                    <a:pt x="221" y="159"/>
                  </a:lnTo>
                  <a:lnTo>
                    <a:pt x="232" y="166"/>
                  </a:lnTo>
                  <a:lnTo>
                    <a:pt x="232" y="166"/>
                  </a:lnTo>
                  <a:lnTo>
                    <a:pt x="230" y="157"/>
                  </a:lnTo>
                  <a:lnTo>
                    <a:pt x="232" y="143"/>
                  </a:lnTo>
                  <a:lnTo>
                    <a:pt x="235" y="126"/>
                  </a:lnTo>
                  <a:lnTo>
                    <a:pt x="244" y="107"/>
                  </a:lnTo>
                  <a:lnTo>
                    <a:pt x="258" y="86"/>
                  </a:lnTo>
                  <a:lnTo>
                    <a:pt x="280" y="62"/>
                  </a:lnTo>
                  <a:lnTo>
                    <a:pt x="294" y="50"/>
                  </a:lnTo>
                  <a:lnTo>
                    <a:pt x="311" y="38"/>
                  </a:lnTo>
                  <a:lnTo>
                    <a:pt x="311" y="38"/>
                  </a:lnTo>
                  <a:lnTo>
                    <a:pt x="330" y="27"/>
                  </a:lnTo>
                  <a:lnTo>
                    <a:pt x="346" y="19"/>
                  </a:lnTo>
                  <a:lnTo>
                    <a:pt x="365" y="15"/>
                  </a:lnTo>
                  <a:lnTo>
                    <a:pt x="384" y="15"/>
                  </a:lnTo>
                  <a:lnTo>
                    <a:pt x="401" y="15"/>
                  </a:lnTo>
                  <a:lnTo>
                    <a:pt x="417" y="17"/>
                  </a:lnTo>
                  <a:lnTo>
                    <a:pt x="434" y="19"/>
                  </a:lnTo>
                  <a:lnTo>
                    <a:pt x="448" y="24"/>
                  </a:lnTo>
                  <a:lnTo>
                    <a:pt x="474" y="36"/>
                  </a:lnTo>
                  <a:lnTo>
                    <a:pt x="495" y="48"/>
                  </a:lnTo>
                  <a:lnTo>
                    <a:pt x="512" y="60"/>
                  </a:lnTo>
                  <a:lnTo>
                    <a:pt x="512" y="60"/>
                  </a:lnTo>
                  <a:lnTo>
                    <a:pt x="514" y="50"/>
                  </a:lnTo>
                  <a:lnTo>
                    <a:pt x="517" y="41"/>
                  </a:lnTo>
                  <a:lnTo>
                    <a:pt x="524" y="29"/>
                  </a:lnTo>
                  <a:lnTo>
                    <a:pt x="533" y="19"/>
                  </a:lnTo>
                  <a:lnTo>
                    <a:pt x="548" y="10"/>
                  </a:lnTo>
                  <a:lnTo>
                    <a:pt x="566" y="3"/>
                  </a:lnTo>
                  <a:lnTo>
                    <a:pt x="578" y="0"/>
                  </a:lnTo>
                  <a:lnTo>
                    <a:pt x="593" y="0"/>
                  </a:lnTo>
                  <a:lnTo>
                    <a:pt x="593" y="0"/>
                  </a:lnTo>
                  <a:lnTo>
                    <a:pt x="604" y="0"/>
                  </a:lnTo>
                  <a:lnTo>
                    <a:pt x="616" y="3"/>
                  </a:lnTo>
                  <a:lnTo>
                    <a:pt x="635" y="10"/>
                  </a:lnTo>
                  <a:lnTo>
                    <a:pt x="649" y="19"/>
                  </a:lnTo>
                  <a:lnTo>
                    <a:pt x="659" y="29"/>
                  </a:lnTo>
                  <a:lnTo>
                    <a:pt x="666" y="41"/>
                  </a:lnTo>
                  <a:lnTo>
                    <a:pt x="668" y="50"/>
                  </a:lnTo>
                  <a:lnTo>
                    <a:pt x="671" y="60"/>
                  </a:lnTo>
                  <a:lnTo>
                    <a:pt x="671" y="62"/>
                  </a:lnTo>
                  <a:lnTo>
                    <a:pt x="671" y="62"/>
                  </a:lnTo>
                  <a:lnTo>
                    <a:pt x="687" y="48"/>
                  </a:lnTo>
                  <a:lnTo>
                    <a:pt x="709" y="36"/>
                  </a:lnTo>
                  <a:lnTo>
                    <a:pt x="735" y="27"/>
                  </a:lnTo>
                  <a:lnTo>
                    <a:pt x="749" y="22"/>
                  </a:lnTo>
                  <a:lnTo>
                    <a:pt x="766" y="17"/>
                  </a:lnTo>
                  <a:lnTo>
                    <a:pt x="782" y="15"/>
                  </a:lnTo>
                  <a:lnTo>
                    <a:pt x="801" y="15"/>
                  </a:lnTo>
                  <a:lnTo>
                    <a:pt x="818" y="17"/>
                  </a:lnTo>
                  <a:lnTo>
                    <a:pt x="837" y="22"/>
                  </a:lnTo>
                  <a:lnTo>
                    <a:pt x="853" y="29"/>
                  </a:lnTo>
                  <a:lnTo>
                    <a:pt x="872" y="38"/>
                  </a:lnTo>
                  <a:lnTo>
                    <a:pt x="872" y="38"/>
                  </a:lnTo>
                  <a:lnTo>
                    <a:pt x="889" y="53"/>
                  </a:lnTo>
                  <a:lnTo>
                    <a:pt x="903" y="64"/>
                  </a:lnTo>
                  <a:lnTo>
                    <a:pt x="924" y="88"/>
                  </a:lnTo>
                  <a:lnTo>
                    <a:pt x="941" y="109"/>
                  </a:lnTo>
                  <a:lnTo>
                    <a:pt x="948" y="128"/>
                  </a:lnTo>
                  <a:lnTo>
                    <a:pt x="953" y="145"/>
                  </a:lnTo>
                  <a:lnTo>
                    <a:pt x="953" y="157"/>
                  </a:lnTo>
                  <a:lnTo>
                    <a:pt x="950" y="169"/>
                  </a:lnTo>
                  <a:lnTo>
                    <a:pt x="950" y="169"/>
                  </a:lnTo>
                  <a:lnTo>
                    <a:pt x="962" y="162"/>
                  </a:lnTo>
                  <a:lnTo>
                    <a:pt x="976" y="154"/>
                  </a:lnTo>
                  <a:lnTo>
                    <a:pt x="993" y="150"/>
                  </a:lnTo>
                  <a:lnTo>
                    <a:pt x="1012" y="145"/>
                  </a:lnTo>
                  <a:lnTo>
                    <a:pt x="1033" y="147"/>
                  </a:lnTo>
                  <a:lnTo>
                    <a:pt x="1043" y="150"/>
                  </a:lnTo>
                  <a:lnTo>
                    <a:pt x="1055" y="154"/>
                  </a:lnTo>
                  <a:lnTo>
                    <a:pt x="1066" y="159"/>
                  </a:lnTo>
                  <a:lnTo>
                    <a:pt x="1078" y="169"/>
                  </a:lnTo>
                  <a:lnTo>
                    <a:pt x="1078" y="169"/>
                  </a:lnTo>
                  <a:lnTo>
                    <a:pt x="1088" y="178"/>
                  </a:lnTo>
                  <a:lnTo>
                    <a:pt x="1095" y="188"/>
                  </a:lnTo>
                  <a:lnTo>
                    <a:pt x="1102" y="197"/>
                  </a:lnTo>
                  <a:lnTo>
                    <a:pt x="1107" y="209"/>
                  </a:lnTo>
                  <a:lnTo>
                    <a:pt x="1111" y="228"/>
                  </a:lnTo>
                  <a:lnTo>
                    <a:pt x="1111" y="247"/>
                  </a:lnTo>
                  <a:lnTo>
                    <a:pt x="1109" y="263"/>
                  </a:lnTo>
                  <a:lnTo>
                    <a:pt x="1107" y="278"/>
                  </a:lnTo>
                  <a:lnTo>
                    <a:pt x="1102" y="290"/>
                  </a:lnTo>
                  <a:lnTo>
                    <a:pt x="1102" y="290"/>
                  </a:lnTo>
                  <a:lnTo>
                    <a:pt x="1114" y="297"/>
                  </a:lnTo>
                  <a:lnTo>
                    <a:pt x="1126" y="309"/>
                  </a:lnTo>
                  <a:lnTo>
                    <a:pt x="1142" y="323"/>
                  </a:lnTo>
                  <a:lnTo>
                    <a:pt x="1157" y="344"/>
                  </a:lnTo>
                  <a:lnTo>
                    <a:pt x="1168" y="370"/>
                  </a:lnTo>
                  <a:lnTo>
                    <a:pt x="1175" y="387"/>
                  </a:lnTo>
                  <a:lnTo>
                    <a:pt x="1178" y="403"/>
                  </a:lnTo>
                  <a:lnTo>
                    <a:pt x="1180" y="422"/>
                  </a:lnTo>
                  <a:lnTo>
                    <a:pt x="1183" y="444"/>
                  </a:lnTo>
                  <a:lnTo>
                    <a:pt x="1183" y="446"/>
                  </a:lnTo>
                  <a:lnTo>
                    <a:pt x="1183" y="446"/>
                  </a:lnTo>
                  <a:lnTo>
                    <a:pt x="1183" y="467"/>
                  </a:lnTo>
                  <a:lnTo>
                    <a:pt x="1180" y="486"/>
                  </a:lnTo>
                  <a:lnTo>
                    <a:pt x="1175" y="505"/>
                  </a:lnTo>
                  <a:lnTo>
                    <a:pt x="1171" y="522"/>
                  </a:lnTo>
                  <a:lnTo>
                    <a:pt x="1159" y="548"/>
                  </a:lnTo>
                  <a:lnTo>
                    <a:pt x="1145" y="572"/>
                  </a:lnTo>
                  <a:lnTo>
                    <a:pt x="1130" y="588"/>
                  </a:lnTo>
                  <a:lnTo>
                    <a:pt x="1119" y="600"/>
                  </a:lnTo>
                  <a:lnTo>
                    <a:pt x="1107" y="609"/>
                  </a:lnTo>
                  <a:lnTo>
                    <a:pt x="1107" y="609"/>
                  </a:lnTo>
                  <a:lnTo>
                    <a:pt x="1111" y="621"/>
                  </a:lnTo>
                  <a:lnTo>
                    <a:pt x="1116" y="636"/>
                  </a:lnTo>
                  <a:lnTo>
                    <a:pt x="1119" y="652"/>
                  </a:lnTo>
                  <a:lnTo>
                    <a:pt x="1119" y="671"/>
                  </a:lnTo>
                  <a:lnTo>
                    <a:pt x="1111" y="692"/>
                  </a:lnTo>
                  <a:lnTo>
                    <a:pt x="1109" y="702"/>
                  </a:lnTo>
                  <a:lnTo>
                    <a:pt x="1102" y="711"/>
                  </a:lnTo>
                  <a:lnTo>
                    <a:pt x="1093" y="721"/>
                  </a:lnTo>
                  <a:lnTo>
                    <a:pt x="1083" y="733"/>
                  </a:lnTo>
                  <a:lnTo>
                    <a:pt x="1083" y="733"/>
                  </a:lnTo>
                  <a:lnTo>
                    <a:pt x="1071" y="740"/>
                  </a:lnTo>
                  <a:lnTo>
                    <a:pt x="1062" y="747"/>
                  </a:lnTo>
                  <a:lnTo>
                    <a:pt x="1050" y="749"/>
                  </a:lnTo>
                  <a:lnTo>
                    <a:pt x="1038" y="752"/>
                  </a:lnTo>
                  <a:lnTo>
                    <a:pt x="1017" y="754"/>
                  </a:lnTo>
                  <a:lnTo>
                    <a:pt x="998" y="752"/>
                  </a:lnTo>
                  <a:lnTo>
                    <a:pt x="981" y="745"/>
                  </a:lnTo>
                  <a:lnTo>
                    <a:pt x="969" y="740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57" y="742"/>
                  </a:lnTo>
                  <a:lnTo>
                    <a:pt x="957" y="756"/>
                  </a:lnTo>
                  <a:lnTo>
                    <a:pt x="955" y="771"/>
                  </a:lnTo>
                  <a:lnTo>
                    <a:pt x="946" y="792"/>
                  </a:lnTo>
                  <a:lnTo>
                    <a:pt x="931" y="813"/>
                  </a:lnTo>
                  <a:lnTo>
                    <a:pt x="910" y="837"/>
                  </a:lnTo>
                  <a:lnTo>
                    <a:pt x="896" y="849"/>
                  </a:lnTo>
                  <a:lnTo>
                    <a:pt x="879" y="861"/>
                  </a:lnTo>
                  <a:lnTo>
                    <a:pt x="879" y="861"/>
                  </a:lnTo>
                  <a:lnTo>
                    <a:pt x="860" y="870"/>
                  </a:lnTo>
                  <a:lnTo>
                    <a:pt x="841" y="877"/>
                  </a:lnTo>
                  <a:lnTo>
                    <a:pt x="825" y="882"/>
                  </a:lnTo>
                  <a:lnTo>
                    <a:pt x="806" y="884"/>
                  </a:lnTo>
                  <a:lnTo>
                    <a:pt x="789" y="884"/>
                  </a:lnTo>
                  <a:lnTo>
                    <a:pt x="773" y="882"/>
                  </a:lnTo>
                  <a:lnTo>
                    <a:pt x="756" y="880"/>
                  </a:lnTo>
                  <a:lnTo>
                    <a:pt x="742" y="875"/>
                  </a:lnTo>
                  <a:lnTo>
                    <a:pt x="713" y="863"/>
                  </a:lnTo>
                  <a:lnTo>
                    <a:pt x="694" y="851"/>
                  </a:lnTo>
                  <a:lnTo>
                    <a:pt x="675" y="839"/>
                  </a:lnTo>
                  <a:lnTo>
                    <a:pt x="675" y="839"/>
                  </a:lnTo>
                  <a:lnTo>
                    <a:pt x="675" y="849"/>
                  </a:lnTo>
                  <a:lnTo>
                    <a:pt x="671" y="858"/>
                  </a:lnTo>
                  <a:lnTo>
                    <a:pt x="666" y="868"/>
                  </a:lnTo>
                  <a:lnTo>
                    <a:pt x="657" y="880"/>
                  </a:lnTo>
                  <a:lnTo>
                    <a:pt x="642" y="889"/>
                  </a:lnTo>
                  <a:lnTo>
                    <a:pt x="623" y="896"/>
                  </a:lnTo>
                  <a:lnTo>
                    <a:pt x="611" y="899"/>
                  </a:lnTo>
                  <a:lnTo>
                    <a:pt x="597" y="899"/>
                  </a:lnTo>
                  <a:lnTo>
                    <a:pt x="597" y="899"/>
                  </a:lnTo>
                  <a:lnTo>
                    <a:pt x="583" y="899"/>
                  </a:lnTo>
                  <a:lnTo>
                    <a:pt x="571" y="896"/>
                  </a:lnTo>
                  <a:lnTo>
                    <a:pt x="552" y="889"/>
                  </a:lnTo>
                  <a:lnTo>
                    <a:pt x="538" y="880"/>
                  </a:lnTo>
                  <a:lnTo>
                    <a:pt x="529" y="868"/>
                  </a:lnTo>
                  <a:lnTo>
                    <a:pt x="524" y="858"/>
                  </a:lnTo>
                  <a:lnTo>
                    <a:pt x="521" y="849"/>
                  </a:lnTo>
                  <a:lnTo>
                    <a:pt x="519" y="839"/>
                  </a:lnTo>
                </a:path>
              </a:pathLst>
            </a:custGeom>
            <a:noFill/>
            <a:ln w="7920">
              <a:solidFill>
                <a:srgbClr val="00a0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5160" y="4208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0"/>
                  </a:moveTo>
                  <a:lnTo>
                    <a:pt x="15" y="52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89280" y="3963960"/>
              <a:ext cx="1440" cy="263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5160" y="3485880"/>
              <a:ext cx="46080" cy="8280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0"/>
                  </a:moveTo>
                  <a:lnTo>
                    <a:pt x="15" y="52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89280" y="3249360"/>
              <a:ext cx="1440" cy="26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84520" y="3966840"/>
              <a:ext cx="44640" cy="8280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8" y="52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06840" y="4027320"/>
              <a:ext cx="1800" cy="263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4520" y="325260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8" y="52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06840" y="3315960"/>
              <a:ext cx="1800" cy="25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84520" y="468612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8" y="52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9280" y="4682880"/>
              <a:ext cx="360360" cy="939960"/>
            </a:xfrm>
            <a:custGeom>
              <a:avLst/>
              <a:gdLst/>
              <a:ahLst/>
              <a:rect l="l" t="t" r="r" b="b"/>
              <a:pathLst>
                <a:path w="227" h="592">
                  <a:moveTo>
                    <a:pt x="0" y="0"/>
                  </a:moveTo>
                  <a:lnTo>
                    <a:pt x="0" y="592"/>
                  </a:lnTo>
                  <a:lnTo>
                    <a:pt x="227" y="59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1800" y="4738320"/>
              <a:ext cx="365040" cy="884520"/>
            </a:xfrm>
            <a:custGeom>
              <a:avLst/>
              <a:gdLst/>
              <a:ahLst/>
              <a:rect l="l" t="t" r="r" b="b"/>
              <a:pathLst>
                <a:path w="230" h="557">
                  <a:moveTo>
                    <a:pt x="0" y="557"/>
                  </a:moveTo>
                  <a:lnTo>
                    <a:pt x="230" y="557"/>
                  </a:lnTo>
                  <a:lnTo>
                    <a:pt x="23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81240" y="261288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59440" y="261288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46920" y="29365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1720" y="30794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6640" y="29365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9280" y="30794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68520" y="363672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3720" y="3565440"/>
              <a:ext cx="71280" cy="40140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11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68520" y="3565440"/>
              <a:ext cx="636480" cy="7128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5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2520" y="3733560"/>
              <a:ext cx="23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22360" y="3331800"/>
              <a:ext cx="379440" cy="1684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1800" y="3309840"/>
              <a:ext cx="30240" cy="19044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0"/>
                  </a:moveTo>
                  <a:lnTo>
                    <a:pt x="19" y="104"/>
                  </a:lnTo>
                  <a:lnTo>
                    <a:pt x="0" y="120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22360" y="3309840"/>
              <a:ext cx="409680" cy="21960"/>
            </a:xfrm>
            <a:custGeom>
              <a:avLst/>
              <a:gdLst/>
              <a:ahLst/>
              <a:rect l="l" t="t" r="r" b="b"/>
              <a:pathLst>
                <a:path w="258" h="14">
                  <a:moveTo>
                    <a:pt x="0" y="14"/>
                  </a:moveTo>
                  <a:lnTo>
                    <a:pt x="16" y="0"/>
                  </a:lnTo>
                  <a:lnTo>
                    <a:pt x="258" y="0"/>
                  </a:lnTo>
                  <a:lnTo>
                    <a:pt x="23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2320" y="33462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67320" y="3331800"/>
              <a:ext cx="379440" cy="1684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46760" y="3309840"/>
              <a:ext cx="29880" cy="19044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0"/>
                  </a:moveTo>
                  <a:lnTo>
                    <a:pt x="19" y="104"/>
                  </a:lnTo>
                  <a:lnTo>
                    <a:pt x="0" y="120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7320" y="3309840"/>
              <a:ext cx="409320" cy="21960"/>
            </a:xfrm>
            <a:custGeom>
              <a:avLst/>
              <a:gdLst/>
              <a:ahLst/>
              <a:rect l="l" t="t" r="r" b="b"/>
              <a:pathLst>
                <a:path w="258" h="14">
                  <a:moveTo>
                    <a:pt x="0" y="14"/>
                  </a:moveTo>
                  <a:lnTo>
                    <a:pt x="16" y="0"/>
                  </a:lnTo>
                  <a:lnTo>
                    <a:pt x="258" y="0"/>
                  </a:lnTo>
                  <a:lnTo>
                    <a:pt x="23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06920" y="33462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68520" y="435924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33720" y="4287600"/>
              <a:ext cx="71280" cy="40176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08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8520" y="4287600"/>
              <a:ext cx="636480" cy="7164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5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5320" y="44640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H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86080" y="363672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1280" y="3565440"/>
              <a:ext cx="71640" cy="40140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11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86080" y="3565440"/>
              <a:ext cx="636840" cy="7128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6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31880" y="3733560"/>
              <a:ext cx="23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6080" y="4359240"/>
              <a:ext cx="565200" cy="330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51280" y="4287600"/>
              <a:ext cx="71640" cy="401760"/>
            </a:xfrm>
            <a:custGeom>
              <a:avLst/>
              <a:gdLst/>
              <a:ahLst/>
              <a:rect l="l" t="t" r="r" b="b"/>
              <a:pathLst>
                <a:path w="45" h="253">
                  <a:moveTo>
                    <a:pt x="45" y="0"/>
                  </a:moveTo>
                  <a:lnTo>
                    <a:pt x="45" y="208"/>
                  </a:lnTo>
                  <a:lnTo>
                    <a:pt x="0" y="253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86080" y="4287600"/>
              <a:ext cx="636840" cy="71640"/>
            </a:xfrm>
            <a:custGeom>
              <a:avLst/>
              <a:gdLst/>
              <a:ahLst/>
              <a:rect l="l" t="t" r="r" b="b"/>
              <a:pathLst>
                <a:path w="401" h="45">
                  <a:moveTo>
                    <a:pt x="0" y="45"/>
                  </a:moveTo>
                  <a:lnTo>
                    <a:pt x="46" y="0"/>
                  </a:lnTo>
                  <a:lnTo>
                    <a:pt x="401" y="0"/>
                  </a:lnTo>
                  <a:lnTo>
                    <a:pt x="35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24680" y="44640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H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35040" y="2846160"/>
              <a:ext cx="65412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89160" y="2793960"/>
              <a:ext cx="52200" cy="458640"/>
            </a:xfrm>
            <a:custGeom>
              <a:avLst/>
              <a:gdLst/>
              <a:ahLst/>
              <a:rect l="l" t="t" r="r" b="b"/>
              <a:pathLst>
                <a:path w="33" h="289">
                  <a:moveTo>
                    <a:pt x="33" y="0"/>
                  </a:moveTo>
                  <a:lnTo>
                    <a:pt x="33" y="258"/>
                  </a:lnTo>
                  <a:lnTo>
                    <a:pt x="0" y="289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35040" y="2793960"/>
              <a:ext cx="706320" cy="52200"/>
            </a:xfrm>
            <a:custGeom>
              <a:avLst/>
              <a:gdLst/>
              <a:ahLst/>
              <a:rect l="l" t="t" r="r" b="b"/>
              <a:pathLst>
                <a:path w="445" h="33">
                  <a:moveTo>
                    <a:pt x="0" y="33"/>
                  </a:moveTo>
                  <a:lnTo>
                    <a:pt x="33" y="0"/>
                  </a:lnTo>
                  <a:lnTo>
                    <a:pt x="445" y="0"/>
                  </a:lnTo>
                  <a:lnTo>
                    <a:pt x="41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1720" y="290664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86160" y="30495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52960" y="2846160"/>
              <a:ext cx="65412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07080" y="2793960"/>
              <a:ext cx="54000" cy="458640"/>
            </a:xfrm>
            <a:custGeom>
              <a:avLst/>
              <a:gdLst/>
              <a:ahLst/>
              <a:rect l="l" t="t" r="r" b="b"/>
              <a:pathLst>
                <a:path w="34" h="289">
                  <a:moveTo>
                    <a:pt x="34" y="0"/>
                  </a:moveTo>
                  <a:lnTo>
                    <a:pt x="34" y="258"/>
                  </a:lnTo>
                  <a:lnTo>
                    <a:pt x="0" y="289"/>
                  </a:lnTo>
                  <a:lnTo>
                    <a:pt x="0" y="3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2960" y="2793960"/>
              <a:ext cx="708120" cy="52200"/>
            </a:xfrm>
            <a:custGeom>
              <a:avLst/>
              <a:gdLst/>
              <a:ahLst/>
              <a:rect l="l" t="t" r="r" b="b"/>
              <a:pathLst>
                <a:path w="446" h="33">
                  <a:moveTo>
                    <a:pt x="0" y="33"/>
                  </a:moveTo>
                  <a:lnTo>
                    <a:pt x="33" y="0"/>
                  </a:lnTo>
                  <a:lnTo>
                    <a:pt x="446" y="0"/>
                  </a:lnTo>
                  <a:lnTo>
                    <a:pt x="41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39640" y="290664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4080" y="30495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84320" y="4038480"/>
              <a:ext cx="717480" cy="169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1800" y="40161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9" y="0"/>
                  </a:moveTo>
                  <a:lnTo>
                    <a:pt x="19" y="104"/>
                  </a:lnTo>
                  <a:lnTo>
                    <a:pt x="0" y="121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84320" y="4016160"/>
              <a:ext cx="747720" cy="22320"/>
            </a:xfrm>
            <a:custGeom>
              <a:avLst/>
              <a:gdLst/>
              <a:ahLst/>
              <a:rect l="l" t="t" r="r" b="b"/>
              <a:pathLst>
                <a:path w="471" h="14">
                  <a:moveTo>
                    <a:pt x="0" y="14"/>
                  </a:moveTo>
                  <a:lnTo>
                    <a:pt x="16" y="0"/>
                  </a:lnTo>
                  <a:lnTo>
                    <a:pt x="471" y="0"/>
                  </a:lnTo>
                  <a:lnTo>
                    <a:pt x="45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16280" y="405252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 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   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25600" y="403848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67320" y="4038480"/>
              <a:ext cx="717480" cy="169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84800" y="40161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9" y="0"/>
                  </a:moveTo>
                  <a:lnTo>
                    <a:pt x="19" y="104"/>
                  </a:lnTo>
                  <a:lnTo>
                    <a:pt x="0" y="121"/>
                  </a:lnTo>
                  <a:lnTo>
                    <a:pt x="0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67320" y="4016160"/>
              <a:ext cx="747720" cy="22320"/>
            </a:xfrm>
            <a:custGeom>
              <a:avLst/>
              <a:gdLst/>
              <a:ahLst/>
              <a:rect l="l" t="t" r="r" b="b"/>
              <a:pathLst>
                <a:path w="471" h="14">
                  <a:moveTo>
                    <a:pt x="0" y="14"/>
                  </a:moveTo>
                  <a:lnTo>
                    <a:pt x="16" y="0"/>
                  </a:lnTo>
                  <a:lnTo>
                    <a:pt x="471" y="0"/>
                  </a:lnTo>
                  <a:lnTo>
                    <a:pt x="45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01080" y="4052520"/>
              <a:ext cx="75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RRP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08600" y="403848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84440" y="5540040"/>
              <a:ext cx="1173240" cy="1652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57680" y="551808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17" y="0"/>
                  </a:moveTo>
                  <a:lnTo>
                    <a:pt x="17" y="104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4440" y="5518080"/>
              <a:ext cx="1200240" cy="21960"/>
            </a:xfrm>
            <a:custGeom>
              <a:avLst/>
              <a:gdLst/>
              <a:ahLst/>
              <a:rect l="l" t="t" r="r" b="b"/>
              <a:pathLst>
                <a:path w="756" h="14">
                  <a:moveTo>
                    <a:pt x="0" y="14"/>
                  </a:moveTo>
                  <a:lnTo>
                    <a:pt x="17" y="0"/>
                  </a:lnTo>
                  <a:lnTo>
                    <a:pt x="756" y="0"/>
                  </a:lnTo>
                  <a:lnTo>
                    <a:pt x="73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18120" y="555444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yriad Roman"/>
                </a:rPr>
                <a:t>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HHP    RRP   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49480" y="5540040"/>
              <a:ext cx="180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21000" y="5540040"/>
              <a:ext cx="1440" cy="16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7EC-795E-4E59-8BB1-8A316EC64D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by 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vs Application Protocol (FTP,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25640" y="3232080"/>
            <a:ext cx="3675240" cy="2792520"/>
            <a:chOff x="2825640" y="3232080"/>
            <a:chExt cx="3675240" cy="2792520"/>
          </a:xfrm>
        </p:grpSpPr>
        <p:sp>
          <p:nvSpPr>
            <p:cNvPr id="388" name=""/>
            <p:cNvSpPr/>
            <p:nvPr/>
          </p:nvSpPr>
          <p:spPr>
            <a:xfrm>
              <a:off x="5143680" y="5749920"/>
              <a:ext cx="25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57560" y="3710160"/>
              <a:ext cx="4906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889080" y="3710160"/>
              <a:ext cx="23652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86440" y="3703680"/>
              <a:ext cx="3571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660640" y="3703680"/>
              <a:ext cx="3985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86120" y="4440240"/>
              <a:ext cx="6541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825800" y="4440240"/>
              <a:ext cx="67140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411000" y="5167440"/>
              <a:ext cx="10162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541400" y="5167440"/>
              <a:ext cx="968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56040" y="5167080"/>
              <a:ext cx="12700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25640" y="334656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90920" y="3232080"/>
              <a:ext cx="114120" cy="47808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25640" y="3232080"/>
              <a:ext cx="779400" cy="114480"/>
            </a:xfrm>
            <a:custGeom>
              <a:avLst/>
              <a:gdLst/>
              <a:ahLst/>
              <a:rect l="l" t="t" r="r" b="b"/>
              <a:pathLst>
                <a:path w="491" h="72">
                  <a:moveTo>
                    <a:pt x="0" y="72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63960" y="3432240"/>
              <a:ext cx="32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94080" y="4175280"/>
              <a:ext cx="665280" cy="3682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9360" y="4059360"/>
              <a:ext cx="114120" cy="484200"/>
            </a:xfrm>
            <a:custGeom>
              <a:avLst/>
              <a:gdLst/>
              <a:ahLst/>
              <a:rect l="l" t="t" r="r" b="b"/>
              <a:pathLst>
                <a:path w="72" h="305">
                  <a:moveTo>
                    <a:pt x="72" y="0"/>
                  </a:moveTo>
                  <a:lnTo>
                    <a:pt x="72" y="233"/>
                  </a:lnTo>
                  <a:lnTo>
                    <a:pt x="0" y="305"/>
                  </a:lnTo>
                  <a:lnTo>
                    <a:pt x="0" y="7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94080" y="4059360"/>
              <a:ext cx="779400" cy="115920"/>
            </a:xfrm>
            <a:custGeom>
              <a:avLst/>
              <a:gdLst/>
              <a:ahLst/>
              <a:rect l="l" t="t" r="r" b="b"/>
              <a:pathLst>
                <a:path w="491" h="73">
                  <a:moveTo>
                    <a:pt x="0" y="73"/>
                  </a:moveTo>
                  <a:lnTo>
                    <a:pt x="76" y="0"/>
                  </a:lnTo>
                  <a:lnTo>
                    <a:pt x="491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0520" y="42609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TC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0200" y="416232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75480" y="4048200"/>
              <a:ext cx="11556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10200" y="4048200"/>
              <a:ext cx="780840" cy="114120"/>
            </a:xfrm>
            <a:custGeom>
              <a:avLst/>
              <a:gdLst/>
              <a:ahLst/>
              <a:rect l="l" t="t" r="r" b="b"/>
              <a:pathLst>
                <a:path w="492" h="72">
                  <a:moveTo>
                    <a:pt x="0" y="72"/>
                  </a:moveTo>
                  <a:lnTo>
                    <a:pt x="77" y="0"/>
                  </a:lnTo>
                  <a:lnTo>
                    <a:pt x="492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12520" y="424188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UD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53040" y="4846680"/>
              <a:ext cx="663480" cy="3618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16520" y="473076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53040" y="4730760"/>
              <a:ext cx="779400" cy="115920"/>
            </a:xfrm>
            <a:custGeom>
              <a:avLst/>
              <a:gdLst/>
              <a:ahLst/>
              <a:rect l="l" t="t" r="r" b="b"/>
              <a:pathLst>
                <a:path w="491" h="73">
                  <a:moveTo>
                    <a:pt x="0" y="73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8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45720" y="4930920"/>
              <a:ext cx="18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I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0240" y="5662440"/>
              <a:ext cx="665280" cy="362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65520" y="5546880"/>
              <a:ext cx="114480" cy="47772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00240" y="5546880"/>
              <a:ext cx="779760" cy="115560"/>
            </a:xfrm>
            <a:custGeom>
              <a:avLst/>
              <a:gdLst/>
              <a:ahLst/>
              <a:rect l="l" t="t" r="r" b="b"/>
              <a:pathLst>
                <a:path w="491" h="73">
                  <a:moveTo>
                    <a:pt x="0" y="73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9000" y="5742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0160" y="58374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0640" y="5662440"/>
              <a:ext cx="665280" cy="362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95920" y="554688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30640" y="5546880"/>
              <a:ext cx="781200" cy="115560"/>
            </a:xfrm>
            <a:custGeom>
              <a:avLst/>
              <a:gdLst/>
              <a:ahLst/>
              <a:rect l="l" t="t" r="r" b="b"/>
              <a:pathLst>
                <a:path w="492" h="73">
                  <a:moveTo>
                    <a:pt x="0" y="73"/>
                  </a:moveTo>
                  <a:lnTo>
                    <a:pt x="73" y="0"/>
                  </a:lnTo>
                  <a:lnTo>
                    <a:pt x="492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90840" y="5742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55880" y="583740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4760" y="5662440"/>
              <a:ext cx="665280" cy="362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50040" y="554688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9"/>
                  </a:lnTo>
                  <a:lnTo>
                    <a:pt x="0" y="301"/>
                  </a:lnTo>
                  <a:lnTo>
                    <a:pt x="0" y="7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4760" y="5546880"/>
              <a:ext cx="781200" cy="115560"/>
            </a:xfrm>
            <a:custGeom>
              <a:avLst/>
              <a:gdLst/>
              <a:ahLst/>
              <a:rect l="l" t="t" r="r" b="b"/>
              <a:pathLst>
                <a:path w="492" h="73">
                  <a:moveTo>
                    <a:pt x="0" y="73"/>
                  </a:moveTo>
                  <a:lnTo>
                    <a:pt x="73" y="0"/>
                  </a:lnTo>
                  <a:lnTo>
                    <a:pt x="492" y="0"/>
                  </a:lnTo>
                  <a:lnTo>
                    <a:pt x="41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44960" y="574200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13240" y="583740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Myriad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1400" y="3232080"/>
              <a:ext cx="115920" cy="47808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3" y="0"/>
                  </a:moveTo>
                  <a:lnTo>
                    <a:pt x="73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86120" y="334656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86120" y="3232080"/>
              <a:ext cx="781200" cy="114480"/>
            </a:xfrm>
            <a:custGeom>
              <a:avLst/>
              <a:gdLst/>
              <a:ahLst/>
              <a:rect l="l" t="t" r="r" b="b"/>
              <a:pathLst>
                <a:path w="492" h="72">
                  <a:moveTo>
                    <a:pt x="0" y="72"/>
                  </a:moveTo>
                  <a:lnTo>
                    <a:pt x="76" y="0"/>
                  </a:lnTo>
                  <a:lnTo>
                    <a:pt x="492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440" y="3432240"/>
              <a:ext cx="4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HT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9800" y="3232080"/>
              <a:ext cx="114120" cy="47808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54520" y="3346560"/>
              <a:ext cx="66528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54520" y="3232080"/>
              <a:ext cx="779400" cy="114480"/>
            </a:xfrm>
            <a:custGeom>
              <a:avLst/>
              <a:gdLst/>
              <a:ahLst/>
              <a:rect l="l" t="t" r="r" b="b"/>
              <a:pathLst>
                <a:path w="491" h="72">
                  <a:moveTo>
                    <a:pt x="0" y="72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96080" y="3432240"/>
              <a:ext cx="25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N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21480" y="3346560"/>
              <a:ext cx="66492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6400" y="3232080"/>
              <a:ext cx="114480" cy="478080"/>
            </a:xfrm>
            <a:custGeom>
              <a:avLst/>
              <a:gdLst/>
              <a:ahLst/>
              <a:rect l="l" t="t" r="r" b="b"/>
              <a:pathLst>
                <a:path w="72" h="301">
                  <a:moveTo>
                    <a:pt x="72" y="0"/>
                  </a:moveTo>
                  <a:lnTo>
                    <a:pt x="72" y="228"/>
                  </a:lnTo>
                  <a:lnTo>
                    <a:pt x="0" y="30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1480" y="3232080"/>
              <a:ext cx="779400" cy="114480"/>
            </a:xfrm>
            <a:custGeom>
              <a:avLst/>
              <a:gdLst/>
              <a:ahLst/>
              <a:rect l="l" t="t" r="r" b="b"/>
              <a:pathLst>
                <a:path w="491" h="72">
                  <a:moveTo>
                    <a:pt x="0" y="72"/>
                  </a:moveTo>
                  <a:lnTo>
                    <a:pt x="72" y="0"/>
                  </a:lnTo>
                  <a:lnTo>
                    <a:pt x="491" y="0"/>
                  </a:lnTo>
                  <a:lnTo>
                    <a:pt x="41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2920" y="3432240"/>
              <a:ext cx="42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Myriad Roman"/>
                </a:rPr>
                <a:t>T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171-330B-4D28-8983-B9F571419C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Architec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2" name="01x13" descr=""/>
          <p:cNvPicPr/>
          <p:nvPr/>
        </p:nvPicPr>
        <p:blipFill>
          <a:blip r:embed="rId1"/>
          <a:stretch/>
        </p:blipFill>
        <p:spPr>
          <a:xfrm>
            <a:off x="1989000" y="1741320"/>
            <a:ext cx="5477040" cy="41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63F-E244-419A-93DB-D64C19458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erformance Metri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(through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mitted per tim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versus end-to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B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ps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(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o send message from point A to poi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 versus round-trip time (R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= Propagation + Transmit +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= Distance /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= Size /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D09-EAC9-4C1E-8454-48E6316777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andwidth versus Latenc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yte: 1ms vs 100ms dominates 1Mbps vs 100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MB: 1Mbps vs 100Mbps dominates 1ms vs 10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= TransferSize / Transf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Time = RTT + 1/Bandwidth x Transfer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M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-Gbps link as 1-K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1-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AA8-44D0-43AC-AF1A-08FAF18BC9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Bloc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: PC, special-purpose hard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: coax cable, optical fib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66080" y="5497560"/>
            <a:ext cx="444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  <a:ea typeface="Times New Roman"/>
              </a:rPr>
              <a:t>■ ■ 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78720" y="4019400"/>
            <a:ext cx="4120560" cy="2097360"/>
            <a:chOff x="3978720" y="4019400"/>
            <a:chExt cx="4120560" cy="2097360"/>
          </a:xfrm>
        </p:grpSpPr>
        <p:sp>
          <p:nvSpPr>
            <p:cNvPr id="47" name=""/>
            <p:cNvSpPr/>
            <p:nvPr/>
          </p:nvSpPr>
          <p:spPr>
            <a:xfrm>
              <a:off x="3992760" y="422928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78720" y="53895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yriad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2120" y="5398920"/>
              <a:ext cx="434880" cy="38160"/>
            </a:xfrm>
            <a:custGeom>
              <a:avLst/>
              <a:gdLst/>
              <a:ahLst/>
              <a:rect l="l" t="t" r="r" b="b"/>
              <a:pathLst>
                <a:path w="274" h="24">
                  <a:moveTo>
                    <a:pt x="0" y="24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4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72120" y="5437080"/>
              <a:ext cx="43488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57720" y="5567400"/>
              <a:ext cx="46512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57720" y="5529240"/>
              <a:ext cx="465120" cy="38160"/>
            </a:xfrm>
            <a:custGeom>
              <a:avLst/>
              <a:gdLst/>
              <a:ahLst/>
              <a:rect l="l" t="t" r="r" b="b"/>
              <a:pathLst>
                <a:path w="293" h="24">
                  <a:moveTo>
                    <a:pt x="0" y="24"/>
                  </a:moveTo>
                  <a:lnTo>
                    <a:pt x="31" y="0"/>
                  </a:lnTo>
                  <a:lnTo>
                    <a:pt x="262" y="0"/>
                  </a:lnTo>
                  <a:lnTo>
                    <a:pt x="293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35480" y="519120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35480" y="5219640"/>
              <a:ext cx="30960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63920" y="5243400"/>
              <a:ext cx="25236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45200" y="5398920"/>
              <a:ext cx="434880" cy="38160"/>
            </a:xfrm>
            <a:custGeom>
              <a:avLst/>
              <a:gdLst/>
              <a:ahLst/>
              <a:rect l="l" t="t" r="r" b="b"/>
              <a:pathLst>
                <a:path w="274" h="24">
                  <a:moveTo>
                    <a:pt x="0" y="24"/>
                  </a:moveTo>
                  <a:lnTo>
                    <a:pt x="30" y="0"/>
                  </a:lnTo>
                  <a:lnTo>
                    <a:pt x="244" y="0"/>
                  </a:lnTo>
                  <a:lnTo>
                    <a:pt x="274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45200" y="5437080"/>
              <a:ext cx="43488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35480" y="5567400"/>
              <a:ext cx="45900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35480" y="5529240"/>
              <a:ext cx="459000" cy="38160"/>
            </a:xfrm>
            <a:custGeom>
              <a:avLst/>
              <a:gdLst/>
              <a:ahLst/>
              <a:rect l="l" t="t" r="r" b="b"/>
              <a:pathLst>
                <a:path w="289" h="24">
                  <a:moveTo>
                    <a:pt x="0" y="24"/>
                  </a:moveTo>
                  <a:lnTo>
                    <a:pt x="30" y="0"/>
                  </a:lnTo>
                  <a:lnTo>
                    <a:pt x="259" y="0"/>
                  </a:lnTo>
                  <a:lnTo>
                    <a:pt x="289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11800" y="5191200"/>
              <a:ext cx="304920" cy="284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8"/>
                  </a:moveTo>
                  <a:lnTo>
                    <a:pt x="22" y="0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11800" y="5219640"/>
              <a:ext cx="30492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7000" y="5243400"/>
              <a:ext cx="25092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07120" y="5398920"/>
              <a:ext cx="434880" cy="38160"/>
            </a:xfrm>
            <a:custGeom>
              <a:avLst/>
              <a:gdLst/>
              <a:ahLst/>
              <a:rect l="l" t="t" r="r" b="b"/>
              <a:pathLst>
                <a:path w="274" h="24">
                  <a:moveTo>
                    <a:pt x="0" y="24"/>
                  </a:moveTo>
                  <a:lnTo>
                    <a:pt x="31" y="0"/>
                  </a:lnTo>
                  <a:lnTo>
                    <a:pt x="244" y="0"/>
                  </a:lnTo>
                  <a:lnTo>
                    <a:pt x="274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7120" y="5437080"/>
              <a:ext cx="43488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97760" y="5567400"/>
              <a:ext cx="46008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97760" y="5529240"/>
              <a:ext cx="460080" cy="38160"/>
            </a:xfrm>
            <a:custGeom>
              <a:avLst/>
              <a:gdLst/>
              <a:ahLst/>
              <a:rect l="l" t="t" r="r" b="b"/>
              <a:pathLst>
                <a:path w="290" h="24">
                  <a:moveTo>
                    <a:pt x="0" y="24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70480" y="519120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70480" y="5219640"/>
              <a:ext cx="30960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99280" y="5243400"/>
              <a:ext cx="25236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48560" y="5398920"/>
              <a:ext cx="431640" cy="38160"/>
            </a:xfrm>
            <a:custGeom>
              <a:avLst/>
              <a:gdLst/>
              <a:ahLst/>
              <a:rect l="l" t="t" r="r" b="b"/>
              <a:pathLst>
                <a:path w="272" h="24">
                  <a:moveTo>
                    <a:pt x="0" y="24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2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48560" y="5437080"/>
              <a:ext cx="43164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34160" y="5567400"/>
              <a:ext cx="46044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4160" y="5529240"/>
              <a:ext cx="460440" cy="38160"/>
            </a:xfrm>
            <a:custGeom>
              <a:avLst/>
              <a:gdLst/>
              <a:ahLst/>
              <a:rect l="l" t="t" r="r" b="b"/>
              <a:pathLst>
                <a:path w="290" h="24">
                  <a:moveTo>
                    <a:pt x="0" y="24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11920" y="5191200"/>
              <a:ext cx="304920" cy="284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8"/>
                  </a:moveTo>
                  <a:lnTo>
                    <a:pt x="21" y="0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11920" y="5219640"/>
              <a:ext cx="30492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36040" y="5243400"/>
              <a:ext cx="25704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43880" y="5398920"/>
              <a:ext cx="436320" cy="38160"/>
            </a:xfrm>
            <a:custGeom>
              <a:avLst/>
              <a:gdLst/>
              <a:ahLst/>
              <a:rect l="l" t="t" r="r" b="b"/>
              <a:pathLst>
                <a:path w="275" h="24">
                  <a:moveTo>
                    <a:pt x="0" y="24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5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43880" y="5437080"/>
              <a:ext cx="436320" cy="9216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9480" y="5567400"/>
              <a:ext cx="465120" cy="205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29480" y="5529240"/>
              <a:ext cx="465120" cy="38160"/>
            </a:xfrm>
            <a:custGeom>
              <a:avLst/>
              <a:gdLst/>
              <a:ahLst/>
              <a:rect l="l" t="t" r="r" b="b"/>
              <a:pathLst>
                <a:path w="293" h="24">
                  <a:moveTo>
                    <a:pt x="0" y="24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3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07240" y="519120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07240" y="5219640"/>
              <a:ext cx="309600" cy="20340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36040" y="5243400"/>
              <a:ext cx="252360" cy="1555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61320" y="5587920"/>
              <a:ext cx="14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29240" y="5587920"/>
              <a:ext cx="180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62640" y="5587920"/>
              <a:ext cx="14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89560" y="5587920"/>
              <a:ext cx="1440" cy="5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07000" y="4314960"/>
              <a:ext cx="2941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07000" y="4314960"/>
              <a:ext cx="2941560" cy="144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07000" y="4314960"/>
              <a:ext cx="2941560" cy="1440"/>
            </a:xfrm>
            <a:prstGeom prst="line">
              <a:avLst/>
            </a:prstGeom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48000" y="6114960"/>
              <a:ext cx="3851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48000" y="6114960"/>
              <a:ext cx="3851280" cy="180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48000" y="6114960"/>
              <a:ext cx="3851280" cy="1800"/>
            </a:xfrm>
            <a:prstGeom prst="line">
              <a:avLst/>
            </a:prstGeom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72120" y="4227480"/>
              <a:ext cx="434880" cy="39600"/>
            </a:xfrm>
            <a:custGeom>
              <a:avLst/>
              <a:gdLst/>
              <a:ahLst/>
              <a:rect l="l" t="t" r="r" b="b"/>
              <a:pathLst>
                <a:path w="274" h="25">
                  <a:moveTo>
                    <a:pt x="0" y="25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4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72120" y="4267080"/>
              <a:ext cx="434880" cy="907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57720" y="4397400"/>
              <a:ext cx="465120" cy="1908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57720" y="4357800"/>
              <a:ext cx="465120" cy="39600"/>
            </a:xfrm>
            <a:custGeom>
              <a:avLst/>
              <a:gdLst/>
              <a:ahLst/>
              <a:rect l="l" t="t" r="r" b="b"/>
              <a:pathLst>
                <a:path w="293" h="25">
                  <a:moveTo>
                    <a:pt x="0" y="25"/>
                  </a:moveTo>
                  <a:lnTo>
                    <a:pt x="31" y="0"/>
                  </a:lnTo>
                  <a:lnTo>
                    <a:pt x="262" y="0"/>
                  </a:lnTo>
                  <a:lnTo>
                    <a:pt x="293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35480" y="4019400"/>
              <a:ext cx="309600" cy="2880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0" y="18"/>
                  </a:moveTo>
                  <a:lnTo>
                    <a:pt x="21" y="0"/>
                  </a:lnTo>
                  <a:lnTo>
                    <a:pt x="174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5480" y="4048200"/>
              <a:ext cx="309600" cy="20304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4073400"/>
              <a:ext cx="252360" cy="154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48560" y="4227480"/>
              <a:ext cx="431640" cy="39600"/>
            </a:xfrm>
            <a:custGeom>
              <a:avLst/>
              <a:gdLst/>
              <a:ahLst/>
              <a:rect l="l" t="t" r="r" b="b"/>
              <a:pathLst>
                <a:path w="272" h="25">
                  <a:moveTo>
                    <a:pt x="0" y="25"/>
                  </a:moveTo>
                  <a:lnTo>
                    <a:pt x="28" y="0"/>
                  </a:lnTo>
                  <a:lnTo>
                    <a:pt x="244" y="0"/>
                  </a:lnTo>
                  <a:lnTo>
                    <a:pt x="272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8560" y="4267080"/>
              <a:ext cx="431640" cy="9072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4160" y="4397400"/>
              <a:ext cx="460440" cy="1908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4160" y="4357800"/>
              <a:ext cx="460440" cy="39600"/>
            </a:xfrm>
            <a:custGeom>
              <a:avLst/>
              <a:gdLst/>
              <a:ahLst/>
              <a:rect l="l" t="t" r="r" b="b"/>
              <a:pathLst>
                <a:path w="290" h="25">
                  <a:moveTo>
                    <a:pt x="0" y="25"/>
                  </a:moveTo>
                  <a:lnTo>
                    <a:pt x="31" y="0"/>
                  </a:lnTo>
                  <a:lnTo>
                    <a:pt x="259" y="0"/>
                  </a:lnTo>
                  <a:lnTo>
                    <a:pt x="29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1920" y="4019400"/>
              <a:ext cx="304920" cy="2880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8"/>
                  </a:moveTo>
                  <a:lnTo>
                    <a:pt x="21" y="0"/>
                  </a:lnTo>
                  <a:lnTo>
                    <a:pt x="171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11920" y="4048200"/>
              <a:ext cx="304920" cy="203040"/>
            </a:xfrm>
            <a:prstGeom prst="rect">
              <a:avLst/>
            </a:prstGeom>
            <a:solidFill>
              <a:srgbClr val="a6a6a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36040" y="4073400"/>
              <a:ext cx="257040" cy="154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CB7-241D-45F8-90FD-66B87362CF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lay x Bandwidth Produc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data “in flight” or “in the pi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lative to R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100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5Mbps = 560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01x22" descr=""/>
          <p:cNvPicPr/>
          <p:nvPr/>
        </p:nvPicPr>
        <p:blipFill>
          <a:blip r:embed="rId1"/>
          <a:stretch/>
        </p:blipFill>
        <p:spPr>
          <a:xfrm>
            <a:off x="1201680" y="3890880"/>
            <a:ext cx="640404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359-FBD0-434C-89D6-C1E12A7715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520" y="166356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SOCK_STREAM, SOCK_DGRAM, SOCK_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E0D-7AE7-4A2F-880D-CDF0B27FF3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DE0-0E48-4664-B4D7-C1903A7E27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BCE-6E8B-418A-8063-2EBAD40092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witched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odes connected by a link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2133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networks connected by a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600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twork can be defined recursively 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01x03" descr=""/>
          <p:cNvPicPr/>
          <p:nvPr/>
        </p:nvPicPr>
        <p:blipFill>
          <a:blip r:embed="rId1"/>
          <a:stretch/>
        </p:blipFill>
        <p:spPr>
          <a:xfrm>
            <a:off x="1066680" y="3186000"/>
            <a:ext cx="3299040" cy="2762280"/>
          </a:xfrm>
          <a:prstGeom prst="rect">
            <a:avLst/>
          </a:prstGeom>
          <a:ln w="0">
            <a:noFill/>
          </a:ln>
        </p:spPr>
      </p:pic>
      <p:pic>
        <p:nvPicPr>
          <p:cNvPr id="113" name="01x04" descr=""/>
          <p:cNvPicPr/>
          <p:nvPr/>
        </p:nvPicPr>
        <p:blipFill>
          <a:blip r:embed="rId2"/>
          <a:stretch/>
        </p:blipFill>
        <p:spPr>
          <a:xfrm>
            <a:off x="5240160" y="3090960"/>
            <a:ext cx="3349800" cy="27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155-E9C8-461C-8BE5-8FE0D46EC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ategi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switching: carry bi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: store-and-forwar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2FD-DAB7-43C8-88C3-3E1081D974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ing an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: byte-string that identifies a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process of forwarding messages to the destination node based on its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: node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: all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: some subset of nodes o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35E-F7D7-4090-A8BC-585246784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Division Multiplexing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Division Multiplexing (F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1x05" descr=""/>
          <p:cNvPicPr/>
          <p:nvPr/>
        </p:nvPicPr>
        <p:blipFill>
          <a:blip r:embed="rId1"/>
          <a:stretch/>
        </p:blipFill>
        <p:spPr>
          <a:xfrm>
            <a:off x="1440000" y="3191040"/>
            <a:ext cx="6143400" cy="278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C76-777A-41E5-8B61-EBB82E1684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atistical Multiplex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demand time-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link on a per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from different sources interleaved 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packet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(queue) overflow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840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41640" y="3913200"/>
            <a:ext cx="3665520" cy="2152800"/>
            <a:chOff x="2141640" y="3913200"/>
            <a:chExt cx="3665520" cy="2152800"/>
          </a:xfrm>
        </p:grpSpPr>
        <p:sp>
          <p:nvSpPr>
            <p:cNvPr id="125" name=""/>
            <p:cNvSpPr/>
            <p:nvPr/>
          </p:nvSpPr>
          <p:spPr>
            <a:xfrm>
              <a:off x="3336840" y="4827600"/>
              <a:ext cx="595440" cy="504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36840" y="4799160"/>
              <a:ext cx="623880" cy="28440"/>
            </a:xfrm>
            <a:custGeom>
              <a:avLst/>
              <a:gdLst/>
              <a:ahLst/>
              <a:rect l="l" t="t" r="r" b="b"/>
              <a:pathLst>
                <a:path w="393" h="18">
                  <a:moveTo>
                    <a:pt x="0" y="18"/>
                  </a:moveTo>
                  <a:lnTo>
                    <a:pt x="375" y="18"/>
                  </a:lnTo>
                  <a:lnTo>
                    <a:pt x="393" y="0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32280" y="4799160"/>
              <a:ext cx="28440" cy="533160"/>
            </a:xfrm>
            <a:custGeom>
              <a:avLst/>
              <a:gdLst/>
              <a:ahLst/>
              <a:rect l="l" t="t" r="r" b="b"/>
              <a:pathLst>
                <a:path w="18" h="336">
                  <a:moveTo>
                    <a:pt x="18" y="0"/>
                  </a:moveTo>
                  <a:lnTo>
                    <a:pt x="0" y="18"/>
                  </a:lnTo>
                  <a:lnTo>
                    <a:pt x="0" y="336"/>
                  </a:lnTo>
                  <a:lnTo>
                    <a:pt x="18" y="3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e7f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2320" y="505944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0" y="27"/>
                  </a:moveTo>
                  <a:lnTo>
                    <a:pt x="49" y="13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68600" y="5079960"/>
              <a:ext cx="73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65560" y="485928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18"/>
                  </a:moveTo>
                  <a:lnTo>
                    <a:pt x="45" y="43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65360" y="4186080"/>
              <a:ext cx="743040" cy="71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65560" y="5234040"/>
              <a:ext cx="71280" cy="698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18" y="44"/>
                  </a:moveTo>
                  <a:lnTo>
                    <a:pt x="45" y="0"/>
                  </a:lnTo>
                  <a:lnTo>
                    <a:pt x="0" y="2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68600" y="5262120"/>
              <a:ext cx="739800" cy="70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2080" y="505944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0" y="27"/>
                  </a:moveTo>
                  <a:lnTo>
                    <a:pt x="49" y="13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0720" y="5079960"/>
              <a:ext cx="1370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8520" y="4916520"/>
              <a:ext cx="103320" cy="277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9640" y="4856040"/>
              <a:ext cx="3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■ ■ ■</a:t>
              </a: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9080" y="4941720"/>
              <a:ext cx="263520" cy="109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2600" y="4924440"/>
              <a:ext cx="1404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9080" y="4924440"/>
              <a:ext cx="27756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38320" y="4941720"/>
              <a:ext cx="263520" cy="109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184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3832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98880" y="4941720"/>
              <a:ext cx="263520" cy="109800"/>
            </a:xfrm>
            <a:prstGeom prst="rect">
              <a:avLst/>
            </a:prstGeom>
            <a:solidFill>
              <a:srgbClr val="ccecf4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6240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9888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8480" y="4941720"/>
              <a:ext cx="263520" cy="109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0848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11600" y="4941720"/>
              <a:ext cx="263520" cy="109800"/>
            </a:xfrm>
            <a:prstGeom prst="rect">
              <a:avLst/>
            </a:prstGeom>
            <a:solidFill>
              <a:srgbClr val="00a0c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5120" y="492444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80"/>
                  </a:moveTo>
                  <a:lnTo>
                    <a:pt x="9" y="69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11600" y="4924440"/>
              <a:ext cx="277920" cy="17280"/>
            </a:xfrm>
            <a:custGeom>
              <a:avLst/>
              <a:gdLst/>
              <a:ahLst/>
              <a:rect l="l" t="t" r="r" b="b"/>
              <a:pathLst>
                <a:path w="175" h="11">
                  <a:moveTo>
                    <a:pt x="175" y="0"/>
                  </a:moveTo>
                  <a:lnTo>
                    <a:pt x="9" y="0"/>
                  </a:lnTo>
                  <a:lnTo>
                    <a:pt x="0" y="11"/>
                  </a:lnTo>
                  <a:lnTo>
                    <a:pt x="166" y="1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20800" y="4097160"/>
              <a:ext cx="263520" cy="26064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19" y="164"/>
                  </a:moveTo>
                  <a:lnTo>
                    <a:pt x="0" y="50"/>
                  </a:lnTo>
                  <a:lnTo>
                    <a:pt x="48" y="0"/>
                  </a:lnTo>
                  <a:lnTo>
                    <a:pt x="166" y="115"/>
                  </a:lnTo>
                  <a:lnTo>
                    <a:pt x="119" y="164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9800" y="4275000"/>
              <a:ext cx="100080" cy="828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0" y="52"/>
                  </a:moveTo>
                  <a:lnTo>
                    <a:pt x="14" y="50"/>
                  </a:lnTo>
                  <a:lnTo>
                    <a:pt x="63" y="0"/>
                  </a:lnTo>
                  <a:lnTo>
                    <a:pt x="47" y="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7120" y="4094280"/>
              <a:ext cx="212760" cy="185760"/>
            </a:xfrm>
            <a:custGeom>
              <a:avLst/>
              <a:gdLst/>
              <a:ahLst/>
              <a:rect l="l" t="t" r="r" b="b"/>
              <a:pathLst>
                <a:path w="134" h="117">
                  <a:moveTo>
                    <a:pt x="134" y="114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118" y="117"/>
                  </a:lnTo>
                  <a:lnTo>
                    <a:pt x="134" y="114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38600" y="4308480"/>
              <a:ext cx="263520" cy="25884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19" y="163"/>
                  </a:moveTo>
                  <a:lnTo>
                    <a:pt x="0" y="49"/>
                  </a:lnTo>
                  <a:lnTo>
                    <a:pt x="47" y="0"/>
                  </a:lnTo>
                  <a:lnTo>
                    <a:pt x="166" y="114"/>
                  </a:lnTo>
                  <a:lnTo>
                    <a:pt x="119" y="163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27240" y="4489560"/>
              <a:ext cx="100080" cy="7776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49"/>
                  </a:moveTo>
                  <a:lnTo>
                    <a:pt x="14" y="49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3120" y="4303800"/>
              <a:ext cx="210960" cy="185760"/>
            </a:xfrm>
            <a:custGeom>
              <a:avLst/>
              <a:gdLst/>
              <a:ahLst/>
              <a:rect l="l" t="t" r="r" b="b"/>
              <a:pathLst>
                <a:path w="133" h="117">
                  <a:moveTo>
                    <a:pt x="133" y="117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119" y="117"/>
                  </a:lnTo>
                  <a:lnTo>
                    <a:pt x="133" y="117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6040" y="4518000"/>
              <a:ext cx="263520" cy="26028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17" y="164"/>
                  </a:moveTo>
                  <a:lnTo>
                    <a:pt x="0" y="49"/>
                  </a:lnTo>
                  <a:lnTo>
                    <a:pt x="47" y="0"/>
                  </a:lnTo>
                  <a:lnTo>
                    <a:pt x="166" y="114"/>
                  </a:lnTo>
                  <a:lnTo>
                    <a:pt x="117" y="164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1800" y="4699080"/>
              <a:ext cx="98280" cy="7920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50"/>
                  </a:moveTo>
                  <a:lnTo>
                    <a:pt x="15" y="5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0560" y="4514760"/>
              <a:ext cx="209520" cy="184320"/>
            </a:xfrm>
            <a:custGeom>
              <a:avLst/>
              <a:gdLst/>
              <a:ahLst/>
              <a:rect l="l" t="t" r="r" b="b"/>
              <a:pathLst>
                <a:path w="132" h="116">
                  <a:moveTo>
                    <a:pt x="132" y="116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119" y="116"/>
                  </a:lnTo>
                  <a:lnTo>
                    <a:pt x="132" y="116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39880" y="5796000"/>
              <a:ext cx="263520" cy="26028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66" y="49"/>
                  </a:moveTo>
                  <a:lnTo>
                    <a:pt x="47" y="164"/>
                  </a:lnTo>
                  <a:lnTo>
                    <a:pt x="0" y="114"/>
                  </a:lnTo>
                  <a:lnTo>
                    <a:pt x="118" y="0"/>
                  </a:lnTo>
                  <a:lnTo>
                    <a:pt x="166" y="49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4200" y="5770440"/>
              <a:ext cx="79200" cy="10332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50" y="65"/>
                  </a:moveTo>
                  <a:lnTo>
                    <a:pt x="50" y="49"/>
                  </a:lnTo>
                  <a:lnTo>
                    <a:pt x="0" y="0"/>
                  </a:lnTo>
                  <a:lnTo>
                    <a:pt x="2" y="16"/>
                  </a:lnTo>
                  <a:lnTo>
                    <a:pt x="50" y="65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5200" y="5770440"/>
              <a:ext cx="192240" cy="20664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119" y="0"/>
                  </a:moveTo>
                  <a:lnTo>
                    <a:pt x="0" y="115"/>
                  </a:lnTo>
                  <a:lnTo>
                    <a:pt x="3" y="130"/>
                  </a:lnTo>
                  <a:lnTo>
                    <a:pt x="121" y="1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55880" y="5586480"/>
              <a:ext cx="263520" cy="25884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66" y="49"/>
                  </a:moveTo>
                  <a:lnTo>
                    <a:pt x="48" y="163"/>
                  </a:lnTo>
                  <a:lnTo>
                    <a:pt x="0" y="114"/>
                  </a:lnTo>
                  <a:lnTo>
                    <a:pt x="119" y="0"/>
                  </a:lnTo>
                  <a:lnTo>
                    <a:pt x="166" y="49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4880" y="5560920"/>
              <a:ext cx="74520" cy="10332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7" y="65"/>
                  </a:moveTo>
                  <a:lnTo>
                    <a:pt x="47" y="49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2640" y="5560920"/>
              <a:ext cx="192240" cy="20664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119" y="0"/>
                  </a:moveTo>
                  <a:lnTo>
                    <a:pt x="0" y="116"/>
                  </a:lnTo>
                  <a:lnTo>
                    <a:pt x="2" y="130"/>
                  </a:lnTo>
                  <a:lnTo>
                    <a:pt x="121" y="1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3320" y="5375160"/>
              <a:ext cx="263520" cy="26064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166" y="50"/>
                  </a:moveTo>
                  <a:lnTo>
                    <a:pt x="47" y="164"/>
                  </a:lnTo>
                  <a:lnTo>
                    <a:pt x="0" y="115"/>
                  </a:lnTo>
                  <a:lnTo>
                    <a:pt x="119" y="0"/>
                  </a:lnTo>
                  <a:lnTo>
                    <a:pt x="166" y="5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62320" y="5351400"/>
              <a:ext cx="74520" cy="10332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7" y="65"/>
                  </a:moveTo>
                  <a:lnTo>
                    <a:pt x="47" y="5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3320" y="5351400"/>
              <a:ext cx="189000" cy="20628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119" y="0"/>
                  </a:moveTo>
                  <a:lnTo>
                    <a:pt x="0" y="116"/>
                  </a:lnTo>
                  <a:lnTo>
                    <a:pt x="0" y="130"/>
                  </a:lnTo>
                  <a:lnTo>
                    <a:pt x="119" y="15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71840" y="4913280"/>
              <a:ext cx="96840" cy="263520"/>
            </a:xfrm>
            <a:prstGeom prst="rect">
              <a:avLst/>
            </a:prstGeom>
            <a:solidFill>
              <a:srgbClr val="00a0c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8680" y="4913280"/>
              <a:ext cx="14400" cy="28116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9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1840" y="5176800"/>
              <a:ext cx="111240" cy="17640"/>
            </a:xfrm>
            <a:custGeom>
              <a:avLst/>
              <a:gdLst/>
              <a:ahLst/>
              <a:rect l="l" t="t" r="r" b="b"/>
              <a:pathLst>
                <a:path w="70" h="11">
                  <a:moveTo>
                    <a:pt x="70" y="11"/>
                  </a:moveTo>
                  <a:lnTo>
                    <a:pt x="61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70" y="11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3080" y="4913280"/>
              <a:ext cx="95040" cy="263520"/>
            </a:xfrm>
            <a:prstGeom prst="rect">
              <a:avLst/>
            </a:prstGeom>
            <a:solidFill>
              <a:srgbClr val="ccecf4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8120" y="4913280"/>
              <a:ext cx="14400" cy="281160"/>
            </a:xfrm>
            <a:custGeom>
              <a:avLst/>
              <a:gdLst/>
              <a:ahLst/>
              <a:rect l="l" t="t" r="r" b="b"/>
              <a:pathLst>
                <a:path w="9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9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0c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3080" y="5176800"/>
              <a:ext cx="109440" cy="1764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11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92520" y="4913280"/>
              <a:ext cx="96840" cy="263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89360" y="4913280"/>
              <a:ext cx="17640" cy="281160"/>
            </a:xfrm>
            <a:custGeom>
              <a:avLst/>
              <a:gdLst/>
              <a:ahLst/>
              <a:rect l="l" t="t" r="r" b="b"/>
              <a:pathLst>
                <a:path w="11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11" y="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2520" y="5176800"/>
              <a:ext cx="111240" cy="17640"/>
            </a:xfrm>
            <a:custGeom>
              <a:avLst/>
              <a:gdLst/>
              <a:ahLst/>
              <a:rect l="l" t="t" r="r" b="b"/>
              <a:pathLst>
                <a:path w="70" h="11">
                  <a:moveTo>
                    <a:pt x="70" y="11"/>
                  </a:moveTo>
                  <a:lnTo>
                    <a:pt x="61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70" y="11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9360" y="4913280"/>
              <a:ext cx="95400" cy="263520"/>
            </a:xfrm>
            <a:prstGeom prst="rect">
              <a:avLst/>
            </a:prstGeom>
            <a:solidFill>
              <a:srgbClr val="00a0c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4760" y="4913280"/>
              <a:ext cx="19080" cy="281160"/>
            </a:xfrm>
            <a:custGeom>
              <a:avLst/>
              <a:gdLst/>
              <a:ahLst/>
              <a:rect l="l" t="t" r="r" b="b"/>
              <a:pathLst>
                <a:path w="12" h="177">
                  <a:moveTo>
                    <a:pt x="0" y="0"/>
                  </a:moveTo>
                  <a:lnTo>
                    <a:pt x="0" y="166"/>
                  </a:lnTo>
                  <a:lnTo>
                    <a:pt x="9" y="177"/>
                  </a:lnTo>
                  <a:lnTo>
                    <a:pt x="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cfe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9360" y="5176800"/>
              <a:ext cx="109440" cy="1764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11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9" y="11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ccecf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55680" y="4111560"/>
              <a:ext cx="412920" cy="39600"/>
            </a:xfrm>
            <a:custGeom>
              <a:avLst/>
              <a:gdLst/>
              <a:ahLst/>
              <a:rect l="l" t="t" r="r" b="b"/>
              <a:pathLst>
                <a:path w="260" h="25">
                  <a:moveTo>
                    <a:pt x="0" y="25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5680" y="4151160"/>
              <a:ext cx="412920" cy="860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41640" y="4275000"/>
              <a:ext cx="441360" cy="190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41640" y="4237200"/>
              <a:ext cx="441360" cy="37800"/>
            </a:xfrm>
            <a:custGeom>
              <a:avLst/>
              <a:gdLst/>
              <a:ahLst/>
              <a:rect l="l" t="t" r="r" b="b"/>
              <a:pathLst>
                <a:path w="278" h="24">
                  <a:moveTo>
                    <a:pt x="0" y="24"/>
                  </a:moveTo>
                  <a:lnTo>
                    <a:pt x="29" y="0"/>
                  </a:lnTo>
                  <a:lnTo>
                    <a:pt x="249" y="0"/>
                  </a:lnTo>
                  <a:lnTo>
                    <a:pt x="278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6160" y="3913200"/>
              <a:ext cx="291960" cy="28440"/>
            </a:xfrm>
            <a:custGeom>
              <a:avLst/>
              <a:gdLst/>
              <a:ahLst/>
              <a:rect l="l" t="t" r="r" b="b"/>
              <a:pathLst>
                <a:path w="184" h="18">
                  <a:moveTo>
                    <a:pt x="0" y="18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4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16160" y="3941640"/>
              <a:ext cx="291960" cy="1954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41720" y="3962520"/>
              <a:ext cx="241200" cy="153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5680" y="4998960"/>
              <a:ext cx="412920" cy="38160"/>
            </a:xfrm>
            <a:custGeom>
              <a:avLst/>
              <a:gdLst/>
              <a:ahLst/>
              <a:rect l="l" t="t" r="r" b="b"/>
              <a:pathLst>
                <a:path w="260" h="24">
                  <a:moveTo>
                    <a:pt x="0" y="24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5680" y="5037120"/>
              <a:ext cx="412920" cy="856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41640" y="5162400"/>
              <a:ext cx="441360" cy="176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1640" y="5122800"/>
              <a:ext cx="441360" cy="39600"/>
            </a:xfrm>
            <a:custGeom>
              <a:avLst/>
              <a:gdLst/>
              <a:ahLst/>
              <a:rect l="l" t="t" r="r" b="b"/>
              <a:pathLst>
                <a:path w="278" h="25">
                  <a:moveTo>
                    <a:pt x="0" y="25"/>
                  </a:moveTo>
                  <a:lnTo>
                    <a:pt x="29" y="0"/>
                  </a:lnTo>
                  <a:lnTo>
                    <a:pt x="249" y="0"/>
                  </a:lnTo>
                  <a:lnTo>
                    <a:pt x="278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6160" y="4799160"/>
              <a:ext cx="291960" cy="28440"/>
            </a:xfrm>
            <a:custGeom>
              <a:avLst/>
              <a:gdLst/>
              <a:ahLst/>
              <a:rect l="l" t="t" r="r" b="b"/>
              <a:pathLst>
                <a:path w="184" h="18">
                  <a:moveTo>
                    <a:pt x="0" y="18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4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16160" y="4827600"/>
              <a:ext cx="291960" cy="195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1720" y="4848120"/>
              <a:ext cx="241200" cy="154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76960" y="4998960"/>
              <a:ext cx="415800" cy="3816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2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76960" y="5037120"/>
              <a:ext cx="415800" cy="8568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2560" y="5162400"/>
              <a:ext cx="444600" cy="176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62560" y="5122800"/>
              <a:ext cx="444600" cy="39600"/>
            </a:xfrm>
            <a:custGeom>
              <a:avLst/>
              <a:gdLst/>
              <a:ahLst/>
              <a:rect l="l" t="t" r="r" b="b"/>
              <a:pathLst>
                <a:path w="280" h="25">
                  <a:moveTo>
                    <a:pt x="0" y="25"/>
                  </a:moveTo>
                  <a:lnTo>
                    <a:pt x="31" y="0"/>
                  </a:lnTo>
                  <a:lnTo>
                    <a:pt x="249" y="0"/>
                  </a:lnTo>
                  <a:lnTo>
                    <a:pt x="28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7080" y="4799160"/>
              <a:ext cx="295560" cy="28440"/>
            </a:xfrm>
            <a:custGeom>
              <a:avLst/>
              <a:gdLst/>
              <a:ahLst/>
              <a:rect l="l" t="t" r="r" b="b"/>
              <a:pathLst>
                <a:path w="186" h="18">
                  <a:moveTo>
                    <a:pt x="0" y="18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6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080" y="4827600"/>
              <a:ext cx="295560" cy="195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2640" y="4848120"/>
              <a:ext cx="241200" cy="154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55680" y="5888160"/>
              <a:ext cx="412920" cy="36360"/>
            </a:xfrm>
            <a:custGeom>
              <a:avLst/>
              <a:gdLst/>
              <a:ahLst/>
              <a:rect l="l" t="t" r="r" b="b"/>
              <a:pathLst>
                <a:path w="260" h="23">
                  <a:moveTo>
                    <a:pt x="0" y="23"/>
                  </a:moveTo>
                  <a:lnTo>
                    <a:pt x="27" y="0"/>
                  </a:lnTo>
                  <a:lnTo>
                    <a:pt x="233" y="0"/>
                  </a:lnTo>
                  <a:lnTo>
                    <a:pt x="26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55680" y="5924520"/>
              <a:ext cx="412920" cy="8424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41640" y="6051600"/>
              <a:ext cx="441360" cy="1440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41640" y="6008760"/>
              <a:ext cx="441360" cy="42840"/>
            </a:xfrm>
            <a:custGeom>
              <a:avLst/>
              <a:gdLst/>
              <a:ahLst/>
              <a:rect l="l" t="t" r="r" b="b"/>
              <a:pathLst>
                <a:path w="278" h="27">
                  <a:moveTo>
                    <a:pt x="0" y="27"/>
                  </a:moveTo>
                  <a:lnTo>
                    <a:pt x="29" y="0"/>
                  </a:lnTo>
                  <a:lnTo>
                    <a:pt x="249" y="0"/>
                  </a:lnTo>
                  <a:lnTo>
                    <a:pt x="27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16160" y="5689440"/>
              <a:ext cx="291960" cy="24120"/>
            </a:xfrm>
            <a:custGeom>
              <a:avLst/>
              <a:gdLst/>
              <a:ahLst/>
              <a:rect l="l" t="t" r="r" b="b"/>
              <a:pathLst>
                <a:path w="184" h="15">
                  <a:moveTo>
                    <a:pt x="0" y="15"/>
                  </a:moveTo>
                  <a:lnTo>
                    <a:pt x="20" y="0"/>
                  </a:lnTo>
                  <a:lnTo>
                    <a:pt x="164" y="0"/>
                  </a:lnTo>
                  <a:lnTo>
                    <a:pt x="184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c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16160" y="5713560"/>
              <a:ext cx="291960" cy="19656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41720" y="5738760"/>
              <a:ext cx="241200" cy="149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057-D993-4E9F-953F-CAEA154EC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-Proc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host-to-host connectivity into process-to-process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 gap between what applications expect and what the underlying technology provid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01x07" descr=""/>
          <p:cNvPicPr/>
          <p:nvPr/>
        </p:nvPicPr>
        <p:blipFill>
          <a:blip r:embed="rId1"/>
          <a:stretch/>
        </p:blipFill>
        <p:spPr>
          <a:xfrm>
            <a:off x="2565360" y="3370320"/>
            <a:ext cx="3959280" cy="276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76F-30FC-4D17-8036-24088DF15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C Abstraction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ies (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: sequence of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NTSC = 3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0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4)/8=247.5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ps = 7500KBps = 6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dem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FF7-A0E9-4BA8-BE97-90E177374D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9T17:16:32Z</dcterms:created>
  <dc:creator>Larry Peterson</dc:creator>
  <dc:description/>
  <dc:language>en-US</dc:language>
  <cp:lastModifiedBy>Elsevier</cp:lastModifiedBy>
  <dcterms:modified xsi:type="dcterms:W3CDTF">2003-11-06T23:11:32Z</dcterms:modified>
  <cp:revision>30</cp:revision>
  <dc:subject/>
  <dc:title>Introduction</dc:title>
</cp:coreProperties>
</file>