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390-B5E1-4223-AB9C-6F7C20E8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BA2-D5E9-4016-8960-9285B8AF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96C-5CE6-4F16-946C-7DE38F57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C79-3DDB-476B-BBAC-E384AFFE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EC5-6001-44E3-BA33-5A17E3F7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636-0831-4239-BFE2-14EC4056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452-D78D-47FD-946E-676D4769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6BE-4809-413F-AAB6-46EB6A6A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BA6-F3F0-4CAC-8490-9B72A29E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555-9C53-4E1B-ACA8-F29ED471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337-22E6-46D7-9E50-472B9428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6AD-B5B5-4B1E-84EB-40A78582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F3CD-E512-4B2F-B26A-CE9FB9F7A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iable Byte-Stream (TCP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352320"/>
            <a:ext cx="5562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Establishment/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ing Window Revisi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23F-1B02-4E60-8701-E00FE8C478F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iding Window Revisite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345456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Se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bytes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3454560"/>
            <a:ext cx="4114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ea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xtByte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ByteExpect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Rcvd 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bytes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Byte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05x08" descr=""/>
          <p:cNvPicPr/>
          <p:nvPr/>
        </p:nvPicPr>
        <p:blipFill>
          <a:blip r:embed="rId1"/>
          <a:stretch/>
        </p:blipFill>
        <p:spPr>
          <a:xfrm>
            <a:off x="1901880" y="1143000"/>
            <a:ext cx="5068800" cy="218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10B-CAA6-4375-A98D-5DB4A2A157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w Contr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buffer siz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Send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 buffer siz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Rcv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cv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Rcv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RcvBuff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ByteExp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xtByte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S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ffective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S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Writt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Send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sender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Writt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Sender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send ACK in response to arriving data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C3B2-B770-4192-B241-F7D045E5C8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lly Window Syndrom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8107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ggressively does sender exploit open wind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-sid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dvertising zero window, wait for space equal to a maximum segment size (M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ed acknowled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2200" y="3005280"/>
            <a:ext cx="1130400" cy="66816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92200" y="2897280"/>
            <a:ext cx="1268640" cy="108000"/>
          </a:xfrm>
          <a:custGeom>
            <a:avLst/>
            <a:gdLst/>
            <a:ahLst/>
            <a:rect l="l" t="t" r="r" b="b"/>
            <a:pathLst>
              <a:path w="799" h="68">
                <a:moveTo>
                  <a:pt x="0" y="68"/>
                </a:moveTo>
                <a:lnTo>
                  <a:pt x="712" y="68"/>
                </a:lnTo>
                <a:lnTo>
                  <a:pt x="799" y="0"/>
                </a:lnTo>
                <a:lnTo>
                  <a:pt x="83" y="0"/>
                </a:lnTo>
                <a:lnTo>
                  <a:pt x="0" y="68"/>
                </a:lnTo>
                <a:close/>
              </a:path>
            </a:pathLst>
          </a:custGeom>
          <a:solidFill>
            <a:srgbClr val="199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22600" y="2897280"/>
            <a:ext cx="138240" cy="776160"/>
          </a:xfrm>
          <a:custGeom>
            <a:avLst/>
            <a:gdLst/>
            <a:ahLst/>
            <a:rect l="l" t="t" r="r" b="b"/>
            <a:pathLst>
              <a:path w="87" h="489">
                <a:moveTo>
                  <a:pt x="87" y="0"/>
                </a:moveTo>
                <a:lnTo>
                  <a:pt x="0" y="68"/>
                </a:lnTo>
                <a:lnTo>
                  <a:pt x="0" y="489"/>
                </a:lnTo>
                <a:lnTo>
                  <a:pt x="87" y="421"/>
                </a:lnTo>
                <a:lnTo>
                  <a:pt x="87" y="0"/>
                </a:lnTo>
                <a:close/>
              </a:path>
            </a:pathLst>
          </a:custGeom>
          <a:solidFill>
            <a:srgbClr val="80c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96080" y="3005280"/>
            <a:ext cx="1136520" cy="66816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96080" y="2897280"/>
            <a:ext cx="1274760" cy="108000"/>
          </a:xfrm>
          <a:custGeom>
            <a:avLst/>
            <a:gdLst/>
            <a:ahLst/>
            <a:rect l="l" t="t" r="r" b="b"/>
            <a:pathLst>
              <a:path w="803" h="68">
                <a:moveTo>
                  <a:pt x="0" y="68"/>
                </a:moveTo>
                <a:lnTo>
                  <a:pt x="716" y="68"/>
                </a:lnTo>
                <a:lnTo>
                  <a:pt x="803" y="0"/>
                </a:lnTo>
                <a:lnTo>
                  <a:pt x="87" y="0"/>
                </a:lnTo>
                <a:lnTo>
                  <a:pt x="0" y="68"/>
                </a:lnTo>
                <a:close/>
              </a:path>
            </a:pathLst>
          </a:custGeom>
          <a:solidFill>
            <a:srgbClr val="199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32600" y="2897280"/>
            <a:ext cx="138240" cy="776160"/>
          </a:xfrm>
          <a:custGeom>
            <a:avLst/>
            <a:gdLst/>
            <a:ahLst/>
            <a:rect l="l" t="t" r="r" b="b"/>
            <a:pathLst>
              <a:path w="87" h="489">
                <a:moveTo>
                  <a:pt x="87" y="0"/>
                </a:moveTo>
                <a:lnTo>
                  <a:pt x="0" y="68"/>
                </a:lnTo>
                <a:lnTo>
                  <a:pt x="0" y="489"/>
                </a:lnTo>
                <a:lnTo>
                  <a:pt x="87" y="421"/>
                </a:lnTo>
                <a:lnTo>
                  <a:pt x="87" y="0"/>
                </a:lnTo>
                <a:close/>
              </a:path>
            </a:pathLst>
          </a:custGeom>
          <a:solidFill>
            <a:srgbClr val="80c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74080" y="3240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Myriad Roman"/>
              </a:rPr>
              <a:t>Se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9000" y="3240000"/>
            <a:ext cx="761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Myriad Roman"/>
              </a:rPr>
              <a:t>Rece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6840" y="2879640"/>
            <a:ext cx="3957480" cy="258840"/>
          </a:xfrm>
          <a:custGeom>
            <a:avLst/>
            <a:gdLst/>
            <a:ahLst/>
            <a:rect l="l" t="t" r="r" b="b"/>
            <a:pathLst>
              <a:path w="2493" h="163">
                <a:moveTo>
                  <a:pt x="0" y="163"/>
                </a:moveTo>
                <a:lnTo>
                  <a:pt x="53" y="144"/>
                </a:lnTo>
                <a:lnTo>
                  <a:pt x="106" y="132"/>
                </a:lnTo>
                <a:lnTo>
                  <a:pt x="186" y="117"/>
                </a:lnTo>
                <a:lnTo>
                  <a:pt x="299" y="94"/>
                </a:lnTo>
                <a:lnTo>
                  <a:pt x="428" y="75"/>
                </a:lnTo>
                <a:lnTo>
                  <a:pt x="580" y="53"/>
                </a:lnTo>
                <a:lnTo>
                  <a:pt x="754" y="30"/>
                </a:lnTo>
                <a:lnTo>
                  <a:pt x="936" y="11"/>
                </a:lnTo>
                <a:lnTo>
                  <a:pt x="1133" y="0"/>
                </a:lnTo>
                <a:lnTo>
                  <a:pt x="1334" y="0"/>
                </a:lnTo>
                <a:lnTo>
                  <a:pt x="1527" y="0"/>
                </a:lnTo>
                <a:lnTo>
                  <a:pt x="1701" y="7"/>
                </a:lnTo>
                <a:lnTo>
                  <a:pt x="1864" y="19"/>
                </a:lnTo>
                <a:lnTo>
                  <a:pt x="2019" y="38"/>
                </a:lnTo>
                <a:lnTo>
                  <a:pt x="2152" y="53"/>
                </a:lnTo>
                <a:lnTo>
                  <a:pt x="2269" y="68"/>
                </a:lnTo>
                <a:lnTo>
                  <a:pt x="2364" y="83"/>
                </a:lnTo>
                <a:lnTo>
                  <a:pt x="2436" y="98"/>
                </a:lnTo>
                <a:lnTo>
                  <a:pt x="2478" y="106"/>
                </a:lnTo>
                <a:lnTo>
                  <a:pt x="2493" y="110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1480" y="3005280"/>
            <a:ext cx="181080" cy="83880"/>
          </a:xfrm>
          <a:custGeom>
            <a:avLst/>
            <a:gdLst/>
            <a:ahLst/>
            <a:rect l="l" t="t" r="r" b="b"/>
            <a:pathLst>
              <a:path w="114" h="53">
                <a:moveTo>
                  <a:pt x="0" y="49"/>
                </a:moveTo>
                <a:lnTo>
                  <a:pt x="114" y="49"/>
                </a:lnTo>
                <a:lnTo>
                  <a:pt x="12" y="0"/>
                </a:lnTo>
                <a:lnTo>
                  <a:pt x="4" y="53"/>
                </a:lnTo>
                <a:lnTo>
                  <a:pt x="0" y="49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44720" y="3468600"/>
            <a:ext cx="3951360" cy="239760"/>
          </a:xfrm>
          <a:custGeom>
            <a:avLst/>
            <a:gdLst/>
            <a:ahLst/>
            <a:rect l="l" t="t" r="r" b="b"/>
            <a:pathLst>
              <a:path w="2489" h="151">
                <a:moveTo>
                  <a:pt x="2489" y="0"/>
                </a:moveTo>
                <a:lnTo>
                  <a:pt x="2474" y="7"/>
                </a:lnTo>
                <a:lnTo>
                  <a:pt x="2421" y="19"/>
                </a:lnTo>
                <a:lnTo>
                  <a:pt x="2341" y="34"/>
                </a:lnTo>
                <a:lnTo>
                  <a:pt x="2235" y="57"/>
                </a:lnTo>
                <a:lnTo>
                  <a:pt x="2099" y="79"/>
                </a:lnTo>
                <a:lnTo>
                  <a:pt x="1947" y="98"/>
                </a:lnTo>
                <a:lnTo>
                  <a:pt x="1777" y="117"/>
                </a:lnTo>
                <a:lnTo>
                  <a:pt x="1591" y="136"/>
                </a:lnTo>
                <a:lnTo>
                  <a:pt x="1394" y="151"/>
                </a:lnTo>
                <a:lnTo>
                  <a:pt x="1193" y="151"/>
                </a:lnTo>
                <a:lnTo>
                  <a:pt x="1008" y="151"/>
                </a:lnTo>
                <a:lnTo>
                  <a:pt x="830" y="140"/>
                </a:lnTo>
                <a:lnTo>
                  <a:pt x="663" y="129"/>
                </a:lnTo>
                <a:lnTo>
                  <a:pt x="508" y="114"/>
                </a:lnTo>
                <a:lnTo>
                  <a:pt x="375" y="95"/>
                </a:lnTo>
                <a:lnTo>
                  <a:pt x="258" y="79"/>
                </a:lnTo>
                <a:lnTo>
                  <a:pt x="163" y="64"/>
                </a:lnTo>
                <a:lnTo>
                  <a:pt x="95" y="49"/>
                </a:lnTo>
                <a:lnTo>
                  <a:pt x="49" y="42"/>
                </a:lnTo>
                <a:lnTo>
                  <a:pt x="0" y="30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9200" y="3468600"/>
            <a:ext cx="179280" cy="84240"/>
          </a:xfrm>
          <a:custGeom>
            <a:avLst/>
            <a:gdLst/>
            <a:ahLst/>
            <a:rect l="l" t="t" r="r" b="b"/>
            <a:pathLst>
              <a:path w="113" h="53">
                <a:moveTo>
                  <a:pt x="109" y="0"/>
                </a:moveTo>
                <a:lnTo>
                  <a:pt x="0" y="4"/>
                </a:lnTo>
                <a:lnTo>
                  <a:pt x="98" y="53"/>
                </a:lnTo>
                <a:lnTo>
                  <a:pt x="113" y="4"/>
                </a:lnTo>
                <a:lnTo>
                  <a:pt x="109" y="0"/>
                </a:lnTo>
                <a:lnTo>
                  <a:pt x="10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25720" y="2433600"/>
            <a:ext cx="198720" cy="277920"/>
          </a:xfrm>
          <a:prstGeom prst="rect">
            <a:avLst/>
          </a:prstGeom>
          <a:solidFill>
            <a:srgbClr val="199d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68800" y="2433600"/>
            <a:ext cx="834840" cy="277920"/>
          </a:xfrm>
          <a:prstGeom prst="rect">
            <a:avLst/>
          </a:prstGeom>
          <a:solidFill>
            <a:srgbClr val="199d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41880" y="2433600"/>
            <a:ext cx="843120" cy="277920"/>
          </a:xfrm>
          <a:prstGeom prst="rect">
            <a:avLst/>
          </a:prstGeom>
          <a:solidFill>
            <a:srgbClr val="199d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65560" y="3828960"/>
            <a:ext cx="83664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7480" y="3828960"/>
            <a:ext cx="83664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08480" y="3828960"/>
            <a:ext cx="19224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00720" y="3828960"/>
            <a:ext cx="83664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9440" y="2440080"/>
            <a:ext cx="83628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EC0-7246-4BEB-9178-BDBB6173D4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agle’s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0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long does sender delay sending da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: hurts interactiv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short: poor network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ies: timer-based vs self-c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pplication generates additio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ills a max segment (and window open): sen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re is unack’ed data in transit: buffer it until ACK arr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: send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F175-63AB-494B-A5E5-9204DD3EAC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ection Against Wrap Aroun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-bi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uence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Until Wrap A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 (1.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4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 (1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 (4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DI (10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3 (15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12 (622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5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24 (1.2 G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0481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2743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54100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743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D0E-392A-4E80-A407-4270989A78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eeping the Pipe Ful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bi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x Bandwidth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 (1.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 (1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2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 (4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49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DI (10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3 (15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8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12 (622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4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24 (1.2 G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8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100ms 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251460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281952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518148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94D-BDDF-480E-A113-565E68429CA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Extens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as header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timestamp in outgoing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sequence space with  32-bit timestamp (PA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 (scale) advertised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457-E378-4650-93EE-4AD2B5E578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aptive Retransmission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Original Algorithm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segment / ACK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weighted average of R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0.8 and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0.1 and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imeout based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E6B-C994-4B82-A180-57F51738B1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arn/Partridge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sample RTT when retransmit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timeout after each retransmi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05x10" descr=""/>
          <p:cNvPicPr/>
          <p:nvPr/>
        </p:nvPicPr>
        <p:blipFill>
          <a:blip r:embed="rId1"/>
          <a:stretch/>
        </p:blipFill>
        <p:spPr>
          <a:xfrm>
            <a:off x="1136520" y="1566720"/>
            <a:ext cx="6829560" cy="309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E862-7677-44B0-BF4A-7196E22085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Jacobson/ Karels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alculations for average 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 = EstRTT +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i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v = Dev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|Diff| - D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factor between 0 an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variance when setting timeou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only as good as granularity of clock (500ms on Un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rate timeout mechanism important to congestion control (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5A5-AC9B-4F8E-B385-7B8D977807D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d-to-End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best-effor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op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orders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s duplicate copies of a given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messages to some finit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s messages after an arbitrarily long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end-to-e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 messag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 messages in the same order they ar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 at most one copy of eac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arbitrarily large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synchr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the receiver to flow control the 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multiple application processes on each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ABA-031A-47CD-8B26-DAC9CA85C2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mple Demultiplexor (UDP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reliable and unordered datagram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ultipl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points identified by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 hav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ll-know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ser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er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 check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uedo header + UDP header +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05x01" descr=""/>
          <p:cNvPicPr/>
          <p:nvPr/>
        </p:nvPicPr>
        <p:blipFill>
          <a:blip r:embed="rId1"/>
          <a:stretch/>
        </p:blipFill>
        <p:spPr>
          <a:xfrm>
            <a:off x="5065560" y="3560760"/>
            <a:ext cx="2451240" cy="137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84F-BD82-45B0-90A4-D05174F197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200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-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 writes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 send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 reads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523880"/>
            <a:ext cx="4343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du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: keep sender from overrunning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on control: keep sender from overrunning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368440" y="3794040"/>
            <a:ext cx="4131720" cy="2431800"/>
            <a:chOff x="2368440" y="3794040"/>
            <a:chExt cx="4131720" cy="2431800"/>
          </a:xfrm>
        </p:grpSpPr>
        <p:sp>
          <p:nvSpPr>
            <p:cNvPr id="52" name=""/>
            <p:cNvSpPr/>
            <p:nvPr/>
          </p:nvSpPr>
          <p:spPr>
            <a:xfrm>
              <a:off x="2550960" y="4927680"/>
              <a:ext cx="963720" cy="487440"/>
            </a:xfrm>
            <a:custGeom>
              <a:avLst/>
              <a:gdLst/>
              <a:ahLst/>
              <a:rect l="l" t="t" r="r" b="b"/>
              <a:pathLst>
                <a:path w="607" h="307">
                  <a:moveTo>
                    <a:pt x="607" y="22"/>
                  </a:moveTo>
                  <a:lnTo>
                    <a:pt x="607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21" y="307"/>
                  </a:lnTo>
                  <a:lnTo>
                    <a:pt x="607" y="307"/>
                  </a:lnTo>
                  <a:lnTo>
                    <a:pt x="607" y="2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2240" y="4927680"/>
              <a:ext cx="1067040" cy="487440"/>
            </a:xfrm>
            <a:custGeom>
              <a:avLst/>
              <a:gdLst/>
              <a:ahLst/>
              <a:rect l="l" t="t" r="r" b="b"/>
              <a:pathLst>
                <a:path w="672" h="307">
                  <a:moveTo>
                    <a:pt x="672" y="22"/>
                  </a:moveTo>
                  <a:lnTo>
                    <a:pt x="672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21" y="307"/>
                  </a:lnTo>
                  <a:lnTo>
                    <a:pt x="672" y="307"/>
                  </a:lnTo>
                  <a:lnTo>
                    <a:pt x="672" y="2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8440" y="3794040"/>
              <a:ext cx="1285920" cy="414360"/>
            </a:xfrm>
            <a:custGeom>
              <a:avLst/>
              <a:gdLst/>
              <a:ahLst/>
              <a:rect l="l" t="t" r="r" b="b"/>
              <a:pathLst>
                <a:path w="810" h="261">
                  <a:moveTo>
                    <a:pt x="810" y="133"/>
                  </a:moveTo>
                  <a:lnTo>
                    <a:pt x="810" y="133"/>
                  </a:lnTo>
                  <a:lnTo>
                    <a:pt x="807" y="117"/>
                  </a:lnTo>
                  <a:lnTo>
                    <a:pt x="799" y="104"/>
                  </a:lnTo>
                  <a:lnTo>
                    <a:pt x="799" y="104"/>
                  </a:lnTo>
                  <a:lnTo>
                    <a:pt x="789" y="93"/>
                  </a:lnTo>
                  <a:lnTo>
                    <a:pt x="775" y="83"/>
                  </a:lnTo>
                  <a:lnTo>
                    <a:pt x="757" y="72"/>
                  </a:lnTo>
                  <a:lnTo>
                    <a:pt x="738" y="61"/>
                  </a:lnTo>
                  <a:lnTo>
                    <a:pt x="693" y="43"/>
                  </a:lnTo>
                  <a:lnTo>
                    <a:pt x="640" y="29"/>
                  </a:lnTo>
                  <a:lnTo>
                    <a:pt x="584" y="16"/>
                  </a:lnTo>
                  <a:lnTo>
                    <a:pt x="522" y="8"/>
                  </a:lnTo>
                  <a:lnTo>
                    <a:pt x="464" y="3"/>
                  </a:lnTo>
                  <a:lnTo>
                    <a:pt x="405" y="0"/>
                  </a:lnTo>
                  <a:lnTo>
                    <a:pt x="405" y="0"/>
                  </a:lnTo>
                  <a:lnTo>
                    <a:pt x="338" y="3"/>
                  </a:lnTo>
                  <a:lnTo>
                    <a:pt x="269" y="11"/>
                  </a:lnTo>
                  <a:lnTo>
                    <a:pt x="200" y="21"/>
                  </a:lnTo>
                  <a:lnTo>
                    <a:pt x="139" y="37"/>
                  </a:lnTo>
                  <a:lnTo>
                    <a:pt x="109" y="45"/>
                  </a:lnTo>
                  <a:lnTo>
                    <a:pt x="83" y="56"/>
                  </a:lnTo>
                  <a:lnTo>
                    <a:pt x="59" y="67"/>
                  </a:lnTo>
                  <a:lnTo>
                    <a:pt x="40" y="80"/>
                  </a:lnTo>
                  <a:lnTo>
                    <a:pt x="21" y="91"/>
                  </a:lnTo>
                  <a:lnTo>
                    <a:pt x="11" y="104"/>
                  </a:lnTo>
                  <a:lnTo>
                    <a:pt x="3" y="12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3" y="144"/>
                  </a:lnTo>
                  <a:lnTo>
                    <a:pt x="8" y="157"/>
                  </a:lnTo>
                  <a:lnTo>
                    <a:pt x="16" y="168"/>
                  </a:lnTo>
                  <a:lnTo>
                    <a:pt x="27" y="179"/>
                  </a:lnTo>
                  <a:lnTo>
                    <a:pt x="27" y="179"/>
                  </a:lnTo>
                  <a:lnTo>
                    <a:pt x="40" y="187"/>
                  </a:lnTo>
                  <a:lnTo>
                    <a:pt x="56" y="197"/>
                  </a:lnTo>
                  <a:lnTo>
                    <a:pt x="93" y="213"/>
                  </a:lnTo>
                  <a:lnTo>
                    <a:pt x="139" y="227"/>
                  </a:lnTo>
                  <a:lnTo>
                    <a:pt x="189" y="240"/>
                  </a:lnTo>
                  <a:lnTo>
                    <a:pt x="243" y="250"/>
                  </a:lnTo>
                  <a:lnTo>
                    <a:pt x="296" y="256"/>
                  </a:lnTo>
                  <a:lnTo>
                    <a:pt x="352" y="261"/>
                  </a:lnTo>
                  <a:lnTo>
                    <a:pt x="405" y="261"/>
                  </a:lnTo>
                  <a:lnTo>
                    <a:pt x="405" y="261"/>
                  </a:lnTo>
                  <a:lnTo>
                    <a:pt x="472" y="258"/>
                  </a:lnTo>
                  <a:lnTo>
                    <a:pt x="541" y="253"/>
                  </a:lnTo>
                  <a:lnTo>
                    <a:pt x="610" y="243"/>
                  </a:lnTo>
                  <a:lnTo>
                    <a:pt x="672" y="227"/>
                  </a:lnTo>
                  <a:lnTo>
                    <a:pt x="701" y="219"/>
                  </a:lnTo>
                  <a:lnTo>
                    <a:pt x="728" y="208"/>
                  </a:lnTo>
                  <a:lnTo>
                    <a:pt x="752" y="197"/>
                  </a:lnTo>
                  <a:lnTo>
                    <a:pt x="770" y="187"/>
                  </a:lnTo>
                  <a:lnTo>
                    <a:pt x="786" y="173"/>
                  </a:lnTo>
                  <a:lnTo>
                    <a:pt x="799" y="163"/>
                  </a:lnTo>
                  <a:lnTo>
                    <a:pt x="807" y="147"/>
                  </a:lnTo>
                  <a:lnTo>
                    <a:pt x="810" y="133"/>
                  </a:lnTo>
                  <a:lnTo>
                    <a:pt x="810" y="133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02280" y="3794040"/>
              <a:ext cx="1285920" cy="414360"/>
            </a:xfrm>
            <a:custGeom>
              <a:avLst/>
              <a:gdLst/>
              <a:ahLst/>
              <a:rect l="l" t="t" r="r" b="b"/>
              <a:pathLst>
                <a:path w="810" h="261">
                  <a:moveTo>
                    <a:pt x="810" y="133"/>
                  </a:moveTo>
                  <a:lnTo>
                    <a:pt x="810" y="133"/>
                  </a:lnTo>
                  <a:lnTo>
                    <a:pt x="807" y="117"/>
                  </a:lnTo>
                  <a:lnTo>
                    <a:pt x="799" y="104"/>
                  </a:lnTo>
                  <a:lnTo>
                    <a:pt x="799" y="104"/>
                  </a:lnTo>
                  <a:lnTo>
                    <a:pt x="788" y="93"/>
                  </a:lnTo>
                  <a:lnTo>
                    <a:pt x="775" y="83"/>
                  </a:lnTo>
                  <a:lnTo>
                    <a:pt x="756" y="72"/>
                  </a:lnTo>
                  <a:lnTo>
                    <a:pt x="738" y="61"/>
                  </a:lnTo>
                  <a:lnTo>
                    <a:pt x="692" y="43"/>
                  </a:lnTo>
                  <a:lnTo>
                    <a:pt x="639" y="29"/>
                  </a:lnTo>
                  <a:lnTo>
                    <a:pt x="583" y="16"/>
                  </a:lnTo>
                  <a:lnTo>
                    <a:pt x="522" y="8"/>
                  </a:lnTo>
                  <a:lnTo>
                    <a:pt x="463" y="3"/>
                  </a:lnTo>
                  <a:lnTo>
                    <a:pt x="405" y="0"/>
                  </a:lnTo>
                  <a:lnTo>
                    <a:pt x="405" y="0"/>
                  </a:lnTo>
                  <a:lnTo>
                    <a:pt x="338" y="3"/>
                  </a:lnTo>
                  <a:lnTo>
                    <a:pt x="269" y="11"/>
                  </a:lnTo>
                  <a:lnTo>
                    <a:pt x="199" y="21"/>
                  </a:lnTo>
                  <a:lnTo>
                    <a:pt x="138" y="37"/>
                  </a:lnTo>
                  <a:lnTo>
                    <a:pt x="109" y="45"/>
                  </a:lnTo>
                  <a:lnTo>
                    <a:pt x="82" y="56"/>
                  </a:lnTo>
                  <a:lnTo>
                    <a:pt x="58" y="67"/>
                  </a:lnTo>
                  <a:lnTo>
                    <a:pt x="40" y="80"/>
                  </a:lnTo>
                  <a:lnTo>
                    <a:pt x="21" y="91"/>
                  </a:lnTo>
                  <a:lnTo>
                    <a:pt x="10" y="104"/>
                  </a:lnTo>
                  <a:lnTo>
                    <a:pt x="2" y="12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2" y="144"/>
                  </a:lnTo>
                  <a:lnTo>
                    <a:pt x="8" y="157"/>
                  </a:lnTo>
                  <a:lnTo>
                    <a:pt x="16" y="168"/>
                  </a:lnTo>
                  <a:lnTo>
                    <a:pt x="26" y="179"/>
                  </a:lnTo>
                  <a:lnTo>
                    <a:pt x="26" y="179"/>
                  </a:lnTo>
                  <a:lnTo>
                    <a:pt x="40" y="187"/>
                  </a:lnTo>
                  <a:lnTo>
                    <a:pt x="56" y="197"/>
                  </a:lnTo>
                  <a:lnTo>
                    <a:pt x="93" y="213"/>
                  </a:lnTo>
                  <a:lnTo>
                    <a:pt x="138" y="227"/>
                  </a:lnTo>
                  <a:lnTo>
                    <a:pt x="189" y="240"/>
                  </a:lnTo>
                  <a:lnTo>
                    <a:pt x="242" y="250"/>
                  </a:lnTo>
                  <a:lnTo>
                    <a:pt x="295" y="256"/>
                  </a:lnTo>
                  <a:lnTo>
                    <a:pt x="351" y="261"/>
                  </a:lnTo>
                  <a:lnTo>
                    <a:pt x="405" y="261"/>
                  </a:lnTo>
                  <a:lnTo>
                    <a:pt x="405" y="261"/>
                  </a:lnTo>
                  <a:lnTo>
                    <a:pt x="471" y="258"/>
                  </a:lnTo>
                  <a:lnTo>
                    <a:pt x="541" y="253"/>
                  </a:lnTo>
                  <a:lnTo>
                    <a:pt x="610" y="243"/>
                  </a:lnTo>
                  <a:lnTo>
                    <a:pt x="671" y="227"/>
                  </a:lnTo>
                  <a:lnTo>
                    <a:pt x="700" y="219"/>
                  </a:lnTo>
                  <a:lnTo>
                    <a:pt x="727" y="208"/>
                  </a:lnTo>
                  <a:lnTo>
                    <a:pt x="751" y="197"/>
                  </a:lnTo>
                  <a:lnTo>
                    <a:pt x="770" y="187"/>
                  </a:lnTo>
                  <a:lnTo>
                    <a:pt x="786" y="173"/>
                  </a:lnTo>
                  <a:lnTo>
                    <a:pt x="799" y="163"/>
                  </a:lnTo>
                  <a:lnTo>
                    <a:pt x="807" y="147"/>
                  </a:lnTo>
                  <a:lnTo>
                    <a:pt x="810" y="133"/>
                  </a:lnTo>
                  <a:lnTo>
                    <a:pt x="810" y="133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65560" y="5786280"/>
              <a:ext cx="625320" cy="157320"/>
            </a:xfrm>
            <a:prstGeom prst="rect">
              <a:avLst/>
            </a:prstGeom>
            <a:solidFill>
              <a:srgbClr val="ccecf4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22640" y="5786280"/>
              <a:ext cx="625680" cy="157320"/>
            </a:xfrm>
            <a:prstGeom prst="rect">
              <a:avLst/>
            </a:prstGeom>
            <a:solidFill>
              <a:srgbClr val="ccecf4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3680" y="5786280"/>
              <a:ext cx="625320" cy="157320"/>
            </a:xfrm>
            <a:prstGeom prst="rect">
              <a:avLst/>
            </a:prstGeom>
            <a:solidFill>
              <a:srgbClr val="ccecf4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93640" y="3917880"/>
              <a:ext cx="1289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Application proce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27360" y="4390920"/>
              <a:ext cx="35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Wri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23400" y="4551480"/>
              <a:ext cx="35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by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9480" y="498780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TC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11520" y="5203800"/>
              <a:ext cx="77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Send buff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30360" y="57783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Seg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95640" y="4267080"/>
              <a:ext cx="276120" cy="101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95640" y="4772160"/>
              <a:ext cx="190440" cy="101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29480" y="4772160"/>
              <a:ext cx="190440" cy="101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29480" y="4272120"/>
              <a:ext cx="190440" cy="101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29480" y="4406760"/>
              <a:ext cx="190440" cy="101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95640" y="4403880"/>
              <a:ext cx="423720" cy="101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87800" y="57783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Seg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38480" y="57783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Seg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44800" y="6058080"/>
              <a:ext cx="127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Transmit segme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29040" y="5415120"/>
              <a:ext cx="2728800" cy="599760"/>
            </a:xfrm>
            <a:custGeom>
              <a:avLst/>
              <a:gdLst/>
              <a:ahLst/>
              <a:rect l="l" t="t" r="r" b="b"/>
              <a:pathLst>
                <a:path w="1719" h="378">
                  <a:moveTo>
                    <a:pt x="0" y="0"/>
                  </a:moveTo>
                  <a:lnTo>
                    <a:pt x="0" y="378"/>
                  </a:lnTo>
                  <a:lnTo>
                    <a:pt x="1719" y="378"/>
                  </a:lnTo>
                  <a:lnTo>
                    <a:pt x="1719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32640" y="5415120"/>
              <a:ext cx="45720" cy="8892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9" y="56"/>
                  </a:moveTo>
                  <a:lnTo>
                    <a:pt x="16" y="0"/>
                  </a:lnTo>
                  <a:lnTo>
                    <a:pt x="0" y="56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29040" y="4213080"/>
              <a:ext cx="1440" cy="63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03480" y="4826160"/>
              <a:ext cx="50760" cy="93600"/>
            </a:xfrm>
            <a:custGeom>
              <a:avLst/>
              <a:gdLst/>
              <a:ahLst/>
              <a:rect l="l" t="t" r="r" b="b"/>
              <a:pathLst>
                <a:path w="32" h="59">
                  <a:moveTo>
                    <a:pt x="0" y="0"/>
                  </a:moveTo>
                  <a:lnTo>
                    <a:pt x="16" y="59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32160" y="3917880"/>
              <a:ext cx="1289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Application proce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55640" y="4390920"/>
              <a:ext cx="33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Rea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44480" y="4551480"/>
              <a:ext cx="35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by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81520" y="498780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TC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2200" y="5203800"/>
              <a:ext cx="94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Receive buff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00640" y="5194440"/>
              <a:ext cx="934920" cy="1569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14680" y="5194440"/>
              <a:ext cx="833400" cy="1569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757840" y="4289040"/>
              <a:ext cx="1440" cy="638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32640" y="4208400"/>
              <a:ext cx="4572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59"/>
                  </a:moveTo>
                  <a:lnTo>
                    <a:pt x="16" y="0"/>
                  </a:lnTo>
                  <a:lnTo>
                    <a:pt x="0" y="59"/>
                  </a:lnTo>
                  <a:lnTo>
                    <a:pt x="2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24920" y="5689440"/>
              <a:ext cx="30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■ ■ ■</a:t>
              </a:r>
              <a:r>
                <a:rPr b="0" lang="en-US" sz="1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84560" y="4551480"/>
              <a:ext cx="25200" cy="156960"/>
            </a:xfrm>
            <a:custGeom>
              <a:avLst/>
              <a:gdLst/>
              <a:ahLst/>
              <a:rect l="l" t="t" r="r" b="b"/>
              <a:pathLst>
                <a:path w="16" h="99">
                  <a:moveTo>
                    <a:pt x="16" y="91"/>
                  </a:moveTo>
                  <a:lnTo>
                    <a:pt x="16" y="91"/>
                  </a:lnTo>
                  <a:lnTo>
                    <a:pt x="14" y="85"/>
                  </a:lnTo>
                  <a:lnTo>
                    <a:pt x="8" y="83"/>
                  </a:lnTo>
                  <a:lnTo>
                    <a:pt x="8" y="83"/>
                  </a:lnTo>
                  <a:lnTo>
                    <a:pt x="3" y="85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3" y="96"/>
                  </a:lnTo>
                  <a:lnTo>
                    <a:pt x="8" y="99"/>
                  </a:lnTo>
                  <a:lnTo>
                    <a:pt x="8" y="99"/>
                  </a:lnTo>
                  <a:lnTo>
                    <a:pt x="14" y="96"/>
                  </a:lnTo>
                  <a:lnTo>
                    <a:pt x="16" y="91"/>
                  </a:lnTo>
                  <a:lnTo>
                    <a:pt x="16" y="91"/>
                  </a:lnTo>
                  <a:close/>
                  <a:moveTo>
                    <a:pt x="16" y="48"/>
                  </a:moveTo>
                  <a:lnTo>
                    <a:pt x="16" y="48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3" y="4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3" y="53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4" y="53"/>
                  </a:lnTo>
                  <a:lnTo>
                    <a:pt x="16" y="48"/>
                  </a:lnTo>
                  <a:lnTo>
                    <a:pt x="16" y="48"/>
                  </a:lnTo>
                  <a:close/>
                  <a:moveTo>
                    <a:pt x="16" y="5"/>
                  </a:moveTo>
                  <a:lnTo>
                    <a:pt x="16" y="5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11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14" y="11"/>
                  </a:lnTo>
                  <a:lnTo>
                    <a:pt x="16" y="5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3360" y="4551480"/>
              <a:ext cx="25560" cy="156960"/>
            </a:xfrm>
            <a:custGeom>
              <a:avLst/>
              <a:gdLst/>
              <a:ahLst/>
              <a:rect l="l" t="t" r="r" b="b"/>
              <a:pathLst>
                <a:path w="16" h="99">
                  <a:moveTo>
                    <a:pt x="16" y="93"/>
                  </a:moveTo>
                  <a:lnTo>
                    <a:pt x="16" y="93"/>
                  </a:lnTo>
                  <a:lnTo>
                    <a:pt x="16" y="85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3" y="85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3" y="99"/>
                  </a:lnTo>
                  <a:lnTo>
                    <a:pt x="8" y="99"/>
                  </a:lnTo>
                  <a:lnTo>
                    <a:pt x="8" y="99"/>
                  </a:lnTo>
                  <a:lnTo>
                    <a:pt x="16" y="99"/>
                  </a:lnTo>
                  <a:lnTo>
                    <a:pt x="16" y="93"/>
                  </a:lnTo>
                  <a:lnTo>
                    <a:pt x="16" y="93"/>
                  </a:lnTo>
                  <a:close/>
                  <a:moveTo>
                    <a:pt x="16" y="51"/>
                  </a:moveTo>
                  <a:lnTo>
                    <a:pt x="16" y="51"/>
                  </a:lnTo>
                  <a:lnTo>
                    <a:pt x="16" y="45"/>
                  </a:lnTo>
                  <a:lnTo>
                    <a:pt x="8" y="43"/>
                  </a:lnTo>
                  <a:lnTo>
                    <a:pt x="8" y="43"/>
                  </a:lnTo>
                  <a:lnTo>
                    <a:pt x="3" y="45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3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6" y="56"/>
                  </a:lnTo>
                  <a:lnTo>
                    <a:pt x="16" y="51"/>
                  </a:lnTo>
                  <a:lnTo>
                    <a:pt x="16" y="51"/>
                  </a:lnTo>
                  <a:close/>
                  <a:moveTo>
                    <a:pt x="16" y="8"/>
                  </a:moveTo>
                  <a:lnTo>
                    <a:pt x="16" y="8"/>
                  </a:lnTo>
                  <a:lnTo>
                    <a:pt x="16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8"/>
                  </a:lnTo>
                  <a:lnTo>
                    <a:pt x="0" y="8"/>
                  </a:lnTo>
                  <a:lnTo>
                    <a:pt x="3" y="13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6" y="13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FCC-C851-423F-AC1F-8040E6A2F9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 Link Versus Transpor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connects many different 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explicit connection establishment and term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different R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daptive timeout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long delay in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be prepared for arrival of very old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different capacity at destin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accommodate different nod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different network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be prepared for network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4D8-B558-495C-8D44-F9AC8F7F69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gmen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3" name="05x04" descr=""/>
          <p:cNvPicPr/>
          <p:nvPr/>
        </p:nvPicPr>
        <p:blipFill>
          <a:blip r:embed="rId1"/>
          <a:stretch/>
        </p:blipFill>
        <p:spPr>
          <a:xfrm>
            <a:off x="1828800" y="1521000"/>
            <a:ext cx="5340240" cy="417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985-7402-41C7-8111-3FFB42CE2F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gment Forma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onnection identified with 4-tu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rcPort, SrcIPAddr, DsrPort, DstIPAdd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ing window + 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knowledgment, SequenceNum, AdvertisedWi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, FIN, RESET, PUSH, URG,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eudo header + TCP header +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05x05" descr=""/>
          <p:cNvPicPr/>
          <p:nvPr/>
        </p:nvPicPr>
        <p:blipFill>
          <a:blip r:embed="rId1"/>
          <a:stretch/>
        </p:blipFill>
        <p:spPr>
          <a:xfrm>
            <a:off x="1957320" y="2833560"/>
            <a:ext cx="4822920" cy="15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FFA-709A-4267-A9B5-5AC5A66A3C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nection Establishment and Termin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61480" y="1952640"/>
            <a:ext cx="1969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Active participa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26040" y="2244600"/>
            <a:ext cx="756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(cli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95120" y="1952640"/>
            <a:ext cx="2126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Passive participa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58600" y="2244600"/>
            <a:ext cx="85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(server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780000">
            <a:off x="3191040" y="2830680"/>
            <a:ext cx="243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SYN, SequenceNum =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780000">
            <a:off x="5565960" y="3119400"/>
            <a:ext cx="12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550960"/>
            <a:ext cx="1440" cy="3233880"/>
          </a:xfrm>
          <a:prstGeom prst="line">
            <a:avLst/>
          </a:prstGeom>
          <a:ln w="3024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3840" y="2558880"/>
            <a:ext cx="1800" cy="3241800"/>
          </a:xfrm>
          <a:prstGeom prst="line">
            <a:avLst/>
          </a:prstGeom>
          <a:ln w="3024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841480"/>
            <a:ext cx="3716280" cy="82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19880" y="3624120"/>
            <a:ext cx="176040" cy="84240"/>
          </a:xfrm>
          <a:custGeom>
            <a:avLst/>
            <a:gdLst/>
            <a:ahLst/>
            <a:rect l="l" t="t" r="r" b="b"/>
            <a:pathLst>
              <a:path w="111" h="53">
                <a:moveTo>
                  <a:pt x="0" y="53"/>
                </a:moveTo>
                <a:lnTo>
                  <a:pt x="111" y="53"/>
                </a:lnTo>
                <a:lnTo>
                  <a:pt x="20" y="0"/>
                </a:lnTo>
                <a:lnTo>
                  <a:pt x="0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720000">
            <a:off x="2845440" y="5040000"/>
            <a:ext cx="3153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ACK, Acknowledgment =</a:t>
            </a:r>
            <a:r>
              <a:rPr b="0" lang="en-US" sz="1900" spc="-1" strike="noStrike">
                <a:solidFill>
                  <a:srgbClr val="000000"/>
                </a:solidFill>
                <a:latin typeface="Myriad Roman"/>
              </a:rPr>
              <a:t>y+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9680" y="4673520"/>
            <a:ext cx="3716280" cy="827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95120" y="3716280"/>
            <a:ext cx="3708360" cy="919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581360"/>
            <a:ext cx="176040" cy="92160"/>
          </a:xfrm>
          <a:custGeom>
            <a:avLst/>
            <a:gdLst/>
            <a:ahLst/>
            <a:rect l="l" t="t" r="r" b="b"/>
            <a:pathLst>
              <a:path w="111" h="58">
                <a:moveTo>
                  <a:pt x="96" y="0"/>
                </a:moveTo>
                <a:lnTo>
                  <a:pt x="0" y="53"/>
                </a:lnTo>
                <a:lnTo>
                  <a:pt x="111" y="58"/>
                </a:lnTo>
                <a:lnTo>
                  <a:pt x="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0760000">
            <a:off x="3532320" y="4154040"/>
            <a:ext cx="257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Acknowledgment =</a:t>
            </a:r>
            <a:r>
              <a:rPr b="0" lang="en-US" sz="1900" spc="-1" strike="noStrike">
                <a:solidFill>
                  <a:srgbClr val="000000"/>
                </a:solidFill>
                <a:latin typeface="Myriad Roman"/>
              </a:rPr>
              <a:t>x+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19880" y="5448240"/>
            <a:ext cx="176040" cy="90720"/>
          </a:xfrm>
          <a:custGeom>
            <a:avLst/>
            <a:gdLst/>
            <a:ahLst/>
            <a:rect l="l" t="t" r="r" b="b"/>
            <a:pathLst>
              <a:path w="111" h="57">
                <a:moveTo>
                  <a:pt x="0" y="57"/>
                </a:moveTo>
                <a:lnTo>
                  <a:pt x="111" y="57"/>
                </a:lnTo>
                <a:lnTo>
                  <a:pt x="20" y="0"/>
                </a:lnTo>
                <a:lnTo>
                  <a:pt x="0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760000">
            <a:off x="2933640" y="3828960"/>
            <a:ext cx="3386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yriad Roman"/>
              </a:rPr>
              <a:t>SYN+ACK, SequenceNum=y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BA0-71B8-4D46-91F8-F8F525957A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ate Transition Diagra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6" name="05x07" descr=""/>
          <p:cNvPicPr/>
          <p:nvPr/>
        </p:nvPicPr>
        <p:blipFill>
          <a:blip r:embed="rId1"/>
          <a:stretch/>
        </p:blipFill>
        <p:spPr>
          <a:xfrm>
            <a:off x="1949400" y="1143000"/>
            <a:ext cx="5297400" cy="482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F0E-9941-4F34-9ADC-C7F000A366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06:00:28Z</dcterms:created>
  <dc:creator>klp</dc:creator>
  <dc:description/>
  <dc:language>en-US</dc:language>
  <cp:lastModifiedBy>Elsevier</cp:lastModifiedBy>
  <dcterms:modified xsi:type="dcterms:W3CDTF">2003-11-07T01:07:29Z</dcterms:modified>
  <cp:revision>38</cp:revision>
  <dc:subject/>
  <dc:title>No Slide Title</dc:title>
</cp:coreProperties>
</file>