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124-7305-4980-852B-083BC570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326-BF43-4B76-A64B-9284FED1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2BB-9FD8-4EB5-A9DF-5A2054C9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87C-2269-411A-9230-34623081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5C0-0B36-4882-ADCA-DB378F6A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B3C-7755-4622-9A0E-DE7569AE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9DA-80D7-449C-9434-1781864D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194-5559-4A28-939C-91CB9BC1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D2C-89A0-4DC7-8F1F-CF3B97E6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179-1FED-46ED-B0E1-635FE4F3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64B9-53CA-4C3C-959A-A6F9AE98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3FE-B5E9-44DB-808D-B0B1CEC1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2182-B4DF-4623-9E62-2E2327D22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9x17" descr=""/>
          <p:cNvPicPr/>
          <p:nvPr/>
        </p:nvPicPr>
        <p:blipFill>
          <a:blip r:embed="rId1"/>
          <a:stretch/>
        </p:blipFill>
        <p:spPr>
          <a:xfrm>
            <a:off x="3605040" y="2251080"/>
            <a:ext cx="19339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9x18" descr=""/>
          <p:cNvPicPr/>
          <p:nvPr/>
        </p:nvPicPr>
        <p:blipFill>
          <a:blip r:embed="rId1"/>
          <a:stretch/>
        </p:blipFill>
        <p:spPr>
          <a:xfrm>
            <a:off x="2733840" y="2766960"/>
            <a:ext cx="36763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9x19" descr=""/>
          <p:cNvPicPr/>
          <p:nvPr/>
        </p:nvPicPr>
        <p:blipFill>
          <a:blip r:embed="rId1"/>
          <a:stretch/>
        </p:blipFill>
        <p:spPr>
          <a:xfrm>
            <a:off x="3498840" y="1433520"/>
            <a:ext cx="21463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9x20" descr=""/>
          <p:cNvPicPr/>
          <p:nvPr/>
        </p:nvPicPr>
        <p:blipFill>
          <a:blip r:embed="rId1"/>
          <a:stretch/>
        </p:blipFill>
        <p:spPr>
          <a:xfrm>
            <a:off x="3343320" y="2216160"/>
            <a:ext cx="24573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9x21" descr=""/>
          <p:cNvPicPr/>
          <p:nvPr/>
        </p:nvPicPr>
        <p:blipFill>
          <a:blip r:embed="rId1"/>
          <a:stretch/>
        </p:blipFill>
        <p:spPr>
          <a:xfrm>
            <a:off x="2476440" y="2090880"/>
            <a:ext cx="419112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0:53:17Z</dcterms:created>
  <dc:creator>Elsevier</dc:creator>
  <dc:description/>
  <dc:language>en-US</dc:language>
  <cp:lastModifiedBy>Elsevier</cp:lastModifiedBy>
  <dcterms:modified xsi:type="dcterms:W3CDTF">2003-11-01T00:55:06Z</dcterms:modified>
  <cp:revision>1</cp:revision>
  <dc:subject/>
  <dc:title>PowerPoint Presentation</dc:title>
</cp:coreProperties>
</file>