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9411-5C3C-459A-AAD2-C1FFF87A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B65-D0C1-427B-B556-55D729FC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F77-D4C6-40C6-B03E-A50D08F9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6D8-078E-42DC-8CD2-AC45DC5E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9C26-76FE-4FB1-815A-13547AD1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1A4E-5C70-4D0D-9DDA-23641275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3D4-D779-487D-B7A4-2EF179E4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592-6643-45C4-AD1B-DFC8B069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570-46AE-43CF-A0EF-A5A2BEE1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6869-E554-438C-A8E3-9ABE11D5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573-517D-4505-86D5-41418AA2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1CE-9888-4137-B7CE-2C6846B3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C46B-0DD9-4045-89C0-E91EF488B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gestion Control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276360"/>
            <a:ext cx="4953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ing 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ng to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ing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063-B616-4EFF-A695-3191E904E1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IMD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how does the source determine whether or not the network is conges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a timeout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 signals that a packet was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are seldom lost due to transmiss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packet implies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D60-C5B4-4E12-8DE9-E9D9E7F8F1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IMD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: increment a little for each 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crement = (MSS * MSS)/Congestion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estionWindow += Incr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44792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one packet per RT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 in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two whenever a timeout occur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plicative de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903360" y="1292400"/>
            <a:ext cx="1880640" cy="3412800"/>
            <a:chOff x="6903360" y="1292400"/>
            <a:chExt cx="1880640" cy="3412800"/>
          </a:xfrm>
        </p:grpSpPr>
        <p:sp>
          <p:nvSpPr>
            <p:cNvPr id="101" name=""/>
            <p:cNvSpPr/>
            <p:nvPr/>
          </p:nvSpPr>
          <p:spPr>
            <a:xfrm>
              <a:off x="6903360" y="129240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Sou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98920" y="1292400"/>
              <a:ext cx="68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yriad Roman"/>
                </a:rPr>
                <a:t>Destin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75440" y="1442880"/>
              <a:ext cx="1800" cy="3246480"/>
            </a:xfrm>
            <a:prstGeom prst="line">
              <a:avLst/>
            </a:prstGeom>
            <a:ln w="1260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10680" y="1452600"/>
              <a:ext cx="1440" cy="3230640"/>
            </a:xfrm>
            <a:prstGeom prst="line">
              <a:avLst/>
            </a:prstGeom>
            <a:ln w="1260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81920" y="1566720"/>
              <a:ext cx="1262160" cy="28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34360" y="183204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24"/>
                  </a:moveTo>
                  <a:lnTo>
                    <a:pt x="46" y="20"/>
                  </a:lnTo>
                  <a:lnTo>
                    <a:pt x="6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139160" y="1866960"/>
              <a:ext cx="1265040" cy="33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78680" y="2187720"/>
              <a:ext cx="73080" cy="3780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40" y="0"/>
                  </a:moveTo>
                  <a:lnTo>
                    <a:pt x="0" y="22"/>
                  </a:lnTo>
                  <a:lnTo>
                    <a:pt x="46" y="2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81920" y="2222640"/>
              <a:ext cx="1262160" cy="284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34360" y="248760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24"/>
                  </a:moveTo>
                  <a:lnTo>
                    <a:pt x="46" y="20"/>
                  </a:lnTo>
                  <a:lnTo>
                    <a:pt x="6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139160" y="2522520"/>
              <a:ext cx="1265040" cy="33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78680" y="284472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0" y="0"/>
                  </a:moveTo>
                  <a:lnTo>
                    <a:pt x="0" y="20"/>
                  </a:lnTo>
                  <a:lnTo>
                    <a:pt x="46" y="2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78680" y="2336760"/>
              <a:ext cx="1265400" cy="284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34360" y="2602080"/>
              <a:ext cx="73080" cy="3780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24"/>
                  </a:moveTo>
                  <a:lnTo>
                    <a:pt x="46" y="20"/>
                  </a:lnTo>
                  <a:lnTo>
                    <a:pt x="6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139160" y="2637000"/>
              <a:ext cx="1265040" cy="33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78680" y="296064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0" y="0"/>
                  </a:moveTo>
                  <a:lnTo>
                    <a:pt x="0" y="20"/>
                  </a:lnTo>
                  <a:lnTo>
                    <a:pt x="46" y="2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78680" y="2879640"/>
              <a:ext cx="1265400" cy="285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34360" y="314640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24"/>
                  </a:moveTo>
                  <a:lnTo>
                    <a:pt x="46" y="20"/>
                  </a:lnTo>
                  <a:lnTo>
                    <a:pt x="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139160" y="3181320"/>
              <a:ext cx="1265040" cy="33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78680" y="350352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0" y="0"/>
                  </a:moveTo>
                  <a:lnTo>
                    <a:pt x="0" y="20"/>
                  </a:lnTo>
                  <a:lnTo>
                    <a:pt x="46" y="2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78680" y="2995560"/>
              <a:ext cx="1265400" cy="284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34360" y="3260880"/>
              <a:ext cx="73080" cy="3780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24"/>
                  </a:moveTo>
                  <a:lnTo>
                    <a:pt x="46" y="20"/>
                  </a:lnTo>
                  <a:lnTo>
                    <a:pt x="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139160" y="3295800"/>
              <a:ext cx="1265040" cy="33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78680" y="3618000"/>
              <a:ext cx="7308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0" y="0"/>
                  </a:moveTo>
                  <a:lnTo>
                    <a:pt x="0" y="21"/>
                  </a:lnTo>
                  <a:lnTo>
                    <a:pt x="46" y="2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8680" y="3110040"/>
              <a:ext cx="1265400" cy="285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34360" y="337500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23"/>
                  </a:moveTo>
                  <a:lnTo>
                    <a:pt x="44" y="21"/>
                  </a:lnTo>
                  <a:lnTo>
                    <a:pt x="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138800" y="3411360"/>
              <a:ext cx="1268280" cy="338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78680" y="373392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0" y="0"/>
                  </a:moveTo>
                  <a:lnTo>
                    <a:pt x="0" y="20"/>
                  </a:lnTo>
                  <a:lnTo>
                    <a:pt x="46" y="2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81920" y="3538440"/>
              <a:ext cx="1262160" cy="28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34360" y="38070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22"/>
                  </a:moveTo>
                  <a:lnTo>
                    <a:pt x="44" y="20"/>
                  </a:lnTo>
                  <a:lnTo>
                    <a:pt x="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138800" y="3838680"/>
              <a:ext cx="1268280" cy="33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78680" y="416232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0" y="0"/>
                  </a:moveTo>
                  <a:lnTo>
                    <a:pt x="0" y="20"/>
                  </a:lnTo>
                  <a:lnTo>
                    <a:pt x="46" y="2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81920" y="3654360"/>
              <a:ext cx="1262160" cy="28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34360" y="3919680"/>
              <a:ext cx="69840" cy="3780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0" y="24"/>
                  </a:moveTo>
                  <a:lnTo>
                    <a:pt x="44" y="20"/>
                  </a:lnTo>
                  <a:lnTo>
                    <a:pt x="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139160" y="3954600"/>
              <a:ext cx="1265040" cy="33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78680" y="427680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0" y="0"/>
                  </a:moveTo>
                  <a:lnTo>
                    <a:pt x="0" y="20"/>
                  </a:lnTo>
                  <a:lnTo>
                    <a:pt x="46" y="2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81920" y="3768840"/>
              <a:ext cx="1262160" cy="284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34360" y="403704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22"/>
                  </a:moveTo>
                  <a:lnTo>
                    <a:pt x="44" y="20"/>
                  </a:lnTo>
                  <a:lnTo>
                    <a:pt x="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139160" y="4068720"/>
              <a:ext cx="1265040" cy="33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78680" y="439272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0" y="0"/>
                  </a:moveTo>
                  <a:lnTo>
                    <a:pt x="0" y="20"/>
                  </a:lnTo>
                  <a:lnTo>
                    <a:pt x="46" y="2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81920" y="3884760"/>
              <a:ext cx="1262160" cy="284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34360" y="414972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0" y="24"/>
                  </a:moveTo>
                  <a:lnTo>
                    <a:pt x="46" y="20"/>
                  </a:lnTo>
                  <a:lnTo>
                    <a:pt x="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138800" y="4184640"/>
              <a:ext cx="1268280" cy="33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78680" y="4506840"/>
              <a:ext cx="7308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0" y="0"/>
                  </a:moveTo>
                  <a:lnTo>
                    <a:pt x="0" y="20"/>
                  </a:lnTo>
                  <a:lnTo>
                    <a:pt x="46" y="2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77080" y="4586400"/>
              <a:ext cx="19080" cy="118800"/>
            </a:xfrm>
            <a:custGeom>
              <a:avLst/>
              <a:gdLst/>
              <a:ahLst/>
              <a:rect l="l" t="t" r="r" b="b"/>
              <a:pathLst>
                <a:path w="12" h="75">
                  <a:moveTo>
                    <a:pt x="12" y="71"/>
                  </a:moveTo>
                  <a:lnTo>
                    <a:pt x="12" y="71"/>
                  </a:lnTo>
                  <a:lnTo>
                    <a:pt x="10" y="65"/>
                  </a:lnTo>
                  <a:lnTo>
                    <a:pt x="6" y="65"/>
                  </a:lnTo>
                  <a:lnTo>
                    <a:pt x="6" y="65"/>
                  </a:lnTo>
                  <a:lnTo>
                    <a:pt x="2" y="65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" y="75"/>
                  </a:lnTo>
                  <a:lnTo>
                    <a:pt x="6" y="75"/>
                  </a:lnTo>
                  <a:lnTo>
                    <a:pt x="6" y="75"/>
                  </a:lnTo>
                  <a:lnTo>
                    <a:pt x="10" y="75"/>
                  </a:lnTo>
                  <a:lnTo>
                    <a:pt x="12" y="71"/>
                  </a:lnTo>
                  <a:lnTo>
                    <a:pt x="12" y="71"/>
                  </a:lnTo>
                  <a:close/>
                  <a:moveTo>
                    <a:pt x="12" y="39"/>
                  </a:moveTo>
                  <a:lnTo>
                    <a:pt x="12" y="39"/>
                  </a:lnTo>
                  <a:lnTo>
                    <a:pt x="10" y="35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2" y="35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2" y="43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10" y="43"/>
                  </a:lnTo>
                  <a:lnTo>
                    <a:pt x="12" y="39"/>
                  </a:lnTo>
                  <a:lnTo>
                    <a:pt x="12" y="39"/>
                  </a:lnTo>
                  <a:close/>
                  <a:moveTo>
                    <a:pt x="12" y="6"/>
                  </a:moveTo>
                  <a:lnTo>
                    <a:pt x="12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794-6152-4CCC-8586-A8BCEDC872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IMD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e: sawtooth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06x09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769644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6FAE-AE78-4042-A0C4-D63AC2B137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ow Star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determine the available capacity in the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ach RTT (increment by 1 packet for each 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68400" y="144000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6680" y="14400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yriad Roman"/>
              </a:rPr>
              <a:t>Dest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0040" y="1612800"/>
            <a:ext cx="1440" cy="3741840"/>
          </a:xfrm>
          <a:prstGeom prst="line">
            <a:avLst/>
          </a:prstGeom>
          <a:ln w="19080">
            <a:solidFill>
              <a:srgbClr val="00a0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96320" y="1623960"/>
            <a:ext cx="1440" cy="3730680"/>
          </a:xfrm>
          <a:prstGeom prst="line">
            <a:avLst/>
          </a:prstGeom>
          <a:ln w="19080">
            <a:solidFill>
              <a:srgbClr val="00a0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4720" y="4065480"/>
            <a:ext cx="126504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73920" y="436572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5"/>
                </a:moveTo>
                <a:lnTo>
                  <a:pt x="71" y="30"/>
                </a:lnTo>
                <a:lnTo>
                  <a:pt x="16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4720" y="3981600"/>
            <a:ext cx="126504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73920" y="428148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5"/>
                </a:moveTo>
                <a:lnTo>
                  <a:pt x="71" y="30"/>
                </a:lnTo>
                <a:lnTo>
                  <a:pt x="16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723000" y="4335480"/>
            <a:ext cx="126360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4695840"/>
            <a:ext cx="108000" cy="47520"/>
          </a:xfrm>
          <a:custGeom>
            <a:avLst/>
            <a:gdLst/>
            <a:ahLst/>
            <a:rect l="l" t="t" r="r" b="b"/>
            <a:pathLst>
              <a:path w="68" h="30">
                <a:moveTo>
                  <a:pt x="56" y="0"/>
                </a:moveTo>
                <a:lnTo>
                  <a:pt x="0" y="30"/>
                </a:lnTo>
                <a:lnTo>
                  <a:pt x="68" y="25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4720" y="4141800"/>
            <a:ext cx="127476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73920" y="444672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5"/>
                </a:moveTo>
                <a:lnTo>
                  <a:pt x="71" y="30"/>
                </a:lnTo>
                <a:lnTo>
                  <a:pt x="13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29400" y="3290760"/>
            <a:ext cx="126036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920" y="358776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6"/>
                </a:moveTo>
                <a:lnTo>
                  <a:pt x="71" y="30"/>
                </a:lnTo>
                <a:lnTo>
                  <a:pt x="13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4720" y="3206880"/>
            <a:ext cx="126504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73920" y="3508200"/>
            <a:ext cx="112680" cy="4788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5"/>
                </a:moveTo>
                <a:lnTo>
                  <a:pt x="71" y="30"/>
                </a:lnTo>
                <a:lnTo>
                  <a:pt x="13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4720" y="2529000"/>
            <a:ext cx="126504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73920" y="2828880"/>
            <a:ext cx="112680" cy="52560"/>
          </a:xfrm>
          <a:custGeom>
            <a:avLst/>
            <a:gdLst/>
            <a:ahLst/>
            <a:rect l="l" t="t" r="r" b="b"/>
            <a:pathLst>
              <a:path w="71" h="33">
                <a:moveTo>
                  <a:pt x="0" y="26"/>
                </a:moveTo>
                <a:lnTo>
                  <a:pt x="71" y="33"/>
                </a:lnTo>
                <a:lnTo>
                  <a:pt x="16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24720" y="1677960"/>
            <a:ext cx="126504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73920" y="1979640"/>
            <a:ext cx="112680" cy="50760"/>
          </a:xfrm>
          <a:custGeom>
            <a:avLst/>
            <a:gdLst/>
            <a:ahLst/>
            <a:rect l="l" t="t" r="r" b="b"/>
            <a:pathLst>
              <a:path w="71" h="32">
                <a:moveTo>
                  <a:pt x="0" y="25"/>
                </a:moveTo>
                <a:lnTo>
                  <a:pt x="71" y="32"/>
                </a:lnTo>
                <a:lnTo>
                  <a:pt x="16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4720" y="2436840"/>
            <a:ext cx="126504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73920" y="274176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5"/>
                </a:moveTo>
                <a:lnTo>
                  <a:pt x="71" y="30"/>
                </a:lnTo>
                <a:lnTo>
                  <a:pt x="16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4720" y="3368520"/>
            <a:ext cx="1270080" cy="33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73920" y="367344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5"/>
                </a:moveTo>
                <a:lnTo>
                  <a:pt x="71" y="30"/>
                </a:lnTo>
                <a:lnTo>
                  <a:pt x="13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4720" y="3452760"/>
            <a:ext cx="127008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73920" y="375300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6"/>
                </a:moveTo>
                <a:lnTo>
                  <a:pt x="71" y="30"/>
                </a:lnTo>
                <a:lnTo>
                  <a:pt x="13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723000" y="4416480"/>
            <a:ext cx="1263600" cy="37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4776840"/>
            <a:ext cx="112680" cy="42840"/>
          </a:xfrm>
          <a:custGeom>
            <a:avLst/>
            <a:gdLst/>
            <a:ahLst/>
            <a:rect l="l" t="t" r="r" b="b"/>
            <a:pathLst>
              <a:path w="71" h="27">
                <a:moveTo>
                  <a:pt x="59" y="0"/>
                </a:moveTo>
                <a:lnTo>
                  <a:pt x="0" y="27"/>
                </a:lnTo>
                <a:lnTo>
                  <a:pt x="71" y="2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723000" y="2797200"/>
            <a:ext cx="1263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4720" y="315612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59" y="0"/>
                </a:moveTo>
                <a:lnTo>
                  <a:pt x="0" y="30"/>
                </a:lnTo>
                <a:lnTo>
                  <a:pt x="71" y="2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723000" y="2884320"/>
            <a:ext cx="12636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4720" y="3240000"/>
            <a:ext cx="112680" cy="44640"/>
          </a:xfrm>
          <a:custGeom>
            <a:avLst/>
            <a:gdLst/>
            <a:ahLst/>
            <a:rect l="l" t="t" r="r" b="b"/>
            <a:pathLst>
              <a:path w="71" h="28">
                <a:moveTo>
                  <a:pt x="59" y="0"/>
                </a:moveTo>
                <a:lnTo>
                  <a:pt x="0" y="28"/>
                </a:lnTo>
                <a:lnTo>
                  <a:pt x="71" y="2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723000" y="2033640"/>
            <a:ext cx="1263600" cy="37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4720" y="238932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59" y="0"/>
                </a:moveTo>
                <a:lnTo>
                  <a:pt x="0" y="30"/>
                </a:lnTo>
                <a:lnTo>
                  <a:pt x="71" y="26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4720" y="4226040"/>
            <a:ext cx="126504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73920" y="4522680"/>
            <a:ext cx="112680" cy="52560"/>
          </a:xfrm>
          <a:custGeom>
            <a:avLst/>
            <a:gdLst/>
            <a:ahLst/>
            <a:rect l="l" t="t" r="r" b="b"/>
            <a:pathLst>
              <a:path w="71" h="33">
                <a:moveTo>
                  <a:pt x="0" y="26"/>
                </a:moveTo>
                <a:lnTo>
                  <a:pt x="71" y="33"/>
                </a:lnTo>
                <a:lnTo>
                  <a:pt x="13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24720" y="4387680"/>
            <a:ext cx="126504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73920" y="469116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4"/>
                </a:moveTo>
                <a:lnTo>
                  <a:pt x="71" y="30"/>
                </a:lnTo>
                <a:lnTo>
                  <a:pt x="13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4720" y="4307040"/>
            <a:ext cx="126504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73920" y="460692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6"/>
                </a:moveTo>
                <a:lnTo>
                  <a:pt x="71" y="30"/>
                </a:lnTo>
                <a:lnTo>
                  <a:pt x="16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4720" y="4468680"/>
            <a:ext cx="127476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73920" y="4768920"/>
            <a:ext cx="108000" cy="47520"/>
          </a:xfrm>
          <a:custGeom>
            <a:avLst/>
            <a:gdLst/>
            <a:ahLst/>
            <a:rect l="l" t="t" r="r" b="b"/>
            <a:pathLst>
              <a:path w="68" h="30">
                <a:moveTo>
                  <a:pt x="0" y="25"/>
                </a:moveTo>
                <a:lnTo>
                  <a:pt x="68" y="30"/>
                </a:lnTo>
                <a:lnTo>
                  <a:pt x="13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24720" y="4552920"/>
            <a:ext cx="126504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73920" y="484992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0" y="25"/>
                </a:moveTo>
                <a:lnTo>
                  <a:pt x="71" y="30"/>
                </a:lnTo>
                <a:lnTo>
                  <a:pt x="13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723000" y="4497480"/>
            <a:ext cx="1263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4720" y="4861080"/>
            <a:ext cx="112680" cy="42840"/>
          </a:xfrm>
          <a:custGeom>
            <a:avLst/>
            <a:gdLst/>
            <a:ahLst/>
            <a:rect l="l" t="t" r="r" b="b"/>
            <a:pathLst>
              <a:path w="71" h="27">
                <a:moveTo>
                  <a:pt x="59" y="0"/>
                </a:moveTo>
                <a:lnTo>
                  <a:pt x="0" y="27"/>
                </a:lnTo>
                <a:lnTo>
                  <a:pt x="71" y="2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717960" y="3559320"/>
            <a:ext cx="126828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4720" y="3929040"/>
            <a:ext cx="108000" cy="44640"/>
          </a:xfrm>
          <a:custGeom>
            <a:avLst/>
            <a:gdLst/>
            <a:ahLst/>
            <a:rect l="l" t="t" r="r" b="b"/>
            <a:pathLst>
              <a:path w="68" h="28">
                <a:moveTo>
                  <a:pt x="59" y="0"/>
                </a:moveTo>
                <a:lnTo>
                  <a:pt x="0" y="28"/>
                </a:lnTo>
                <a:lnTo>
                  <a:pt x="68" y="26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723000" y="3639960"/>
            <a:ext cx="1263600" cy="39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4010040"/>
            <a:ext cx="112680" cy="47520"/>
          </a:xfrm>
          <a:custGeom>
            <a:avLst/>
            <a:gdLst/>
            <a:ahLst/>
            <a:rect l="l" t="t" r="r" b="b"/>
            <a:pathLst>
              <a:path w="71" h="30">
                <a:moveTo>
                  <a:pt x="59" y="0"/>
                </a:moveTo>
                <a:lnTo>
                  <a:pt x="0" y="30"/>
                </a:lnTo>
                <a:lnTo>
                  <a:pt x="71" y="2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723000" y="3724200"/>
            <a:ext cx="1263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4720" y="4091040"/>
            <a:ext cx="108000" cy="42840"/>
          </a:xfrm>
          <a:custGeom>
            <a:avLst/>
            <a:gdLst/>
            <a:ahLst/>
            <a:rect l="l" t="t" r="r" b="b"/>
            <a:pathLst>
              <a:path w="68" h="27">
                <a:moveTo>
                  <a:pt x="59" y="0"/>
                </a:moveTo>
                <a:lnTo>
                  <a:pt x="0" y="27"/>
                </a:lnTo>
                <a:lnTo>
                  <a:pt x="68" y="2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717960" y="3805200"/>
            <a:ext cx="126828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4720" y="4175280"/>
            <a:ext cx="108000" cy="44280"/>
          </a:xfrm>
          <a:custGeom>
            <a:avLst/>
            <a:gdLst/>
            <a:ahLst/>
            <a:rect l="l" t="t" r="r" b="b"/>
            <a:pathLst>
              <a:path w="68" h="28">
                <a:moveTo>
                  <a:pt x="59" y="0"/>
                </a:moveTo>
                <a:lnTo>
                  <a:pt x="0" y="28"/>
                </a:lnTo>
                <a:lnTo>
                  <a:pt x="68" y="2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6723000" y="4578480"/>
            <a:ext cx="1263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24720" y="4940280"/>
            <a:ext cx="112680" cy="44640"/>
          </a:xfrm>
          <a:custGeom>
            <a:avLst/>
            <a:gdLst/>
            <a:ahLst/>
            <a:rect l="l" t="t" r="r" b="b"/>
            <a:pathLst>
              <a:path w="71" h="28">
                <a:moveTo>
                  <a:pt x="59" y="0"/>
                </a:moveTo>
                <a:lnTo>
                  <a:pt x="0" y="28"/>
                </a:lnTo>
                <a:lnTo>
                  <a:pt x="71" y="26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22640" y="4659480"/>
            <a:ext cx="1258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5021280"/>
            <a:ext cx="108000" cy="44280"/>
          </a:xfrm>
          <a:custGeom>
            <a:avLst/>
            <a:gdLst/>
            <a:ahLst/>
            <a:rect l="l" t="t" r="r" b="b"/>
            <a:pathLst>
              <a:path w="68" h="28">
                <a:moveTo>
                  <a:pt x="56" y="0"/>
                </a:moveTo>
                <a:lnTo>
                  <a:pt x="0" y="28"/>
                </a:lnTo>
                <a:lnTo>
                  <a:pt x="68" y="26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722640" y="4743360"/>
            <a:ext cx="1258920" cy="3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24720" y="5099040"/>
            <a:ext cx="112680" cy="42840"/>
          </a:xfrm>
          <a:custGeom>
            <a:avLst/>
            <a:gdLst/>
            <a:ahLst/>
            <a:rect l="l" t="t" r="r" b="b"/>
            <a:pathLst>
              <a:path w="71" h="27">
                <a:moveTo>
                  <a:pt x="59" y="0"/>
                </a:moveTo>
                <a:lnTo>
                  <a:pt x="0" y="27"/>
                </a:lnTo>
                <a:lnTo>
                  <a:pt x="71" y="2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723000" y="4819680"/>
            <a:ext cx="1263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4720" y="5183280"/>
            <a:ext cx="112680" cy="44280"/>
          </a:xfrm>
          <a:custGeom>
            <a:avLst/>
            <a:gdLst/>
            <a:ahLst/>
            <a:rect l="l" t="t" r="r" b="b"/>
            <a:pathLst>
              <a:path w="71" h="28">
                <a:moveTo>
                  <a:pt x="59" y="0"/>
                </a:moveTo>
                <a:lnTo>
                  <a:pt x="0" y="28"/>
                </a:lnTo>
                <a:lnTo>
                  <a:pt x="71" y="2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723000" y="4900680"/>
            <a:ext cx="1263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24720" y="5259240"/>
            <a:ext cx="112680" cy="47880"/>
          </a:xfrm>
          <a:custGeom>
            <a:avLst/>
            <a:gdLst/>
            <a:ahLst/>
            <a:rect l="l" t="t" r="r" b="b"/>
            <a:pathLst>
              <a:path w="71" h="30">
                <a:moveTo>
                  <a:pt x="59" y="0"/>
                </a:moveTo>
                <a:lnTo>
                  <a:pt x="0" y="30"/>
                </a:lnTo>
                <a:lnTo>
                  <a:pt x="71" y="26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56600" y="5253120"/>
            <a:ext cx="29880" cy="135000"/>
          </a:xfrm>
          <a:custGeom>
            <a:avLst/>
            <a:gdLst/>
            <a:ahLst/>
            <a:rect l="l" t="t" r="r" b="b"/>
            <a:pathLst>
              <a:path w="19" h="85">
                <a:moveTo>
                  <a:pt x="19" y="81"/>
                </a:moveTo>
                <a:lnTo>
                  <a:pt x="19" y="81"/>
                </a:lnTo>
                <a:lnTo>
                  <a:pt x="19" y="74"/>
                </a:lnTo>
                <a:lnTo>
                  <a:pt x="10" y="74"/>
                </a:lnTo>
                <a:lnTo>
                  <a:pt x="10" y="74"/>
                </a:lnTo>
                <a:lnTo>
                  <a:pt x="4" y="74"/>
                </a:lnTo>
                <a:lnTo>
                  <a:pt x="0" y="78"/>
                </a:lnTo>
                <a:lnTo>
                  <a:pt x="0" y="78"/>
                </a:lnTo>
                <a:lnTo>
                  <a:pt x="4" y="85"/>
                </a:lnTo>
                <a:lnTo>
                  <a:pt x="10" y="85"/>
                </a:lnTo>
                <a:lnTo>
                  <a:pt x="10" y="85"/>
                </a:lnTo>
                <a:lnTo>
                  <a:pt x="19" y="85"/>
                </a:lnTo>
                <a:lnTo>
                  <a:pt x="19" y="81"/>
                </a:lnTo>
                <a:lnTo>
                  <a:pt x="19" y="81"/>
                </a:lnTo>
                <a:close/>
                <a:moveTo>
                  <a:pt x="19" y="44"/>
                </a:moveTo>
                <a:lnTo>
                  <a:pt x="19" y="44"/>
                </a:lnTo>
                <a:lnTo>
                  <a:pt x="19" y="39"/>
                </a:lnTo>
                <a:lnTo>
                  <a:pt x="10" y="37"/>
                </a:lnTo>
                <a:lnTo>
                  <a:pt x="10" y="37"/>
                </a:lnTo>
                <a:lnTo>
                  <a:pt x="4" y="39"/>
                </a:lnTo>
                <a:lnTo>
                  <a:pt x="0" y="44"/>
                </a:lnTo>
                <a:lnTo>
                  <a:pt x="0" y="44"/>
                </a:lnTo>
                <a:lnTo>
                  <a:pt x="4" y="48"/>
                </a:lnTo>
                <a:lnTo>
                  <a:pt x="10" y="48"/>
                </a:lnTo>
                <a:lnTo>
                  <a:pt x="10" y="48"/>
                </a:lnTo>
                <a:lnTo>
                  <a:pt x="19" y="48"/>
                </a:lnTo>
                <a:lnTo>
                  <a:pt x="19" y="44"/>
                </a:lnTo>
                <a:lnTo>
                  <a:pt x="19" y="44"/>
                </a:lnTo>
                <a:close/>
                <a:moveTo>
                  <a:pt x="19" y="7"/>
                </a:moveTo>
                <a:lnTo>
                  <a:pt x="19" y="7"/>
                </a:lnTo>
                <a:lnTo>
                  <a:pt x="19" y="2"/>
                </a:lnTo>
                <a:lnTo>
                  <a:pt x="10" y="0"/>
                </a:lnTo>
                <a:lnTo>
                  <a:pt x="10" y="0"/>
                </a:lnTo>
                <a:lnTo>
                  <a:pt x="4" y="2"/>
                </a:lnTo>
                <a:lnTo>
                  <a:pt x="0" y="7"/>
                </a:lnTo>
                <a:lnTo>
                  <a:pt x="0" y="7"/>
                </a:lnTo>
                <a:lnTo>
                  <a:pt x="4" y="11"/>
                </a:lnTo>
                <a:lnTo>
                  <a:pt x="10" y="11"/>
                </a:lnTo>
                <a:lnTo>
                  <a:pt x="10" y="11"/>
                </a:lnTo>
                <a:lnTo>
                  <a:pt x="19" y="11"/>
                </a:lnTo>
                <a:lnTo>
                  <a:pt x="19" y="7"/>
                </a:lnTo>
                <a:lnTo>
                  <a:pt x="19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57BB-EC22-4417-9436-FD056E98E4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low Start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nential growth, but slower than all at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irst starting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onnection goes dead waiting for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lose up to half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worth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06x11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6553080" cy="191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A0DD-0AD6-4FC1-B4A5-682F44BCA3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ast Retransmit and Fast Reco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267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coarse-grain TCP timeouts lead to idle peri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retransmit: use duplicate ACKs to trigger re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06x12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288756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A91-2243-4447-916D-E7CD631044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sul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4038480"/>
            <a:ext cx="4876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 the slow start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 directly to half the last successfu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gestionWindow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06x13" descr=""/>
          <p:cNvPicPr/>
          <p:nvPr/>
        </p:nvPicPr>
        <p:blipFill>
          <a:blip r:embed="rId1"/>
          <a:stretch/>
        </p:blipFill>
        <p:spPr>
          <a:xfrm>
            <a:off x="533520" y="1503360"/>
            <a:ext cx="7848360" cy="22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F09B-908E-4D27-9DD0-2DF7A75634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gestion Avoidan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’s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congestion once it happ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edly increase load in an effort to find the point at which congestion occurs, and then back 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 when congestion is about to ha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rate before packets start being discar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this conges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void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stead of conges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ssibil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-centric: DECbit and RED Gateway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-centric: TCP Ve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FAAC-09AE-40B3-B9C0-583E44EAB3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ECbi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binary congestion bit to each packet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s average queue length over last busy+idl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congestion bit if average queue length 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s to balance throughout against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06x14" descr=""/>
          <p:cNvPicPr/>
          <p:nvPr/>
        </p:nvPicPr>
        <p:blipFill>
          <a:blip r:embed="rId1"/>
          <a:stretch/>
        </p:blipFill>
        <p:spPr>
          <a:xfrm>
            <a:off x="1905120" y="2467080"/>
            <a:ext cx="4600440" cy="27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5E1-8FFD-49B3-BAFA-17F94409B5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nd Hos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ination echoes bit back to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records how many packets resulted in set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ess than 50% of last window’s worth had bit s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1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50% or more of last window’s worth had bit s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0.875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5807-9165-41D4-AE34-DA9E7D1E36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ssu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the same c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allocate resources so at to avoid 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congestion if (and when) is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ints of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s at the edges of the network (transport protoc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s inside the network (queuing discipl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servi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t-effort (assume for n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alities of ser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6x01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09580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C1FA-6F96-47F2-90BD-29CA6627E5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andom Early Detection (RED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ication is implic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drop the packet (TCP will time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make explicit by marking the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random dr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her than wait for queue to become full, drop each arriving packet with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op probabil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ever the queue length exceeds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3B4-B5F9-4C24-B4FB-1461DBC945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D Detai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average queue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vgLen = (1 - Weight) * AvgLen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ight * Sampl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&l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1 (usually 0.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pleL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queue length each time a packet arr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06x16" descr=""/>
          <p:cNvPicPr/>
          <p:nvPr/>
        </p:nvPicPr>
        <p:blipFill>
          <a:blip r:embed="rId1"/>
          <a:stretch/>
        </p:blipFill>
        <p:spPr>
          <a:xfrm>
            <a:off x="2133720" y="3505320"/>
            <a:ext cx="457200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ED7E-1FCF-4A5A-BB0A-746F5D49BB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D Detail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queue length thres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vgLen &lt;= MinThreshold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queue the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MinThreshold &lt; AvgLen &lt; MaxThreshold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culate probability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op arriving packet with probability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ManThreshold &lt;= AvgLen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op arriving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6F9-9A7C-4E29-BA36-CC94DC1409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D Details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ing probability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P = MaxP * (AvgLen - MinThreshold)/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MaxThreshold - MinThresho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 = TempP/(1 - count * Tem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 Probability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06x17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3733920" cy="24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62F-C4A2-4090-B7C2-88DE521571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uning RE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dropping a particular flow’s packet(s) is roughly proportional to the share of the bandwidth that flow is currently g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ypically set to 0.02, meaning that when the average queue size is halfway between the two thresholds, the gateway drops roughly one out of 50 pack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affic id bursty, t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Thres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be sufficiently large to allow link utilization to be maintained at an acceptably high le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 between two thresholds should be larger than the typical increase in the calculated average queue length in one RTT; sett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Thres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wi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Thres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reasonable for traffic on today’s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alty Box for Offe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CA0-67B9-488E-9C17-BBE8EB8011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CP Vega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source watches for some sign that router’s queue is building up and congestion will happen too; 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T g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ing rate flatte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06x18" descr=""/>
          <p:cNvPicPr/>
          <p:nvPr/>
        </p:nvPicPr>
        <p:blipFill>
          <a:blip r:embed="rId1"/>
          <a:stretch/>
        </p:blipFill>
        <p:spPr>
          <a:xfrm>
            <a:off x="3733920" y="1876320"/>
            <a:ext cx="4800600" cy="399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441-71A0-4A0B-8E6D-E704B887B0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ase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minimum of all measured RTTs (commonly the RTT of the first pack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 overflowing the connection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pectRate = CongestionWindow/BaseR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calculates sending rat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ual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nce per 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compar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ual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ec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ff = ExpectedRate - Actual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Diff &lt;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rease CongestionWindow lin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Diff &gt;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rease CongestionWindow lin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ve CongestionWindow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CFF-864D-4D38-A9F5-D773D0BEB9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faster re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fine-grained timestamps for each 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for timeout on first duplicate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06x19" descr=""/>
          <p:cNvPicPr/>
          <p:nvPr/>
        </p:nvPicPr>
        <p:blipFill>
          <a:blip r:embed="rId1"/>
          <a:stretch/>
        </p:blipFill>
        <p:spPr>
          <a:xfrm>
            <a:off x="3027240" y="1641600"/>
            <a:ext cx="5583240" cy="323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93B-ADC2-46ED-95AB-0A1A4BF3D7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amewor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less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 of packets sent between source/destination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a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ft 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the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-centric versus host-cen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ation-based versus feedback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-based versus rate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06x02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06260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A5B6-9386-4136-8602-DF3B104E72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valu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(ratio of throughput to del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6x03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581280" cy="28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999-2E30-4047-A37D-11A214B26B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Queuing Disciplin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In-First-Out (FIF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discriminate between traffic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r Queuing (F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ly segregates traffic based on 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s no flow captures more than its share of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tion: weighted fair queuing (WF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06x06" descr=""/>
          <p:cNvPicPr/>
          <p:nvPr/>
        </p:nvPicPr>
        <p:blipFill>
          <a:blip r:embed="rId1"/>
          <a:stretch/>
        </p:blipFill>
        <p:spPr>
          <a:xfrm>
            <a:off x="3352680" y="3444840"/>
            <a:ext cx="3429000" cy="26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0031-6C3B-4912-BF34-C0390447FA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Q Algorith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clock ticks each time a bit is trans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the length of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the time when start to transmit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the time when finish transmitting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does router start transmitting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efore router finished pac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 from this flow, then immediately after last bi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current packets for this flow, then start transmitting when arrives (call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-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180-A3BB-4CA6-A00E-28D21921A1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Q Algorithm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ultiple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 packet that arrives on eac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as time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packet to transmit is one with lowest 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perfect: can’t preempt current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831600" y="4110120"/>
            <a:ext cx="7594560" cy="1757880"/>
            <a:chOff x="831600" y="4110120"/>
            <a:chExt cx="7594560" cy="1757880"/>
          </a:xfrm>
        </p:grpSpPr>
        <p:sp>
          <p:nvSpPr>
            <p:cNvPr id="60" name=""/>
            <p:cNvSpPr/>
            <p:nvPr/>
          </p:nvSpPr>
          <p:spPr>
            <a:xfrm>
              <a:off x="1340280" y="430524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Flow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45200" y="430524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Flow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28080" y="565452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(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01560" y="5654520"/>
              <a:ext cx="21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(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99000" y="431496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29640" y="431496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1600" y="5029200"/>
              <a:ext cx="38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F = 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68120" y="4952880"/>
              <a:ext cx="49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F =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1600" y="5257800"/>
              <a:ext cx="38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F =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59240" y="4952880"/>
              <a:ext cx="49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F =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22720" y="5257800"/>
              <a:ext cx="38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F =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36680" y="5172120"/>
              <a:ext cx="527040" cy="112680"/>
            </a:xfrm>
            <a:prstGeom prst="rect">
              <a:avLst/>
            </a:prstGeom>
            <a:solidFill>
              <a:srgbClr val="ccecf4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36680" y="5284800"/>
              <a:ext cx="527040" cy="217440"/>
            </a:xfrm>
            <a:prstGeom prst="rect">
              <a:avLst/>
            </a:prstGeom>
            <a:solidFill>
              <a:srgbClr val="ccecf4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36680" y="4570560"/>
              <a:ext cx="527040" cy="601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14600" y="5091120"/>
              <a:ext cx="531720" cy="411120"/>
            </a:xfrm>
            <a:prstGeom prst="rect">
              <a:avLst/>
            </a:prstGeom>
            <a:solidFill>
              <a:srgbClr val="00a0c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99000" y="5172120"/>
              <a:ext cx="525240" cy="112680"/>
            </a:xfrm>
            <a:prstGeom prst="rect">
              <a:avLst/>
            </a:prstGeom>
            <a:solidFill>
              <a:srgbClr val="ccecf4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99000" y="5284800"/>
              <a:ext cx="525240" cy="217440"/>
            </a:xfrm>
            <a:prstGeom prst="rect">
              <a:avLst/>
            </a:prstGeom>
            <a:solidFill>
              <a:srgbClr val="ccecf4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99000" y="4754520"/>
              <a:ext cx="525240" cy="417600"/>
            </a:xfrm>
            <a:prstGeom prst="rect">
              <a:avLst/>
            </a:prstGeom>
            <a:solidFill>
              <a:srgbClr val="00a0c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92520" y="4575240"/>
              <a:ext cx="531720" cy="179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24920" y="411012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Flow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38160" y="4314960"/>
              <a:ext cx="75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(arriv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9320" y="411012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Flow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34640" y="4314960"/>
              <a:ext cx="1145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yriad Roman"/>
                </a:rPr>
                <a:t>(transmitt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22760" y="5388120"/>
              <a:ext cx="525600" cy="118800"/>
            </a:xfrm>
            <a:prstGeom prst="rect">
              <a:avLst/>
            </a:prstGeom>
            <a:solidFill>
              <a:srgbClr val="ccecf4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22760" y="4575240"/>
              <a:ext cx="525600" cy="812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11840" y="5095800"/>
              <a:ext cx="530280" cy="411120"/>
            </a:xfrm>
            <a:prstGeom prst="rect">
              <a:avLst/>
            </a:prstGeom>
            <a:solidFill>
              <a:srgbClr val="00a0c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11840" y="4575240"/>
              <a:ext cx="530280" cy="520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34320" y="4976640"/>
              <a:ext cx="531720" cy="114480"/>
            </a:xfrm>
            <a:prstGeom prst="rect">
              <a:avLst/>
            </a:prstGeom>
            <a:solidFill>
              <a:srgbClr val="ccecf4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34320" y="5091120"/>
              <a:ext cx="531720" cy="411120"/>
            </a:xfrm>
            <a:prstGeom prst="rect">
              <a:avLst/>
            </a:prstGeom>
            <a:solidFill>
              <a:srgbClr val="00a0c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34320" y="4575240"/>
              <a:ext cx="531720" cy="401400"/>
            </a:xfrm>
            <a:custGeom>
              <a:avLst/>
              <a:gdLst/>
              <a:ahLst/>
              <a:rect l="l" t="t" r="r" b="b"/>
              <a:pathLst>
                <a:path w="335" h="253">
                  <a:moveTo>
                    <a:pt x="0" y="4"/>
                  </a:moveTo>
                  <a:lnTo>
                    <a:pt x="0" y="253"/>
                  </a:lnTo>
                  <a:lnTo>
                    <a:pt x="335" y="253"/>
                  </a:lnTo>
                  <a:lnTo>
                    <a:pt x="33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14600" y="4575240"/>
              <a:ext cx="531720" cy="515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723-DB7C-44D1-9ADF-48E6159E76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CP Congestion Contro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s best-effort network (FIFO or FQ routers) each source determines network capacity for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implicit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s pace transmissio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f-cloc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available capacity in the first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ing to changes in the available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B36F-9D3F-449C-94AC-D782A85337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ditive Increase/Multiplicative Decreas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adjust to changes in the available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tate variable per connectio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how much data source has in tran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Win = MIN(CongestionWindow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dvertisedWind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ffWin = MaxWin - (LastByteSent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ByteAck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congestion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Wind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congestion goes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7BF-D6D2-4C10-BDCA-848C2870EE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7T21:42:18Z</dcterms:created>
  <dc:creator>Ryan Peterson</dc:creator>
  <dc:description/>
  <dc:language>en-US</dc:language>
  <cp:lastModifiedBy>Elsevier</cp:lastModifiedBy>
  <dcterms:modified xsi:type="dcterms:W3CDTF">2003-11-06T22:58:29Z</dcterms:modified>
  <cp:revision>40</cp:revision>
  <dc:subject/>
  <dc:title>Congestion Control</dc:title>
</cp:coreProperties>
</file>