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D21A-4F34-4E74-AA90-1C500DEE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C727-A90A-41D9-9F66-C8640011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9A8-2C60-48FA-A426-2DD24602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FD5-229A-43C6-8BE5-D85BE4E9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1534-D9B3-4A45-A4B8-840C3D97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531-1282-4639-AD91-92A174C1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F62-0210-45F3-94B5-06E4A50F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DA4-2EBC-4116-84E9-E9490FAA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261B-D73B-429F-8E54-8B41AC3E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1BC-7133-4A8C-9B95-B9729D9F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9F7-A78A-40FD-BF61-3CA405A7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AE2-EAEE-48BD-AC91-3A19C620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77EB-8C30-46E3-BF89-2EE144A11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plic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720"/>
            <a:ext cx="4496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rr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or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4319-E1DD-46F0-B74A-AF5AC32E979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ully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ixed “pecking order” among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use network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choose the “biggest” non-failed machine as pri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ness proof is diffic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A7D7-514B-4ACD-B18B-F5E144779B5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ully Algorithm Detai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starts an election whenever it recovers or whenever primary has fai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know primary has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tart an election, se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l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ssages to all machines bigger than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body responds with an ACK, give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body ACKs, declare  yourself the pri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receiving election message, reply with ACK and start an election yourself (unless in prog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3ACF-3796-403A-982E-4E390D49450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Quoru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orum: a set of server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hat constitutes a “read quorum” and a “write quoru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quire locks on all members of some write qu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rites on all locked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ad: similar, but use read qu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2CA7-63BD-413F-9577-6E6001F268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Quoru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ness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two write quorums must share a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read quorum and any write quorum must share a member (read quorums need not overl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ing ensures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 one write happening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have a write and a read happening at the 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B1E-D213-4CE6-9178-54FEC263A27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efining Quoru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quorum must contain all rep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quorum may contain any one rep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are slow, reads are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rite only if all replicas ar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ad if any one replica i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231-D119-450F-9319-C6DC46BA3C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efining Quorum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Majority Qu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quorum: any set with more than half the rep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quorum: any set with more than half the rep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st performance for read and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proceed as long as more than half the replicas ar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E53-3ACF-437A-8E2E-810C90BCEF4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Quorums &amp; Version Number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operation writes only a subset of the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ervers are out-of-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ersion number stamp on each item in each rep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cquiring locks, get current version number from each rep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orum overlap rules ensure that one member of your quorum has the latest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522-E667-46BE-A519-B4870432A44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ersion Number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ading, get the data from the latest version number in your qu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riting, set version number of all replicas you wrote equal to 1 + (max version number in your quorum beforeha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s correctness even if no recovery action is taken when replica recovers from a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F46-85FE-446C-A362-4991D91EF1C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Quorums and Partit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group has a write quorum (and thus usually a read quorum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group can do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groups are fro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roup has a write quorum, but some groups have a read qu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roups can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groups can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roup contains any qu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one is fro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027-5EE3-4C4F-A86F-3F85F6B9F24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y Replicate?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copy close to remote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 is a special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vive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ility: provide service during temporary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 tolerance: provide service despite catastrophic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CB1-AB7B-4C75-AB3D-F499E3C35A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ault Mode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a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ed device doesn’t do anything (i.e., fails silent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-S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ed device tells you that it has fa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zan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ed device can do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ying a game against an evil op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ponent knows what you’re doing and tries to fool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some limit on opponent’s actions (e.g. at most k failu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BF3-8C98-4F3E-B38D-3E5099BFDB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yzantine Army Proble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2895480"/>
            <a:ext cx="9907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d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34320" y="2895480"/>
            <a:ext cx="9903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d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4572000"/>
            <a:ext cx="990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d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8098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85764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105520" y="3809880"/>
            <a:ext cx="175248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38098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94B-C41B-4B7A-AC03-6D0D2A05ADF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ynchron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 concerning boundedness of component execution or network trans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performs function in a finite &amp; known time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uch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ous Result: A group of processes cannot agree on a value in an asynchronous system given a single crash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3D4-A990-41B8-B2F0-728A198601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etwork Partit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 tell the difference between a crashed process and a process that’s inaccessible due to a network fail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Partition: network failure that cuts processes into two or more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communication within each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mmunication between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ger: each group thinks everyone else is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0AB-9967-45F4-96A8-CD7D28DE72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irror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service up to K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ach: keep K+1 copies of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s do operations on “primary” 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makes sure other copies do operations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: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every operation K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K times more storage than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DD72-F2E8-49C0-894C-37A1B728B4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irroring Detai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: contact one replica to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a replica fai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up-to-date data from primary after recov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primary fai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 a new pri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C71-11D9-4076-A0A8-6362E34DE0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lection Proble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lgorithm terminates, all non-failed processes agree on which replica is the pri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works despite arbitrary failures and recoveries during the 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are no more failures and recoveries, the algorithm must eventually term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742-B887-4202-9505-6A0404DB2B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7:24:23Z</dcterms:created>
  <dc:creator>klp</dc:creator>
  <dc:description/>
  <dc:language>en-US</dc:language>
  <cp:lastModifiedBy>Elsevier</cp:lastModifiedBy>
  <cp:lastPrinted>2000-04-17T22:31:36Z</cp:lastPrinted>
  <dcterms:modified xsi:type="dcterms:W3CDTF">2003-11-07T01:17:51Z</dcterms:modified>
  <cp:revision>28</cp:revision>
  <dc:subject/>
  <dc:title>Naming</dc:title>
</cp:coreProperties>
</file>