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B77-57F0-4B53-844D-3FB1808F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E2E-8781-448E-BA33-B29AB04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021-6EAA-4E88-A5EA-4011D215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1EE-087C-48AB-8BE6-A4B042D1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AC0-412D-4276-A8BB-C94DA9A9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019-5536-4770-9246-BAE1D945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D36-E7AF-4BF9-A627-810B0413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E6D-354F-403D-AA1F-1D21D9D8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391-1B9B-4C1D-9AD3-F6D2965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B66-379C-4633-B6D0-CFCD53B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094-C9E9-400A-A3EB-D3DFA453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135-6338-435A-AC89-66EBB30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09D-2418-491C-97A8-892B7127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ernetwork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ffort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F0B-DE1D-4615-B7A1-EF6DDE26A8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Packe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31760" y="2044800"/>
            <a:ext cx="6940080" cy="3295440"/>
            <a:chOff x="1031760" y="2044800"/>
            <a:chExt cx="6940080" cy="3295440"/>
          </a:xfrm>
        </p:grpSpPr>
        <p:sp>
          <p:nvSpPr>
            <p:cNvPr id="132" name=""/>
            <p:cNvSpPr/>
            <p:nvPr/>
          </p:nvSpPr>
          <p:spPr>
            <a:xfrm>
              <a:off x="1320840" y="2424240"/>
              <a:ext cx="6527880" cy="291600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4520" y="2347920"/>
              <a:ext cx="6529320" cy="291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22320" y="451944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HardwareAddr (byte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1400" y="449568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3040" y="4930920"/>
              <a:ext cx="267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Protocol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080" y="495288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28240" y="4097160"/>
              <a:ext cx="27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ProtocolAddr (byte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34880" y="41148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3160" y="2443320"/>
              <a:ext cx="175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Hardware type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2640" y="2443320"/>
              <a:ext cx="215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ProtocolType = 0x0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686040"/>
              <a:ext cx="28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HardwareAddr (byte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4880" y="36576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2240" y="409716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Hardware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5280" y="41148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5880" y="3686040"/>
              <a:ext cx="27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Protocol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1600" y="36576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12360" y="2871720"/>
              <a:ext cx="95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HLen = 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58280" y="287172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PLen =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5640" y="287172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22240" y="3276720"/>
              <a:ext cx="28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Hardware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3880" y="327672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1400" y="327672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2920" y="2347920"/>
              <a:ext cx="14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2920" y="3591000"/>
              <a:ext cx="14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1000" y="2763720"/>
              <a:ext cx="651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318132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51000" y="35910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51000" y="40086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51000" y="44244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1000" y="483552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5040" y="2763720"/>
              <a:ext cx="1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5920" y="20448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3800" y="20448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05680" y="2044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39640" y="2044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07760" y="36576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560" y="44956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07760" y="41148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7360" y="41148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7360" y="36576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07560" y="49528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98A-22F9-4617-932B-B76D944180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ontrol Message Protocol (ICM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(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(from router to source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unreachable (protocol, port, or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exceeded (so datagrams don’t cycle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fai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fra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D6C-2403-4143-87FE-A541B36BB1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Interne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4x01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3276720" cy="2516040"/>
          </a:xfrm>
          <a:prstGeom prst="rect">
            <a:avLst/>
          </a:prstGeom>
          <a:ln w="0">
            <a:noFill/>
          </a:ln>
        </p:spPr>
      </p:pic>
      <p:pic>
        <p:nvPicPr>
          <p:cNvPr id="46" name="04x02" descr=""/>
          <p:cNvPicPr/>
          <p:nvPr/>
        </p:nvPicPr>
        <p:blipFill>
          <a:blip r:embed="rId2"/>
          <a:stretch/>
        </p:blipFill>
        <p:spPr>
          <a:xfrm>
            <a:off x="1523880" y="4343400"/>
            <a:ext cx="5562720" cy="16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CAA-4552-413B-A0DF-0A93D03461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ice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(datagram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 delivery (unreli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delivered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 copies of a packet ar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can be delayed for a lo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04x03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3276720" cy="25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EA7-0511-406A-889D-A116522D23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gmentation and Reassemb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twork has some M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 when necessary (MTU &lt; Dat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to avoid fragmentation at sourc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fragmentation i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s are self-containe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S-PDU (not cells)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eassembly until destinatio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cover from lost fra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D18-311A-4AA0-BD3D-6F3AA0578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4x04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029200" cy="1879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244200" y="577800"/>
            <a:ext cx="2363400" cy="5359320"/>
            <a:chOff x="6244200" y="577800"/>
            <a:chExt cx="2363400" cy="5359320"/>
          </a:xfrm>
        </p:grpSpPr>
        <p:sp>
          <p:nvSpPr>
            <p:cNvPr id="55" name=""/>
            <p:cNvSpPr/>
            <p:nvPr/>
          </p:nvSpPr>
          <p:spPr>
            <a:xfrm>
              <a:off x="7467480" y="1752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1120" y="612720"/>
              <a:ext cx="2022480" cy="10587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96200" y="577800"/>
              <a:ext cx="202248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99080" y="99864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44200" y="137160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99080" y="78264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99080" y="129060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15120" y="782640"/>
              <a:ext cx="1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5804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0096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4388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440" y="82404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20720" y="60948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23240" y="10717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9480" y="138600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400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83480" y="8240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37680" y="824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5120" y="230364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200" y="2266920"/>
              <a:ext cx="2022480" cy="10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67960" y="326088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2693880"/>
              <a:ext cx="2022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247968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2986200"/>
              <a:ext cx="202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69120" y="247968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204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5496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788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07440" y="25210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92800" y="230364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8560" y="277488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09000" y="30844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512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16680" y="25210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320" y="25210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5120" y="358308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50200" y="3548160"/>
              <a:ext cx="202248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53080" y="3976560"/>
              <a:ext cx="2022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376236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3080" y="427032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73800" y="376236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18520" y="376236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61440" y="376236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4000" y="376236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13560" y="37972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08280" y="405756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4320" y="437364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512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05520" y="37972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3440" y="3797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00720" y="35863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5120" y="486576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0200" y="4830840"/>
              <a:ext cx="2022480" cy="10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526248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53080" y="504828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3080" y="555624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8028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2320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6612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1048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0040" y="50896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00720" y="487188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12960" y="534348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9000" y="564984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376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2800" y="508968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9920" y="50896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3FE-BA24-4A03-B9FF-AD692D3A96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Address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network +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96.33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2.69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4x06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6576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86D-6866-4A2A-BE5D-7643DF2AB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Forward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tagram contains destination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nnected to destination network, then forward to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directly connected, then forward to som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 maps network number into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ost has a defaul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maintains a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xt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0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114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89D-5647-4BED-9AE2-69403A9129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 Transl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P addresses into 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hop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physical address in host part of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IP to physical address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request if IP address not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chine responds with its 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ntries are discarded if not refre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D3B-9428-4546-B232-40C72ACA09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Type: type of physical network (e.g., Eth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Type: type of higher layer protocol (e.g.,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EN &amp; PLEN: length of physical and 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: request or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/Target-Physical/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entries timeout in about 1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with source when you are the tar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if already have 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fresh table entries upo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AFE-FEA1-4C0E-AEC4-09C37759EC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01:05Z</dcterms:created>
  <dc:creator>klp</dc:creator>
  <dc:description/>
  <dc:language>en-US</dc:language>
  <cp:lastModifiedBy>Elsevier</cp:lastModifiedBy>
  <cp:lastPrinted>2000-02-14T14:12:02Z</cp:lastPrinted>
  <dcterms:modified xsi:type="dcterms:W3CDTF">2003-11-06T23:38:16Z</dcterms:modified>
  <cp:revision>20</cp:revision>
  <dc:subject/>
  <dc:title>Internetworking </dc:title>
</cp:coreProperties>
</file>