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0E12-D082-4529-AD6F-43CAB6EC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8038-1BA5-4405-BE7A-D48312D5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2C6E-EECF-40F4-BBED-3A66B0A5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0D40-CF58-4C72-9084-4190712C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6537-7218-4CEA-80A6-7BF2954D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0D23-388C-4F21-BF97-6DD1B8CE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94E8-5DED-49AF-B5B7-26949933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CBB1-1632-44E5-888B-7479F2ED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D129-64B9-4E34-922F-0E26810B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50F5-5D54-43EF-8663-B8C18CE5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CA6D-6F88-4429-B2E0-E3316F42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4CE4-48D3-4657-AD37-D4C035CB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g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555D-E61B-4D3E-81F9-F5D3AB924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plic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3276720"/>
            <a:ext cx="4496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ure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rr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or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8467-B8B5-445A-A66E-B2F088058F7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ully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fixed “pecking order” among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use network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choose the “biggest” non-failed machine as pri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tness proof is diffic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2232-F048-401C-9BFF-C969C10B6AB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ully Algorithm Detai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 starts an election whenever it recovers or whenever primary has fai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know primary has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tart an election, se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l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ssages to all machines bigger than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body responds with an ACK, give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body ACKs, declare  yourself the pri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receiving election message, reply with ACK and start an election yourself (unless in prog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A508-9A55-42FB-9571-52C8A29B4BA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Quorum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orum: a set of server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what constitutes a “read quorum” and a “write quorum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quire locks on all members of some write qu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writes on all locked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 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ad: similar, but use read quo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E2E8-F2BC-4D3E-913B-488932E09F5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Quorum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tness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two write quorums must share a 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read quorum and any write quorum must share a member (read quorums need not overl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ing ensures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 one write happening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have a write and a read happening at the 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CC44-2F19-44E3-8470-78D65F2D8DA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efining Quorum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altern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quorum must contain all repl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quorum may contain any one rep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q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are slow, reads are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write only if all replicas are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read if any one replica is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37F5-4D0F-4403-A983-D8B552D5317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efining Quorum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Majority Quo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quorum: any set with more than half the repl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quorum: any set with more than half the repl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st performance for read and 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proceed as long as more than half the replicas are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420D-A4BE-4446-8975-6CD62B913A8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Quorums &amp; Version Number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operation writes only a subset of the 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servers are out-of-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ersion number stamp on each item in each rep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cquiring locks, get current version number from each rep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orum overlap rules ensure that one member of your quorum has the latest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8622-663F-4AD5-A41A-3F34DE60AC6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Version Number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reading, get the data from the latest version number in your quo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riting, set version number of all replicas you wrote equal to 1 + (max version number in your quorum beforeha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arantees correctness even if no recovery action is taken when replica recovers from a cr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65E9-9470-40D4-B03D-B1E4EA0E663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Quorums and Partition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group has a write quorum (and thus usually a read quorum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group can do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groups are fro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group has a write quorum, but some groups have a read quo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groups can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groups can 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group contains any quo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one is fro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0C76-28AB-47CA-A4A2-BC6674739A4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hy Replicate?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copy close to remote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 is a special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vive Fail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ility: provide service during temporary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ult tolerance: provide service despite catastrophic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2087-C7F6-4CDB-A73F-96618C275BB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ault Model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a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ed device doesn’t do anything (i.e., fails silent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-S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ed device tells you that it has fai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zan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ed device can do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er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ying a game against an evil op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ponent knows what you’re doing and tries to fool 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some limit on opponent’s actions (e.g. at most k failu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ED10-0D6D-44E1-8472-3487E0EC86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yzantine Army Proble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2895480"/>
            <a:ext cx="99072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d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34320" y="2895480"/>
            <a:ext cx="9903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d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4572000"/>
            <a:ext cx="990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d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38098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5486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85764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5105520" y="3809880"/>
            <a:ext cx="175248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380988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8279-F336-406C-A5AC-BC27FF054B9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ynchron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s concerning boundedness of component execution or network trans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chron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performs function in a finite &amp; known time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ynchron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uch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mous Result: A group of processes cannot agree on a value in an asynchronous system given a single crash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DE0C-5F21-4439-9EC8-3ED82D48F0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Network Partition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’t tell the difference between a crashed process and a process that’s inaccessible due to a network fail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Partition: network failure that cuts processes into two or more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communication within each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ommunication between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ger: each group thinks everyone else is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54D7-F43B-49E4-8BB8-11D99A1F89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irror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service up to K fail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ach: keep K+1 copies of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s do operations on “primary” 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 makes sure other copies do operations t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: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dvantag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every operation K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K times more storage than nece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571C-1F96-4B61-B527-3A36C56036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irroring Detai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: contact one replica to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f a replica fai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up-to-date data from primary after recov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f primary fai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 a new pri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8A97-8DF2-4E77-8344-C0785271F30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lection Proble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lgorithm terminates, all non-failed processes agree on which replica is the pri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works despite arbitrary failures and recoveries during the 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re are no more failures and recoveries, the algorithm must eventually term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C653-27B6-4DFE-BF3E-50520457B19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0T17:24:23Z</dcterms:created>
  <dc:creator>klp</dc:creator>
  <dc:description/>
  <dc:language>en-US</dc:language>
  <cp:lastModifiedBy>Elsevier</cp:lastModifiedBy>
  <cp:lastPrinted>2000-04-17T22:31:36Z</cp:lastPrinted>
  <dcterms:modified xsi:type="dcterms:W3CDTF">2003-11-07T01:17:51Z</dcterms:modified>
  <cp:revision>28</cp:revision>
  <dc:subject/>
  <dc:title>Naming</dc:title>
</cp:coreProperties>
</file>