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00B7-6865-472A-A162-2E512DBB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3DDC-CCE2-4778-9A3F-94C2B5D7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8F3C-A921-40FA-89FB-FE54CA21A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0FA4-C41C-43A3-B556-6A2E39E49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C8FD-4247-4CA5-BC9C-F56D2B40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F6FA-48FE-4352-B018-AE536D5F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D779-4D8B-44A0-87C9-85277F8B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BA65-1CC2-46DA-B520-FCD00D12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420E-045A-42EB-AC36-F0AF18D6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59B6-9E13-4622-B716-9DEBCEA6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A076-D94B-4ABC-A41D-9810BD35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B649-A284-4B53-9164-9BC69886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9913-96A1-445D-838B-327AAC509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9x17" descr=""/>
          <p:cNvPicPr/>
          <p:nvPr/>
        </p:nvPicPr>
        <p:blipFill>
          <a:blip r:embed="rId1"/>
          <a:stretch/>
        </p:blipFill>
        <p:spPr>
          <a:xfrm>
            <a:off x="3605040" y="2251080"/>
            <a:ext cx="193392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09x18" descr=""/>
          <p:cNvPicPr/>
          <p:nvPr/>
        </p:nvPicPr>
        <p:blipFill>
          <a:blip r:embed="rId1"/>
          <a:stretch/>
        </p:blipFill>
        <p:spPr>
          <a:xfrm>
            <a:off x="2733840" y="2766960"/>
            <a:ext cx="367632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9x19" descr=""/>
          <p:cNvPicPr/>
          <p:nvPr/>
        </p:nvPicPr>
        <p:blipFill>
          <a:blip r:embed="rId1"/>
          <a:stretch/>
        </p:blipFill>
        <p:spPr>
          <a:xfrm>
            <a:off x="3498840" y="1433520"/>
            <a:ext cx="21463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09x20" descr=""/>
          <p:cNvPicPr/>
          <p:nvPr/>
        </p:nvPicPr>
        <p:blipFill>
          <a:blip r:embed="rId1"/>
          <a:stretch/>
        </p:blipFill>
        <p:spPr>
          <a:xfrm>
            <a:off x="3343320" y="2216160"/>
            <a:ext cx="245736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9x21" descr=""/>
          <p:cNvPicPr/>
          <p:nvPr/>
        </p:nvPicPr>
        <p:blipFill>
          <a:blip r:embed="rId1"/>
          <a:stretch/>
        </p:blipFill>
        <p:spPr>
          <a:xfrm>
            <a:off x="2476440" y="2090880"/>
            <a:ext cx="419112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1T00:53:17Z</dcterms:created>
  <dc:creator>Elsevier</dc:creator>
  <dc:description/>
  <dc:language>en-US</dc:language>
  <cp:lastModifiedBy>Elsevier</cp:lastModifiedBy>
  <dcterms:modified xsi:type="dcterms:W3CDTF">2003-11-01T00:55:06Z</dcterms:modified>
  <cp:revision>1</cp:revision>
  <dc:subject/>
  <dc:title>PowerPoint Presentation</dc:title>
</cp:coreProperties>
</file>