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915-91C2-46DB-81E7-923280DD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32F-630D-48F1-9E12-B727E0E9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BBB-8ED3-4F58-A444-F7E09611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A7D-2500-4801-81DE-6F941B16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FAA-AF67-4818-9D4B-BA24B61B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5814-4537-4D6F-8A5A-49C79AE2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F16-76D0-4504-9C2A-734F9878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117-33E1-4F5A-81A6-146B66AB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B48-C643-46EC-A9D6-14D6FE4D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B8E-42AC-4AA6-B4BC-E92A39A8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F71-0251-42D3-8FD5-0F141FE3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359-49CF-40B2-BB2C-C42FC0BE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g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BCDF-D799-4701-83C8-E651BFDF1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ernetworking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3276720"/>
            <a:ext cx="5105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Effort Servi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ddressing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4364-916B-4B08-8372-E67F8E87614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RP Packe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31760" y="2044800"/>
            <a:ext cx="6940080" cy="3295440"/>
            <a:chOff x="1031760" y="2044800"/>
            <a:chExt cx="6940080" cy="3295440"/>
          </a:xfrm>
        </p:grpSpPr>
        <p:sp>
          <p:nvSpPr>
            <p:cNvPr id="132" name=""/>
            <p:cNvSpPr/>
            <p:nvPr/>
          </p:nvSpPr>
          <p:spPr>
            <a:xfrm>
              <a:off x="1320840" y="2424240"/>
              <a:ext cx="6527880" cy="2916000"/>
            </a:xfrm>
            <a:prstGeom prst="rect">
              <a:avLst/>
            </a:pr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44520" y="2347920"/>
              <a:ext cx="6529320" cy="291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22320" y="4519440"/>
              <a:ext cx="2830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TargetHardwareAddr (byte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11400" y="4495680"/>
              <a:ext cx="17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13040" y="4930920"/>
              <a:ext cx="267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TargetProtocolAddr (bytes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35080" y="4952880"/>
              <a:ext cx="17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28240" y="4097160"/>
              <a:ext cx="270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SourceProtocolAddr (byte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34880" y="4114800"/>
              <a:ext cx="17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83160" y="2443320"/>
              <a:ext cx="175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Hardware type =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32640" y="2443320"/>
              <a:ext cx="215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ProtocolType = 0x08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31760" y="3686040"/>
              <a:ext cx="286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SourceHardwareAddr (bytes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34880" y="3657600"/>
              <a:ext cx="17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32240" y="4097160"/>
              <a:ext cx="2830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TargetHardwareAddr (bytes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35280" y="4114800"/>
              <a:ext cx="17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85880" y="3686040"/>
              <a:ext cx="270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SourceProtocolAddr (bytes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11600" y="3657600"/>
              <a:ext cx="17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12360" y="2871720"/>
              <a:ext cx="951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HLen = 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58280" y="287172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PLen = 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15640" y="2871720"/>
              <a:ext cx="96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22240" y="3276720"/>
              <a:ext cx="286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SourceHardwareAddr (bytes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3880" y="3276720"/>
              <a:ext cx="3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― </a:t>
              </a: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11400" y="3276720"/>
              <a:ext cx="17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52920" y="2347920"/>
              <a:ext cx="1440" cy="82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52920" y="3591000"/>
              <a:ext cx="1440" cy="82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51000" y="2763720"/>
              <a:ext cx="651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1000" y="3181320"/>
              <a:ext cx="651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51000" y="3591000"/>
              <a:ext cx="651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51000" y="4008600"/>
              <a:ext cx="651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51000" y="4424400"/>
              <a:ext cx="651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51000" y="4835520"/>
              <a:ext cx="651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75040" y="2763720"/>
              <a:ext cx="144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5920" y="20448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53800" y="20448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05680" y="2044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39640" y="2044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07760" y="3657600"/>
              <a:ext cx="3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― </a:t>
              </a: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07560" y="4495680"/>
              <a:ext cx="3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― </a:t>
              </a: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07760" y="4114800"/>
              <a:ext cx="3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― </a:t>
              </a: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7360" y="4114800"/>
              <a:ext cx="3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― </a:t>
              </a: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7360" y="3657600"/>
              <a:ext cx="3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― </a:t>
              </a: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07560" y="4952880"/>
              <a:ext cx="3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― </a:t>
              </a:r>
              <a:r>
                <a:rPr b="0" lang="en-GB" sz="16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2FF-93F5-4515-91EB-4D6039998F0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ternet Control Message Protocol (ICMP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ho (p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irect (from router to source h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ination unreachable (protocol, port, or h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L exceeded (so datagrams don’t cycle fore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sum fai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embly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frag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96E-DEEB-42FB-B213-C4EEB2200A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P Internet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atenation of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4x01" descr=""/>
          <p:cNvPicPr/>
          <p:nvPr/>
        </p:nvPicPr>
        <p:blipFill>
          <a:blip r:embed="rId1"/>
          <a:stretch/>
        </p:blipFill>
        <p:spPr>
          <a:xfrm>
            <a:off x="4114800" y="1600200"/>
            <a:ext cx="3276720" cy="2516040"/>
          </a:xfrm>
          <a:prstGeom prst="rect">
            <a:avLst/>
          </a:prstGeom>
          <a:ln w="0">
            <a:noFill/>
          </a:ln>
        </p:spPr>
      </p:pic>
      <p:pic>
        <p:nvPicPr>
          <p:cNvPr id="46" name="04x02" descr=""/>
          <p:cNvPicPr/>
          <p:nvPr/>
        </p:nvPicPr>
        <p:blipFill>
          <a:blip r:embed="rId2"/>
          <a:stretch/>
        </p:blipFill>
        <p:spPr>
          <a:xfrm>
            <a:off x="1523880" y="4343400"/>
            <a:ext cx="5562720" cy="166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C26-C2F3-461A-B328-765F81F323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rvice Model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less (datagram-b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-effort delivery (unreliable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are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are delivered out of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plicate copies of a packet are deli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can be delayed for a lo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04x03" descr=""/>
          <p:cNvPicPr/>
          <p:nvPr/>
        </p:nvPicPr>
        <p:blipFill>
          <a:blip r:embed="rId1"/>
          <a:stretch/>
        </p:blipFill>
        <p:spPr>
          <a:xfrm>
            <a:off x="3581280" y="3505320"/>
            <a:ext cx="3276720" cy="25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12C-6734-49A4-B06F-3BEBFFF12F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agmentation and Reassembl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etwork has some M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 when necessary (MTU &lt; Datag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 to avoid fragmentation at source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fragmentation is pos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s are self-contained data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S-PDU (not cells) for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reassembly until destination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recover from lost frag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48D-40A2-45FE-9F3C-0AE5583B99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xample 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3" name="04x04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5029200" cy="18795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6244200" y="577800"/>
            <a:ext cx="2363400" cy="5359320"/>
            <a:chOff x="6244200" y="577800"/>
            <a:chExt cx="2363400" cy="5359320"/>
          </a:xfrm>
        </p:grpSpPr>
        <p:sp>
          <p:nvSpPr>
            <p:cNvPr id="55" name=""/>
            <p:cNvSpPr/>
            <p:nvPr/>
          </p:nvSpPr>
          <p:spPr>
            <a:xfrm>
              <a:off x="7467480" y="1752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31120" y="612720"/>
              <a:ext cx="2022480" cy="1058760"/>
            </a:xfrm>
            <a:prstGeom prst="rect">
              <a:avLst/>
            </a:pr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96200" y="577800"/>
              <a:ext cx="2022480" cy="10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99080" y="998640"/>
              <a:ext cx="2019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44200" y="1371600"/>
              <a:ext cx="11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Myriad Roman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499080" y="78264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99080" y="1290600"/>
              <a:ext cx="201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15120" y="782640"/>
              <a:ext cx="1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58040" y="782640"/>
              <a:ext cx="1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500960" y="782640"/>
              <a:ext cx="1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43880" y="782640"/>
              <a:ext cx="1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53440" y="824040"/>
              <a:ext cx="47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Ident = 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20720" y="60948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Star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23240" y="1071720"/>
              <a:ext cx="7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Res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9480" y="138600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1400 data by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83480" y="82404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Offset = 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37680" y="824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85120" y="2303640"/>
              <a:ext cx="2022480" cy="1071360"/>
            </a:xfrm>
            <a:prstGeom prst="rect">
              <a:avLst/>
            </a:pr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0200" y="2266920"/>
              <a:ext cx="2022480" cy="10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67960" y="3260880"/>
              <a:ext cx="12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Myriad Roman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53080" y="2693880"/>
              <a:ext cx="2022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53080" y="2479680"/>
              <a:ext cx="2019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53080" y="2986200"/>
              <a:ext cx="2022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269120" y="2479680"/>
              <a:ext cx="180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12040" y="24796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54960" y="24796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7880" y="24796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07440" y="2521080"/>
              <a:ext cx="47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Ident = 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92800" y="230364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Star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98560" y="2774880"/>
              <a:ext cx="7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Res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09000" y="3084480"/>
              <a:ext cx="785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512 data by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16680" y="252108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Offset = 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7320" y="25210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5120" y="3583080"/>
              <a:ext cx="2022480" cy="1071360"/>
            </a:xfrm>
            <a:prstGeom prst="rect">
              <a:avLst/>
            </a:pr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50200" y="3548160"/>
              <a:ext cx="2022480" cy="10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53080" y="3976560"/>
              <a:ext cx="2022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3080" y="3762360"/>
              <a:ext cx="2019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53080" y="4270320"/>
              <a:ext cx="201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73800" y="3762360"/>
              <a:ext cx="180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18520" y="376236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61440" y="376236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04000" y="3762360"/>
              <a:ext cx="180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13560" y="3797280"/>
              <a:ext cx="47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Ident = 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08280" y="4057560"/>
              <a:ext cx="7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Res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04320" y="4373640"/>
              <a:ext cx="785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512 data by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05520" y="3797280"/>
              <a:ext cx="58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Offset = 6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33440" y="3797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00720" y="358632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Star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85120" y="4865760"/>
              <a:ext cx="2022480" cy="1071360"/>
            </a:xfrm>
            <a:prstGeom prst="rect">
              <a:avLst/>
            </a:pr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50200" y="4830840"/>
              <a:ext cx="2022480" cy="10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3080" y="5262480"/>
              <a:ext cx="201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553080" y="5048280"/>
              <a:ext cx="2019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53080" y="5556240"/>
              <a:ext cx="2019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80280" y="50482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23200" y="50482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66120" y="50482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10480" y="50482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20040" y="5089680"/>
              <a:ext cx="47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Ident = 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00720" y="487188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Star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12960" y="5343480"/>
              <a:ext cx="7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Rest of 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9000" y="5649840"/>
              <a:ext cx="785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376 data by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22800" y="5089680"/>
              <a:ext cx="65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Offset = 12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39920" y="50896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yriad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A97-1ED2-4FE7-8B63-916707E39E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lobal Address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ly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: network +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t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3.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.96.33.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.12.69.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04x06" descr=""/>
          <p:cNvPicPr/>
          <p:nvPr/>
        </p:nvPicPr>
        <p:blipFill>
          <a:blip r:embed="rId1"/>
          <a:stretch/>
        </p:blipFill>
        <p:spPr>
          <a:xfrm>
            <a:off x="4191120" y="3048120"/>
            <a:ext cx="3657600" cy="22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7A3-E6C1-4C79-BA49-B16BA1B922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gram Forwarding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datagram contains destination’s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onnected to destination network, then forward to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 directly connected, then forward to some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ing table maps network number into next 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host has a default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uter maintains a forward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R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ext 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terfac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terface 0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41148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FEC-5292-4F22-A4B0-B740A653EA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dress Translation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IP addresses into physical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hop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 physical address in host part of IP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of IP to physical address b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request if IP address not i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machine responds with its physica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ntries are discarded if not refre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A3B-A3A6-4C24-A963-18C1DFA52E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RP Detail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Type: type of physical network (e.g., Ethe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Type: type of higher layer protocol (e.g., 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LEN &amp; PLEN: length of physical and protocol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: request or respo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/Target-Physical/Protocol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 entries timeout in about 10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table with source when you are the targ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table if already have an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refresh table entries upon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46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787-D0E5-426F-B518-3AC3A321B3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1T02:01:05Z</dcterms:created>
  <dc:creator>klp</dc:creator>
  <dc:description/>
  <dc:language>en-US</dc:language>
  <cp:lastModifiedBy>Elsevier</cp:lastModifiedBy>
  <cp:lastPrinted>2000-02-14T14:12:02Z</cp:lastPrinted>
  <dcterms:modified xsi:type="dcterms:W3CDTF">2003-11-06T23:38:16Z</dcterms:modified>
  <cp:revision>20</cp:revision>
  <dc:subject/>
  <dc:title>Internetworking </dc:title>
</cp:coreProperties>
</file>