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2238-8C30-44EB-9E7B-309DEB87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8B4D-D0CE-4408-B141-78529B94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0E76-3077-41F6-BB44-7432E1E2D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6CEB-D7EE-43FA-A3E7-C9DC18543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E1AB-A257-485E-8DD1-433FE6F1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EE48-410C-4454-AD03-19177A80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1058-B11D-47C1-BF3B-4865C4F4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87F4-FE2F-4AE7-B5CB-A255DBA6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357E-0256-469C-8646-B399BDBC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340D-CADD-4627-9585-6EE58327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C3E2-3F8F-48E6-83C4-7CA3A4E4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B1C9-F1FB-436B-95C2-226699D6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g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93AB-37E6-4B46-8D93-CF07EDA82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hared Access Network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3276720"/>
            <a:ext cx="4419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 (Ethern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 ring (FDD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(802.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39D9-1440-44CF-9B2B-62F598828DE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gorithm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node measures TRT between successive tok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easured-TRT &gt; TTRT: token is late so don’t 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easured-TRT &lt; TTRT: token is early so OK to 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classes of traf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chronous: can always s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ynchronous: can send only if token is ea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se case: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TRT between seeing t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-to-back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TRT rotations not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35F5-C69C-4E59-A36B-FC6A63CE071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oken Maintenanc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t T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token when initializing 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 error corrupts toke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holding token cras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ing a Token (and agreeing on TT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 when join ring or suspect a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aim 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includes the node’s TTR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receive claim frame, update the bid and 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r claim frame makes it all the way around the 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bid was the lo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one knows TT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insert new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251E-C766-4165-85C2-07B64195452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aintenance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(cont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itoring for a Valid T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periodically see valid transmission (frame or t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gap = ring latency  + max frame &lt; = 2.5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imer at 2.5ms and send claim frame if it f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2F0C-C18D-4239-A640-07A813DE1AC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ireless LAN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dwidth: 1 - 11 M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ead spectrum radio (2.4GH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d infrared (10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61F0-23F0-464B-9BA4-D5FE5958C6B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pread Spectru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ead signal over wider frequency band than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ly designed to thwart j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Ho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 over random sequence of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 and receiver shar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seudorandom number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 uses 7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MHz-wide frequency b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454D-C921-4567-85D7-480109CA857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pread Spectrum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bit, send XOR of that bit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ndom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known to both sender and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ipping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 defines an 11-bit chipping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02x37" descr=""/>
          <p:cNvPicPr/>
          <p:nvPr/>
        </p:nvPicPr>
        <p:blipFill>
          <a:blip r:embed="rId1"/>
          <a:stretch/>
        </p:blipFill>
        <p:spPr>
          <a:xfrm>
            <a:off x="1143000" y="4038480"/>
            <a:ext cx="7162920" cy="184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A4B8-E1AF-4B2A-B1A1-836B794CEA4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llisions Avoidanc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Eth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dd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os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02x38" descr=""/>
          <p:cNvPicPr/>
          <p:nvPr/>
        </p:nvPicPr>
        <p:blipFill>
          <a:blip r:embed="rId1"/>
          <a:stretch/>
        </p:blipFill>
        <p:spPr>
          <a:xfrm>
            <a:off x="2590920" y="3200400"/>
            <a:ext cx="4038480" cy="278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A955-7409-4B55-BE2B-B676B25CB87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ACAW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er transmit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questToS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TS)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repli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earToS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CTS)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ighbor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CTS: keep qu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RTS but not CTS: ok to trans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 sends ACK when has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ghbors silent until see 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ollisions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n when don’t receive 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onential back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C718-548D-4D86-8EF9-2E37B550EF1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upporting Mobilit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1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 h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et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2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ess poi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th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mobile node associates with an 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02x39" descr=""/>
          <p:cNvPicPr/>
          <p:nvPr/>
        </p:nvPicPr>
        <p:blipFill>
          <a:blip r:embed="rId1"/>
          <a:stretch/>
        </p:blipFill>
        <p:spPr>
          <a:xfrm>
            <a:off x="2133720" y="3276720"/>
            <a:ext cx="4800600" cy="275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95F6-0603-4C78-A6CF-944DEE14D12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obility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nning (selecting an A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send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AP’s w/in reach reply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beRespo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selects one AP; sends i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ssociateRequ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 repli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ssociationRespo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AP informs old AP via tethere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: when join or 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: AP periodically send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ac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9763-1E23-475D-B31C-A1FFD1A1509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thernet Overview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ed by Xerox PARC in mid-1970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s in Aloha packet-radio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ized by Xerox, DEC, and Intel in 19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 to IEEE 802.3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MA/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 se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ision de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02x27" descr=""/>
          <p:cNvPicPr/>
          <p:nvPr/>
        </p:nvPicPr>
        <p:blipFill>
          <a:blip r:embed="rId1"/>
          <a:stretch/>
        </p:blipFill>
        <p:spPr>
          <a:xfrm>
            <a:off x="1523880" y="5181480"/>
            <a:ext cx="5486400" cy="85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45B2-0131-4AA5-B392-8DCD4B66684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thernet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, 48-bit unicast address assigned to each adap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:0:e4:b1: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adcast: 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cast: first bit i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dwidth: 10Mbps, 100Mbps, 1G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ngth: 2500m (500m segments with 4 repeat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Distributed algorithm that provides fair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B5DF-5047-48E0-8407-4A94E5057A6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ransmit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line is idl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immedi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per bound message size of 1500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wait 9.6us between back-to-back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line is bus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it until idle and transmit immedi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-persisten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ecial cas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-persist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8E57-701C-4232-8A55-B98688B1C0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gorithm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collisio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m for 32 bits, then stop transmitting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frame is 64 bytes (header + 46 bytes of 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ay and try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st time: 0 or 51.2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nd time: 0, 51.2, or 102.4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rd time51.2, 102.4, or 153.6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1.2us, for randomly select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..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 up after several tries (usually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onential back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CC0F-D53D-4474-8119-89801C7F1B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llision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53" name="02x28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2998800" cy="389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2A51-03D5-4717-BD35-E543C830E96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oken Ring Overview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Mbps IEEE 802.5 (based on earlier IBM 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Mbps Fiber Distributed Data Interface (FDD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02x29" descr=""/>
          <p:cNvPicPr/>
          <p:nvPr/>
        </p:nvPicPr>
        <p:blipFill>
          <a:blip r:embed="rId1"/>
          <a:stretch/>
        </p:blipFill>
        <p:spPr>
          <a:xfrm>
            <a:off x="3276720" y="3505320"/>
            <a:ext cx="2590560" cy="252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BBF8-F110-41CC-9740-332527024D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oken Ring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s flow in one direction: upstream to downstre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bit pattern (token) rotates around 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capture token before transm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 token after done transm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mediate 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ayed 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your frame when it comes back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ons get round-robin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me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02x36" descr=""/>
          <p:cNvPicPr/>
          <p:nvPr/>
        </p:nvPicPr>
        <p:blipFill>
          <a:blip r:embed="rId1"/>
          <a:stretch/>
        </p:blipFill>
        <p:spPr>
          <a:xfrm>
            <a:off x="1219320" y="5257800"/>
            <a:ext cx="6172200" cy="68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B1CA-1C00-43CA-A8A6-4EAEAC6E6FB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imed Token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en Holding Time (TH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per limit on how long a station can hold the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en Rotation Time (T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long it takes the token to traverse the 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tiveNo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ingLa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rget Token Rotation Time (TT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d-upon upper bound on T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FF65-4464-441D-B88B-4F220063346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8T01:29:11Z</dcterms:created>
  <dc:creator>klp</dc:creator>
  <dc:description/>
  <dc:language>en-US</dc:language>
  <cp:lastModifiedBy>Elsevier</cp:lastModifiedBy>
  <dcterms:modified xsi:type="dcterms:W3CDTF">2003-11-07T00:54:06Z</dcterms:modified>
  <cp:revision>32</cp:revision>
  <dc:subject/>
  <dc:title>No Slide Title</dc:title>
</cp:coreProperties>
</file>