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480-67B5-4035-B6FA-6986609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41D-D851-47F6-90C3-74FB2BE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A01-36C1-46D8-A687-FE98621A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379-F973-47BA-8AD0-ED9AE56D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8DE-E82A-4E8D-BC40-4614785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B33-D1F7-4E81-9003-AA49E71B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5ED-256D-4F16-B312-D2CE5D5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81E-6EC9-4485-9A2F-B6B168A4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A95-CCBA-448A-9667-1FE87DEF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FAE-8740-47B2-8D41-C098762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9D3-B7B0-4ADF-A870-394A8C3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9EC-8425-44A8-9AD5-0B5A911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150-CB31-4DEF-B22A-1E0606D00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ching: File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720"/>
            <a:ext cx="4496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Usag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rit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C03-73C9-4F64-9906-C808BEA04A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Probl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-through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crash-proof cache in front of disk (e.g., battery-backed RAM, flash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timestamp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name lookup done one compon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by Unix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77F-A824-4732-8F40-AACFE351D7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ndrew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a research project at C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a commercial product from Trans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a single, world-wide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E99-1DDB-4D0A-A4E1-3108EE3A2E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FS Fea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identified by 96-bit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VolumeId, 32-bit VnodeId, 32-bit Use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y info stored in flat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vides hierarchical view to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cached on client’s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-file transfers/c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so files will migrate to desktop of people that use them; assumes sharing is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AC2-306F-406A-8FCC-444B10262A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llback Promi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ommits to warn client about obsolet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ed to client when client gets a copy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ccesses file only if it has a callback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exercised by server, callback promise vani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-Tol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lient reboot, client discards all callback pro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must remember promises made, even if it reb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5A0-1BE2-4851-9016-970CCEEC52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che Consis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checks for callback promise only when file is o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riting, new version of file made visible to the world only on file 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concurrent read sharing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file gets current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file creates new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write sharing leads to unexpected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549-5DBF-4B00-B06E-C1D4FF002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FS Perform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known file system that scales to thousands of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-file caching work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backs more efficient than the repeated consistency checks of N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C01-E71D-4D9F-BE72-F8251A9A2B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prite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roject at UC Berke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concurrent writ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ized (4K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block number (not physical 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can create new blocks w/out contac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ful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notified when file opened/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teractions are client-to-server; no client-to-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E25-2FBC-4BF5-8F44-FBF10B8379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policy: write back all dirty blocks every 3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to-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-to-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rver detects concurrent writ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es clients to write back all dirty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erializes access to its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0DF-7BF4-4CFF-B304-359581D3B4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lient opens, may have out-of-date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keeps version number for all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each time file opened for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keeps version number of all cached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version numbers on open; flush if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keeps track of last writer (at most 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meone opens, server asks last writer to flush any dirty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open until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2DB-8098-4759-A1A3-EABA60EE91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da File Syst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: AFS client often goes a long time without communicating with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a use AFS-like implementation when disconnected from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n ai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network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07B-9D85-4D13-A2BE-C7589C12E1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tributed File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ly used Distribu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F: Sun’s 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S: Andrew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te: Berkeley research project; stressed c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a: CMU research project; stresse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CC7-06BD-43D5-9AF2-A6ED63F06B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isconnected Ope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how to get the right files onto the client before disconn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S does a decent job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er make a list of files to keep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system learn which files user tends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E37-83C5-4737-A181-F92AB6EE25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is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how to keep disconnected versions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wo disconnected users write the same file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a writer makes a disconnected version 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use callback promise since communication is im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7FE-0EC1-421C-8AD6-CCC97D197B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istenc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pe it doesn’t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happens, hope it doesn’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does happen, try to patch things up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creating two files in the sam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else fails, ask the user what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39D-78FD-47C2-BA6B-559466590A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26708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8600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4267080"/>
            <a:ext cx="16002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742840" y="2971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257440" y="30481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0" y="44956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7280" y="25146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78960" y="44607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8280" y="48006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re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3560" y="3276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re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480" y="32767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5880" y="518148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t perm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ay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flic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240" y="50292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g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 temp 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1905120"/>
            <a:ext cx="246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t all you need, but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mart about cache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154-3F6B-460B-9C38-F6E3A4A4D8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erie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ixable conflicts almost never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user can go months without see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re workloads chan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da experience be applied to A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callback promises laz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working despite network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100-0335-4810-BCD7-3A61FE1A11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eb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age expires, client u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Modified-Si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C11-5CCA-4A4C-AF31-524669CDCA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stion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es it behave like Unix on a single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lose is its perform to Unix on a single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can it g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F9B-5A7F-4075-8F30-E0657C574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x File Usag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iles are small (&lt;10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outnumber writes 6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access is common; random is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open short periods (75% &lt; .5s, 90% &lt; 1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iles accessed by only on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hared files written by only on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l locality: recently accessed files are most likely to be accessed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09C-CB3B-4883-8005-ABC3F6E48E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SF Stru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ount an NFS file system into the name space of a Unix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mount: RPC failures block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mount: RPC failures return error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FS client module on each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rnel for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FS server module on eac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kernel for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3A6-7EC2-4BBA-8A27-8E8E95B8CF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less Serv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server doesn’t store any state 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s to help performance (but not correct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: server can crash and recover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ient RPC ops must be idempo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doesn’t maintain lists of who has file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name file and check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B26-B55F-4723-AC70-A345BDDF0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eless Server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ndle, attr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, data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offset,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handle, offset,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6840" y="28195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id, gid, siz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9760" y="281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819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ken from path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4600" y="4114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rrent fil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0040" y="41148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ient defines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7240" y="537228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en returns, guaranteed to have written data to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47F-7A08-4EEA-82C4-42ED82020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er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ches recent reads, writes, directory-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typically has lots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che is write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odifications immediately written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, no data lost on server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client must wait for disk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073-4989-4801-A6F3-D4B982117A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ent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cache results of reads, writes, and directory-ops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es cache consistenc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f-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keeps last-modification time p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remembers time it got fi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file open or new block access, client checks its timestamp against server’s (checks every 3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21F-187F-4B99-B9FE-B700D9B142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dcterms:modified xsi:type="dcterms:W3CDTF">2003-11-07T01:16:56Z</dcterms:modified>
  <cp:revision>24</cp:revision>
  <dc:subject/>
  <dc:title>Naming</dc:title>
</cp:coreProperties>
</file>