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8C74-71B9-41B1-9C17-28440E749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6405-F346-4675-846D-E3D4D965D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C98C-0BE4-4646-9A88-40CC19DAF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2F17-6352-4E8F-BE7E-64780BA4D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FAA0-CDCB-484B-8011-DAC62E344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4886-1E8D-4BD8-9ADE-7897EBC2B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B3C9-EAA2-4B33-A8E3-273E0C300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6070-9228-40C0-810B-FC22FF346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6D98-3D65-47FF-85B3-608FF30A4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34BA-2702-495D-A798-D14DC966A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6963-6CDB-46AC-81C6-4C1753A05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DEE9-2CB6-46B9-9707-059ACF012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ring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F1049-58C9-438B-9338-43364F5862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Group Communication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5280" y="3276360"/>
            <a:ext cx="47246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cast Rou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ical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r &amp; Membership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D846-77E6-490E-8C99-9EB699D0777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Ordering: First Approach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ntral ordering server assigns global sequence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sts apply to ordering server for numbers, or ordering server sends all messages it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to deal with case where ordering server fai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der election we saw earl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ld-back easy since sequence numbers are sequent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A3A0-D9B8-45A6-8579-401C2471DF6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Ordering: Second Approach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time message was s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ed on sending 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host address to break 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ant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 and decentral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advant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nearly synchronized cl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hold back messages for a period equal to maximum clock dif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232E-2D29-4FC2-AB15-3D7E4E7B365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Logical Tim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ight: often don’t care about when something happened, only about which thing happened fi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ppened before relation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 means “X happened before Y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e ru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X and Y occur in the same process and X occurs before Y, then X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M is a message, then send(M)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ceive(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X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 and Y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Z, then X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16F0-9023-4EA3-9622-9E2BC7B7AE9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Logical Time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two events X and Y, ei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,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,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ither (X and Y ar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lation defines a partial 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2897280" y="4481640"/>
            <a:ext cx="4570200" cy="1463760"/>
            <a:chOff x="2897280" y="4481640"/>
            <a:chExt cx="4570200" cy="1463760"/>
          </a:xfrm>
        </p:grpSpPr>
        <p:sp>
          <p:nvSpPr>
            <p:cNvPr id="68" name=""/>
            <p:cNvSpPr/>
            <p:nvPr/>
          </p:nvSpPr>
          <p:spPr>
            <a:xfrm>
              <a:off x="3504960" y="4810320"/>
              <a:ext cx="3962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504960" y="5334120"/>
              <a:ext cx="3962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04960" y="5867640"/>
              <a:ext cx="3962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897280" y="4543560"/>
              <a:ext cx="42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897280" y="5067360"/>
              <a:ext cx="42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897280" y="5577120"/>
              <a:ext cx="42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809880" y="47246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419360" y="472464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105160" y="5257800"/>
              <a:ext cx="15264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43600" y="525780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962160" y="579132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476760" y="579132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719160" y="448164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328640" y="44816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014440" y="50151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852880" y="50151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884760" y="5524560"/>
              <a:ext cx="30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6400" y="55483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4572000" y="4818240"/>
            <a:ext cx="533520" cy="439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5880" y="5351400"/>
            <a:ext cx="381240" cy="439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CECF-E94B-4008-9452-218EBE175D1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Message Contex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cess sends a messag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 the context 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ll the messages it has receiv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up communication represented with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ext 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3 senders, denot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a, b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12080" y="1981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999480" y="28954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173640" y="373392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850160" y="37339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80200" y="4586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012080" y="4586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141960" y="54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62920" y="2347920"/>
            <a:ext cx="0" cy="5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6448320" y="3166920"/>
            <a:ext cx="609840" cy="6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315200" y="3186000"/>
            <a:ext cx="638280" cy="6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7314840" y="4062240"/>
            <a:ext cx="638280" cy="60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410160" y="4062240"/>
            <a:ext cx="65736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5676480" y="4062240"/>
            <a:ext cx="552600" cy="60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438600" y="4905360"/>
            <a:ext cx="657000" cy="60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676840" y="4905360"/>
            <a:ext cx="552600" cy="60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8EFC-7FAE-4F3D-B922-8B65E9D8577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rotocol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52600" y="1981080"/>
            <a:ext cx="8115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server maintains a copy of the context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on of all copies equals “global grap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: mid + mid of all predecessor mess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ves of sender’s copy of context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unded by number of participants (why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: add to local copy and deliver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 back if not all predecessors are 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k sender to retransmit missing messages (why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 up to application in “context”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3025-2D28-42CF-A7A9-DCD28C4C5C5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rotocol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s can inspect context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ves, precedes, prev, root, s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llowed by a message from all other particip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 can free all stable messages from its co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never be asked to retransmit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BC7F-E36D-4166-BFE8-8083A7F5357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Host Failure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020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arant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running processes are able to continue exchanging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essage contained in any running host’s copy will eventually be incorporated into every running host’s co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k out failed 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justs message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9A06-C238-4F90-BBD3-1DA3C0CC111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Message Order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866960"/>
            <a:ext cx="799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ext graph preserves partial order among mess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host can produce same total order by running a topological sort on context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mental since messages continually arri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it next “wave” of messages to application as soon as one message in wave becomes s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 that no future messages will be at same logical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bership protocol much trick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734F-BB58-42D2-8335-47C4BD6FA42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rocess Group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set of processes that want to coope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sses can join/leave either implicitly or explici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cess can belong to many 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ups can be either open or clo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multicast rather than point-to-point mess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name (address) provides a useful level of in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 u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dissemination (e.g., new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icated ser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9B26-6DE7-4535-8F35-FE0DB9D52AA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Multicast Routing: LS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host on a LAN periodically announces the groups it belongs to using IG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gment update message (LSP) to include set of groups that have members on a particular 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router uses Dijkstra’s algorithm to compute shortest-path spanning tree for each source/group p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router caches tree for currently active source/group pai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927E-5F9B-42D2-A1AB-12702717C3B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Multicast Routing: DV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erse Path Broad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router already knows that shortest path to S goes through router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receive multicast packet from S, forward on all outgoing links (except one it arrived on), iff packet arrived from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iminate duplicate broadcast packets by letting only “parent” for LAN (relative to S) forw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rtest path to S (learn from distance vect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mallest address to break 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1992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7D70-60DF-488A-AA7D-2449946DF8D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DV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erse Path Multi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prune networks have have no hosts in group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: determine if LAN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a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/ no members in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f if parent is only router on the 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ermine if any hosts are members of G using IG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: propagate “no members of G here”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gment (destination, cost) update sent to neighbors with set of groups for which this network is interested in receiving multicast pack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ly happens when multicast address becomes ac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1484-9130-410F-BB2B-FAF9EA1CC0E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eplicated State Machin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ice is characterized as a state machine that modifies variables in response to outside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machine is replicated to improve avail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 is ens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operations are atomic (applied at all functioning replic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replicas remain consistent (ops applied in same ord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apsulate operations in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 using group 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E638-49C7-4140-8AB3-DDEB203A274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tomic Message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ity property: a message is delivered to all members, or to n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tr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recipient acknowledges 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er retransmits if ACK not recei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sender could crash before message is delivered every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BCAF-1E37-47C9-A0F4-A9A9E0388B5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tomic Messages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x: if sender crashes, a recipient volunteers to be “backup sender” for the mes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-sends message to everybody, waits for A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imple algorithm to choose volunte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 method again if backup fa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remember all received messages in case we need to become backup se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iodic protocol to “prune” old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know it’s safe to pru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78E5-B7F5-4A96-8245-4FDE650C4D6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Message Ordering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 far: different members may see messages in different 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dered group communication requires all members to agree about the order of mess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in group, assign global ordering to mess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ld back messages that arrive out-of-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6D29-59E6-4738-9411-533933510AE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30T17:24:23Z</dcterms:created>
  <dc:creator>klp</dc:creator>
  <dc:description/>
  <dc:language>en-US</dc:language>
  <cp:lastModifiedBy>Elsevier</cp:lastModifiedBy>
  <cp:lastPrinted>2000-04-17T22:31:36Z</cp:lastPrinted>
  <dcterms:modified xsi:type="dcterms:W3CDTF">2003-11-07T01:17:24Z</dcterms:modified>
  <cp:revision>35</cp:revision>
  <dc:subject/>
  <dc:title>Naming</dc:title>
</cp:coreProperties>
</file>