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8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5.wmf" ContentType="image/x-wmf"/>
  <Override PartName="/ppt/media/image47.wmf" ContentType="image/x-wmf"/>
  <Override PartName="/ppt/media/image36.wmf" ContentType="image/x-wmf"/>
  <Override PartName="/ppt/media/image48.wmf" ContentType="image/x-wmf"/>
  <Override PartName="/ppt/media/image5.png" ContentType="image/png"/>
  <Override PartName="/ppt/media/image37.wmf" ContentType="image/x-wmf"/>
  <Override PartName="/ppt/media/image49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2.wmf" ContentType="image/x-wmf"/>
  <Override PartName="/ppt/media/image12.png" ContentType="image/png"/>
  <Override PartName="/ppt/media/image31.wmf" ContentType="image/x-wmf"/>
  <Override PartName="/ppt/media/image11.png" ContentType="image/png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png" ContentType="image/png"/>
  <Override PartName="/ppt/media/image2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127E-2BE0-4578-9A1B-A33F81D40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535F-7081-49AC-A023-4E2C30F10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de has a randomly assigned 128-bit nodeId, circular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operation: A message with key X, sent by any Pastry node, is deli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ive node with nodeId closest to X in at mos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(barring node failur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try uses a form of generalized hypercube routing, where the routing tables are initialized and updated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376C-B395-4EBD-96BC-31FC4EC8A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ile storage is mapped onto the Pastry overlay network by maintaing the invariant that replicas of a file are stored on the k nodes that are numerically closest to the file’s numeric fileI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insert operation, an insert request for the file is routed using the fileId as the key. The node closest to fileId replicates the file on the k-1 next nearest nodes in then name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1C06-08EE-4377-9C3F-C9AE79A0B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ile storage is mapped onto the Pastry overlay network by maintaing the invariant that replicas of a file are stored on the k nodes that are numerically closest to the file’s numeric fileI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insert operation, an insert request for the file is routed using the fileId as the key. The node closest to fileId replicates the file on the k-1 next nearest nodes in then name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FA8F-3987-4FD7-B8BC-9E076D9E2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oint is shown pictorally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okup request is routed in at most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to a node that stores a replica, if one ex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ractice, the node among the k that first receives the message serves th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more, network locality properties of Pastry (not discussed in this talk) ensure that this is node is usually the node that is closest to the client in the network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727-5124-4F05-92B9-0F9CF59A6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de has a randomly assigned 128-bit nodeId, circular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operation: A message with key X, sent by any Pastry node, is deli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ive node with nodeId closest to X in at mos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(barring node failur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try uses a form of generalized hypercube routing, where the routing tables are initialized and updated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F24A-10EF-4195-81F7-B8480991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de has a randomly assigned 128-bit nodeId, circular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operation: A message with key X, sent by any Pastry node, is deli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ive node with nodeId closest to X in at mos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(barring node failur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try uses a form of generalized hypercube routing, where the routing tables are initialized and updated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972-9E4B-4D9A-BE40-693C0DEC0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de has a randomly assigned 128-bit nodeId, circular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operation: A message with key X, sent by any Pastry node, is deli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ive node with nodeId closest to X in at mos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(barring node failur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try uses a form of generalized hypercube routing, where the routing tables are initialized and updated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7FA-8886-4DB7-B43E-6F0010A5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D89-DEBF-4EED-AD03-83E17CC3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832-736F-4F5F-95F4-11501606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845-DB1B-48F3-A047-F790E094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196-38D9-475C-8988-48F87801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6D5-8CB0-4CA4-A128-AFCCA30F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091-1654-4463-AE67-415CE569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215-18E3-4073-96FF-5F1130C4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D92-BD78-4D78-9424-812F0504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A21-4D16-4A75-9CB4-79A29E9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FBB-F1A8-4C37-A4FE-070EF471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6BB-3FD6-40EB-8C9E-57BFCC7A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BDE1-B419-45C3-BF70-900C1729E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image" Target="../media/image41.wmf"/><Relationship Id="rId13" Type="http://schemas.openxmlformats.org/officeDocument/2006/relationships/image" Target="../media/image42.wmf"/><Relationship Id="rId14" Type="http://schemas.openxmlformats.org/officeDocument/2006/relationships/image" Target="../media/image43.wmf"/><Relationship Id="rId15" Type="http://schemas.openxmlformats.org/officeDocument/2006/relationships/image" Target="../media/image44.wm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image" Target="../media/image47.wmf"/><Relationship Id="rId19" Type="http://schemas.openxmlformats.org/officeDocument/2006/relationships/image" Target="../media/image48.wmf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image" Target="../media/image28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8.wmf"/><Relationship Id="rId26" Type="http://schemas.openxmlformats.org/officeDocument/2006/relationships/image" Target="../media/image28.wmf"/><Relationship Id="rId27" Type="http://schemas.openxmlformats.org/officeDocument/2006/relationships/image" Target="../media/image28.wmf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image" Target="../media/image28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8.wmf"/><Relationship Id="rId26" Type="http://schemas.openxmlformats.org/officeDocument/2006/relationships/image" Target="../media/image28.wmf"/><Relationship Id="rId27" Type="http://schemas.openxmlformats.org/officeDocument/2006/relationships/image" Target="../media/image28.wmf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image" Target="../media/image28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8.wmf"/><Relationship Id="rId26" Type="http://schemas.openxmlformats.org/officeDocument/2006/relationships/image" Target="../media/image28.wmf"/><Relationship Id="rId27" Type="http://schemas.openxmlformats.org/officeDocument/2006/relationships/slideLayout" Target="../slideLayouts/slideLayout5.xml"/><Relationship Id="rId2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image" Target="../media/image28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8.wmf"/><Relationship Id="rId26" Type="http://schemas.openxmlformats.org/officeDocument/2006/relationships/image" Target="../media/image28.wmf"/><Relationship Id="rId27" Type="http://schemas.openxmlformats.org/officeDocument/2006/relationships/image" Target="../media/image28.wmf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er-to-Peer Networ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organizing overlay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ystem on top of P2P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 from Peter Drusch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47F-A57D-4F9B-AAE9-3601835B7E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3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af S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00080" y="2892600"/>
            <a:ext cx="730404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 node maintains IP addresses of  the nodes with the L numerically closest larger and smaller nodeIds, respectiv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 efficiency/robust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 detection (keep-al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-specific local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017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303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6589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8875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1161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3447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35733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8019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40305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2591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44877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47163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49449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51735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54021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tretch/>
        </p:blipFill>
        <p:spPr>
          <a:xfrm>
            <a:off x="56307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7"/>
          <a:stretch/>
        </p:blipFill>
        <p:spPr>
          <a:xfrm>
            <a:off x="58593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8"/>
          <a:stretch/>
        </p:blipFill>
        <p:spPr>
          <a:xfrm>
            <a:off x="60879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tretch/>
        </p:blipFill>
        <p:spPr>
          <a:xfrm>
            <a:off x="63165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0"/>
          <a:stretch/>
        </p:blipFill>
        <p:spPr>
          <a:xfrm>
            <a:off x="6545160" y="1447920"/>
            <a:ext cx="162000" cy="161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119480" y="1636560"/>
            <a:ext cx="0" cy="193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9480" y="1817640"/>
            <a:ext cx="1865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290680" y="1804680"/>
            <a:ext cx="1828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75040" y="2009880"/>
            <a:ext cx="0" cy="349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75040" y="2346480"/>
            <a:ext cx="1865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84400" y="2346480"/>
            <a:ext cx="1790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ing Proced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240" y="1494000"/>
            <a:ext cx="778860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destination is within range of our leaf se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to numerically closest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length of shared pref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digi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is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to a known nod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shares at least as long a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is numerically closer than this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BA5-1338-46BD-A797-B2AEC76A674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620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1698480"/>
            <a:ext cx="77724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ity of over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unless L/2 simultaneous failures of nodes with adjacent node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routing h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ailures: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, 128/b + 1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failure reco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(N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t case, average case much b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619-3D44-4E7F-B7CD-16D31DB1DC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Node Addi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98920" y="4354200"/>
            <a:ext cx="334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09x26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81680" cy="420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C38-D457-42B5-8D3C-FFEA17B8F5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ode Departure (Failure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f set members exchange keep-aliv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f set repair (eager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est set from farthest live node in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ting table repair (lazy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 table from peers in the same row, then higher 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0F7-8080-42CD-9E04-2221D248AA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ute(M, X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ute mess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node with nodeId numerically closes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liver(M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liver mess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warding(M, X)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being forwarded towards ke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Leaf(L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ort change in leaf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p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AF2-D786-4042-93E8-A1D5286245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ST: Cooperative, archival file storage and distribu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03440" y="163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ed on top of Pa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pers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cost (no bac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use of pool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ST 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tore replica of a file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verse storag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retrieve file from a nearby live storage node that holds a 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la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free storage associated with a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6E4-664A-4D7E-89CA-FE581D27DA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PAST: File storage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24160" y="1692360"/>
            <a:ext cx="4581360" cy="4429080"/>
            <a:chOff x="2324160" y="1692360"/>
            <a:chExt cx="4581360" cy="4429080"/>
          </a:xfrm>
        </p:grpSpPr>
        <p:sp>
          <p:nvSpPr>
            <p:cNvPr id="213" name=""/>
            <p:cNvSpPr/>
            <p:nvPr/>
          </p:nvSpPr>
          <p:spPr>
            <a:xfrm>
              <a:off x="2400480" y="1692360"/>
              <a:ext cx="4419360" cy="43434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6743880" y="3597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6667560" y="3216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6438960" y="2683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6591240" y="4664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6134040" y="52736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2552760" y="2911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7"/>
            <a:stretch/>
          </p:blipFill>
          <p:spPr>
            <a:xfrm>
              <a:off x="2476440" y="4511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2857680" y="2454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9"/>
            <a:stretch/>
          </p:blipFill>
          <p:spPr>
            <a:xfrm>
              <a:off x="3695760" y="18064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0"/>
            <a:stretch/>
          </p:blipFill>
          <p:spPr>
            <a:xfrm>
              <a:off x="4457880" y="59594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1"/>
            <a:stretch/>
          </p:blipFill>
          <p:spPr>
            <a:xfrm>
              <a:off x="5143680" y="169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2"/>
            <a:stretch/>
          </p:blipFill>
          <p:spPr>
            <a:xfrm>
              <a:off x="3086280" y="2225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3"/>
            <a:stretch/>
          </p:blipFill>
          <p:spPr>
            <a:xfrm>
              <a:off x="2324160" y="3978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4"/>
            <a:stretch/>
          </p:blipFill>
          <p:spPr>
            <a:xfrm>
              <a:off x="3762360" y="5826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5"/>
            <a:stretch/>
          </p:blipFill>
          <p:spPr>
            <a:xfrm>
              <a:off x="2629080" y="4892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6"/>
            <a:stretch/>
          </p:blipFill>
          <p:spPr>
            <a:xfrm>
              <a:off x="3543480" y="573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7"/>
            <a:stretch/>
          </p:blipFill>
          <p:spPr>
            <a:xfrm>
              <a:off x="5829480" y="55785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8"/>
            <a:stretch/>
          </p:blipFill>
          <p:spPr>
            <a:xfrm>
              <a:off x="4076640" y="169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9"/>
            <a:stretch/>
          </p:blipFill>
          <p:spPr>
            <a:xfrm>
              <a:off x="5778360" y="2008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0"/>
            <a:stretch/>
          </p:blipFill>
          <p:spPr>
            <a:xfrm>
              <a:off x="2400480" y="32925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1"/>
            <a:stretch/>
          </p:blipFill>
          <p:spPr>
            <a:xfrm>
              <a:off x="6362640" y="50450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2"/>
            <a:stretch/>
          </p:blipFill>
          <p:spPr>
            <a:xfrm>
              <a:off x="5372280" y="5807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3"/>
            <a:stretch/>
          </p:blipFill>
          <p:spPr>
            <a:xfrm>
              <a:off x="3314880" y="55785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flipH="1">
              <a:off x="5778360" y="2513160"/>
              <a:ext cx="53352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77720" y="279972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74209"/>
                  </a:solidFill>
                  <a:latin typeface="Times New Roman"/>
                </a:rPr>
                <a:t>file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9" name=""/>
            <p:cNvCxnSpPr>
              <a:stCxn id="236" idx="0"/>
              <a:endCxn id="240" idx="1"/>
            </p:cNvCxnSpPr>
            <p:nvPr/>
          </p:nvCxnSpPr>
          <p:spPr>
            <a:xfrm flipH="1" flipV="1" rot="5400000">
              <a:off x="4461840" y="3296520"/>
              <a:ext cx="1215360" cy="3349080"/>
            </a:xfrm>
            <a:prstGeom prst="curvedConnector2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pic>
          <p:nvPicPr>
            <p:cNvPr id="241" name="" descr=""/>
            <p:cNvPicPr/>
            <p:nvPr/>
          </p:nvPicPr>
          <p:blipFill>
            <a:blip r:embed="rId24"/>
            <a:stretch/>
          </p:blipFill>
          <p:spPr>
            <a:xfrm>
              <a:off x="6743880" y="4283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5"/>
            <a:stretch/>
          </p:blipFill>
          <p:spPr>
            <a:xfrm>
              <a:off x="5981760" y="2149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6"/>
            <a:stretch/>
          </p:blipFill>
          <p:spPr>
            <a:xfrm>
              <a:off x="3086280" y="5426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7"/>
            <a:stretch/>
          </p:blipFill>
          <p:spPr>
            <a:xfrm>
              <a:off x="3416400" y="19083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5" name=""/>
            <p:cNvCxnSpPr>
              <a:stCxn id="241" idx="1"/>
              <a:endCxn id="215" idx="1"/>
            </p:cNvCxnSpPr>
            <p:nvPr/>
          </p:nvCxnSpPr>
          <p:spPr>
            <a:xfrm rot="10800000">
              <a:off x="6667560" y="3296520"/>
              <a:ext cx="76680" cy="1067400"/>
            </a:xfrm>
            <a:prstGeom prst="curvedConnector5">
              <a:avLst>
                <a:gd name="adj1" fmla="val 401415"/>
                <a:gd name="adj2" fmla="val 50000"/>
                <a:gd name="adj3" fmla="val 401415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5" idx="1"/>
              <a:endCxn id="216" idx="1"/>
            </p:cNvCxnSpPr>
            <p:nvPr/>
          </p:nvCxnSpPr>
          <p:spPr>
            <a:xfrm rot="10800000">
              <a:off x="6438240" y="2763000"/>
              <a:ext cx="229320" cy="534240"/>
            </a:xfrm>
            <a:prstGeom prst="curvedConnector5">
              <a:avLst>
                <a:gd name="adj1" fmla="val 200000"/>
                <a:gd name="adj2" fmla="val 49966"/>
                <a:gd name="adj3" fmla="val 20000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247" name=""/>
            <p:cNvSpPr/>
            <p:nvPr/>
          </p:nvSpPr>
          <p:spPr>
            <a:xfrm>
              <a:off x="2841840" y="4144320"/>
              <a:ext cx="183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99"/>
                  </a:solidFill>
                  <a:latin typeface="Times New Roman"/>
                </a:rPr>
                <a:t>Insert </a:t>
              </a:r>
              <a:r>
                <a:rPr b="0" i="1" lang="en-US" sz="2800" spc="-1" strike="noStrike">
                  <a:solidFill>
                    <a:srgbClr val="66ff99"/>
                  </a:solidFill>
                  <a:latin typeface="Times New Roman"/>
                </a:rPr>
                <a:t>file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7ED-2766-4887-BE40-D32FF34D1C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764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PAST: File storage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89440" y="2230560"/>
            <a:ext cx="3289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age Invari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“replicas”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on k n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node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st to file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 is bounded by the leaf set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720" y="1778040"/>
            <a:ext cx="4734360" cy="4505400"/>
            <a:chOff x="558720" y="1778040"/>
            <a:chExt cx="4734360" cy="4505400"/>
          </a:xfrm>
        </p:grpSpPr>
        <p:sp>
          <p:nvSpPr>
            <p:cNvPr id="251" name=""/>
            <p:cNvSpPr/>
            <p:nvPr/>
          </p:nvSpPr>
          <p:spPr>
            <a:xfrm>
              <a:off x="635040" y="1854360"/>
              <a:ext cx="4419720" cy="43434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4978440" y="37591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4902120" y="3378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4673520" y="28447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>
              <a:off x="4826160" y="4826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4368960" y="54356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787320" y="3073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711360" y="46735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tretch/>
          </p:blipFill>
          <p:spPr>
            <a:xfrm>
              <a:off x="1092240" y="26161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9"/>
            <a:stretch/>
          </p:blipFill>
          <p:spPr>
            <a:xfrm>
              <a:off x="1930320" y="20066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0"/>
            <a:stretch/>
          </p:blipFill>
          <p:spPr>
            <a:xfrm>
              <a:off x="2692440" y="61214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1"/>
            <a:stretch/>
          </p:blipFill>
          <p:spPr>
            <a:xfrm>
              <a:off x="3378240" y="18543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2"/>
            <a:stretch/>
          </p:blipFill>
          <p:spPr>
            <a:xfrm>
              <a:off x="1320840" y="23875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3"/>
            <a:stretch/>
          </p:blipFill>
          <p:spPr>
            <a:xfrm>
              <a:off x="558720" y="41403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4"/>
            <a:stretch/>
          </p:blipFill>
          <p:spPr>
            <a:xfrm>
              <a:off x="1996920" y="59878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5"/>
            <a:stretch/>
          </p:blipFill>
          <p:spPr>
            <a:xfrm>
              <a:off x="863640" y="5054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6"/>
            <a:stretch/>
          </p:blipFill>
          <p:spPr>
            <a:xfrm>
              <a:off x="1778040" y="5892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7"/>
            <a:stretch/>
          </p:blipFill>
          <p:spPr>
            <a:xfrm>
              <a:off x="4064040" y="57405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8"/>
            <a:stretch/>
          </p:blipFill>
          <p:spPr>
            <a:xfrm>
              <a:off x="2311560" y="18543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9"/>
            <a:stretch/>
          </p:blipFill>
          <p:spPr>
            <a:xfrm>
              <a:off x="4013280" y="217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20"/>
            <a:stretch/>
          </p:blipFill>
          <p:spPr>
            <a:xfrm>
              <a:off x="635040" y="34545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1"/>
            <a:stretch/>
          </p:blipFill>
          <p:spPr>
            <a:xfrm>
              <a:off x="4597560" y="5207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2"/>
            <a:stretch/>
          </p:blipFill>
          <p:spPr>
            <a:xfrm>
              <a:off x="3606840" y="5969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3"/>
            <a:stretch/>
          </p:blipFill>
          <p:spPr>
            <a:xfrm>
              <a:off x="1549440" y="57405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 flipH="1">
              <a:off x="4012920" y="267480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12640" y="296172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74209"/>
                  </a:solidFill>
                  <a:latin typeface="Times New Roman"/>
                </a:rPr>
                <a:t>file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4" idx="0"/>
              <a:endCxn id="255" idx="1"/>
            </p:cNvCxnSpPr>
            <p:nvPr/>
          </p:nvCxnSpPr>
          <p:spPr>
            <a:xfrm flipH="1" flipV="1" rot="5400000">
              <a:off x="2810880" y="3725280"/>
              <a:ext cx="834480" cy="3196440"/>
            </a:xfrm>
            <a:prstGeom prst="curvedConnector2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pic>
          <p:nvPicPr>
            <p:cNvPr id="278" name="" descr=""/>
            <p:cNvPicPr/>
            <p:nvPr/>
          </p:nvPicPr>
          <p:blipFill>
            <a:blip r:embed="rId24"/>
            <a:stretch/>
          </p:blipFill>
          <p:spPr>
            <a:xfrm>
              <a:off x="4978440" y="4444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5"/>
            <a:stretch/>
          </p:blipFill>
          <p:spPr>
            <a:xfrm>
              <a:off x="4216320" y="23115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26"/>
            <a:stretch/>
          </p:blipFill>
          <p:spPr>
            <a:xfrm>
              <a:off x="1320840" y="558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27"/>
            <a:stretch/>
          </p:blipFill>
          <p:spPr>
            <a:xfrm>
              <a:off x="2616120" y="17780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2" name=""/>
            <p:cNvCxnSpPr>
              <a:stCxn id="255" idx="1"/>
              <a:endCxn id="252" idx="1"/>
            </p:cNvCxnSpPr>
            <p:nvPr/>
          </p:nvCxnSpPr>
          <p:spPr>
            <a:xfrm flipH="1" rot="10800000">
              <a:off x="4825080" y="3839400"/>
              <a:ext cx="153000" cy="1067400"/>
            </a:xfrm>
            <a:prstGeom prst="curvedConnector5">
              <a:avLst>
                <a:gd name="adj1" fmla="val -150000"/>
                <a:gd name="adj2" fmla="val 50000"/>
                <a:gd name="adj3" fmla="val -15000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52" idx="1"/>
              <a:endCxn id="254" idx="1"/>
            </p:cNvCxnSpPr>
            <p:nvPr/>
          </p:nvCxnSpPr>
          <p:spPr>
            <a:xfrm rot="10800000">
              <a:off x="4672800" y="2925000"/>
              <a:ext cx="305640" cy="915120"/>
            </a:xfrm>
            <a:prstGeom prst="curvedConnector5">
              <a:avLst>
                <a:gd name="adj1" fmla="val 175000"/>
                <a:gd name="adj2" fmla="val 49980"/>
                <a:gd name="adj3" fmla="val 17500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84" name=""/>
            <p:cNvCxnSpPr>
              <a:stCxn id="254" idx="3"/>
              <a:endCxn id="253" idx="3"/>
            </p:cNvCxnSpPr>
            <p:nvPr/>
          </p:nvCxnSpPr>
          <p:spPr>
            <a:xfrm>
              <a:off x="4835160" y="2925720"/>
              <a:ext cx="229320" cy="534240"/>
            </a:xfrm>
            <a:prstGeom prst="curvedConnector5">
              <a:avLst>
                <a:gd name="adj1" fmla="val 200000"/>
                <a:gd name="adj2" fmla="val 49966"/>
                <a:gd name="adj3" fmla="val 20000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54" idx="3"/>
              <a:endCxn id="270" idx="0"/>
            </p:cNvCxnSpPr>
            <p:nvPr/>
          </p:nvCxnSpPr>
          <p:spPr>
            <a:xfrm flipH="1" flipV="1">
              <a:off x="4093560" y="2169360"/>
              <a:ext cx="741960" cy="756360"/>
            </a:xfrm>
            <a:prstGeom prst="curvedConnector5">
              <a:avLst>
                <a:gd name="adj1" fmla="val -30825"/>
                <a:gd name="adj2" fmla="val 65095"/>
                <a:gd name="adj3" fmla="val -30825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54" idx="3"/>
              <a:endCxn id="279" idx="3"/>
            </p:cNvCxnSpPr>
            <p:nvPr/>
          </p:nvCxnSpPr>
          <p:spPr>
            <a:xfrm flipH="1" flipV="1">
              <a:off x="4377960" y="2391840"/>
              <a:ext cx="457920" cy="534240"/>
            </a:xfrm>
            <a:prstGeom prst="curvedConnector5">
              <a:avLst>
                <a:gd name="adj1" fmla="val -49960"/>
                <a:gd name="adj2" fmla="val 49966"/>
                <a:gd name="adj3" fmla="val -4996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287" name=""/>
            <p:cNvSpPr/>
            <p:nvPr/>
          </p:nvSpPr>
          <p:spPr>
            <a:xfrm>
              <a:off x="1400040" y="4393440"/>
              <a:ext cx="19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99"/>
                  </a:solidFill>
                  <a:latin typeface="Times New Roman"/>
                </a:rPr>
                <a:t>Insert </a:t>
              </a:r>
              <a:r>
                <a:rPr b="0" i="1" lang="en-US" sz="2800" spc="-1" strike="noStrike">
                  <a:solidFill>
                    <a:srgbClr val="66ff99"/>
                  </a:solidFill>
                  <a:latin typeface="Times New Roman"/>
                </a:rPr>
                <a:t>file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9813200">
              <a:off x="4273560" y="1866960"/>
              <a:ext cx="488880" cy="185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6040" y="2170080"/>
              <a:ext cx="812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5EB-2239-4E37-B311-AF435E9693E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PAST: File Retrieva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5680" y="2095560"/>
            <a:ext cx="4419360" cy="4343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99080" y="4000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622760" y="3619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394160" y="30862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546440" y="5067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4089240" y="5676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4241880" y="2857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507960" y="33148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431640" y="49150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812880" y="2857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0"/>
          <a:stretch/>
        </p:blipFill>
        <p:spPr>
          <a:xfrm>
            <a:off x="1501920" y="2268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1"/>
          <a:stretch/>
        </p:blipFill>
        <p:spPr>
          <a:xfrm>
            <a:off x="2413080" y="6362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2"/>
          <a:stretch/>
        </p:blipFill>
        <p:spPr>
          <a:xfrm>
            <a:off x="3098880" y="2095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3"/>
          <a:stretch/>
        </p:blipFill>
        <p:spPr>
          <a:xfrm>
            <a:off x="1041480" y="26290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4"/>
          <a:stretch/>
        </p:blipFill>
        <p:spPr>
          <a:xfrm>
            <a:off x="1717560" y="6229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5"/>
          <a:stretch/>
        </p:blipFill>
        <p:spPr>
          <a:xfrm>
            <a:off x="584280" y="52959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6"/>
          <a:stretch/>
        </p:blipFill>
        <p:spPr>
          <a:xfrm>
            <a:off x="1498680" y="6134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7"/>
          <a:stretch/>
        </p:blipFill>
        <p:spPr>
          <a:xfrm>
            <a:off x="3784680" y="59817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8"/>
          <a:stretch/>
        </p:blipFill>
        <p:spPr>
          <a:xfrm>
            <a:off x="2031840" y="2095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9"/>
          <a:stretch/>
        </p:blipFill>
        <p:spPr>
          <a:xfrm>
            <a:off x="3403440" y="2247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0"/>
          <a:stretch/>
        </p:blipFill>
        <p:spPr>
          <a:xfrm>
            <a:off x="355680" y="36957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1"/>
          <a:stretch/>
        </p:blipFill>
        <p:spPr>
          <a:xfrm>
            <a:off x="4317840" y="5448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2"/>
          <a:stretch/>
        </p:blipFill>
        <p:spPr>
          <a:xfrm>
            <a:off x="3327480" y="6210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3"/>
          <a:stretch/>
        </p:blipFill>
        <p:spPr>
          <a:xfrm>
            <a:off x="1270080" y="598176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 flipH="1">
            <a:off x="3860640" y="3086280"/>
            <a:ext cx="53352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22200" y="331416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4209"/>
                </a:solidFill>
                <a:latin typeface="Times New Roman"/>
              </a:rPr>
              <a:t>fil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4"/>
          <a:stretch/>
        </p:blipFill>
        <p:spPr>
          <a:xfrm>
            <a:off x="4699080" y="46864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5"/>
          <a:stretch/>
        </p:blipFill>
        <p:spPr>
          <a:xfrm>
            <a:off x="3936960" y="25527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6"/>
          <a:stretch/>
        </p:blipFill>
        <p:spPr>
          <a:xfrm>
            <a:off x="1041480" y="5829480"/>
            <a:ext cx="162000" cy="161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 rot="19813200">
            <a:off x="4089240" y="2247480"/>
            <a:ext cx="527040" cy="174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05" idx="2"/>
            <a:endCxn id="318" idx="1"/>
          </p:cNvCxnSpPr>
          <p:nvPr/>
        </p:nvCxnSpPr>
        <p:spPr>
          <a:xfrm flipH="1" rot="16200000">
            <a:off x="1921680" y="1990440"/>
            <a:ext cx="1977120" cy="3577320"/>
          </a:xfrm>
          <a:prstGeom prst="curvedConnector2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18" idx="1"/>
            <a:endCxn id="294" idx="1"/>
          </p:cNvCxnSpPr>
          <p:nvPr/>
        </p:nvCxnSpPr>
        <p:spPr>
          <a:xfrm rot="10800000">
            <a:off x="4622760" y="3699720"/>
            <a:ext cx="76680" cy="1067400"/>
          </a:xfrm>
          <a:prstGeom prst="curvedConnector5">
            <a:avLst>
              <a:gd name="adj1" fmla="val 401415"/>
              <a:gd name="adj2" fmla="val 50000"/>
              <a:gd name="adj3" fmla="val 401415"/>
            </a:avLst>
          </a:prstGeom>
          <a:ln w="255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5676840" y="3253680"/>
            <a:ext cx="3467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located i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 steps (exp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locates replica nearest clien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7120" y="300924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imes New Roman"/>
              </a:rPr>
              <a:t>Loo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25480" y="218664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rep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211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084-2DE4-4969-B34B-5D9B4ABF99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2840" y="1447920"/>
            <a:ext cx="802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on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ster, Gnutella, Free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c Prot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ry, Chord, CAN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mon 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, maintain overlay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rri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allocation/load bal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ty (network proxim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ic p2p subst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21F-8489-4C86-A900-06F8E71B48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440" y="5214960"/>
            <a:ext cx="2111400" cy="6811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55760" y="532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3240" y="4016520"/>
            <a:ext cx="2111400" cy="68076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480" y="41274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P Sub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32080" y="2139840"/>
            <a:ext cx="1398600" cy="9352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82840" y="2211480"/>
            <a:ext cx="132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2800" y="2139840"/>
            <a:ext cx="1579680" cy="9352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0360" y="216072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44720" y="3578400"/>
            <a:ext cx="5754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4954680"/>
            <a:ext cx="5754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73000" y="5337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1600" y="3586320"/>
            <a:ext cx="250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organ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y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0920" y="248112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p application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86120" y="4724280"/>
            <a:ext cx="0" cy="463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73520" y="3127320"/>
            <a:ext cx="0" cy="8240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92120" y="3127320"/>
            <a:ext cx="1365480" cy="798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64040" y="2151000"/>
            <a:ext cx="1182600" cy="9352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320" y="2374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000240" y="3152880"/>
            <a:ext cx="1262160" cy="7603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394-203E-424D-9062-3477F6269E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st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06320" y="176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organizing overlay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t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/insert object in &lt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outing steps (exp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-nod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locality heu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8A2-D6D8-43DC-9D8F-FA152D326D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Object Distribu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11560" y="1596600"/>
            <a:ext cx="38275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sistent hashing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arger et al. ‘9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8 bit circular id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nodeId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uniform rand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I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uniform rand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varian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de with numerically closest nodeId maintains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05040" y="1886040"/>
            <a:ext cx="3666960" cy="3900240"/>
            <a:chOff x="905040" y="1886040"/>
            <a:chExt cx="3666960" cy="3900240"/>
          </a:xfrm>
        </p:grpSpPr>
        <p:sp>
          <p:nvSpPr>
            <p:cNvPr id="81" name=""/>
            <p:cNvSpPr/>
            <p:nvPr/>
          </p:nvSpPr>
          <p:spPr>
            <a:xfrm>
              <a:off x="957240" y="2224080"/>
              <a:ext cx="3552840" cy="3486240"/>
            </a:xfrm>
            <a:custGeom>
              <a:avLst/>
              <a:gdLst/>
              <a:ahLst/>
              <a:rect l="l" t="t" r="r" b="b"/>
              <a:pathLst>
                <a:path w="2238" h="2196">
                  <a:moveTo>
                    <a:pt x="2238" y="1098"/>
                  </a:moveTo>
                  <a:lnTo>
                    <a:pt x="2238" y="1098"/>
                  </a:lnTo>
                  <a:lnTo>
                    <a:pt x="2235" y="1041"/>
                  </a:lnTo>
                  <a:lnTo>
                    <a:pt x="2232" y="987"/>
                  </a:lnTo>
                  <a:lnTo>
                    <a:pt x="2223" y="930"/>
                  </a:lnTo>
                  <a:lnTo>
                    <a:pt x="2214" y="876"/>
                  </a:lnTo>
                  <a:lnTo>
                    <a:pt x="2202" y="825"/>
                  </a:lnTo>
                  <a:lnTo>
                    <a:pt x="2187" y="771"/>
                  </a:lnTo>
                  <a:lnTo>
                    <a:pt x="2169" y="720"/>
                  </a:lnTo>
                  <a:lnTo>
                    <a:pt x="2148" y="672"/>
                  </a:lnTo>
                  <a:lnTo>
                    <a:pt x="2127" y="621"/>
                  </a:lnTo>
                  <a:lnTo>
                    <a:pt x="2103" y="576"/>
                  </a:lnTo>
                  <a:lnTo>
                    <a:pt x="2076" y="528"/>
                  </a:lnTo>
                  <a:lnTo>
                    <a:pt x="2046" y="483"/>
                  </a:lnTo>
                  <a:lnTo>
                    <a:pt x="2013" y="441"/>
                  </a:lnTo>
                  <a:lnTo>
                    <a:pt x="1980" y="399"/>
                  </a:lnTo>
                  <a:lnTo>
                    <a:pt x="1947" y="360"/>
                  </a:lnTo>
                  <a:lnTo>
                    <a:pt x="1908" y="321"/>
                  </a:lnTo>
                  <a:lnTo>
                    <a:pt x="1869" y="285"/>
                  </a:lnTo>
                  <a:lnTo>
                    <a:pt x="1830" y="249"/>
                  </a:lnTo>
                  <a:lnTo>
                    <a:pt x="1788" y="219"/>
                  </a:lnTo>
                  <a:lnTo>
                    <a:pt x="1743" y="186"/>
                  </a:lnTo>
                  <a:lnTo>
                    <a:pt x="1698" y="159"/>
                  </a:lnTo>
                  <a:lnTo>
                    <a:pt x="1650" y="132"/>
                  </a:lnTo>
                  <a:lnTo>
                    <a:pt x="1602" y="108"/>
                  </a:lnTo>
                  <a:lnTo>
                    <a:pt x="1554" y="87"/>
                  </a:lnTo>
                  <a:lnTo>
                    <a:pt x="1503" y="66"/>
                  </a:lnTo>
                  <a:lnTo>
                    <a:pt x="1452" y="48"/>
                  </a:lnTo>
                  <a:lnTo>
                    <a:pt x="1398" y="33"/>
                  </a:lnTo>
                  <a:lnTo>
                    <a:pt x="1344" y="21"/>
                  </a:lnTo>
                  <a:lnTo>
                    <a:pt x="1290" y="12"/>
                  </a:lnTo>
                  <a:lnTo>
                    <a:pt x="1233" y="6"/>
                  </a:lnTo>
                  <a:lnTo>
                    <a:pt x="1176" y="0"/>
                  </a:lnTo>
                  <a:lnTo>
                    <a:pt x="1119" y="0"/>
                  </a:lnTo>
                  <a:lnTo>
                    <a:pt x="1119" y="0"/>
                  </a:lnTo>
                  <a:lnTo>
                    <a:pt x="1062" y="0"/>
                  </a:lnTo>
                  <a:lnTo>
                    <a:pt x="1005" y="6"/>
                  </a:lnTo>
                  <a:lnTo>
                    <a:pt x="948" y="12"/>
                  </a:lnTo>
                  <a:lnTo>
                    <a:pt x="894" y="21"/>
                  </a:lnTo>
                  <a:lnTo>
                    <a:pt x="840" y="33"/>
                  </a:lnTo>
                  <a:lnTo>
                    <a:pt x="786" y="48"/>
                  </a:lnTo>
                  <a:lnTo>
                    <a:pt x="735" y="66"/>
                  </a:lnTo>
                  <a:lnTo>
                    <a:pt x="684" y="87"/>
                  </a:lnTo>
                  <a:lnTo>
                    <a:pt x="633" y="108"/>
                  </a:lnTo>
                  <a:lnTo>
                    <a:pt x="585" y="132"/>
                  </a:lnTo>
                  <a:lnTo>
                    <a:pt x="540" y="159"/>
                  </a:lnTo>
                  <a:lnTo>
                    <a:pt x="492" y="186"/>
                  </a:lnTo>
                  <a:lnTo>
                    <a:pt x="450" y="219"/>
                  </a:lnTo>
                  <a:lnTo>
                    <a:pt x="408" y="249"/>
                  </a:lnTo>
                  <a:lnTo>
                    <a:pt x="366" y="285"/>
                  </a:lnTo>
                  <a:lnTo>
                    <a:pt x="327" y="321"/>
                  </a:lnTo>
                  <a:lnTo>
                    <a:pt x="291" y="360"/>
                  </a:lnTo>
                  <a:lnTo>
                    <a:pt x="255" y="399"/>
                  </a:lnTo>
                  <a:lnTo>
                    <a:pt x="222" y="441"/>
                  </a:lnTo>
                  <a:lnTo>
                    <a:pt x="192" y="483"/>
                  </a:lnTo>
                  <a:lnTo>
                    <a:pt x="162" y="528"/>
                  </a:lnTo>
                  <a:lnTo>
                    <a:pt x="135" y="576"/>
                  </a:lnTo>
                  <a:lnTo>
                    <a:pt x="111" y="621"/>
                  </a:lnTo>
                  <a:lnTo>
                    <a:pt x="87" y="672"/>
                  </a:lnTo>
                  <a:lnTo>
                    <a:pt x="69" y="720"/>
                  </a:lnTo>
                  <a:lnTo>
                    <a:pt x="51" y="771"/>
                  </a:lnTo>
                  <a:lnTo>
                    <a:pt x="36" y="825"/>
                  </a:lnTo>
                  <a:lnTo>
                    <a:pt x="24" y="876"/>
                  </a:lnTo>
                  <a:lnTo>
                    <a:pt x="12" y="930"/>
                  </a:lnTo>
                  <a:lnTo>
                    <a:pt x="6" y="987"/>
                  </a:lnTo>
                  <a:lnTo>
                    <a:pt x="3" y="1041"/>
                  </a:lnTo>
                  <a:lnTo>
                    <a:pt x="0" y="1098"/>
                  </a:lnTo>
                  <a:lnTo>
                    <a:pt x="0" y="1098"/>
                  </a:lnTo>
                  <a:lnTo>
                    <a:pt x="3" y="1155"/>
                  </a:lnTo>
                  <a:lnTo>
                    <a:pt x="6" y="1212"/>
                  </a:lnTo>
                  <a:lnTo>
                    <a:pt x="12" y="1266"/>
                  </a:lnTo>
                  <a:lnTo>
                    <a:pt x="24" y="1320"/>
                  </a:lnTo>
                  <a:lnTo>
                    <a:pt x="36" y="1374"/>
                  </a:lnTo>
                  <a:lnTo>
                    <a:pt x="51" y="1425"/>
                  </a:lnTo>
                  <a:lnTo>
                    <a:pt x="69" y="1476"/>
                  </a:lnTo>
                  <a:lnTo>
                    <a:pt x="87" y="1527"/>
                  </a:lnTo>
                  <a:lnTo>
                    <a:pt x="111" y="1575"/>
                  </a:lnTo>
                  <a:lnTo>
                    <a:pt x="135" y="1623"/>
                  </a:lnTo>
                  <a:lnTo>
                    <a:pt x="162" y="1668"/>
                  </a:lnTo>
                  <a:lnTo>
                    <a:pt x="192" y="1713"/>
                  </a:lnTo>
                  <a:lnTo>
                    <a:pt x="222" y="1755"/>
                  </a:lnTo>
                  <a:lnTo>
                    <a:pt x="255" y="1797"/>
                  </a:lnTo>
                  <a:lnTo>
                    <a:pt x="291" y="1836"/>
                  </a:lnTo>
                  <a:lnTo>
                    <a:pt x="327" y="1875"/>
                  </a:lnTo>
                  <a:lnTo>
                    <a:pt x="366" y="1911"/>
                  </a:lnTo>
                  <a:lnTo>
                    <a:pt x="408" y="1947"/>
                  </a:lnTo>
                  <a:lnTo>
                    <a:pt x="450" y="1980"/>
                  </a:lnTo>
                  <a:lnTo>
                    <a:pt x="492" y="2010"/>
                  </a:lnTo>
                  <a:lnTo>
                    <a:pt x="540" y="2037"/>
                  </a:lnTo>
                  <a:lnTo>
                    <a:pt x="585" y="2064"/>
                  </a:lnTo>
                  <a:lnTo>
                    <a:pt x="633" y="2088"/>
                  </a:lnTo>
                  <a:lnTo>
                    <a:pt x="684" y="2112"/>
                  </a:lnTo>
                  <a:lnTo>
                    <a:pt x="735" y="2130"/>
                  </a:lnTo>
                  <a:lnTo>
                    <a:pt x="786" y="2148"/>
                  </a:lnTo>
                  <a:lnTo>
                    <a:pt x="840" y="2163"/>
                  </a:lnTo>
                  <a:lnTo>
                    <a:pt x="894" y="2175"/>
                  </a:lnTo>
                  <a:lnTo>
                    <a:pt x="948" y="2184"/>
                  </a:lnTo>
                  <a:lnTo>
                    <a:pt x="1005" y="2193"/>
                  </a:lnTo>
                  <a:lnTo>
                    <a:pt x="1062" y="2196"/>
                  </a:lnTo>
                  <a:lnTo>
                    <a:pt x="1119" y="2196"/>
                  </a:lnTo>
                  <a:lnTo>
                    <a:pt x="1119" y="2196"/>
                  </a:lnTo>
                  <a:lnTo>
                    <a:pt x="1176" y="2196"/>
                  </a:lnTo>
                  <a:lnTo>
                    <a:pt x="1233" y="2193"/>
                  </a:lnTo>
                  <a:lnTo>
                    <a:pt x="1290" y="2184"/>
                  </a:lnTo>
                  <a:lnTo>
                    <a:pt x="1344" y="2175"/>
                  </a:lnTo>
                  <a:lnTo>
                    <a:pt x="1398" y="2163"/>
                  </a:lnTo>
                  <a:lnTo>
                    <a:pt x="1452" y="2148"/>
                  </a:lnTo>
                  <a:lnTo>
                    <a:pt x="1503" y="2130"/>
                  </a:lnTo>
                  <a:lnTo>
                    <a:pt x="1554" y="2112"/>
                  </a:lnTo>
                  <a:lnTo>
                    <a:pt x="1602" y="2088"/>
                  </a:lnTo>
                  <a:lnTo>
                    <a:pt x="1650" y="2064"/>
                  </a:lnTo>
                  <a:lnTo>
                    <a:pt x="1698" y="2037"/>
                  </a:lnTo>
                  <a:lnTo>
                    <a:pt x="1743" y="2010"/>
                  </a:lnTo>
                  <a:lnTo>
                    <a:pt x="1788" y="1980"/>
                  </a:lnTo>
                  <a:lnTo>
                    <a:pt x="1830" y="1947"/>
                  </a:lnTo>
                  <a:lnTo>
                    <a:pt x="1869" y="1911"/>
                  </a:lnTo>
                  <a:lnTo>
                    <a:pt x="1908" y="1875"/>
                  </a:lnTo>
                  <a:lnTo>
                    <a:pt x="1947" y="1836"/>
                  </a:lnTo>
                  <a:lnTo>
                    <a:pt x="1980" y="1797"/>
                  </a:lnTo>
                  <a:lnTo>
                    <a:pt x="2013" y="1755"/>
                  </a:lnTo>
                  <a:lnTo>
                    <a:pt x="2046" y="1713"/>
                  </a:lnTo>
                  <a:lnTo>
                    <a:pt x="2076" y="1668"/>
                  </a:lnTo>
                  <a:lnTo>
                    <a:pt x="2103" y="1623"/>
                  </a:lnTo>
                  <a:lnTo>
                    <a:pt x="2127" y="1575"/>
                  </a:lnTo>
                  <a:lnTo>
                    <a:pt x="2148" y="1527"/>
                  </a:lnTo>
                  <a:lnTo>
                    <a:pt x="2169" y="1476"/>
                  </a:lnTo>
                  <a:lnTo>
                    <a:pt x="2187" y="1425"/>
                  </a:lnTo>
                  <a:lnTo>
                    <a:pt x="2202" y="1374"/>
                  </a:lnTo>
                  <a:lnTo>
                    <a:pt x="2214" y="1320"/>
                  </a:lnTo>
                  <a:lnTo>
                    <a:pt x="2223" y="1266"/>
                  </a:lnTo>
                  <a:lnTo>
                    <a:pt x="2232" y="1212"/>
                  </a:lnTo>
                  <a:lnTo>
                    <a:pt x="2235" y="1155"/>
                  </a:lnTo>
                  <a:lnTo>
                    <a:pt x="2238" y="1098"/>
                  </a:lnTo>
                  <a:lnTo>
                    <a:pt x="2238" y="1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700440" y="2933640"/>
              <a:ext cx="33336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90960" y="2881440"/>
              <a:ext cx="128520" cy="109440"/>
            </a:xfrm>
            <a:custGeom>
              <a:avLst/>
              <a:gdLst/>
              <a:ahLst/>
              <a:rect l="l" t="t" r="r" b="b"/>
              <a:pathLst>
                <a:path w="81" h="69">
                  <a:moveTo>
                    <a:pt x="36" y="69"/>
                  </a:moveTo>
                  <a:lnTo>
                    <a:pt x="81" y="0"/>
                  </a:lnTo>
                  <a:lnTo>
                    <a:pt x="0" y="3"/>
                  </a:lnTo>
                  <a:lnTo>
                    <a:pt x="3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91120" y="30384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obj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2720" y="4438800"/>
              <a:ext cx="57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nodei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85920" y="4495680"/>
              <a:ext cx="347760" cy="47880"/>
            </a:xfrm>
            <a:custGeom>
              <a:avLst/>
              <a:gdLst/>
              <a:ahLst/>
              <a:rect l="l" t="t" r="r" b="b"/>
              <a:pathLst>
                <a:path w="219" h="30">
                  <a:moveTo>
                    <a:pt x="219" y="0"/>
                  </a:moveTo>
                  <a:lnTo>
                    <a:pt x="0" y="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1285920" y="4495680"/>
              <a:ext cx="347760" cy="47880"/>
            </a:xfrm>
            <a:prstGeom prst="line">
              <a:avLst/>
            </a:prstGeom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76480" y="4491000"/>
              <a:ext cx="118800" cy="10944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66" y="0"/>
                  </a:moveTo>
                  <a:lnTo>
                    <a:pt x="0" y="45"/>
                  </a:lnTo>
                  <a:lnTo>
                    <a:pt x="75" y="6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90680" y="4643280"/>
              <a:ext cx="347760" cy="138240"/>
            </a:xfrm>
            <a:custGeom>
              <a:avLst/>
              <a:gdLst/>
              <a:ahLst/>
              <a:rect l="l" t="t" r="r" b="b"/>
              <a:pathLst>
                <a:path w="219" h="87">
                  <a:moveTo>
                    <a:pt x="219" y="0"/>
                  </a:moveTo>
                  <a:lnTo>
                    <a:pt x="0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390680" y="4643280"/>
              <a:ext cx="347760" cy="138240"/>
            </a:xfrm>
            <a:prstGeom prst="line">
              <a:avLst/>
            </a:prstGeom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0600" y="473400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51" y="0"/>
                  </a:moveTo>
                  <a:lnTo>
                    <a:pt x="0" y="57"/>
                  </a:lnTo>
                  <a:lnTo>
                    <a:pt x="78" y="6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7880" y="4853160"/>
              <a:ext cx="204840" cy="376200"/>
            </a:xfrm>
            <a:custGeom>
              <a:avLst/>
              <a:gdLst/>
              <a:ahLst/>
              <a:rect l="l" t="t" r="r" b="b"/>
              <a:pathLst>
                <a:path w="129" h="237">
                  <a:moveTo>
                    <a:pt x="129" y="0"/>
                  </a:moveTo>
                  <a:lnTo>
                    <a:pt x="0" y="23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847520" y="4853160"/>
              <a:ext cx="204840" cy="376200"/>
            </a:xfrm>
            <a:prstGeom prst="line">
              <a:avLst/>
            </a:prstGeom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00360" y="5200560"/>
              <a:ext cx="104760" cy="12384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3" y="0"/>
                  </a:moveTo>
                  <a:lnTo>
                    <a:pt x="0" y="78"/>
                  </a:lnTo>
                  <a:lnTo>
                    <a:pt x="66" y="3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757600" y="1947600"/>
              <a:ext cx="144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28160" y="18907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0" y="218124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2529000" y="2157480"/>
              <a:ext cx="156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147840" y="221940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3438360" y="234324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3819600" y="2590920"/>
              <a:ext cx="156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4176720" y="300996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4362480" y="3448080"/>
              <a:ext cx="156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8"/>
            <a:stretch/>
          </p:blipFill>
          <p:spPr>
            <a:xfrm>
              <a:off x="4429080" y="3753000"/>
              <a:ext cx="1429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9"/>
            <a:stretch/>
          </p:blipFill>
          <p:spPr>
            <a:xfrm>
              <a:off x="4414680" y="4214880"/>
              <a:ext cx="1429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0"/>
            <a:stretch/>
          </p:blipFill>
          <p:spPr>
            <a:xfrm>
              <a:off x="4286160" y="461484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1"/>
            <a:stretch/>
          </p:blipFill>
          <p:spPr>
            <a:xfrm>
              <a:off x="4119480" y="488160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2"/>
            <a:stretch/>
          </p:blipFill>
          <p:spPr>
            <a:xfrm>
              <a:off x="3938760" y="511956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3"/>
            <a:stretch/>
          </p:blipFill>
          <p:spPr>
            <a:xfrm>
              <a:off x="3629160" y="536256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4"/>
            <a:stretch/>
          </p:blipFill>
          <p:spPr>
            <a:xfrm>
              <a:off x="3262320" y="552924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5"/>
            <a:stretch/>
          </p:blipFill>
          <p:spPr>
            <a:xfrm>
              <a:off x="2638440" y="5643720"/>
              <a:ext cx="15732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2043000" y="554832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7"/>
            <a:stretch/>
          </p:blipFill>
          <p:spPr>
            <a:xfrm>
              <a:off x="1857240" y="546264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8"/>
            <a:stretch/>
          </p:blipFill>
          <p:spPr>
            <a:xfrm>
              <a:off x="1671480" y="534348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9"/>
            <a:stretch/>
          </p:blipFill>
          <p:spPr>
            <a:xfrm>
              <a:off x="1486080" y="521496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0"/>
            <a:stretch/>
          </p:blipFill>
          <p:spPr>
            <a:xfrm>
              <a:off x="1123920" y="479124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1"/>
            <a:stretch/>
          </p:blipFill>
          <p:spPr>
            <a:xfrm>
              <a:off x="990720" y="449100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2"/>
            <a:stretch/>
          </p:blipFill>
          <p:spPr>
            <a:xfrm>
              <a:off x="905040" y="4052880"/>
              <a:ext cx="1425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3"/>
            <a:stretch/>
          </p:blipFill>
          <p:spPr>
            <a:xfrm>
              <a:off x="933480" y="3505320"/>
              <a:ext cx="156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4"/>
            <a:stretch/>
          </p:blipFill>
          <p:spPr>
            <a:xfrm>
              <a:off x="1057320" y="316692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5"/>
            <a:stretch/>
          </p:blipFill>
          <p:spPr>
            <a:xfrm>
              <a:off x="1295280" y="280044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6"/>
            <a:stretch/>
          </p:blipFill>
          <p:spPr>
            <a:xfrm>
              <a:off x="1538280" y="255744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7"/>
            <a:stretch/>
          </p:blipFill>
          <p:spPr>
            <a:xfrm>
              <a:off x="1900080" y="230976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118600" y="19051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92040" y="188604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1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3280" y="1890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85160" y="19051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D99-4F3F-4627-A10D-40F9EC38DF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Object Insertion/Lookup</a:t>
            </a:r>
            <a:r>
              <a:rPr b="0" i="1" lang="en-GB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160" y="1785960"/>
            <a:ext cx="4419720" cy="4343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65560" y="36910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89600" y="3309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61000" y="2776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913280" y="47577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456080" y="5367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874800" y="30052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798480" y="46054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1179360" y="25480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2017800" y="1938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2779560" y="6053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3465360" y="17859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1407960" y="23194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646200" y="40719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>
            <a:off x="2084400" y="5919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>
            <a:off x="950760" y="49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>
            <a:off x="1865160" y="5824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>
            <a:off x="4151160" y="56721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>
            <a:off x="2398680" y="17859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>
            <a:off x="3770280" y="1938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0"/>
          <a:stretch/>
        </p:blipFill>
        <p:spPr>
          <a:xfrm>
            <a:off x="722160" y="33861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1"/>
          <a:stretch/>
        </p:blipFill>
        <p:spPr>
          <a:xfrm>
            <a:off x="4684680" y="5138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2"/>
          <a:stretch/>
        </p:blipFill>
        <p:spPr>
          <a:xfrm>
            <a:off x="3693960" y="590076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4151160" y="268272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2840" y="267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endCxn id="132" idx="2"/>
          </p:cNvCxnSpPr>
          <p:nvPr/>
        </p:nvCxnSpPr>
        <p:spPr>
          <a:xfrm flipV="1">
            <a:off x="1682640" y="2937960"/>
            <a:ext cx="3160080" cy="2788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5" name="" descr=""/>
          <p:cNvPicPr/>
          <p:nvPr/>
        </p:nvPicPr>
        <p:blipFill>
          <a:blip r:embed="rId23"/>
          <a:stretch/>
        </p:blipFill>
        <p:spPr>
          <a:xfrm>
            <a:off x="5065560" y="43768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4"/>
          <a:stretch/>
        </p:blipFill>
        <p:spPr>
          <a:xfrm>
            <a:off x="4303800" y="22431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5"/>
          <a:stretch/>
        </p:blipFill>
        <p:spPr>
          <a:xfrm>
            <a:off x="1407960" y="55198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6"/>
          <a:stretch/>
        </p:blipFill>
        <p:spPr>
          <a:xfrm>
            <a:off x="2703600" y="170964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6040" y="5713920"/>
            <a:ext cx="13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4200" y="1899720"/>
            <a:ext cx="2708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sg with ke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routed to live node with nodeId closest to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mplete routing table not fea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959200" y="129528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62800" y="1294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35720" y="12942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7"/>
          <a:stretch/>
        </p:blipFill>
        <p:spPr>
          <a:xfrm>
            <a:off x="1636560" y="567216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E7D-35DC-4099-A500-AA591B8042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Rou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98920" y="4354200"/>
            <a:ext cx="334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 ste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og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09x2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647960" cy="409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17E-0E3B-470D-AC49-D7D2D4E352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dcterms:modified xsi:type="dcterms:W3CDTF">2003-11-07T00:05:21Z</dcterms:modified>
  <cp:revision>29</cp:revision>
  <dc:subject/>
  <dc:title>Naming</dc:title>
</cp:coreProperties>
</file>