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705-AB22-495E-B984-2B3DF7B8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754-E243-43FA-9409-FADC9A8B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A56-1EE5-49C3-A15E-D6AB46AB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ECD-3298-43A8-938B-1D2E07DB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38A-46A0-466D-AE40-3EC09A92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68C-C9C3-40A4-88A8-C8E9FFD2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8B0-4935-4907-A4E4-422FF3F1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ED0-2EE0-4EB1-A458-4C607F77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193-F9CF-442A-B0E9-67B51E9A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A7E-BC4A-41B4-B404-D2812AD4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19D-51B7-47BF-BE2F-1F6F0FA4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3EF-06E3-4064-9C69-7E6495D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FCDA-B38B-47D2-9C6A-AF728E076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ared Access Networ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19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(Ether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ing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(802.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471-CAF4-46EE-B893-3FF1D2B9C21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easures TRT between successive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asured-TRT &gt; TTRT: token is late so don’t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asured-TRT &lt; TTRT: token is early so OK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lasses of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: can always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: can send only if token is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 case: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RT between seei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-to-back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RT rotations no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489-D9A0-44D2-AADB-486F22F7ED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Mainten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oken when initializing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corrupts toke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holding token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ng a Token (and agreeing on T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 when join ring or suspect a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im 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ncludes the node’s TT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eceive claim frame, update the bid and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claim frame makes it all the way around the 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id was the lo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knows TT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insert new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12B-23D5-4A6E-A3D4-EBE62CCFB3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intenance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(cont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for a Valid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periodically see valid transmission (frame or t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gap = ring latency  + max frame &lt; = 2.5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imer at 2.5ms and send claim frame if it f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349-99BC-4993-B275-A80AE65AB4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LA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: 1 - 11 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pectrum radio (2.4G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d infrared (1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9B1-A516-4F9B-BBE5-3BCB0E9499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ead Spectru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ignal over wider frequency band than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designed to thwart j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over random sequence of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and receiver sh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random number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uses 7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MHz-wide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C1A-DF02-4719-A48B-242F85B16B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ead Spectru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it, send XOR of that bi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dom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known to both sender and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pping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defines an 11-bit chipp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02x37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7162920" cy="184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07D-CA36-4F7E-B669-6329634AA0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llisions Avoid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o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02x38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4038480" cy="27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ABE-BF47-4822-BF7B-24CF37144A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CA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transmi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questToS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TS)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repli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earToS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TS)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ghbo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TS: keep qu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RTS but not CTS: ok to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 sends ACK when has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silent until see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llisions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when don’t receive 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D8C-5D6F-410A-A086-61EC966DD0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pporting Mobilit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 h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ss po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th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obile node associates with an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02x39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800600" cy="275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702-8A65-4419-8537-C820505174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obilit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ing (selecting an 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en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’s w/in reach reply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be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elects one AP; sends 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ociateRequ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pli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ociation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AP informs old AP via tethe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: when join or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: AP periodically sen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a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913-DBFD-4927-B8AD-6249DDDC36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thernet 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by Xerox PARC in mid-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s in Aloha packet-radio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by Xerox, DEC, and Intel in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IEEE 802.3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MA/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2x27" descr=""/>
          <p:cNvPicPr/>
          <p:nvPr/>
        </p:nvPicPr>
        <p:blipFill>
          <a:blip r:embed="rId1"/>
          <a:stretch/>
        </p:blipFill>
        <p:spPr>
          <a:xfrm>
            <a:off x="1523880" y="5181480"/>
            <a:ext cx="5486400" cy="8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6EB-81C9-41A0-88CE-BE2B19ED10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therne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, 48-bit unicast address assigned to each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:0:e4:b1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: 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: first bit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: 10Mbps, 100Mbps, 1G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: 2500m (500m segments with 4 repea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Distributed algorithm that provides fai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9CA-1568-465E-A1EE-ADB8E8BAE3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ransmit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ne is id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bound message size of 15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wait 9.6us between back-to-back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ine is bus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until idle and transmit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persisten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ecial cas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persis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C89-16B7-4189-AE6E-D63C02A695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llis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 for 32 bits, then stop transmitting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frame is 64 bytes (header + 46 bytes of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t time: 0 or 51.2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time: 0, 51.2, or 102.4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rd time51.2, 102.4, or 153.6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1.2us, for randomly sel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.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up after several tries (usually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B6C-2754-4218-A1CB-8E14B6D1F5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llis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3" name="02x28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998800" cy="38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4E1-4458-48E0-8D2B-3E861C3327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Ring Overview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Mbps IEEE 802.5 (based on earlier IBM 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Mbps Fiber Distributed Data Interface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2x29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2590560" cy="25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777-1CD1-406F-9433-E940EE3F60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ken Ring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flow in one direction: upstream to downst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bit pattern (token) rotates around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apture token befor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token after don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your frame when it comes back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s get round-robi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2x36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6172200" cy="68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33D-52E1-4E24-95CE-D6CFBBBC2D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d Token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Holding Time (T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limit on how long a station can hold the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Rotation Time (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it takes the token to traverse the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ve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ng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Token Rotation Time (TT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d-upon upper bound on T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349-6FB2-4073-B5B7-18CB169DC1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1:29:11Z</dcterms:created>
  <dc:creator>klp</dc:creator>
  <dc:description/>
  <dc:language>en-US</dc:language>
  <cp:lastModifiedBy>Elsevier</cp:lastModifiedBy>
  <dcterms:modified xsi:type="dcterms:W3CDTF">2003-11-07T00:54:06Z</dcterms:modified>
  <cp:revision>32</cp:revision>
  <dc:subject/>
  <dc:title>No Slide Title</dc:title>
</cp:coreProperties>
</file>