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3D8-D1EE-43C4-84B9-34F9CE0A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DD2-42A7-4F3E-897F-A0464D20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76E-7706-4391-B453-8CE7C90B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493-5887-4A5D-A0A9-EA23823A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05C-1E4F-4961-9EF7-8D40941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507-8FA6-4D3C-B34A-96BAED1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9B2-4CA3-44BA-A4AC-BD9A8316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FF6-C27F-4B14-89DD-BBB5600C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54B-BB86-4B77-ADEB-B9E3DD53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703-B7EE-4306-BCF1-74F2BD98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5BD-B441-4622-A7B2-6D12F2F6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D7C-A15F-45B7-91C9-AD315957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0A8D-AF8E-4C21-B9F3-32DEE439C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m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96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Na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19E-F7BD-4420-8782-6538114F62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inceton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e.princeton.edu, helios.ee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helios.ee.princeton.edu, 128.196.28.166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jupiter.physics.princeton.edu, 128.196.4.1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aturn.physics.princeton.edu, 128.196.4.2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rs.physics.princeton.edu, 128.196.4.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venus.physics.princeton.edu, 128.196.4.4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BA2-F58C-40A1-B7AF-F63D80AD51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S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s.princeton.edu, optima.cs.princeton.edu, MX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ltenham.cs.princeton.edu, 192.12.69.6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e.cs.princeton.edu, cheltenham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ima.cs.princeton.edu, 192.12.69.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t.cs.princeton.edu, optima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kerville.cs.princeton.edu, 192.12.69.35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as.cs.princeton.edu, baskerville.cs.princeton.edu, CNAME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60D-FABE-49EB-B385-CC4B9EF081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Resolu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105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know root at only one place (not each ho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-wid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09x05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019920" cy="380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08D-890A-4035-9258-13444B82A7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ed File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anspar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cs.princeton.edu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: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Not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n/fs/fac5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by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t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versus Sh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F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afs/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58C-16B7-48D8-9EC3-7AB984D926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31880" y="1600200"/>
            <a:ext cx="5516640" cy="2590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276720"/>
            <a:ext cx="2241360" cy="1066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78360" y="3505320"/>
            <a:ext cx="3108240" cy="1904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53160" y="4343400"/>
            <a:ext cx="220356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36240" y="259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3716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9440" y="259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836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000" y="365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52440" y="36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90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716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57400" y="3657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51120" y="3657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6588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560" y="4724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98680" y="47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137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867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8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66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3240" y="5562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55040" y="5562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7120" y="30481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30481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0348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36840" y="1752480"/>
            <a:ext cx="20239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03480" y="1752480"/>
            <a:ext cx="557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60760" y="1752480"/>
            <a:ext cx="417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60760" y="1752480"/>
            <a:ext cx="18813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8468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24520" y="3048120"/>
            <a:ext cx="560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84680" y="3048120"/>
            <a:ext cx="800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451400" y="4114800"/>
            <a:ext cx="417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69000" y="4114800"/>
            <a:ext cx="547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248160" y="4114800"/>
            <a:ext cx="306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4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54880" y="4114800"/>
            <a:ext cx="549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5472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721200" y="51814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54720" y="5181480"/>
            <a:ext cx="398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796800" y="1504800"/>
            <a:ext cx="1963800" cy="1543320"/>
            <a:chOff x="6796800" y="1504800"/>
            <a:chExt cx="1963800" cy="1543320"/>
          </a:xfrm>
        </p:grpSpPr>
        <p:sp>
          <p:nvSpPr>
            <p:cNvPr id="271" name=""/>
            <p:cNvSpPr/>
            <p:nvPr/>
          </p:nvSpPr>
          <p:spPr>
            <a:xfrm>
              <a:off x="6796800" y="1504800"/>
              <a:ext cx="1963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Prefix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/     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/a/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/d/     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/d/k/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72400" y="1504800"/>
              <a:ext cx="0" cy="15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81F-81EE-466C-B201-691BC02EBE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upid Naming Trick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links and mount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 and logical name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d direct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balancing and content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-based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-based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14E-A1B3-44FF-8FF6-790FEF1DCB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name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loc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embership in a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a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 knowledge of a sec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set of possible 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s of a set of name to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d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267-EAFA-4AEA-9EB8-AA245232A0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perti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versus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transparent versus location-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ersus hierarch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ersus lo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 versus rel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rchitecture versus by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versus ambigu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B7D-9060-4DEC-AEAE-2C22254DD1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ltenham.cs.princeton.edu    192.12.69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12.69.17    80:23:A8:33:5B:9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llp/tmp/foo    (server, file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ry Peterson    llp@cs.princeton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B5A-D12C-4C58-A5AB-81E0B73452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arby ps printer with short queue and 2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09x01" descr=""/>
          <p:cNvPicPr/>
          <p:nvPr/>
        </p:nvPicPr>
        <p:blipFill>
          <a:blip r:embed="rId1"/>
          <a:stretch/>
        </p:blipFill>
        <p:spPr>
          <a:xfrm>
            <a:off x="2438280" y="1755720"/>
            <a:ext cx="4572000" cy="30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39B-4722-498B-B653-AB78F0E445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main Naming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nstrap.cs.prince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73520" y="2452680"/>
            <a:ext cx="933480" cy="328680"/>
          </a:xfrm>
          <a:custGeom>
            <a:avLst/>
            <a:gdLst/>
            <a:ahLst/>
            <a:rect l="l" t="t" r="r" b="b"/>
            <a:pathLst>
              <a:path w="588" h="207">
                <a:moveTo>
                  <a:pt x="0" y="207"/>
                </a:moveTo>
                <a:lnTo>
                  <a:pt x="0" y="0"/>
                </a:lnTo>
                <a:lnTo>
                  <a:pt x="588" y="2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2803680"/>
            <a:ext cx="27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5720" y="2803680"/>
            <a:ext cx="30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79560" y="3301920"/>
            <a:ext cx="69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princ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036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2320" y="330192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90400" y="3836880"/>
            <a:ext cx="14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5960" y="383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6600" y="43750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3080" y="43750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98680" y="383688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7680" y="3301920"/>
            <a:ext cx="35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1332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41560" y="3301920"/>
            <a:ext cx="44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yah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27120" y="3301920"/>
            <a:ext cx="33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0872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10320" y="3301920"/>
            <a:ext cx="22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3880" y="330192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ar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0116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37320" y="3301920"/>
            <a:ext cx="33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9480" y="330192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a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48680" y="3278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2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43440" y="330192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ie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2120" y="280368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31040" y="2803680"/>
            <a:ext cx="22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4040" y="2803680"/>
            <a:ext cx="25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4520" y="2803680"/>
            <a:ext cx="23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84320" y="2803680"/>
            <a:ext cx="17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560" y="280368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Roman"/>
              </a:rPr>
              <a:t>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24880" y="3006720"/>
            <a:ext cx="261720" cy="252360"/>
          </a:xfrm>
          <a:custGeom>
            <a:avLst/>
            <a:gdLst/>
            <a:ahLst/>
            <a:rect l="l" t="t" r="r" b="b"/>
            <a:pathLst>
              <a:path w="165" h="159">
                <a:moveTo>
                  <a:pt x="82" y="0"/>
                </a:moveTo>
                <a:lnTo>
                  <a:pt x="0" y="159"/>
                </a:lnTo>
                <a:lnTo>
                  <a:pt x="165" y="159"/>
                </a:lnTo>
                <a:lnTo>
                  <a:pt x="8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59520" y="3006720"/>
            <a:ext cx="262080" cy="252360"/>
          </a:xfrm>
          <a:custGeom>
            <a:avLst/>
            <a:gdLst/>
            <a:ahLst/>
            <a:rect l="l" t="t" r="r" b="b"/>
            <a:pathLst>
              <a:path w="165" h="159">
                <a:moveTo>
                  <a:pt x="82" y="0"/>
                </a:moveTo>
                <a:lnTo>
                  <a:pt x="0" y="159"/>
                </a:lnTo>
                <a:lnTo>
                  <a:pt x="165" y="159"/>
                </a:lnTo>
                <a:lnTo>
                  <a:pt x="8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53360" y="300672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0060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168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6428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13120" y="4052880"/>
            <a:ext cx="261720" cy="252360"/>
          </a:xfrm>
          <a:custGeom>
            <a:avLst/>
            <a:gdLst/>
            <a:ahLst/>
            <a:rect l="l" t="t" r="r" b="b"/>
            <a:pathLst>
              <a:path w="165" h="159">
                <a:moveTo>
                  <a:pt x="82" y="0"/>
                </a:moveTo>
                <a:lnTo>
                  <a:pt x="0" y="159"/>
                </a:lnTo>
                <a:lnTo>
                  <a:pt x="165" y="159"/>
                </a:lnTo>
                <a:lnTo>
                  <a:pt x="8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86160" y="405288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9584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0512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3720" y="3537000"/>
            <a:ext cx="261720" cy="252360"/>
          </a:xfrm>
          <a:custGeom>
            <a:avLst/>
            <a:gdLst/>
            <a:ahLst/>
            <a:rect l="l" t="t" r="r" b="b"/>
            <a:pathLst>
              <a:path w="165" h="159">
                <a:moveTo>
                  <a:pt x="82" y="0"/>
                </a:moveTo>
                <a:lnTo>
                  <a:pt x="0" y="159"/>
                </a:lnTo>
                <a:lnTo>
                  <a:pt x="165" y="159"/>
                </a:lnTo>
                <a:lnTo>
                  <a:pt x="8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4804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1720" y="3537000"/>
            <a:ext cx="263520" cy="252360"/>
          </a:xfrm>
          <a:custGeom>
            <a:avLst/>
            <a:gdLst/>
            <a:ahLst/>
            <a:rect l="l" t="t" r="r" b="b"/>
            <a:pathLst>
              <a:path w="166" h="159">
                <a:moveTo>
                  <a:pt x="83" y="0"/>
                </a:moveTo>
                <a:lnTo>
                  <a:pt x="0" y="159"/>
                </a:lnTo>
                <a:lnTo>
                  <a:pt x="166" y="159"/>
                </a:lnTo>
                <a:lnTo>
                  <a:pt x="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71760" y="3503520"/>
            <a:ext cx="1041120" cy="324000"/>
          </a:xfrm>
          <a:custGeom>
            <a:avLst/>
            <a:gdLst/>
            <a:ahLst/>
            <a:rect l="l" t="t" r="r" b="b"/>
            <a:pathLst>
              <a:path w="656" h="204">
                <a:moveTo>
                  <a:pt x="0" y="204"/>
                </a:moveTo>
                <a:lnTo>
                  <a:pt x="360" y="0"/>
                </a:lnTo>
                <a:lnTo>
                  <a:pt x="656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3080" y="3508200"/>
            <a:ext cx="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0440" y="2997360"/>
            <a:ext cx="615960" cy="299880"/>
          </a:xfrm>
          <a:custGeom>
            <a:avLst/>
            <a:gdLst/>
            <a:ahLst/>
            <a:rect l="l" t="t" r="r" b="b"/>
            <a:pathLst>
              <a:path w="388" h="189">
                <a:moveTo>
                  <a:pt x="0" y="189"/>
                </a:moveTo>
                <a:lnTo>
                  <a:pt x="198" y="0"/>
                </a:lnTo>
                <a:lnTo>
                  <a:pt x="388" y="1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33680" y="3006720"/>
            <a:ext cx="568440" cy="290520"/>
          </a:xfrm>
          <a:custGeom>
            <a:avLst/>
            <a:gdLst/>
            <a:ahLst/>
            <a:rect l="l" t="t" r="r" b="b"/>
            <a:pathLst>
              <a:path w="358" h="183">
                <a:moveTo>
                  <a:pt x="0" y="183"/>
                </a:moveTo>
                <a:lnTo>
                  <a:pt x="151" y="0"/>
                </a:lnTo>
                <a:lnTo>
                  <a:pt x="358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8640" y="3006720"/>
            <a:ext cx="338040" cy="290520"/>
          </a:xfrm>
          <a:custGeom>
            <a:avLst/>
            <a:gdLst/>
            <a:ahLst/>
            <a:rect l="l" t="t" r="r" b="b"/>
            <a:pathLst>
              <a:path w="213" h="183">
                <a:moveTo>
                  <a:pt x="0" y="183"/>
                </a:moveTo>
                <a:lnTo>
                  <a:pt x="107" y="0"/>
                </a:lnTo>
                <a:lnTo>
                  <a:pt x="213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48240" y="3006720"/>
            <a:ext cx="338040" cy="290520"/>
          </a:xfrm>
          <a:custGeom>
            <a:avLst/>
            <a:gdLst/>
            <a:ahLst/>
            <a:rect l="l" t="t" r="r" b="b"/>
            <a:pathLst>
              <a:path w="213" h="183">
                <a:moveTo>
                  <a:pt x="0" y="183"/>
                </a:moveTo>
                <a:lnTo>
                  <a:pt x="106" y="0"/>
                </a:lnTo>
                <a:lnTo>
                  <a:pt x="213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30960" y="3006720"/>
            <a:ext cx="336600" cy="290520"/>
          </a:xfrm>
          <a:custGeom>
            <a:avLst/>
            <a:gdLst/>
            <a:ahLst/>
            <a:rect l="l" t="t" r="r" b="b"/>
            <a:pathLst>
              <a:path w="212" h="183">
                <a:moveTo>
                  <a:pt x="0" y="183"/>
                </a:moveTo>
                <a:lnTo>
                  <a:pt x="106" y="0"/>
                </a:lnTo>
                <a:lnTo>
                  <a:pt x="212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9760" y="2452680"/>
            <a:ext cx="5275080" cy="328680"/>
          </a:xfrm>
          <a:custGeom>
            <a:avLst/>
            <a:gdLst/>
            <a:ahLst/>
            <a:rect l="l" t="t" r="r" b="b"/>
            <a:pathLst>
              <a:path w="3323" h="207">
                <a:moveTo>
                  <a:pt x="0" y="204"/>
                </a:moveTo>
                <a:lnTo>
                  <a:pt x="1319" y="0"/>
                </a:lnTo>
                <a:lnTo>
                  <a:pt x="3323" y="2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6920" y="2452680"/>
            <a:ext cx="3740040" cy="328680"/>
          </a:xfrm>
          <a:custGeom>
            <a:avLst/>
            <a:gdLst/>
            <a:ahLst/>
            <a:rect l="l" t="t" r="r" b="b"/>
            <a:pathLst>
              <a:path w="2356" h="207">
                <a:moveTo>
                  <a:pt x="2356" y="183"/>
                </a:moveTo>
                <a:lnTo>
                  <a:pt x="609" y="0"/>
                </a:lnTo>
                <a:lnTo>
                  <a:pt x="0" y="2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78200" y="2457360"/>
            <a:ext cx="2403720" cy="324000"/>
          </a:xfrm>
          <a:custGeom>
            <a:avLst/>
            <a:gdLst/>
            <a:ahLst/>
            <a:rect l="l" t="t" r="r" b="b"/>
            <a:pathLst>
              <a:path w="1514" h="204">
                <a:moveTo>
                  <a:pt x="1514" y="183"/>
                </a:moveTo>
                <a:lnTo>
                  <a:pt x="0" y="0"/>
                </a:lnTo>
                <a:lnTo>
                  <a:pt x="1147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387440" y="4024440"/>
            <a:ext cx="17928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6720" y="4024440"/>
            <a:ext cx="18288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458-4AFE-4EED-B8AD-E264B8236E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me Serv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hierarchy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1520" y="47642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5040" y="562752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886200"/>
            <a:ext cx="4495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zone implemented by two or m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ser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83320" y="4662360"/>
            <a:ext cx="88416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67480" y="4629240"/>
            <a:ext cx="36360" cy="393480"/>
          </a:xfrm>
          <a:custGeom>
            <a:avLst/>
            <a:gdLst/>
            <a:ahLst/>
            <a:rect l="l" t="t" r="r" b="b"/>
            <a:pathLst>
              <a:path w="23" h="248">
                <a:moveTo>
                  <a:pt x="23" y="0"/>
                </a:moveTo>
                <a:lnTo>
                  <a:pt x="23" y="227"/>
                </a:lnTo>
                <a:lnTo>
                  <a:pt x="0" y="248"/>
                </a:lnTo>
                <a:lnTo>
                  <a:pt x="0" y="21"/>
                </a:lnTo>
                <a:lnTo>
                  <a:pt x="23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83320" y="4629240"/>
            <a:ext cx="920520" cy="33120"/>
          </a:xfrm>
          <a:custGeom>
            <a:avLst/>
            <a:gdLst/>
            <a:ahLst/>
            <a:rect l="l" t="t" r="r" b="b"/>
            <a:pathLst>
              <a:path w="580" h="21">
                <a:moveTo>
                  <a:pt x="0" y="21"/>
                </a:moveTo>
                <a:lnTo>
                  <a:pt x="20" y="0"/>
                </a:lnTo>
                <a:lnTo>
                  <a:pt x="580" y="0"/>
                </a:lnTo>
                <a:lnTo>
                  <a:pt x="557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99360" y="4662360"/>
            <a:ext cx="88884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88200" y="4629240"/>
            <a:ext cx="33480" cy="393480"/>
          </a:xfrm>
          <a:custGeom>
            <a:avLst/>
            <a:gdLst/>
            <a:ahLst/>
            <a:rect l="l" t="t" r="r" b="b"/>
            <a:pathLst>
              <a:path w="21" h="248">
                <a:moveTo>
                  <a:pt x="21" y="0"/>
                </a:moveTo>
                <a:lnTo>
                  <a:pt x="21" y="227"/>
                </a:lnTo>
                <a:lnTo>
                  <a:pt x="0" y="248"/>
                </a:lnTo>
                <a:lnTo>
                  <a:pt x="0" y="21"/>
                </a:lnTo>
                <a:lnTo>
                  <a:pt x="21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9360" y="4629240"/>
            <a:ext cx="922320" cy="33120"/>
          </a:xfrm>
          <a:custGeom>
            <a:avLst/>
            <a:gdLst/>
            <a:ahLst/>
            <a:rect l="l" t="t" r="r" b="b"/>
            <a:pathLst>
              <a:path w="581" h="21">
                <a:moveTo>
                  <a:pt x="0" y="21"/>
                </a:moveTo>
                <a:lnTo>
                  <a:pt x="23" y="0"/>
                </a:lnTo>
                <a:lnTo>
                  <a:pt x="581" y="0"/>
                </a:lnTo>
                <a:lnTo>
                  <a:pt x="560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51480" y="5538960"/>
            <a:ext cx="80640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57880" y="5505480"/>
            <a:ext cx="33480" cy="393840"/>
          </a:xfrm>
          <a:custGeom>
            <a:avLst/>
            <a:gdLst/>
            <a:ahLst/>
            <a:rect l="l" t="t" r="r" b="b"/>
            <a:pathLst>
              <a:path w="21" h="248">
                <a:moveTo>
                  <a:pt x="21" y="0"/>
                </a:moveTo>
                <a:lnTo>
                  <a:pt x="21" y="227"/>
                </a:lnTo>
                <a:lnTo>
                  <a:pt x="0" y="248"/>
                </a:lnTo>
                <a:lnTo>
                  <a:pt x="0" y="21"/>
                </a:lnTo>
                <a:lnTo>
                  <a:pt x="21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51480" y="5505480"/>
            <a:ext cx="839880" cy="33480"/>
          </a:xfrm>
          <a:custGeom>
            <a:avLst/>
            <a:gdLst/>
            <a:ahLst/>
            <a:rect l="l" t="t" r="r" b="b"/>
            <a:pathLst>
              <a:path w="529" h="21">
                <a:moveTo>
                  <a:pt x="0" y="21"/>
                </a:moveTo>
                <a:lnTo>
                  <a:pt x="24" y="0"/>
                </a:lnTo>
                <a:lnTo>
                  <a:pt x="529" y="0"/>
                </a:lnTo>
                <a:lnTo>
                  <a:pt x="508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37120" y="5538960"/>
            <a:ext cx="806400" cy="360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43520" y="5505480"/>
            <a:ext cx="33480" cy="393840"/>
          </a:xfrm>
          <a:custGeom>
            <a:avLst/>
            <a:gdLst/>
            <a:ahLst/>
            <a:rect l="l" t="t" r="r" b="b"/>
            <a:pathLst>
              <a:path w="21" h="248">
                <a:moveTo>
                  <a:pt x="21" y="0"/>
                </a:moveTo>
                <a:lnTo>
                  <a:pt x="21" y="227"/>
                </a:lnTo>
                <a:lnTo>
                  <a:pt x="0" y="248"/>
                </a:lnTo>
                <a:lnTo>
                  <a:pt x="0" y="21"/>
                </a:lnTo>
                <a:lnTo>
                  <a:pt x="21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37120" y="5505480"/>
            <a:ext cx="839880" cy="33480"/>
          </a:xfrm>
          <a:custGeom>
            <a:avLst/>
            <a:gdLst/>
            <a:ahLst/>
            <a:rect l="l" t="t" r="r" b="b"/>
            <a:pathLst>
              <a:path w="529" h="21">
                <a:moveTo>
                  <a:pt x="0" y="21"/>
                </a:moveTo>
                <a:lnTo>
                  <a:pt x="24" y="0"/>
                </a:lnTo>
                <a:lnTo>
                  <a:pt x="529" y="0"/>
                </a:lnTo>
                <a:lnTo>
                  <a:pt x="508" y="21"/>
                </a:lnTo>
                <a:lnTo>
                  <a:pt x="0" y="21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5280" y="469584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Prince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2760" y="485316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9840" y="469584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10600" y="485316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4400" y="5572080"/>
            <a:ext cx="150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4880" y="572940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31280" y="5572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26360" y="572940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92520" y="5018040"/>
            <a:ext cx="446040" cy="44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46800" y="5435640"/>
            <a:ext cx="74520" cy="87120"/>
          </a:xfrm>
          <a:custGeom>
            <a:avLst/>
            <a:gdLst/>
            <a:ahLst/>
            <a:rect l="l" t="t" r="r" b="b"/>
            <a:pathLst>
              <a:path w="47" h="55">
                <a:moveTo>
                  <a:pt x="24" y="0"/>
                </a:moveTo>
                <a:lnTo>
                  <a:pt x="0" y="55"/>
                </a:lnTo>
                <a:lnTo>
                  <a:pt x="47" y="21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40320" y="5018040"/>
            <a:ext cx="389160" cy="44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3920" y="5435640"/>
            <a:ext cx="69840" cy="87120"/>
          </a:xfrm>
          <a:custGeom>
            <a:avLst/>
            <a:gdLst/>
            <a:ahLst/>
            <a:rect l="l" t="t" r="r" b="b"/>
            <a:pathLst>
              <a:path w="44" h="55">
                <a:moveTo>
                  <a:pt x="0" y="21"/>
                </a:moveTo>
                <a:lnTo>
                  <a:pt x="44" y="55"/>
                </a:lnTo>
                <a:lnTo>
                  <a:pt x="23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170400" y="3948120"/>
            <a:ext cx="579240" cy="636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21440" y="4559400"/>
            <a:ext cx="77760" cy="82440"/>
          </a:xfrm>
          <a:custGeom>
            <a:avLst/>
            <a:gdLst/>
            <a:ahLst/>
            <a:rect l="l" t="t" r="r" b="b"/>
            <a:pathLst>
              <a:path w="49" h="52">
                <a:moveTo>
                  <a:pt x="26" y="0"/>
                </a:moveTo>
                <a:lnTo>
                  <a:pt x="0" y="52"/>
                </a:lnTo>
                <a:lnTo>
                  <a:pt x="49" y="18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7600" y="3948120"/>
            <a:ext cx="565200" cy="639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04000" y="4564080"/>
            <a:ext cx="79560" cy="82440"/>
          </a:xfrm>
          <a:custGeom>
            <a:avLst/>
            <a:gdLst/>
            <a:ahLst/>
            <a:rect l="l" t="t" r="r" b="b"/>
            <a:pathLst>
              <a:path w="50" h="52">
                <a:moveTo>
                  <a:pt x="0" y="18"/>
                </a:moveTo>
                <a:lnTo>
                  <a:pt x="50" y="52"/>
                </a:lnTo>
                <a:lnTo>
                  <a:pt x="24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00760" y="553896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6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85040" y="3595680"/>
            <a:ext cx="888840" cy="352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73880" y="3567240"/>
            <a:ext cx="33480" cy="380880"/>
          </a:xfrm>
          <a:custGeom>
            <a:avLst/>
            <a:gdLst/>
            <a:ahLst/>
            <a:rect l="l" t="t" r="r" b="b"/>
            <a:pathLst>
              <a:path w="21" h="240">
                <a:moveTo>
                  <a:pt x="21" y="0"/>
                </a:moveTo>
                <a:lnTo>
                  <a:pt x="21" y="222"/>
                </a:lnTo>
                <a:lnTo>
                  <a:pt x="0" y="240"/>
                </a:lnTo>
                <a:lnTo>
                  <a:pt x="0" y="18"/>
                </a:lnTo>
                <a:lnTo>
                  <a:pt x="21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85040" y="3567240"/>
            <a:ext cx="922320" cy="2844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18"/>
                </a:moveTo>
                <a:lnTo>
                  <a:pt x="23" y="0"/>
                </a:lnTo>
                <a:lnTo>
                  <a:pt x="581" y="0"/>
                </a:lnTo>
                <a:lnTo>
                  <a:pt x="56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18040" y="3624120"/>
            <a:ext cx="27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99160" y="378144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50880" y="1687680"/>
            <a:ext cx="5715000" cy="1822320"/>
            <a:chOff x="1550880" y="1687680"/>
            <a:chExt cx="5715000" cy="1822320"/>
          </a:xfrm>
        </p:grpSpPr>
        <p:sp>
          <p:nvSpPr>
            <p:cNvPr id="153" name=""/>
            <p:cNvSpPr/>
            <p:nvPr/>
          </p:nvSpPr>
          <p:spPr>
            <a:xfrm>
              <a:off x="2227320" y="2900520"/>
              <a:ext cx="287280" cy="609480"/>
            </a:xfrm>
            <a:prstGeom prst="rect">
              <a:avLst/>
            </a:prstGeom>
            <a:noFill/>
            <a:ln w="79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50880" y="2900520"/>
              <a:ext cx="654120" cy="609480"/>
            </a:xfrm>
            <a:prstGeom prst="rect">
              <a:avLst/>
            </a:prstGeom>
            <a:noFill/>
            <a:ln w="79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68640" y="2419200"/>
              <a:ext cx="822240" cy="1090800"/>
            </a:xfrm>
            <a:custGeom>
              <a:avLst/>
              <a:gdLst/>
              <a:ahLst/>
              <a:rect l="l" t="t" r="r" b="b"/>
              <a:pathLst>
                <a:path w="518" h="687">
                  <a:moveTo>
                    <a:pt x="0" y="0"/>
                  </a:moveTo>
                  <a:lnTo>
                    <a:pt x="0" y="275"/>
                  </a:lnTo>
                  <a:lnTo>
                    <a:pt x="236" y="275"/>
                  </a:lnTo>
                  <a:lnTo>
                    <a:pt x="236" y="687"/>
                  </a:lnTo>
                  <a:lnTo>
                    <a:pt x="518" y="687"/>
                  </a:lnTo>
                  <a:lnTo>
                    <a:pt x="518" y="303"/>
                  </a:lnTo>
                  <a:lnTo>
                    <a:pt x="374" y="303"/>
                  </a:lnTo>
                  <a:lnTo>
                    <a:pt x="37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46480" y="2419200"/>
              <a:ext cx="353880" cy="487440"/>
            </a:xfrm>
            <a:prstGeom prst="rect">
              <a:avLst/>
            </a:prstGeom>
            <a:noFill/>
            <a:ln w="79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9120" y="1687680"/>
              <a:ext cx="4660920" cy="550800"/>
            </a:xfrm>
            <a:prstGeom prst="rect">
              <a:avLst/>
            </a:prstGeom>
            <a:noFill/>
            <a:ln w="792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89560" y="1739880"/>
              <a:ext cx="782640" cy="274680"/>
            </a:xfrm>
            <a:custGeom>
              <a:avLst/>
              <a:gdLst/>
              <a:ahLst/>
              <a:rect l="l" t="t" r="r" b="b"/>
              <a:pathLst>
                <a:path w="493" h="173">
                  <a:moveTo>
                    <a:pt x="0" y="173"/>
                  </a:moveTo>
                  <a:lnTo>
                    <a:pt x="0" y="0"/>
                  </a:lnTo>
                  <a:lnTo>
                    <a:pt x="493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7120" y="2033640"/>
              <a:ext cx="22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ed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53920" y="203364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51360" y="2451240"/>
              <a:ext cx="57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incet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76680" y="2527200"/>
              <a:ext cx="199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8960" y="245124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m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2320" y="2898720"/>
              <a:ext cx="12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95000" y="2898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12080" y="33512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ux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18440" y="33512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ux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86600" y="289872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hys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1320" y="2451240"/>
              <a:ext cx="291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cis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94040" y="245124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yaho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5520" y="24512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na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5480" y="24512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ns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67920" y="24512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r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82360" y="245124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nav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84040" y="2451240"/>
              <a:ext cx="25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40520" y="245124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ie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80120" y="20336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08840" y="20336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m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40360" y="2033640"/>
              <a:ext cx="2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o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44000" y="2033640"/>
              <a:ext cx="19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60080" y="203364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01720" y="20336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f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5200" y="220356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04040" y="220356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4160" y="220356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3000" y="2647800"/>
              <a:ext cx="22032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4996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2760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84920" y="2647800"/>
              <a:ext cx="22032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59000" y="3081240"/>
              <a:ext cx="220680" cy="2113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70" y="0"/>
                  </a:moveTo>
                  <a:lnTo>
                    <a:pt x="0" y="133"/>
                  </a:lnTo>
                  <a:lnTo>
                    <a:pt x="139" y="133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5720" y="3081240"/>
              <a:ext cx="220680" cy="2113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70" y="0"/>
                  </a:moveTo>
                  <a:lnTo>
                    <a:pt x="0" y="133"/>
                  </a:lnTo>
                  <a:lnTo>
                    <a:pt x="139" y="133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4440" y="2647800"/>
              <a:ext cx="219240" cy="212760"/>
            </a:xfrm>
            <a:custGeom>
              <a:avLst/>
              <a:gdLst/>
              <a:ahLst/>
              <a:rect l="l" t="t" r="r" b="b"/>
              <a:pathLst>
                <a:path w="138" h="134">
                  <a:moveTo>
                    <a:pt x="69" y="0"/>
                  </a:moveTo>
                  <a:lnTo>
                    <a:pt x="0" y="134"/>
                  </a:lnTo>
                  <a:lnTo>
                    <a:pt x="138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2428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4008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5148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70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86080" y="264780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69" y="0"/>
                  </a:moveTo>
                  <a:lnTo>
                    <a:pt x="0" y="134"/>
                  </a:lnTo>
                  <a:lnTo>
                    <a:pt x="139" y="134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9280" y="2620800"/>
              <a:ext cx="873000" cy="271800"/>
            </a:xfrm>
            <a:custGeom>
              <a:avLst/>
              <a:gdLst/>
              <a:ahLst/>
              <a:rect l="l" t="t" r="r" b="b"/>
              <a:pathLst>
                <a:path w="550" h="171">
                  <a:moveTo>
                    <a:pt x="0" y="171"/>
                  </a:moveTo>
                  <a:lnTo>
                    <a:pt x="303" y="0"/>
                  </a:lnTo>
                  <a:lnTo>
                    <a:pt x="550" y="17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70240" y="2624040"/>
              <a:ext cx="1440" cy="263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68520" y="2195640"/>
              <a:ext cx="514440" cy="252360"/>
            </a:xfrm>
            <a:custGeom>
              <a:avLst/>
              <a:gdLst/>
              <a:ahLst/>
              <a:rect l="l" t="t" r="r" b="b"/>
              <a:pathLst>
                <a:path w="324" h="159">
                  <a:moveTo>
                    <a:pt x="0" y="159"/>
                  </a:moveTo>
                  <a:lnTo>
                    <a:pt x="166" y="0"/>
                  </a:lnTo>
                  <a:lnTo>
                    <a:pt x="324" y="15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1320" y="2203560"/>
              <a:ext cx="476280" cy="244440"/>
            </a:xfrm>
            <a:custGeom>
              <a:avLst/>
              <a:gdLst/>
              <a:ahLst/>
              <a:rect l="l" t="t" r="r" b="b"/>
              <a:pathLst>
                <a:path w="300" h="154">
                  <a:moveTo>
                    <a:pt x="0" y="154"/>
                  </a:moveTo>
                  <a:lnTo>
                    <a:pt x="126" y="0"/>
                  </a:lnTo>
                  <a:lnTo>
                    <a:pt x="300" y="1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51320" y="2203560"/>
              <a:ext cx="282600" cy="244440"/>
            </a:xfrm>
            <a:custGeom>
              <a:avLst/>
              <a:gdLst/>
              <a:ahLst/>
              <a:rect l="l" t="t" r="r" b="b"/>
              <a:pathLst>
                <a:path w="178" h="154">
                  <a:moveTo>
                    <a:pt x="0" y="154"/>
                  </a:moveTo>
                  <a:lnTo>
                    <a:pt x="89" y="0"/>
                  </a:lnTo>
                  <a:lnTo>
                    <a:pt x="178" y="1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37200" y="2203560"/>
              <a:ext cx="284040" cy="244440"/>
            </a:xfrm>
            <a:custGeom>
              <a:avLst/>
              <a:gdLst/>
              <a:ahLst/>
              <a:rect l="l" t="t" r="r" b="b"/>
              <a:pathLst>
                <a:path w="179" h="154">
                  <a:moveTo>
                    <a:pt x="0" y="154"/>
                  </a:moveTo>
                  <a:lnTo>
                    <a:pt x="90" y="0"/>
                  </a:lnTo>
                  <a:lnTo>
                    <a:pt x="179" y="1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77000" y="2203560"/>
              <a:ext cx="284040" cy="244440"/>
            </a:xfrm>
            <a:custGeom>
              <a:avLst/>
              <a:gdLst/>
              <a:ahLst/>
              <a:rect l="l" t="t" r="r" b="b"/>
              <a:pathLst>
                <a:path w="179" h="154">
                  <a:moveTo>
                    <a:pt x="0" y="154"/>
                  </a:moveTo>
                  <a:lnTo>
                    <a:pt x="89" y="0"/>
                  </a:lnTo>
                  <a:lnTo>
                    <a:pt x="179" y="1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35280" y="1739880"/>
              <a:ext cx="4419720" cy="274680"/>
            </a:xfrm>
            <a:custGeom>
              <a:avLst/>
              <a:gdLst/>
              <a:ahLst/>
              <a:rect l="l" t="t" r="r" b="b"/>
              <a:pathLst>
                <a:path w="2784" h="173">
                  <a:moveTo>
                    <a:pt x="0" y="171"/>
                  </a:moveTo>
                  <a:lnTo>
                    <a:pt x="1105" y="0"/>
                  </a:lnTo>
                  <a:lnTo>
                    <a:pt x="2784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9920" y="1739880"/>
              <a:ext cx="3133800" cy="274680"/>
            </a:xfrm>
            <a:custGeom>
              <a:avLst/>
              <a:gdLst/>
              <a:ahLst/>
              <a:rect l="l" t="t" r="r" b="b"/>
              <a:pathLst>
                <a:path w="1974" h="173">
                  <a:moveTo>
                    <a:pt x="1974" y="153"/>
                  </a:moveTo>
                  <a:lnTo>
                    <a:pt x="510" y="0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2800" y="1743120"/>
              <a:ext cx="2014200" cy="271440"/>
            </a:xfrm>
            <a:custGeom>
              <a:avLst/>
              <a:gdLst/>
              <a:ahLst/>
              <a:rect l="l" t="t" r="r" b="b"/>
              <a:pathLst>
                <a:path w="1269" h="171">
                  <a:moveTo>
                    <a:pt x="1269" y="154"/>
                  </a:moveTo>
                  <a:lnTo>
                    <a:pt x="0" y="0"/>
                  </a:lnTo>
                  <a:lnTo>
                    <a:pt x="961" y="17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736640" y="3057120"/>
              <a:ext cx="149400" cy="26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86040" y="3057480"/>
              <a:ext cx="153720" cy="26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27360" y="2489040"/>
              <a:ext cx="20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33760" y="2506680"/>
              <a:ext cx="20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92920" y="2489040"/>
              <a:ext cx="199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65640" y="2506680"/>
              <a:ext cx="20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■ ■ ■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731280" y="476424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r>
              <a:rPr b="0" lang="en-US" sz="16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33A-9DCD-4FD8-A0D4-070FC39305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ource Record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ame server maintains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urce reco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Class, T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/Value: not necessarily host names to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: Value gives domain name for host running name server that knows how to resolve names within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AME: Value gives canonical name for particle host; used to define ali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X: Value gives domain name for host running mail server that accepts messages for specified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 allow other entities to defin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: how long the resource record is va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C2D-8565-4C38-86C8-F0A39E90A4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ot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ceton.edu, cit.princeton.edu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t.princeton.edu, 128.196.128.233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isco.com, thumper.cisco.com, NS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humper.cisco.com, 128.96.32.20, A,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6D2-2608-4789-8E52-3354AB201B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dcterms:modified xsi:type="dcterms:W3CDTF">2003-11-06T23:47:09Z</dcterms:modified>
  <cp:revision>25</cp:revision>
  <dc:subject/>
  <dc:title>Naming</dc:title>
</cp:coreProperties>
</file>