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087-A12F-4B97-AEE6-7E60106D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2A7-9FB5-4E61-BAF5-C931AC01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960-8551-4188-9E6A-E7B5C118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C56-4928-47B6-B7B4-7F8E3BC1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39D-B58E-440C-B564-A02C31C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9CE-8B49-46EC-BDF3-2FFD4B0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DA3-317C-4596-B2F6-74DE6C0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20A-C31D-4ED7-8E1E-1B3BA2F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4BE-CA61-4694-8BD2-05FDAC3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37B-026E-4586-A706-198485D0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121-1E56-42B1-B02F-AAAF559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CF9-D55F-4818-82D8-8281B0D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625-5255-467F-8D7D-5D382CD32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uter Construction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639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D63-A109-4C6F-B918-138D7755C0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igh-Speed IP Rout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(possibly AT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nterface (input,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lookup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P path (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queue 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tocol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09880" y="2285640"/>
            <a:ext cx="4954320" cy="4038480"/>
            <a:chOff x="3809880" y="2285640"/>
            <a:chExt cx="4954320" cy="4038480"/>
          </a:xfrm>
        </p:grpSpPr>
        <p:sp>
          <p:nvSpPr>
            <p:cNvPr id="381" name=""/>
            <p:cNvSpPr/>
            <p:nvPr/>
          </p:nvSpPr>
          <p:spPr>
            <a:xfrm>
              <a:off x="5490720" y="4062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0720" y="4224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90720" y="4386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90720" y="4548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776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2588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00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62480" y="390204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06840" y="3821040"/>
              <a:ext cx="1006560" cy="96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9880" y="4303440"/>
              <a:ext cx="50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14600" y="4062240"/>
              <a:ext cx="923760" cy="4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38360" y="4305240"/>
              <a:ext cx="16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3400" y="4305240"/>
              <a:ext cx="16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81520" y="4062240"/>
              <a:ext cx="923760" cy="4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5465520" y="2961720"/>
              <a:ext cx="888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910120" y="36590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5465520" y="5142960"/>
              <a:ext cx="888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e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orward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uffer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910120" y="47894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10120" y="5839920"/>
              <a:ext cx="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910120" y="2285640"/>
              <a:ext cx="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05280" y="430524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97280" y="3174840"/>
              <a:ext cx="100800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73760" y="3174840"/>
              <a:ext cx="1006560" cy="56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81520" y="2528640"/>
              <a:ext cx="2014560" cy="565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outing 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/ router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13400" y="2447640"/>
              <a:ext cx="2350800" cy="137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46720" y="3740040"/>
              <a:ext cx="25056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6A2-0FB6-4C94-A146-7ADD1A0EBC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Forwarding is Sl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lassless IP addresses (CI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by variable-length Forwarding Equivalence Classes (F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 = IP address plus prefix of 1-32 bits; e.g., 172.200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bl: &lt;FEC&gt;       &lt;next hop, 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IP address to FEC w/ longest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0640" y="4981680"/>
            <a:ext cx="447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6C-A542-4B18-BF41-70C6A8D50A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goal: fast, cheap forwar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Gb/s IP router: $187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Gb/s ATM switch: $4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Virtual Circuit at Flow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VCI&gt;       &lt;port, out VC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Forwa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, swap, swi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M Forwar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71640" y="4257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C55-6BB9-46A5-9042-C61CE73BE6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isco: Tag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VCI-like tag t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&lt;next hop, port, out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R uses ATM switch hard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routing protocols (OSPF, RIP, BG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forwarding table from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IP router functionality at ATM switch speeds/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10000" y="27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B19-ED2D-4EC0-ABB1-6EC1C1A720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 Forwarding Information Base (TFI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&lt;next hop, port, out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, swap,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923760" y="2617920"/>
            <a:ext cx="7305840" cy="687240"/>
            <a:chOff x="923760" y="2617920"/>
            <a:chExt cx="7305840" cy="687240"/>
          </a:xfrm>
        </p:grpSpPr>
        <p:sp>
          <p:nvSpPr>
            <p:cNvPr id="419" name=""/>
            <p:cNvSpPr/>
            <p:nvPr/>
          </p:nvSpPr>
          <p:spPr>
            <a:xfrm>
              <a:off x="6402240" y="2617920"/>
              <a:ext cx="1827360" cy="687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TL (8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95760" y="2619360"/>
              <a:ext cx="6858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81560" y="2619360"/>
              <a:ext cx="2286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23760" y="2619360"/>
              <a:ext cx="457200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g (20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610000" y="425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949-DFF0-4F4D-848C-3360836D62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g Bin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EC from IP rout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local tag (index in TF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 tag&gt;          &lt;next hop, port, ??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&lt;out tag&gt; for next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outers need my &lt;in tag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distribute tags like other routing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10000" y="31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9D8-99D5-438B-A9AB-5D16B891A5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g Distribu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DP messages to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EC, my 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receiving TDP message, check if sender is next hop for F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save tag in TF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can discard or save for futur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-driven’ label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262-8096-42BD-83B1-61E84B07EF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First Ta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inds of routers: edge vs.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: add shim based on IP lookup, strip at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: forward by tag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38080" y="2971800"/>
            <a:ext cx="7391520" cy="838080"/>
            <a:chOff x="838080" y="2971800"/>
            <a:chExt cx="7391520" cy="838080"/>
          </a:xfrm>
        </p:grpSpPr>
        <p:sp>
          <p:nvSpPr>
            <p:cNvPr id="432" name=""/>
            <p:cNvSpPr/>
            <p:nvPr/>
          </p:nvSpPr>
          <p:spPr>
            <a:xfrm>
              <a:off x="13716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04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2920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81680" y="2971800"/>
              <a:ext cx="91440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"/>
            <p:cNvCxnSpPr>
              <a:stCxn id="432" idx="3"/>
              <a:endCxn id="433" idx="1"/>
            </p:cNvCxnSpPr>
            <p:nvPr/>
          </p:nvCxnSpPr>
          <p:spPr>
            <a:xfrm>
              <a:off x="2286000" y="3390480"/>
              <a:ext cx="91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33" idx="3"/>
              <a:endCxn id="434" idx="1"/>
            </p:cNvCxnSpPr>
            <p:nvPr/>
          </p:nvCxnSpPr>
          <p:spPr>
            <a:xfrm>
              <a:off x="4114800" y="3390480"/>
              <a:ext cx="91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>
              <a:stCxn id="434" idx="3"/>
              <a:endCxn id="435" idx="1"/>
            </p:cNvCxnSpPr>
            <p:nvPr/>
          </p:nvCxnSpPr>
          <p:spPr>
            <a:xfrm>
              <a:off x="5943600" y="339048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9" name=""/>
            <p:cNvSpPr/>
            <p:nvPr/>
          </p:nvSpPr>
          <p:spPr>
            <a:xfrm>
              <a:off x="76960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3808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C1B-610F-47CE-9D14-1B5EEDB8E8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bustness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tag fau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forward (default ro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 changes cause temporary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field in tag, same as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1E6-776D-42C7-B436-1A99B9FAD7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silon: IP Swit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on ATM switch over AT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hardware + IP switch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Exploit temporal locality of traffic to cache routing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labels (VCI) with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ckets as u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fference is in how labels are created, distributed to oth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1CD-0C18-4FDD-A856-12FDCA18F9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rkstation-Bas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band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 of the I/O bus bandwid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 shared among all hosts connected to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1Gbps bus can support 5 x 100Mbps ports (in the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048120"/>
            <a:ext cx="3505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-per-se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ble to switch small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,000 packets-per-second is ach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-byte packets implies 15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3x27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464832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433-77DB-455A-8F98-5448A9BB69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default ATM virtual circuits between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 runs IP routing protocol, can forward IP packets on default V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flows, assign flow-specific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= port pair or host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driven’ label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FAD-6BF1-4F01-9690-4A55D38FD8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Setup on IP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vci = x&gt;         &lt;port c, vci = x’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IFMP, &lt;vci = x&gt;        &lt;port j, vci = 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2514600"/>
            <a:ext cx="20574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578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30800" y="44956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886200" y="28191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26708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18800" y="15620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9880" y="38862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4680" y="38862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30960" y="35812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45760" y="35812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72800" y="30481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lowID, vci = x, lif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40240" y="30481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lowID, vci = y, lif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14300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333760" y="3048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28640" y="20955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31880" y="2133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ci = x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6280" y="27432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MP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43360" y="27432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MP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4304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5848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423-B5FB-400A-8859-D3A58361A2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paris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y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stat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end-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uter can do IP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y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edge TS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or TSRs only do tag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6840" y="1601640"/>
            <a:ext cx="22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P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40160" y="161928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g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50C-B9AD-4668-A886-E2EC5DB2AF0B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ing Hardwar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 (depends on traffic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 (a func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management (e.g., map VCIs, route datagr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ing (input and/or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simple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do buffering (inter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125960" y="2139840"/>
            <a:ext cx="4097160" cy="2016360"/>
            <a:chOff x="4125960" y="2139840"/>
            <a:chExt cx="4097160" cy="2016360"/>
          </a:xfrm>
        </p:grpSpPr>
        <p:sp>
          <p:nvSpPr>
            <p:cNvPr id="50" name=""/>
            <p:cNvSpPr/>
            <p:nvPr/>
          </p:nvSpPr>
          <p:spPr>
            <a:xfrm>
              <a:off x="7626240" y="3035160"/>
              <a:ext cx="419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42400" y="3003480"/>
              <a:ext cx="7128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67640" y="326088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88480" y="322596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44"/>
                  </a:moveTo>
                  <a:lnTo>
                    <a:pt x="42" y="22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3200" y="3476520"/>
              <a:ext cx="42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13680" y="34448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42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38920" y="373392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5080" y="3701880"/>
              <a:ext cx="6804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42"/>
                  </a:moveTo>
                  <a:lnTo>
                    <a:pt x="43" y="22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3360" y="2960640"/>
              <a:ext cx="112680" cy="900000"/>
            </a:xfrm>
            <a:custGeom>
              <a:avLst/>
              <a:gdLst/>
              <a:ahLst/>
              <a:rect l="l" t="t" r="r" b="b"/>
              <a:pathLst>
                <a:path w="71" h="567">
                  <a:moveTo>
                    <a:pt x="0" y="567"/>
                  </a:moveTo>
                  <a:lnTo>
                    <a:pt x="0" y="69"/>
                  </a:lnTo>
                  <a:lnTo>
                    <a:pt x="71" y="0"/>
                  </a:lnTo>
                  <a:lnTo>
                    <a:pt x="71" y="498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81600" y="2960640"/>
              <a:ext cx="784440" cy="109440"/>
            </a:xfrm>
            <a:custGeom>
              <a:avLst/>
              <a:gdLst/>
              <a:ahLst/>
              <a:rect l="l" t="t" r="r" b="b"/>
              <a:pathLst>
                <a:path w="494" h="69">
                  <a:moveTo>
                    <a:pt x="423" y="69"/>
                  </a:moveTo>
                  <a:lnTo>
                    <a:pt x="0" y="69"/>
                  </a:lnTo>
                  <a:lnTo>
                    <a:pt x="69" y="0"/>
                  </a:lnTo>
                  <a:lnTo>
                    <a:pt x="494" y="0"/>
                  </a:lnTo>
                  <a:lnTo>
                    <a:pt x="423" y="6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81600" y="3070080"/>
              <a:ext cx="671760" cy="790560"/>
            </a:xfrm>
            <a:custGeom>
              <a:avLst/>
              <a:gdLst/>
              <a:ahLst/>
              <a:rect l="l" t="t" r="r" b="b"/>
              <a:pathLst>
                <a:path w="423" h="498">
                  <a:moveTo>
                    <a:pt x="0" y="0"/>
                  </a:moveTo>
                  <a:lnTo>
                    <a:pt x="0" y="498"/>
                  </a:lnTo>
                  <a:lnTo>
                    <a:pt x="423" y="498"/>
                  </a:lnTo>
                  <a:lnTo>
                    <a:pt x="42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0040" y="3338640"/>
              <a:ext cx="34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2400" y="3471840"/>
              <a:ext cx="30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fabr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73880" y="2139840"/>
              <a:ext cx="109440" cy="598680"/>
            </a:xfrm>
            <a:custGeom>
              <a:avLst/>
              <a:gdLst/>
              <a:ahLst/>
              <a:rect l="l" t="t" r="r" b="b"/>
              <a:pathLst>
                <a:path w="69" h="377">
                  <a:moveTo>
                    <a:pt x="0" y="377"/>
                  </a:moveTo>
                  <a:lnTo>
                    <a:pt x="0" y="69"/>
                  </a:lnTo>
                  <a:lnTo>
                    <a:pt x="69" y="0"/>
                  </a:lnTo>
                  <a:lnTo>
                    <a:pt x="69" y="308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4440" y="2139840"/>
              <a:ext cx="758880" cy="109800"/>
            </a:xfrm>
            <a:custGeom>
              <a:avLst/>
              <a:gdLst/>
              <a:ahLst/>
              <a:rect l="l" t="t" r="r" b="b"/>
              <a:pathLst>
                <a:path w="478" h="69">
                  <a:moveTo>
                    <a:pt x="409" y="69"/>
                  </a:moveTo>
                  <a:lnTo>
                    <a:pt x="0" y="69"/>
                  </a:lnTo>
                  <a:lnTo>
                    <a:pt x="71" y="0"/>
                  </a:lnTo>
                  <a:lnTo>
                    <a:pt x="478" y="0"/>
                  </a:lnTo>
                  <a:lnTo>
                    <a:pt x="409" y="69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24440" y="2249640"/>
              <a:ext cx="649440" cy="488880"/>
            </a:xfrm>
            <a:custGeom>
              <a:avLst/>
              <a:gdLst/>
              <a:ahLst/>
              <a:rect l="l" t="t" r="r" b="b"/>
              <a:pathLst>
                <a:path w="409" h="308">
                  <a:moveTo>
                    <a:pt x="0" y="0"/>
                  </a:moveTo>
                  <a:lnTo>
                    <a:pt x="0" y="308"/>
                  </a:lnTo>
                  <a:lnTo>
                    <a:pt x="409" y="308"/>
                  </a:lnTo>
                  <a:lnTo>
                    <a:pt x="4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24440" y="2249640"/>
              <a:ext cx="1800" cy="48888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4440" y="2738520"/>
              <a:ext cx="6494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473880" y="2249640"/>
              <a:ext cx="1440" cy="48888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824440" y="2249640"/>
              <a:ext cx="6494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91840" y="236520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79520" y="2500200"/>
              <a:ext cx="5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9360" y="2684520"/>
              <a:ext cx="52200" cy="847800"/>
            </a:xfrm>
            <a:custGeom>
              <a:avLst/>
              <a:gdLst/>
              <a:ahLst/>
              <a:rect l="l" t="t" r="r" b="b"/>
              <a:pathLst>
                <a:path w="33" h="534">
                  <a:moveTo>
                    <a:pt x="0" y="534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33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4360" y="2684520"/>
              <a:ext cx="727200" cy="57240"/>
            </a:xfrm>
            <a:custGeom>
              <a:avLst/>
              <a:gdLst/>
              <a:ahLst/>
              <a:rect l="l" t="t" r="r" b="b"/>
              <a:pathLst>
                <a:path w="458" h="36">
                  <a:moveTo>
                    <a:pt x="425" y="36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4360" y="2741760"/>
              <a:ext cx="675000" cy="790560"/>
            </a:xfrm>
            <a:custGeom>
              <a:avLst/>
              <a:gdLst/>
              <a:ahLst/>
              <a:rect l="l" t="t" r="r" b="b"/>
              <a:pathLst>
                <a:path w="425" h="498">
                  <a:moveTo>
                    <a:pt x="0" y="0"/>
                  </a:moveTo>
                  <a:lnTo>
                    <a:pt x="0" y="498"/>
                  </a:lnTo>
                  <a:lnTo>
                    <a:pt x="425" y="498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94360" y="2741760"/>
              <a:ext cx="180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94360" y="353232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569360" y="274176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94000" y="274176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04280" y="2874960"/>
              <a:ext cx="54000" cy="849240"/>
            </a:xfrm>
            <a:custGeom>
              <a:avLst/>
              <a:gdLst/>
              <a:ahLst/>
              <a:rect l="l" t="t" r="r" b="b"/>
              <a:pathLst>
                <a:path w="34" h="535">
                  <a:moveTo>
                    <a:pt x="0" y="535"/>
                  </a:moveTo>
                  <a:lnTo>
                    <a:pt x="0" y="34"/>
                  </a:lnTo>
                  <a:lnTo>
                    <a:pt x="34" y="0"/>
                  </a:lnTo>
                  <a:lnTo>
                    <a:pt x="34" y="499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29280" y="2874960"/>
              <a:ext cx="729000" cy="54000"/>
            </a:xfrm>
            <a:custGeom>
              <a:avLst/>
              <a:gdLst/>
              <a:ahLst/>
              <a:rect l="l" t="t" r="r" b="b"/>
              <a:pathLst>
                <a:path w="459" h="34">
                  <a:moveTo>
                    <a:pt x="425" y="34"/>
                  </a:moveTo>
                  <a:lnTo>
                    <a:pt x="0" y="34"/>
                  </a:lnTo>
                  <a:lnTo>
                    <a:pt x="34" y="0"/>
                  </a:lnTo>
                  <a:lnTo>
                    <a:pt x="459" y="0"/>
                  </a:lnTo>
                  <a:lnTo>
                    <a:pt x="425" y="34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2928960"/>
              <a:ext cx="675000" cy="795240"/>
            </a:xfrm>
            <a:custGeom>
              <a:avLst/>
              <a:gdLst/>
              <a:ahLst/>
              <a:rect l="l" t="t" r="r" b="b"/>
              <a:pathLst>
                <a:path w="425" h="501">
                  <a:moveTo>
                    <a:pt x="0" y="0"/>
                  </a:moveTo>
                  <a:lnTo>
                    <a:pt x="0" y="501"/>
                  </a:lnTo>
                  <a:lnTo>
                    <a:pt x="425" y="501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29280" y="2928960"/>
              <a:ext cx="1800" cy="79524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9280" y="3724200"/>
              <a:ext cx="6750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604280" y="2928600"/>
              <a:ext cx="1440" cy="79524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928920" y="2928960"/>
              <a:ext cx="6750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9480" y="3090960"/>
              <a:ext cx="55440" cy="847800"/>
            </a:xfrm>
            <a:custGeom>
              <a:avLst/>
              <a:gdLst/>
              <a:ahLst/>
              <a:rect l="l" t="t" r="r" b="b"/>
              <a:pathLst>
                <a:path w="35" h="534">
                  <a:moveTo>
                    <a:pt x="0" y="534"/>
                  </a:moveTo>
                  <a:lnTo>
                    <a:pt x="0" y="34"/>
                  </a:lnTo>
                  <a:lnTo>
                    <a:pt x="35" y="0"/>
                  </a:lnTo>
                  <a:lnTo>
                    <a:pt x="35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4840" y="3090960"/>
              <a:ext cx="730080" cy="54000"/>
            </a:xfrm>
            <a:custGeom>
              <a:avLst/>
              <a:gdLst/>
              <a:ahLst/>
              <a:rect l="l" t="t" r="r" b="b"/>
              <a:pathLst>
                <a:path w="460" h="34">
                  <a:moveTo>
                    <a:pt x="425" y="34"/>
                  </a:moveTo>
                  <a:lnTo>
                    <a:pt x="0" y="34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5" y="34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4840" y="3144960"/>
              <a:ext cx="674640" cy="793800"/>
            </a:xfrm>
            <a:custGeom>
              <a:avLst/>
              <a:gdLst/>
              <a:ahLst/>
              <a:rect l="l" t="t" r="r" b="b"/>
              <a:pathLst>
                <a:path w="425" h="500">
                  <a:moveTo>
                    <a:pt x="0" y="0"/>
                  </a:moveTo>
                  <a:lnTo>
                    <a:pt x="0" y="500"/>
                  </a:lnTo>
                  <a:lnTo>
                    <a:pt x="425" y="500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54840" y="3144960"/>
              <a:ext cx="1440" cy="79380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54840" y="393876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629480" y="3144600"/>
              <a:ext cx="1800" cy="79380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954840" y="314496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70880" y="3306600"/>
              <a:ext cx="57240" cy="847800"/>
            </a:xfrm>
            <a:custGeom>
              <a:avLst/>
              <a:gdLst/>
              <a:ahLst/>
              <a:rect l="l" t="t" r="r" b="b"/>
              <a:pathLst>
                <a:path w="36" h="534">
                  <a:moveTo>
                    <a:pt x="0" y="534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36" y="501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7680" y="3306600"/>
              <a:ext cx="730440" cy="57240"/>
            </a:xfrm>
            <a:custGeom>
              <a:avLst/>
              <a:gdLst/>
              <a:ahLst/>
              <a:rect l="l" t="t" r="r" b="b"/>
              <a:pathLst>
                <a:path w="460" h="36">
                  <a:moveTo>
                    <a:pt x="424" y="36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4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97680" y="3363840"/>
              <a:ext cx="673200" cy="790560"/>
            </a:xfrm>
            <a:custGeom>
              <a:avLst/>
              <a:gdLst/>
              <a:ahLst/>
              <a:rect l="l" t="t" r="r" b="b"/>
              <a:pathLst>
                <a:path w="424" h="498">
                  <a:moveTo>
                    <a:pt x="0" y="0"/>
                  </a:moveTo>
                  <a:lnTo>
                    <a:pt x="0" y="498"/>
                  </a:lnTo>
                  <a:lnTo>
                    <a:pt x="424" y="498"/>
                  </a:lnTo>
                  <a:lnTo>
                    <a:pt x="4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97680" y="3363840"/>
              <a:ext cx="144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97680" y="415440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670880" y="336384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997680" y="336384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89920" y="36273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28800" y="37623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710160"/>
              <a:ext cx="268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3840" y="36734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5"/>
                  </a:moveTo>
                  <a:lnTo>
                    <a:pt x="42" y="23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428800" y="3479760"/>
              <a:ext cx="289080" cy="38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1760" y="348624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43"/>
                  </a:moveTo>
                  <a:lnTo>
                    <a:pt x="44" y="27"/>
                  </a:lnTo>
                  <a:lnTo>
                    <a:pt x="4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397120" y="3222360"/>
              <a:ext cx="320760" cy="8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7080" y="327492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40"/>
                  </a:moveTo>
                  <a:lnTo>
                    <a:pt x="47" y="31"/>
                  </a:lnTo>
                  <a:lnTo>
                    <a:pt x="12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354640" y="3015720"/>
              <a:ext cx="363600" cy="117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7080" y="310212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40"/>
                  </a:moveTo>
                  <a:lnTo>
                    <a:pt x="47" y="33"/>
                  </a:lnTo>
                  <a:lnTo>
                    <a:pt x="1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13400" y="2678040"/>
              <a:ext cx="726840" cy="52560"/>
            </a:xfrm>
            <a:custGeom>
              <a:avLst/>
              <a:gdLst/>
              <a:ahLst/>
              <a:rect l="l" t="t" r="r" b="b"/>
              <a:pathLst>
                <a:path w="458" h="33">
                  <a:moveTo>
                    <a:pt x="422" y="33"/>
                  </a:moveTo>
                  <a:lnTo>
                    <a:pt x="0" y="33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2" y="33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83360" y="2678040"/>
              <a:ext cx="56880" cy="847800"/>
            </a:xfrm>
            <a:custGeom>
              <a:avLst/>
              <a:gdLst/>
              <a:ahLst/>
              <a:rect l="l" t="t" r="r" b="b"/>
              <a:pathLst>
                <a:path w="36" h="534">
                  <a:moveTo>
                    <a:pt x="0" y="534"/>
                  </a:moveTo>
                  <a:lnTo>
                    <a:pt x="0" y="33"/>
                  </a:lnTo>
                  <a:lnTo>
                    <a:pt x="36" y="0"/>
                  </a:lnTo>
                  <a:lnTo>
                    <a:pt x="36" y="49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13400" y="2730600"/>
              <a:ext cx="669960" cy="795240"/>
            </a:xfrm>
            <a:custGeom>
              <a:avLst/>
              <a:gdLst/>
              <a:ahLst/>
              <a:rect l="l" t="t" r="r" b="b"/>
              <a:pathLst>
                <a:path w="422" h="501">
                  <a:moveTo>
                    <a:pt x="422" y="0"/>
                  </a:moveTo>
                  <a:lnTo>
                    <a:pt x="0" y="0"/>
                  </a:lnTo>
                  <a:lnTo>
                    <a:pt x="0" y="501"/>
                  </a:lnTo>
                  <a:lnTo>
                    <a:pt x="422" y="501"/>
                  </a:lnTo>
                  <a:lnTo>
                    <a:pt x="422" y="0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613040" y="273060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13400" y="2730600"/>
              <a:ext cx="1440" cy="79524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13400" y="352584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283360" y="2730240"/>
              <a:ext cx="1440" cy="79524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5080" y="2868480"/>
              <a:ext cx="730080" cy="57240"/>
            </a:xfrm>
            <a:custGeom>
              <a:avLst/>
              <a:gdLst/>
              <a:ahLst/>
              <a:rect l="l" t="t" r="r" b="b"/>
              <a:pathLst>
                <a:path w="460" h="36">
                  <a:moveTo>
                    <a:pt x="425" y="36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460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9720" y="2868480"/>
              <a:ext cx="55440" cy="847800"/>
            </a:xfrm>
            <a:custGeom>
              <a:avLst/>
              <a:gdLst/>
              <a:ahLst/>
              <a:rect l="l" t="t" r="r" b="b"/>
              <a:pathLst>
                <a:path w="35" h="534">
                  <a:moveTo>
                    <a:pt x="0" y="534"/>
                  </a:moveTo>
                  <a:lnTo>
                    <a:pt x="0" y="36"/>
                  </a:lnTo>
                  <a:lnTo>
                    <a:pt x="35" y="0"/>
                  </a:lnTo>
                  <a:lnTo>
                    <a:pt x="35" y="499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5080" y="2925720"/>
              <a:ext cx="674640" cy="790560"/>
            </a:xfrm>
            <a:custGeom>
              <a:avLst/>
              <a:gdLst/>
              <a:ahLst/>
              <a:rect l="l" t="t" r="r" b="b"/>
              <a:pathLst>
                <a:path w="425" h="498">
                  <a:moveTo>
                    <a:pt x="425" y="0"/>
                  </a:moveTo>
                  <a:lnTo>
                    <a:pt x="0" y="0"/>
                  </a:lnTo>
                  <a:lnTo>
                    <a:pt x="0" y="498"/>
                  </a:lnTo>
                  <a:lnTo>
                    <a:pt x="425" y="498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45080" y="292572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5080" y="2925720"/>
              <a:ext cx="1440" cy="7905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5080" y="371628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319720" y="2925720"/>
              <a:ext cx="1440" cy="7905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73520" y="3084480"/>
              <a:ext cx="727200" cy="55440"/>
            </a:xfrm>
            <a:custGeom>
              <a:avLst/>
              <a:gdLst/>
              <a:ahLst/>
              <a:rect l="l" t="t" r="r" b="b"/>
              <a:pathLst>
                <a:path w="458" h="35">
                  <a:moveTo>
                    <a:pt x="424" y="3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4" y="35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46720" y="3084480"/>
              <a:ext cx="54000" cy="847800"/>
            </a:xfrm>
            <a:custGeom>
              <a:avLst/>
              <a:gdLst/>
              <a:ahLst/>
              <a:rect l="l" t="t" r="r" b="b"/>
              <a:pathLst>
                <a:path w="34" h="534">
                  <a:moveTo>
                    <a:pt x="0" y="534"/>
                  </a:moveTo>
                  <a:lnTo>
                    <a:pt x="0" y="35"/>
                  </a:lnTo>
                  <a:lnTo>
                    <a:pt x="34" y="0"/>
                  </a:lnTo>
                  <a:lnTo>
                    <a:pt x="34" y="50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3520" y="3139920"/>
              <a:ext cx="673200" cy="792360"/>
            </a:xfrm>
            <a:custGeom>
              <a:avLst/>
              <a:gdLst/>
              <a:ahLst/>
              <a:rect l="l" t="t" r="r" b="b"/>
              <a:pathLst>
                <a:path w="424" h="499">
                  <a:moveTo>
                    <a:pt x="424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424" y="499"/>
                  </a:lnTo>
                  <a:lnTo>
                    <a:pt x="424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73520" y="3139920"/>
              <a:ext cx="67320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73520" y="3139920"/>
              <a:ext cx="180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73520" y="3932280"/>
              <a:ext cx="67320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346720" y="3139560"/>
              <a:ext cx="144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4920" y="3298680"/>
              <a:ext cx="728640" cy="57240"/>
            </a:xfrm>
            <a:custGeom>
              <a:avLst/>
              <a:gdLst/>
              <a:ahLst/>
              <a:rect l="l" t="t" r="r" b="b"/>
              <a:pathLst>
                <a:path w="459" h="36">
                  <a:moveTo>
                    <a:pt x="425" y="36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459" y="0"/>
                  </a:lnTo>
                  <a:lnTo>
                    <a:pt x="425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89560" y="3298680"/>
              <a:ext cx="54000" cy="849600"/>
            </a:xfrm>
            <a:custGeom>
              <a:avLst/>
              <a:gdLst/>
              <a:ahLst/>
              <a:rect l="l" t="t" r="r" b="b"/>
              <a:pathLst>
                <a:path w="34" h="535">
                  <a:moveTo>
                    <a:pt x="0" y="535"/>
                  </a:moveTo>
                  <a:lnTo>
                    <a:pt x="0" y="36"/>
                  </a:lnTo>
                  <a:lnTo>
                    <a:pt x="34" y="0"/>
                  </a:lnTo>
                  <a:lnTo>
                    <a:pt x="34" y="50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14920" y="3355920"/>
              <a:ext cx="674640" cy="792360"/>
            </a:xfrm>
            <a:custGeom>
              <a:avLst/>
              <a:gdLst/>
              <a:ahLst/>
              <a:rect l="l" t="t" r="r" b="b"/>
              <a:pathLst>
                <a:path w="425" h="499">
                  <a:moveTo>
                    <a:pt x="425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425" y="499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714920" y="3355920"/>
              <a:ext cx="67464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14920" y="3355920"/>
              <a:ext cx="144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148280"/>
              <a:ext cx="67464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89560" y="3355560"/>
              <a:ext cx="144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23200" y="3678120"/>
              <a:ext cx="40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26400" y="3641760"/>
              <a:ext cx="6660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43"/>
                  </a:moveTo>
                  <a:lnTo>
                    <a:pt x="42" y="23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16720" y="3436920"/>
              <a:ext cx="363600" cy="60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9160" y="3405240"/>
              <a:ext cx="74520" cy="68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7" y="43"/>
                  </a:moveTo>
                  <a:lnTo>
                    <a:pt x="47" y="16"/>
                  </a:lnTo>
                  <a:lnTo>
                    <a:pt x="0" y="0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16720" y="3228480"/>
              <a:ext cx="345960" cy="63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1520" y="3193920"/>
              <a:ext cx="74880" cy="6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9" y="42"/>
                  </a:moveTo>
                  <a:lnTo>
                    <a:pt x="47" y="13"/>
                  </a:lnTo>
                  <a:lnTo>
                    <a:pt x="0" y="0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516720" y="3041640"/>
              <a:ext cx="32076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7760" y="300996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1" y="42"/>
                  </a:moveTo>
                  <a:lnTo>
                    <a:pt x="46" y="11"/>
                  </a:lnTo>
                  <a:lnTo>
                    <a:pt x="0" y="0"/>
                  </a:lnTo>
                  <a:lnTo>
                    <a:pt x="1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30800" y="2808360"/>
              <a:ext cx="1800" cy="127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880" y="2744640"/>
              <a:ext cx="6696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42"/>
                  </a:moveTo>
                  <a:lnTo>
                    <a:pt x="22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5880" y="293220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22" y="4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75160" y="3298680"/>
              <a:ext cx="57240" cy="849600"/>
            </a:xfrm>
            <a:custGeom>
              <a:avLst/>
              <a:gdLst/>
              <a:ahLst/>
              <a:rect l="l" t="t" r="r" b="b"/>
              <a:pathLst>
                <a:path w="36" h="535">
                  <a:moveTo>
                    <a:pt x="0" y="535"/>
                  </a:moveTo>
                  <a:lnTo>
                    <a:pt x="0" y="36"/>
                  </a:lnTo>
                  <a:lnTo>
                    <a:pt x="36" y="0"/>
                  </a:lnTo>
                  <a:lnTo>
                    <a:pt x="36" y="50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05200" y="3298680"/>
              <a:ext cx="727200" cy="57240"/>
            </a:xfrm>
            <a:custGeom>
              <a:avLst/>
              <a:gdLst/>
              <a:ahLst/>
              <a:rect l="l" t="t" r="r" b="b"/>
              <a:pathLst>
                <a:path w="458" h="36">
                  <a:moveTo>
                    <a:pt x="422" y="36"/>
                  </a:moveTo>
                  <a:lnTo>
                    <a:pt x="0" y="36"/>
                  </a:lnTo>
                  <a:lnTo>
                    <a:pt x="33" y="0"/>
                  </a:lnTo>
                  <a:lnTo>
                    <a:pt x="458" y="0"/>
                  </a:lnTo>
                  <a:lnTo>
                    <a:pt x="422" y="36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05200" y="3355920"/>
              <a:ext cx="669960" cy="792360"/>
            </a:xfrm>
            <a:custGeom>
              <a:avLst/>
              <a:gdLst/>
              <a:ahLst/>
              <a:rect l="l" t="t" r="r" b="b"/>
              <a:pathLst>
                <a:path w="422" h="499">
                  <a:moveTo>
                    <a:pt x="0" y="0"/>
                  </a:moveTo>
                  <a:lnTo>
                    <a:pt x="0" y="499"/>
                  </a:lnTo>
                  <a:lnTo>
                    <a:pt x="422" y="499"/>
                  </a:lnTo>
                  <a:lnTo>
                    <a:pt x="42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5200" y="3355920"/>
              <a:ext cx="1800" cy="792360"/>
            </a:xfrm>
            <a:prstGeom prst="line">
              <a:avLst/>
            </a:prstGeom>
            <a:ln w="144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05200" y="4148280"/>
              <a:ext cx="669960" cy="144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75160" y="3355560"/>
              <a:ext cx="1800" cy="792360"/>
            </a:xfrm>
            <a:prstGeom prst="line">
              <a:avLst/>
            </a:prstGeom>
            <a:ln w="144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704840" y="3355920"/>
              <a:ext cx="669960" cy="1800"/>
            </a:xfrm>
            <a:prstGeom prst="line">
              <a:avLst/>
            </a:prstGeom>
            <a:ln w="144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5600" y="362412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n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2280" y="375768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5960" y="3041640"/>
              <a:ext cx="419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41760" y="300996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67360" y="3267000"/>
              <a:ext cx="420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87840" y="323208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5"/>
                  </a:moveTo>
                  <a:lnTo>
                    <a:pt x="42" y="22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2560" y="3483000"/>
              <a:ext cx="42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13400" y="34513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42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8640" y="3745080"/>
              <a:ext cx="42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4440" y="371016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42"/>
                  </a:moveTo>
                  <a:lnTo>
                    <a:pt x="45" y="22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6A0-18BA-44D2-A965-4133E761B1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ff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ver contention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port (contend for fab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(contend for output 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port (contend for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-of-Lin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uff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03x29" descr=""/>
          <p:cNvPicPr/>
          <p:nvPr/>
        </p:nvPicPr>
        <p:blipFill>
          <a:blip r:embed="rId1"/>
          <a:stretch/>
        </p:blipFill>
        <p:spPr>
          <a:xfrm>
            <a:off x="2133720" y="4248000"/>
            <a:ext cx="434340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651-F063-4D9C-8B02-CFDA5178D2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ossbar Swit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0" name="03x30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9884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144-4F4E-477E-925F-3C2D16D101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ross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719360"/>
            <a:ext cx="939960" cy="3697200"/>
          </a:xfrm>
          <a:custGeom>
            <a:avLst/>
            <a:gdLst/>
            <a:ahLst/>
            <a:rect l="l" t="t" r="r" b="b"/>
            <a:pathLst>
              <a:path w="813" h="2830">
                <a:moveTo>
                  <a:pt x="813" y="2830"/>
                </a:moveTo>
                <a:lnTo>
                  <a:pt x="813" y="0"/>
                </a:lnTo>
                <a:lnTo>
                  <a:pt x="0" y="0"/>
                </a:lnTo>
                <a:lnTo>
                  <a:pt x="0" y="2830"/>
                </a:lnTo>
                <a:lnTo>
                  <a:pt x="813" y="2830"/>
                </a:lnTo>
                <a:lnTo>
                  <a:pt x="813" y="28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304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97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8304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0480" y="1812960"/>
            <a:ext cx="125640" cy="10008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0480" y="1812960"/>
            <a:ext cx="125640" cy="10008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8304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8304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0480" y="2281320"/>
            <a:ext cx="125640" cy="9684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0480" y="2281320"/>
            <a:ext cx="125640" cy="9684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0856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08560" y="2281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1180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1800" y="1812960"/>
            <a:ext cx="11916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24560" y="1812960"/>
            <a:ext cx="12060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24560" y="1812960"/>
            <a:ext cx="120600" cy="1000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8304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8304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1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8304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514512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165276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8720" y="1652760"/>
            <a:ext cx="50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35400" y="165276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9400" y="1652760"/>
            <a:ext cx="32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2040" y="165276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4240" y="1652760"/>
            <a:ext cx="46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4240" y="1913040"/>
            <a:ext cx="847800" cy="368280"/>
          </a:xfrm>
          <a:custGeom>
            <a:avLst/>
            <a:gdLst/>
            <a:ahLst/>
            <a:rect l="l" t="t" r="r" b="b"/>
            <a:pathLst>
              <a:path w="734" h="282">
                <a:moveTo>
                  <a:pt x="0" y="0"/>
                </a:moveTo>
                <a:lnTo>
                  <a:pt x="3" y="35"/>
                </a:lnTo>
                <a:lnTo>
                  <a:pt x="734" y="204"/>
                </a:lnTo>
                <a:lnTo>
                  <a:pt x="734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6520" y="2378160"/>
            <a:ext cx="155520" cy="376200"/>
          </a:xfrm>
          <a:custGeom>
            <a:avLst/>
            <a:gdLst/>
            <a:ahLst/>
            <a:rect l="l" t="t" r="r" b="b"/>
            <a:pathLst>
              <a:path w="135" h="287">
                <a:moveTo>
                  <a:pt x="132" y="0"/>
                </a:moveTo>
                <a:lnTo>
                  <a:pt x="135" y="23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54800" y="165276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11680" y="1652760"/>
            <a:ext cx="32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11680" y="1913040"/>
            <a:ext cx="684360" cy="368280"/>
          </a:xfrm>
          <a:custGeom>
            <a:avLst/>
            <a:gdLst/>
            <a:ahLst/>
            <a:rect l="l" t="t" r="r" b="b"/>
            <a:pathLst>
              <a:path w="593" h="282">
                <a:moveTo>
                  <a:pt x="0" y="0"/>
                </a:moveTo>
                <a:lnTo>
                  <a:pt x="3" y="38"/>
                </a:lnTo>
                <a:lnTo>
                  <a:pt x="593" y="181"/>
                </a:lnTo>
                <a:lnTo>
                  <a:pt x="593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96040" y="2378160"/>
            <a:ext cx="485640" cy="376200"/>
          </a:xfrm>
          <a:custGeom>
            <a:avLst/>
            <a:gdLst/>
            <a:ahLst/>
            <a:rect l="l" t="t" r="r" b="b"/>
            <a:pathLst>
              <a:path w="420" h="287">
                <a:moveTo>
                  <a:pt x="0" y="0"/>
                </a:moveTo>
                <a:lnTo>
                  <a:pt x="0" y="23"/>
                </a:lnTo>
                <a:lnTo>
                  <a:pt x="420" y="207"/>
                </a:lnTo>
                <a:lnTo>
                  <a:pt x="42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51200"/>
            <a:ext cx="638280" cy="384120"/>
          </a:xfrm>
          <a:custGeom>
            <a:avLst/>
            <a:gdLst/>
            <a:ahLst/>
            <a:rect l="l" t="t" r="r" b="b"/>
            <a:pathLst>
              <a:path w="552" h="293">
                <a:moveTo>
                  <a:pt x="0" y="0"/>
                </a:moveTo>
                <a:lnTo>
                  <a:pt x="0" y="37"/>
                </a:lnTo>
                <a:lnTo>
                  <a:pt x="552" y="256"/>
                </a:lnTo>
                <a:lnTo>
                  <a:pt x="552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7680" y="191628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3000" y="23828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3000" y="28512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23000" y="33321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23000" y="381312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3000" y="429084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3000" y="476892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23000" y="524340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3920" y="5445000"/>
            <a:ext cx="39600" cy="87480"/>
          </a:xfrm>
          <a:custGeom>
            <a:avLst/>
            <a:gdLst/>
            <a:ahLst/>
            <a:rect l="l" t="t" r="r" b="b"/>
            <a:pathLst>
              <a:path w="34" h="66">
                <a:moveTo>
                  <a:pt x="0" y="0"/>
                </a:moveTo>
                <a:lnTo>
                  <a:pt x="17" y="66"/>
                </a:lnTo>
                <a:lnTo>
                  <a:pt x="34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04080" y="2281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04080" y="2281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04080" y="275436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04080" y="275436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0408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0408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197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408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0408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04080" y="418788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466560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04080" y="514512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2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238284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080" y="28512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333216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31080" y="3813120"/>
            <a:ext cx="14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31080" y="4290840"/>
            <a:ext cx="14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31080" y="4768920"/>
            <a:ext cx="14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31080" y="5243400"/>
            <a:ext cx="144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08760" y="5445000"/>
            <a:ext cx="44280" cy="8748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21" y="66"/>
                </a:lnTo>
                <a:lnTo>
                  <a:pt x="38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913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91320" y="275436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913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91320" y="323532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12000" y="3235320"/>
            <a:ext cx="122040" cy="9684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132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1320" y="3714840"/>
            <a:ext cx="119160" cy="9828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12000" y="3714840"/>
            <a:ext cx="122040" cy="9828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9132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91320" y="418788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0" y="4187880"/>
            <a:ext cx="122040" cy="9828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9132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1320" y="4665600"/>
            <a:ext cx="119160" cy="9684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91320" y="5145120"/>
            <a:ext cx="119160" cy="9828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8600" y="2851200"/>
            <a:ext cx="32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8600" y="3332160"/>
            <a:ext cx="324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8600" y="3813120"/>
            <a:ext cx="32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8600" y="4290840"/>
            <a:ext cx="324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8600" y="4768920"/>
            <a:ext cx="3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8600" y="5243400"/>
            <a:ext cx="324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8080" y="5445000"/>
            <a:ext cx="42840" cy="8748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20" y="66"/>
                </a:lnTo>
                <a:lnTo>
                  <a:pt x="37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75680" y="323532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75680" y="3714840"/>
            <a:ext cx="120600" cy="9828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75680" y="3714840"/>
            <a:ext cx="120600" cy="9828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75680" y="418788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75680" y="418788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5680" y="466560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5680" y="4665600"/>
            <a:ext cx="120600" cy="9684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75680" y="514512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lnTo>
                  <a:pt x="104" y="7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5680" y="5145120"/>
            <a:ext cx="120600" cy="9828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16720" y="333216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6720" y="381312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16720" y="429084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16720" y="4768920"/>
            <a:ext cx="180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16720" y="5243400"/>
            <a:ext cx="180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6200" y="5445000"/>
            <a:ext cx="39600" cy="8748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8" y="66"/>
                </a:lnTo>
                <a:lnTo>
                  <a:pt x="35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9024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976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620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82520" y="5553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07240" y="1962000"/>
            <a:ext cx="525240" cy="3432240"/>
          </a:xfrm>
          <a:custGeom>
            <a:avLst/>
            <a:gdLst/>
            <a:ahLst/>
            <a:rect l="l" t="t" r="r" b="b"/>
            <a:pathLst>
              <a:path w="455" h="2628">
                <a:moveTo>
                  <a:pt x="455" y="2628"/>
                </a:moveTo>
                <a:lnTo>
                  <a:pt x="455" y="0"/>
                </a:lnTo>
                <a:lnTo>
                  <a:pt x="0" y="0"/>
                </a:lnTo>
                <a:lnTo>
                  <a:pt x="0" y="2628"/>
                </a:lnTo>
                <a:lnTo>
                  <a:pt x="455" y="2628"/>
                </a:lnTo>
                <a:lnTo>
                  <a:pt x="455" y="26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93040" y="2482920"/>
            <a:ext cx="528480" cy="2911320"/>
          </a:xfrm>
          <a:custGeom>
            <a:avLst/>
            <a:gdLst/>
            <a:ahLst/>
            <a:rect l="l" t="t" r="r" b="b"/>
            <a:pathLst>
              <a:path w="457" h="2229">
                <a:moveTo>
                  <a:pt x="454" y="2229"/>
                </a:moveTo>
                <a:lnTo>
                  <a:pt x="457" y="0"/>
                </a:lnTo>
                <a:lnTo>
                  <a:pt x="0" y="0"/>
                </a:lnTo>
                <a:lnTo>
                  <a:pt x="0" y="2229"/>
                </a:lnTo>
                <a:lnTo>
                  <a:pt x="457" y="2229"/>
                </a:lnTo>
                <a:lnTo>
                  <a:pt x="457" y="22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92880" y="3046320"/>
            <a:ext cx="339840" cy="2347920"/>
          </a:xfrm>
          <a:custGeom>
            <a:avLst/>
            <a:gdLst/>
            <a:ahLst/>
            <a:rect l="l" t="t" r="r" b="b"/>
            <a:pathLst>
              <a:path w="294" h="1797">
                <a:moveTo>
                  <a:pt x="291" y="1797"/>
                </a:moveTo>
                <a:lnTo>
                  <a:pt x="294" y="0"/>
                </a:lnTo>
                <a:lnTo>
                  <a:pt x="0" y="0"/>
                </a:lnTo>
                <a:lnTo>
                  <a:pt x="0" y="1797"/>
                </a:lnTo>
                <a:lnTo>
                  <a:pt x="294" y="1797"/>
                </a:lnTo>
                <a:lnTo>
                  <a:pt x="294" y="17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3760" y="573084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16680" y="137160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68720" y="1913040"/>
            <a:ext cx="1071720" cy="365040"/>
          </a:xfrm>
          <a:custGeom>
            <a:avLst/>
            <a:gdLst/>
            <a:ahLst/>
            <a:rect l="l" t="t" r="r" b="b"/>
            <a:pathLst>
              <a:path w="926" h="279">
                <a:moveTo>
                  <a:pt x="0" y="0"/>
                </a:moveTo>
                <a:lnTo>
                  <a:pt x="3" y="38"/>
                </a:lnTo>
                <a:lnTo>
                  <a:pt x="926" y="253"/>
                </a:lnTo>
                <a:lnTo>
                  <a:pt x="92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9400" y="1913040"/>
            <a:ext cx="897120" cy="368280"/>
          </a:xfrm>
          <a:custGeom>
            <a:avLst/>
            <a:gdLst/>
            <a:ahLst/>
            <a:rect l="l" t="t" r="r" b="b"/>
            <a:pathLst>
              <a:path w="777" h="282">
                <a:moveTo>
                  <a:pt x="0" y="0"/>
                </a:moveTo>
                <a:lnTo>
                  <a:pt x="0" y="35"/>
                </a:lnTo>
                <a:lnTo>
                  <a:pt x="777" y="233"/>
                </a:lnTo>
                <a:lnTo>
                  <a:pt x="777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86520" y="2378160"/>
            <a:ext cx="625320" cy="369720"/>
          </a:xfrm>
          <a:custGeom>
            <a:avLst/>
            <a:gdLst/>
            <a:ahLst/>
            <a:rect l="l" t="t" r="r" b="b"/>
            <a:pathLst>
              <a:path w="540" h="284">
                <a:moveTo>
                  <a:pt x="0" y="0"/>
                </a:moveTo>
                <a:lnTo>
                  <a:pt x="0" y="20"/>
                </a:lnTo>
                <a:lnTo>
                  <a:pt x="540" y="253"/>
                </a:lnTo>
                <a:lnTo>
                  <a:pt x="54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35400" y="1913040"/>
            <a:ext cx="206640" cy="368280"/>
          </a:xfrm>
          <a:custGeom>
            <a:avLst/>
            <a:gdLst/>
            <a:ahLst/>
            <a:rect l="l" t="t" r="r" b="b"/>
            <a:pathLst>
              <a:path w="178" h="282">
                <a:moveTo>
                  <a:pt x="178" y="0"/>
                </a:moveTo>
                <a:lnTo>
                  <a:pt x="178" y="35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68720" y="2378160"/>
            <a:ext cx="166680" cy="376200"/>
          </a:xfrm>
          <a:custGeom>
            <a:avLst/>
            <a:gdLst/>
            <a:ahLst/>
            <a:rect l="l" t="t" r="r" b="b"/>
            <a:pathLst>
              <a:path w="144" h="287">
                <a:moveTo>
                  <a:pt x="144" y="0"/>
                </a:moveTo>
                <a:lnTo>
                  <a:pt x="144" y="34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7280" y="2851200"/>
            <a:ext cx="1292400" cy="384120"/>
          </a:xfrm>
          <a:custGeom>
            <a:avLst/>
            <a:gdLst/>
            <a:ahLst/>
            <a:rect l="l" t="t" r="r" b="b"/>
            <a:pathLst>
              <a:path w="1118" h="293">
                <a:moveTo>
                  <a:pt x="0" y="0"/>
                </a:moveTo>
                <a:lnTo>
                  <a:pt x="2" y="35"/>
                </a:lnTo>
                <a:lnTo>
                  <a:pt x="1118" y="259"/>
                </a:lnTo>
                <a:lnTo>
                  <a:pt x="1118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89760" y="3332160"/>
            <a:ext cx="169920" cy="38268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144" y="0"/>
                </a:moveTo>
                <a:lnTo>
                  <a:pt x="147" y="35"/>
                </a:lnTo>
                <a:lnTo>
                  <a:pt x="0" y="259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6520" y="3813120"/>
            <a:ext cx="860400" cy="374760"/>
          </a:xfrm>
          <a:custGeom>
            <a:avLst/>
            <a:gdLst/>
            <a:ahLst/>
            <a:rect l="l" t="t" r="r" b="b"/>
            <a:pathLst>
              <a:path w="744" h="288">
                <a:moveTo>
                  <a:pt x="0" y="0"/>
                </a:moveTo>
                <a:lnTo>
                  <a:pt x="2" y="32"/>
                </a:lnTo>
                <a:lnTo>
                  <a:pt x="744" y="248"/>
                </a:lnTo>
                <a:lnTo>
                  <a:pt x="7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4286160"/>
            <a:ext cx="165240" cy="379440"/>
          </a:xfrm>
          <a:custGeom>
            <a:avLst/>
            <a:gdLst/>
            <a:ahLst/>
            <a:rect l="l" t="t" r="r" b="b"/>
            <a:pathLst>
              <a:path w="143" h="290">
                <a:moveTo>
                  <a:pt x="140" y="0"/>
                </a:moveTo>
                <a:lnTo>
                  <a:pt x="143" y="34"/>
                </a:lnTo>
                <a:lnTo>
                  <a:pt x="0" y="258"/>
                </a:lnTo>
                <a:lnTo>
                  <a:pt x="0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4762440"/>
            <a:ext cx="681120" cy="382680"/>
          </a:xfrm>
          <a:custGeom>
            <a:avLst/>
            <a:gdLst/>
            <a:ahLst/>
            <a:rect l="l" t="t" r="r" b="b"/>
            <a:pathLst>
              <a:path w="589" h="293">
                <a:moveTo>
                  <a:pt x="0" y="0"/>
                </a:moveTo>
                <a:lnTo>
                  <a:pt x="0" y="37"/>
                </a:lnTo>
                <a:lnTo>
                  <a:pt x="589" y="259"/>
                </a:lnTo>
                <a:lnTo>
                  <a:pt x="589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0" y="5240160"/>
            <a:ext cx="73080" cy="3816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0"/>
                </a:moveTo>
                <a:lnTo>
                  <a:pt x="0" y="29"/>
                </a:lnTo>
                <a:lnTo>
                  <a:pt x="63" y="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18240" y="5256360"/>
            <a:ext cx="78120" cy="4428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68720" y="1916280"/>
            <a:ext cx="166680" cy="365040"/>
          </a:xfrm>
          <a:custGeom>
            <a:avLst/>
            <a:gdLst/>
            <a:ahLst/>
            <a:rect l="l" t="t" r="r" b="b"/>
            <a:pathLst>
              <a:path w="144" h="279">
                <a:moveTo>
                  <a:pt x="144" y="0"/>
                </a:moveTo>
                <a:lnTo>
                  <a:pt x="144" y="35"/>
                </a:lnTo>
                <a:lnTo>
                  <a:pt x="0" y="250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67280" y="2378160"/>
            <a:ext cx="1285920" cy="376200"/>
          </a:xfrm>
          <a:custGeom>
            <a:avLst/>
            <a:gdLst/>
            <a:ahLst/>
            <a:rect l="l" t="t" r="r" b="b"/>
            <a:pathLst>
              <a:path w="1112" h="287">
                <a:moveTo>
                  <a:pt x="0" y="0"/>
                </a:moveTo>
                <a:lnTo>
                  <a:pt x="2" y="34"/>
                </a:lnTo>
                <a:lnTo>
                  <a:pt x="1112" y="256"/>
                </a:lnTo>
                <a:lnTo>
                  <a:pt x="1112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89760" y="2851200"/>
            <a:ext cx="163440" cy="384120"/>
          </a:xfrm>
          <a:custGeom>
            <a:avLst/>
            <a:gdLst/>
            <a:ahLst/>
            <a:rect l="l" t="t" r="r" b="b"/>
            <a:pathLst>
              <a:path w="141" h="293">
                <a:moveTo>
                  <a:pt x="141" y="0"/>
                </a:moveTo>
                <a:lnTo>
                  <a:pt x="141" y="37"/>
                </a:lnTo>
                <a:lnTo>
                  <a:pt x="0" y="259"/>
                </a:lnTo>
                <a:lnTo>
                  <a:pt x="0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86520" y="3332160"/>
            <a:ext cx="860400" cy="382680"/>
          </a:xfrm>
          <a:custGeom>
            <a:avLst/>
            <a:gdLst/>
            <a:ahLst/>
            <a:rect l="l" t="t" r="r" b="b"/>
            <a:pathLst>
              <a:path w="744" h="294">
                <a:moveTo>
                  <a:pt x="0" y="0"/>
                </a:moveTo>
                <a:lnTo>
                  <a:pt x="2" y="35"/>
                </a:lnTo>
                <a:lnTo>
                  <a:pt x="744" y="259"/>
                </a:lnTo>
                <a:lnTo>
                  <a:pt x="744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813120"/>
            <a:ext cx="165240" cy="374760"/>
          </a:xfrm>
          <a:custGeom>
            <a:avLst/>
            <a:gdLst/>
            <a:ahLst/>
            <a:rect l="l" t="t" r="r" b="b"/>
            <a:pathLst>
              <a:path w="143" h="288">
                <a:moveTo>
                  <a:pt x="140" y="0"/>
                </a:moveTo>
                <a:lnTo>
                  <a:pt x="143" y="32"/>
                </a:lnTo>
                <a:lnTo>
                  <a:pt x="0" y="2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4290840"/>
            <a:ext cx="681120" cy="374760"/>
          </a:xfrm>
          <a:custGeom>
            <a:avLst/>
            <a:gdLst/>
            <a:ahLst/>
            <a:rect l="l" t="t" r="r" b="b"/>
            <a:pathLst>
              <a:path w="589" h="287">
                <a:moveTo>
                  <a:pt x="0" y="0"/>
                </a:moveTo>
                <a:lnTo>
                  <a:pt x="0" y="31"/>
                </a:lnTo>
                <a:lnTo>
                  <a:pt x="589" y="255"/>
                </a:lnTo>
                <a:lnTo>
                  <a:pt x="589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2800" y="4762440"/>
            <a:ext cx="73080" cy="49320"/>
          </a:xfrm>
          <a:custGeom>
            <a:avLst/>
            <a:gdLst/>
            <a:ahLst/>
            <a:rect l="l" t="t" r="r" b="b"/>
            <a:pathLst>
              <a:path w="63" h="37">
                <a:moveTo>
                  <a:pt x="0" y="0"/>
                </a:moveTo>
                <a:lnTo>
                  <a:pt x="0" y="37"/>
                </a:lnTo>
                <a:lnTo>
                  <a:pt x="63" y="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18240" y="4791240"/>
            <a:ext cx="78120" cy="42840"/>
          </a:xfrm>
          <a:custGeom>
            <a:avLst/>
            <a:gdLst/>
            <a:ahLst/>
            <a:rect l="l" t="t" r="r" b="b"/>
            <a:pathLst>
              <a:path w="66" h="35">
                <a:moveTo>
                  <a:pt x="0" y="32"/>
                </a:moveTo>
                <a:lnTo>
                  <a:pt x="66" y="17"/>
                </a:lnTo>
                <a:lnTo>
                  <a:pt x="3" y="0"/>
                </a:lnTo>
                <a:lnTo>
                  <a:pt x="3" y="35"/>
                </a:lnTo>
                <a:lnTo>
                  <a:pt x="3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2640" y="1913040"/>
            <a:ext cx="362160" cy="368280"/>
          </a:xfrm>
          <a:custGeom>
            <a:avLst/>
            <a:gdLst/>
            <a:ahLst/>
            <a:rect l="l" t="t" r="r" b="b"/>
            <a:pathLst>
              <a:path w="313" h="282">
                <a:moveTo>
                  <a:pt x="313" y="0"/>
                </a:moveTo>
                <a:lnTo>
                  <a:pt x="313" y="38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9400" y="2374920"/>
            <a:ext cx="1106640" cy="379440"/>
          </a:xfrm>
          <a:custGeom>
            <a:avLst/>
            <a:gdLst/>
            <a:ahLst/>
            <a:rect l="l" t="t" r="r" b="b"/>
            <a:pathLst>
              <a:path w="958" h="290">
                <a:moveTo>
                  <a:pt x="0" y="0"/>
                </a:moveTo>
                <a:lnTo>
                  <a:pt x="3" y="37"/>
                </a:lnTo>
                <a:lnTo>
                  <a:pt x="958" y="239"/>
                </a:lnTo>
                <a:lnTo>
                  <a:pt x="958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96040" y="2851200"/>
            <a:ext cx="650880" cy="384120"/>
          </a:xfrm>
          <a:custGeom>
            <a:avLst/>
            <a:gdLst/>
            <a:ahLst/>
            <a:rect l="l" t="t" r="r" b="b"/>
            <a:pathLst>
              <a:path w="563" h="293">
                <a:moveTo>
                  <a:pt x="0" y="0"/>
                </a:moveTo>
                <a:lnTo>
                  <a:pt x="0" y="37"/>
                </a:lnTo>
                <a:lnTo>
                  <a:pt x="563" y="242"/>
                </a:lnTo>
                <a:lnTo>
                  <a:pt x="563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3332160"/>
            <a:ext cx="165240" cy="382680"/>
          </a:xfrm>
          <a:custGeom>
            <a:avLst/>
            <a:gdLst/>
            <a:ahLst/>
            <a:rect l="l" t="t" r="r" b="b"/>
            <a:pathLst>
              <a:path w="143" h="294">
                <a:moveTo>
                  <a:pt x="140" y="0"/>
                </a:moveTo>
                <a:lnTo>
                  <a:pt x="143" y="35"/>
                </a:lnTo>
                <a:lnTo>
                  <a:pt x="0" y="256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3813120"/>
            <a:ext cx="681120" cy="374760"/>
          </a:xfrm>
          <a:custGeom>
            <a:avLst/>
            <a:gdLst/>
            <a:ahLst/>
            <a:rect l="l" t="t" r="r" b="b"/>
            <a:pathLst>
              <a:path w="589" h="288">
                <a:moveTo>
                  <a:pt x="0" y="0"/>
                </a:moveTo>
                <a:lnTo>
                  <a:pt x="0" y="32"/>
                </a:lnTo>
                <a:lnTo>
                  <a:pt x="589" y="248"/>
                </a:lnTo>
                <a:lnTo>
                  <a:pt x="589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62800" y="4286160"/>
            <a:ext cx="73080" cy="46080"/>
          </a:xfrm>
          <a:custGeom>
            <a:avLst/>
            <a:gdLst/>
            <a:ahLst/>
            <a:rect l="l" t="t" r="r" b="b"/>
            <a:pathLst>
              <a:path w="63" h="34">
                <a:moveTo>
                  <a:pt x="0" y="0"/>
                </a:moveTo>
                <a:lnTo>
                  <a:pt x="0" y="34"/>
                </a:lnTo>
                <a:lnTo>
                  <a:pt x="63" y="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23280" y="4309920"/>
            <a:ext cx="75960" cy="4464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6520" y="2851200"/>
            <a:ext cx="695160" cy="384120"/>
          </a:xfrm>
          <a:custGeom>
            <a:avLst/>
            <a:gdLst/>
            <a:ahLst/>
            <a:rect l="l" t="t" r="r" b="b"/>
            <a:pathLst>
              <a:path w="601" h="293">
                <a:moveTo>
                  <a:pt x="0" y="0"/>
                </a:moveTo>
                <a:lnTo>
                  <a:pt x="0" y="35"/>
                </a:lnTo>
                <a:lnTo>
                  <a:pt x="601" y="259"/>
                </a:lnTo>
                <a:lnTo>
                  <a:pt x="601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3332160"/>
            <a:ext cx="681120" cy="382680"/>
          </a:xfrm>
          <a:custGeom>
            <a:avLst/>
            <a:gdLst/>
            <a:ahLst/>
            <a:rect l="l" t="t" r="r" b="b"/>
            <a:pathLst>
              <a:path w="589" h="294">
                <a:moveTo>
                  <a:pt x="0" y="0"/>
                </a:moveTo>
                <a:lnTo>
                  <a:pt x="0" y="35"/>
                </a:lnTo>
                <a:lnTo>
                  <a:pt x="589" y="259"/>
                </a:lnTo>
                <a:lnTo>
                  <a:pt x="589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62800" y="3813120"/>
            <a:ext cx="73080" cy="4140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0"/>
                </a:moveTo>
                <a:lnTo>
                  <a:pt x="0" y="32"/>
                </a:lnTo>
                <a:lnTo>
                  <a:pt x="63" y="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18240" y="3833640"/>
            <a:ext cx="78120" cy="432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E2C-452F-4A2C-B4E3-0755351A64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nockout Switch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90760" y="1600200"/>
            <a:ext cx="2656080" cy="4495320"/>
            <a:chOff x="4190760" y="1600200"/>
            <a:chExt cx="2656080" cy="4495320"/>
          </a:xfrm>
        </p:grpSpPr>
        <p:sp>
          <p:nvSpPr>
            <p:cNvPr id="318" name=""/>
            <p:cNvSpPr/>
            <p:nvPr/>
          </p:nvSpPr>
          <p:spPr>
            <a:xfrm>
              <a:off x="4613760" y="5286600"/>
              <a:ext cx="25272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01440" y="4938840"/>
              <a:ext cx="1749240" cy="188280"/>
            </a:xfrm>
            <a:custGeom>
              <a:avLst/>
              <a:gdLst/>
              <a:ahLst/>
              <a:rect l="l" t="t" r="r" b="b"/>
              <a:pathLst>
                <a:path w="1245" h="131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1245" y="131"/>
                  </a:lnTo>
                  <a:lnTo>
                    <a:pt x="1245" y="13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964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4080" y="5286600"/>
              <a:ext cx="254160" cy="55332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7080" y="5286600"/>
              <a:ext cx="252360" cy="55332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480" y="52905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2200" y="49460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1560" y="54864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3760" y="3686760"/>
              <a:ext cx="25272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01440" y="3337560"/>
              <a:ext cx="1749240" cy="185400"/>
            </a:xfrm>
            <a:custGeom>
              <a:avLst/>
              <a:gdLst/>
              <a:ahLst/>
              <a:rect l="l" t="t" r="r" b="b"/>
              <a:pathLst>
                <a:path w="1245" h="129">
                  <a:moveTo>
                    <a:pt x="1245" y="129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1245" y="129"/>
                  </a:lnTo>
                  <a:lnTo>
                    <a:pt x="1245" y="12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3964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4080" y="3686760"/>
              <a:ext cx="254160" cy="548640"/>
            </a:xfrm>
            <a:custGeom>
              <a:avLst/>
              <a:gdLst/>
              <a:ahLst/>
              <a:rect l="l" t="t" r="r" b="b"/>
              <a:pathLst>
                <a:path w="181" h="382">
                  <a:moveTo>
                    <a:pt x="0" y="0"/>
                  </a:moveTo>
                  <a:lnTo>
                    <a:pt x="3" y="382"/>
                  </a:lnTo>
                  <a:lnTo>
                    <a:pt x="181" y="382"/>
                  </a:lnTo>
                  <a:lnTo>
                    <a:pt x="18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7080" y="3686760"/>
              <a:ext cx="252360" cy="548640"/>
            </a:xfrm>
            <a:custGeom>
              <a:avLst/>
              <a:gdLst/>
              <a:ahLst/>
              <a:rect l="l" t="t" r="r" b="b"/>
              <a:pathLst>
                <a:path w="180" h="382">
                  <a:moveTo>
                    <a:pt x="0" y="0"/>
                  </a:moveTo>
                  <a:lnTo>
                    <a:pt x="2" y="382"/>
                  </a:lnTo>
                  <a:lnTo>
                    <a:pt x="180" y="382"/>
                  </a:lnTo>
                  <a:lnTo>
                    <a:pt x="1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90760" y="36896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2200" y="33447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1560" y="38865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3760" y="2082960"/>
              <a:ext cx="25272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1440" y="1737720"/>
              <a:ext cx="1749240" cy="183960"/>
            </a:xfrm>
            <a:custGeom>
              <a:avLst/>
              <a:gdLst/>
              <a:ahLst/>
              <a:rect l="l" t="t" r="r" b="b"/>
              <a:pathLst>
                <a:path w="1245" h="128">
                  <a:moveTo>
                    <a:pt x="1245" y="128"/>
                  </a:moveTo>
                  <a:lnTo>
                    <a:pt x="1245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45" y="128"/>
                  </a:lnTo>
                  <a:lnTo>
                    <a:pt x="1245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964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4080" y="2082960"/>
              <a:ext cx="254160" cy="55296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3" y="385"/>
                  </a:lnTo>
                  <a:lnTo>
                    <a:pt x="181" y="385"/>
                  </a:lnTo>
                  <a:lnTo>
                    <a:pt x="181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312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3120" y="5946120"/>
              <a:ext cx="188280" cy="14940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4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99360" y="566028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9360" y="5440320"/>
              <a:ext cx="18792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760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7600" y="4333320"/>
              <a:ext cx="188280" cy="14508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3120" y="4056120"/>
              <a:ext cx="18828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73120" y="384372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9360" y="4056120"/>
              <a:ext cx="187920" cy="1479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131" y="103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4" y="103"/>
                  </a:lnTo>
                  <a:lnTo>
                    <a:pt x="134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4880" y="4056120"/>
              <a:ext cx="183600" cy="14796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103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1" y="103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7600" y="5660280"/>
              <a:ext cx="188280" cy="14472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4" y="101"/>
                  </a:lnTo>
                  <a:lnTo>
                    <a:pt x="134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4880" y="5660280"/>
              <a:ext cx="183600" cy="144720"/>
            </a:xfrm>
            <a:custGeom>
              <a:avLst/>
              <a:gdLst/>
              <a:ahLst/>
              <a:rect l="l" t="t" r="r" b="b"/>
              <a:pathLst>
                <a:path w="131" h="101">
                  <a:moveTo>
                    <a:pt x="131" y="101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760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3120" y="2455200"/>
              <a:ext cx="18828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99360" y="2455200"/>
              <a:ext cx="187920" cy="14904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131" y="101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87080" y="2082960"/>
              <a:ext cx="252360" cy="55296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2" y="385"/>
                  </a:lnTo>
                  <a:lnTo>
                    <a:pt x="180" y="385"/>
                  </a:lnTo>
                  <a:lnTo>
                    <a:pt x="18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20858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2200" y="17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f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560" y="228276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4012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16360" y="22986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68880" y="1600200"/>
              <a:ext cx="396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6560" y="22986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4400" y="1600200"/>
              <a:ext cx="1440" cy="718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440" y="229860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94400" y="51296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72440" y="5275080"/>
              <a:ext cx="4608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6" y="63"/>
                  </a:lnTo>
                  <a:lnTo>
                    <a:pt x="3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3902400"/>
              <a:ext cx="46440" cy="9036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0"/>
                  </a:moveTo>
                  <a:lnTo>
                    <a:pt x="17" y="63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0120" y="4800960"/>
              <a:ext cx="854280" cy="326160"/>
            </a:xfrm>
            <a:custGeom>
              <a:avLst/>
              <a:gdLst/>
              <a:ahLst/>
              <a:rect l="l" t="t" r="r" b="b"/>
              <a:pathLst>
                <a:path w="608" h="227">
                  <a:moveTo>
                    <a:pt x="0" y="0"/>
                  </a:moveTo>
                  <a:lnTo>
                    <a:pt x="0" y="96"/>
                  </a:lnTo>
                  <a:lnTo>
                    <a:pt x="608" y="2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0120" y="3200760"/>
              <a:ext cx="428400" cy="717120"/>
            </a:xfrm>
            <a:custGeom>
              <a:avLst/>
              <a:gdLst/>
              <a:ahLst/>
              <a:rect l="l" t="t" r="r" b="b"/>
              <a:pathLst>
                <a:path w="305" h="499">
                  <a:moveTo>
                    <a:pt x="305" y="0"/>
                  </a:moveTo>
                  <a:lnTo>
                    <a:pt x="305" y="93"/>
                  </a:lnTo>
                  <a:lnTo>
                    <a:pt x="0" y="224"/>
                  </a:lnTo>
                  <a:lnTo>
                    <a:pt x="0" y="4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6560" y="367092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840" y="3200760"/>
              <a:ext cx="421560" cy="481680"/>
            </a:xfrm>
            <a:custGeom>
              <a:avLst/>
              <a:gdLst/>
              <a:ahLst/>
              <a:rect l="l" t="t" r="r" b="b"/>
              <a:pathLst>
                <a:path w="300" h="335">
                  <a:moveTo>
                    <a:pt x="300" y="0"/>
                  </a:moveTo>
                  <a:lnTo>
                    <a:pt x="300" y="93"/>
                  </a:lnTo>
                  <a:lnTo>
                    <a:pt x="0" y="224"/>
                  </a:lnTo>
                  <a:lnTo>
                    <a:pt x="0" y="33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200760"/>
              <a:ext cx="1280160" cy="717120"/>
            </a:xfrm>
            <a:custGeom>
              <a:avLst/>
              <a:gdLst/>
              <a:ahLst/>
              <a:rect l="l" t="t" r="r" b="b"/>
              <a:pathLst>
                <a:path w="911" h="499">
                  <a:moveTo>
                    <a:pt x="908" y="499"/>
                  </a:moveTo>
                  <a:lnTo>
                    <a:pt x="911" y="224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94000" y="3902400"/>
              <a:ext cx="48960" cy="90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0"/>
                  </a:moveTo>
                  <a:lnTo>
                    <a:pt x="19" y="63"/>
                  </a:lnTo>
                  <a:lnTo>
                    <a:pt x="3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1F5-8A2E-4FA6-A57C-BF83765BD0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ya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from simple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switch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outing header attached to each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route based on thi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llisions if input packets sorted into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03x32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327672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C45-E3C4-4498-AAE2-C04B733890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f-Routing Fabric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elements sort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ascending (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lements sort into descending (sha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ranged to implement merge 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Design: Batcher-Bany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E03F34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40D-998A-4EC5-ACF7-C5F80E34C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9T06:11:55Z</dcterms:created>
  <dc:creator>klp</dc:creator>
  <dc:description/>
  <dc:language>en-US</dc:language>
  <cp:lastModifiedBy>Elsevier</cp:lastModifiedBy>
  <dcterms:modified xsi:type="dcterms:W3CDTF">2003-11-07T00:14:15Z</dcterms:modified>
  <cp:revision>24</cp:revision>
  <dc:subject/>
  <dc:title>No Slide Title</dc:title>
</cp:coreProperties>
</file>