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133-6C7B-440C-84EE-ED9DEF5E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C75-D68D-4BFB-8ED3-ECE7D987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2CC-9734-404F-B05F-3F34301F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1EA-2A8B-4611-AB00-B4D16FF1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0E3-AFB6-4D09-9130-819794D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885-6A7C-4668-A99B-CEBD839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88A-DAB5-4767-A2B5-9321A441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C97-52BD-43A1-A7A1-D606A32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23C-77A0-4D77-979E-BD8D4D8A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6E9-C0F0-43C6-9F9E-2D4A772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E7C-1289-4758-B3F9-31185C8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5EC-E860-400B-B90B-D39D58E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7770-4102-43D5-B2A0-32EE35F09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1AA-8EB5-4DF0-80A6-784E372EA0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.1 kHz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4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6 = 1.4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41 Mbps = 4.3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into some number of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each subband into a sequence of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each block using DCT + Quantization + Hu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: how many bits assigned to each sub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A66-E7A2-46B4-A503-60D27649F0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TP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 (app defines “ti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ackets (send period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rate (fraction of packets received since las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81E-9EC9-466F-88AA-42D5D15D11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nsmitting 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 the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P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ing wi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P-induced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5BB-7FC4-4BC8-BB47-6D53618388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yered Video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ed encod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wavelet 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Layered Multicast (RL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each layer to a different grou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 subscribe to the groups they can “aff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 to learn if you can afford next higher group/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rt Packet Dropper (multicast or unic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ayers to send/drop based on observed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directly or use RTP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86F-C8E3-44B0-8F11-BCE722AFBD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al-Time Schedul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Monotonic (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tional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djustments for dead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CE8-6F9A-45CF-84EA-B4891CD49E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ression Overvie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and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ffman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executables, text files, numer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ceived does not !=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images, video,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239-C535-4C90-B1DB-F601EC77CB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ssless Algorithm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Length Encoding  (R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AABBCDDDD encoding as 3A2B1C4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canned text (8-to-1 compression rat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rease size for data with variation (e.g., some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Pulse Code Modulation (DP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AABBCDDDD encoding as A000112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reference symbol if delta become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tter than RLE for many digital images (1.5-to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F06-C4A1-4A6D-831A-F6D287652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ctionary-Based Method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dictionary of common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length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index into dictionary for each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mpel-Ziv (LZ) is the best-know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achieve 2-to-1 ration o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of LZ used to compress GIF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duce  24-bit color to 8-bit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common sequence of pixels as terms in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common to achieve 10-to-1 compressio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A7A-BA75-43E4-AF75-1457E3D914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age Compress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: Joint Photographic Expert Group (ISO/I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y still-image com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h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in 8x8 block chunks (macro-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scale: each pixel is three values (YU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T: transforms signal from spatial domain into and equivalent signal in the frequency domain (loss-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 quantization to the results (loss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LE-like encoding (loss-le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7x11" descr=""/>
          <p:cNvPicPr/>
          <p:nvPr/>
        </p:nvPicPr>
        <p:blipFill>
          <a:blip r:embed="rId1"/>
          <a:stretch/>
        </p:blipFill>
        <p:spPr>
          <a:xfrm>
            <a:off x="1523880" y="2752560"/>
            <a:ext cx="632484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AA8-1A07-4552-85BA-C60A852878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ntization and Enco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     5     7     9     11   13   15   1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7     9     11   13   15   17   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     9     11   13   15   17   19   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     11   13   15   17   19   21   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   13   15   17   19   21   23   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   15   17   19   21   23   25   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   17   19   21   23   25   27   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   19   21   23   25   27   29   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7x12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25A-18D9-4BAF-9BC0-AEAE8B1149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Picture Exper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y compression of vid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pproximation: JPEG on each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 inter-frame redunda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CE7-6500-430D-AD9D-4A4154C597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rames: intra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frames: predicte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frames: bidirectional predicted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sequence transmitted as I P B B I B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7x13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800600" cy="24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03D-46DB-41C4-8E6D-6496E71F67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PEG (co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and P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for the macroblock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previous reference frame (B,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vector relative to subsequent reference fram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or each pixel in the macro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9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igh as 150-to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to-1 for I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and B frames get another 3 to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19F-C2E7-4A54-B0BA-B145495A59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22:46:17Z</dcterms:created>
  <dc:creator>klp</dc:creator>
  <dc:description/>
  <dc:language>en-US</dc:language>
  <cp:lastModifiedBy>Elsevier</cp:lastModifiedBy>
  <cp:lastPrinted>2000-02-25T19:26:04Z</cp:lastPrinted>
  <dcterms:modified xsi:type="dcterms:W3CDTF">2003-11-06T23:39:27Z</dcterms:modified>
  <cp:revision>13</cp:revision>
  <dc:subject/>
  <dc:title>No Slide Title</dc:title>
</cp:coreProperties>
</file>