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180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90E9-9FA2-4BBB-8757-C85F7BA4BF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overview of static resource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= validate header,  addr cache lookup, TTL, checksum, choose des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o “basic IP” instr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look at how fast the processin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16 = 24, and all are multiples o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oils down to problem central to HW fabrics : queuing 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-to-one correspondence of queues and outpu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bounded b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still bounded b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because extra output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nteresting to combine the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hose 16 queues per output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oS priorities – fairly 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still bounded by outpu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l contexts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e por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uns as fast as contexts can go, no wa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not at Princeton and cannot afford infinite port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contexts block on wait_for_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blocking on wait_for_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extra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 context to packe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different packe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instr budget, what fits in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to explain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A is within resource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view of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job: IP packets IN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few packets require extra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estined for router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traffic reflected in these two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PS to meet these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: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g: complementary mechanism , dyna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introduced a pipeline, producer/consu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, can not always perfectly 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, if share all smaller, queue full, go to 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s goes to consu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specif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set the process shares along the pip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some knowledge of forwarding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anna s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qos, can we make our commi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, good use of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xample is link bound wanna study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e cpu h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ching became the k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 time, only very fewer process is elig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s used to forwarding packets as oppos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w and polling empty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ndle varying workload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off between performance and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: the batch number depends on the processing cost of th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is: when schedule a flow with at least bi backlog, the csw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ed will add no more than t%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 for latency sensitive flows time out sc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e approach mapping logical to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C, single CP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ple of advant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iginally works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nt trend: proxies, firewalls, QoS, etc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 what you pay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fficult to secure against DoS atta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ample: control over data OR data over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other appro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b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 bad traffic patterns, all packets at LINE SPEED guaranteed basic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w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rdcode common case packet assum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wrong, same boat as prev sl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ainst recent trend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more packets want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our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Network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for “best of both worl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P is processor, you ca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e ta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Data Plane, but don’t forget Control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31F-7BF1-42E1-90A9-3E974439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A0E-9E7A-449B-9BFD-5F811CB7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0C7-371F-4DE1-9A5B-491EAFE0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CEB-4FD5-4DC9-B2A8-2B0DAA44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31F6-942D-49F5-9B19-BDEC93BB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FAD0-82F4-496D-B298-0CA4F7AE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781C-5249-4342-919E-1F86DD9C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BC47-F7F4-4853-A91E-3E794FEA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F229-8C35-4760-9E55-AE14E31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679-A4A4-423E-B0A3-1DF9C3FB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93D4-E01F-4D9C-B919-354E995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10D-D050-4367-A53E-C304940F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63B2-4AD0-4D1B-9893-762A262D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CB8F-8749-4777-A08B-30BEA636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759C-6D62-4A2D-B7DE-850423FB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4193-25E5-4462-BA4F-867E9D8F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FA8-A38C-43A7-870A-252372ED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3D6-E8A9-4AB8-8C1F-7B6D66C3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D0E-22A3-4C21-8B9A-C28A6A73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8C7-A93F-4E13-8698-BFEAC6FD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109-071B-4093-AD13-49CEE928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E6C-DC4C-442B-92DF-3ED8565F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61B-C2DA-436D-9BFE-9F3A72E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398-DE1A-446C-87E4-7BE313B1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4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BFEA-A1BE-49E1-B45E-0BFB336C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Router Construction II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F129-5D29-477B-BF97-BEAD2DEDD1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imple Exampl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066680" y="2666880"/>
            <a:ext cx="6704640" cy="1771920"/>
            <a:chOff x="1066680" y="2666880"/>
            <a:chExt cx="6704640" cy="1771920"/>
          </a:xfrm>
        </p:grpSpPr>
        <p:grpSp>
          <p:nvGrpSpPr>
            <p:cNvPr id="311" name=""/>
            <p:cNvGrpSpPr/>
            <p:nvPr/>
          </p:nvGrpSpPr>
          <p:grpSpPr>
            <a:xfrm>
              <a:off x="5564160" y="2852640"/>
              <a:ext cx="2207160" cy="1586160"/>
              <a:chOff x="5564160" y="2852640"/>
              <a:chExt cx="2207160" cy="158616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7199280" y="3462840"/>
                <a:ext cx="572040" cy="365760"/>
                <a:chOff x="7199280" y="3462840"/>
                <a:chExt cx="572040" cy="3657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199280" y="3462840"/>
                  <a:ext cx="57204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8996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36272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4444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0788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52616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9928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564160" y="4073040"/>
                <a:ext cx="571680" cy="365760"/>
                <a:chOff x="5564160" y="4073040"/>
                <a:chExt cx="571680" cy="3657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564160" y="4073040"/>
                  <a:ext cx="57168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05448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72724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80932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97276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89068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56416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564160" y="3462840"/>
                <a:ext cx="571680" cy="365760"/>
                <a:chOff x="5564160" y="3462840"/>
                <a:chExt cx="571680" cy="3657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564160" y="3462840"/>
                  <a:ext cx="57168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5448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2724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80932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97276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89068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56416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564160" y="2852640"/>
                <a:ext cx="571680" cy="365760"/>
                <a:chOff x="5564160" y="2852640"/>
                <a:chExt cx="571680" cy="3657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564160" y="2852640"/>
                  <a:ext cx="57168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05448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2724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80932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97276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89068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56416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6136200" y="3646440"/>
                <a:ext cx="106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36200" y="4256640"/>
                <a:ext cx="16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36200" y="3035160"/>
                <a:ext cx="16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300000" y="3646080"/>
                <a:ext cx="326520" cy="61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00000" y="3035160"/>
                <a:ext cx="326520" cy="61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066680" y="2852640"/>
              <a:ext cx="2125080" cy="1586160"/>
              <a:chOff x="1066680" y="2852640"/>
              <a:chExt cx="2125080" cy="158616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1066680" y="3463200"/>
                <a:ext cx="571680" cy="365760"/>
                <a:chOff x="1066680" y="3463200"/>
                <a:chExt cx="571680" cy="3657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066680" y="3463200"/>
                  <a:ext cx="57168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55700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22976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31184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7528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39320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6668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19720" y="3463200"/>
                <a:ext cx="572040" cy="365760"/>
                <a:chOff x="2619720" y="3463200"/>
                <a:chExt cx="572040" cy="365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19720" y="3463200"/>
                  <a:ext cx="57204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11040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78316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86488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2832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94660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1972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1638720" y="3646080"/>
                <a:ext cx="98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2129040" y="2852640"/>
                <a:ext cx="1062360" cy="365400"/>
                <a:chOff x="2129040" y="2852640"/>
                <a:chExt cx="1062360" cy="36540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2619360" y="2852640"/>
                  <a:ext cx="572040" cy="365400"/>
                  <a:chOff x="2619360" y="2852640"/>
                  <a:chExt cx="572040" cy="3654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619360" y="2852640"/>
                    <a:ext cx="572040" cy="365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11004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78280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86452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02796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94624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61936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>
                  <a:off x="2129040" y="3035880"/>
                  <a:ext cx="490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129040" y="4073400"/>
                <a:ext cx="1062360" cy="365400"/>
                <a:chOff x="2129040" y="4073400"/>
                <a:chExt cx="1062360" cy="3654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619360" y="4073400"/>
                  <a:ext cx="572040" cy="365400"/>
                  <a:chOff x="2619360" y="4073400"/>
                  <a:chExt cx="572040" cy="3654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2619360" y="4073400"/>
                    <a:ext cx="572040" cy="365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11004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78280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86452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02796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94624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61936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>
                  <a:off x="2129040" y="4256640"/>
                  <a:ext cx="490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 flipH="1" flipV="1">
                <a:off x="1802160" y="3646080"/>
                <a:ext cx="326520" cy="61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1802520" y="3035880"/>
                <a:ext cx="32652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3192480" y="3035520"/>
              <a:ext cx="23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92480" y="3645720"/>
              <a:ext cx="23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92480" y="4257000"/>
              <a:ext cx="23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89680" y="266688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78360" y="327708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48160" y="3887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e 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F72-B067-45DD-A8C9-52673C35B6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762120" y="2133720"/>
            <a:ext cx="6095880" cy="3581280"/>
          </a:xfrm>
          <a:custGeom>
            <a:avLst/>
            <a:gdLst/>
            <a:ahLst/>
            <a:rect l="l" t="t" r="r" b="b"/>
            <a:pathLst>
              <a:path w="3840" h="2256">
                <a:moveTo>
                  <a:pt x="3792" y="0"/>
                </a:moveTo>
                <a:lnTo>
                  <a:pt x="0" y="0"/>
                </a:lnTo>
                <a:lnTo>
                  <a:pt x="0" y="768"/>
                </a:lnTo>
                <a:lnTo>
                  <a:pt x="1296" y="768"/>
                </a:lnTo>
                <a:lnTo>
                  <a:pt x="1296" y="2256"/>
                </a:lnTo>
                <a:lnTo>
                  <a:pt x="3840" y="2256"/>
                </a:lnTo>
                <a:lnTo>
                  <a:pt x="3840" y="0"/>
                </a:lnTo>
                <a:lnTo>
                  <a:pt x="3792" y="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Intel IX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14400" y="2730600"/>
            <a:ext cx="1143000" cy="507960"/>
            <a:chOff x="914400" y="2730600"/>
            <a:chExt cx="1143000" cy="507960"/>
          </a:xfrm>
        </p:grpSpPr>
        <p:sp>
          <p:nvSpPr>
            <p:cNvPr id="398" name=""/>
            <p:cNvSpPr/>
            <p:nvPr/>
          </p:nvSpPr>
          <p:spPr>
            <a:xfrm>
              <a:off x="914400" y="2730600"/>
              <a:ext cx="1143000" cy="5079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7960" y="2832120"/>
              <a:ext cx="8748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ra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914400" y="3505320"/>
            <a:ext cx="1143000" cy="507960"/>
            <a:chOff x="914400" y="3505320"/>
            <a:chExt cx="1143000" cy="507960"/>
          </a:xfrm>
        </p:grpSpPr>
        <p:sp>
          <p:nvSpPr>
            <p:cNvPr id="401" name=""/>
            <p:cNvSpPr/>
            <p:nvPr/>
          </p:nvSpPr>
          <p:spPr>
            <a:xfrm>
              <a:off x="914400" y="3505320"/>
              <a:ext cx="1143000" cy="5079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47960" y="3606840"/>
              <a:ext cx="8748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914400" y="4267080"/>
            <a:ext cx="1143000" cy="507960"/>
            <a:chOff x="914400" y="4267080"/>
            <a:chExt cx="1143000" cy="507960"/>
          </a:xfrm>
        </p:grpSpPr>
        <p:sp>
          <p:nvSpPr>
            <p:cNvPr id="404" name=""/>
            <p:cNvSpPr/>
            <p:nvPr/>
          </p:nvSpPr>
          <p:spPr>
            <a:xfrm>
              <a:off x="914400" y="4267080"/>
              <a:ext cx="1143000" cy="5079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47960" y="4368600"/>
              <a:ext cx="8748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048120" y="2362320"/>
            <a:ext cx="1493280" cy="1454040"/>
            <a:chOff x="3048120" y="2362320"/>
            <a:chExt cx="1493280" cy="1454040"/>
          </a:xfrm>
        </p:grpSpPr>
        <p:sp>
          <p:nvSpPr>
            <p:cNvPr id="407" name=""/>
            <p:cNvSpPr/>
            <p:nvPr/>
          </p:nvSpPr>
          <p:spPr>
            <a:xfrm>
              <a:off x="3048120" y="2362320"/>
              <a:ext cx="103644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39920" y="2459160"/>
              <a:ext cx="1036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32080" y="2556000"/>
              <a:ext cx="1036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22440" y="2652840"/>
              <a:ext cx="1036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14600" y="2749680"/>
              <a:ext cx="1036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04960" y="2844720"/>
              <a:ext cx="1036440" cy="9716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 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g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048120" y="4114800"/>
            <a:ext cx="1495440" cy="1438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16240" y="46814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133720" y="2971440"/>
            <a:ext cx="838080" cy="1524240"/>
            <a:chOff x="2133720" y="2971440"/>
            <a:chExt cx="838080" cy="1524240"/>
          </a:xfrm>
        </p:grpSpPr>
        <p:sp>
          <p:nvSpPr>
            <p:cNvPr id="416" name=""/>
            <p:cNvSpPr/>
            <p:nvPr/>
          </p:nvSpPr>
          <p:spPr>
            <a:xfrm>
              <a:off x="2133720" y="2971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3720" y="44956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133720" y="2971440"/>
              <a:ext cx="8380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33720" y="2971800"/>
              <a:ext cx="8380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2133720" y="2971440"/>
              <a:ext cx="838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3720" y="3733920"/>
              <a:ext cx="838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334120" y="2590920"/>
            <a:ext cx="1066680" cy="685800"/>
            <a:chOff x="5334120" y="2590920"/>
            <a:chExt cx="1066680" cy="685800"/>
          </a:xfrm>
        </p:grpSpPr>
        <p:sp>
          <p:nvSpPr>
            <p:cNvPr id="423" name=""/>
            <p:cNvSpPr/>
            <p:nvPr/>
          </p:nvSpPr>
          <p:spPr>
            <a:xfrm>
              <a:off x="5715000" y="259092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43600" y="259092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72200" y="259092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34120" y="25909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334120" y="32767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33760" y="3428640"/>
            <a:ext cx="1066680" cy="685800"/>
            <a:chOff x="5333760" y="3428640"/>
            <a:chExt cx="1066680" cy="685800"/>
          </a:xfrm>
        </p:grpSpPr>
        <p:sp>
          <p:nvSpPr>
            <p:cNvPr id="429" name=""/>
            <p:cNvSpPr/>
            <p:nvPr/>
          </p:nvSpPr>
          <p:spPr>
            <a:xfrm rot="10800000">
              <a:off x="5790960" y="342864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0800000">
              <a:off x="5562360" y="342864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800000">
              <a:off x="5333760" y="342864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560" y="41144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19560" y="34286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647960" y="2895480"/>
            <a:ext cx="609480" cy="914400"/>
            <a:chOff x="4647960" y="2895480"/>
            <a:chExt cx="609480" cy="914400"/>
          </a:xfrm>
        </p:grpSpPr>
        <p:sp>
          <p:nvSpPr>
            <p:cNvPr id="435" name=""/>
            <p:cNvSpPr/>
            <p:nvPr/>
          </p:nvSpPr>
          <p:spPr>
            <a:xfrm flipH="1">
              <a:off x="4647960" y="289548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647960" y="335268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477120" y="2692440"/>
            <a:ext cx="609480" cy="914400"/>
            <a:chOff x="6477120" y="2692440"/>
            <a:chExt cx="609480" cy="914400"/>
          </a:xfrm>
        </p:grpSpPr>
        <p:sp>
          <p:nvSpPr>
            <p:cNvPr id="438" name=""/>
            <p:cNvSpPr/>
            <p:nvPr/>
          </p:nvSpPr>
          <p:spPr>
            <a:xfrm flipV="1">
              <a:off x="6477120" y="314964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269244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238880" y="193032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238880" y="2235240"/>
            <a:ext cx="533520" cy="304920"/>
            <a:chOff x="7238880" y="2235240"/>
            <a:chExt cx="533520" cy="304920"/>
          </a:xfrm>
        </p:grpSpPr>
        <p:sp>
          <p:nvSpPr>
            <p:cNvPr id="442" name=""/>
            <p:cNvSpPr/>
            <p:nvPr/>
          </p:nvSpPr>
          <p:spPr>
            <a:xfrm>
              <a:off x="7238880" y="2387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67480" y="2235240"/>
              <a:ext cx="304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238880" y="2616120"/>
            <a:ext cx="533520" cy="304920"/>
            <a:chOff x="7238880" y="2616120"/>
            <a:chExt cx="533520" cy="304920"/>
          </a:xfrm>
        </p:grpSpPr>
        <p:sp>
          <p:nvSpPr>
            <p:cNvPr id="445" name=""/>
            <p:cNvSpPr/>
            <p:nvPr/>
          </p:nvSpPr>
          <p:spPr>
            <a:xfrm>
              <a:off x="7238880" y="2768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67480" y="2616120"/>
              <a:ext cx="304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38880" y="3835440"/>
            <a:ext cx="533520" cy="304920"/>
            <a:chOff x="7238880" y="3835440"/>
            <a:chExt cx="533520" cy="304920"/>
          </a:xfrm>
        </p:grpSpPr>
        <p:sp>
          <p:nvSpPr>
            <p:cNvPr id="448" name=""/>
            <p:cNvSpPr/>
            <p:nvPr/>
          </p:nvSpPr>
          <p:spPr>
            <a:xfrm>
              <a:off x="7238880" y="3987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67480" y="3835440"/>
              <a:ext cx="304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238880" y="4216320"/>
            <a:ext cx="533520" cy="304920"/>
            <a:chOff x="7238880" y="4216320"/>
            <a:chExt cx="533520" cy="304920"/>
          </a:xfrm>
        </p:grpSpPr>
        <p:sp>
          <p:nvSpPr>
            <p:cNvPr id="451" name=""/>
            <p:cNvSpPr/>
            <p:nvPr/>
          </p:nvSpPr>
          <p:spPr>
            <a:xfrm>
              <a:off x="7238880" y="4368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7480" y="4216320"/>
              <a:ext cx="304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7620120" y="3073320"/>
            <a:ext cx="0" cy="6858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760" y="411480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6720120" y="473616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X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7454520" y="32371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61640" y="54100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XP1200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48320" y="4673520"/>
            <a:ext cx="761760" cy="1575000"/>
          </a:xfrm>
          <a:prstGeom prst="downArrow">
            <a:avLst>
              <a:gd name="adj1" fmla="val 50000"/>
              <a:gd name="adj2" fmla="val 5169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4598640" y="5446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I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36C-7051-41DA-8E3A-C8AB8F9B8B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495680" y="27432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rocessor Hierarch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4419720"/>
            <a:ext cx="2438280" cy="76176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1981080"/>
            <a:ext cx="2438280" cy="7621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nt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200400"/>
            <a:ext cx="2438280" cy="7621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ong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86200" y="5028840"/>
            <a:ext cx="0" cy="685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5029200"/>
            <a:ext cx="1219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5029200"/>
            <a:ext cx="0" cy="6858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657600" y="3809880"/>
            <a:ext cx="0" cy="19051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3809880"/>
            <a:ext cx="0" cy="1905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429000" y="251460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29000" y="25146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62720" y="251460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BCB-F7F3-4CF1-8BB8-77BA9FF6B4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ta Plane Pipelin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743200" y="1724040"/>
            <a:ext cx="762120" cy="2895120"/>
            <a:chOff x="2743200" y="1724040"/>
            <a:chExt cx="762120" cy="2895120"/>
          </a:xfrm>
        </p:grpSpPr>
        <p:sp>
          <p:nvSpPr>
            <p:cNvPr id="476" name=""/>
            <p:cNvSpPr/>
            <p:nvPr/>
          </p:nvSpPr>
          <p:spPr>
            <a:xfrm>
              <a:off x="2743200" y="172404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43200" y="20286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43200" y="2333520"/>
              <a:ext cx="762120" cy="761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43200" y="263808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43200" y="29430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43200" y="3247920"/>
              <a:ext cx="762120" cy="761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43200" y="355248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43200" y="38574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638680" y="1724040"/>
            <a:ext cx="762120" cy="2895120"/>
            <a:chOff x="5638680" y="1724040"/>
            <a:chExt cx="762120" cy="2895120"/>
          </a:xfrm>
        </p:grpSpPr>
        <p:sp>
          <p:nvSpPr>
            <p:cNvPr id="485" name=""/>
            <p:cNvSpPr/>
            <p:nvPr/>
          </p:nvSpPr>
          <p:spPr>
            <a:xfrm>
              <a:off x="5638680" y="172404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38680" y="202860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38680" y="2333520"/>
              <a:ext cx="762120" cy="761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263808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38680" y="294300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38680" y="3247920"/>
              <a:ext cx="762120" cy="761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8680" y="355248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38680" y="385740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962520" y="1800360"/>
            <a:ext cx="1143000" cy="106668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uff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62520" y="3476520"/>
            <a:ext cx="1143000" cy="106704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ueu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0" y="31719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31719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3933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933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2333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2333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89480" y="340200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O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26680" y="340200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O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79680" y="463248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98920" y="463248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858000" y="2943360"/>
            <a:ext cx="1371600" cy="457200"/>
            <a:chOff x="6858000" y="2943360"/>
            <a:chExt cx="1371600" cy="457200"/>
          </a:xfrm>
        </p:grpSpPr>
        <p:sp>
          <p:nvSpPr>
            <p:cNvPr id="506" name=""/>
            <p:cNvSpPr/>
            <p:nvPr/>
          </p:nvSpPr>
          <p:spPr>
            <a:xfrm>
              <a:off x="6858000" y="294336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1064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152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6784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01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724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504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773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838080" y="2943360"/>
            <a:ext cx="1371600" cy="457200"/>
            <a:chOff x="838080" y="2943360"/>
            <a:chExt cx="1371600" cy="457200"/>
          </a:xfrm>
        </p:grpSpPr>
        <p:sp>
          <p:nvSpPr>
            <p:cNvPr id="516" name=""/>
            <p:cNvSpPr/>
            <p:nvPr/>
          </p:nvSpPr>
          <p:spPr>
            <a:xfrm>
              <a:off x="838080" y="294336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907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430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528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479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002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248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574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914400" y="5562720"/>
            <a:ext cx="7315200" cy="457200"/>
            <a:chOff x="914400" y="5562720"/>
            <a:chExt cx="7315200" cy="457200"/>
          </a:xfrm>
        </p:grpSpPr>
        <p:sp>
          <p:nvSpPr>
            <p:cNvPr id="526" name=""/>
            <p:cNvSpPr/>
            <p:nvPr/>
          </p:nvSpPr>
          <p:spPr>
            <a:xfrm>
              <a:off x="91440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4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09880" y="57913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9552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7664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5776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3888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91000" y="57913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72120" y="57913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53240" y="57913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3BA-6D80-41DC-A728-4DD39023A7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ta Plane Process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1905120"/>
            <a:ext cx="371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_for_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in_fifo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asic_IP_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last_frag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57760" y="1905120"/>
            <a:ext cx="40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eed_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_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out_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500-CD6D-4656-BC38-156F128982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 rot="21047400">
            <a:off x="2514600" y="3849840"/>
            <a:ext cx="1523880" cy="4572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547560" y="1844640"/>
          <a:ext cx="6843960" cy="48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844640"/>
                    <a:ext cx="684396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ipeline Evalu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38320" y="419076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 Eth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142Mp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638680" y="251460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independen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B47-2FCB-40A6-8126-3B9C8C3C19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What We Measured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context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input / 8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inite offered 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4-byte (minimum-sized) IP pa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different queuing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07E-C406-418E-A5E7-B73505365C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ingle Protected Queu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4405320"/>
            <a:ext cx="777240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synchr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 3.47 Mp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ion lower bound 1.67 Mp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281952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49800" y="30481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87520" y="19432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466800" y="2895120"/>
            <a:ext cx="457560" cy="304920"/>
            <a:chOff x="3466800" y="2895120"/>
            <a:chExt cx="457560" cy="304920"/>
          </a:xfrm>
        </p:grpSpPr>
        <p:sp>
          <p:nvSpPr>
            <p:cNvPr id="552" name=""/>
            <p:cNvSpPr/>
            <p:nvPr/>
          </p:nvSpPr>
          <p:spPr>
            <a:xfrm flipH="1" rot="10800000">
              <a:off x="3630240" y="289512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10800000">
              <a:off x="3728160" y="289512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10800000">
              <a:off x="3826440" y="289512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466800" y="320004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3466800" y="289512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2387520" y="25336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87520" y="369576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40160" y="312408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40160" y="340992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2895480" y="2171520"/>
            <a:ext cx="4572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2971800" y="278100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895480" y="339084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00080" y="327816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638680" y="2819520"/>
            <a:ext cx="1371600" cy="457200"/>
            <a:chOff x="5638680" y="2819520"/>
            <a:chExt cx="1371600" cy="457200"/>
          </a:xfrm>
        </p:grpSpPr>
        <p:sp>
          <p:nvSpPr>
            <p:cNvPr id="566" name=""/>
            <p:cNvSpPr/>
            <p:nvPr/>
          </p:nvSpPr>
          <p:spPr>
            <a:xfrm>
              <a:off x="5638680" y="281952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913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36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9588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485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008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5308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057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580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038480" y="304812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0F1-6B99-4AAE-8CFE-B1E9F1E9B0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Multiple Private Queu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4405320"/>
            <a:ext cx="777240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must select que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 3.29 Mp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281952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54720" y="3048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71720" y="2018880"/>
            <a:ext cx="457560" cy="304920"/>
            <a:chOff x="3771720" y="2018880"/>
            <a:chExt cx="457560" cy="304920"/>
          </a:xfrm>
        </p:grpSpPr>
        <p:sp>
          <p:nvSpPr>
            <p:cNvPr id="581" name=""/>
            <p:cNvSpPr/>
            <p:nvPr/>
          </p:nvSpPr>
          <p:spPr>
            <a:xfrm flipH="1" rot="10800000">
              <a:off x="393516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rot="10800000">
              <a:off x="403308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rot="10800000">
              <a:off x="413136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3771720" y="232380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3771720" y="201888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2692440" y="19432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70240" y="21718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771720" y="2610000"/>
            <a:ext cx="457560" cy="304560"/>
            <a:chOff x="3771720" y="2610000"/>
            <a:chExt cx="457560" cy="304560"/>
          </a:xfrm>
        </p:grpSpPr>
        <p:sp>
          <p:nvSpPr>
            <p:cNvPr id="589" name=""/>
            <p:cNvSpPr/>
            <p:nvPr/>
          </p:nvSpPr>
          <p:spPr>
            <a:xfrm flipH="1" rot="10800000">
              <a:off x="393516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10800000">
              <a:off x="403308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rot="10800000">
              <a:off x="413136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771720" y="291456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771720" y="261000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2692440" y="25336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70240" y="27622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771720" y="3772080"/>
            <a:ext cx="457560" cy="304560"/>
            <a:chOff x="3771720" y="3772080"/>
            <a:chExt cx="457560" cy="304560"/>
          </a:xfrm>
        </p:grpSpPr>
        <p:sp>
          <p:nvSpPr>
            <p:cNvPr id="597" name=""/>
            <p:cNvSpPr/>
            <p:nvPr/>
          </p:nvSpPr>
          <p:spPr>
            <a:xfrm flipH="1" rot="10800000">
              <a:off x="393516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rot="10800000">
              <a:off x="403308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rot="10800000">
              <a:off x="413136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771720" y="407664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771720" y="377208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692440" y="369576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70240" y="392436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44720" y="3124080"/>
            <a:ext cx="15264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44720" y="340992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4356000" y="2171520"/>
            <a:ext cx="4572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4432320" y="278100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356000" y="339084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805000" y="327816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943600" y="2819520"/>
            <a:ext cx="1371600" cy="457200"/>
            <a:chOff x="5943600" y="2819520"/>
            <a:chExt cx="1371600" cy="457200"/>
          </a:xfrm>
        </p:grpSpPr>
        <p:sp>
          <p:nvSpPr>
            <p:cNvPr id="611" name=""/>
            <p:cNvSpPr/>
            <p:nvPr/>
          </p:nvSpPr>
          <p:spPr>
            <a:xfrm>
              <a:off x="5943600" y="281952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62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485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008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5534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057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580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0106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629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A39-4CE6-4854-B9DA-27BE8F109F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Multiple Protected Queu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440" y="4405320"/>
            <a:ext cx="800100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must select que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QoS scheduling (16 priority level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 3.29 Mp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5180040" y="281952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57840" y="3048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074840" y="2018880"/>
            <a:ext cx="457560" cy="304920"/>
            <a:chOff x="4074840" y="2018880"/>
            <a:chExt cx="457560" cy="304920"/>
          </a:xfrm>
        </p:grpSpPr>
        <p:sp>
          <p:nvSpPr>
            <p:cNvPr id="625" name=""/>
            <p:cNvSpPr/>
            <p:nvPr/>
          </p:nvSpPr>
          <p:spPr>
            <a:xfrm flipH="1" rot="10800000">
              <a:off x="423828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rot="10800000">
              <a:off x="433620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10800000">
              <a:off x="443448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074840" y="232380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074840" y="201888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2286000" y="19432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074840" y="2610000"/>
            <a:ext cx="457560" cy="304560"/>
            <a:chOff x="4074840" y="2610000"/>
            <a:chExt cx="457560" cy="304560"/>
          </a:xfrm>
        </p:grpSpPr>
        <p:sp>
          <p:nvSpPr>
            <p:cNvPr id="632" name=""/>
            <p:cNvSpPr/>
            <p:nvPr/>
          </p:nvSpPr>
          <p:spPr>
            <a:xfrm flipH="1" rot="10800000">
              <a:off x="423828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rot="10800000">
              <a:off x="433620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rot="10800000">
              <a:off x="443448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074840" y="291456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4074840" y="261000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2286000" y="25336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074840" y="3772080"/>
            <a:ext cx="457560" cy="304560"/>
            <a:chOff x="4074840" y="3772080"/>
            <a:chExt cx="457560" cy="304560"/>
          </a:xfrm>
        </p:grpSpPr>
        <p:sp>
          <p:nvSpPr>
            <p:cNvPr id="639" name=""/>
            <p:cNvSpPr/>
            <p:nvPr/>
          </p:nvSpPr>
          <p:spPr>
            <a:xfrm flipH="1" rot="10800000">
              <a:off x="423828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800000">
              <a:off x="433620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rot="10800000">
              <a:off x="443448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4074840" y="407664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4074840" y="377208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286000" y="369576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38280" y="3124080"/>
            <a:ext cx="15264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340992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4659480" y="2171520"/>
            <a:ext cx="4572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4735080" y="278100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659480" y="339084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08120" y="327816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6246720" y="2819520"/>
            <a:ext cx="1371600" cy="457200"/>
            <a:chOff x="6246720" y="2819520"/>
            <a:chExt cx="1371600" cy="457200"/>
          </a:xfrm>
        </p:grpSpPr>
        <p:sp>
          <p:nvSpPr>
            <p:cNvPr id="652" name=""/>
            <p:cNvSpPr/>
            <p:nvPr/>
          </p:nvSpPr>
          <p:spPr>
            <a:xfrm>
              <a:off x="6246720" y="281952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9936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516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039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5656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088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611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1376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660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95480" y="213372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2133720"/>
            <a:ext cx="11430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95480" y="2133720"/>
            <a:ext cx="114300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895480" y="2133360"/>
            <a:ext cx="106704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2743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95480" y="2743200"/>
            <a:ext cx="114300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895480" y="2133720"/>
            <a:ext cx="106704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895480" y="2742840"/>
            <a:ext cx="114300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39625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38D-8DF4-4A71-B37C-BBE29F342F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Observa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erging commodity components can be used to build IP rou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ing fabrics, network processors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rs are being asked to support a growing array of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s, proxies, p2p nets, overlays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720-F8B9-44C7-A3E3-48613AEF4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ta Plane Process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609480" y="1676520"/>
            <a:ext cx="371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_for_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in_fifo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asic_IP_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last_frag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57760" y="1676520"/>
            <a:ext cx="40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eed_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_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out_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330-6C9F-423D-B64F-65B0C72E34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ycles to Wast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1676520"/>
            <a:ext cx="371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_for_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in_fifo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asic_IP_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last_frag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57760" y="1676520"/>
            <a:ext cx="40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eed_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_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out_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7E8-8ED9-4676-AB54-BF26E4A2EB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How Many “NOPs” Possible?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685800" y="1698480"/>
          <a:ext cx="7696080" cy="45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98480"/>
                    <a:ext cx="7696080" cy="45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80040" y="384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316240" y="2362320"/>
            <a:ext cx="5333760" cy="1795320"/>
            <a:chOff x="2316240" y="2362320"/>
            <a:chExt cx="5333760" cy="1795320"/>
          </a:xfrm>
        </p:grpSpPr>
        <p:sp>
          <p:nvSpPr>
            <p:cNvPr id="681" name=""/>
            <p:cNvSpPr/>
            <p:nvPr/>
          </p:nvSpPr>
          <p:spPr>
            <a:xfrm>
              <a:off x="2316240" y="4157640"/>
              <a:ext cx="533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44120" y="2362320"/>
              <a:ext cx="322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XP1200 Evalualtion 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.2 Mpps = 8x100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288-23C9-4E7F-86B0-FFA0BDD98A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ta Plane Extens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139760" y="1827360"/>
          <a:ext cx="6755040" cy="443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827360"/>
                    <a:ext cx="675504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0ED-1760-47F6-85DB-9CAC8D3C58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ontrol and Data Plan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295280" y="2133720"/>
            <a:ext cx="6858000" cy="380880"/>
            <a:chOff x="1295280" y="2133720"/>
            <a:chExt cx="6858000" cy="380880"/>
          </a:xfrm>
        </p:grpSpPr>
        <p:grpSp>
          <p:nvGrpSpPr>
            <p:cNvPr id="688" name=""/>
            <p:cNvGrpSpPr/>
            <p:nvPr/>
          </p:nvGrpSpPr>
          <p:grpSpPr>
            <a:xfrm>
              <a:off x="7467480" y="2133720"/>
              <a:ext cx="685800" cy="380880"/>
              <a:chOff x="7467480" y="2133720"/>
              <a:chExt cx="685800" cy="380880"/>
            </a:xfrm>
          </p:grpSpPr>
          <p:sp>
            <p:nvSpPr>
              <p:cNvPr id="689" name=""/>
              <p:cNvSpPr/>
              <p:nvPr/>
            </p:nvSpPr>
            <p:spPr>
              <a:xfrm>
                <a:off x="7467480" y="213372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00100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4836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9608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7480" y="213372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1295280" y="2133720"/>
              <a:ext cx="685800" cy="380880"/>
              <a:chOff x="1295280" y="2133720"/>
              <a:chExt cx="685800" cy="380880"/>
            </a:xfrm>
          </p:grpSpPr>
          <p:sp>
            <p:nvSpPr>
              <p:cNvPr id="695" name=""/>
              <p:cNvSpPr/>
              <p:nvPr/>
            </p:nvSpPr>
            <p:spPr>
              <a:xfrm>
                <a:off x="1295280" y="213372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2880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7616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52388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295280" y="213372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2133360" y="2324160"/>
              <a:ext cx="533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295280" y="4876920"/>
            <a:ext cx="6858000" cy="380880"/>
            <a:chOff x="1295280" y="4876920"/>
            <a:chExt cx="6858000" cy="380880"/>
          </a:xfrm>
        </p:grpSpPr>
        <p:grpSp>
          <p:nvGrpSpPr>
            <p:cNvPr id="702" name=""/>
            <p:cNvGrpSpPr/>
            <p:nvPr/>
          </p:nvGrpSpPr>
          <p:grpSpPr>
            <a:xfrm>
              <a:off x="7467480" y="4876920"/>
              <a:ext cx="685800" cy="380880"/>
              <a:chOff x="7467480" y="4876920"/>
              <a:chExt cx="685800" cy="380880"/>
            </a:xfrm>
          </p:grpSpPr>
          <p:sp>
            <p:nvSpPr>
              <p:cNvPr id="703" name=""/>
              <p:cNvSpPr/>
              <p:nvPr/>
            </p:nvSpPr>
            <p:spPr>
              <a:xfrm>
                <a:off x="7467480" y="487692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0100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84836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69608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480" y="487692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1295280" y="4876920"/>
              <a:ext cx="685800" cy="380880"/>
              <a:chOff x="1295280" y="4876920"/>
              <a:chExt cx="685800" cy="380880"/>
            </a:xfrm>
          </p:grpSpPr>
          <p:sp>
            <p:nvSpPr>
              <p:cNvPr id="709" name=""/>
              <p:cNvSpPr/>
              <p:nvPr/>
            </p:nvSpPr>
            <p:spPr>
              <a:xfrm>
                <a:off x="1295280" y="487692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2880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7616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2388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295280" y="487692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2133360" y="5067360"/>
              <a:ext cx="533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713040" y="464328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rt  Dro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37760" y="190656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ed Video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83600" y="227160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trol pl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17880" y="50734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ata pl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78200" y="3048120"/>
            <a:ext cx="159696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608200"/>
            <a:ext cx="0" cy="439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4114800"/>
            <a:ext cx="0" cy="439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676-B46C-4943-8076-8115D883A1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What About the StrongARM?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s memory bus with Micro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respect resource bu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XP1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entium 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MicroEng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might be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within bu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it instruction and data c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recommend aga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Lin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D29-E69F-4F22-88E2-A01CBA258E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erformanc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4495680" y="30481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76720" y="4724280"/>
            <a:ext cx="2438280" cy="76212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Eng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276720" y="2286000"/>
            <a:ext cx="2438280" cy="7621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3505320"/>
            <a:ext cx="2438280" cy="7617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5334120"/>
            <a:ext cx="1219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05520" y="5334120"/>
            <a:ext cx="0" cy="6858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657600" y="4114800"/>
            <a:ext cx="0" cy="19051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657600" y="411480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334120" y="4114800"/>
            <a:ext cx="0" cy="1905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3429000" y="281952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281952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62720" y="281952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08040" y="232236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Kpp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10 cycles/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14800" y="4684680"/>
            <a:ext cx="274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7Mpps w/ no V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3Mpps w/ VRP bu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B03-0799-4D76-86A2-1FA9DD638C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entium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s protocols in the control pla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GP, OSPF, RSV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other router 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proxies, active protocols, over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s Scout OS + Linux IXP 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scheduler is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C39-74DD-4A88-815D-BB40884648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rocess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1905120"/>
            <a:ext cx="4800600" cy="365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33520" y="3048120"/>
            <a:ext cx="1523880" cy="1371600"/>
            <a:chOff x="533520" y="3048120"/>
            <a:chExt cx="1523880" cy="1371600"/>
          </a:xfrm>
        </p:grpSpPr>
        <p:sp>
          <p:nvSpPr>
            <p:cNvPr id="745" name=""/>
            <p:cNvSpPr/>
            <p:nvPr/>
          </p:nvSpPr>
          <p:spPr>
            <a:xfrm>
              <a:off x="533520" y="3048120"/>
              <a:ext cx="152388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952560" y="3543480"/>
              <a:ext cx="685800" cy="380880"/>
              <a:chOff x="952560" y="3543480"/>
              <a:chExt cx="685800" cy="380880"/>
            </a:xfrm>
          </p:grpSpPr>
          <p:sp>
            <p:nvSpPr>
              <p:cNvPr id="747" name=""/>
              <p:cNvSpPr/>
              <p:nvPr/>
            </p:nvSpPr>
            <p:spPr>
              <a:xfrm>
                <a:off x="952560" y="354348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48608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3344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8116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52560" y="3543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2" name=""/>
          <p:cNvGrpSpPr/>
          <p:nvPr/>
        </p:nvGrpSpPr>
        <p:grpSpPr>
          <a:xfrm>
            <a:off x="7162920" y="3048120"/>
            <a:ext cx="1523880" cy="1371600"/>
            <a:chOff x="7162920" y="3048120"/>
            <a:chExt cx="1523880" cy="1371600"/>
          </a:xfrm>
        </p:grpSpPr>
        <p:sp>
          <p:nvSpPr>
            <p:cNvPr id="753" name=""/>
            <p:cNvSpPr/>
            <p:nvPr/>
          </p:nvSpPr>
          <p:spPr>
            <a:xfrm>
              <a:off x="7162920" y="3048120"/>
              <a:ext cx="152388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7581960" y="3543480"/>
              <a:ext cx="685800" cy="380880"/>
              <a:chOff x="7581960" y="3543480"/>
              <a:chExt cx="685800" cy="380880"/>
            </a:xfrm>
          </p:grpSpPr>
          <p:sp>
            <p:nvSpPr>
              <p:cNvPr id="755" name=""/>
              <p:cNvSpPr/>
              <p:nvPr/>
            </p:nvSpPr>
            <p:spPr>
              <a:xfrm>
                <a:off x="7581960" y="354348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1548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6284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81056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581960" y="3543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0" name=""/>
          <p:cNvGrpSpPr/>
          <p:nvPr/>
        </p:nvGrpSpPr>
        <p:grpSpPr>
          <a:xfrm>
            <a:off x="2971800" y="2781360"/>
            <a:ext cx="3200400" cy="1904760"/>
            <a:chOff x="2971800" y="2781360"/>
            <a:chExt cx="3200400" cy="1904760"/>
          </a:xfrm>
        </p:grpSpPr>
        <p:grpSp>
          <p:nvGrpSpPr>
            <p:cNvPr id="761" name=""/>
            <p:cNvGrpSpPr/>
            <p:nvPr/>
          </p:nvGrpSpPr>
          <p:grpSpPr>
            <a:xfrm>
              <a:off x="5486400" y="4305240"/>
              <a:ext cx="685800" cy="380880"/>
              <a:chOff x="5486400" y="4305240"/>
              <a:chExt cx="685800" cy="380880"/>
            </a:xfrm>
          </p:grpSpPr>
          <p:sp>
            <p:nvSpPr>
              <p:cNvPr id="762" name=""/>
              <p:cNvSpPr/>
              <p:nvPr/>
            </p:nvSpPr>
            <p:spPr>
              <a:xfrm>
                <a:off x="5486400" y="430524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01992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6728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71500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86400" y="430524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5486400" y="3543480"/>
              <a:ext cx="685800" cy="380880"/>
              <a:chOff x="5486400" y="3543480"/>
              <a:chExt cx="685800" cy="380880"/>
            </a:xfrm>
          </p:grpSpPr>
          <p:sp>
            <p:nvSpPr>
              <p:cNvPr id="768" name=""/>
              <p:cNvSpPr/>
              <p:nvPr/>
            </p:nvSpPr>
            <p:spPr>
              <a:xfrm>
                <a:off x="5486400" y="354348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01992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6728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71500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486400" y="3543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2971800" y="4305240"/>
              <a:ext cx="685800" cy="380880"/>
              <a:chOff x="2971800" y="4305240"/>
              <a:chExt cx="685800" cy="380880"/>
            </a:xfrm>
          </p:grpSpPr>
          <p:sp>
            <p:nvSpPr>
              <p:cNvPr id="774" name=""/>
              <p:cNvSpPr/>
              <p:nvPr/>
            </p:nvSpPr>
            <p:spPr>
              <a:xfrm>
                <a:off x="2971800" y="430524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50532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5268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0040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71800" y="430524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2971800" y="3543480"/>
              <a:ext cx="685800" cy="380880"/>
              <a:chOff x="2971800" y="3543480"/>
              <a:chExt cx="685800" cy="380880"/>
            </a:xfrm>
          </p:grpSpPr>
          <p:sp>
            <p:nvSpPr>
              <p:cNvPr id="780" name=""/>
              <p:cNvSpPr/>
              <p:nvPr/>
            </p:nvSpPr>
            <p:spPr>
              <a:xfrm>
                <a:off x="2971800" y="354348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50532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20040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71800" y="3543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5486400" y="2781360"/>
              <a:ext cx="685800" cy="380880"/>
              <a:chOff x="5486400" y="2781360"/>
              <a:chExt cx="685800" cy="380880"/>
            </a:xfrm>
          </p:grpSpPr>
          <p:sp>
            <p:nvSpPr>
              <p:cNvPr id="786" name=""/>
              <p:cNvSpPr/>
              <p:nvPr/>
            </p:nvSpPr>
            <p:spPr>
              <a:xfrm>
                <a:off x="5486400" y="278136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1992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728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1500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86400" y="27813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2971800" y="2781360"/>
              <a:ext cx="685800" cy="380880"/>
              <a:chOff x="2971800" y="2781360"/>
              <a:chExt cx="685800" cy="380880"/>
            </a:xfrm>
          </p:grpSpPr>
          <p:sp>
            <p:nvSpPr>
              <p:cNvPr id="792" name=""/>
              <p:cNvSpPr/>
              <p:nvPr/>
            </p:nvSpPr>
            <p:spPr>
              <a:xfrm>
                <a:off x="2971800" y="278136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0532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35268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20040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71800" y="27813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3809880" y="29718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09880" y="44960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09880" y="37339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828800" y="3733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514600" y="2971440"/>
            <a:ext cx="1522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514600" y="3733920"/>
            <a:ext cx="457200" cy="761760"/>
            <a:chOff x="2514600" y="3733920"/>
            <a:chExt cx="457200" cy="761760"/>
          </a:xfrm>
        </p:grpSpPr>
        <p:sp>
          <p:nvSpPr>
            <p:cNvPr id="803" name=""/>
            <p:cNvSpPr/>
            <p:nvPr/>
          </p:nvSpPr>
          <p:spPr>
            <a:xfrm>
              <a:off x="2514600" y="3733920"/>
              <a:ext cx="15228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514600" y="37339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66880" y="4495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666880" y="2971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53080" y="3733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248520" y="29718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48520" y="3733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6248520" y="37339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27880" y="1827000"/>
            <a:ext cx="2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757280" y="4570200"/>
            <a:ext cx="2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57280" y="1904760"/>
            <a:ext cx="2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40480" y="4571640"/>
            <a:ext cx="2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90480" y="40377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17320" y="51807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240320" y="40377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343400" y="3977280"/>
            <a:ext cx="457200" cy="442080"/>
            <a:chOff x="4343400" y="3977280"/>
            <a:chExt cx="457200" cy="442080"/>
          </a:xfrm>
        </p:grpSpPr>
        <p:sp>
          <p:nvSpPr>
            <p:cNvPr id="819" name=""/>
            <p:cNvSpPr/>
            <p:nvPr/>
          </p:nvSpPr>
          <p:spPr>
            <a:xfrm>
              <a:off x="4343400" y="3990960"/>
              <a:ext cx="45720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97760" y="397728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343400" y="2480400"/>
            <a:ext cx="457200" cy="414720"/>
            <a:chOff x="4343400" y="2480400"/>
            <a:chExt cx="457200" cy="414720"/>
          </a:xfrm>
        </p:grpSpPr>
        <p:sp>
          <p:nvSpPr>
            <p:cNvPr id="822" name=""/>
            <p:cNvSpPr/>
            <p:nvPr/>
          </p:nvSpPr>
          <p:spPr>
            <a:xfrm>
              <a:off x="4343400" y="2513880"/>
              <a:ext cx="4572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397760" y="248040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400800" y="3505320"/>
            <a:ext cx="457200" cy="533160"/>
            <a:chOff x="6400800" y="3505320"/>
            <a:chExt cx="457200" cy="533160"/>
          </a:xfrm>
        </p:grpSpPr>
        <p:sp>
          <p:nvSpPr>
            <p:cNvPr id="825" name=""/>
            <p:cNvSpPr/>
            <p:nvPr/>
          </p:nvSpPr>
          <p:spPr>
            <a:xfrm>
              <a:off x="6400800" y="3505320"/>
              <a:ext cx="457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55160" y="353592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286000" y="3505320"/>
            <a:ext cx="457200" cy="533160"/>
            <a:chOff x="2286000" y="3505320"/>
            <a:chExt cx="457200" cy="533160"/>
          </a:xfrm>
        </p:grpSpPr>
        <p:sp>
          <p:nvSpPr>
            <p:cNvPr id="828" name=""/>
            <p:cNvSpPr/>
            <p:nvPr/>
          </p:nvSpPr>
          <p:spPr>
            <a:xfrm>
              <a:off x="2286000" y="3505320"/>
              <a:ext cx="457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40360" y="353592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343400" y="3215160"/>
            <a:ext cx="457200" cy="442080"/>
            <a:chOff x="4343400" y="3215160"/>
            <a:chExt cx="457200" cy="442080"/>
          </a:xfrm>
        </p:grpSpPr>
        <p:sp>
          <p:nvSpPr>
            <p:cNvPr id="831" name=""/>
            <p:cNvSpPr/>
            <p:nvPr/>
          </p:nvSpPr>
          <p:spPr>
            <a:xfrm>
              <a:off x="4343400" y="3228840"/>
              <a:ext cx="45720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397760" y="321516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B47-9B7E-4E6D-8A02-6448EA08D0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erformanc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457200" y="1536840"/>
          <a:ext cx="8077320" cy="47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6840"/>
                    <a:ext cx="807732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AE2-1B72-4D20-9FFE-16D9961E5A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39625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2133720"/>
            <a:ext cx="3048120" cy="144756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GP, RSV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Router Architectur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81080" y="4800600"/>
            <a:ext cx="1295280" cy="1066320"/>
            <a:chOff x="1981080" y="4800600"/>
            <a:chExt cx="1295280" cy="1066320"/>
          </a:xfrm>
        </p:grpSpPr>
        <p:sp>
          <p:nvSpPr>
            <p:cNvPr id="97" name=""/>
            <p:cNvSpPr/>
            <p:nvPr/>
          </p:nvSpPr>
          <p:spPr>
            <a:xfrm>
              <a:off x="1981080" y="4800600"/>
              <a:ext cx="228600" cy="9903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440" y="4800600"/>
              <a:ext cx="228600" cy="9903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81080" y="4800600"/>
              <a:ext cx="1218960" cy="22824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5410080"/>
              <a:ext cx="380880" cy="456840"/>
            </a:xfrm>
            <a:prstGeom prst="downArrow">
              <a:avLst>
                <a:gd name="adj1" fmla="val 50000"/>
                <a:gd name="adj2" fmla="val 29986"/>
              </a:avLst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523880" y="3276720"/>
            <a:ext cx="2209680" cy="2590200"/>
            <a:chOff x="1523880" y="3276720"/>
            <a:chExt cx="2209680" cy="2590200"/>
          </a:xfrm>
        </p:grpSpPr>
        <p:sp>
          <p:nvSpPr>
            <p:cNvPr id="102" name=""/>
            <p:cNvSpPr/>
            <p:nvPr/>
          </p:nvSpPr>
          <p:spPr>
            <a:xfrm>
              <a:off x="1523880" y="3276720"/>
              <a:ext cx="152280" cy="250668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4960" y="3276720"/>
              <a:ext cx="152280" cy="250668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3880" y="3276720"/>
              <a:ext cx="2133360" cy="16704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8640" y="5616360"/>
              <a:ext cx="304920" cy="250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809-CA2D-41A4-9B4D-A497BBAEC0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erformance (cont)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990720" y="160020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"/>
          <p:cNvSpPr/>
          <p:nvPr/>
        </p:nvSpPr>
        <p:spPr>
          <a:xfrm rot="16200000">
            <a:off x="830880" y="3026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2B2-C5B8-471E-93D6-00FD1A5335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cheduling Mechanism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rtional share forms the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reserves a cycl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isolation between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capacity fair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g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receives its share only when its source queue is not empty and sink queue is not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inimize context switch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DA8-B054-48AF-A182-6F7428BEB1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hare Assign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oS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link rate is given, derive cycl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rvative rate to inpu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atching level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nfluenced by admin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hares to balance system (avoid live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atching level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1BF-4DEA-4C0D-A4EF-6CAFA1CD04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Experi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2895480"/>
            <a:ext cx="1676520" cy="18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90920" y="32004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5909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90920" y="4419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562720" y="32004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4400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716480" y="299088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53400" y="3600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Q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555560" y="4191120"/>
            <a:ext cx="10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Q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03360" y="360036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886200" y="3200040"/>
            <a:ext cx="1676520" cy="609480"/>
          </a:xfrm>
          <a:prstGeom prst="line">
            <a:avLst/>
          </a:prstGeom>
          <a:ln cap="rnd" w="19080">
            <a:solidFill>
              <a:srgbClr val="00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6200" y="3200400"/>
            <a:ext cx="1676520" cy="609480"/>
          </a:xfrm>
          <a:prstGeom prst="line">
            <a:avLst/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886200" y="3809880"/>
            <a:ext cx="1676520" cy="609840"/>
          </a:xfrm>
          <a:prstGeom prst="line">
            <a:avLst/>
          </a:prstGeom>
          <a:ln cap="rnd" w="19080">
            <a:solidFill>
              <a:srgbClr val="0066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61600" y="29908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4CD-3E9C-4870-A19C-D46B5DD22E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Mixing Best Effort and Qo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1981080" y="2286000"/>
          <a:ext cx="609624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0"/>
                    <a:ext cx="609624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offered load from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76F-53F6-47DD-B883-31F3B59441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PU vs Link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905120" y="2500200"/>
          <a:ext cx="632448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00200"/>
                    <a:ext cx="632448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 50Kpps, increase its processing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76E-AD14-4509-8184-ED7EAB7420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Turn Batching Off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1981080" y="1752480"/>
          <a:ext cx="609624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09624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efficiency: 66.2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A4D-A37B-454F-8AEF-FA685E9AE4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Enforce Time Slic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1905120" y="1676520"/>
          <a:ext cx="601956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60195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efficiency: 81.6% (30us quantu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4A2-6DEA-4268-A22D-205A7B9345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Batching Throttl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r Granularity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processes as many packets as possible w/in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cy Index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verhead Threshold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he overhead under T%, then 1 / (1+T) &lt;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Threshold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consider Fl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tive until it has accumulated at least 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, where 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/ (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 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&lt;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Threshold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flow that has waited 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0F7-5D37-44B6-826B-3E49E8F811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ynamic Control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 specifies delay requiremen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context switch overhead off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average flow 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ased on work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e batch-level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4A1-2ED2-423A-895E-9231D02A39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828800"/>
            <a:ext cx="3657600" cy="44956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oftware-Based Rout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5320" y="1828440"/>
            <a:ext cx="4953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abilit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(~300 Kp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4114800"/>
            <a:ext cx="304776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438280"/>
            <a:ext cx="304776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GP, RSV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05120" y="4952880"/>
            <a:ext cx="1295280" cy="1067040"/>
            <a:chOff x="1905120" y="4952880"/>
            <a:chExt cx="1295280" cy="1067040"/>
          </a:xfrm>
        </p:grpSpPr>
        <p:sp>
          <p:nvSpPr>
            <p:cNvPr id="112" name=""/>
            <p:cNvSpPr/>
            <p:nvPr/>
          </p:nvSpPr>
          <p:spPr>
            <a:xfrm>
              <a:off x="1905120" y="4952880"/>
              <a:ext cx="228600" cy="99072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4952880"/>
              <a:ext cx="228600" cy="99072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5120" y="4952880"/>
              <a:ext cx="1218960" cy="2286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9520" y="556272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447920" y="3429000"/>
            <a:ext cx="2209680" cy="2590560"/>
            <a:chOff x="1447920" y="3429000"/>
            <a:chExt cx="2209680" cy="2590560"/>
          </a:xfrm>
        </p:grpSpPr>
        <p:sp>
          <p:nvSpPr>
            <p:cNvPr id="117" name=""/>
            <p:cNvSpPr/>
            <p:nvPr/>
          </p:nvSpPr>
          <p:spPr>
            <a:xfrm>
              <a:off x="1447920" y="3429000"/>
              <a:ext cx="152280" cy="250704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29000" y="3429000"/>
              <a:ext cx="152280" cy="250704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29000"/>
              <a:ext cx="2133360" cy="16740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5769000"/>
              <a:ext cx="304920" cy="250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72480" y="186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80A-B81C-4C95-B4D1-EDEFC97A4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acket Trac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168120" y="1295280"/>
          <a:ext cx="876960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295280"/>
                    <a:ext cx="87696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B49-A2B0-4464-86FF-65DC93DFC51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1676520"/>
            <a:ext cx="3505320" cy="20574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962520"/>
            <a:ext cx="3505320" cy="26668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Hardware-Based Rout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53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m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formance (25+ Mp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1911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1337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GP, RSV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81080" y="5029200"/>
            <a:ext cx="1295280" cy="1066320"/>
            <a:chOff x="1981080" y="5029200"/>
            <a:chExt cx="1295280" cy="1066320"/>
          </a:xfrm>
        </p:grpSpPr>
        <p:sp>
          <p:nvSpPr>
            <p:cNvPr id="129" name=""/>
            <p:cNvSpPr/>
            <p:nvPr/>
          </p:nvSpPr>
          <p:spPr>
            <a:xfrm>
              <a:off x="1981080" y="5029200"/>
              <a:ext cx="228600" cy="9903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440" y="5029200"/>
              <a:ext cx="228600" cy="9903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1080" y="5029200"/>
              <a:ext cx="1218960" cy="22824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5480" y="5638680"/>
              <a:ext cx="380880" cy="456840"/>
            </a:xfrm>
            <a:prstGeom prst="downArrow">
              <a:avLst>
                <a:gd name="adj1" fmla="val 50000"/>
                <a:gd name="adj2" fmla="val 29986"/>
              </a:avLst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3880" y="3200400"/>
            <a:ext cx="2209680" cy="2895120"/>
            <a:chOff x="1523880" y="3200400"/>
            <a:chExt cx="2209680" cy="2895120"/>
          </a:xfrm>
        </p:grpSpPr>
        <p:sp>
          <p:nvSpPr>
            <p:cNvPr id="134" name=""/>
            <p:cNvSpPr/>
            <p:nvPr/>
          </p:nvSpPr>
          <p:spPr>
            <a:xfrm>
              <a:off x="1523880" y="3200400"/>
              <a:ext cx="152280" cy="280152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4960" y="3200400"/>
              <a:ext cx="152280" cy="280152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200400"/>
              <a:ext cx="2133360" cy="18684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8640" y="5815440"/>
              <a:ext cx="304920" cy="280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1800" y="60958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8CE-9D35-471E-B3FC-83B949BD59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NP-Based Router Architectur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st  ($15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676520"/>
            <a:ext cx="3505320" cy="20574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962520"/>
            <a:ext cx="3505320" cy="26668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1911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fl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1337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fl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981080" y="5029200"/>
            <a:ext cx="1295280" cy="1066320"/>
            <a:chOff x="1981080" y="5029200"/>
            <a:chExt cx="1295280" cy="1066320"/>
          </a:xfrm>
        </p:grpSpPr>
        <p:sp>
          <p:nvSpPr>
            <p:cNvPr id="147" name=""/>
            <p:cNvSpPr/>
            <p:nvPr/>
          </p:nvSpPr>
          <p:spPr>
            <a:xfrm>
              <a:off x="1981080" y="5029200"/>
              <a:ext cx="228600" cy="99036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440" y="5029200"/>
              <a:ext cx="228600" cy="99036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1080" y="5029200"/>
              <a:ext cx="1218960" cy="22824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5638680"/>
              <a:ext cx="380880" cy="456840"/>
            </a:xfrm>
            <a:prstGeom prst="downArrow">
              <a:avLst>
                <a:gd name="adj1" fmla="val 50000"/>
                <a:gd name="adj2" fmla="val 29986"/>
              </a:avLst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23880" y="3200400"/>
            <a:ext cx="2209680" cy="2895120"/>
            <a:chOff x="1523880" y="3200400"/>
            <a:chExt cx="2209680" cy="2895120"/>
          </a:xfrm>
        </p:grpSpPr>
        <p:sp>
          <p:nvSpPr>
            <p:cNvPr id="152" name=""/>
            <p:cNvSpPr/>
            <p:nvPr/>
          </p:nvSpPr>
          <p:spPr>
            <a:xfrm>
              <a:off x="1523880" y="3200400"/>
              <a:ext cx="152280" cy="280152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4960" y="3200400"/>
              <a:ext cx="152280" cy="280152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3880" y="3200400"/>
              <a:ext cx="2133360" cy="18684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8640" y="5815440"/>
              <a:ext cx="304920" cy="280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84080" y="60958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P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FF9-3546-40E6-8587-89F508D0B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In General...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988320" y="2575080"/>
            <a:ext cx="195120" cy="363240"/>
          </a:xfrm>
          <a:prstGeom prst="rect">
            <a:avLst/>
          </a:prstGeom>
          <a:solidFill>
            <a:srgbClr val="9966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597720" y="2782800"/>
            <a:ext cx="1659240" cy="827640"/>
            <a:chOff x="6597720" y="2782800"/>
            <a:chExt cx="1659240" cy="827640"/>
          </a:xfrm>
        </p:grpSpPr>
        <p:sp>
          <p:nvSpPr>
            <p:cNvPr id="161" name=""/>
            <p:cNvSpPr/>
            <p:nvPr/>
          </p:nvSpPr>
          <p:spPr>
            <a:xfrm>
              <a:off x="6597720" y="2938320"/>
              <a:ext cx="976320" cy="5173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X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964640" y="2782800"/>
              <a:ext cx="292320" cy="827640"/>
              <a:chOff x="7964640" y="2782800"/>
              <a:chExt cx="292320" cy="827640"/>
            </a:xfrm>
          </p:grpSpPr>
          <p:sp>
            <p:nvSpPr>
              <p:cNvPr id="163" name=""/>
              <p:cNvSpPr/>
              <p:nvPr/>
            </p:nvSpPr>
            <p:spPr>
              <a:xfrm>
                <a:off x="7964640" y="2782800"/>
                <a:ext cx="292320" cy="31032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64640" y="3300120"/>
                <a:ext cx="292320" cy="31032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flipV="1">
              <a:off x="7574040" y="2938320"/>
              <a:ext cx="39060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74040" y="3300480"/>
              <a:ext cx="39060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597720" y="2057400"/>
            <a:ext cx="976320" cy="517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8320" y="4545000"/>
            <a:ext cx="195120" cy="363600"/>
          </a:xfrm>
          <a:prstGeom prst="rect">
            <a:avLst/>
          </a:prstGeom>
          <a:solidFill>
            <a:srgbClr val="9966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597720" y="4753080"/>
            <a:ext cx="1659240" cy="827640"/>
            <a:chOff x="6597720" y="4753080"/>
            <a:chExt cx="1659240" cy="827640"/>
          </a:xfrm>
        </p:grpSpPr>
        <p:sp>
          <p:nvSpPr>
            <p:cNvPr id="170" name=""/>
            <p:cNvSpPr/>
            <p:nvPr/>
          </p:nvSpPr>
          <p:spPr>
            <a:xfrm>
              <a:off x="6597720" y="4908600"/>
              <a:ext cx="976320" cy="5173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X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964640" y="4753080"/>
              <a:ext cx="292320" cy="827640"/>
              <a:chOff x="7964640" y="4753080"/>
              <a:chExt cx="292320" cy="827640"/>
            </a:xfrm>
          </p:grpSpPr>
          <p:sp>
            <p:nvSpPr>
              <p:cNvPr id="172" name=""/>
              <p:cNvSpPr/>
              <p:nvPr/>
            </p:nvSpPr>
            <p:spPr>
              <a:xfrm>
                <a:off x="7964640" y="4753080"/>
                <a:ext cx="292320" cy="31032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64640" y="5270400"/>
                <a:ext cx="292320" cy="31032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 flipV="1">
              <a:off x="7574040" y="4908600"/>
              <a:ext cx="39060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74040" y="5270760"/>
              <a:ext cx="39060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597720" y="4027320"/>
            <a:ext cx="976320" cy="517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3171960"/>
            <a:ext cx="58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5141880"/>
            <a:ext cx="58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02280" y="34830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48160" y="2990880"/>
            <a:ext cx="1855800" cy="2382840"/>
          </a:xfrm>
          <a:prstGeom prst="rect">
            <a:avLst/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8160" y="3171960"/>
            <a:ext cx="293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3184560"/>
            <a:ext cx="291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5154480"/>
            <a:ext cx="291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48160" y="5167440"/>
            <a:ext cx="293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41920" y="3171960"/>
            <a:ext cx="1270080" cy="19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41920" y="3171960"/>
            <a:ext cx="1270080" cy="198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90720" y="3716280"/>
            <a:ext cx="1659960" cy="828360"/>
            <a:chOff x="990720" y="3716280"/>
            <a:chExt cx="1659960" cy="828360"/>
          </a:xfrm>
        </p:grpSpPr>
        <p:sp>
          <p:nvSpPr>
            <p:cNvPr id="188" name=""/>
            <p:cNvSpPr/>
            <p:nvPr/>
          </p:nvSpPr>
          <p:spPr>
            <a:xfrm>
              <a:off x="990720" y="3871800"/>
              <a:ext cx="976320" cy="5176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nti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357280" y="3716280"/>
              <a:ext cx="293400" cy="828360"/>
              <a:chOff x="2357280" y="3716280"/>
              <a:chExt cx="293400" cy="828360"/>
            </a:xfrm>
          </p:grpSpPr>
          <p:sp>
            <p:nvSpPr>
              <p:cNvPr id="190" name=""/>
              <p:cNvSpPr/>
              <p:nvPr/>
            </p:nvSpPr>
            <p:spPr>
              <a:xfrm>
                <a:off x="2357280" y="3716280"/>
                <a:ext cx="293400" cy="31068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7280" y="4233960"/>
                <a:ext cx="293400" cy="31068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V="1">
              <a:off x="1967040" y="3871800"/>
              <a:ext cx="3902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7040" y="4233960"/>
              <a:ext cx="3902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276720" y="4027320"/>
            <a:ext cx="609480" cy="362160"/>
          </a:xfrm>
          <a:custGeom>
            <a:avLst/>
            <a:gdLst>
              <a:gd name="textAreaLeft" fmla="*/ 95040 w 609480"/>
              <a:gd name="textAreaRight" fmla="*/ 533520 w 60948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A9A-F111-4FE7-9FC8-6650D08536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7720" y="2133720"/>
            <a:ext cx="4800600" cy="12952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267080"/>
            <a:ext cx="4800600" cy="1295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25680" y="3429000"/>
            <a:ext cx="144792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Architectural Overview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278720" y="22096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 Network Servic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69320" y="342900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7560" y="502920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 Hardware Configuration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747360" y="2438280"/>
            <a:ext cx="1676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9792800">
            <a:off x="138240" y="3657240"/>
            <a:ext cx="2133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923600">
            <a:off x="138240" y="2742840"/>
            <a:ext cx="2133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4024080" y="3657240"/>
            <a:ext cx="2133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617600">
            <a:off x="4024440" y="2742840"/>
            <a:ext cx="2133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400800" y="2133720"/>
            <a:ext cx="2209320" cy="3461040"/>
            <a:chOff x="6400800" y="2133720"/>
            <a:chExt cx="2209320" cy="3461040"/>
          </a:xfrm>
        </p:grpSpPr>
        <p:sp>
          <p:nvSpPr>
            <p:cNvPr id="208" name=""/>
            <p:cNvSpPr/>
            <p:nvPr/>
          </p:nvSpPr>
          <p:spPr>
            <a:xfrm>
              <a:off x="6400800" y="2133720"/>
              <a:ext cx="2209320" cy="34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 Flo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warding Pa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itching Pa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00800" y="26668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00800" y="42512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9B5-98DE-4CD2-B777-94CA71EB90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Virtual Rout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war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410080" y="5181480"/>
            <a:ext cx="1981080" cy="228600"/>
            <a:chOff x="5410080" y="5181480"/>
            <a:chExt cx="1981080" cy="228600"/>
          </a:xfrm>
        </p:grpSpPr>
        <p:grpSp>
          <p:nvGrpSpPr>
            <p:cNvPr id="214" name=""/>
            <p:cNvGrpSpPr/>
            <p:nvPr/>
          </p:nvGrpSpPr>
          <p:grpSpPr>
            <a:xfrm>
              <a:off x="6858000" y="5181480"/>
              <a:ext cx="533160" cy="228600"/>
              <a:chOff x="6858000" y="5181480"/>
              <a:chExt cx="533160" cy="228600"/>
            </a:xfrm>
          </p:grpSpPr>
          <p:sp>
            <p:nvSpPr>
              <p:cNvPr id="215" name=""/>
              <p:cNvSpPr/>
              <p:nvPr/>
            </p:nvSpPr>
            <p:spPr>
              <a:xfrm>
                <a:off x="6858000" y="518148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1520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1028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8660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3888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6256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858000" y="51814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410080" y="5181480"/>
              <a:ext cx="533160" cy="228600"/>
              <a:chOff x="5410080" y="5181480"/>
              <a:chExt cx="533160" cy="228600"/>
            </a:xfrm>
          </p:grpSpPr>
          <p:sp>
            <p:nvSpPr>
              <p:cNvPr id="223" name=""/>
              <p:cNvSpPr/>
              <p:nvPr/>
            </p:nvSpPr>
            <p:spPr>
              <a:xfrm>
                <a:off x="5410080" y="518148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6728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6236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3868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9096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1464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10080" y="51814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943600" y="5295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4120" y="1866960"/>
            <a:ext cx="1980720" cy="990720"/>
            <a:chOff x="5334120" y="1866960"/>
            <a:chExt cx="1980720" cy="990720"/>
          </a:xfrm>
        </p:grpSpPr>
        <p:grpSp>
          <p:nvGrpSpPr>
            <p:cNvPr id="232" name=""/>
            <p:cNvGrpSpPr/>
            <p:nvPr/>
          </p:nvGrpSpPr>
          <p:grpSpPr>
            <a:xfrm>
              <a:off x="5334120" y="2248200"/>
              <a:ext cx="533160" cy="228600"/>
              <a:chOff x="5334120" y="2248200"/>
              <a:chExt cx="533160" cy="228600"/>
            </a:xfrm>
          </p:grpSpPr>
          <p:sp>
            <p:nvSpPr>
              <p:cNvPr id="233" name=""/>
              <p:cNvSpPr/>
              <p:nvPr/>
            </p:nvSpPr>
            <p:spPr>
              <a:xfrm>
                <a:off x="5334120" y="224820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9132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640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6272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1500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3868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34120" y="224820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781680" y="2248200"/>
              <a:ext cx="533160" cy="228600"/>
              <a:chOff x="6781680" y="2248200"/>
              <a:chExt cx="533160" cy="228600"/>
            </a:xfrm>
          </p:grpSpPr>
          <p:sp>
            <p:nvSpPr>
              <p:cNvPr id="241" name=""/>
              <p:cNvSpPr/>
              <p:nvPr/>
            </p:nvSpPr>
            <p:spPr>
              <a:xfrm>
                <a:off x="6781680" y="224820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23888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3396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1028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6256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8624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81680" y="224820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867280" y="2362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324480" y="1866960"/>
              <a:ext cx="990360" cy="228600"/>
              <a:chOff x="6324480" y="1866960"/>
              <a:chExt cx="990360" cy="2286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781680" y="1866960"/>
                <a:ext cx="533160" cy="228600"/>
                <a:chOff x="6781680" y="1866960"/>
                <a:chExt cx="53316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781680" y="1866960"/>
                  <a:ext cx="533160" cy="228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23888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93396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01028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16256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08624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78168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6324480" y="198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324480" y="2629080"/>
              <a:ext cx="990360" cy="228600"/>
              <a:chOff x="6324480" y="2629080"/>
              <a:chExt cx="990360" cy="22860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781680" y="2629080"/>
                <a:ext cx="533160" cy="228600"/>
                <a:chOff x="6781680" y="2629080"/>
                <a:chExt cx="533160" cy="2286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781680" y="2629080"/>
                  <a:ext cx="533160" cy="228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23888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93396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01028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16256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08624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78168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6324480" y="27435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H="1" flipV="1">
              <a:off x="6019920" y="2361960"/>
              <a:ext cx="30456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019920" y="1981440"/>
              <a:ext cx="3045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4120" y="3390840"/>
            <a:ext cx="2057040" cy="990360"/>
            <a:chOff x="5334120" y="3390840"/>
            <a:chExt cx="2057040" cy="990360"/>
          </a:xfrm>
        </p:grpSpPr>
        <p:grpSp>
          <p:nvGrpSpPr>
            <p:cNvPr id="272" name=""/>
            <p:cNvGrpSpPr/>
            <p:nvPr/>
          </p:nvGrpSpPr>
          <p:grpSpPr>
            <a:xfrm>
              <a:off x="6858000" y="3771720"/>
              <a:ext cx="533160" cy="228600"/>
              <a:chOff x="6858000" y="3771720"/>
              <a:chExt cx="533160" cy="228600"/>
            </a:xfrm>
          </p:grpSpPr>
          <p:sp>
            <p:nvSpPr>
              <p:cNvPr id="273" name=""/>
              <p:cNvSpPr/>
              <p:nvPr/>
            </p:nvSpPr>
            <p:spPr>
              <a:xfrm>
                <a:off x="6858000" y="377172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1520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1028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8660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23888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6256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58000" y="377172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334120" y="4152600"/>
              <a:ext cx="533160" cy="228600"/>
              <a:chOff x="5334120" y="4152600"/>
              <a:chExt cx="5331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5334120" y="415260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9132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640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56272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1500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3868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34120" y="415260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334120" y="3771720"/>
              <a:ext cx="533160" cy="228600"/>
              <a:chOff x="5334120" y="3771720"/>
              <a:chExt cx="533160" cy="228600"/>
            </a:xfrm>
          </p:grpSpPr>
          <p:sp>
            <p:nvSpPr>
              <p:cNvPr id="289" name=""/>
              <p:cNvSpPr/>
              <p:nvPr/>
            </p:nvSpPr>
            <p:spPr>
              <a:xfrm>
                <a:off x="5334120" y="377172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8640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6272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1500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63868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34120" y="377172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334120" y="3390840"/>
              <a:ext cx="533160" cy="228600"/>
              <a:chOff x="5334120" y="3390840"/>
              <a:chExt cx="533160" cy="228600"/>
            </a:xfrm>
          </p:grpSpPr>
          <p:sp>
            <p:nvSpPr>
              <p:cNvPr id="297" name=""/>
              <p:cNvSpPr/>
              <p:nvPr/>
            </p:nvSpPr>
            <p:spPr>
              <a:xfrm>
                <a:off x="5334120" y="339084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9132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56272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1500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3868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34120" y="339084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867280" y="38862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67280" y="4267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7280" y="35049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019920" y="3886200"/>
              <a:ext cx="3045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9920" y="3504960"/>
              <a:ext cx="30456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561-B921-4D0F-8053-E6FD0BAD76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arry Peterson</dc:creator>
  <dc:description/>
  <dc:language>en-US</dc:language>
  <cp:lastModifiedBy>Elsevier</cp:lastModifiedBy>
  <cp:lastPrinted>1998-11-18T21:29:10Z</cp:lastPrinted>
  <dcterms:modified xsi:type="dcterms:W3CDTF">2003-11-07T01:18:16Z</dcterms:modified>
  <cp:revision>200</cp:revision>
  <dc:subject/>
  <dc:title>Scout: A Communication-Oriented Operating System</dc:title>
</cp:coreProperties>
</file>