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22F-DD45-41DF-A001-6706D386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620-5C50-4891-A754-5132B1A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DF9-24CE-48D2-8EB6-59E333CC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208-1810-4AF8-B5CC-D24370B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349-5489-40BA-86B6-DCED9591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DC6-7AC0-48B3-8E4F-AA0FEED2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056-44CD-496E-AEE2-1BCA4EF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18F-9AC1-4AEF-9164-674DB071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A2B-804D-4ECA-A0C1-B3FF90B5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E19-6747-45FB-BA7D-07D8BF7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E8A-D5ED-44EA-938F-666D6CCD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EAD-AA77-4451-B19C-4B1DC29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4A25-A5C8-4B1A-B46C-75FF19E9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DE9-A5EE-47A9-B7B2-489BDED24C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inceton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e.princeton.edu, helios.ee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lios.ee.princeton.edu, 128.196.28.166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jupiter.physics.princeton.edu, 128.196.4.1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aturn.physics.princeton.edu, 128.196.4.2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rs.physics.princeton.edu, 128.196.4.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enus.physics.princeton.edu, 128.196.4.4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4F7-0801-4A9A-B0D8-72F0740982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MX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ltenham.cs.princeton.edu, 192.12.69.6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.cs.princeton.edu, cheltenham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.cs.princeton.edu, optima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kerville.cs.princeton.edu, 192.12.69.3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.cs.princeton.edu, baskerville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B03-7B76-4A92-B7EC-52B8C4EA52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Resolu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know root at only one place (not each ho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-wid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09x05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019920" cy="38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3B0-BA4E-4890-A713-4CFDBAF652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cs.princeton.edu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: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No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n/fs/fac5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ersus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F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fs/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7C3-B626-44F8-B5EA-4A7E0A9624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31880" y="1600200"/>
            <a:ext cx="5516640" cy="2590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276720"/>
            <a:ext cx="2241360" cy="1066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78360" y="3505320"/>
            <a:ext cx="3108240" cy="1904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53160" y="4343400"/>
            <a:ext cx="220356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36240" y="259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371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9440" y="259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83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0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5244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0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716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7400" y="3657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51120" y="3657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65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560" y="4724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868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13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67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8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66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3240" y="556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5504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7120" y="3048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3048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034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36840" y="1752480"/>
            <a:ext cx="2023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03480" y="1752480"/>
            <a:ext cx="557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60760" y="1752480"/>
            <a:ext cx="417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60760" y="1752480"/>
            <a:ext cx="18813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846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24520" y="3048120"/>
            <a:ext cx="560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84680" y="3048120"/>
            <a:ext cx="800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51400" y="4114800"/>
            <a:ext cx="417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69000" y="4114800"/>
            <a:ext cx="547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48160" y="4114800"/>
            <a:ext cx="306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4880" y="4114800"/>
            <a:ext cx="549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547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721200" y="51814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54720" y="5181480"/>
            <a:ext cx="398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796800" y="1504800"/>
            <a:ext cx="1963800" cy="1543320"/>
            <a:chOff x="6796800" y="1504800"/>
            <a:chExt cx="1963800" cy="1543320"/>
          </a:xfrm>
        </p:grpSpPr>
        <p:sp>
          <p:nvSpPr>
            <p:cNvPr id="271" name=""/>
            <p:cNvSpPr/>
            <p:nvPr/>
          </p:nvSpPr>
          <p:spPr>
            <a:xfrm>
              <a:off x="6796800" y="1504800"/>
              <a:ext cx="1963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Prefix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     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a/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d/     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d/k/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2400" y="1504800"/>
              <a:ext cx="0" cy="15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41D-90BA-41EB-982A-4800E76F23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upid Naming Tric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links and moun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and logical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direc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and content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based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-based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837-4AD7-448A-8899-90F2B1D31E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name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loc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embership in a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a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 knowledge of a sec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set of possible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a set of name to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d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F0F-0BF1-4286-8089-5C75E8E3FE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erti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versu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transparent versus location-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ersus 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versus rel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rchitecture versus by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versus ambigu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72D-FCF2-4960-93F6-B884C0EE1F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ltenham.cs.princeton.edu    192.12.69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.69.17    80:23:A8:33:5B:9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  (server, file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ry Peterson    llp@cs.princeton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21E-A90C-41F7-A622-F64CEC8E7A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arby ps printer with short queue and 2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09x01" descr=""/>
          <p:cNvPicPr/>
          <p:nvPr/>
        </p:nvPicPr>
        <p:blipFill>
          <a:blip r:embed="rId1"/>
          <a:stretch/>
        </p:blipFill>
        <p:spPr>
          <a:xfrm>
            <a:off x="2438280" y="1755720"/>
            <a:ext cx="4572000" cy="30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2CC-229A-4788-AF30-0F46DD04C2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main Naming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nstrap.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3520" y="2452680"/>
            <a:ext cx="933480" cy="328680"/>
          </a:xfrm>
          <a:custGeom>
            <a:avLst/>
            <a:gdLst/>
            <a:ahLst/>
            <a:rect l="l" t="t" r="r" b="b"/>
            <a:pathLst>
              <a:path w="588" h="207">
                <a:moveTo>
                  <a:pt x="0" y="207"/>
                </a:moveTo>
                <a:lnTo>
                  <a:pt x="0" y="0"/>
                </a:lnTo>
                <a:lnTo>
                  <a:pt x="588" y="2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2803680"/>
            <a:ext cx="27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5720" y="2803680"/>
            <a:ext cx="30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9560" y="3301920"/>
            <a:ext cx="69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princ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036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2320" y="330192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90400" y="3836880"/>
            <a:ext cx="14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5960" y="383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600" y="43750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3080" y="43750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98680" y="383688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7680" y="3301920"/>
            <a:ext cx="35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332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41560" y="3301920"/>
            <a:ext cx="44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yah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27120" y="330192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0872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10320" y="330192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3880" y="330192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0116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37320" y="3301920"/>
            <a:ext cx="33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330192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a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4868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43440" y="33019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2120" y="280368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31040" y="2803680"/>
            <a:ext cx="22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4040" y="2803680"/>
            <a:ext cx="25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4520" y="2803680"/>
            <a:ext cx="23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4320" y="2803680"/>
            <a:ext cx="17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560" y="28036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24880" y="3006720"/>
            <a:ext cx="26172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59520" y="3006720"/>
            <a:ext cx="26208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3360" y="300672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0060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168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6428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13120" y="4052880"/>
            <a:ext cx="26172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86160" y="405288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584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0512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3720" y="3537000"/>
            <a:ext cx="26172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4804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172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71760" y="3503520"/>
            <a:ext cx="1041120" cy="324000"/>
          </a:xfrm>
          <a:custGeom>
            <a:avLst/>
            <a:gdLst/>
            <a:ahLst/>
            <a:rect l="l" t="t" r="r" b="b"/>
            <a:pathLst>
              <a:path w="656" h="204">
                <a:moveTo>
                  <a:pt x="0" y="204"/>
                </a:moveTo>
                <a:lnTo>
                  <a:pt x="360" y="0"/>
                </a:lnTo>
                <a:lnTo>
                  <a:pt x="65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3080" y="3508200"/>
            <a:ext cx="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0440" y="2997360"/>
            <a:ext cx="615960" cy="299880"/>
          </a:xfrm>
          <a:custGeom>
            <a:avLst/>
            <a:gdLst/>
            <a:ahLst/>
            <a:rect l="l" t="t" r="r" b="b"/>
            <a:pathLst>
              <a:path w="388" h="189">
                <a:moveTo>
                  <a:pt x="0" y="189"/>
                </a:moveTo>
                <a:lnTo>
                  <a:pt x="198" y="0"/>
                </a:lnTo>
                <a:lnTo>
                  <a:pt x="388" y="1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33680" y="3006720"/>
            <a:ext cx="568440" cy="290520"/>
          </a:xfrm>
          <a:custGeom>
            <a:avLst/>
            <a:gdLst/>
            <a:ahLst/>
            <a:rect l="l" t="t" r="r" b="b"/>
            <a:pathLst>
              <a:path w="358" h="183">
                <a:moveTo>
                  <a:pt x="0" y="183"/>
                </a:moveTo>
                <a:lnTo>
                  <a:pt x="151" y="0"/>
                </a:lnTo>
                <a:lnTo>
                  <a:pt x="358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8640" y="3006720"/>
            <a:ext cx="338040" cy="290520"/>
          </a:xfrm>
          <a:custGeom>
            <a:avLst/>
            <a:gdLst/>
            <a:ahLst/>
            <a:rect l="l" t="t" r="r" b="b"/>
            <a:pathLst>
              <a:path w="213" h="183">
                <a:moveTo>
                  <a:pt x="0" y="183"/>
                </a:moveTo>
                <a:lnTo>
                  <a:pt x="107" y="0"/>
                </a:lnTo>
                <a:lnTo>
                  <a:pt x="213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8240" y="3006720"/>
            <a:ext cx="338040" cy="290520"/>
          </a:xfrm>
          <a:custGeom>
            <a:avLst/>
            <a:gdLst/>
            <a:ahLst/>
            <a:rect l="l" t="t" r="r" b="b"/>
            <a:pathLst>
              <a:path w="213" h="183">
                <a:moveTo>
                  <a:pt x="0" y="183"/>
                </a:moveTo>
                <a:lnTo>
                  <a:pt x="106" y="0"/>
                </a:lnTo>
                <a:lnTo>
                  <a:pt x="213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30960" y="3006720"/>
            <a:ext cx="336600" cy="290520"/>
          </a:xfrm>
          <a:custGeom>
            <a:avLst/>
            <a:gdLst/>
            <a:ahLst/>
            <a:rect l="l" t="t" r="r" b="b"/>
            <a:pathLst>
              <a:path w="212" h="183">
                <a:moveTo>
                  <a:pt x="0" y="183"/>
                </a:moveTo>
                <a:lnTo>
                  <a:pt x="106" y="0"/>
                </a:lnTo>
                <a:lnTo>
                  <a:pt x="212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9760" y="2452680"/>
            <a:ext cx="5275080" cy="328680"/>
          </a:xfrm>
          <a:custGeom>
            <a:avLst/>
            <a:gdLst/>
            <a:ahLst/>
            <a:rect l="l" t="t" r="r" b="b"/>
            <a:pathLst>
              <a:path w="3323" h="207">
                <a:moveTo>
                  <a:pt x="0" y="204"/>
                </a:moveTo>
                <a:lnTo>
                  <a:pt x="1319" y="0"/>
                </a:lnTo>
                <a:lnTo>
                  <a:pt x="3323" y="2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6920" y="2452680"/>
            <a:ext cx="3740040" cy="328680"/>
          </a:xfrm>
          <a:custGeom>
            <a:avLst/>
            <a:gdLst/>
            <a:ahLst/>
            <a:rect l="l" t="t" r="r" b="b"/>
            <a:pathLst>
              <a:path w="2356" h="207">
                <a:moveTo>
                  <a:pt x="2356" y="183"/>
                </a:moveTo>
                <a:lnTo>
                  <a:pt x="609" y="0"/>
                </a:lnTo>
                <a:lnTo>
                  <a:pt x="0" y="2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78200" y="2457360"/>
            <a:ext cx="2403720" cy="324000"/>
          </a:xfrm>
          <a:custGeom>
            <a:avLst/>
            <a:gdLst/>
            <a:ahLst/>
            <a:rect l="l" t="t" r="r" b="b"/>
            <a:pathLst>
              <a:path w="1514" h="204">
                <a:moveTo>
                  <a:pt x="1514" y="183"/>
                </a:moveTo>
                <a:lnTo>
                  <a:pt x="0" y="0"/>
                </a:lnTo>
                <a:lnTo>
                  <a:pt x="1147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387440" y="4024440"/>
            <a:ext cx="17928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6720" y="4024440"/>
            <a:ext cx="18288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C1C-2FBF-448A-A514-CF0F9CA45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Serv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hierarchy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1520" y="476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5040" y="56275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886200"/>
            <a:ext cx="4495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zone implemented by tw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ser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83320" y="4662360"/>
            <a:ext cx="88416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67480" y="4629240"/>
            <a:ext cx="36360" cy="393480"/>
          </a:xfrm>
          <a:custGeom>
            <a:avLst/>
            <a:gdLst/>
            <a:ahLst/>
            <a:rect l="l" t="t" r="r" b="b"/>
            <a:pathLst>
              <a:path w="23" h="248">
                <a:moveTo>
                  <a:pt x="23" y="0"/>
                </a:moveTo>
                <a:lnTo>
                  <a:pt x="23" y="227"/>
                </a:lnTo>
                <a:lnTo>
                  <a:pt x="0" y="248"/>
                </a:lnTo>
                <a:lnTo>
                  <a:pt x="0" y="21"/>
                </a:lnTo>
                <a:lnTo>
                  <a:pt x="23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83320" y="4629240"/>
            <a:ext cx="920520" cy="33120"/>
          </a:xfrm>
          <a:custGeom>
            <a:avLst/>
            <a:gdLst/>
            <a:ahLst/>
            <a:rect l="l" t="t" r="r" b="b"/>
            <a:pathLst>
              <a:path w="580" h="21">
                <a:moveTo>
                  <a:pt x="0" y="21"/>
                </a:moveTo>
                <a:lnTo>
                  <a:pt x="20" y="0"/>
                </a:lnTo>
                <a:lnTo>
                  <a:pt x="580" y="0"/>
                </a:lnTo>
                <a:lnTo>
                  <a:pt x="557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99360" y="4662360"/>
            <a:ext cx="88884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88200" y="4629240"/>
            <a:ext cx="33480" cy="393480"/>
          </a:xfrm>
          <a:custGeom>
            <a:avLst/>
            <a:gdLst/>
            <a:ahLst/>
            <a:rect l="l" t="t" r="r" b="b"/>
            <a:pathLst>
              <a:path w="21" h="248">
                <a:moveTo>
                  <a:pt x="21" y="0"/>
                </a:moveTo>
                <a:lnTo>
                  <a:pt x="21" y="227"/>
                </a:lnTo>
                <a:lnTo>
                  <a:pt x="0" y="248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9360" y="4629240"/>
            <a:ext cx="922320" cy="33120"/>
          </a:xfrm>
          <a:custGeom>
            <a:avLst/>
            <a:gdLst/>
            <a:ahLst/>
            <a:rect l="l" t="t" r="r" b="b"/>
            <a:pathLst>
              <a:path w="581" h="21">
                <a:moveTo>
                  <a:pt x="0" y="21"/>
                </a:moveTo>
                <a:lnTo>
                  <a:pt x="23" y="0"/>
                </a:lnTo>
                <a:lnTo>
                  <a:pt x="581" y="0"/>
                </a:lnTo>
                <a:lnTo>
                  <a:pt x="56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51480" y="5538960"/>
            <a:ext cx="80640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57880" y="5505480"/>
            <a:ext cx="33480" cy="393840"/>
          </a:xfrm>
          <a:custGeom>
            <a:avLst/>
            <a:gdLst/>
            <a:ahLst/>
            <a:rect l="l" t="t" r="r" b="b"/>
            <a:pathLst>
              <a:path w="21" h="248">
                <a:moveTo>
                  <a:pt x="21" y="0"/>
                </a:moveTo>
                <a:lnTo>
                  <a:pt x="21" y="227"/>
                </a:lnTo>
                <a:lnTo>
                  <a:pt x="0" y="248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1480" y="5505480"/>
            <a:ext cx="839880" cy="33480"/>
          </a:xfrm>
          <a:custGeom>
            <a:avLst/>
            <a:gdLst/>
            <a:ahLst/>
            <a:rect l="l" t="t" r="r" b="b"/>
            <a:pathLst>
              <a:path w="529" h="21">
                <a:moveTo>
                  <a:pt x="0" y="21"/>
                </a:moveTo>
                <a:lnTo>
                  <a:pt x="24" y="0"/>
                </a:lnTo>
                <a:lnTo>
                  <a:pt x="529" y="0"/>
                </a:lnTo>
                <a:lnTo>
                  <a:pt x="508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37120" y="5538960"/>
            <a:ext cx="80640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43520" y="5505480"/>
            <a:ext cx="33480" cy="393840"/>
          </a:xfrm>
          <a:custGeom>
            <a:avLst/>
            <a:gdLst/>
            <a:ahLst/>
            <a:rect l="l" t="t" r="r" b="b"/>
            <a:pathLst>
              <a:path w="21" h="248">
                <a:moveTo>
                  <a:pt x="21" y="0"/>
                </a:moveTo>
                <a:lnTo>
                  <a:pt x="21" y="227"/>
                </a:lnTo>
                <a:lnTo>
                  <a:pt x="0" y="248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7120" y="5505480"/>
            <a:ext cx="839880" cy="33480"/>
          </a:xfrm>
          <a:custGeom>
            <a:avLst/>
            <a:gdLst/>
            <a:ahLst/>
            <a:rect l="l" t="t" r="r" b="b"/>
            <a:pathLst>
              <a:path w="529" h="21">
                <a:moveTo>
                  <a:pt x="0" y="21"/>
                </a:moveTo>
                <a:lnTo>
                  <a:pt x="24" y="0"/>
                </a:lnTo>
                <a:lnTo>
                  <a:pt x="529" y="0"/>
                </a:lnTo>
                <a:lnTo>
                  <a:pt x="508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5280" y="469584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Princ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2760" y="48531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9840" y="469584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10600" y="48531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4400" y="5572080"/>
            <a:ext cx="150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4880" y="572940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31280" y="5572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26360" y="572940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92520" y="5018040"/>
            <a:ext cx="446040" cy="44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46800" y="5435640"/>
            <a:ext cx="74520" cy="87120"/>
          </a:xfrm>
          <a:custGeom>
            <a:avLst/>
            <a:gdLst/>
            <a:ahLst/>
            <a:rect l="l" t="t" r="r" b="b"/>
            <a:pathLst>
              <a:path w="47" h="55">
                <a:moveTo>
                  <a:pt x="24" y="0"/>
                </a:moveTo>
                <a:lnTo>
                  <a:pt x="0" y="55"/>
                </a:lnTo>
                <a:lnTo>
                  <a:pt x="47" y="21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40320" y="5018040"/>
            <a:ext cx="389160" cy="44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3920" y="5435640"/>
            <a:ext cx="69840" cy="87120"/>
          </a:xfrm>
          <a:custGeom>
            <a:avLst/>
            <a:gdLst/>
            <a:ahLst/>
            <a:rect l="l" t="t" r="r" b="b"/>
            <a:pathLst>
              <a:path w="44" h="55">
                <a:moveTo>
                  <a:pt x="0" y="21"/>
                </a:moveTo>
                <a:lnTo>
                  <a:pt x="44" y="55"/>
                </a:lnTo>
                <a:lnTo>
                  <a:pt x="23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170400" y="3948120"/>
            <a:ext cx="579240" cy="636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1440" y="4559400"/>
            <a:ext cx="77760" cy="824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0" y="52"/>
                </a:lnTo>
                <a:lnTo>
                  <a:pt x="49" y="1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7600" y="3948120"/>
            <a:ext cx="565200" cy="639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04000" y="4564080"/>
            <a:ext cx="79560" cy="82440"/>
          </a:xfrm>
          <a:custGeom>
            <a:avLst/>
            <a:gdLst/>
            <a:ahLst/>
            <a:rect l="l" t="t" r="r" b="b"/>
            <a:pathLst>
              <a:path w="50" h="52">
                <a:moveTo>
                  <a:pt x="0" y="18"/>
                </a:moveTo>
                <a:lnTo>
                  <a:pt x="50" y="52"/>
                </a:lnTo>
                <a:lnTo>
                  <a:pt x="24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00760" y="553896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6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85040" y="3595680"/>
            <a:ext cx="888840" cy="352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73880" y="3567240"/>
            <a:ext cx="33480" cy="380880"/>
          </a:xfrm>
          <a:custGeom>
            <a:avLst/>
            <a:gdLst/>
            <a:ahLst/>
            <a:rect l="l" t="t" r="r" b="b"/>
            <a:pathLst>
              <a:path w="21" h="240">
                <a:moveTo>
                  <a:pt x="21" y="0"/>
                </a:moveTo>
                <a:lnTo>
                  <a:pt x="21" y="222"/>
                </a:lnTo>
                <a:lnTo>
                  <a:pt x="0" y="240"/>
                </a:lnTo>
                <a:lnTo>
                  <a:pt x="0" y="18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85040" y="3567240"/>
            <a:ext cx="922320" cy="2844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18"/>
                </a:moveTo>
                <a:lnTo>
                  <a:pt x="23" y="0"/>
                </a:lnTo>
                <a:lnTo>
                  <a:pt x="581" y="0"/>
                </a:lnTo>
                <a:lnTo>
                  <a:pt x="56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8040" y="3624120"/>
            <a:ext cx="27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99160" y="37814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50880" y="1687680"/>
            <a:ext cx="5715000" cy="1822320"/>
            <a:chOff x="1550880" y="1687680"/>
            <a:chExt cx="5715000" cy="1822320"/>
          </a:xfrm>
        </p:grpSpPr>
        <p:sp>
          <p:nvSpPr>
            <p:cNvPr id="153" name=""/>
            <p:cNvSpPr/>
            <p:nvPr/>
          </p:nvSpPr>
          <p:spPr>
            <a:xfrm>
              <a:off x="2227320" y="2900520"/>
              <a:ext cx="287280" cy="60948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0880" y="2900520"/>
              <a:ext cx="654120" cy="60948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8640" y="2419200"/>
              <a:ext cx="822240" cy="1090800"/>
            </a:xfrm>
            <a:custGeom>
              <a:avLst/>
              <a:gdLst/>
              <a:ahLst/>
              <a:rect l="l" t="t" r="r" b="b"/>
              <a:pathLst>
                <a:path w="518" h="687">
                  <a:moveTo>
                    <a:pt x="0" y="0"/>
                  </a:moveTo>
                  <a:lnTo>
                    <a:pt x="0" y="275"/>
                  </a:lnTo>
                  <a:lnTo>
                    <a:pt x="236" y="275"/>
                  </a:lnTo>
                  <a:lnTo>
                    <a:pt x="236" y="687"/>
                  </a:lnTo>
                  <a:lnTo>
                    <a:pt x="518" y="687"/>
                  </a:lnTo>
                  <a:lnTo>
                    <a:pt x="518" y="303"/>
                  </a:lnTo>
                  <a:lnTo>
                    <a:pt x="374" y="303"/>
                  </a:lnTo>
                  <a:lnTo>
                    <a:pt x="37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6480" y="2419200"/>
              <a:ext cx="353880" cy="48744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9120" y="1687680"/>
              <a:ext cx="4660920" cy="55080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89560" y="1739880"/>
              <a:ext cx="782640" cy="274680"/>
            </a:xfrm>
            <a:custGeom>
              <a:avLst/>
              <a:gdLst/>
              <a:ahLst/>
              <a:rect l="l" t="t" r="r" b="b"/>
              <a:pathLst>
                <a:path w="493" h="173">
                  <a:moveTo>
                    <a:pt x="0" y="173"/>
                  </a:moveTo>
                  <a:lnTo>
                    <a:pt x="0" y="0"/>
                  </a:lnTo>
                  <a:lnTo>
                    <a:pt x="493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7120" y="2033640"/>
              <a:ext cx="22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ed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53920" y="203364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1360" y="2451240"/>
              <a:ext cx="57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incet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6680" y="2527200"/>
              <a:ext cx="199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8960" y="245124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m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2320" y="2898720"/>
              <a:ext cx="12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95000" y="2898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12080" y="33512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ux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18440" y="33512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ux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86600" y="289872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hys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1320" y="2451240"/>
              <a:ext cx="291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cis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94040" y="245124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yaho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5520" y="24512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a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5480" y="2451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s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67920" y="24512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r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82360" y="245124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av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84040" y="2451240"/>
              <a:ext cx="25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40520" y="24512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ie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80120" y="20336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08840" y="20336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m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40360" y="203364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o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44000" y="2033640"/>
              <a:ext cx="19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0080" y="203364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01720" y="20336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5200" y="220356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4040" y="220356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4160" y="220356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3000" y="2647800"/>
              <a:ext cx="22032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4996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2760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84920" y="2647800"/>
              <a:ext cx="22032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59000" y="308124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70" y="0"/>
                  </a:moveTo>
                  <a:lnTo>
                    <a:pt x="0" y="133"/>
                  </a:lnTo>
                  <a:lnTo>
                    <a:pt x="139" y="133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08124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70" y="0"/>
                  </a:moveTo>
                  <a:lnTo>
                    <a:pt x="0" y="133"/>
                  </a:lnTo>
                  <a:lnTo>
                    <a:pt x="139" y="133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4440" y="2647800"/>
              <a:ext cx="219240" cy="21276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69" y="0"/>
                  </a:moveTo>
                  <a:lnTo>
                    <a:pt x="0" y="134"/>
                  </a:lnTo>
                  <a:lnTo>
                    <a:pt x="138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242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400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514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860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9280" y="2620800"/>
              <a:ext cx="873000" cy="271800"/>
            </a:xfrm>
            <a:custGeom>
              <a:avLst/>
              <a:gdLst/>
              <a:ahLst/>
              <a:rect l="l" t="t" r="r" b="b"/>
              <a:pathLst>
                <a:path w="550" h="171">
                  <a:moveTo>
                    <a:pt x="0" y="171"/>
                  </a:moveTo>
                  <a:lnTo>
                    <a:pt x="303" y="0"/>
                  </a:lnTo>
                  <a:lnTo>
                    <a:pt x="550" y="17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70240" y="2624040"/>
              <a:ext cx="1440" cy="263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68520" y="2195640"/>
              <a:ext cx="514440" cy="25236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0" y="159"/>
                  </a:moveTo>
                  <a:lnTo>
                    <a:pt x="166" y="0"/>
                  </a:lnTo>
                  <a:lnTo>
                    <a:pt x="324" y="15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1320" y="2203560"/>
              <a:ext cx="476280" cy="244440"/>
            </a:xfrm>
            <a:custGeom>
              <a:avLst/>
              <a:gdLst/>
              <a:ahLst/>
              <a:rect l="l" t="t" r="r" b="b"/>
              <a:pathLst>
                <a:path w="300" h="154">
                  <a:moveTo>
                    <a:pt x="0" y="154"/>
                  </a:moveTo>
                  <a:lnTo>
                    <a:pt x="126" y="0"/>
                  </a:lnTo>
                  <a:lnTo>
                    <a:pt x="300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1320" y="2203560"/>
              <a:ext cx="282600" cy="244440"/>
            </a:xfrm>
            <a:custGeom>
              <a:avLst/>
              <a:gdLst/>
              <a:ahLst/>
              <a:rect l="l" t="t" r="r" b="b"/>
              <a:pathLst>
                <a:path w="178" h="154">
                  <a:moveTo>
                    <a:pt x="0" y="154"/>
                  </a:moveTo>
                  <a:lnTo>
                    <a:pt x="89" y="0"/>
                  </a:lnTo>
                  <a:lnTo>
                    <a:pt x="178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7200" y="2203560"/>
              <a:ext cx="284040" cy="24444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0" y="154"/>
                  </a:moveTo>
                  <a:lnTo>
                    <a:pt x="90" y="0"/>
                  </a:lnTo>
                  <a:lnTo>
                    <a:pt x="179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77000" y="2203560"/>
              <a:ext cx="284040" cy="24444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0" y="154"/>
                  </a:moveTo>
                  <a:lnTo>
                    <a:pt x="89" y="0"/>
                  </a:lnTo>
                  <a:lnTo>
                    <a:pt x="179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35280" y="1739880"/>
              <a:ext cx="4419720" cy="274680"/>
            </a:xfrm>
            <a:custGeom>
              <a:avLst/>
              <a:gdLst/>
              <a:ahLst/>
              <a:rect l="l" t="t" r="r" b="b"/>
              <a:pathLst>
                <a:path w="2784" h="173">
                  <a:moveTo>
                    <a:pt x="0" y="171"/>
                  </a:moveTo>
                  <a:lnTo>
                    <a:pt x="1105" y="0"/>
                  </a:lnTo>
                  <a:lnTo>
                    <a:pt x="2784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9920" y="1739880"/>
              <a:ext cx="3133800" cy="274680"/>
            </a:xfrm>
            <a:custGeom>
              <a:avLst/>
              <a:gdLst/>
              <a:ahLst/>
              <a:rect l="l" t="t" r="r" b="b"/>
              <a:pathLst>
                <a:path w="1974" h="173">
                  <a:moveTo>
                    <a:pt x="1974" y="153"/>
                  </a:moveTo>
                  <a:lnTo>
                    <a:pt x="510" y="0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2800" y="1743120"/>
              <a:ext cx="2014200" cy="271440"/>
            </a:xfrm>
            <a:custGeom>
              <a:avLst/>
              <a:gdLst/>
              <a:ahLst/>
              <a:rect l="l" t="t" r="r" b="b"/>
              <a:pathLst>
                <a:path w="1269" h="171">
                  <a:moveTo>
                    <a:pt x="1269" y="154"/>
                  </a:moveTo>
                  <a:lnTo>
                    <a:pt x="0" y="0"/>
                  </a:lnTo>
                  <a:lnTo>
                    <a:pt x="961" y="17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736640" y="3057120"/>
              <a:ext cx="149400" cy="26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86040" y="3057480"/>
              <a:ext cx="153720" cy="26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27360" y="2489040"/>
              <a:ext cx="20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33760" y="2506680"/>
              <a:ext cx="20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92920" y="2489040"/>
              <a:ext cx="199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65640" y="2506680"/>
              <a:ext cx="20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731280" y="476424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6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BAB-7455-44FE-997F-23F7D76E2B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ource Record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ame server maintain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Class, T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/Value: not necessarily host names to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: Value gives domain name for host running name server that knows how to resolve names within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AME: Value gives canonical name for particle host; used to define ali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X: Value gives domain name for host running mail server that accepts messages for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allow other entities to defin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: how long the resource record is 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0DB-41FF-49D4-A077-D2D72FC3B4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ot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eton.edu, cit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t.princeton.edu, 128.196.128.23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sco.com, thumper.cisco.com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umper.cisco.com, 128.96.32.2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D58-8246-4931-AE43-A2EE8C0DEB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dcterms:modified xsi:type="dcterms:W3CDTF">2003-11-06T23:47:09Z</dcterms:modified>
  <cp:revision>25</cp:revision>
  <dc:subject/>
  <dc:title>Naming</dc:title>
</cp:coreProperties>
</file>