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E16-7AE0-40A5-8725-83287827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46F-4273-4599-8B12-067445F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A67-075E-431B-B77F-A0A40D12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461-21CC-4167-82CE-3AB77E3A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170-DA70-4F63-907D-712DC08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39D-063F-4D19-9BAF-1CC2459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61C-A540-4B3A-9E9F-E8763A4F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7C5-79AB-4927-AD9D-FB384E7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419-8696-4812-989C-0D1E96B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57A-4D4B-402E-905A-0773AA3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C90-4BDD-4274-A160-3B13FBF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240-053C-48F5-A55E-4110093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F9D-8E9A-4822-A7A9-CA02F313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ching: File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Usag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rit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C28-2B8F-44F2-9729-DF28227B83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Probl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-through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crash-proof cache in front of disk (e.g., battery-backed RAM, flash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timestamp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name lookup done one compon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by Unix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9E6-6568-4564-9F1A-13AF013D6B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ndrew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a research project at C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a commercial product from Trans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a single, world-wide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84E-70F5-444C-9F6F-AAA963721C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FS Fea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identified by 96-bit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VolumeId, 32-bit VnodeId, 32-bit Use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info stored in fla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vides hierarchical view to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cached on client’s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-file transfers/c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so files will migrate to desktop of people that use them; assumes sharing is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287-40C9-438C-ACF7-7463E9D26F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llback Prom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ommits to warn client about obsolet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ed to client when client gets a copy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ccesses file only if it has a callback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exercised by server, callback promise vani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-Tol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lient reboot, client discards all callback pro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must remember promises made, even if it reb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23B-559C-4402-9F7F-55A563F77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che Consis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checks for callback promise only when file is o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riting, new version of file made visible to the world only on file 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concurrent read sharing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file gets current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file creates new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rite sharing leads to unexpected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929-7181-45C2-9FCC-69F73789C6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FS Perform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known file system that scales to thousands of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-file caching work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backs more efficient than the repeated consistency checks of N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9CB-E2F1-444A-A29D-361C2E88CA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ite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roject at UC Berke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concurrent writ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ized (4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block number (not physical 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can create new blocks w/out contac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ful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notified when file opened/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teractions are client-to-server; no client-to-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EF1-EDFD-4A99-8C97-1F14602FA8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policy: write back all dirty blocks every 3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to-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-to-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rver detects concurrent writ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es clients to write back all dirty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erializes access to its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C7A-0299-4103-AFD1-247CBF3E58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lient opens, may have out-of-date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keeps version number for all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each time file opened for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keeps version number of all cached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version numbers on open; flush if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keeps track of last writer (at most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meone opens, server asks last writer to flush any dirty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open until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BB4-269B-4FB0-A92D-3199884D24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da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: AFS client often goes a long time without communicating with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a use AFS-like implementation when disconnected from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n ai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networ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3C7-9258-4791-9F53-B8562C8546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ly used Distribu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F: Sun’s 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S: Andrew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Berkeley research project; stressed 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a: CMU research project; stresse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3FA-253A-4B91-904E-01A44C9AB8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connected Ope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how to get the right files onto the client before disconn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S does a decent job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er make a list of files to kee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system learn which files user tends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BBD-A82E-4362-9528-6A70F50295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is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how to keep disconnected versions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wo disconnected users write the same file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a writer makes a disconnected version 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use callback promise since communication is im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9B0-ADEA-4069-83A2-33DB9FEE99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istenc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 it doesn’t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happens, hope it doesn’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does happen, try to patch things up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creating two files in the sa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else fails, ask the user what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16C-66C9-4EEE-BD37-77AC4269A6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26708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8600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426708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42840" y="2971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257440" y="30481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0" y="44956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7280" y="25146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78960" y="44607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8280" y="48006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re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3560" y="3276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re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480" y="32767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5880" y="518148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t perm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ay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flic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240" y="50292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g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 temp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1905120"/>
            <a:ext cx="246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t all you need, but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mart about cache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A01-2CD4-4901-94E5-1087F7B73C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erie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ixable conflicts almost never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user can go months without see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re workloads chan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da experience be applied to A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callback promises laz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working despite network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EC8-70B6-4D35-8887-E4BB80DF1A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eb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age expires, client u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Modified-Si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1A4-9498-4DF8-9D8B-F356C25360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stion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es it behave like Unix on a singl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lose is its perform to Unix on a single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can it g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5CE-23D5-438D-99C3-7A3854949B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x File Usag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iles are small (&lt;1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outnumber writes 6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access is common; random is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open short periods (75% &lt; .5s, 90% &lt; 1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iles accessed by only on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hared files written by only on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l locality: recently accessed files are most likely to be accessed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066-6AF2-411C-8219-8A360BAE5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SF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ount an NFS file system into the name space of a Unix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mount: RPC failures block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mount: RPC failures return error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FS client module on each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rnel for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FS server module on eac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rnel for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BBB-CE1E-4B15-9DAE-797A4FD87D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les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erver doesn’t store any state 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s to help performance (but not correct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: server can crash and recover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ient RPC ops must be idempo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n’t maintain lists of who has file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name file and check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BF7-2550-4B94-B265-A451548C1D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less Server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ndle, attr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, data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offset,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offset,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6840" y="28195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id, gid, siz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9760" y="281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819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ken from path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4600" y="4114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rrent fil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0040" y="41148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ient defines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7240" y="537228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en returns, guaranteed to have written data to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812-F400-43D8-9EEF-7B1C828EB3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er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ches recent reads, writes, directory-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typically has lots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che is write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odifications immediately written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, no data lost on server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client must wait for disk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49C-9D7B-413F-9BEC-301A9ADBEA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ent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cache results of reads, writes, and directory-op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s cache consistenc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f-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keeps last-modification time p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remembers time it got fi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file open or new block access, client checks its timestamp against server’s (checks every 3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8DA-8884-4487-8C91-5E9235DF2F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7T01:16:56Z</dcterms:modified>
  <cp:revision>24</cp:revision>
  <dc:subject/>
  <dc:title>Naming</dc:title>
</cp:coreProperties>
</file>