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1C6E-7839-451B-B9C0-BFF78C22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BBA-7A82-4DF7-8694-3BD3A97A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53AB-D4C1-46BE-A357-7D169B37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3772-D47D-4FE3-B9B4-E07E76B0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52E5-A011-43C9-875F-8AC94614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B102-13E4-466B-9832-5A6ECC50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C20-891E-4D3F-93A2-25D2F645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4E28-01F4-4755-82DC-DE9430DC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BD44-D2D8-4771-A1A3-C4BDE20C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747-7BAC-4DC3-B3B6-B47BA429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F87-0CB6-4D1C-BBA4-0AEA6501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D28-CB97-4885-A8C9-03DB0CBB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959B-546C-4EC8-B22F-54323F4D8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ultimedi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720"/>
            <a:ext cx="312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4E85-25DE-44F4-AC69-F421175A952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P3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.1 kHz sampling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4.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6 = 1.41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1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.41 Mbps = 4.32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into some number of frequency 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each subband into a sequence of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 each block using DCT + Quantization + Huff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k: how many bits assigned to each sub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7AB9-2AE4-47D2-AF00-E308DC95A9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TP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-Level Fr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 (app defines “tic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Packets (send periodic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rate (fraction of packets received since last re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d jit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017-3BB5-48FB-89A1-C126BB1FD8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ansmitting MPE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 the en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ation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P 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ing with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P-induced la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E5F-52E9-44A7-A1DF-3D9AEF38C93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ayered Video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yered encod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wavelet enco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Layered Multicast (RL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each layer to a different group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s subscribe to the groups they can “affor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 to learn if you can afford next higher group/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rt Packet Dropper (multicast or unica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ayers to send/drop based on observed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 directly or use RTP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2A4A-D563-439D-BF6C-A1730E186A5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al-Time Scheduling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iest Deadline First (E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e Monotonic (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rtional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djustments for dead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44D2-6B10-45B8-99DD-85C7303C55B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mpression Overview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ding and 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ffman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l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eceived = data 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executables, text files, numeric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eceived does not != data 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images, video, 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1AF-CF2B-4CA7-A578-212D0D930B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ossless Algorithms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Length Encoding  (R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AAABBCDDDD encoding as 3A2B1C4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scanned text (8-to-1 compression rati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increase size for data with variation (e.g., some im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ial Pulse Code Modulation (DPC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AAABBCDDDD encoding as A0001123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reference symbol if delta becomes too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better than RLE for many digital images (1.5-to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E01-B9C2-484A-B185-84E1185850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ctionary-Based Method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dictionary of common ter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length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 index into dictionary for each te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mpel-Ziv (LZ) is the best-know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ly achieve 2-to-1 ration on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 of LZ used to compress GIF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duce  24-bit color to 8-bit col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 common sequence of pixels as terms in dic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uncommon to achieve 10-to-1 compression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F390-A547-4927-94A8-C7ED3FD4B2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mage Compression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: Joint Photographic Expert Group (ISO/IT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y still-image compr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phas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in 8x8 block chunks (macro-bl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yscale: each pixel is three values (YU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T: transforms signal from spatial domain into and equivalent signal in the frequency domain (loss-l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 quantization to the results (loss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LE-like encoding (loss-les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7x11" descr=""/>
          <p:cNvPicPr/>
          <p:nvPr/>
        </p:nvPicPr>
        <p:blipFill>
          <a:blip r:embed="rId1"/>
          <a:stretch/>
        </p:blipFill>
        <p:spPr>
          <a:xfrm>
            <a:off x="1523880" y="2752560"/>
            <a:ext cx="6324840" cy="8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2E0-23D3-4CA5-8383-E369458AF0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Quantization and Encod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ation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     5     7     9     11   13   15   1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     7     9     11   13   15   17   1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     9     11   13   15   17   19   2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      11   13   15   17   19   21   2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   13   15   17   19   21   23   2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   15   17   19   21   23   25   2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   17   19   21   23   25   27   2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   19   21   23   25   27   29   3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ing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07x12" descr=""/>
          <p:cNvPicPr/>
          <p:nvPr/>
        </p:nvPicPr>
        <p:blipFill>
          <a:blip r:embed="rId1"/>
          <a:stretch/>
        </p:blipFill>
        <p:spPr>
          <a:xfrm>
            <a:off x="3581280" y="388620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31F-B7F5-4A14-961E-D2E4449172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PE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Picture Expert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y compression of vide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approximation: JPEG on each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remove inter-frame redunda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592C-45EE-4AA4-AFAE-823BB4A633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PEG (cont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frames: intrapi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frames: predicted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frames: bidirectional predicted pi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sequence transmitted as I P B B I B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07x13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4800600" cy="249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B78-B34E-4690-A230-504A061126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PEG (cont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and P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e for the macroblock in th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vector relative to previous reference frame (B,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vector relative to subsequent reference frame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ta for each pixel in the macro blo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90-to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high as 150-to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-to-1 for I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and B frames get another 3 to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3D2F-1686-43CB-AE01-A33BE1D8BD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22:46:17Z</dcterms:created>
  <dc:creator>klp</dc:creator>
  <dc:description/>
  <dc:language>en-US</dc:language>
  <cp:lastModifiedBy>Elsevier</cp:lastModifiedBy>
  <cp:lastPrinted>2000-02-25T19:26:04Z</cp:lastPrinted>
  <dcterms:modified xsi:type="dcterms:W3CDTF">2003-11-06T23:39:27Z</dcterms:modified>
  <cp:revision>13</cp:revision>
  <dc:subject/>
  <dc:title>No Slide Title</dc:title>
</cp:coreProperties>
</file>