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D70-9C22-4E45-AF0C-07A0BD06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7F5-9B8A-4FA9-8E4D-DF9A36EF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77C-BEA7-4A73-B130-DB1E27E4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993-4839-42C8-A896-BA3CCE74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C63-0537-4267-8751-CCC5FE25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1A5-177A-436C-8784-D722EE2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C58-57B7-4CD8-977F-392FFCEB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187-A5F8-4F28-A71F-B55D3C57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37D-494D-4823-B846-E533E08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F7F-0841-47A0-8B88-45B432B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686-35D8-4134-B84B-98BB415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9D9-33B3-44E3-8007-3D5C0E0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7C2-D2C6-4BA3-BA94-5138B4DC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er Construct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6390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le (Active)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5FC-5D26-4314-9261-1994E50D28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IP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(possibly A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Cards + Forward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lookup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P path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queue 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protoco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9E1-33B9-4EDB-AAE8-C46429DA99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4560" y="1905120"/>
            <a:ext cx="4953960" cy="4038120"/>
            <a:chOff x="2284560" y="1905120"/>
            <a:chExt cx="4953960" cy="4038120"/>
          </a:xfrm>
        </p:grpSpPr>
        <p:sp>
          <p:nvSpPr>
            <p:cNvPr id="382" name=""/>
            <p:cNvSpPr/>
            <p:nvPr/>
          </p:nvSpPr>
          <p:spPr>
            <a:xfrm>
              <a:off x="3964680" y="368172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64680" y="384336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4680" y="400500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4680" y="416628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280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056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6832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644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1160" y="3439440"/>
              <a:ext cx="1007280" cy="96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84560" y="3922560"/>
              <a:ext cx="50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9640" y="3681720"/>
              <a:ext cx="923040" cy="48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13040" y="3924000"/>
              <a:ext cx="16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88440" y="3924000"/>
              <a:ext cx="16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56200" y="3681720"/>
              <a:ext cx="923040" cy="48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3940560" y="2581560"/>
              <a:ext cx="888120" cy="5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384800" y="3277800"/>
              <a:ext cx="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3940560" y="4762440"/>
              <a:ext cx="888120" cy="5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384800" y="440820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384800" y="5458680"/>
              <a:ext cx="0" cy="4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384800" y="1905120"/>
              <a:ext cx="0" cy="4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79600" y="3924000"/>
              <a:ext cx="50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71960" y="2793240"/>
              <a:ext cx="10072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47720" y="2793240"/>
              <a:ext cx="10072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6200" y="2147400"/>
              <a:ext cx="2014560" cy="564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/ router 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88440" y="2066400"/>
              <a:ext cx="2350080" cy="137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720320" y="3358440"/>
              <a:ext cx="251640" cy="24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9B6-8141-4B62-A4D3-CDCD57C14F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Desig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06960" y="3429000"/>
            <a:ext cx="761760" cy="83808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838080"/>
              <a:gd name="textAreaBottom" fmla="*/ 801000 h 838080"/>
            </a:gdLst>
            <a:ahLst/>
            <a:rect l="textAreaLeft" t="textAreaTop" r="textAreaRight" b="textAreaBottom"/>
            <a:pathLst>
              <a:path w="21600" h="23763">
                <a:moveTo>
                  <a:pt x="3600" y="0"/>
                </a:moveTo>
                <a:arcTo wR="3600" hR="3600" stAng="16200000" swAng="-5400000"/>
                <a:lnTo>
                  <a:pt x="0" y="20163"/>
                </a:lnTo>
                <a:arcTo wR="3600" hR="3600" stAng="10800000" swAng="-5400000"/>
                <a:lnTo>
                  <a:pt x="18000" y="23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3454560" y="2819160"/>
            <a:ext cx="752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54560" y="4173480"/>
            <a:ext cx="742680" cy="7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311560" y="2057400"/>
            <a:ext cx="1752480" cy="1066680"/>
            <a:chOff x="2311560" y="2057400"/>
            <a:chExt cx="1752480" cy="1066680"/>
          </a:xfrm>
        </p:grpSpPr>
        <p:sp>
          <p:nvSpPr>
            <p:cNvPr id="413" name=""/>
            <p:cNvSpPr/>
            <p:nvPr/>
          </p:nvSpPr>
          <p:spPr>
            <a:xfrm>
              <a:off x="3149640" y="205740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6840" y="22860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06840" y="26668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0520" y="2743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530520" y="2438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25960" y="22096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25960" y="26668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78240" y="243828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301920" y="27428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01920" y="23623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73320" y="22860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63840" y="21337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73320" y="25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3320" y="2743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73320" y="29718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01720" y="246708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1560" y="2286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3840" y="28195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11560" y="29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311560" y="3276720"/>
            <a:ext cx="1752480" cy="1066680"/>
            <a:chOff x="2311560" y="3276720"/>
            <a:chExt cx="1752480" cy="1066680"/>
          </a:xfrm>
        </p:grpSpPr>
        <p:sp>
          <p:nvSpPr>
            <p:cNvPr id="433" name=""/>
            <p:cNvSpPr/>
            <p:nvPr/>
          </p:nvSpPr>
          <p:spPr>
            <a:xfrm>
              <a:off x="3149640" y="327672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06840" y="350532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06840" y="38862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30520" y="396252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530520" y="36576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25960" y="34290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960" y="38862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78240" y="365760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301920" y="396216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01920" y="35816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73320" y="3505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63840" y="33530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73320" y="37339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7332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73320" y="4191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01720" y="368640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1560" y="3505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63840" y="40388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1156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311560" y="4495680"/>
            <a:ext cx="1752480" cy="1066680"/>
            <a:chOff x="2311560" y="4495680"/>
            <a:chExt cx="1752480" cy="1066680"/>
          </a:xfrm>
        </p:grpSpPr>
        <p:sp>
          <p:nvSpPr>
            <p:cNvPr id="453" name=""/>
            <p:cNvSpPr/>
            <p:nvPr/>
          </p:nvSpPr>
          <p:spPr>
            <a:xfrm>
              <a:off x="3149640" y="449568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06840" y="4724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0684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0520" y="51814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530520" y="48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5960" y="46479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25960" y="51051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78240" y="487656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301920" y="51811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01920" y="480060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73320" y="4724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63840" y="45720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73320" y="4952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73320" y="5181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7332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01720" y="490536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11560" y="4724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63840" y="52578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105520" y="2057400"/>
            <a:ext cx="1752480" cy="1066680"/>
            <a:chOff x="5105520" y="2057400"/>
            <a:chExt cx="1752480" cy="1066680"/>
          </a:xfrm>
        </p:grpSpPr>
        <p:sp>
          <p:nvSpPr>
            <p:cNvPr id="473" name=""/>
            <p:cNvSpPr/>
            <p:nvPr/>
          </p:nvSpPr>
          <p:spPr>
            <a:xfrm flipH="1">
              <a:off x="5105520" y="205740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81840" y="22860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181840" y="26668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62720" y="2743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5562720" y="2438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867280" y="22096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5867280" y="26668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638680" y="243828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5791320" y="27428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791320" y="23623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943600" y="22860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095880" y="21337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943600" y="25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943600" y="2743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943600" y="29718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310800" y="246708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705720" y="2286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095880" y="28195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05720" y="29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05520" y="3276720"/>
            <a:ext cx="1752480" cy="1066680"/>
            <a:chOff x="5105520" y="3276720"/>
            <a:chExt cx="1752480" cy="1066680"/>
          </a:xfrm>
        </p:grpSpPr>
        <p:sp>
          <p:nvSpPr>
            <p:cNvPr id="493" name=""/>
            <p:cNvSpPr/>
            <p:nvPr/>
          </p:nvSpPr>
          <p:spPr>
            <a:xfrm flipH="1">
              <a:off x="5105520" y="327672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181840" y="350532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181840" y="38862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562720" y="396252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5562720" y="36576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867280" y="34290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867280" y="38862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638680" y="365760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5791320" y="396216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91320" y="35816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943600" y="3505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095880" y="33530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943600" y="37339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94360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943600" y="4191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10800" y="368640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705720" y="3505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095880" y="40388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70572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105520" y="4495680"/>
            <a:ext cx="1752480" cy="1066680"/>
            <a:chOff x="5105520" y="4495680"/>
            <a:chExt cx="1752480" cy="1066680"/>
          </a:xfrm>
        </p:grpSpPr>
        <p:sp>
          <p:nvSpPr>
            <p:cNvPr id="513" name=""/>
            <p:cNvSpPr/>
            <p:nvPr/>
          </p:nvSpPr>
          <p:spPr>
            <a:xfrm flipH="1">
              <a:off x="5105520" y="449568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181840" y="4724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18184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562720" y="51814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5562720" y="48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867280" y="46479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867280" y="51051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638680" y="487656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791320" y="51811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791320" y="480060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943600" y="4724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095880" y="45720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943600" y="4952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943600" y="5181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94360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310800" y="490536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720" y="4724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095880" y="52578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70572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H="1">
            <a:off x="4968360" y="2819520"/>
            <a:ext cx="746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68720" y="4191120"/>
            <a:ext cx="746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409" idx="3"/>
            <a:endCxn id="500" idx="3"/>
          </p:cNvCxnSpPr>
          <p:nvPr/>
        </p:nvCxnSpPr>
        <p:spPr>
          <a:xfrm flipV="1">
            <a:off x="4978440" y="3846240"/>
            <a:ext cx="6516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440" idx="3"/>
            <a:endCxn id="409" idx="1"/>
          </p:cNvCxnSpPr>
          <p:nvPr/>
        </p:nvCxnSpPr>
        <p:spPr>
          <a:xfrm>
            <a:off x="3539880" y="3847680"/>
            <a:ext cx="657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73B-D6B0-420F-AECC-5DE6033095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rkstation-Bas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 band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 of the I/O bus bandwid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shared among all hosts connected to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800Mbps bus can support 8 T3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62520" y="3124080"/>
            <a:ext cx="4692600" cy="2554200"/>
            <a:chOff x="3962520" y="3124080"/>
            <a:chExt cx="4692600" cy="2554200"/>
          </a:xfrm>
        </p:grpSpPr>
        <p:sp>
          <p:nvSpPr>
            <p:cNvPr id="46" name=""/>
            <p:cNvSpPr/>
            <p:nvPr/>
          </p:nvSpPr>
          <p:spPr>
            <a:xfrm>
              <a:off x="3962520" y="3124080"/>
              <a:ext cx="2549520" cy="2554200"/>
            </a:xfrm>
            <a:custGeom>
              <a:avLst/>
              <a:gdLst/>
              <a:ahLst/>
              <a:rect l="l" t="t" r="r" b="b"/>
              <a:pathLst>
                <a:path w="1606" h="1609">
                  <a:moveTo>
                    <a:pt x="1603" y="1609"/>
                  </a:moveTo>
                  <a:lnTo>
                    <a:pt x="1606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1606" y="1609"/>
                  </a:lnTo>
                  <a:lnTo>
                    <a:pt x="1606" y="1609"/>
                  </a:lnTo>
                  <a:lnTo>
                    <a:pt x="1603" y="160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  <a:lnTo>
                    <a:pt x="744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  <a:lnTo>
                    <a:pt x="754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12160" y="3682800"/>
              <a:ext cx="333360" cy="152640"/>
            </a:xfrm>
            <a:custGeom>
              <a:avLst/>
              <a:gdLst/>
              <a:ahLst/>
              <a:rect l="l" t="t" r="r" b="b"/>
              <a:pathLst>
                <a:path w="210" h="96">
                  <a:moveTo>
                    <a:pt x="210" y="0"/>
                  </a:moveTo>
                  <a:lnTo>
                    <a:pt x="52" y="3"/>
                  </a:lnTo>
                  <a:lnTo>
                    <a:pt x="0" y="50"/>
                  </a:lnTo>
                  <a:lnTo>
                    <a:pt x="54" y="96"/>
                  </a:lnTo>
                  <a:lnTo>
                    <a:pt x="210" y="9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12160" y="3682800"/>
              <a:ext cx="333360" cy="152640"/>
            </a:xfrm>
            <a:custGeom>
              <a:avLst/>
              <a:gdLst/>
              <a:ahLst/>
              <a:rect l="l" t="t" r="r" b="b"/>
              <a:pathLst>
                <a:path w="210" h="96">
                  <a:moveTo>
                    <a:pt x="210" y="0"/>
                  </a:moveTo>
                  <a:lnTo>
                    <a:pt x="52" y="3"/>
                  </a:lnTo>
                  <a:lnTo>
                    <a:pt x="0" y="50"/>
                  </a:lnTo>
                  <a:lnTo>
                    <a:pt x="54" y="96"/>
                  </a:lnTo>
                  <a:lnTo>
                    <a:pt x="210" y="96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12160" y="4378320"/>
              <a:ext cx="344520" cy="149040"/>
            </a:xfrm>
            <a:custGeom>
              <a:avLst/>
              <a:gdLst/>
              <a:ahLst/>
              <a:rect l="l" t="t" r="r" b="b"/>
              <a:pathLst>
                <a:path w="217" h="94">
                  <a:moveTo>
                    <a:pt x="217" y="0"/>
                  </a:move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217" y="9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12160" y="4378320"/>
              <a:ext cx="344520" cy="149040"/>
            </a:xfrm>
            <a:custGeom>
              <a:avLst/>
              <a:gdLst/>
              <a:ahLst/>
              <a:rect l="l" t="t" r="r" b="b"/>
              <a:pathLst>
                <a:path w="217" h="94">
                  <a:moveTo>
                    <a:pt x="217" y="0"/>
                  </a:move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217" y="94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15400" y="5068800"/>
              <a:ext cx="330120" cy="1522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5" y="0"/>
                  </a:move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208" y="9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15400" y="5068800"/>
              <a:ext cx="330120" cy="1522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5" y="0"/>
                  </a:move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208" y="96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7480" y="3552840"/>
              <a:ext cx="1200240" cy="431640"/>
            </a:xfrm>
            <a:custGeom>
              <a:avLst/>
              <a:gdLst/>
              <a:ahLst/>
              <a:rect l="l" t="t" r="r" b="b"/>
              <a:pathLst>
                <a:path w="756" h="272">
                  <a:moveTo>
                    <a:pt x="753" y="269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6" y="272"/>
                  </a:lnTo>
                  <a:lnTo>
                    <a:pt x="756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42400" y="3695760"/>
              <a:ext cx="612720" cy="149040"/>
            </a:xfrm>
            <a:custGeom>
              <a:avLst/>
              <a:gdLst/>
              <a:ahLst/>
              <a:rect l="l" t="t" r="r" b="b"/>
              <a:pathLst>
                <a:path w="386" h="94">
                  <a:moveTo>
                    <a:pt x="383" y="49"/>
                  </a:moveTo>
                  <a:lnTo>
                    <a:pt x="329" y="0"/>
                  </a:lnTo>
                  <a:lnTo>
                    <a:pt x="44" y="0"/>
                  </a:lnTo>
                  <a:lnTo>
                    <a:pt x="0" y="44"/>
                  </a:lnTo>
                  <a:lnTo>
                    <a:pt x="46" y="94"/>
                  </a:lnTo>
                  <a:lnTo>
                    <a:pt x="329" y="94"/>
                  </a:lnTo>
                  <a:lnTo>
                    <a:pt x="386" y="49"/>
                  </a:lnTo>
                  <a:lnTo>
                    <a:pt x="386" y="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42400" y="4386240"/>
              <a:ext cx="612720" cy="149040"/>
            </a:xfrm>
            <a:custGeom>
              <a:avLst/>
              <a:gdLst/>
              <a:ahLst/>
              <a:rect l="l" t="t" r="r" b="b"/>
              <a:pathLst>
                <a:path w="386" h="94">
                  <a:moveTo>
                    <a:pt x="386" y="50"/>
                  </a:moveTo>
                  <a:lnTo>
                    <a:pt x="329" y="0"/>
                  </a:lnTo>
                  <a:lnTo>
                    <a:pt x="46" y="0"/>
                  </a:lnTo>
                  <a:lnTo>
                    <a:pt x="0" y="44"/>
                  </a:lnTo>
                  <a:lnTo>
                    <a:pt x="49" y="94"/>
                  </a:lnTo>
                  <a:lnTo>
                    <a:pt x="329" y="94"/>
                  </a:lnTo>
                  <a:lnTo>
                    <a:pt x="386" y="52"/>
                  </a:lnTo>
                  <a:lnTo>
                    <a:pt x="386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42400" y="5078160"/>
              <a:ext cx="612720" cy="150840"/>
            </a:xfrm>
            <a:custGeom>
              <a:avLst/>
              <a:gdLst/>
              <a:ahLst/>
              <a:rect l="l" t="t" r="r" b="b"/>
              <a:pathLst>
                <a:path w="386" h="95">
                  <a:moveTo>
                    <a:pt x="383" y="51"/>
                  </a:moveTo>
                  <a:lnTo>
                    <a:pt x="329" y="0"/>
                  </a:lnTo>
                  <a:lnTo>
                    <a:pt x="44" y="0"/>
                  </a:lnTo>
                  <a:lnTo>
                    <a:pt x="0" y="46"/>
                  </a:lnTo>
                  <a:lnTo>
                    <a:pt x="46" y="95"/>
                  </a:lnTo>
                  <a:lnTo>
                    <a:pt x="329" y="95"/>
                  </a:lnTo>
                  <a:lnTo>
                    <a:pt x="386" y="51"/>
                  </a:lnTo>
                  <a:lnTo>
                    <a:pt x="386" y="5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5160" y="36464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18200" y="524340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in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1880" y="31543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/O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50680" y="36669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37480" y="4246560"/>
              <a:ext cx="1200240" cy="428400"/>
            </a:xfrm>
            <a:custGeom>
              <a:avLst/>
              <a:gdLst/>
              <a:ahLst/>
              <a:rect l="l" t="t" r="r" b="b"/>
              <a:pathLst>
                <a:path w="756" h="270">
                  <a:moveTo>
                    <a:pt x="753" y="270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0"/>
                  </a:lnTo>
                  <a:lnTo>
                    <a:pt x="756" y="270"/>
                  </a:lnTo>
                  <a:lnTo>
                    <a:pt x="756" y="27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50680" y="435924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37480" y="4933800"/>
              <a:ext cx="1200240" cy="432000"/>
            </a:xfrm>
            <a:custGeom>
              <a:avLst/>
              <a:gdLst/>
              <a:ahLst/>
              <a:rect l="l" t="t" r="r" b="b"/>
              <a:pathLst>
                <a:path w="756" h="272">
                  <a:moveTo>
                    <a:pt x="753" y="269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6" y="272"/>
                  </a:lnTo>
                  <a:lnTo>
                    <a:pt x="756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50680" y="50529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12040" y="5052960"/>
              <a:ext cx="54000" cy="18108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4" y="11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15400" y="5068800"/>
              <a:ext cx="617400" cy="15228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52"/>
                  </a:moveTo>
                  <a:lnTo>
                    <a:pt x="332" y="0"/>
                  </a:ln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332" y="96"/>
                  </a:lnTo>
                  <a:lnTo>
                    <a:pt x="389" y="52"/>
                  </a:lnTo>
                  <a:lnTo>
                    <a:pt x="389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12040" y="4365360"/>
              <a:ext cx="85680" cy="190800"/>
            </a:xfrm>
            <a:custGeom>
              <a:avLst/>
              <a:gdLst/>
              <a:ahLst/>
              <a:rect l="l" t="t" r="r" b="b"/>
              <a:pathLst>
                <a:path w="54" h="120">
                  <a:moveTo>
                    <a:pt x="54" y="11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12160" y="4378320"/>
              <a:ext cx="620640" cy="149040"/>
            </a:xfrm>
            <a:custGeom>
              <a:avLst/>
              <a:gdLst/>
              <a:ahLst/>
              <a:rect l="l" t="t" r="r" b="b"/>
              <a:pathLst>
                <a:path w="391" h="94">
                  <a:moveTo>
                    <a:pt x="391" y="49"/>
                  </a:moveTo>
                  <a:lnTo>
                    <a:pt x="334" y="0"/>
                  </a:ln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334" y="94"/>
                  </a:lnTo>
                  <a:lnTo>
                    <a:pt x="391" y="52"/>
                  </a:lnTo>
                  <a:lnTo>
                    <a:pt x="391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2040" y="3651120"/>
              <a:ext cx="82800" cy="217440"/>
            </a:xfrm>
            <a:custGeom>
              <a:avLst/>
              <a:gdLst/>
              <a:ahLst/>
              <a:rect l="l" t="t" r="r" b="b"/>
              <a:pathLst>
                <a:path w="52" h="137">
                  <a:moveTo>
                    <a:pt x="52" y="137"/>
                  </a:moveTo>
                  <a:lnTo>
                    <a:pt x="52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52" y="137"/>
                  </a:lnTo>
                  <a:lnTo>
                    <a:pt x="52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2160" y="3687480"/>
              <a:ext cx="620640" cy="147960"/>
            </a:xfrm>
            <a:custGeom>
              <a:avLst/>
              <a:gdLst/>
              <a:ahLst/>
              <a:rect l="l" t="t" r="r" b="b"/>
              <a:pathLst>
                <a:path w="391" h="93">
                  <a:moveTo>
                    <a:pt x="391" y="49"/>
                  </a:moveTo>
                  <a:lnTo>
                    <a:pt x="334" y="0"/>
                  </a:lnTo>
                  <a:lnTo>
                    <a:pt x="52" y="0"/>
                  </a:lnTo>
                  <a:lnTo>
                    <a:pt x="0" y="47"/>
                  </a:lnTo>
                  <a:lnTo>
                    <a:pt x="54" y="93"/>
                  </a:lnTo>
                  <a:lnTo>
                    <a:pt x="334" y="93"/>
                  </a:lnTo>
                  <a:lnTo>
                    <a:pt x="391" y="49"/>
                  </a:lnTo>
                  <a:lnTo>
                    <a:pt x="391" y="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69200" y="3762360"/>
              <a:ext cx="2360520" cy="1388880"/>
            </a:xfrm>
            <a:custGeom>
              <a:avLst/>
              <a:gdLst/>
              <a:ahLst/>
              <a:rect l="l" t="t" r="r" b="b"/>
              <a:pathLst>
                <a:path w="1487" h="875">
                  <a:moveTo>
                    <a:pt x="1487" y="0"/>
                  </a:moveTo>
                  <a:lnTo>
                    <a:pt x="925" y="0"/>
                  </a:lnTo>
                  <a:lnTo>
                    <a:pt x="925" y="2"/>
                  </a:lnTo>
                  <a:lnTo>
                    <a:pt x="920" y="2"/>
                  </a:lnTo>
                  <a:lnTo>
                    <a:pt x="912" y="5"/>
                  </a:lnTo>
                  <a:lnTo>
                    <a:pt x="904" y="7"/>
                  </a:lnTo>
                  <a:lnTo>
                    <a:pt x="897" y="10"/>
                  </a:lnTo>
                  <a:lnTo>
                    <a:pt x="886" y="15"/>
                  </a:lnTo>
                  <a:lnTo>
                    <a:pt x="876" y="23"/>
                  </a:lnTo>
                  <a:lnTo>
                    <a:pt x="866" y="28"/>
                  </a:lnTo>
                  <a:lnTo>
                    <a:pt x="858" y="39"/>
                  </a:lnTo>
                  <a:lnTo>
                    <a:pt x="853" y="49"/>
                  </a:lnTo>
                  <a:lnTo>
                    <a:pt x="847" y="59"/>
                  </a:lnTo>
                  <a:lnTo>
                    <a:pt x="845" y="70"/>
                  </a:lnTo>
                  <a:lnTo>
                    <a:pt x="842" y="77"/>
                  </a:lnTo>
                  <a:lnTo>
                    <a:pt x="840" y="88"/>
                  </a:lnTo>
                  <a:lnTo>
                    <a:pt x="837" y="101"/>
                  </a:lnTo>
                  <a:lnTo>
                    <a:pt x="834" y="114"/>
                  </a:lnTo>
                  <a:lnTo>
                    <a:pt x="832" y="129"/>
                  </a:lnTo>
                  <a:lnTo>
                    <a:pt x="832" y="147"/>
                  </a:lnTo>
                  <a:lnTo>
                    <a:pt x="829" y="168"/>
                  </a:lnTo>
                  <a:lnTo>
                    <a:pt x="829" y="191"/>
                  </a:lnTo>
                  <a:lnTo>
                    <a:pt x="829" y="217"/>
                  </a:lnTo>
                  <a:lnTo>
                    <a:pt x="829" y="243"/>
                  </a:lnTo>
                  <a:lnTo>
                    <a:pt x="829" y="272"/>
                  </a:lnTo>
                  <a:lnTo>
                    <a:pt x="829" y="300"/>
                  </a:lnTo>
                  <a:lnTo>
                    <a:pt x="829" y="331"/>
                  </a:lnTo>
                  <a:lnTo>
                    <a:pt x="829" y="360"/>
                  </a:lnTo>
                  <a:lnTo>
                    <a:pt x="829" y="386"/>
                  </a:lnTo>
                  <a:lnTo>
                    <a:pt x="829" y="412"/>
                  </a:lnTo>
                  <a:lnTo>
                    <a:pt x="827" y="435"/>
                  </a:lnTo>
                  <a:lnTo>
                    <a:pt x="824" y="453"/>
                  </a:lnTo>
                  <a:lnTo>
                    <a:pt x="816" y="471"/>
                  </a:lnTo>
                  <a:lnTo>
                    <a:pt x="811" y="487"/>
                  </a:lnTo>
                  <a:lnTo>
                    <a:pt x="801" y="497"/>
                  </a:lnTo>
                  <a:lnTo>
                    <a:pt x="793" y="507"/>
                  </a:lnTo>
                  <a:lnTo>
                    <a:pt x="783" y="513"/>
                  </a:lnTo>
                  <a:lnTo>
                    <a:pt x="775" y="515"/>
                  </a:lnTo>
                  <a:lnTo>
                    <a:pt x="767" y="515"/>
                  </a:lnTo>
                  <a:lnTo>
                    <a:pt x="759" y="515"/>
                  </a:lnTo>
                  <a:lnTo>
                    <a:pt x="757" y="515"/>
                  </a:lnTo>
                  <a:lnTo>
                    <a:pt x="754" y="515"/>
                  </a:lnTo>
                  <a:lnTo>
                    <a:pt x="78" y="515"/>
                  </a:lnTo>
                  <a:lnTo>
                    <a:pt x="75" y="518"/>
                  </a:lnTo>
                  <a:lnTo>
                    <a:pt x="70" y="518"/>
                  </a:lnTo>
                  <a:lnTo>
                    <a:pt x="65" y="523"/>
                  </a:lnTo>
                  <a:lnTo>
                    <a:pt x="55" y="526"/>
                  </a:lnTo>
                  <a:lnTo>
                    <a:pt x="47" y="533"/>
                  </a:lnTo>
                  <a:lnTo>
                    <a:pt x="36" y="538"/>
                  </a:lnTo>
                  <a:lnTo>
                    <a:pt x="29" y="546"/>
                  </a:lnTo>
                  <a:lnTo>
                    <a:pt x="21" y="557"/>
                  </a:lnTo>
                  <a:lnTo>
                    <a:pt x="13" y="564"/>
                  </a:lnTo>
                  <a:lnTo>
                    <a:pt x="8" y="575"/>
                  </a:lnTo>
                  <a:lnTo>
                    <a:pt x="8" y="583"/>
                  </a:lnTo>
                  <a:lnTo>
                    <a:pt x="5" y="590"/>
                  </a:lnTo>
                  <a:lnTo>
                    <a:pt x="5" y="598"/>
                  </a:lnTo>
                  <a:lnTo>
                    <a:pt x="3" y="608"/>
                  </a:lnTo>
                  <a:lnTo>
                    <a:pt x="3" y="616"/>
                  </a:lnTo>
                  <a:lnTo>
                    <a:pt x="3" y="624"/>
                  </a:lnTo>
                  <a:lnTo>
                    <a:pt x="3" y="632"/>
                  </a:lnTo>
                  <a:lnTo>
                    <a:pt x="0" y="637"/>
                  </a:lnTo>
                  <a:lnTo>
                    <a:pt x="0" y="640"/>
                  </a:lnTo>
                  <a:lnTo>
                    <a:pt x="0" y="642"/>
                  </a:lnTo>
                  <a:lnTo>
                    <a:pt x="0" y="779"/>
                  </a:lnTo>
                  <a:lnTo>
                    <a:pt x="0" y="782"/>
                  </a:lnTo>
                  <a:lnTo>
                    <a:pt x="0" y="790"/>
                  </a:lnTo>
                  <a:lnTo>
                    <a:pt x="0" y="800"/>
                  </a:lnTo>
                  <a:lnTo>
                    <a:pt x="3" y="813"/>
                  </a:lnTo>
                  <a:lnTo>
                    <a:pt x="3" y="826"/>
                  </a:lnTo>
                  <a:lnTo>
                    <a:pt x="5" y="842"/>
                  </a:lnTo>
                  <a:lnTo>
                    <a:pt x="8" y="855"/>
                  </a:lnTo>
                  <a:lnTo>
                    <a:pt x="11" y="865"/>
                  </a:lnTo>
                  <a:lnTo>
                    <a:pt x="18" y="873"/>
                  </a:lnTo>
                  <a:lnTo>
                    <a:pt x="24" y="875"/>
                  </a:lnTo>
                  <a:lnTo>
                    <a:pt x="31" y="870"/>
                  </a:lnTo>
                  <a:lnTo>
                    <a:pt x="36" y="860"/>
                  </a:lnTo>
                  <a:lnTo>
                    <a:pt x="42" y="844"/>
                  </a:lnTo>
                  <a:lnTo>
                    <a:pt x="42" y="823"/>
                  </a:lnTo>
                  <a:lnTo>
                    <a:pt x="44" y="800"/>
                  </a:lnTo>
                  <a:lnTo>
                    <a:pt x="44" y="779"/>
                  </a:lnTo>
                  <a:lnTo>
                    <a:pt x="44" y="759"/>
                  </a:lnTo>
                  <a:lnTo>
                    <a:pt x="44" y="743"/>
                  </a:lnTo>
                  <a:lnTo>
                    <a:pt x="44" y="733"/>
                  </a:lnTo>
                  <a:lnTo>
                    <a:pt x="44" y="728"/>
                  </a:lnTo>
                  <a:lnTo>
                    <a:pt x="44" y="725"/>
                  </a:lnTo>
                  <a:lnTo>
                    <a:pt x="44" y="720"/>
                  </a:lnTo>
                  <a:lnTo>
                    <a:pt x="44" y="709"/>
                  </a:lnTo>
                  <a:lnTo>
                    <a:pt x="47" y="697"/>
                  </a:lnTo>
                  <a:lnTo>
                    <a:pt x="47" y="681"/>
                  </a:lnTo>
                  <a:lnTo>
                    <a:pt x="47" y="665"/>
                  </a:lnTo>
                  <a:lnTo>
                    <a:pt x="49" y="650"/>
                  </a:lnTo>
                  <a:lnTo>
                    <a:pt x="52" y="634"/>
                  </a:lnTo>
                  <a:lnTo>
                    <a:pt x="55" y="621"/>
                  </a:lnTo>
                  <a:lnTo>
                    <a:pt x="57" y="614"/>
                  </a:lnTo>
                  <a:lnTo>
                    <a:pt x="60" y="606"/>
                  </a:lnTo>
                  <a:lnTo>
                    <a:pt x="65" y="603"/>
                  </a:lnTo>
                  <a:lnTo>
                    <a:pt x="75" y="598"/>
                  </a:lnTo>
                  <a:lnTo>
                    <a:pt x="83" y="595"/>
                  </a:lnTo>
                  <a:lnTo>
                    <a:pt x="93" y="595"/>
                  </a:lnTo>
                  <a:lnTo>
                    <a:pt x="104" y="593"/>
                  </a:lnTo>
                  <a:lnTo>
                    <a:pt x="114" y="593"/>
                  </a:lnTo>
                  <a:lnTo>
                    <a:pt x="119" y="593"/>
                  </a:lnTo>
                  <a:lnTo>
                    <a:pt x="125" y="593"/>
                  </a:lnTo>
                  <a:lnTo>
                    <a:pt x="127" y="593"/>
                  </a:lnTo>
                  <a:lnTo>
                    <a:pt x="720" y="593"/>
                  </a:lnTo>
                  <a:lnTo>
                    <a:pt x="723" y="593"/>
                  </a:lnTo>
                  <a:lnTo>
                    <a:pt x="726" y="593"/>
                  </a:lnTo>
                  <a:lnTo>
                    <a:pt x="733" y="593"/>
                  </a:lnTo>
                  <a:lnTo>
                    <a:pt x="744" y="593"/>
                  </a:lnTo>
                  <a:lnTo>
                    <a:pt x="754" y="593"/>
                  </a:lnTo>
                  <a:lnTo>
                    <a:pt x="764" y="590"/>
                  </a:lnTo>
                  <a:lnTo>
                    <a:pt x="777" y="588"/>
                  </a:lnTo>
                  <a:lnTo>
                    <a:pt x="790" y="585"/>
                  </a:lnTo>
                  <a:lnTo>
                    <a:pt x="803" y="580"/>
                  </a:lnTo>
                  <a:lnTo>
                    <a:pt x="814" y="572"/>
                  </a:lnTo>
                  <a:lnTo>
                    <a:pt x="824" y="564"/>
                  </a:lnTo>
                  <a:lnTo>
                    <a:pt x="832" y="557"/>
                  </a:lnTo>
                  <a:lnTo>
                    <a:pt x="837" y="549"/>
                  </a:lnTo>
                  <a:lnTo>
                    <a:pt x="842" y="544"/>
                  </a:lnTo>
                  <a:lnTo>
                    <a:pt x="847" y="536"/>
                  </a:lnTo>
                  <a:lnTo>
                    <a:pt x="850" y="528"/>
                  </a:lnTo>
                  <a:lnTo>
                    <a:pt x="855" y="520"/>
                  </a:lnTo>
                  <a:lnTo>
                    <a:pt x="858" y="510"/>
                  </a:lnTo>
                  <a:lnTo>
                    <a:pt x="863" y="500"/>
                  </a:lnTo>
                  <a:lnTo>
                    <a:pt x="868" y="489"/>
                  </a:lnTo>
                  <a:lnTo>
                    <a:pt x="876" y="474"/>
                  </a:lnTo>
                  <a:lnTo>
                    <a:pt x="884" y="463"/>
                  </a:lnTo>
                  <a:lnTo>
                    <a:pt x="894" y="456"/>
                  </a:lnTo>
                  <a:lnTo>
                    <a:pt x="902" y="448"/>
                  </a:lnTo>
                  <a:lnTo>
                    <a:pt x="912" y="443"/>
                  </a:lnTo>
                  <a:lnTo>
                    <a:pt x="920" y="440"/>
                  </a:lnTo>
                  <a:lnTo>
                    <a:pt x="925" y="440"/>
                  </a:lnTo>
                  <a:lnTo>
                    <a:pt x="933" y="440"/>
                  </a:lnTo>
                  <a:lnTo>
                    <a:pt x="935" y="437"/>
                  </a:lnTo>
                  <a:lnTo>
                    <a:pt x="935" y="437"/>
                  </a:lnTo>
                  <a:lnTo>
                    <a:pt x="1423" y="437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07320" y="4437000"/>
              <a:ext cx="93600" cy="4932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0" y="28"/>
                  </a:moveTo>
                  <a:lnTo>
                    <a:pt x="59" y="15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57200" y="3048120"/>
            <a:ext cx="3505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-per-sec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ble to switch small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 packets-per-second is ach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64-byte packets implies 51.2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236-C3B3-4567-B37F-5BFFDF5467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ing Hardwar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(depends on traffic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 (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management (e.g., map VCIs, route data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ing (input and/or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mple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do buffering (inter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86200" y="2514600"/>
            <a:ext cx="3962520" cy="1679040"/>
            <a:chOff x="3886200" y="2514600"/>
            <a:chExt cx="3962520" cy="1679040"/>
          </a:xfrm>
        </p:grpSpPr>
        <p:sp>
          <p:nvSpPr>
            <p:cNvPr id="93" name=""/>
            <p:cNvSpPr/>
            <p:nvPr/>
          </p:nvSpPr>
          <p:spPr>
            <a:xfrm>
              <a:off x="4484520" y="25938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13680" y="26967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32160" y="2514600"/>
              <a:ext cx="793800" cy="363240"/>
            </a:xfrm>
            <a:custGeom>
              <a:avLst/>
              <a:gdLst/>
              <a:ahLst/>
              <a:rect l="l" t="t" r="r" b="b"/>
              <a:pathLst>
                <a:path w="831" h="574">
                  <a:moveTo>
                    <a:pt x="827" y="574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1" y="574"/>
                  </a:lnTo>
                  <a:lnTo>
                    <a:pt x="831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84520" y="30351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3680" y="31302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160" y="2949120"/>
              <a:ext cx="793800" cy="361800"/>
            </a:xfrm>
            <a:custGeom>
              <a:avLst/>
              <a:gdLst/>
              <a:ahLst/>
              <a:rect l="l" t="t" r="r" b="b"/>
              <a:pathLst>
                <a:path w="831" h="573">
                  <a:moveTo>
                    <a:pt x="827" y="573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1" y="573"/>
                  </a:lnTo>
                  <a:lnTo>
                    <a:pt x="831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84520" y="3481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13680" y="3573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32160" y="3395520"/>
              <a:ext cx="793800" cy="362880"/>
            </a:xfrm>
            <a:custGeom>
              <a:avLst/>
              <a:gdLst/>
              <a:ahLst/>
              <a:rect l="l" t="t" r="r" b="b"/>
              <a:pathLst>
                <a:path w="831" h="573">
                  <a:moveTo>
                    <a:pt x="827" y="570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1" y="573"/>
                  </a:lnTo>
                  <a:lnTo>
                    <a:pt x="831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84520" y="3914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3680" y="40096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32160" y="3828600"/>
              <a:ext cx="793800" cy="365040"/>
            </a:xfrm>
            <a:custGeom>
              <a:avLst/>
              <a:gdLst/>
              <a:ahLst/>
              <a:rect l="l" t="t" r="r" b="b"/>
              <a:pathLst>
                <a:path w="831" h="574">
                  <a:moveTo>
                    <a:pt x="827" y="571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1" y="574"/>
                  </a:lnTo>
                  <a:lnTo>
                    <a:pt x="831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97600" y="259848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77520" y="26967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11840" y="2514600"/>
              <a:ext cx="792360" cy="363240"/>
            </a:xfrm>
            <a:custGeom>
              <a:avLst/>
              <a:gdLst/>
              <a:ahLst/>
              <a:rect l="l" t="t" r="r" b="b"/>
              <a:pathLst>
                <a:path w="830" h="574">
                  <a:moveTo>
                    <a:pt x="826" y="574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0" y="574"/>
                  </a:lnTo>
                  <a:lnTo>
                    <a:pt x="830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89680" y="302868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71400" y="31255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11840" y="2949120"/>
              <a:ext cx="792360" cy="361800"/>
            </a:xfrm>
            <a:custGeom>
              <a:avLst/>
              <a:gdLst/>
              <a:ahLst/>
              <a:rect l="l" t="t" r="r" b="b"/>
              <a:pathLst>
                <a:path w="830" h="573">
                  <a:moveTo>
                    <a:pt x="826" y="573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0" y="573"/>
                  </a:lnTo>
                  <a:lnTo>
                    <a:pt x="830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9680" y="34747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71400" y="35701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1840" y="3395520"/>
              <a:ext cx="792360" cy="362880"/>
            </a:xfrm>
            <a:custGeom>
              <a:avLst/>
              <a:gdLst/>
              <a:ahLst/>
              <a:rect l="l" t="t" r="r" b="b"/>
              <a:pathLst>
                <a:path w="830" h="573">
                  <a:moveTo>
                    <a:pt x="826" y="570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0" y="573"/>
                  </a:lnTo>
                  <a:lnTo>
                    <a:pt x="830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89680" y="390960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71400" y="4005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11840" y="3828600"/>
              <a:ext cx="792360" cy="365040"/>
            </a:xfrm>
            <a:custGeom>
              <a:avLst/>
              <a:gdLst/>
              <a:ahLst/>
              <a:rect l="l" t="t" r="r" b="b"/>
              <a:pathLst>
                <a:path w="830" h="574">
                  <a:moveTo>
                    <a:pt x="826" y="571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0" y="574"/>
                  </a:lnTo>
                  <a:lnTo>
                    <a:pt x="830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79000" y="33271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05400" y="2858760"/>
              <a:ext cx="898560" cy="1060200"/>
            </a:xfrm>
            <a:custGeom>
              <a:avLst/>
              <a:gdLst/>
              <a:ahLst/>
              <a:rect l="l" t="t" r="r" b="b"/>
              <a:pathLst>
                <a:path w="941" h="1672">
                  <a:moveTo>
                    <a:pt x="937" y="1672"/>
                  </a:moveTo>
                  <a:lnTo>
                    <a:pt x="941" y="0"/>
                  </a:lnTo>
                  <a:lnTo>
                    <a:pt x="0" y="0"/>
                  </a:lnTo>
                  <a:lnTo>
                    <a:pt x="0" y="1672"/>
                  </a:lnTo>
                  <a:lnTo>
                    <a:pt x="941" y="1672"/>
                  </a:lnTo>
                  <a:lnTo>
                    <a:pt x="941" y="16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90880" y="2696760"/>
              <a:ext cx="27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48280" y="2680920"/>
              <a:ext cx="838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13344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117600"/>
              <a:ext cx="856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3574800"/>
              <a:ext cx="27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45040" y="3565080"/>
              <a:ext cx="85680" cy="2844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2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4001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5040" y="3997080"/>
              <a:ext cx="856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3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4200" y="2696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65920" y="2680920"/>
              <a:ext cx="8280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2400" y="3130200"/>
              <a:ext cx="27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61240" y="3117600"/>
              <a:ext cx="82440" cy="2664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0" y="45"/>
                  </a:moveTo>
                  <a:lnTo>
                    <a:pt x="88" y="22"/>
                  </a:lnTo>
                  <a:lnTo>
                    <a:pt x="4" y="0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04200" y="3574800"/>
              <a:ext cx="27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65920" y="3565080"/>
              <a:ext cx="82800" cy="2844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2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4200" y="4001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5920" y="3997080"/>
              <a:ext cx="8280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3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022720" y="3761640"/>
              <a:ext cx="33516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2320" y="3725640"/>
              <a:ext cx="69840" cy="536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35" y="80"/>
                  </a:moveTo>
                  <a:lnTo>
                    <a:pt x="73" y="0"/>
                  </a:lnTo>
                  <a:lnTo>
                    <a:pt x="0" y="53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3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022720" y="3485880"/>
              <a:ext cx="3128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18280" y="3466800"/>
              <a:ext cx="83880" cy="36000"/>
            </a:xfrm>
            <a:custGeom>
              <a:avLst/>
              <a:gdLst/>
              <a:ahLst/>
              <a:rect l="l" t="t" r="r" b="b"/>
              <a:pathLst>
                <a:path w="88" h="57">
                  <a:moveTo>
                    <a:pt x="19" y="53"/>
                  </a:moveTo>
                  <a:lnTo>
                    <a:pt x="88" y="0"/>
                  </a:lnTo>
                  <a:lnTo>
                    <a:pt x="0" y="11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22720" y="3117600"/>
              <a:ext cx="32544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22960" y="3211200"/>
              <a:ext cx="87120" cy="34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38"/>
                  </a:moveTo>
                  <a:lnTo>
                    <a:pt x="92" y="57"/>
                  </a:lnTo>
                  <a:lnTo>
                    <a:pt x="23" y="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22720" y="2679480"/>
              <a:ext cx="331920" cy="26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27640" y="2931840"/>
              <a:ext cx="69840" cy="518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0" y="27"/>
                  </a:moveTo>
                  <a:lnTo>
                    <a:pt x="73" y="84"/>
                  </a:lnTo>
                  <a:lnTo>
                    <a:pt x="35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307200" y="2734920"/>
              <a:ext cx="35064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5880" y="2696760"/>
              <a:ext cx="72720" cy="5040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35" y="80"/>
                  </a:moveTo>
                  <a:lnTo>
                    <a:pt x="77" y="0"/>
                  </a:lnTo>
                  <a:lnTo>
                    <a:pt x="0" y="53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299280" y="3152520"/>
              <a:ext cx="347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1480" y="3134880"/>
              <a:ext cx="84240" cy="3456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19" y="54"/>
                  </a:moveTo>
                  <a:lnTo>
                    <a:pt x="88" y="0"/>
                  </a:lnTo>
                  <a:lnTo>
                    <a:pt x="0" y="12"/>
                  </a:lnTo>
                  <a:lnTo>
                    <a:pt x="19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3463560"/>
              <a:ext cx="34776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1480" y="3566880"/>
              <a:ext cx="84240" cy="3924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0" y="42"/>
                  </a:moveTo>
                  <a:lnTo>
                    <a:pt x="88" y="61"/>
                  </a:lnTo>
                  <a:lnTo>
                    <a:pt x="23" y="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3720960"/>
              <a:ext cx="36972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43800" y="3998520"/>
              <a:ext cx="68040" cy="5220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0" y="27"/>
                  </a:moveTo>
                  <a:lnTo>
                    <a:pt x="73" y="81"/>
                  </a:lnTo>
                  <a:lnTo>
                    <a:pt x="34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2E3-290D-4C34-BE99-ED94248223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ff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ver contention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port (contend for fab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(contend for output 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port (contend for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-of-Lin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E03F27" descr=""/>
          <p:cNvPicPr/>
          <p:nvPr/>
        </p:nvPicPr>
        <p:blipFill>
          <a:blip r:embed="rId1"/>
          <a:stretch/>
        </p:blipFill>
        <p:spPr>
          <a:xfrm>
            <a:off x="2057400" y="4419720"/>
            <a:ext cx="472428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C51-8DF5-43B0-AC29-DDBC9F2DB3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ossbar Swit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5" name="PE03F28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944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225-D091-4F75-96FD-04DD8BDEAE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cross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181480" y="1371600"/>
            <a:ext cx="2450880" cy="3942000"/>
            <a:chOff x="5181480" y="1371600"/>
            <a:chExt cx="2450880" cy="3942000"/>
          </a:xfrm>
        </p:grpSpPr>
        <p:sp>
          <p:nvSpPr>
            <p:cNvPr id="159" name=""/>
            <p:cNvSpPr/>
            <p:nvPr/>
          </p:nvSpPr>
          <p:spPr>
            <a:xfrm>
              <a:off x="5181480" y="1671480"/>
              <a:ext cx="812520" cy="3187800"/>
            </a:xfrm>
            <a:custGeom>
              <a:avLst/>
              <a:gdLst/>
              <a:ahLst/>
              <a:rect l="l" t="t" r="r" b="b"/>
              <a:pathLst>
                <a:path w="813" h="2830">
                  <a:moveTo>
                    <a:pt x="813" y="2830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830"/>
                  </a:lnTo>
                  <a:lnTo>
                    <a:pt x="813" y="2830"/>
                  </a:lnTo>
                  <a:lnTo>
                    <a:pt x="813" y="2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276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5276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276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5276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10160" y="256356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0160" y="256356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276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41760" y="1752480"/>
              <a:ext cx="108000" cy="8568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1760" y="1752480"/>
              <a:ext cx="108000" cy="8568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276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276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41760" y="2155680"/>
              <a:ext cx="108000" cy="8424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1760" y="2155680"/>
              <a:ext cx="108000" cy="8424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44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44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428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2428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1752480"/>
              <a:ext cx="10296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08600" y="1752480"/>
              <a:ext cx="10296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616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276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276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1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5276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2760" y="462600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2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0920" y="161424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2728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2000" y="161424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8080" y="1614240"/>
              <a:ext cx="288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9840" y="1614240"/>
              <a:ext cx="14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556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95560" y="1838160"/>
              <a:ext cx="733680" cy="317520"/>
            </a:xfrm>
            <a:custGeom>
              <a:avLst/>
              <a:gdLst/>
              <a:ahLst/>
              <a:rect l="l" t="t" r="r" b="b"/>
              <a:pathLst>
                <a:path w="734" h="282">
                  <a:moveTo>
                    <a:pt x="0" y="0"/>
                  </a:moveTo>
                  <a:lnTo>
                    <a:pt x="3" y="35"/>
                  </a:lnTo>
                  <a:lnTo>
                    <a:pt x="734" y="204"/>
                  </a:lnTo>
                  <a:lnTo>
                    <a:pt x="734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4240" y="2239920"/>
              <a:ext cx="135000" cy="323640"/>
            </a:xfrm>
            <a:custGeom>
              <a:avLst/>
              <a:gdLst/>
              <a:ahLst/>
              <a:rect l="l" t="t" r="r" b="b"/>
              <a:pathLst>
                <a:path w="135" h="287">
                  <a:moveTo>
                    <a:pt x="132" y="0"/>
                  </a:moveTo>
                  <a:lnTo>
                    <a:pt x="135" y="23"/>
                  </a:lnTo>
                  <a:lnTo>
                    <a:pt x="0" y="256"/>
                  </a:ln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33800" y="1614240"/>
              <a:ext cx="14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8312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83120" y="1838160"/>
              <a:ext cx="592200" cy="317520"/>
            </a:xfrm>
            <a:custGeom>
              <a:avLst/>
              <a:gdLst/>
              <a:ahLst/>
              <a:rect l="l" t="t" r="r" b="b"/>
              <a:pathLst>
                <a:path w="593" h="282">
                  <a:moveTo>
                    <a:pt x="0" y="0"/>
                  </a:moveTo>
                  <a:lnTo>
                    <a:pt x="3" y="38"/>
                  </a:lnTo>
                  <a:lnTo>
                    <a:pt x="593" y="181"/>
                  </a:lnTo>
                  <a:lnTo>
                    <a:pt x="593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5320" y="2239920"/>
              <a:ext cx="420480" cy="323640"/>
            </a:xfrm>
            <a:custGeom>
              <a:avLst/>
              <a:gdLst/>
              <a:ahLst/>
              <a:rect l="l" t="t" r="r" b="b"/>
              <a:pathLst>
                <a:path w="420" h="287">
                  <a:moveTo>
                    <a:pt x="0" y="0"/>
                  </a:moveTo>
                  <a:lnTo>
                    <a:pt x="0" y="23"/>
                  </a:lnTo>
                  <a:lnTo>
                    <a:pt x="420" y="207"/>
                  </a:lnTo>
                  <a:lnTo>
                    <a:pt x="42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95800" y="2647800"/>
              <a:ext cx="552600" cy="330120"/>
            </a:xfrm>
            <a:custGeom>
              <a:avLst/>
              <a:gdLst/>
              <a:ahLst/>
              <a:rect l="l" t="t" r="r" b="b"/>
              <a:pathLst>
                <a:path w="552" h="293">
                  <a:moveTo>
                    <a:pt x="0" y="0"/>
                  </a:moveTo>
                  <a:lnTo>
                    <a:pt x="0" y="37"/>
                  </a:lnTo>
                  <a:lnTo>
                    <a:pt x="552" y="256"/>
                  </a:lnTo>
                  <a:lnTo>
                    <a:pt x="552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90920" y="184140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7680" y="22431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7680" y="26478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87680" y="306216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87680" y="34765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87680" y="388908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87680" y="430056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87680" y="47098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70400" y="4884480"/>
              <a:ext cx="34920" cy="7488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0"/>
                  </a:moveTo>
                  <a:lnTo>
                    <a:pt x="17" y="66"/>
                  </a:lnTo>
                  <a:lnTo>
                    <a:pt x="3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2600" y="21556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22600" y="21556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22600" y="256356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600" y="256356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60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260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0160" y="297792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2260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2260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22600" y="380052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22600" y="421164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22600" y="462600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2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6720" y="2243160"/>
              <a:ext cx="14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6720" y="264780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6720" y="306216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6720" y="347652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6720" y="3889080"/>
              <a:ext cx="1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6720" y="43005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46720" y="4709880"/>
              <a:ext cx="1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27640" y="4884480"/>
              <a:ext cx="38160" cy="748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1" y="66"/>
                  </a:lnTo>
                  <a:lnTo>
                    <a:pt x="38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1804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1804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804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804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848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804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4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1804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4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848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1804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804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08480" y="380052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804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804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8040" y="462600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2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2440" y="2647800"/>
              <a:ext cx="32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32440" y="3062160"/>
              <a:ext cx="32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32440" y="3476520"/>
              <a:ext cx="32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32440" y="3889080"/>
              <a:ext cx="3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2440" y="4300560"/>
              <a:ext cx="3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32440" y="4709880"/>
              <a:ext cx="32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4800" y="4884480"/>
              <a:ext cx="36720" cy="7488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10240" y="297792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10240" y="339228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104" y="74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4" y="74"/>
                  </a:lnTo>
                  <a:lnTo>
                    <a:pt x="104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10240" y="339228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104" y="74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4" y="74"/>
                  </a:lnTo>
                  <a:lnTo>
                    <a:pt x="104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10240" y="380052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10240" y="380052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0240" y="421164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0240" y="421164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10240" y="462600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2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lnTo>
                    <a:pt x="104" y="7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0240" y="462600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2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45160" y="306216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45160" y="347652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45160" y="3889080"/>
              <a:ext cx="1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45160" y="43005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5160" y="4709880"/>
              <a:ext cx="1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7520" y="4884480"/>
              <a:ext cx="34920" cy="7488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8" y="66"/>
                  </a:lnTo>
                  <a:lnTo>
                    <a:pt x="3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816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1864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0472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564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38720" y="1881000"/>
              <a:ext cx="455400" cy="2959200"/>
            </a:xfrm>
            <a:custGeom>
              <a:avLst/>
              <a:gdLst/>
              <a:ahLst/>
              <a:rect l="l" t="t" r="r" b="b"/>
              <a:pathLst>
                <a:path w="455" h="2628">
                  <a:moveTo>
                    <a:pt x="455" y="2628"/>
                  </a:moveTo>
                  <a:lnTo>
                    <a:pt x="455" y="0"/>
                  </a:lnTo>
                  <a:lnTo>
                    <a:pt x="0" y="0"/>
                  </a:lnTo>
                  <a:lnTo>
                    <a:pt x="0" y="2628"/>
                  </a:lnTo>
                  <a:lnTo>
                    <a:pt x="455" y="2628"/>
                  </a:lnTo>
                  <a:lnTo>
                    <a:pt x="455" y="26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360" y="2330280"/>
              <a:ext cx="457200" cy="2509920"/>
            </a:xfrm>
            <a:custGeom>
              <a:avLst/>
              <a:gdLst/>
              <a:ahLst/>
              <a:rect l="l" t="t" r="r" b="b"/>
              <a:pathLst>
                <a:path w="457" h="2229">
                  <a:moveTo>
                    <a:pt x="454" y="2229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2229"/>
                  </a:lnTo>
                  <a:lnTo>
                    <a:pt x="457" y="2229"/>
                  </a:lnTo>
                  <a:lnTo>
                    <a:pt x="457" y="22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38600" y="2816280"/>
              <a:ext cx="293760" cy="2023920"/>
            </a:xfrm>
            <a:custGeom>
              <a:avLst/>
              <a:gdLst/>
              <a:ahLst/>
              <a:rect l="l" t="t" r="r" b="b"/>
              <a:pathLst>
                <a:path w="294" h="1797">
                  <a:moveTo>
                    <a:pt x="291" y="1797"/>
                  </a:moveTo>
                  <a:lnTo>
                    <a:pt x="294" y="0"/>
                  </a:lnTo>
                  <a:lnTo>
                    <a:pt x="0" y="0"/>
                  </a:lnTo>
                  <a:lnTo>
                    <a:pt x="0" y="1797"/>
                  </a:lnTo>
                  <a:lnTo>
                    <a:pt x="294" y="1797"/>
                  </a:lnTo>
                  <a:lnTo>
                    <a:pt x="294" y="17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44640" y="51307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5800" y="137160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27280" y="1838160"/>
              <a:ext cx="927360" cy="314280"/>
            </a:xfrm>
            <a:custGeom>
              <a:avLst/>
              <a:gdLst/>
              <a:ahLst/>
              <a:rect l="l" t="t" r="r" b="b"/>
              <a:pathLst>
                <a:path w="926" h="279">
                  <a:moveTo>
                    <a:pt x="0" y="0"/>
                  </a:moveTo>
                  <a:lnTo>
                    <a:pt x="3" y="38"/>
                  </a:lnTo>
                  <a:lnTo>
                    <a:pt x="926" y="253"/>
                  </a:lnTo>
                  <a:lnTo>
                    <a:pt x="926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18080" y="1838160"/>
              <a:ext cx="776160" cy="317520"/>
            </a:xfrm>
            <a:custGeom>
              <a:avLst/>
              <a:gdLst/>
              <a:ahLst/>
              <a:rect l="l" t="t" r="r" b="b"/>
              <a:pathLst>
                <a:path w="777" h="282">
                  <a:moveTo>
                    <a:pt x="0" y="0"/>
                  </a:moveTo>
                  <a:lnTo>
                    <a:pt x="0" y="35"/>
                  </a:lnTo>
                  <a:lnTo>
                    <a:pt x="777" y="233"/>
                  </a:lnTo>
                  <a:lnTo>
                    <a:pt x="777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4240" y="2239920"/>
              <a:ext cx="541440" cy="318960"/>
            </a:xfrm>
            <a:custGeom>
              <a:avLst/>
              <a:gdLst/>
              <a:ahLst/>
              <a:rect l="l" t="t" r="r" b="b"/>
              <a:pathLst>
                <a:path w="540" h="284">
                  <a:moveTo>
                    <a:pt x="0" y="0"/>
                  </a:moveTo>
                  <a:lnTo>
                    <a:pt x="0" y="20"/>
                  </a:lnTo>
                  <a:lnTo>
                    <a:pt x="540" y="253"/>
                  </a:lnTo>
                  <a:lnTo>
                    <a:pt x="540" y="2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2000" y="1838160"/>
              <a:ext cx="177840" cy="317520"/>
            </a:xfrm>
            <a:custGeom>
              <a:avLst/>
              <a:gdLst/>
              <a:ahLst/>
              <a:rect l="l" t="t" r="r" b="b"/>
              <a:pathLst>
                <a:path w="178" h="282">
                  <a:moveTo>
                    <a:pt x="178" y="0"/>
                  </a:moveTo>
                  <a:lnTo>
                    <a:pt x="178" y="35"/>
                  </a:lnTo>
                  <a:lnTo>
                    <a:pt x="0" y="253"/>
                  </a:lnTo>
                  <a:lnTo>
                    <a:pt x="0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27280" y="2239920"/>
              <a:ext cx="144720" cy="323640"/>
            </a:xfrm>
            <a:custGeom>
              <a:avLst/>
              <a:gdLst/>
              <a:ahLst/>
              <a:rect l="l" t="t" r="r" b="b"/>
              <a:pathLst>
                <a:path w="144" h="287">
                  <a:moveTo>
                    <a:pt x="144" y="0"/>
                  </a:moveTo>
                  <a:lnTo>
                    <a:pt x="144" y="34"/>
                  </a:lnTo>
                  <a:lnTo>
                    <a:pt x="0" y="256"/>
                  </a:ln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25840" y="2647800"/>
              <a:ext cx="1117440" cy="330120"/>
            </a:xfrm>
            <a:custGeom>
              <a:avLst/>
              <a:gdLst/>
              <a:ahLst/>
              <a:rect l="l" t="t" r="r" b="b"/>
              <a:pathLst>
                <a:path w="1118" h="293">
                  <a:moveTo>
                    <a:pt x="0" y="0"/>
                  </a:moveTo>
                  <a:lnTo>
                    <a:pt x="2" y="35"/>
                  </a:lnTo>
                  <a:lnTo>
                    <a:pt x="1118" y="259"/>
                  </a:lnTo>
                  <a:lnTo>
                    <a:pt x="1118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97480" y="3062160"/>
              <a:ext cx="145800" cy="330120"/>
            </a:xfrm>
            <a:custGeom>
              <a:avLst/>
              <a:gdLst/>
              <a:ahLst/>
              <a:rect l="l" t="t" r="r" b="b"/>
              <a:pathLst>
                <a:path w="147" h="294">
                  <a:moveTo>
                    <a:pt x="144" y="0"/>
                  </a:moveTo>
                  <a:lnTo>
                    <a:pt x="147" y="35"/>
                  </a:lnTo>
                  <a:lnTo>
                    <a:pt x="0" y="259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4240" y="3476520"/>
              <a:ext cx="744480" cy="324000"/>
            </a:xfrm>
            <a:custGeom>
              <a:avLst/>
              <a:gdLst/>
              <a:ahLst/>
              <a:rect l="l" t="t" r="r" b="b"/>
              <a:pathLst>
                <a:path w="744" h="288">
                  <a:moveTo>
                    <a:pt x="0" y="0"/>
                  </a:moveTo>
                  <a:lnTo>
                    <a:pt x="2" y="32"/>
                  </a:lnTo>
                  <a:lnTo>
                    <a:pt x="744" y="248"/>
                  </a:lnTo>
                  <a:lnTo>
                    <a:pt x="74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95800" y="3884400"/>
              <a:ext cx="142920" cy="327240"/>
            </a:xfrm>
            <a:custGeom>
              <a:avLst/>
              <a:gdLst/>
              <a:ahLst/>
              <a:rect l="l" t="t" r="r" b="b"/>
              <a:pathLst>
                <a:path w="143" h="290">
                  <a:moveTo>
                    <a:pt x="140" y="0"/>
                  </a:moveTo>
                  <a:lnTo>
                    <a:pt x="143" y="34"/>
                  </a:lnTo>
                  <a:lnTo>
                    <a:pt x="0" y="258"/>
                  </a:lnTo>
                  <a:lnTo>
                    <a:pt x="0" y="2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5800" y="4295520"/>
              <a:ext cx="588960" cy="330480"/>
            </a:xfrm>
            <a:custGeom>
              <a:avLst/>
              <a:gdLst/>
              <a:ahLst/>
              <a:rect l="l" t="t" r="r" b="b"/>
              <a:pathLst>
                <a:path w="589" h="293">
                  <a:moveTo>
                    <a:pt x="0" y="0"/>
                  </a:moveTo>
                  <a:lnTo>
                    <a:pt x="0" y="37"/>
                  </a:lnTo>
                  <a:lnTo>
                    <a:pt x="589" y="259"/>
                  </a:lnTo>
                  <a:lnTo>
                    <a:pt x="589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84760" y="4706640"/>
              <a:ext cx="63720" cy="334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0"/>
                  </a:moveTo>
                  <a:lnTo>
                    <a:pt x="0" y="29"/>
                  </a:lnTo>
                  <a:lnTo>
                    <a:pt x="63" y="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4080" y="4721040"/>
              <a:ext cx="66600" cy="381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27280" y="1841400"/>
              <a:ext cx="144720" cy="314280"/>
            </a:xfrm>
            <a:custGeom>
              <a:avLst/>
              <a:gdLst/>
              <a:ahLst/>
              <a:rect l="l" t="t" r="r" b="b"/>
              <a:pathLst>
                <a:path w="144" h="279">
                  <a:moveTo>
                    <a:pt x="144" y="0"/>
                  </a:moveTo>
                  <a:lnTo>
                    <a:pt x="144" y="35"/>
                  </a:lnTo>
                  <a:lnTo>
                    <a:pt x="0" y="250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5840" y="2239920"/>
              <a:ext cx="1112760" cy="323640"/>
            </a:xfrm>
            <a:custGeom>
              <a:avLst/>
              <a:gdLst/>
              <a:ahLst/>
              <a:rect l="l" t="t" r="r" b="b"/>
              <a:pathLst>
                <a:path w="1112" h="287">
                  <a:moveTo>
                    <a:pt x="0" y="0"/>
                  </a:moveTo>
                  <a:lnTo>
                    <a:pt x="2" y="34"/>
                  </a:lnTo>
                  <a:lnTo>
                    <a:pt x="1112" y="256"/>
                  </a:lnTo>
                  <a:lnTo>
                    <a:pt x="1112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97480" y="2647800"/>
              <a:ext cx="141120" cy="330120"/>
            </a:xfrm>
            <a:custGeom>
              <a:avLst/>
              <a:gdLst/>
              <a:ahLst/>
              <a:rect l="l" t="t" r="r" b="b"/>
              <a:pathLst>
                <a:path w="141" h="293">
                  <a:moveTo>
                    <a:pt x="141" y="0"/>
                  </a:moveTo>
                  <a:lnTo>
                    <a:pt x="141" y="37"/>
                  </a:lnTo>
                  <a:lnTo>
                    <a:pt x="0" y="259"/>
                  </a:lnTo>
                  <a:lnTo>
                    <a:pt x="0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94240" y="3062160"/>
              <a:ext cx="744480" cy="330120"/>
            </a:xfrm>
            <a:custGeom>
              <a:avLst/>
              <a:gdLst/>
              <a:ahLst/>
              <a:rect l="l" t="t" r="r" b="b"/>
              <a:pathLst>
                <a:path w="744" h="294">
                  <a:moveTo>
                    <a:pt x="0" y="0"/>
                  </a:moveTo>
                  <a:lnTo>
                    <a:pt x="2" y="35"/>
                  </a:lnTo>
                  <a:lnTo>
                    <a:pt x="744" y="259"/>
                  </a:lnTo>
                  <a:lnTo>
                    <a:pt x="744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5800" y="3476520"/>
              <a:ext cx="142920" cy="324000"/>
            </a:xfrm>
            <a:custGeom>
              <a:avLst/>
              <a:gdLst/>
              <a:ahLst/>
              <a:rect l="l" t="t" r="r" b="b"/>
              <a:pathLst>
                <a:path w="143" h="288">
                  <a:moveTo>
                    <a:pt x="140" y="0"/>
                  </a:moveTo>
                  <a:lnTo>
                    <a:pt x="143" y="32"/>
                  </a:lnTo>
                  <a:lnTo>
                    <a:pt x="0" y="248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95800" y="3889080"/>
              <a:ext cx="588960" cy="322560"/>
            </a:xfrm>
            <a:custGeom>
              <a:avLst/>
              <a:gdLst/>
              <a:ahLst/>
              <a:rect l="l" t="t" r="r" b="b"/>
              <a:pathLst>
                <a:path w="589" h="287">
                  <a:moveTo>
                    <a:pt x="0" y="0"/>
                  </a:moveTo>
                  <a:lnTo>
                    <a:pt x="0" y="31"/>
                  </a:lnTo>
                  <a:lnTo>
                    <a:pt x="589" y="255"/>
                  </a:lnTo>
                  <a:lnTo>
                    <a:pt x="589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84760" y="4295520"/>
              <a:ext cx="63720" cy="4284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0" y="0"/>
                  </a:moveTo>
                  <a:lnTo>
                    <a:pt x="0" y="37"/>
                  </a:lnTo>
                  <a:lnTo>
                    <a:pt x="6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34080" y="4319640"/>
              <a:ext cx="66600" cy="3780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0" y="32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20960" y="1838160"/>
              <a:ext cx="312840" cy="3175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313" y="0"/>
                  </a:moveTo>
                  <a:lnTo>
                    <a:pt x="313" y="38"/>
                  </a:lnTo>
                  <a:lnTo>
                    <a:pt x="0" y="253"/>
                  </a:lnTo>
                  <a:lnTo>
                    <a:pt x="0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18080" y="2236680"/>
              <a:ext cx="957240" cy="326880"/>
            </a:xfrm>
            <a:custGeom>
              <a:avLst/>
              <a:gdLst/>
              <a:ahLst/>
              <a:rect l="l" t="t" r="r" b="b"/>
              <a:pathLst>
                <a:path w="958" h="290">
                  <a:moveTo>
                    <a:pt x="0" y="0"/>
                  </a:moveTo>
                  <a:lnTo>
                    <a:pt x="3" y="37"/>
                  </a:lnTo>
                  <a:lnTo>
                    <a:pt x="958" y="239"/>
                  </a:lnTo>
                  <a:lnTo>
                    <a:pt x="958" y="2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5320" y="2647800"/>
              <a:ext cx="563400" cy="330120"/>
            </a:xfrm>
            <a:custGeom>
              <a:avLst/>
              <a:gdLst/>
              <a:ahLst/>
              <a:rect l="l" t="t" r="r" b="b"/>
              <a:pathLst>
                <a:path w="563" h="293">
                  <a:moveTo>
                    <a:pt x="0" y="0"/>
                  </a:moveTo>
                  <a:lnTo>
                    <a:pt x="0" y="37"/>
                  </a:lnTo>
                  <a:lnTo>
                    <a:pt x="563" y="242"/>
                  </a:lnTo>
                  <a:lnTo>
                    <a:pt x="563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5800" y="3062160"/>
              <a:ext cx="142920" cy="33012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140" y="0"/>
                  </a:moveTo>
                  <a:lnTo>
                    <a:pt x="143" y="35"/>
                  </a:lnTo>
                  <a:lnTo>
                    <a:pt x="0" y="256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95800" y="3476520"/>
              <a:ext cx="588960" cy="324000"/>
            </a:xfrm>
            <a:custGeom>
              <a:avLst/>
              <a:gdLst/>
              <a:ahLst/>
              <a:rect l="l" t="t" r="r" b="b"/>
              <a:pathLst>
                <a:path w="589" h="288">
                  <a:moveTo>
                    <a:pt x="0" y="0"/>
                  </a:moveTo>
                  <a:lnTo>
                    <a:pt x="0" y="32"/>
                  </a:lnTo>
                  <a:lnTo>
                    <a:pt x="589" y="248"/>
                  </a:lnTo>
                  <a:lnTo>
                    <a:pt x="589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4760" y="3884400"/>
              <a:ext cx="63720" cy="3996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0"/>
                  </a:moveTo>
                  <a:lnTo>
                    <a:pt x="0" y="34"/>
                  </a:lnTo>
                  <a:lnTo>
                    <a:pt x="63" y="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37320" y="3905280"/>
              <a:ext cx="66600" cy="37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4240" y="2647800"/>
              <a:ext cx="601560" cy="330120"/>
            </a:xfrm>
            <a:custGeom>
              <a:avLst/>
              <a:gdLst/>
              <a:ahLst/>
              <a:rect l="l" t="t" r="r" b="b"/>
              <a:pathLst>
                <a:path w="601" h="293">
                  <a:moveTo>
                    <a:pt x="0" y="0"/>
                  </a:moveTo>
                  <a:lnTo>
                    <a:pt x="0" y="35"/>
                  </a:lnTo>
                  <a:lnTo>
                    <a:pt x="601" y="259"/>
                  </a:lnTo>
                  <a:lnTo>
                    <a:pt x="601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95800" y="3062160"/>
              <a:ext cx="588960" cy="330120"/>
            </a:xfrm>
            <a:custGeom>
              <a:avLst/>
              <a:gdLst/>
              <a:ahLst/>
              <a:rect l="l" t="t" r="r" b="b"/>
              <a:pathLst>
                <a:path w="589" h="294">
                  <a:moveTo>
                    <a:pt x="0" y="0"/>
                  </a:moveTo>
                  <a:lnTo>
                    <a:pt x="0" y="35"/>
                  </a:lnTo>
                  <a:lnTo>
                    <a:pt x="589" y="259"/>
                  </a:lnTo>
                  <a:lnTo>
                    <a:pt x="589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84760" y="3476520"/>
              <a:ext cx="63720" cy="363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32"/>
                  </a:lnTo>
                  <a:lnTo>
                    <a:pt x="63" y="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34080" y="3493800"/>
              <a:ext cx="66600" cy="381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76160" y="3386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616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76160" y="42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6160" y="4619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7800" y="4619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46360" y="42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4780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3212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3368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0440" y="3386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368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1440" y="461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3364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F35-3161-4886-B143-A4D72DDAD9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190760" y="1600200"/>
            <a:ext cx="2656080" cy="4495320"/>
            <a:chOff x="4190760" y="1600200"/>
            <a:chExt cx="2656080" cy="4495320"/>
          </a:xfrm>
        </p:grpSpPr>
        <p:sp>
          <p:nvSpPr>
            <p:cNvPr id="318" name=""/>
            <p:cNvSpPr/>
            <p:nvPr/>
          </p:nvSpPr>
          <p:spPr>
            <a:xfrm>
              <a:off x="4613760" y="5286600"/>
              <a:ext cx="25272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01440" y="4938840"/>
              <a:ext cx="1749240" cy="188280"/>
            </a:xfrm>
            <a:custGeom>
              <a:avLst/>
              <a:gdLst/>
              <a:ahLst/>
              <a:rect l="l" t="t" r="r" b="b"/>
              <a:pathLst>
                <a:path w="1245" h="131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1245" y="131"/>
                  </a:lnTo>
                  <a:lnTo>
                    <a:pt x="1245" y="13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964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4080" y="5286600"/>
              <a:ext cx="254160" cy="55332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708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480" y="52905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2200" y="4946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1560" y="5486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3760" y="3686760"/>
              <a:ext cx="25272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01440" y="3337560"/>
              <a:ext cx="1749240" cy="185400"/>
            </a:xfrm>
            <a:custGeom>
              <a:avLst/>
              <a:gdLst/>
              <a:ahLst/>
              <a:rect l="l" t="t" r="r" b="b"/>
              <a:pathLst>
                <a:path w="1245" h="129">
                  <a:moveTo>
                    <a:pt x="1245" y="129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1245" y="129"/>
                  </a:lnTo>
                  <a:lnTo>
                    <a:pt x="1245" y="1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3964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4080" y="3686760"/>
              <a:ext cx="254160" cy="548640"/>
            </a:xfrm>
            <a:custGeom>
              <a:avLst/>
              <a:gdLst/>
              <a:ahLst/>
              <a:rect l="l" t="t" r="r" b="b"/>
              <a:pathLst>
                <a:path w="181" h="382">
                  <a:moveTo>
                    <a:pt x="0" y="0"/>
                  </a:moveTo>
                  <a:lnTo>
                    <a:pt x="3" y="382"/>
                  </a:lnTo>
                  <a:lnTo>
                    <a:pt x="181" y="382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708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90760" y="36896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52200" y="33447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1560" y="38865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3760" y="2082960"/>
              <a:ext cx="25272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1440" y="1737720"/>
              <a:ext cx="1749240" cy="183960"/>
            </a:xfrm>
            <a:custGeom>
              <a:avLst/>
              <a:gdLst/>
              <a:ahLst/>
              <a:rect l="l" t="t" r="r" b="b"/>
              <a:pathLst>
                <a:path w="1245" h="128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1245" y="128"/>
                  </a:lnTo>
                  <a:lnTo>
                    <a:pt x="1245" y="12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3964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64080" y="2082960"/>
              <a:ext cx="254160" cy="55296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312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3120" y="5946120"/>
              <a:ext cx="188280" cy="14940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4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99360" y="566028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99360" y="544032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760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7600" y="4333320"/>
              <a:ext cx="188280" cy="14508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312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73120" y="384372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9360" y="4056120"/>
              <a:ext cx="18792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4880" y="4056120"/>
              <a:ext cx="183600" cy="14796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103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1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760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4880" y="5660280"/>
              <a:ext cx="183600" cy="14472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131" y="101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1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760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312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9360" y="2455200"/>
              <a:ext cx="18792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8708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90760" y="20858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2200" y="1746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560" y="22827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4012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16360" y="22986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68880" y="1600200"/>
              <a:ext cx="396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6560" y="22986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9440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72440" y="229860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94400" y="5129640"/>
              <a:ext cx="144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72440" y="527508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6360" y="39024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0120" y="4800960"/>
              <a:ext cx="854280" cy="326160"/>
            </a:xfrm>
            <a:custGeom>
              <a:avLst/>
              <a:gdLst/>
              <a:ahLst/>
              <a:rect l="l" t="t" r="r" b="b"/>
              <a:pathLst>
                <a:path w="608" h="227">
                  <a:moveTo>
                    <a:pt x="0" y="0"/>
                  </a:moveTo>
                  <a:lnTo>
                    <a:pt x="0" y="96"/>
                  </a:lnTo>
                  <a:lnTo>
                    <a:pt x="608" y="22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0120" y="3200760"/>
              <a:ext cx="428400" cy="717120"/>
            </a:xfrm>
            <a:custGeom>
              <a:avLst/>
              <a:gdLst/>
              <a:ahLst/>
              <a:rect l="l" t="t" r="r" b="b"/>
              <a:pathLst>
                <a:path w="305" h="499">
                  <a:moveTo>
                    <a:pt x="305" y="0"/>
                  </a:moveTo>
                  <a:lnTo>
                    <a:pt x="305" y="93"/>
                  </a:lnTo>
                  <a:lnTo>
                    <a:pt x="0" y="224"/>
                  </a:lnTo>
                  <a:lnTo>
                    <a:pt x="0" y="49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6560" y="367092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72840" y="3200760"/>
              <a:ext cx="421560" cy="481680"/>
            </a:xfrm>
            <a:custGeom>
              <a:avLst/>
              <a:gdLst/>
              <a:ahLst/>
              <a:rect l="l" t="t" r="r" b="b"/>
              <a:pathLst>
                <a:path w="300" h="335">
                  <a:moveTo>
                    <a:pt x="300" y="0"/>
                  </a:moveTo>
                  <a:lnTo>
                    <a:pt x="300" y="93"/>
                  </a:lnTo>
                  <a:lnTo>
                    <a:pt x="0" y="224"/>
                  </a:lnTo>
                  <a:lnTo>
                    <a:pt x="0" y="33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200760"/>
              <a:ext cx="1280160" cy="717120"/>
            </a:xfrm>
            <a:custGeom>
              <a:avLst/>
              <a:gdLst/>
              <a:ahLst/>
              <a:rect l="l" t="t" r="r" b="b"/>
              <a:pathLst>
                <a:path w="911" h="499">
                  <a:moveTo>
                    <a:pt x="908" y="499"/>
                  </a:moveTo>
                  <a:lnTo>
                    <a:pt x="911" y="224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94000" y="39024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568-3715-458F-B4FA-6A2D0ED42D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ya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from simple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switch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outing header attached to each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route based on thi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llisions if input packets sorted into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E03F33" descr=""/>
          <p:cNvPicPr/>
          <p:nvPr/>
        </p:nvPicPr>
        <p:blipFill>
          <a:blip r:embed="rId1"/>
          <a:stretch/>
        </p:blipFill>
        <p:spPr>
          <a:xfrm>
            <a:off x="4114800" y="2895480"/>
            <a:ext cx="3622680" cy="33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C3E-F681-4627-AA2A-5FC2D8BBB8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elements sort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ascending (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descending (sha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implement merge 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Design: Batcher-Bany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E03F34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8C8-5C2A-4550-B9E0-B1D6A27F17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9T06:11:55Z</dcterms:created>
  <dc:creator>klp</dc:creator>
  <dc:description/>
  <dc:language>en-US</dc:language>
  <cp:lastModifiedBy>Larry Peterson</cp:lastModifiedBy>
  <dcterms:modified xsi:type="dcterms:W3CDTF">2000-02-07T16:07:47Z</dcterms:modified>
  <cp:revision>15</cp:revision>
  <dc:subject/>
  <dc:title>No Slide Title</dc:title>
</cp:coreProperties>
</file>