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BBB-B525-4873-B3E2-DAC5AF24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57B-3C33-4D95-85F1-D6793F4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79B-55D3-49F4-8019-44C45697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DD7-2F83-4589-B058-A0CA57DB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CA0-D0E8-4407-8A86-6325781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A2E-1005-4B88-921A-0CA159B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661-160E-41B4-82CF-D6EEBE7A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E40-5F6B-4539-B7FA-75FCC5F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7DE-5FAB-40FA-B935-FE674E76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F7C-F311-4501-9D02-6942206A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B22-15EE-44D2-8597-D4D51D5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790-7A29-4480-B5DE-E9DE495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4DFD-8A1F-423D-9832-90CD9E2F2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ernetwork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Effort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ddress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6E1-916D-437C-8A8E-414CD4E29A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Packe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75800" y="2133720"/>
            <a:ext cx="5803920" cy="3504600"/>
            <a:chOff x="1675800" y="2133720"/>
            <a:chExt cx="5803920" cy="3504600"/>
          </a:xfrm>
        </p:grpSpPr>
        <p:sp>
          <p:nvSpPr>
            <p:cNvPr id="307" name=""/>
            <p:cNvSpPr/>
            <p:nvPr/>
          </p:nvSpPr>
          <p:spPr>
            <a:xfrm>
              <a:off x="3270960" y="4826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9520" y="4826160"/>
              <a:ext cx="224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HardwareAddr (byt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09240" y="4826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47120" y="4826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4320" y="5278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4320" y="5278680"/>
              <a:ext cx="21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Protocol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9480" y="5278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86640" y="52786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50760" y="435888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ProtocolAddr (byt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4040" y="435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3720" y="435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8640" y="2542680"/>
              <a:ext cx="146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 type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4240" y="254268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oco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15440" y="254268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pe = 0x0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83800" y="3904560"/>
              <a:ext cx="240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HardwareAddr (byte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01280" y="39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38800" y="3904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54080" y="43588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46600" y="4358880"/>
              <a:ext cx="224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Hardware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91640" y="435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4920" y="435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67760" y="390456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Protocol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57800" y="39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01080" y="3904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9840" y="3008160"/>
              <a:ext cx="82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Len = 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80120" y="3008160"/>
              <a:ext cx="81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en = 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86120" y="30081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29560" y="3453480"/>
              <a:ext cx="240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Hardware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42720" y="345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83840" y="34534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1240" y="2446200"/>
              <a:ext cx="5659560" cy="3192120"/>
            </a:xfrm>
            <a:custGeom>
              <a:avLst/>
              <a:gdLst/>
              <a:ahLst/>
              <a:rect l="l" t="t" r="r" b="b"/>
              <a:pathLst>
                <a:path w="3693" h="1749">
                  <a:moveTo>
                    <a:pt x="3689" y="1749"/>
                  </a:moveTo>
                  <a:lnTo>
                    <a:pt x="3693" y="0"/>
                  </a:lnTo>
                  <a:lnTo>
                    <a:pt x="0" y="0"/>
                  </a:lnTo>
                  <a:lnTo>
                    <a:pt x="0" y="1749"/>
                  </a:lnTo>
                  <a:lnTo>
                    <a:pt x="3693" y="1749"/>
                  </a:lnTo>
                  <a:lnTo>
                    <a:pt x="3693" y="174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03320" y="2446200"/>
              <a:ext cx="6120" cy="914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3320" y="3812760"/>
              <a:ext cx="612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6560" y="2900520"/>
              <a:ext cx="566388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26560" y="3360600"/>
              <a:ext cx="5663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26560" y="3812760"/>
              <a:ext cx="5663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26560" y="4273200"/>
              <a:ext cx="5663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26560" y="4725720"/>
              <a:ext cx="5663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26560" y="5178600"/>
              <a:ext cx="566388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14800" y="2894760"/>
              <a:ext cx="0" cy="43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5800" y="21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5120" y="21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02520" y="2133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1000" y="2133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6C9-8520-423F-880B-649F2B72DF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ontrol Message Protocol (ICM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(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(from router to source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unreachable (protocol, port, or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exceeded (so datagrams don’t cycle for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fai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fra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D75-4EFE-45C7-8AE1-F51A8345A7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Interne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267080" y="1447920"/>
            <a:ext cx="3591720" cy="2818800"/>
            <a:chOff x="4267080" y="1447920"/>
            <a:chExt cx="3591720" cy="2818800"/>
          </a:xfrm>
        </p:grpSpPr>
        <p:sp>
          <p:nvSpPr>
            <p:cNvPr id="46" name=""/>
            <p:cNvSpPr/>
            <p:nvPr/>
          </p:nvSpPr>
          <p:spPr>
            <a:xfrm>
              <a:off x="6481080" y="30268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53000" y="3000600"/>
              <a:ext cx="193320" cy="207000"/>
            </a:xfrm>
            <a:custGeom>
              <a:avLst/>
              <a:gdLst/>
              <a:ahLst/>
              <a:rect l="l" t="t" r="r" b="b"/>
              <a:pathLst>
                <a:path w="200" h="197">
                  <a:moveTo>
                    <a:pt x="197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00" y="197"/>
                  </a:lnTo>
                  <a:lnTo>
                    <a:pt x="200" y="1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6318720" y="3207600"/>
              <a:ext cx="228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96960" y="277956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66000" y="275220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0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9960" y="2561760"/>
              <a:ext cx="252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11080" y="33274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85880" y="32990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7840" y="4084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57680" y="4056480"/>
              <a:ext cx="19296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97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6200" y="2234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1360" y="2208240"/>
              <a:ext cx="19296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7840" y="2415600"/>
              <a:ext cx="10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16160" y="22312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8440" y="220500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0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9400" y="2407320"/>
              <a:ext cx="25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6040" y="2234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85880" y="2208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8920" y="2407320"/>
              <a:ext cx="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9960" y="2962440"/>
              <a:ext cx="4032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1120" y="258264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2 (Ethern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0600" y="144792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1 (Ethern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9200" y="3401280"/>
              <a:ext cx="2088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754160" y="3777480"/>
              <a:ext cx="1339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43320" y="4084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15960" y="405648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052680" y="3889800"/>
              <a:ext cx="597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89400" y="3509640"/>
              <a:ext cx="98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3 (FDD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08040" y="239544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0040" y="25322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point-to-poi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3436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0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631200" y="1600200"/>
              <a:ext cx="2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6028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0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130880" y="1604160"/>
              <a:ext cx="72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004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984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3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36680" y="1599840"/>
              <a:ext cx="25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6684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7080" y="2561760"/>
              <a:ext cx="15080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43560" y="1600200"/>
              <a:ext cx="1504440" cy="10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63880" y="3238200"/>
              <a:ext cx="1629000" cy="719640"/>
            </a:xfrm>
            <a:custGeom>
              <a:avLst/>
              <a:gdLst/>
              <a:ahLst/>
              <a:rect l="l" t="t" r="r" b="b"/>
              <a:pathLst>
                <a:path w="1685" h="684">
                  <a:moveTo>
                    <a:pt x="826" y="681"/>
                  </a:moveTo>
                  <a:lnTo>
                    <a:pt x="968" y="678"/>
                  </a:lnTo>
                  <a:lnTo>
                    <a:pt x="1101" y="665"/>
                  </a:lnTo>
                  <a:lnTo>
                    <a:pt x="1224" y="645"/>
                  </a:lnTo>
                  <a:lnTo>
                    <a:pt x="1337" y="620"/>
                  </a:lnTo>
                  <a:lnTo>
                    <a:pt x="1437" y="584"/>
                  </a:lnTo>
                  <a:lnTo>
                    <a:pt x="1524" y="542"/>
                  </a:lnTo>
                  <a:lnTo>
                    <a:pt x="1592" y="497"/>
                  </a:lnTo>
                  <a:lnTo>
                    <a:pt x="1643" y="449"/>
                  </a:lnTo>
                  <a:lnTo>
                    <a:pt x="1676" y="394"/>
                  </a:lnTo>
                  <a:lnTo>
                    <a:pt x="1685" y="332"/>
                  </a:lnTo>
                  <a:lnTo>
                    <a:pt x="1676" y="277"/>
                  </a:lnTo>
                  <a:lnTo>
                    <a:pt x="1643" y="226"/>
                  </a:lnTo>
                  <a:lnTo>
                    <a:pt x="1592" y="177"/>
                  </a:lnTo>
                  <a:lnTo>
                    <a:pt x="1524" y="132"/>
                  </a:lnTo>
                  <a:lnTo>
                    <a:pt x="1440" y="93"/>
                  </a:lnTo>
                  <a:lnTo>
                    <a:pt x="1340" y="61"/>
                  </a:lnTo>
                  <a:lnTo>
                    <a:pt x="1230" y="35"/>
                  </a:lnTo>
                  <a:lnTo>
                    <a:pt x="1107" y="16"/>
                  </a:lnTo>
                  <a:lnTo>
                    <a:pt x="975" y="3"/>
                  </a:lnTo>
                  <a:lnTo>
                    <a:pt x="836" y="0"/>
                  </a:lnTo>
                  <a:lnTo>
                    <a:pt x="704" y="6"/>
                  </a:lnTo>
                  <a:lnTo>
                    <a:pt x="574" y="19"/>
                  </a:lnTo>
                  <a:lnTo>
                    <a:pt x="455" y="38"/>
                  </a:lnTo>
                  <a:lnTo>
                    <a:pt x="345" y="64"/>
                  </a:lnTo>
                  <a:lnTo>
                    <a:pt x="245" y="97"/>
                  </a:lnTo>
                  <a:lnTo>
                    <a:pt x="161" y="132"/>
                  </a:lnTo>
                  <a:lnTo>
                    <a:pt x="93" y="174"/>
                  </a:lnTo>
                  <a:lnTo>
                    <a:pt x="41" y="222"/>
                  </a:lnTo>
                  <a:lnTo>
                    <a:pt x="9" y="271"/>
                  </a:lnTo>
                  <a:lnTo>
                    <a:pt x="0" y="323"/>
                  </a:lnTo>
                  <a:lnTo>
                    <a:pt x="9" y="377"/>
                  </a:lnTo>
                  <a:lnTo>
                    <a:pt x="38" y="429"/>
                  </a:lnTo>
                  <a:lnTo>
                    <a:pt x="87" y="481"/>
                  </a:lnTo>
                  <a:lnTo>
                    <a:pt x="151" y="526"/>
                  </a:lnTo>
                  <a:lnTo>
                    <a:pt x="232" y="571"/>
                  </a:lnTo>
                  <a:lnTo>
                    <a:pt x="326" y="607"/>
                  </a:lnTo>
                  <a:lnTo>
                    <a:pt x="435" y="639"/>
                  </a:lnTo>
                  <a:lnTo>
                    <a:pt x="555" y="662"/>
                  </a:lnTo>
                  <a:lnTo>
                    <a:pt x="687" y="678"/>
                  </a:lnTo>
                  <a:lnTo>
                    <a:pt x="826" y="684"/>
                  </a:lnTo>
                  <a:lnTo>
                    <a:pt x="826" y="684"/>
                  </a:lnTo>
                </a:path>
              </a:pathLst>
            </a:custGeom>
            <a:noFill/>
            <a:ln w="20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549480" y="1950480"/>
              <a:ext cx="577080" cy="104976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143000" y="4495680"/>
            <a:ext cx="6095520" cy="1432080"/>
            <a:chOff x="1143000" y="4495680"/>
            <a:chExt cx="6095520" cy="1432080"/>
          </a:xfrm>
        </p:grpSpPr>
        <p:sp>
          <p:nvSpPr>
            <p:cNvPr id="90" name=""/>
            <p:cNvSpPr/>
            <p:nvPr/>
          </p:nvSpPr>
          <p:spPr>
            <a:xfrm>
              <a:off x="2093040" y="4851360"/>
              <a:ext cx="1241640" cy="996840"/>
            </a:xfrm>
            <a:custGeom>
              <a:avLst/>
              <a:gdLst/>
              <a:ahLst/>
              <a:rect l="l" t="t" r="r" b="b"/>
              <a:pathLst>
                <a:path w="1065" h="1129">
                  <a:moveTo>
                    <a:pt x="1065" y="1125"/>
                  </a:moveTo>
                  <a:lnTo>
                    <a:pt x="1065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5" y="1129"/>
                  </a:lnTo>
                  <a:lnTo>
                    <a:pt x="1065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328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4495680"/>
              <a:ext cx="703800" cy="1352520"/>
            </a:xfrm>
            <a:custGeom>
              <a:avLst/>
              <a:gdLst/>
              <a:ahLst/>
              <a:rect l="l" t="t" r="r" b="b"/>
              <a:pathLst>
                <a:path w="604" h="1532">
                  <a:moveTo>
                    <a:pt x="600" y="1528"/>
                  </a:moveTo>
                  <a:lnTo>
                    <a:pt x="604" y="0"/>
                  </a:lnTo>
                  <a:lnTo>
                    <a:pt x="0" y="0"/>
                  </a:lnTo>
                  <a:lnTo>
                    <a:pt x="0" y="1532"/>
                  </a:lnTo>
                  <a:lnTo>
                    <a:pt x="604" y="1532"/>
                  </a:lnTo>
                  <a:lnTo>
                    <a:pt x="604" y="1532"/>
                  </a:lnTo>
                  <a:lnTo>
                    <a:pt x="600" y="152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244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47600" y="55612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2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8160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75360" y="5134680"/>
              <a:ext cx="444960" cy="217080"/>
            </a:xfrm>
            <a:custGeom>
              <a:avLst/>
              <a:gdLst/>
              <a:ahLst/>
              <a:rect l="l" t="t" r="r" b="b"/>
              <a:pathLst>
                <a:path w="382" h="246">
                  <a:moveTo>
                    <a:pt x="382" y="242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2" y="246"/>
                  </a:lnTo>
                  <a:lnTo>
                    <a:pt x="382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2800" y="51843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4400" y="5148000"/>
              <a:ext cx="443880" cy="21708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81" y="242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1" y="246"/>
                  </a:lnTo>
                  <a:lnTo>
                    <a:pt x="381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224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74400" y="5524920"/>
              <a:ext cx="443880" cy="216360"/>
            </a:xfrm>
            <a:custGeom>
              <a:avLst/>
              <a:gdLst/>
              <a:ahLst/>
              <a:rect l="l" t="t" r="r" b="b"/>
              <a:pathLst>
                <a:path w="381" h="245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381" y="245"/>
                  </a:lnTo>
                  <a:lnTo>
                    <a:pt x="381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53240" y="4811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4400" y="477540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396160" y="5351760"/>
              <a:ext cx="18504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520" y="5352120"/>
              <a:ext cx="20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58960" y="4851360"/>
              <a:ext cx="1246320" cy="996840"/>
            </a:xfrm>
            <a:custGeom>
              <a:avLst/>
              <a:gdLst/>
              <a:ahLst/>
              <a:rect l="l" t="t" r="r" b="b"/>
              <a:pathLst>
                <a:path w="1069" h="1129">
                  <a:moveTo>
                    <a:pt x="1065" y="1125"/>
                  </a:moveTo>
                  <a:lnTo>
                    <a:pt x="106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9" y="1129"/>
                  </a:lnTo>
                  <a:lnTo>
                    <a:pt x="1069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380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7120" y="5563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7160" y="556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9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752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42360" y="5134680"/>
              <a:ext cx="443880" cy="21708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81" y="242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1" y="246"/>
                  </a:lnTo>
                  <a:lnTo>
                    <a:pt x="381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800" y="5524920"/>
              <a:ext cx="448560" cy="212760"/>
            </a:xfrm>
            <a:custGeom>
              <a:avLst/>
              <a:gdLst/>
              <a:ahLst/>
              <a:rect l="l" t="t" r="r" b="b"/>
              <a:pathLst>
                <a:path w="385" h="241">
                  <a:moveTo>
                    <a:pt x="381" y="241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5" y="241"/>
                  </a:lnTo>
                  <a:lnTo>
                    <a:pt x="385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866760" y="5351760"/>
              <a:ext cx="18036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5080" y="5352120"/>
              <a:ext cx="19800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4851360"/>
              <a:ext cx="1241640" cy="996840"/>
            </a:xfrm>
            <a:custGeom>
              <a:avLst/>
              <a:gdLst/>
              <a:ahLst/>
              <a:rect l="l" t="t" r="r" b="b"/>
              <a:pathLst>
                <a:path w="1065" h="1129">
                  <a:moveTo>
                    <a:pt x="1065" y="1125"/>
                  </a:moveTo>
                  <a:lnTo>
                    <a:pt x="1065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5" y="1129"/>
                  </a:lnTo>
                  <a:lnTo>
                    <a:pt x="1065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84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563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5000" y="55612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6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3080" y="5524920"/>
              <a:ext cx="448560" cy="212760"/>
            </a:xfrm>
            <a:custGeom>
              <a:avLst/>
              <a:gdLst/>
              <a:ahLst/>
              <a:rect l="l" t="t" r="r" b="b"/>
              <a:pathLst>
                <a:path w="385" h="241">
                  <a:moveTo>
                    <a:pt x="381" y="241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5" y="241"/>
                  </a:lnTo>
                  <a:lnTo>
                    <a:pt x="385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7920" y="5134680"/>
              <a:ext cx="448920" cy="217080"/>
            </a:xfrm>
            <a:custGeom>
              <a:avLst/>
              <a:gdLst/>
              <a:ahLst/>
              <a:rect l="l" t="t" r="r" b="b"/>
              <a:pathLst>
                <a:path w="385" h="246">
                  <a:moveTo>
                    <a:pt x="381" y="242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5" y="246"/>
                  </a:lnTo>
                  <a:lnTo>
                    <a:pt x="385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3804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333400" y="5351760"/>
              <a:ext cx="1792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1000" y="5352120"/>
              <a:ext cx="20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8120" y="450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34360" y="4495680"/>
              <a:ext cx="704160" cy="1352520"/>
            </a:xfrm>
            <a:custGeom>
              <a:avLst/>
              <a:gdLst/>
              <a:ahLst/>
              <a:rect l="l" t="t" r="r" b="b"/>
              <a:pathLst>
                <a:path w="604" h="1532">
                  <a:moveTo>
                    <a:pt x="600" y="1528"/>
                  </a:moveTo>
                  <a:lnTo>
                    <a:pt x="604" y="0"/>
                  </a:lnTo>
                  <a:lnTo>
                    <a:pt x="0" y="0"/>
                  </a:lnTo>
                  <a:lnTo>
                    <a:pt x="0" y="1532"/>
                  </a:lnTo>
                  <a:lnTo>
                    <a:pt x="604" y="1532"/>
                  </a:lnTo>
                  <a:lnTo>
                    <a:pt x="604" y="1532"/>
                  </a:lnTo>
                  <a:lnTo>
                    <a:pt x="600" y="152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24520" y="51843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66120" y="5148000"/>
              <a:ext cx="445320" cy="217080"/>
            </a:xfrm>
            <a:custGeom>
              <a:avLst/>
              <a:gdLst/>
              <a:ahLst/>
              <a:rect l="l" t="t" r="r" b="b"/>
              <a:pathLst>
                <a:path w="382" h="246">
                  <a:moveTo>
                    <a:pt x="382" y="242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2" y="246"/>
                  </a:lnTo>
                  <a:lnTo>
                    <a:pt x="382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200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6120" y="5524920"/>
              <a:ext cx="445320" cy="216360"/>
            </a:xfrm>
            <a:custGeom>
              <a:avLst/>
              <a:gdLst/>
              <a:ahLst/>
              <a:rect l="l" t="t" r="r" b="b"/>
              <a:pathLst>
                <a:path w="382" h="245">
                  <a:moveTo>
                    <a:pt x="382" y="241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382" y="245"/>
                  </a:lnTo>
                  <a:lnTo>
                    <a:pt x="382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44600" y="4811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6120" y="4775400"/>
              <a:ext cx="445320" cy="212760"/>
            </a:xfrm>
            <a:custGeom>
              <a:avLst/>
              <a:gdLst/>
              <a:ahLst/>
              <a:rect l="l" t="t" r="r" b="b"/>
              <a:pathLst>
                <a:path w="382" h="241">
                  <a:moveTo>
                    <a:pt x="382" y="241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2" y="241"/>
                  </a:lnTo>
                  <a:lnTo>
                    <a:pt x="382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91560" y="450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4720" y="5741640"/>
              <a:ext cx="901080" cy="183600"/>
            </a:xfrm>
            <a:custGeom>
              <a:avLst/>
              <a:gdLst/>
              <a:ahLst/>
              <a:rect l="l" t="t" r="r" b="b"/>
              <a:pathLst>
                <a:path w="773" h="208">
                  <a:moveTo>
                    <a:pt x="0" y="0"/>
                  </a:moveTo>
                  <a:lnTo>
                    <a:pt x="3" y="208"/>
                  </a:lnTo>
                  <a:lnTo>
                    <a:pt x="773" y="208"/>
                  </a:lnTo>
                  <a:lnTo>
                    <a:pt x="7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22200" y="5738040"/>
              <a:ext cx="844200" cy="189720"/>
            </a:xfrm>
            <a:custGeom>
              <a:avLst/>
              <a:gdLst/>
              <a:ahLst/>
              <a:rect l="l" t="t" r="r" b="b"/>
              <a:pathLst>
                <a:path w="724" h="215">
                  <a:moveTo>
                    <a:pt x="0" y="0"/>
                  </a:moveTo>
                  <a:lnTo>
                    <a:pt x="0" y="215"/>
                  </a:lnTo>
                  <a:lnTo>
                    <a:pt x="724" y="215"/>
                  </a:lnTo>
                  <a:lnTo>
                    <a:pt x="72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88120" y="5738040"/>
              <a:ext cx="845280" cy="189720"/>
            </a:xfrm>
            <a:custGeom>
              <a:avLst/>
              <a:gdLst/>
              <a:ahLst/>
              <a:rect l="l" t="t" r="r" b="b"/>
              <a:pathLst>
                <a:path w="725" h="215">
                  <a:moveTo>
                    <a:pt x="0" y="0"/>
                  </a:moveTo>
                  <a:lnTo>
                    <a:pt x="0" y="215"/>
                  </a:lnTo>
                  <a:lnTo>
                    <a:pt x="725" y="215"/>
                  </a:lnTo>
                  <a:lnTo>
                    <a:pt x="725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3680" y="5738040"/>
              <a:ext cx="937440" cy="189720"/>
            </a:xfrm>
            <a:custGeom>
              <a:avLst/>
              <a:gdLst/>
              <a:ahLst/>
              <a:rect l="l" t="t" r="r" b="b"/>
              <a:pathLst>
                <a:path w="804" h="215">
                  <a:moveTo>
                    <a:pt x="0" y="0"/>
                  </a:moveTo>
                  <a:lnTo>
                    <a:pt x="4" y="215"/>
                  </a:lnTo>
                  <a:lnTo>
                    <a:pt x="804" y="215"/>
                  </a:lnTo>
                  <a:lnTo>
                    <a:pt x="80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98320" y="5378040"/>
              <a:ext cx="46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898320" y="4996440"/>
              <a:ext cx="46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494720" y="4991400"/>
              <a:ext cx="108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494720" y="5364720"/>
              <a:ext cx="10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B4C-DF30-493F-80EE-DFF2E175D2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ice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(datagram-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 delivery (unreli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delivered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 copies of a packet ar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can be delayed for a lo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120" y="3505320"/>
            <a:ext cx="3286800" cy="2514240"/>
            <a:chOff x="4038120" y="3505320"/>
            <a:chExt cx="3286800" cy="2514240"/>
          </a:xfrm>
        </p:grpSpPr>
        <p:sp>
          <p:nvSpPr>
            <p:cNvPr id="147" name=""/>
            <p:cNvSpPr/>
            <p:nvPr/>
          </p:nvSpPr>
          <p:spPr>
            <a:xfrm>
              <a:off x="4122000" y="3728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1840" y="372852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1360" y="3728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372600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10800" y="3726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720" y="40039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0120" y="40039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9880" y="400392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59680" y="42692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760" y="42692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3680" y="4269240"/>
              <a:ext cx="59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3560" y="45334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1600" y="48042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tination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38040" y="5073840"/>
              <a:ext cx="99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s (vari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66920" y="50241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40560" y="513540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vari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67640" y="3663720"/>
              <a:ext cx="3180960" cy="1878120"/>
            </a:xfrm>
            <a:custGeom>
              <a:avLst/>
              <a:gdLst/>
              <a:ahLst/>
              <a:rect l="l" t="t" r="r" b="b"/>
              <a:pathLst>
                <a:path w="3458" h="2075">
                  <a:moveTo>
                    <a:pt x="3458" y="2071"/>
                  </a:moveTo>
                  <a:lnTo>
                    <a:pt x="3458" y="0"/>
                  </a:lnTo>
                  <a:lnTo>
                    <a:pt x="0" y="0"/>
                  </a:lnTo>
                  <a:lnTo>
                    <a:pt x="0" y="20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640" y="393336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640" y="420408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7640" y="447372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7640" y="4744440"/>
              <a:ext cx="318096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78800" y="5015880"/>
              <a:ext cx="31809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8560" y="3669120"/>
              <a:ext cx="720" cy="81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3960" y="3659760"/>
              <a:ext cx="720" cy="27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8520" y="3933360"/>
              <a:ext cx="720" cy="27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8200" y="5018040"/>
              <a:ext cx="2520" cy="27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3960" y="4204080"/>
              <a:ext cx="720" cy="269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57240" y="3659760"/>
              <a:ext cx="720" cy="27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12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2376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940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900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728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416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7640" y="5288400"/>
              <a:ext cx="3180960" cy="368280"/>
            </a:xfrm>
            <a:custGeom>
              <a:avLst/>
              <a:gdLst/>
              <a:ahLst/>
              <a:rect l="l" t="t" r="r" b="b"/>
              <a:pathLst>
                <a:path w="3458" h="407">
                  <a:moveTo>
                    <a:pt x="0" y="375"/>
                  </a:moveTo>
                  <a:lnTo>
                    <a:pt x="0" y="0"/>
                  </a:lnTo>
                  <a:lnTo>
                    <a:pt x="3458" y="0"/>
                  </a:lnTo>
                  <a:lnTo>
                    <a:pt x="3458" y="375"/>
                  </a:lnTo>
                  <a:lnTo>
                    <a:pt x="3217" y="254"/>
                  </a:lnTo>
                  <a:lnTo>
                    <a:pt x="2926" y="349"/>
                  </a:lnTo>
                  <a:lnTo>
                    <a:pt x="2667" y="200"/>
                  </a:lnTo>
                  <a:lnTo>
                    <a:pt x="2481" y="349"/>
                  </a:lnTo>
                  <a:lnTo>
                    <a:pt x="2223" y="276"/>
                  </a:lnTo>
                  <a:lnTo>
                    <a:pt x="1964" y="345"/>
                  </a:lnTo>
                  <a:lnTo>
                    <a:pt x="1716" y="251"/>
                  </a:lnTo>
                  <a:lnTo>
                    <a:pt x="1520" y="367"/>
                  </a:lnTo>
                  <a:lnTo>
                    <a:pt x="1352" y="258"/>
                  </a:lnTo>
                  <a:lnTo>
                    <a:pt x="1155" y="324"/>
                  </a:lnTo>
                  <a:lnTo>
                    <a:pt x="984" y="251"/>
                  </a:lnTo>
                  <a:lnTo>
                    <a:pt x="780" y="407"/>
                  </a:lnTo>
                  <a:lnTo>
                    <a:pt x="612" y="265"/>
                  </a:lnTo>
                  <a:lnTo>
                    <a:pt x="387" y="345"/>
                  </a:lnTo>
                  <a:lnTo>
                    <a:pt x="208" y="2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7640" y="5288400"/>
              <a:ext cx="3180960" cy="368280"/>
            </a:xfrm>
            <a:custGeom>
              <a:avLst/>
              <a:gdLst/>
              <a:ahLst/>
              <a:rect l="l" t="t" r="r" b="b"/>
              <a:pathLst>
                <a:path w="3458" h="407">
                  <a:moveTo>
                    <a:pt x="0" y="375"/>
                  </a:moveTo>
                  <a:lnTo>
                    <a:pt x="0" y="0"/>
                  </a:lnTo>
                  <a:lnTo>
                    <a:pt x="3458" y="0"/>
                  </a:lnTo>
                  <a:lnTo>
                    <a:pt x="3458" y="375"/>
                  </a:lnTo>
                  <a:lnTo>
                    <a:pt x="3217" y="254"/>
                  </a:lnTo>
                  <a:lnTo>
                    <a:pt x="2926" y="349"/>
                  </a:lnTo>
                  <a:lnTo>
                    <a:pt x="2667" y="200"/>
                  </a:lnTo>
                  <a:lnTo>
                    <a:pt x="2481" y="349"/>
                  </a:lnTo>
                  <a:lnTo>
                    <a:pt x="2223" y="276"/>
                  </a:lnTo>
                  <a:lnTo>
                    <a:pt x="1964" y="345"/>
                  </a:lnTo>
                  <a:lnTo>
                    <a:pt x="1716" y="251"/>
                  </a:lnTo>
                  <a:lnTo>
                    <a:pt x="1520" y="367"/>
                  </a:lnTo>
                  <a:lnTo>
                    <a:pt x="1352" y="258"/>
                  </a:lnTo>
                  <a:lnTo>
                    <a:pt x="1155" y="324"/>
                  </a:lnTo>
                  <a:lnTo>
                    <a:pt x="984" y="251"/>
                  </a:lnTo>
                  <a:lnTo>
                    <a:pt x="780" y="407"/>
                  </a:lnTo>
                  <a:lnTo>
                    <a:pt x="612" y="265"/>
                  </a:lnTo>
                  <a:lnTo>
                    <a:pt x="387" y="345"/>
                  </a:lnTo>
                  <a:lnTo>
                    <a:pt x="208" y="265"/>
                  </a:lnTo>
                  <a:lnTo>
                    <a:pt x="0" y="378"/>
                  </a:lnTo>
                  <a:lnTo>
                    <a:pt x="0" y="3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0320" y="5318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1600" y="5568120"/>
              <a:ext cx="3180240" cy="451440"/>
            </a:xfrm>
            <a:custGeom>
              <a:avLst/>
              <a:gdLst/>
              <a:ahLst/>
              <a:rect l="l" t="t" r="r" b="b"/>
              <a:pathLst>
                <a:path w="3457" h="499">
                  <a:moveTo>
                    <a:pt x="0" y="175"/>
                  </a:moveTo>
                  <a:lnTo>
                    <a:pt x="4" y="499"/>
                  </a:lnTo>
                  <a:lnTo>
                    <a:pt x="3457" y="499"/>
                  </a:lnTo>
                  <a:lnTo>
                    <a:pt x="3457" y="171"/>
                  </a:lnTo>
                  <a:lnTo>
                    <a:pt x="3220" y="55"/>
                  </a:lnTo>
                  <a:lnTo>
                    <a:pt x="2929" y="149"/>
                  </a:lnTo>
                  <a:lnTo>
                    <a:pt x="2670" y="0"/>
                  </a:lnTo>
                  <a:lnTo>
                    <a:pt x="2485" y="149"/>
                  </a:lnTo>
                  <a:lnTo>
                    <a:pt x="2226" y="73"/>
                  </a:lnTo>
                  <a:lnTo>
                    <a:pt x="1964" y="146"/>
                  </a:lnTo>
                  <a:lnTo>
                    <a:pt x="1716" y="51"/>
                  </a:lnTo>
                  <a:lnTo>
                    <a:pt x="1519" y="164"/>
                  </a:lnTo>
                  <a:lnTo>
                    <a:pt x="1352" y="58"/>
                  </a:lnTo>
                  <a:lnTo>
                    <a:pt x="1155" y="124"/>
                  </a:lnTo>
                  <a:lnTo>
                    <a:pt x="984" y="51"/>
                  </a:lnTo>
                  <a:lnTo>
                    <a:pt x="780" y="208"/>
                  </a:lnTo>
                  <a:lnTo>
                    <a:pt x="612" y="66"/>
                  </a:lnTo>
                  <a:lnTo>
                    <a:pt x="390" y="146"/>
                  </a:lnTo>
                  <a:lnTo>
                    <a:pt x="211" y="66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71600" y="5568120"/>
              <a:ext cx="3180240" cy="451440"/>
            </a:xfrm>
            <a:custGeom>
              <a:avLst/>
              <a:gdLst/>
              <a:ahLst/>
              <a:rect l="l" t="t" r="r" b="b"/>
              <a:pathLst>
                <a:path w="3457" h="499">
                  <a:moveTo>
                    <a:pt x="0" y="175"/>
                  </a:moveTo>
                  <a:lnTo>
                    <a:pt x="4" y="499"/>
                  </a:lnTo>
                  <a:lnTo>
                    <a:pt x="3457" y="499"/>
                  </a:lnTo>
                  <a:lnTo>
                    <a:pt x="3457" y="171"/>
                  </a:lnTo>
                  <a:lnTo>
                    <a:pt x="3220" y="55"/>
                  </a:lnTo>
                  <a:lnTo>
                    <a:pt x="2929" y="149"/>
                  </a:lnTo>
                  <a:lnTo>
                    <a:pt x="2670" y="0"/>
                  </a:lnTo>
                  <a:lnTo>
                    <a:pt x="2485" y="149"/>
                  </a:lnTo>
                  <a:lnTo>
                    <a:pt x="2226" y="73"/>
                  </a:lnTo>
                  <a:lnTo>
                    <a:pt x="1964" y="146"/>
                  </a:lnTo>
                  <a:lnTo>
                    <a:pt x="1716" y="51"/>
                  </a:lnTo>
                  <a:lnTo>
                    <a:pt x="1519" y="164"/>
                  </a:lnTo>
                  <a:lnTo>
                    <a:pt x="1352" y="58"/>
                  </a:lnTo>
                  <a:lnTo>
                    <a:pt x="1155" y="124"/>
                  </a:lnTo>
                  <a:lnTo>
                    <a:pt x="984" y="51"/>
                  </a:lnTo>
                  <a:lnTo>
                    <a:pt x="780" y="208"/>
                  </a:lnTo>
                  <a:lnTo>
                    <a:pt x="612" y="66"/>
                  </a:lnTo>
                  <a:lnTo>
                    <a:pt x="390" y="146"/>
                  </a:lnTo>
                  <a:lnTo>
                    <a:pt x="211" y="66"/>
                  </a:lnTo>
                  <a:lnTo>
                    <a:pt x="4" y="178"/>
                  </a:lnTo>
                  <a:lnTo>
                    <a:pt x="4" y="1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E2A-AB35-42CD-8311-6E3507635E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gmentation and Reassembl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twork has some M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 when necessary (MTU &lt; Dat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to avoid fragmentation at source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fragmentation i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s are self-contained 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S-PDU (not cells)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reassembly until destinatio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cover from lost fra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C22-A6A8-4184-8597-918C346CEE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9" name="PE04F04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5257800" cy="20797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400800" y="1066680"/>
            <a:ext cx="2097000" cy="1027080"/>
            <a:chOff x="6400800" y="1066680"/>
            <a:chExt cx="2097000" cy="1027080"/>
          </a:xfrm>
        </p:grpSpPr>
        <p:sp>
          <p:nvSpPr>
            <p:cNvPr id="191" name=""/>
            <p:cNvSpPr/>
            <p:nvPr/>
          </p:nvSpPr>
          <p:spPr>
            <a:xfrm>
              <a:off x="6680520" y="1339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3000" y="1339560"/>
              <a:ext cx="1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9560" y="1339560"/>
              <a:ext cx="30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6320" y="1339560"/>
              <a:ext cx="19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0440" y="1104840"/>
              <a:ext cx="76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81320" y="1344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800" y="1560240"/>
              <a:ext cx="75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95240" y="1841400"/>
              <a:ext cx="82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00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00800" y="1066680"/>
              <a:ext cx="2090880" cy="1027080"/>
            </a:xfrm>
            <a:custGeom>
              <a:avLst/>
              <a:gdLst/>
              <a:ahLst/>
              <a:rect l="l" t="t" r="r" b="b"/>
              <a:pathLst>
                <a:path w="1816" h="741">
                  <a:moveTo>
                    <a:pt x="1813" y="741"/>
                  </a:moveTo>
                  <a:lnTo>
                    <a:pt x="1816" y="0"/>
                  </a:lnTo>
                  <a:lnTo>
                    <a:pt x="0" y="0"/>
                  </a:lnTo>
                  <a:lnTo>
                    <a:pt x="0" y="741"/>
                  </a:lnTo>
                  <a:lnTo>
                    <a:pt x="1816" y="741"/>
                  </a:lnTo>
                  <a:lnTo>
                    <a:pt x="1816" y="74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0800" y="129348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151884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13400" y="172692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4720" y="1328400"/>
              <a:ext cx="0" cy="20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40640" y="1296720"/>
              <a:ext cx="14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1296720"/>
              <a:ext cx="32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0120" y="1296720"/>
              <a:ext cx="14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00800" y="2743200"/>
            <a:ext cx="2097000" cy="3314520"/>
            <a:chOff x="6400800" y="2743200"/>
            <a:chExt cx="2097000" cy="3314520"/>
          </a:xfrm>
        </p:grpSpPr>
        <p:grpSp>
          <p:nvGrpSpPr>
            <p:cNvPr id="208" name=""/>
            <p:cNvGrpSpPr/>
            <p:nvPr/>
          </p:nvGrpSpPr>
          <p:grpSpPr>
            <a:xfrm>
              <a:off x="6400800" y="2743200"/>
              <a:ext cx="2097000" cy="1028520"/>
              <a:chOff x="6400800" y="2743200"/>
              <a:chExt cx="2097000" cy="1028520"/>
            </a:xfrm>
          </p:grpSpPr>
          <p:sp>
            <p:nvSpPr>
              <p:cNvPr id="209" name=""/>
              <p:cNvSpPr/>
              <p:nvPr/>
            </p:nvSpPr>
            <p:spPr>
              <a:xfrm>
                <a:off x="6680520" y="3017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03000" y="301752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09560" y="301752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76320" y="3017520"/>
                <a:ext cx="195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20440" y="277956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81320" y="3017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29800" y="323352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22600" y="351468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12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0800" y="2743200"/>
                <a:ext cx="209088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39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3400" y="2944800"/>
                <a:ext cx="20844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800" y="3193920"/>
                <a:ext cx="20844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00800" y="3421080"/>
                <a:ext cx="2084400" cy="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94720" y="2944800"/>
                <a:ext cx="0" cy="264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40640" y="2970000"/>
                <a:ext cx="14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93040" y="2970000"/>
                <a:ext cx="32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50120" y="2970000"/>
                <a:ext cx="14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400800" y="3886200"/>
              <a:ext cx="2090520" cy="1028520"/>
              <a:chOff x="6400800" y="3886200"/>
              <a:chExt cx="2090520" cy="102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6680160" y="4160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02280" y="416088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54840" y="416088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18000" y="4160880"/>
                <a:ext cx="32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51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9720" y="392256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0960" y="416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29080" y="438156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22240" y="465768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12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0800" y="3886200"/>
                <a:ext cx="209052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39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00800" y="4110120"/>
                <a:ext cx="208404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00800" y="4338720"/>
                <a:ext cx="2084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00800" y="4565520"/>
                <a:ext cx="20840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94360" y="4098960"/>
                <a:ext cx="2880" cy="225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40280" y="4113000"/>
                <a:ext cx="10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92680" y="4113000"/>
                <a:ext cx="28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49760" y="4113000"/>
                <a:ext cx="10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00800" y="5029200"/>
              <a:ext cx="2097000" cy="1028520"/>
              <a:chOff x="6400800" y="5029200"/>
              <a:chExt cx="2097000" cy="1028520"/>
            </a:xfrm>
          </p:grpSpPr>
          <p:sp>
            <p:nvSpPr>
              <p:cNvPr id="243" name=""/>
              <p:cNvSpPr/>
              <p:nvPr/>
            </p:nvSpPr>
            <p:spPr>
              <a:xfrm>
                <a:off x="6680520" y="5303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03000" y="530388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5320" y="530388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91360" y="5303880"/>
                <a:ext cx="387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102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20440" y="507060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81320" y="5303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29800" y="552456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22600" y="580392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76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00800" y="5029200"/>
                <a:ext cx="209088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42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00800" y="5257800"/>
                <a:ext cx="208440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13400" y="5451480"/>
                <a:ext cx="2084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00800" y="5711760"/>
                <a:ext cx="2084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94720" y="5251320"/>
                <a:ext cx="32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0640" y="5261040"/>
                <a:ext cx="14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93040" y="5261040"/>
                <a:ext cx="32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50120" y="5261040"/>
                <a:ext cx="14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7467480" y="2133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D62-B3BC-49A7-9B75-6A3DB947CE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obal Address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network +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3.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.96.33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2.69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90760" y="3124080"/>
            <a:ext cx="4097160" cy="2280960"/>
            <a:chOff x="4190760" y="3124080"/>
            <a:chExt cx="4097160" cy="2280960"/>
          </a:xfrm>
        </p:grpSpPr>
        <p:sp>
          <p:nvSpPr>
            <p:cNvPr id="263" name=""/>
            <p:cNvSpPr/>
            <p:nvPr/>
          </p:nvSpPr>
          <p:spPr>
            <a:xfrm>
              <a:off x="5095800" y="3466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3080" y="34664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5400" y="3124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17480" y="312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34720" y="346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368520"/>
              <a:ext cx="3646440" cy="403560"/>
            </a:xfrm>
            <a:custGeom>
              <a:avLst/>
              <a:gdLst/>
              <a:ahLst/>
              <a:rect l="l" t="t" r="r" b="b"/>
              <a:pathLst>
                <a:path w="2638" h="330">
                  <a:moveTo>
                    <a:pt x="2638" y="326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30"/>
                  </a:lnTo>
                  <a:lnTo>
                    <a:pt x="2638" y="330"/>
                  </a:lnTo>
                  <a:lnTo>
                    <a:pt x="2638" y="3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34520" y="3368520"/>
              <a:ext cx="5400" cy="4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01120" y="3353760"/>
              <a:ext cx="5040" cy="4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94720" y="3443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35160" y="429588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78200" y="42958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95800" y="395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77920" y="395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4720" y="4295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28480" y="4295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1480" y="4197960"/>
              <a:ext cx="3646440" cy="397440"/>
            </a:xfrm>
            <a:custGeom>
              <a:avLst/>
              <a:gdLst/>
              <a:ahLst/>
              <a:rect l="l" t="t" r="r" b="b"/>
              <a:pathLst>
                <a:path w="2638" h="325">
                  <a:moveTo>
                    <a:pt x="2638" y="321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2638" y="325"/>
                  </a:lnTo>
                  <a:lnTo>
                    <a:pt x="2638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4520" y="4197960"/>
              <a:ext cx="5400" cy="39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2160" y="4197960"/>
              <a:ext cx="144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96160" y="4176000"/>
              <a:ext cx="504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4273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0640" y="51008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3800" y="51008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1120" y="475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58800" y="475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3004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352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700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1480" y="5002920"/>
              <a:ext cx="3646440" cy="402120"/>
            </a:xfrm>
            <a:custGeom>
              <a:avLst/>
              <a:gdLst/>
              <a:ahLst/>
              <a:rect l="l" t="t" r="r" b="b"/>
              <a:pathLst>
                <a:path w="2638" h="329">
                  <a:moveTo>
                    <a:pt x="2638" y="326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29"/>
                  </a:lnTo>
                  <a:lnTo>
                    <a:pt x="2638" y="329"/>
                  </a:lnTo>
                  <a:lnTo>
                    <a:pt x="2638" y="3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4520" y="5002920"/>
              <a:ext cx="540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8840" y="4998240"/>
              <a:ext cx="1440" cy="3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7560" y="5002920"/>
              <a:ext cx="1440" cy="4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0560" y="5002920"/>
              <a:ext cx="1080" cy="4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01920" y="509112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89C-8EB8-4301-871A-06057F6A2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Forward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tagram contains destination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rectly connected to destination network, then forward to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directly connected to destination network, then forward to som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 maps network number into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ost has a default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maintains a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R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xt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0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343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648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4343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19C-61E6-41D1-A32D-761286AA85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 Transl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P addresses into phys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hop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physical address in host part of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IP to physical address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request if IP address not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chine responds with its 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ntries are discarded if not refre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50B-101C-4E3C-88A0-E0FBFA012F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Type: type of physical network (e.g., Eth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Type: type of higher layer protocol (e.g.,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EN &amp; PLEN: length of physical and 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: request or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/Target-Physical/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entries timeout in about 1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with source when you are the tar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if already have 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fresh table entries upo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71F-7E6E-4E6A-93AE-9E3E594337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01:05Z</dcterms:created>
  <dc:creator>klp</dc:creator>
  <dc:description/>
  <dc:language>en-US</dc:language>
  <cp:lastModifiedBy>Ryan Peterson</cp:lastModifiedBy>
  <dcterms:modified xsi:type="dcterms:W3CDTF">2000-02-05T18:20:25Z</dcterms:modified>
  <cp:revision>10</cp:revision>
  <dc:subject/>
  <dc:title>Internetworking </dc:title>
</cp:coreProperties>
</file>