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7C8-2CC3-4E99-BDF8-726FF3AC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8A0-A735-48AA-A738-E0896FF5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4D9-9A50-4059-B516-F0D5E462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345-5AA2-4653-8E6E-14A8B5CF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AAA-076B-4038-AFC1-F737248B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185-159A-4911-A00F-62D87449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5147-C0C2-4FE9-9004-0E1123FA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5EAA-266E-4FE2-8A20-58AD19BC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9B0-C184-4033-BDA1-C07228CE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021-4BB4-4743-9668-8D3F3A66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30B-7A0A-4367-A3A0-A83F4E8B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64C-55DA-4AC4-88FD-C4762A55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BE37-1E1E-4C2B-9C08-9433AAABB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lements of a Protocol Implement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360"/>
            <a:ext cx="3886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ubrout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378-5239-4A56-BE50-E75C0316BE5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Librar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505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90760" y="4764240"/>
            <a:ext cx="57924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90760" y="4764240"/>
            <a:ext cx="57924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56000" y="4764240"/>
            <a:ext cx="57960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56000" y="4764240"/>
            <a:ext cx="57960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22680" y="3875040"/>
            <a:ext cx="79200" cy="127080"/>
          </a:xfrm>
          <a:custGeom>
            <a:avLst/>
            <a:gdLst/>
            <a:ahLst/>
            <a:rect l="l" t="t" r="r" b="b"/>
            <a:pathLst>
              <a:path w="62" h="114">
                <a:moveTo>
                  <a:pt x="0" y="0"/>
                </a:moveTo>
                <a:lnTo>
                  <a:pt x="33" y="114"/>
                </a:lnTo>
                <a:lnTo>
                  <a:pt x="62" y="5"/>
                </a:lnTo>
                <a:lnTo>
                  <a:pt x="5" y="5"/>
                </a:lnTo>
                <a:lnTo>
                  <a:pt x="5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55800" y="3740040"/>
            <a:ext cx="6480" cy="209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22680" y="4551480"/>
            <a:ext cx="79200" cy="126720"/>
          </a:xfrm>
          <a:custGeom>
            <a:avLst/>
            <a:gdLst/>
            <a:ahLst/>
            <a:rect l="l" t="t" r="r" b="b"/>
            <a:pathLst>
              <a:path w="62" h="114">
                <a:moveTo>
                  <a:pt x="0" y="0"/>
                </a:moveTo>
                <a:lnTo>
                  <a:pt x="33" y="114"/>
                </a:lnTo>
                <a:lnTo>
                  <a:pt x="62" y="5"/>
                </a:lnTo>
                <a:lnTo>
                  <a:pt x="5" y="5"/>
                </a:lnTo>
                <a:lnTo>
                  <a:pt x="5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55800" y="4386240"/>
            <a:ext cx="6480" cy="208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90760" y="4764240"/>
            <a:ext cx="57924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90760" y="4764240"/>
            <a:ext cx="57924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56000" y="4764240"/>
            <a:ext cx="57960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56000" y="4764240"/>
            <a:ext cx="57960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41200" y="425916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27160" y="4492800"/>
            <a:ext cx="266760" cy="19512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51080" y="4651200"/>
            <a:ext cx="126720" cy="101880"/>
          </a:xfrm>
          <a:custGeom>
            <a:avLst/>
            <a:gdLst/>
            <a:ahLst/>
            <a:rect l="l" t="t" r="r" b="b"/>
            <a:pathLst>
              <a:path w="99" h="90">
                <a:moveTo>
                  <a:pt x="0" y="43"/>
                </a:moveTo>
                <a:lnTo>
                  <a:pt x="99" y="90"/>
                </a:lnTo>
                <a:lnTo>
                  <a:pt x="37" y="0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92400" y="4492800"/>
            <a:ext cx="266760" cy="19512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16320" y="4651200"/>
            <a:ext cx="127080" cy="101880"/>
          </a:xfrm>
          <a:custGeom>
            <a:avLst/>
            <a:gdLst/>
            <a:ahLst/>
            <a:rect l="l" t="t" r="r" b="b"/>
            <a:pathLst>
              <a:path w="100" h="90">
                <a:moveTo>
                  <a:pt x="0" y="43"/>
                </a:moveTo>
                <a:lnTo>
                  <a:pt x="100" y="90"/>
                </a:lnTo>
                <a:lnTo>
                  <a:pt x="38" y="0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68320" y="289548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436896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79640" y="3017880"/>
            <a:ext cx="266760" cy="19692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197080" y="3178080"/>
            <a:ext cx="979560" cy="378000"/>
            <a:chOff x="2197080" y="3178080"/>
            <a:chExt cx="979560" cy="378000"/>
          </a:xfrm>
        </p:grpSpPr>
        <p:sp>
          <p:nvSpPr>
            <p:cNvPr id="238" name=""/>
            <p:cNvSpPr/>
            <p:nvPr/>
          </p:nvSpPr>
          <p:spPr>
            <a:xfrm>
              <a:off x="2343240" y="328932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43240" y="328932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43240" y="328932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43240" y="328932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97080" y="3178080"/>
              <a:ext cx="133200" cy="100080"/>
            </a:xfrm>
            <a:custGeom>
              <a:avLst/>
              <a:gdLst/>
              <a:ahLst/>
              <a:rect l="l" t="t" r="r" b="b"/>
              <a:pathLst>
                <a:path w="105" h="90">
                  <a:moveTo>
                    <a:pt x="0" y="43"/>
                  </a:moveTo>
                  <a:lnTo>
                    <a:pt x="105" y="90"/>
                  </a:lnTo>
                  <a:lnTo>
                    <a:pt x="43" y="0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90400" y="331164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bcde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574640" y="47624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51120" y="477504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92080" y="476244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90120" y="4029120"/>
            <a:ext cx="125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gFra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38960" y="4029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63880" y="402912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35600" y="4029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41440" y="402912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14400" y="402912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50000" y="3355920"/>
            <a:ext cx="47772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50000" y="3355920"/>
            <a:ext cx="47772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355920"/>
            <a:ext cx="47808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43640" y="3355920"/>
            <a:ext cx="47808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07240" y="3943440"/>
            <a:ext cx="63360" cy="114120"/>
          </a:xfrm>
          <a:custGeom>
            <a:avLst/>
            <a:gdLst/>
            <a:ahLst/>
            <a:rect l="l" t="t" r="r" b="b"/>
            <a:pathLst>
              <a:path w="40" h="72">
                <a:moveTo>
                  <a:pt x="0" y="0"/>
                </a:moveTo>
                <a:lnTo>
                  <a:pt x="18" y="72"/>
                </a:lnTo>
                <a:lnTo>
                  <a:pt x="4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35680" y="3794040"/>
            <a:ext cx="180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07240" y="4560840"/>
            <a:ext cx="63360" cy="114480"/>
          </a:xfrm>
          <a:custGeom>
            <a:avLst/>
            <a:gdLst/>
            <a:ahLst/>
            <a:rect l="l" t="t" r="r" b="b"/>
            <a:pathLst>
              <a:path w="40" h="72">
                <a:moveTo>
                  <a:pt x="0" y="0"/>
                </a:moveTo>
                <a:lnTo>
                  <a:pt x="18" y="72"/>
                </a:lnTo>
                <a:lnTo>
                  <a:pt x="4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35680" y="4410000"/>
            <a:ext cx="180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50000" y="3355920"/>
            <a:ext cx="47772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50000" y="3355920"/>
            <a:ext cx="47772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43640" y="3355920"/>
            <a:ext cx="47808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43640" y="3355920"/>
            <a:ext cx="47808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03880" y="4570560"/>
            <a:ext cx="219240" cy="183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83160" y="4719600"/>
            <a:ext cx="109800" cy="93600"/>
          </a:xfrm>
          <a:custGeom>
            <a:avLst/>
            <a:gdLst/>
            <a:ahLst/>
            <a:rect l="l" t="t" r="r" b="b"/>
            <a:pathLst>
              <a:path w="69" h="59">
                <a:moveTo>
                  <a:pt x="0" y="28"/>
                </a:moveTo>
                <a:lnTo>
                  <a:pt x="69" y="59"/>
                </a:lnTo>
                <a:lnTo>
                  <a:pt x="25" y="0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60920" y="3102120"/>
            <a:ext cx="214560" cy="188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40560" y="3251160"/>
            <a:ext cx="104760" cy="98640"/>
          </a:xfrm>
          <a:custGeom>
            <a:avLst/>
            <a:gdLst/>
            <a:ahLst/>
            <a:rect l="l" t="t" r="r" b="b"/>
            <a:pathLst>
              <a:path w="66" h="62">
                <a:moveTo>
                  <a:pt x="0" y="28"/>
                </a:moveTo>
                <a:lnTo>
                  <a:pt x="66" y="62"/>
                </a:lnTo>
                <a:lnTo>
                  <a:pt x="25" y="0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50240" y="3102120"/>
            <a:ext cx="218880" cy="188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29520" y="3251160"/>
            <a:ext cx="109440" cy="98640"/>
          </a:xfrm>
          <a:custGeom>
            <a:avLst/>
            <a:gdLst/>
            <a:ahLst/>
            <a:rect l="l" t="t" r="r" b="b"/>
            <a:pathLst>
              <a:path w="69" h="62">
                <a:moveTo>
                  <a:pt x="0" y="28"/>
                </a:moveTo>
                <a:lnTo>
                  <a:pt x="69" y="62"/>
                </a:lnTo>
                <a:lnTo>
                  <a:pt x="28" y="0"/>
                </a:lnTo>
                <a:lnTo>
                  <a:pt x="3" y="28"/>
                </a:lnTo>
                <a:lnTo>
                  <a:pt x="3" y="28"/>
                </a:lnTo>
                <a:lnTo>
                  <a:pt x="0" y="2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57800" y="28954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28954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14720" y="445608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6920" y="335268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91520" y="33526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21400" y="4102200"/>
            <a:ext cx="283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gReassemble(new, m1, m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16765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emble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553080" y="4724280"/>
            <a:ext cx="833400" cy="266760"/>
            <a:chOff x="6553080" y="4724280"/>
            <a:chExt cx="833400" cy="266760"/>
          </a:xfrm>
        </p:grpSpPr>
        <p:sp>
          <p:nvSpPr>
            <p:cNvPr id="279" name=""/>
            <p:cNvSpPr/>
            <p:nvPr/>
          </p:nvSpPr>
          <p:spPr>
            <a:xfrm>
              <a:off x="6553080" y="472428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53080" y="472428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53080" y="472428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53080" y="472428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00600" y="474624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bcde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F56F-2595-4CB0-B60C-B41D3FA0F9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vent Libra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Timeouts &amp; Book-keeping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nt evSchedule(EvFunc fun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argum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CancelReturn evCancel(Event ev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D4E-BAFB-4E11-AFD0-27B04558DA1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p Libra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ultiplex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p mapCreate(int number,int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nding mapBind(Map ma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mapResolve(Map ma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key,void **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18D-9F13-4F2C-B0D3-324E872806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Se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Open(Protl self, Protl hlp, Part *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ss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_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ss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lState  *pstate = (ProtlState *)self-&gt;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zero((char *)&amp;key, sizeof(key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High level protocol must specify both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local and remote ASP por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.localport = *((AspPort *) partPop(p[0]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.remoteport = *((AspPort *) partPop(p[1]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Assume failure until proven otherwis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_s = XK_FAILU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21E0-0165-455A-96F9-35C7E0E511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Open session on low-level protocol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ls = xOpen(self, xGetDown(self, 0), 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lls != XK_FAILUR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.lls = l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heck for session in active ma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mapResolve(pstate-&gt;activemap, &amp;ke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void **)&amp;asp_s) == XK_FAIL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ession not in map; initialize i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_s = asp_init_sessn(self, hlp, &amp;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asp_s != XK_FAILUR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A successful ope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sp_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Error has occurre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Close(ll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sp_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A5A-E366-4818-87EC-F49CD504C49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XkReturn aspPush(Sessn s, Msg *ms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ssnState *s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     hd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      *bu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reate a head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tate = (SessnState *) s-&gt;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dr = sstate-&gt;hd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dr.ulen = msgLen(msg) + HLE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attach header and sen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 = msgAddrHdr(msg, H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Store(&amp;hdr, buf, HLEN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Push(xGetDown(s, 0)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EAC-27A8-4F1E-A8B9-3A1667D38F9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XkReturn aspDemux(Protl self, Sessn lls, Msg *ms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       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ssn       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     active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ssiveId    passive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lState   *p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able       *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        *bu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state = (ProtlState *)self-&gt;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extract the header from the messag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 = msgStripHdr(msg, H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Load(&amp;h, buf, HLEN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nstruct a demux key from the head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zero((char *)&amp;activeid, sizeof(activeid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.localport = h.dpo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.remoteport = h.spo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.lls = l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E910-3FAF-4E4A-B3FF-53AFD94F063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ee if demux key is in the active ma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mapResolve(pstate-&gt;activemap, &amp;active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void **)&amp;s) == XK_FAIL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didn't find an active session,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o check passive ma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ssiveid = h.dpo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mapResolve(pstate-&gt;passivemap, &amp;passive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void **)&amp;e) == XK_FAIL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drop the messag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K_SUCCES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port was enabled, so create a new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ession and inform hl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 = asp_init_sessn(self, e-&gt;hlp, &amp;active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penDone(e-&gt;hlp, s, sel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pop the message to the sessio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Pop(s, lls, msg, &amp;h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89B-5E68-4044-AAF8-BDF65F88FF5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Xk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Pop(Sessn s, Sessn ds, Msg *msg, void *inHd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    *h = (AspHdr *) inHd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truncate message to length shown in head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h-&gt;ulen - HLEN) &lt; msgLen(ms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gTruncate(msg, (int) h-&gt;u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pass message up the protocol stack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Demux(xGetUp(s), s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BBB-90B3-4168-A3FE-8B621ACA43B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cket API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 so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ocket(int domain, int type, int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_INET, PF_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= SOCK_STREAM, SOCK_D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ve Open (on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bind(int socket, struct sockaddr *addr, 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listen(int socket, int backl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ccept(int socket, struct sockaddr *addr, 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1A30-AD10-4733-B47B-998F216E943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cket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Open (on cli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connect(int socket, struct sockaddr *add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ng/Receiving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end(int socket, char *msg, int mlen, int fl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recv(int socket, char *buf, int blen, int fl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D03-3F74-474E-840B-2407D9E14C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-to-Protocol Interfa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e multipl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ersus ext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context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ffe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data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F5B-F5EB-4F2D-B9A0-00E85B609D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figur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19360" y="2362320"/>
            <a:ext cx="4267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tul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eth protocols=tul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arp protocols=e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ip protocols=eth,ar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icmp protocols=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udp protocols=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tcp protocols=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19320" y="1828800"/>
            <a:ext cx="2706120" cy="3429000"/>
            <a:chOff x="1219320" y="1828800"/>
            <a:chExt cx="2706120" cy="3429000"/>
          </a:xfrm>
        </p:grpSpPr>
        <p:sp>
          <p:nvSpPr>
            <p:cNvPr id="52" name=""/>
            <p:cNvSpPr/>
            <p:nvPr/>
          </p:nvSpPr>
          <p:spPr>
            <a:xfrm>
              <a:off x="1219320" y="182880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10040" y="182880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00760" y="182880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19320" y="335268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10040" y="266688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10040" y="396216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10040" y="480060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92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819520" y="22860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9160" y="22860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90920" y="3124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829160" y="312408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29160" y="380988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90920" y="44193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81600" y="18669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72680" y="186696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87080" y="18669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48280" y="27050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21480" y="335268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71960" y="4000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4440" y="490212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UPL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655-C184-4608-A0BE-08BE9BF8F1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 Objec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ssn xOpen(Protl hlp, Protl ll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*participa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ve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OpenEnable(Protl hlp,Protl ll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*particip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OpenDone(Protl hl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tl llp,Sessn sess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*participa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ultipl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Demux(Protl hlp, Sessn l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sg *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C9A-7400-4382-A84A-D5B13076EC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ssion Objec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end-point of a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 messages and maintain channel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 operations for sending and receiving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Push(Sessn lls,Msg *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 a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Pop(Sessn hls, Sessn l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sg *message,void *hd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54A-0BBD-4EE0-B9B8-627832F01A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cess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971800" y="1752480"/>
            <a:ext cx="3276360" cy="3962520"/>
            <a:chOff x="2971800" y="1752480"/>
            <a:chExt cx="3276360" cy="3962520"/>
          </a:xfrm>
        </p:grpSpPr>
        <p:grpSp>
          <p:nvGrpSpPr>
            <p:cNvPr id="79" name=""/>
            <p:cNvGrpSpPr/>
            <p:nvPr/>
          </p:nvGrpSpPr>
          <p:grpSpPr>
            <a:xfrm>
              <a:off x="3222000" y="1752480"/>
              <a:ext cx="2721240" cy="3823920"/>
              <a:chOff x="3222000" y="1752480"/>
              <a:chExt cx="2721240" cy="3823920"/>
            </a:xfrm>
          </p:grpSpPr>
          <p:sp>
            <p:nvSpPr>
              <p:cNvPr id="80" name=""/>
              <p:cNvSpPr/>
              <p:nvPr/>
            </p:nvSpPr>
            <p:spPr>
              <a:xfrm>
                <a:off x="3284640" y="2676960"/>
                <a:ext cx="1080" cy="24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260160" y="290340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0" y="0"/>
                    </a:moveTo>
                    <a:lnTo>
                      <a:pt x="17" y="6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284640" y="1752480"/>
                <a:ext cx="108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260160" y="197460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0" y="0"/>
                    </a:moveTo>
                    <a:lnTo>
                      <a:pt x="17" y="6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22360" y="2365200"/>
                <a:ext cx="429480" cy="433080"/>
              </a:xfrm>
              <a:custGeom>
                <a:avLst/>
                <a:gdLst/>
                <a:ahLst/>
                <a:rect l="l" t="t" r="r" b="b"/>
                <a:pathLst>
                  <a:path w="296" h="296">
                    <a:moveTo>
                      <a:pt x="147" y="296"/>
                    </a:moveTo>
                    <a:lnTo>
                      <a:pt x="173" y="296"/>
                    </a:lnTo>
                    <a:lnTo>
                      <a:pt x="196" y="291"/>
                    </a:lnTo>
                    <a:lnTo>
                      <a:pt x="216" y="282"/>
                    </a:lnTo>
                    <a:lnTo>
                      <a:pt x="236" y="268"/>
                    </a:lnTo>
                    <a:lnTo>
                      <a:pt x="253" y="253"/>
                    </a:lnTo>
                    <a:lnTo>
                      <a:pt x="268" y="236"/>
                    </a:lnTo>
                    <a:lnTo>
                      <a:pt x="279" y="216"/>
                    </a:lnTo>
                    <a:lnTo>
                      <a:pt x="288" y="196"/>
                    </a:lnTo>
                    <a:lnTo>
                      <a:pt x="294" y="173"/>
                    </a:lnTo>
                    <a:lnTo>
                      <a:pt x="296" y="150"/>
                    </a:lnTo>
                    <a:lnTo>
                      <a:pt x="294" y="124"/>
                    </a:lnTo>
                    <a:lnTo>
                      <a:pt x="288" y="101"/>
                    </a:lnTo>
                    <a:lnTo>
                      <a:pt x="279" y="81"/>
                    </a:lnTo>
                    <a:lnTo>
                      <a:pt x="268" y="61"/>
                    </a:lnTo>
                    <a:lnTo>
                      <a:pt x="253" y="43"/>
                    </a:lnTo>
                    <a:lnTo>
                      <a:pt x="236" y="29"/>
                    </a:lnTo>
                    <a:lnTo>
                      <a:pt x="216" y="17"/>
                    </a:lnTo>
                    <a:lnTo>
                      <a:pt x="196" y="9"/>
                    </a:lnTo>
                    <a:lnTo>
                      <a:pt x="173" y="3"/>
                    </a:lnTo>
                    <a:lnTo>
                      <a:pt x="150" y="0"/>
                    </a:lnTo>
                    <a:lnTo>
                      <a:pt x="124" y="3"/>
                    </a:lnTo>
                    <a:lnTo>
                      <a:pt x="101" y="9"/>
                    </a:lnTo>
                    <a:lnTo>
                      <a:pt x="81" y="17"/>
                    </a:lnTo>
                    <a:lnTo>
                      <a:pt x="61" y="29"/>
                    </a:lnTo>
                    <a:lnTo>
                      <a:pt x="43" y="43"/>
                    </a:lnTo>
                    <a:lnTo>
                      <a:pt x="29" y="61"/>
                    </a:lnTo>
                    <a:lnTo>
                      <a:pt x="18" y="81"/>
                    </a:lnTo>
                    <a:lnTo>
                      <a:pt x="9" y="101"/>
                    </a:lnTo>
                    <a:lnTo>
                      <a:pt x="3" y="124"/>
                    </a:lnTo>
                    <a:lnTo>
                      <a:pt x="0" y="150"/>
                    </a:lnTo>
                    <a:lnTo>
                      <a:pt x="3" y="173"/>
                    </a:lnTo>
                    <a:lnTo>
                      <a:pt x="9" y="196"/>
                    </a:lnTo>
                    <a:lnTo>
                      <a:pt x="18" y="216"/>
                    </a:lnTo>
                    <a:lnTo>
                      <a:pt x="29" y="236"/>
                    </a:lnTo>
                    <a:lnTo>
                      <a:pt x="43" y="253"/>
                    </a:lnTo>
                    <a:lnTo>
                      <a:pt x="61" y="268"/>
                    </a:lnTo>
                    <a:lnTo>
                      <a:pt x="81" y="282"/>
                    </a:lnTo>
                    <a:lnTo>
                      <a:pt x="101" y="291"/>
                    </a:lnTo>
                    <a:lnTo>
                      <a:pt x="124" y="296"/>
                    </a:lnTo>
                    <a:lnTo>
                      <a:pt x="150" y="296"/>
                    </a:lnTo>
                    <a:lnTo>
                      <a:pt x="150" y="2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26680" y="2028600"/>
                <a:ext cx="124560" cy="324720"/>
              </a:xfrm>
              <a:custGeom>
                <a:avLst/>
                <a:gdLst/>
                <a:ahLst/>
                <a:rect l="l" t="t" r="r" b="b"/>
                <a:pathLst>
                  <a:path w="86" h="222">
                    <a:moveTo>
                      <a:pt x="84" y="3"/>
                    </a:moveTo>
                    <a:lnTo>
                      <a:pt x="86" y="222"/>
                    </a:lnTo>
                    <a:lnTo>
                      <a:pt x="0" y="22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3226680" y="2248200"/>
                <a:ext cx="1173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3226680" y="2298240"/>
                <a:ext cx="1173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3226680" y="2196720"/>
                <a:ext cx="117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522600" y="2815920"/>
                <a:ext cx="126360" cy="322920"/>
              </a:xfrm>
              <a:custGeom>
                <a:avLst/>
                <a:gdLst/>
                <a:ahLst/>
                <a:rect l="l" t="t" r="r" b="b"/>
                <a:pathLst>
                  <a:path w="87" h="221">
                    <a:moveTo>
                      <a:pt x="0" y="215"/>
                    </a:moveTo>
                    <a:lnTo>
                      <a:pt x="0" y="0"/>
                    </a:lnTo>
                    <a:lnTo>
                      <a:pt x="87" y="0"/>
                    </a:lnTo>
                    <a:lnTo>
                      <a:pt x="87" y="22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526920" y="2916720"/>
                <a:ext cx="12204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26920" y="2865240"/>
                <a:ext cx="1220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526920" y="2966400"/>
                <a:ext cx="1220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284640" y="3589560"/>
                <a:ext cx="1080" cy="2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260160" y="381240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0" y="0"/>
                    </a:moveTo>
                    <a:lnTo>
                      <a:pt x="17" y="66"/>
                    </a:lnTo>
                    <a:lnTo>
                      <a:pt x="3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222360" y="3286800"/>
                <a:ext cx="429480" cy="433080"/>
              </a:xfrm>
              <a:custGeom>
                <a:avLst/>
                <a:gdLst/>
                <a:ahLst/>
                <a:rect l="l" t="t" r="r" b="b"/>
                <a:pathLst>
                  <a:path w="296" h="296">
                    <a:moveTo>
                      <a:pt x="147" y="296"/>
                    </a:moveTo>
                    <a:lnTo>
                      <a:pt x="173" y="296"/>
                    </a:lnTo>
                    <a:lnTo>
                      <a:pt x="196" y="290"/>
                    </a:lnTo>
                    <a:lnTo>
                      <a:pt x="216" y="281"/>
                    </a:lnTo>
                    <a:lnTo>
                      <a:pt x="236" y="267"/>
                    </a:lnTo>
                    <a:lnTo>
                      <a:pt x="253" y="253"/>
                    </a:lnTo>
                    <a:lnTo>
                      <a:pt x="268" y="235"/>
                    </a:lnTo>
                    <a:lnTo>
                      <a:pt x="279" y="215"/>
                    </a:lnTo>
                    <a:lnTo>
                      <a:pt x="288" y="195"/>
                    </a:lnTo>
                    <a:lnTo>
                      <a:pt x="294" y="172"/>
                    </a:lnTo>
                    <a:lnTo>
                      <a:pt x="296" y="149"/>
                    </a:lnTo>
                    <a:lnTo>
                      <a:pt x="294" y="123"/>
                    </a:lnTo>
                    <a:lnTo>
                      <a:pt x="288" y="100"/>
                    </a:lnTo>
                    <a:lnTo>
                      <a:pt x="279" y="80"/>
                    </a:lnTo>
                    <a:lnTo>
                      <a:pt x="268" y="60"/>
                    </a:lnTo>
                    <a:lnTo>
                      <a:pt x="253" y="43"/>
                    </a:lnTo>
                    <a:lnTo>
                      <a:pt x="236" y="28"/>
                    </a:lnTo>
                    <a:lnTo>
                      <a:pt x="216" y="17"/>
                    </a:lnTo>
                    <a:lnTo>
                      <a:pt x="196" y="8"/>
                    </a:lnTo>
                    <a:lnTo>
                      <a:pt x="173" y="3"/>
                    </a:lnTo>
                    <a:lnTo>
                      <a:pt x="147" y="0"/>
                    </a:lnTo>
                    <a:lnTo>
                      <a:pt x="124" y="3"/>
                    </a:lnTo>
                    <a:lnTo>
                      <a:pt x="101" y="8"/>
                    </a:lnTo>
                    <a:lnTo>
                      <a:pt x="81" y="17"/>
                    </a:lnTo>
                    <a:lnTo>
                      <a:pt x="61" y="28"/>
                    </a:lnTo>
                    <a:lnTo>
                      <a:pt x="43" y="43"/>
                    </a:lnTo>
                    <a:lnTo>
                      <a:pt x="29" y="60"/>
                    </a:lnTo>
                    <a:lnTo>
                      <a:pt x="15" y="80"/>
                    </a:lnTo>
                    <a:lnTo>
                      <a:pt x="6" y="100"/>
                    </a:lnTo>
                    <a:lnTo>
                      <a:pt x="0" y="123"/>
                    </a:lnTo>
                    <a:lnTo>
                      <a:pt x="0" y="149"/>
                    </a:lnTo>
                    <a:lnTo>
                      <a:pt x="0" y="172"/>
                    </a:lnTo>
                    <a:lnTo>
                      <a:pt x="6" y="195"/>
                    </a:lnTo>
                    <a:lnTo>
                      <a:pt x="15" y="215"/>
                    </a:lnTo>
                    <a:lnTo>
                      <a:pt x="29" y="235"/>
                    </a:lnTo>
                    <a:lnTo>
                      <a:pt x="43" y="253"/>
                    </a:lnTo>
                    <a:lnTo>
                      <a:pt x="61" y="267"/>
                    </a:lnTo>
                    <a:lnTo>
                      <a:pt x="81" y="281"/>
                    </a:lnTo>
                    <a:lnTo>
                      <a:pt x="101" y="290"/>
                    </a:lnTo>
                    <a:lnTo>
                      <a:pt x="124" y="296"/>
                    </a:lnTo>
                    <a:lnTo>
                      <a:pt x="147" y="296"/>
                    </a:lnTo>
                    <a:lnTo>
                      <a:pt x="147" y="2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222360" y="2950200"/>
                <a:ext cx="126360" cy="323280"/>
              </a:xfrm>
              <a:custGeom>
                <a:avLst/>
                <a:gdLst/>
                <a:ahLst/>
                <a:rect l="l" t="t" r="r" b="b"/>
                <a:pathLst>
                  <a:path w="87" h="221">
                    <a:moveTo>
                      <a:pt x="87" y="3"/>
                    </a:moveTo>
                    <a:lnTo>
                      <a:pt x="87" y="221"/>
                    </a:lnTo>
                    <a:lnTo>
                      <a:pt x="0" y="22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3222000" y="3168360"/>
                <a:ext cx="122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3222000" y="3219840"/>
                <a:ext cx="1220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3222000" y="3118680"/>
                <a:ext cx="1220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522600" y="3731760"/>
                <a:ext cx="126360" cy="324720"/>
              </a:xfrm>
              <a:custGeom>
                <a:avLst/>
                <a:gdLst/>
                <a:ahLst/>
                <a:rect l="l" t="t" r="r" b="b"/>
                <a:pathLst>
                  <a:path w="87" h="222">
                    <a:moveTo>
                      <a:pt x="0" y="216"/>
                    </a:moveTo>
                    <a:lnTo>
                      <a:pt x="0" y="0"/>
                    </a:lnTo>
                    <a:lnTo>
                      <a:pt x="87" y="0"/>
                    </a:lnTo>
                    <a:lnTo>
                      <a:pt x="87" y="22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526920" y="3832560"/>
                <a:ext cx="1220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526920" y="3782880"/>
                <a:ext cx="1220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526920" y="3884040"/>
                <a:ext cx="1220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22360" y="4206960"/>
                <a:ext cx="429480" cy="432720"/>
              </a:xfrm>
              <a:custGeom>
                <a:avLst/>
                <a:gdLst/>
                <a:ahLst/>
                <a:rect l="l" t="t" r="r" b="b"/>
                <a:pathLst>
                  <a:path w="296" h="296">
                    <a:moveTo>
                      <a:pt x="147" y="296"/>
                    </a:moveTo>
                    <a:lnTo>
                      <a:pt x="173" y="293"/>
                    </a:lnTo>
                    <a:lnTo>
                      <a:pt x="196" y="287"/>
                    </a:lnTo>
                    <a:lnTo>
                      <a:pt x="216" y="279"/>
                    </a:lnTo>
                    <a:lnTo>
                      <a:pt x="236" y="267"/>
                    </a:lnTo>
                    <a:lnTo>
                      <a:pt x="253" y="253"/>
                    </a:lnTo>
                    <a:lnTo>
                      <a:pt x="268" y="236"/>
                    </a:lnTo>
                    <a:lnTo>
                      <a:pt x="279" y="216"/>
                    </a:lnTo>
                    <a:lnTo>
                      <a:pt x="288" y="195"/>
                    </a:lnTo>
                    <a:lnTo>
                      <a:pt x="294" y="173"/>
                    </a:lnTo>
                    <a:lnTo>
                      <a:pt x="296" y="150"/>
                    </a:lnTo>
                    <a:lnTo>
                      <a:pt x="294" y="124"/>
                    </a:lnTo>
                    <a:lnTo>
                      <a:pt x="288" y="101"/>
                    </a:lnTo>
                    <a:lnTo>
                      <a:pt x="279" y="81"/>
                    </a:lnTo>
                    <a:lnTo>
                      <a:pt x="268" y="60"/>
                    </a:lnTo>
                    <a:lnTo>
                      <a:pt x="253" y="43"/>
                    </a:lnTo>
                    <a:lnTo>
                      <a:pt x="236" y="29"/>
                    </a:lnTo>
                    <a:lnTo>
                      <a:pt x="216" y="17"/>
                    </a:lnTo>
                    <a:lnTo>
                      <a:pt x="196" y="9"/>
                    </a:lnTo>
                    <a:lnTo>
                      <a:pt x="173" y="3"/>
                    </a:lnTo>
                    <a:lnTo>
                      <a:pt x="147" y="0"/>
                    </a:lnTo>
                    <a:lnTo>
                      <a:pt x="124" y="3"/>
                    </a:lnTo>
                    <a:lnTo>
                      <a:pt x="101" y="9"/>
                    </a:lnTo>
                    <a:lnTo>
                      <a:pt x="81" y="17"/>
                    </a:lnTo>
                    <a:lnTo>
                      <a:pt x="61" y="29"/>
                    </a:lnTo>
                    <a:lnTo>
                      <a:pt x="43" y="43"/>
                    </a:lnTo>
                    <a:lnTo>
                      <a:pt x="29" y="60"/>
                    </a:lnTo>
                    <a:lnTo>
                      <a:pt x="15" y="81"/>
                    </a:lnTo>
                    <a:lnTo>
                      <a:pt x="6" y="101"/>
                    </a:lnTo>
                    <a:lnTo>
                      <a:pt x="0" y="124"/>
                    </a:lnTo>
                    <a:lnTo>
                      <a:pt x="0" y="150"/>
                    </a:lnTo>
                    <a:lnTo>
                      <a:pt x="0" y="173"/>
                    </a:lnTo>
                    <a:lnTo>
                      <a:pt x="6" y="195"/>
                    </a:lnTo>
                    <a:lnTo>
                      <a:pt x="15" y="216"/>
                    </a:lnTo>
                    <a:lnTo>
                      <a:pt x="29" y="236"/>
                    </a:lnTo>
                    <a:lnTo>
                      <a:pt x="43" y="253"/>
                    </a:lnTo>
                    <a:lnTo>
                      <a:pt x="61" y="267"/>
                    </a:lnTo>
                    <a:lnTo>
                      <a:pt x="81" y="279"/>
                    </a:lnTo>
                    <a:lnTo>
                      <a:pt x="101" y="287"/>
                    </a:lnTo>
                    <a:lnTo>
                      <a:pt x="124" y="293"/>
                    </a:lnTo>
                    <a:lnTo>
                      <a:pt x="147" y="296"/>
                    </a:lnTo>
                    <a:lnTo>
                      <a:pt x="147" y="2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222360" y="3870720"/>
                <a:ext cx="126360" cy="323280"/>
              </a:xfrm>
              <a:custGeom>
                <a:avLst/>
                <a:gdLst/>
                <a:ahLst/>
                <a:rect l="l" t="t" r="r" b="b"/>
                <a:pathLst>
                  <a:path w="87" h="221">
                    <a:moveTo>
                      <a:pt x="87" y="3"/>
                    </a:moveTo>
                    <a:lnTo>
                      <a:pt x="87" y="221"/>
                    </a:lnTo>
                    <a:lnTo>
                      <a:pt x="0" y="22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3222000" y="4089960"/>
                <a:ext cx="122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3222000" y="4135320"/>
                <a:ext cx="12204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3222000" y="4038840"/>
                <a:ext cx="1220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522600" y="4653360"/>
                <a:ext cx="126360" cy="318600"/>
              </a:xfrm>
              <a:custGeom>
                <a:avLst/>
                <a:gdLst/>
                <a:ahLst/>
                <a:rect l="l" t="t" r="r" b="b"/>
                <a:pathLst>
                  <a:path w="87" h="218">
                    <a:moveTo>
                      <a:pt x="0" y="215"/>
                    </a:moveTo>
                    <a:lnTo>
                      <a:pt x="0" y="0"/>
                    </a:lnTo>
                    <a:lnTo>
                      <a:pt x="87" y="0"/>
                    </a:lnTo>
                    <a:lnTo>
                      <a:pt x="87" y="21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526920" y="4754160"/>
                <a:ext cx="122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526920" y="4703040"/>
                <a:ext cx="12204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526920" y="4803840"/>
                <a:ext cx="122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3589560" y="3186000"/>
                <a:ext cx="1080" cy="23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564720" y="310572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35" y="66"/>
                    </a:moveTo>
                    <a:lnTo>
                      <a:pt x="17" y="0"/>
                    </a:lnTo>
                    <a:lnTo>
                      <a:pt x="0" y="66"/>
                    </a:lnTo>
                    <a:lnTo>
                      <a:pt x="35" y="66"/>
                    </a:lnTo>
                    <a:lnTo>
                      <a:pt x="35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550320" y="4126320"/>
                <a:ext cx="1080" cy="28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64720" y="401832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35" y="63"/>
                    </a:moveTo>
                    <a:lnTo>
                      <a:pt x="17" y="0"/>
                    </a:lnTo>
                    <a:lnTo>
                      <a:pt x="0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3585240" y="5019120"/>
                <a:ext cx="3960" cy="23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560400" y="4942800"/>
                <a:ext cx="50400" cy="9216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35" y="63"/>
                    </a:moveTo>
                    <a:lnTo>
                      <a:pt x="17" y="0"/>
                    </a:lnTo>
                    <a:lnTo>
                      <a:pt x="0" y="63"/>
                    </a:lnTo>
                    <a:lnTo>
                      <a:pt x="35" y="63"/>
                    </a:lnTo>
                    <a:lnTo>
                      <a:pt x="3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5848920" y="2862360"/>
                <a:ext cx="1080" cy="41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34520" y="278640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35" y="63"/>
                    </a:moveTo>
                    <a:lnTo>
                      <a:pt x="17" y="0"/>
                    </a:lnTo>
                    <a:lnTo>
                      <a:pt x="0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29440" y="2369880"/>
                <a:ext cx="613800" cy="412200"/>
              </a:xfrm>
              <a:custGeom>
                <a:avLst/>
                <a:gdLst/>
                <a:ahLst/>
                <a:rect l="l" t="t" r="r" b="b"/>
                <a:pathLst>
                  <a:path w="423" h="282">
                    <a:moveTo>
                      <a:pt x="423" y="279"/>
                    </a:moveTo>
                    <a:lnTo>
                      <a:pt x="423" y="0"/>
                    </a:lnTo>
                    <a:lnTo>
                      <a:pt x="0" y="0"/>
                    </a:lnTo>
                    <a:lnTo>
                      <a:pt x="0" y="282"/>
                    </a:lnTo>
                    <a:lnTo>
                      <a:pt x="423" y="282"/>
                    </a:lnTo>
                    <a:lnTo>
                      <a:pt x="423" y="28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425200" y="2782080"/>
                <a:ext cx="1440" cy="42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400360" y="3193200"/>
                <a:ext cx="50760" cy="97920"/>
              </a:xfrm>
              <a:custGeom>
                <a:avLst/>
                <a:gdLst/>
                <a:ahLst/>
                <a:rect l="l" t="t" r="r" b="b"/>
                <a:pathLst>
                  <a:path w="35" h="67">
                    <a:moveTo>
                      <a:pt x="0" y="0"/>
                    </a:moveTo>
                    <a:lnTo>
                      <a:pt x="17" y="67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425200" y="1856160"/>
                <a:ext cx="1440" cy="43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400360" y="2268360"/>
                <a:ext cx="5076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0" y="0"/>
                    </a:moveTo>
                    <a:lnTo>
                      <a:pt x="17" y="6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5848920" y="3775320"/>
                <a:ext cx="1080" cy="41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4520" y="3711240"/>
                <a:ext cx="50400" cy="9216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35" y="63"/>
                    </a:moveTo>
                    <a:lnTo>
                      <a:pt x="17" y="0"/>
                    </a:lnTo>
                    <a:lnTo>
                      <a:pt x="0" y="63"/>
                    </a:lnTo>
                    <a:lnTo>
                      <a:pt x="35" y="63"/>
                    </a:lnTo>
                    <a:lnTo>
                      <a:pt x="3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5848920" y="4688640"/>
                <a:ext cx="1080" cy="41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834520" y="461988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35" y="63"/>
                    </a:moveTo>
                    <a:lnTo>
                      <a:pt x="17" y="0"/>
                    </a:lnTo>
                    <a:lnTo>
                      <a:pt x="0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29440" y="3294360"/>
                <a:ext cx="613800" cy="407880"/>
              </a:xfrm>
              <a:custGeom>
                <a:avLst/>
                <a:gdLst/>
                <a:ahLst/>
                <a:rect l="l" t="t" r="r" b="b"/>
                <a:pathLst>
                  <a:path w="423" h="279">
                    <a:moveTo>
                      <a:pt x="423" y="279"/>
                    </a:moveTo>
                    <a:lnTo>
                      <a:pt x="42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423" y="279"/>
                    </a:lnTo>
                    <a:lnTo>
                      <a:pt x="42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5200" y="3702600"/>
                <a:ext cx="1440" cy="42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00360" y="4106160"/>
                <a:ext cx="5076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0" y="0"/>
                    </a:moveTo>
                    <a:lnTo>
                      <a:pt x="17" y="6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29440" y="4206960"/>
                <a:ext cx="613800" cy="408240"/>
              </a:xfrm>
              <a:custGeom>
                <a:avLst/>
                <a:gdLst/>
                <a:ahLst/>
                <a:rect l="l" t="t" r="r" b="b"/>
                <a:pathLst>
                  <a:path w="423" h="279">
                    <a:moveTo>
                      <a:pt x="423" y="279"/>
                    </a:moveTo>
                    <a:lnTo>
                      <a:pt x="42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423" y="279"/>
                    </a:lnTo>
                    <a:lnTo>
                      <a:pt x="42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389040" y="5393520"/>
                <a:ext cx="186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578920" y="5393520"/>
                <a:ext cx="186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971800" y="5334120"/>
              <a:ext cx="32763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371600" y="54100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-per-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54100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-per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51EC-C973-4E11-BA3F-53D38F4FDAB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Libra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47200" y="2971800"/>
            <a:ext cx="1844640" cy="2437920"/>
            <a:chOff x="1447200" y="2971800"/>
            <a:chExt cx="1844640" cy="2437920"/>
          </a:xfrm>
        </p:grpSpPr>
        <p:sp>
          <p:nvSpPr>
            <p:cNvPr id="142" name=""/>
            <p:cNvSpPr/>
            <p:nvPr/>
          </p:nvSpPr>
          <p:spPr>
            <a:xfrm>
              <a:off x="1995120" y="3368880"/>
              <a:ext cx="844560" cy="376560"/>
            </a:xfrm>
            <a:custGeom>
              <a:avLst/>
              <a:gdLst/>
              <a:ahLst/>
              <a:rect l="l" t="t" r="r" b="b"/>
              <a:pathLst>
                <a:path w="722" h="293">
                  <a:moveTo>
                    <a:pt x="722" y="289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722" y="293"/>
                  </a:lnTo>
                  <a:lnTo>
                    <a:pt x="722" y="293"/>
                  </a:lnTo>
                  <a:lnTo>
                    <a:pt x="722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95120" y="3368880"/>
              <a:ext cx="844560" cy="376560"/>
            </a:xfrm>
            <a:custGeom>
              <a:avLst/>
              <a:gdLst/>
              <a:ahLst/>
              <a:rect l="l" t="t" r="r" b="b"/>
              <a:pathLst>
                <a:path w="722" h="293">
                  <a:moveTo>
                    <a:pt x="722" y="289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722" y="293"/>
                  </a:lnTo>
                  <a:lnTo>
                    <a:pt x="72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17720" y="5039640"/>
              <a:ext cx="1004760" cy="370080"/>
            </a:xfrm>
            <a:custGeom>
              <a:avLst/>
              <a:gdLst/>
              <a:ahLst/>
              <a:rect l="l" t="t" r="r" b="b"/>
              <a:pathLst>
                <a:path w="859" h="288">
                  <a:moveTo>
                    <a:pt x="859" y="288"/>
                  </a:moveTo>
                  <a:lnTo>
                    <a:pt x="859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9" y="288"/>
                  </a:lnTo>
                  <a:lnTo>
                    <a:pt x="859" y="28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17720" y="5039640"/>
              <a:ext cx="1004760" cy="370080"/>
            </a:xfrm>
            <a:custGeom>
              <a:avLst/>
              <a:gdLst/>
              <a:ahLst/>
              <a:rect l="l" t="t" r="r" b="b"/>
              <a:pathLst>
                <a:path w="859" h="288">
                  <a:moveTo>
                    <a:pt x="859" y="288"/>
                  </a:moveTo>
                  <a:lnTo>
                    <a:pt x="859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9" y="288"/>
                  </a:lnTo>
                  <a:lnTo>
                    <a:pt x="859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95120" y="3368880"/>
              <a:ext cx="844560" cy="376560"/>
            </a:xfrm>
            <a:custGeom>
              <a:avLst/>
              <a:gdLst/>
              <a:ahLst/>
              <a:rect l="l" t="t" r="r" b="b"/>
              <a:pathLst>
                <a:path w="722" h="293">
                  <a:moveTo>
                    <a:pt x="722" y="289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722" y="293"/>
                  </a:lnTo>
                  <a:lnTo>
                    <a:pt x="722" y="293"/>
                  </a:lnTo>
                  <a:lnTo>
                    <a:pt x="722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95120" y="3368880"/>
              <a:ext cx="844560" cy="376560"/>
            </a:xfrm>
            <a:custGeom>
              <a:avLst/>
              <a:gdLst/>
              <a:ahLst/>
              <a:rect l="l" t="t" r="r" b="b"/>
              <a:pathLst>
                <a:path w="722" h="293">
                  <a:moveTo>
                    <a:pt x="722" y="289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722" y="293"/>
                  </a:lnTo>
                  <a:lnTo>
                    <a:pt x="72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46680" y="343188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cdef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4158720"/>
              <a:ext cx="47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cop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23200" y="41587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26880" y="415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27320" y="4158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y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6880" y="415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03160" y="415872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81640" y="415872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70360" y="415872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3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46920" y="4364280"/>
              <a:ext cx="94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gAdd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42960" y="436428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39440" y="43642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78040" y="436428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55800" y="436428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81880" y="436428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3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06800" y="3995280"/>
              <a:ext cx="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30680" y="420876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17720" y="5039640"/>
              <a:ext cx="1004760" cy="370080"/>
            </a:xfrm>
            <a:custGeom>
              <a:avLst/>
              <a:gdLst/>
              <a:ahLst/>
              <a:rect l="l" t="t" r="r" b="b"/>
              <a:pathLst>
                <a:path w="859" h="288">
                  <a:moveTo>
                    <a:pt x="859" y="288"/>
                  </a:moveTo>
                  <a:lnTo>
                    <a:pt x="859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9" y="288"/>
                  </a:lnTo>
                  <a:lnTo>
                    <a:pt x="859" y="28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17720" y="5039640"/>
              <a:ext cx="1004760" cy="370080"/>
            </a:xfrm>
            <a:custGeom>
              <a:avLst/>
              <a:gdLst/>
              <a:ahLst/>
              <a:rect l="l" t="t" r="r" b="b"/>
              <a:pathLst>
                <a:path w="859" h="288">
                  <a:moveTo>
                    <a:pt x="859" y="288"/>
                  </a:moveTo>
                  <a:lnTo>
                    <a:pt x="859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9" y="288"/>
                  </a:lnTo>
                  <a:lnTo>
                    <a:pt x="859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01960" y="5104080"/>
              <a:ext cx="90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yzabcdef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15240" y="3830760"/>
              <a:ext cx="720" cy="20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87160" y="4015800"/>
              <a:ext cx="57240" cy="12204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0" y="0"/>
                  </a:moveTo>
                  <a:lnTo>
                    <a:pt x="24" y="95"/>
                  </a:lnTo>
                  <a:lnTo>
                    <a:pt x="4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15240" y="4642200"/>
              <a:ext cx="720" cy="21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87160" y="4827600"/>
              <a:ext cx="57240" cy="12204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0" y="0"/>
                  </a:moveTo>
                  <a:lnTo>
                    <a:pt x="24" y="95"/>
                  </a:lnTo>
                  <a:lnTo>
                    <a:pt x="49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47200" y="46357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24320" y="4758120"/>
              <a:ext cx="211680" cy="201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02160" y="4917600"/>
              <a:ext cx="101520" cy="10512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0" y="37"/>
                  </a:moveTo>
                  <a:lnTo>
                    <a:pt x="87" y="82"/>
                  </a:lnTo>
                  <a:lnTo>
                    <a:pt x="33" y="0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24960" y="29718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01720" y="3088440"/>
              <a:ext cx="211680" cy="201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74520" y="3252960"/>
              <a:ext cx="106560" cy="100080"/>
            </a:xfrm>
            <a:custGeom>
              <a:avLst/>
              <a:gdLst/>
              <a:ahLst/>
              <a:rect l="l" t="t" r="r" b="b"/>
              <a:pathLst>
                <a:path w="91" h="78">
                  <a:moveTo>
                    <a:pt x="0" y="37"/>
                  </a:moveTo>
                  <a:lnTo>
                    <a:pt x="91" y="78"/>
                  </a:lnTo>
                  <a:lnTo>
                    <a:pt x="33" y="0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485680" y="2971800"/>
            <a:ext cx="2626920" cy="2133360"/>
            <a:chOff x="5485680" y="2971800"/>
            <a:chExt cx="2626920" cy="2133360"/>
          </a:xfrm>
        </p:grpSpPr>
        <p:sp>
          <p:nvSpPr>
            <p:cNvPr id="179" name=""/>
            <p:cNvSpPr/>
            <p:nvPr/>
          </p:nvSpPr>
          <p:spPr>
            <a:xfrm>
              <a:off x="5958000" y="3315600"/>
              <a:ext cx="1025280" cy="329040"/>
            </a:xfrm>
            <a:custGeom>
              <a:avLst/>
              <a:gdLst/>
              <a:ahLst/>
              <a:rect l="l" t="t" r="r" b="b"/>
              <a:pathLst>
                <a:path w="862" h="293">
                  <a:moveTo>
                    <a:pt x="858" y="293"/>
                  </a:moveTo>
                  <a:lnTo>
                    <a:pt x="86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862" y="293"/>
                  </a:lnTo>
                  <a:lnTo>
                    <a:pt x="862" y="293"/>
                  </a:lnTo>
                  <a:lnTo>
                    <a:pt x="858" y="29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58000" y="3315600"/>
              <a:ext cx="1025280" cy="329040"/>
            </a:xfrm>
            <a:custGeom>
              <a:avLst/>
              <a:gdLst/>
              <a:ahLst/>
              <a:rect l="l" t="t" r="r" b="b"/>
              <a:pathLst>
                <a:path w="862" h="293">
                  <a:moveTo>
                    <a:pt x="858" y="293"/>
                  </a:moveTo>
                  <a:lnTo>
                    <a:pt x="86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862" y="293"/>
                  </a:lnTo>
                  <a:lnTo>
                    <a:pt x="86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85440" y="4776120"/>
              <a:ext cx="775080" cy="329040"/>
            </a:xfrm>
            <a:custGeom>
              <a:avLst/>
              <a:gdLst/>
              <a:ahLst/>
              <a:rect l="l" t="t" r="r" b="b"/>
              <a:pathLst>
                <a:path w="652" h="293">
                  <a:moveTo>
                    <a:pt x="652" y="289"/>
                  </a:moveTo>
                  <a:lnTo>
                    <a:pt x="65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652" y="293"/>
                  </a:lnTo>
                  <a:lnTo>
                    <a:pt x="652" y="293"/>
                  </a:lnTo>
                  <a:lnTo>
                    <a:pt x="652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85440" y="4776120"/>
              <a:ext cx="775080" cy="329040"/>
            </a:xfrm>
            <a:custGeom>
              <a:avLst/>
              <a:gdLst/>
              <a:ahLst/>
              <a:rect l="l" t="t" r="r" b="b"/>
              <a:pathLst>
                <a:path w="652" h="293">
                  <a:moveTo>
                    <a:pt x="652" y="289"/>
                  </a:moveTo>
                  <a:lnTo>
                    <a:pt x="65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652" y="293"/>
                  </a:lnTo>
                  <a:lnTo>
                    <a:pt x="65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58000" y="3315600"/>
              <a:ext cx="1025280" cy="329040"/>
            </a:xfrm>
            <a:custGeom>
              <a:avLst/>
              <a:gdLst/>
              <a:ahLst/>
              <a:rect l="l" t="t" r="r" b="b"/>
              <a:pathLst>
                <a:path w="862" h="293">
                  <a:moveTo>
                    <a:pt x="858" y="293"/>
                  </a:moveTo>
                  <a:lnTo>
                    <a:pt x="86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862" y="293"/>
                  </a:lnTo>
                  <a:lnTo>
                    <a:pt x="862" y="293"/>
                  </a:lnTo>
                  <a:lnTo>
                    <a:pt x="858" y="29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58000" y="3315600"/>
              <a:ext cx="1025280" cy="329040"/>
            </a:xfrm>
            <a:custGeom>
              <a:avLst/>
              <a:gdLst/>
              <a:ahLst/>
              <a:rect l="l" t="t" r="r" b="b"/>
              <a:pathLst>
                <a:path w="862" h="293">
                  <a:moveTo>
                    <a:pt x="858" y="293"/>
                  </a:moveTo>
                  <a:lnTo>
                    <a:pt x="86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862" y="293"/>
                  </a:lnTo>
                  <a:lnTo>
                    <a:pt x="86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98120" y="336960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cdef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53000" y="410796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2760" y="4107960"/>
              <a:ext cx="20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38920" y="4107960"/>
              <a:ext cx="99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gStrip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90040" y="410796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92280" y="41079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15760" y="410796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3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71200" y="386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89320" y="4047480"/>
              <a:ext cx="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85440" y="4776120"/>
              <a:ext cx="775080" cy="329040"/>
            </a:xfrm>
            <a:custGeom>
              <a:avLst/>
              <a:gdLst/>
              <a:ahLst/>
              <a:rect l="l" t="t" r="r" b="b"/>
              <a:pathLst>
                <a:path w="652" h="293">
                  <a:moveTo>
                    <a:pt x="652" y="289"/>
                  </a:moveTo>
                  <a:lnTo>
                    <a:pt x="65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652" y="293"/>
                  </a:lnTo>
                  <a:lnTo>
                    <a:pt x="652" y="293"/>
                  </a:lnTo>
                  <a:lnTo>
                    <a:pt x="652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85440" y="4776120"/>
              <a:ext cx="775080" cy="329040"/>
            </a:xfrm>
            <a:custGeom>
              <a:avLst/>
              <a:gdLst/>
              <a:ahLst/>
              <a:rect l="l" t="t" r="r" b="b"/>
              <a:pathLst>
                <a:path w="652" h="293">
                  <a:moveTo>
                    <a:pt x="652" y="289"/>
                  </a:moveTo>
                  <a:lnTo>
                    <a:pt x="65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652" y="293"/>
                  </a:lnTo>
                  <a:lnTo>
                    <a:pt x="65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38520" y="483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68480" y="3719160"/>
              <a:ext cx="108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38600" y="3881160"/>
              <a:ext cx="59400" cy="10656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0" y="0"/>
                  </a:moveTo>
                  <a:lnTo>
                    <a:pt x="25" y="95"/>
                  </a:lnTo>
                  <a:lnTo>
                    <a:pt x="5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68480" y="4433040"/>
              <a:ext cx="10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38600" y="4590360"/>
              <a:ext cx="59400" cy="10656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0" y="0"/>
                  </a:moveTo>
                  <a:lnTo>
                    <a:pt x="25" y="95"/>
                  </a:lnTo>
                  <a:lnTo>
                    <a:pt x="5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66720" y="4836600"/>
              <a:ext cx="15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04960" y="483660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3280" y="4836600"/>
              <a:ext cx="20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8400" y="4836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47120" y="4836600"/>
              <a:ext cx="28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25400" y="4836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12240" y="483660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12760" y="44366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91680" y="4539960"/>
              <a:ext cx="214920" cy="176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67720" y="4683600"/>
              <a:ext cx="108000" cy="87480"/>
            </a:xfrm>
            <a:custGeom>
              <a:avLst/>
              <a:gdLst/>
              <a:ahLst/>
              <a:rect l="l" t="t" r="r" b="b"/>
              <a:pathLst>
                <a:path w="91" h="78">
                  <a:moveTo>
                    <a:pt x="0" y="33"/>
                  </a:moveTo>
                  <a:lnTo>
                    <a:pt x="91" y="78"/>
                  </a:lnTo>
                  <a:lnTo>
                    <a:pt x="37" y="0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5680" y="29718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63520" y="3073680"/>
              <a:ext cx="216000" cy="176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40640" y="3218040"/>
              <a:ext cx="108000" cy="87480"/>
            </a:xfrm>
            <a:custGeom>
              <a:avLst/>
              <a:gdLst/>
              <a:ahLst/>
              <a:rect l="l" t="t" r="r" b="b"/>
              <a:pathLst>
                <a:path w="91" h="78">
                  <a:moveTo>
                    <a:pt x="0" y="37"/>
                  </a:moveTo>
                  <a:lnTo>
                    <a:pt x="91" y="78"/>
                  </a:lnTo>
                  <a:lnTo>
                    <a:pt x="37" y="0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257800" y="1981080"/>
            <a:ext cx="2438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p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6BE4-6FEC-4F83-A6A0-D0722CEE9C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9:31:50Z</dcterms:created>
  <dc:creator>Ryan Peterson</dc:creator>
  <dc:description/>
  <dc:language>en-US</dc:language>
  <cp:lastModifiedBy>Larry Peterson</cp:lastModifiedBy>
  <dcterms:modified xsi:type="dcterms:W3CDTF">2000-01-31T16:26:36Z</dcterms:modified>
  <cp:revision>12</cp:revision>
  <dc:subject/>
  <dc:title>Elements of a Protocol Implementation</dc:title>
</cp:coreProperties>
</file>