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D22-396A-4290-827F-1E13C3B5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A7F8-BB39-4D39-A2CE-18C72B9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CC83-0948-49B1-8FF5-DCE5FFB0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E18E-6400-4927-8DE2-B3886527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A7E3-CC27-4036-BDFA-B4A6552BB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FCD5-E86B-45B8-AE3C-42B8CD85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0E60-BFB7-4553-A6C2-A89BDD3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86D6-372A-433D-81BC-3430BFF09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60AA-8F2B-4AAE-8990-3943F362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3C1E-78C1-4BA9-A4B5-212998DC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50F-9DA9-4A45-9DB6-22D321B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E42-9036-4D67-87FB-CBCE3509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0B03-DB33-47E6-BF4C-08D8E2F6D2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55520" y="236844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39200" y="2646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13760" y="368136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2320" y="3952800"/>
            <a:ext cx="92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04960" y="3683160"/>
            <a:ext cx="1416240" cy="590400"/>
          </a:xfrm>
          <a:custGeom>
            <a:avLst/>
            <a:gdLst/>
            <a:ahLst/>
            <a:rect l="l" t="t" r="r" b="b"/>
            <a:pathLst>
              <a:path w="892" h="372">
                <a:moveTo>
                  <a:pt x="892" y="372"/>
                </a:moveTo>
                <a:lnTo>
                  <a:pt x="892" y="0"/>
                </a:lnTo>
                <a:lnTo>
                  <a:pt x="0" y="0"/>
                </a:lnTo>
                <a:lnTo>
                  <a:pt x="0" y="372"/>
                </a:lnTo>
                <a:lnTo>
                  <a:pt x="892" y="372"/>
                </a:lnTo>
                <a:lnTo>
                  <a:pt x="892" y="37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13080" y="2925720"/>
            <a:ext cx="1440" cy="652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78160" y="3551400"/>
            <a:ext cx="69840" cy="123840"/>
          </a:xfrm>
          <a:custGeom>
            <a:avLst/>
            <a:gdLst/>
            <a:ahLst/>
            <a:rect l="l" t="t" r="r" b="b"/>
            <a:pathLst>
              <a:path w="44" h="78">
                <a:moveTo>
                  <a:pt x="0" y="0"/>
                </a:moveTo>
                <a:lnTo>
                  <a:pt x="22" y="78"/>
                </a:lnTo>
                <a:lnTo>
                  <a:pt x="4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00640" y="236844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77840" y="264636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58880" y="3681360"/>
            <a:ext cx="128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47440" y="3952800"/>
            <a:ext cx="92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2160" y="3683160"/>
            <a:ext cx="1417320" cy="590400"/>
          </a:xfrm>
          <a:custGeom>
            <a:avLst/>
            <a:gdLst/>
            <a:ahLst/>
            <a:rect l="l" t="t" r="r" b="b"/>
            <a:pathLst>
              <a:path w="893" h="372">
                <a:moveTo>
                  <a:pt x="893" y="372"/>
                </a:moveTo>
                <a:lnTo>
                  <a:pt x="893" y="0"/>
                </a:lnTo>
                <a:lnTo>
                  <a:pt x="0" y="0"/>
                </a:lnTo>
                <a:lnTo>
                  <a:pt x="0" y="372"/>
                </a:lnTo>
                <a:lnTo>
                  <a:pt x="893" y="372"/>
                </a:lnTo>
                <a:lnTo>
                  <a:pt x="893" y="37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6629400" y="3047760"/>
            <a:ext cx="0" cy="609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10320" y="2917800"/>
            <a:ext cx="74520" cy="130320"/>
          </a:xfrm>
          <a:custGeom>
            <a:avLst/>
            <a:gdLst/>
            <a:ahLst/>
            <a:rect l="l" t="t" r="r" b="b"/>
            <a:pathLst>
              <a:path w="39" h="79">
                <a:moveTo>
                  <a:pt x="39" y="75"/>
                </a:moveTo>
                <a:lnTo>
                  <a:pt x="22" y="0"/>
                </a:lnTo>
                <a:lnTo>
                  <a:pt x="0" y="79"/>
                </a:lnTo>
                <a:lnTo>
                  <a:pt x="39" y="79"/>
                </a:lnTo>
                <a:lnTo>
                  <a:pt x="39" y="79"/>
                </a:lnTo>
                <a:lnTo>
                  <a:pt x="39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06600" y="4273560"/>
            <a:ext cx="4243320" cy="360360"/>
          </a:xfrm>
          <a:custGeom>
            <a:avLst/>
            <a:gdLst/>
            <a:ahLst/>
            <a:rect l="l" t="t" r="r" b="b"/>
            <a:pathLst>
              <a:path w="2673" h="227">
                <a:moveTo>
                  <a:pt x="0" y="0"/>
                </a:moveTo>
                <a:lnTo>
                  <a:pt x="4" y="227"/>
                </a:lnTo>
                <a:lnTo>
                  <a:pt x="2673" y="227"/>
                </a:lnTo>
                <a:lnTo>
                  <a:pt x="2673" y="7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08880" y="4280040"/>
            <a:ext cx="83880" cy="152280"/>
          </a:xfrm>
          <a:custGeom>
            <a:avLst/>
            <a:gdLst/>
            <a:ahLst/>
            <a:rect l="l" t="t" r="r" b="b"/>
            <a:pathLst>
              <a:path w="53" h="96">
                <a:moveTo>
                  <a:pt x="53" y="96"/>
                </a:moveTo>
                <a:lnTo>
                  <a:pt x="26" y="0"/>
                </a:lnTo>
                <a:lnTo>
                  <a:pt x="0" y="96"/>
                </a:lnTo>
                <a:lnTo>
                  <a:pt x="53" y="96"/>
                </a:lnTo>
                <a:lnTo>
                  <a:pt x="53" y="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93600" y="48006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76600" y="4788000"/>
            <a:ext cx="1014480" cy="339480"/>
          </a:xfrm>
          <a:custGeom>
            <a:avLst/>
            <a:gdLst/>
            <a:ahLst/>
            <a:rect l="l" t="t" r="r" b="b"/>
            <a:pathLst>
              <a:path w="639" h="214">
                <a:moveTo>
                  <a:pt x="639" y="214"/>
                </a:moveTo>
                <a:lnTo>
                  <a:pt x="639" y="0"/>
                </a:lnTo>
                <a:lnTo>
                  <a:pt x="0" y="0"/>
                </a:lnTo>
                <a:lnTo>
                  <a:pt x="0" y="214"/>
                </a:lnTo>
                <a:lnTo>
                  <a:pt x="639" y="214"/>
                </a:lnTo>
                <a:lnTo>
                  <a:pt x="639" y="21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48006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78280" y="4788000"/>
            <a:ext cx="1014480" cy="339480"/>
          </a:xfrm>
          <a:custGeom>
            <a:avLst/>
            <a:gdLst/>
            <a:ahLst/>
            <a:rect l="l" t="t" r="r" b="b"/>
            <a:pathLst>
              <a:path w="639" h="214">
                <a:moveTo>
                  <a:pt x="635" y="214"/>
                </a:moveTo>
                <a:lnTo>
                  <a:pt x="639" y="0"/>
                </a:lnTo>
                <a:lnTo>
                  <a:pt x="0" y="0"/>
                </a:lnTo>
                <a:lnTo>
                  <a:pt x="0" y="214"/>
                </a:lnTo>
                <a:lnTo>
                  <a:pt x="639" y="214"/>
                </a:lnTo>
                <a:lnTo>
                  <a:pt x="639" y="21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03680" y="480060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86320" y="4788000"/>
            <a:ext cx="1008000" cy="339480"/>
          </a:xfrm>
          <a:custGeom>
            <a:avLst/>
            <a:gdLst/>
            <a:ahLst/>
            <a:rect l="l" t="t" r="r" b="b"/>
            <a:pathLst>
              <a:path w="635" h="214">
                <a:moveTo>
                  <a:pt x="635" y="214"/>
                </a:moveTo>
                <a:lnTo>
                  <a:pt x="635" y="0"/>
                </a:lnTo>
                <a:lnTo>
                  <a:pt x="0" y="0"/>
                </a:lnTo>
                <a:lnTo>
                  <a:pt x="0" y="214"/>
                </a:lnTo>
                <a:lnTo>
                  <a:pt x="635" y="214"/>
                </a:lnTo>
                <a:lnTo>
                  <a:pt x="635" y="21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49720" y="4648320"/>
            <a:ext cx="331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19640" y="4648320"/>
            <a:ext cx="4096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E07F10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7423200" cy="61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078920" y="33577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23120" y="359568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85880" y="3303720"/>
            <a:ext cx="933480" cy="617400"/>
          </a:xfrm>
          <a:custGeom>
            <a:avLst/>
            <a:gdLst/>
            <a:ahLst/>
            <a:rect l="l" t="t" r="r" b="b"/>
            <a:pathLst>
              <a:path w="588" h="389">
                <a:moveTo>
                  <a:pt x="585" y="389"/>
                </a:moveTo>
                <a:lnTo>
                  <a:pt x="588" y="0"/>
                </a:lnTo>
                <a:lnTo>
                  <a:pt x="0" y="0"/>
                </a:lnTo>
                <a:lnTo>
                  <a:pt x="0" y="389"/>
                </a:lnTo>
                <a:lnTo>
                  <a:pt x="588" y="389"/>
                </a:lnTo>
                <a:lnTo>
                  <a:pt x="588" y="3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75160" y="3178080"/>
            <a:ext cx="173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PEG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076480" y="3071880"/>
            <a:ext cx="4516560" cy="1063440"/>
          </a:xfrm>
          <a:custGeom>
            <a:avLst/>
            <a:gdLst/>
            <a:ahLst/>
            <a:rect l="l" t="t" r="r" b="b"/>
            <a:pathLst>
              <a:path w="2845" h="670">
                <a:moveTo>
                  <a:pt x="2845" y="670"/>
                </a:moveTo>
                <a:lnTo>
                  <a:pt x="2845" y="0"/>
                </a:lnTo>
                <a:lnTo>
                  <a:pt x="0" y="0"/>
                </a:lnTo>
                <a:lnTo>
                  <a:pt x="0" y="670"/>
                </a:lnTo>
                <a:lnTo>
                  <a:pt x="2845" y="670"/>
                </a:lnTo>
                <a:lnTo>
                  <a:pt x="2845" y="67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36280" y="3643200"/>
            <a:ext cx="41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801600" y="3643200"/>
            <a:ext cx="114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544000" y="3643200"/>
            <a:ext cx="84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54440" y="3606840"/>
            <a:ext cx="1238400" cy="320760"/>
          </a:xfrm>
          <a:custGeom>
            <a:avLst/>
            <a:gdLst/>
            <a:ahLst/>
            <a:rect l="l" t="t" r="r" b="b"/>
            <a:pathLst>
              <a:path w="780" h="202">
                <a:moveTo>
                  <a:pt x="776" y="202"/>
                </a:moveTo>
                <a:lnTo>
                  <a:pt x="780" y="0"/>
                </a:lnTo>
                <a:lnTo>
                  <a:pt x="0" y="0"/>
                </a:lnTo>
                <a:lnTo>
                  <a:pt x="0" y="202"/>
                </a:lnTo>
                <a:lnTo>
                  <a:pt x="780" y="202"/>
                </a:lnTo>
                <a:lnTo>
                  <a:pt x="780" y="2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25520" y="3606840"/>
            <a:ext cx="1160640" cy="320760"/>
          </a:xfrm>
          <a:custGeom>
            <a:avLst/>
            <a:gdLst/>
            <a:ahLst/>
            <a:rect l="l" t="t" r="r" b="b"/>
            <a:pathLst>
              <a:path w="731" h="202">
                <a:moveTo>
                  <a:pt x="731" y="202"/>
                </a:moveTo>
                <a:lnTo>
                  <a:pt x="731" y="0"/>
                </a:lnTo>
                <a:lnTo>
                  <a:pt x="0" y="0"/>
                </a:lnTo>
                <a:lnTo>
                  <a:pt x="0" y="202"/>
                </a:lnTo>
                <a:lnTo>
                  <a:pt x="731" y="202"/>
                </a:lnTo>
                <a:lnTo>
                  <a:pt x="731" y="2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386160" y="3760920"/>
            <a:ext cx="2444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606840" y="3726000"/>
            <a:ext cx="136440" cy="77760"/>
          </a:xfrm>
          <a:custGeom>
            <a:avLst/>
            <a:gdLst/>
            <a:ahLst/>
            <a:rect l="l" t="t" r="r" b="b"/>
            <a:pathLst>
              <a:path w="86" h="49">
                <a:moveTo>
                  <a:pt x="0" y="45"/>
                </a:moveTo>
                <a:lnTo>
                  <a:pt x="86" y="26"/>
                </a:lnTo>
                <a:lnTo>
                  <a:pt x="3" y="0"/>
                </a:lnTo>
                <a:lnTo>
                  <a:pt x="3" y="49"/>
                </a:lnTo>
                <a:lnTo>
                  <a:pt x="3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14680" y="3595680"/>
            <a:ext cx="2426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28880" y="3565440"/>
            <a:ext cx="136440" cy="71640"/>
          </a:xfrm>
          <a:custGeom>
            <a:avLst/>
            <a:gdLst/>
            <a:ahLst/>
            <a:rect l="l" t="t" r="r" b="b"/>
            <a:pathLst>
              <a:path w="86" h="45">
                <a:moveTo>
                  <a:pt x="0" y="41"/>
                </a:moveTo>
                <a:lnTo>
                  <a:pt x="86" y="22"/>
                </a:lnTo>
                <a:lnTo>
                  <a:pt x="3" y="0"/>
                </a:lnTo>
                <a:lnTo>
                  <a:pt x="3" y="45"/>
                </a:lnTo>
                <a:lnTo>
                  <a:pt x="3" y="45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35560" y="335772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29960" y="359568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950160" y="3303720"/>
            <a:ext cx="1208160" cy="617400"/>
          </a:xfrm>
          <a:custGeom>
            <a:avLst/>
            <a:gdLst/>
            <a:ahLst/>
            <a:rect l="l" t="t" r="r" b="b"/>
            <a:pathLst>
              <a:path w="761" h="389">
                <a:moveTo>
                  <a:pt x="761" y="389"/>
                </a:moveTo>
                <a:lnTo>
                  <a:pt x="761" y="0"/>
                </a:lnTo>
                <a:lnTo>
                  <a:pt x="0" y="0"/>
                </a:lnTo>
                <a:lnTo>
                  <a:pt x="0" y="389"/>
                </a:lnTo>
                <a:lnTo>
                  <a:pt x="761" y="389"/>
                </a:lnTo>
                <a:lnTo>
                  <a:pt x="761" y="38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99160" y="3595680"/>
            <a:ext cx="2383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13720" y="3565440"/>
            <a:ext cx="136440" cy="71640"/>
          </a:xfrm>
          <a:custGeom>
            <a:avLst/>
            <a:gdLst/>
            <a:ahLst/>
            <a:rect l="l" t="t" r="r" b="b"/>
            <a:pathLst>
              <a:path w="86" h="45">
                <a:moveTo>
                  <a:pt x="0" y="41"/>
                </a:moveTo>
                <a:lnTo>
                  <a:pt x="86" y="22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49960" y="3606840"/>
            <a:ext cx="1093680" cy="320760"/>
          </a:xfrm>
          <a:custGeom>
            <a:avLst/>
            <a:gdLst/>
            <a:ahLst/>
            <a:rect l="l" t="t" r="r" b="b"/>
            <a:pathLst>
              <a:path w="689" h="202">
                <a:moveTo>
                  <a:pt x="686" y="202"/>
                </a:moveTo>
                <a:lnTo>
                  <a:pt x="689" y="0"/>
                </a:lnTo>
                <a:lnTo>
                  <a:pt x="0" y="0"/>
                </a:lnTo>
                <a:lnTo>
                  <a:pt x="0" y="202"/>
                </a:lnTo>
                <a:lnTo>
                  <a:pt x="689" y="202"/>
                </a:lnTo>
                <a:lnTo>
                  <a:pt x="689" y="2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992840" y="3760920"/>
            <a:ext cx="24264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07040" y="3726000"/>
            <a:ext cx="136440" cy="77760"/>
          </a:xfrm>
          <a:custGeom>
            <a:avLst/>
            <a:gdLst/>
            <a:ahLst/>
            <a:rect l="l" t="t" r="r" b="b"/>
            <a:pathLst>
              <a:path w="86" h="49">
                <a:moveTo>
                  <a:pt x="0" y="45"/>
                </a:moveTo>
                <a:lnTo>
                  <a:pt x="86" y="26"/>
                </a:lnTo>
                <a:lnTo>
                  <a:pt x="3" y="0"/>
                </a:lnTo>
                <a:lnTo>
                  <a:pt x="3" y="49"/>
                </a:lnTo>
                <a:lnTo>
                  <a:pt x="3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E07F12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122720" cy="412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97316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887480" y="1465200"/>
            <a:ext cx="81432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09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2572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7180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4812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78808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75792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710480" y="1522440"/>
            <a:ext cx="75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88640" y="4295880"/>
            <a:ext cx="68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fra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52000" y="429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909240" y="429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867920" y="429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20480" y="429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4200" y="4295880"/>
            <a:ext cx="71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64480" y="429588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46520" y="1465200"/>
            <a:ext cx="807840" cy="406440"/>
          </a:xfrm>
          <a:custGeom>
            <a:avLst/>
            <a:gdLst/>
            <a:ahLst/>
            <a:rect l="l" t="t" r="r" b="b"/>
            <a:pathLst>
              <a:path w="509" h="256">
                <a:moveTo>
                  <a:pt x="509" y="253"/>
                </a:moveTo>
                <a:lnTo>
                  <a:pt x="509" y="0"/>
                </a:lnTo>
                <a:lnTo>
                  <a:pt x="0" y="0"/>
                </a:lnTo>
                <a:lnTo>
                  <a:pt x="0" y="256"/>
                </a:lnTo>
                <a:lnTo>
                  <a:pt x="509" y="256"/>
                </a:lnTo>
                <a:lnTo>
                  <a:pt x="509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798720" y="1465200"/>
            <a:ext cx="81468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756320" y="1465200"/>
            <a:ext cx="81432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56160" y="2755800"/>
            <a:ext cx="1233360" cy="561960"/>
          </a:xfrm>
          <a:custGeom>
            <a:avLst/>
            <a:gdLst/>
            <a:ahLst/>
            <a:rect l="l" t="t" r="r" b="b"/>
            <a:pathLst>
              <a:path w="777" h="354">
                <a:moveTo>
                  <a:pt x="773" y="354"/>
                </a:moveTo>
                <a:lnTo>
                  <a:pt x="777" y="0"/>
                </a:lnTo>
                <a:lnTo>
                  <a:pt x="0" y="0"/>
                </a:lnTo>
                <a:lnTo>
                  <a:pt x="0" y="354"/>
                </a:lnTo>
                <a:lnTo>
                  <a:pt x="777" y="354"/>
                </a:lnTo>
                <a:lnTo>
                  <a:pt x="777" y="3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1465200"/>
            <a:ext cx="81432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673680" y="1465200"/>
            <a:ext cx="81468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631280" y="1465200"/>
            <a:ext cx="814320" cy="406440"/>
          </a:xfrm>
          <a:custGeom>
            <a:avLst/>
            <a:gdLst/>
            <a:ahLst/>
            <a:rect l="l" t="t" r="r" b="b"/>
            <a:pathLst>
              <a:path w="513" h="256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6"/>
                </a:lnTo>
                <a:lnTo>
                  <a:pt x="513" y="256"/>
                </a:lnTo>
                <a:lnTo>
                  <a:pt x="513" y="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87480" y="4232160"/>
            <a:ext cx="81432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09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846520" y="4232160"/>
            <a:ext cx="807840" cy="401760"/>
          </a:xfrm>
          <a:custGeom>
            <a:avLst/>
            <a:gdLst/>
            <a:ahLst/>
            <a:rect l="l" t="t" r="r" b="b"/>
            <a:pathLst>
              <a:path w="509" h="253">
                <a:moveTo>
                  <a:pt x="509" y="253"/>
                </a:moveTo>
                <a:lnTo>
                  <a:pt x="509" y="0"/>
                </a:lnTo>
                <a:lnTo>
                  <a:pt x="0" y="0"/>
                </a:lnTo>
                <a:lnTo>
                  <a:pt x="0" y="253"/>
                </a:lnTo>
                <a:lnTo>
                  <a:pt x="509" y="253"/>
                </a:lnTo>
                <a:lnTo>
                  <a:pt x="509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798720" y="4232160"/>
            <a:ext cx="81468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756320" y="4232160"/>
            <a:ext cx="81432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15000" y="4232160"/>
            <a:ext cx="81432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673680" y="4232160"/>
            <a:ext cx="81468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31280" y="4232160"/>
            <a:ext cx="814320" cy="401760"/>
          </a:xfrm>
          <a:custGeom>
            <a:avLst/>
            <a:gdLst/>
            <a:ahLst/>
            <a:rect l="l" t="t" r="r" b="b"/>
            <a:pathLst>
              <a:path w="513" h="253">
                <a:moveTo>
                  <a:pt x="513" y="253"/>
                </a:moveTo>
                <a:lnTo>
                  <a:pt x="513" y="0"/>
                </a:lnTo>
                <a:lnTo>
                  <a:pt x="0" y="0"/>
                </a:lnTo>
                <a:lnTo>
                  <a:pt x="0" y="253"/>
                </a:lnTo>
                <a:lnTo>
                  <a:pt x="513" y="253"/>
                </a:lnTo>
                <a:lnTo>
                  <a:pt x="513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07960" y="2762280"/>
            <a:ext cx="59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PE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663080" y="3011400"/>
            <a:ext cx="1152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87040" y="342576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w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435120" y="367020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597920" y="4952880"/>
            <a:ext cx="1108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63520" y="5197320"/>
            <a:ext cx="88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44680" y="3957480"/>
            <a:ext cx="2838600" cy="268560"/>
          </a:xfrm>
          <a:custGeom>
            <a:avLst/>
            <a:gdLst/>
            <a:ahLst/>
            <a:rect l="l" t="t" r="r" b="b"/>
            <a:pathLst>
              <a:path w="1788" h="169">
                <a:moveTo>
                  <a:pt x="1788" y="169"/>
                </a:moveTo>
                <a:lnTo>
                  <a:pt x="1780" y="165"/>
                </a:lnTo>
                <a:lnTo>
                  <a:pt x="1752" y="153"/>
                </a:lnTo>
                <a:lnTo>
                  <a:pt x="1709" y="134"/>
                </a:lnTo>
                <a:lnTo>
                  <a:pt x="1650" y="110"/>
                </a:lnTo>
                <a:lnTo>
                  <a:pt x="1575" y="86"/>
                </a:lnTo>
                <a:lnTo>
                  <a:pt x="1484" y="63"/>
                </a:lnTo>
                <a:lnTo>
                  <a:pt x="1385" y="39"/>
                </a:lnTo>
                <a:lnTo>
                  <a:pt x="1275" y="19"/>
                </a:lnTo>
                <a:lnTo>
                  <a:pt x="1153" y="8"/>
                </a:lnTo>
                <a:lnTo>
                  <a:pt x="1022" y="0"/>
                </a:lnTo>
                <a:lnTo>
                  <a:pt x="872" y="4"/>
                </a:lnTo>
                <a:lnTo>
                  <a:pt x="726" y="15"/>
                </a:lnTo>
                <a:lnTo>
                  <a:pt x="584" y="31"/>
                </a:lnTo>
                <a:lnTo>
                  <a:pt x="450" y="55"/>
                </a:lnTo>
                <a:lnTo>
                  <a:pt x="328" y="79"/>
                </a:lnTo>
                <a:lnTo>
                  <a:pt x="221" y="102"/>
                </a:lnTo>
                <a:lnTo>
                  <a:pt x="131" y="126"/>
                </a:lnTo>
                <a:lnTo>
                  <a:pt x="60" y="142"/>
                </a:lnTo>
                <a:lnTo>
                  <a:pt x="16" y="153"/>
                </a:lnTo>
                <a:lnTo>
                  <a:pt x="0" y="15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01840" y="4145040"/>
            <a:ext cx="14436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79" y="0"/>
                </a:moveTo>
                <a:lnTo>
                  <a:pt x="0" y="47"/>
                </a:lnTo>
                <a:lnTo>
                  <a:pt x="91" y="47"/>
                </a:lnTo>
                <a:lnTo>
                  <a:pt x="79" y="0"/>
                </a:lnTo>
                <a:lnTo>
                  <a:pt x="7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54400" y="4633920"/>
            <a:ext cx="1803240" cy="236520"/>
          </a:xfrm>
          <a:custGeom>
            <a:avLst/>
            <a:gdLst/>
            <a:ahLst/>
            <a:rect l="l" t="t" r="r" b="b"/>
            <a:pathLst>
              <a:path w="1136" h="149">
                <a:moveTo>
                  <a:pt x="0" y="0"/>
                </a:moveTo>
                <a:lnTo>
                  <a:pt x="11" y="7"/>
                </a:lnTo>
                <a:lnTo>
                  <a:pt x="47" y="19"/>
                </a:lnTo>
                <a:lnTo>
                  <a:pt x="102" y="31"/>
                </a:lnTo>
                <a:lnTo>
                  <a:pt x="173" y="51"/>
                </a:lnTo>
                <a:lnTo>
                  <a:pt x="256" y="74"/>
                </a:lnTo>
                <a:lnTo>
                  <a:pt x="347" y="94"/>
                </a:lnTo>
                <a:lnTo>
                  <a:pt x="445" y="114"/>
                </a:lnTo>
                <a:lnTo>
                  <a:pt x="548" y="130"/>
                </a:lnTo>
                <a:lnTo>
                  <a:pt x="647" y="142"/>
                </a:lnTo>
                <a:lnTo>
                  <a:pt x="745" y="149"/>
                </a:lnTo>
                <a:lnTo>
                  <a:pt x="812" y="145"/>
                </a:lnTo>
                <a:lnTo>
                  <a:pt x="871" y="142"/>
                </a:lnTo>
                <a:lnTo>
                  <a:pt x="927" y="130"/>
                </a:lnTo>
                <a:lnTo>
                  <a:pt x="978" y="118"/>
                </a:lnTo>
                <a:lnTo>
                  <a:pt x="1025" y="106"/>
                </a:lnTo>
                <a:lnTo>
                  <a:pt x="1061" y="90"/>
                </a:lnTo>
                <a:lnTo>
                  <a:pt x="1092" y="78"/>
                </a:lnTo>
                <a:lnTo>
                  <a:pt x="1116" y="71"/>
                </a:lnTo>
                <a:lnTo>
                  <a:pt x="1132" y="63"/>
                </a:lnTo>
                <a:lnTo>
                  <a:pt x="1136" y="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32440" y="4645080"/>
            <a:ext cx="137880" cy="112680"/>
          </a:xfrm>
          <a:custGeom>
            <a:avLst/>
            <a:gdLst/>
            <a:ahLst/>
            <a:rect l="l" t="t" r="r" b="b"/>
            <a:pathLst>
              <a:path w="87" h="71">
                <a:moveTo>
                  <a:pt x="28" y="71"/>
                </a:moveTo>
                <a:lnTo>
                  <a:pt x="87" y="0"/>
                </a:lnTo>
                <a:lnTo>
                  <a:pt x="0" y="32"/>
                </a:lnTo>
                <a:lnTo>
                  <a:pt x="28" y="71"/>
                </a:lnTo>
                <a:lnTo>
                  <a:pt x="28" y="7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340000" y="4633920"/>
            <a:ext cx="901800" cy="155520"/>
          </a:xfrm>
          <a:custGeom>
            <a:avLst/>
            <a:gdLst/>
            <a:ahLst/>
            <a:rect l="l" t="t" r="r" b="b"/>
            <a:pathLst>
              <a:path w="568" h="98">
                <a:moveTo>
                  <a:pt x="568" y="0"/>
                </a:moveTo>
                <a:lnTo>
                  <a:pt x="568" y="4"/>
                </a:lnTo>
                <a:lnTo>
                  <a:pt x="556" y="11"/>
                </a:lnTo>
                <a:lnTo>
                  <a:pt x="536" y="23"/>
                </a:lnTo>
                <a:lnTo>
                  <a:pt x="512" y="35"/>
                </a:lnTo>
                <a:lnTo>
                  <a:pt x="485" y="51"/>
                </a:lnTo>
                <a:lnTo>
                  <a:pt x="449" y="63"/>
                </a:lnTo>
                <a:lnTo>
                  <a:pt x="410" y="78"/>
                </a:lnTo>
                <a:lnTo>
                  <a:pt x="370" y="90"/>
                </a:lnTo>
                <a:lnTo>
                  <a:pt x="327" y="94"/>
                </a:lnTo>
                <a:lnTo>
                  <a:pt x="280" y="98"/>
                </a:lnTo>
                <a:lnTo>
                  <a:pt x="232" y="98"/>
                </a:lnTo>
                <a:lnTo>
                  <a:pt x="189" y="90"/>
                </a:lnTo>
                <a:lnTo>
                  <a:pt x="149" y="82"/>
                </a:lnTo>
                <a:lnTo>
                  <a:pt x="114" y="71"/>
                </a:lnTo>
                <a:lnTo>
                  <a:pt x="82" y="63"/>
                </a:lnTo>
                <a:lnTo>
                  <a:pt x="55" y="51"/>
                </a:lnTo>
                <a:lnTo>
                  <a:pt x="31" y="39"/>
                </a:lnTo>
                <a:lnTo>
                  <a:pt x="15" y="31"/>
                </a:lnTo>
                <a:lnTo>
                  <a:pt x="3" y="27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95360" y="4640400"/>
            <a:ext cx="138240" cy="106200"/>
          </a:xfrm>
          <a:custGeom>
            <a:avLst/>
            <a:gdLst/>
            <a:ahLst/>
            <a:rect l="l" t="t" r="r" b="b"/>
            <a:pathLst>
              <a:path w="87" h="67">
                <a:moveTo>
                  <a:pt x="87" y="23"/>
                </a:moveTo>
                <a:lnTo>
                  <a:pt x="0" y="0"/>
                </a:lnTo>
                <a:lnTo>
                  <a:pt x="63" y="67"/>
                </a:lnTo>
                <a:lnTo>
                  <a:pt x="87" y="23"/>
                </a:lnTo>
                <a:lnTo>
                  <a:pt x="8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05160" y="4633920"/>
            <a:ext cx="676440" cy="81000"/>
          </a:xfrm>
          <a:custGeom>
            <a:avLst/>
            <a:gdLst/>
            <a:ahLst/>
            <a:rect l="l" t="t" r="r" b="b"/>
            <a:pathLst>
              <a:path w="426" h="51">
                <a:moveTo>
                  <a:pt x="426" y="27"/>
                </a:moveTo>
                <a:lnTo>
                  <a:pt x="426" y="27"/>
                </a:lnTo>
                <a:lnTo>
                  <a:pt x="422" y="31"/>
                </a:lnTo>
                <a:lnTo>
                  <a:pt x="414" y="31"/>
                </a:lnTo>
                <a:lnTo>
                  <a:pt x="407" y="35"/>
                </a:lnTo>
                <a:lnTo>
                  <a:pt x="395" y="35"/>
                </a:lnTo>
                <a:lnTo>
                  <a:pt x="379" y="39"/>
                </a:lnTo>
                <a:lnTo>
                  <a:pt x="363" y="43"/>
                </a:lnTo>
                <a:lnTo>
                  <a:pt x="343" y="47"/>
                </a:lnTo>
                <a:lnTo>
                  <a:pt x="324" y="47"/>
                </a:lnTo>
                <a:lnTo>
                  <a:pt x="300" y="51"/>
                </a:lnTo>
                <a:lnTo>
                  <a:pt x="265" y="51"/>
                </a:lnTo>
                <a:lnTo>
                  <a:pt x="225" y="51"/>
                </a:lnTo>
                <a:lnTo>
                  <a:pt x="186" y="47"/>
                </a:lnTo>
                <a:lnTo>
                  <a:pt x="146" y="39"/>
                </a:lnTo>
                <a:lnTo>
                  <a:pt x="107" y="31"/>
                </a:lnTo>
                <a:lnTo>
                  <a:pt x="75" y="23"/>
                </a:lnTo>
                <a:lnTo>
                  <a:pt x="44" y="15"/>
                </a:lnTo>
                <a:lnTo>
                  <a:pt x="20" y="7"/>
                </a:lnTo>
                <a:lnTo>
                  <a:pt x="4" y="4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62520" y="4633920"/>
            <a:ext cx="144360" cy="87480"/>
          </a:xfrm>
          <a:custGeom>
            <a:avLst/>
            <a:gdLst/>
            <a:ahLst/>
            <a:rect l="l" t="t" r="r" b="b"/>
            <a:pathLst>
              <a:path w="91" h="55">
                <a:moveTo>
                  <a:pt x="16" y="55"/>
                </a:moveTo>
                <a:lnTo>
                  <a:pt x="91" y="0"/>
                </a:lnTo>
                <a:lnTo>
                  <a:pt x="0" y="11"/>
                </a:lnTo>
                <a:lnTo>
                  <a:pt x="16" y="55"/>
                </a:lnTo>
                <a:lnTo>
                  <a:pt x="16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14720" y="4633920"/>
            <a:ext cx="1971360" cy="342720"/>
          </a:xfrm>
          <a:custGeom>
            <a:avLst/>
            <a:gdLst/>
            <a:ahLst/>
            <a:rect l="l" t="t" r="r" b="b"/>
            <a:pathLst>
              <a:path w="1242" h="216">
                <a:moveTo>
                  <a:pt x="1242" y="0"/>
                </a:moveTo>
                <a:lnTo>
                  <a:pt x="1238" y="7"/>
                </a:lnTo>
                <a:lnTo>
                  <a:pt x="1215" y="23"/>
                </a:lnTo>
                <a:lnTo>
                  <a:pt x="1175" y="47"/>
                </a:lnTo>
                <a:lnTo>
                  <a:pt x="1128" y="74"/>
                </a:lnTo>
                <a:lnTo>
                  <a:pt x="1069" y="106"/>
                </a:lnTo>
                <a:lnTo>
                  <a:pt x="1006" y="138"/>
                </a:lnTo>
                <a:lnTo>
                  <a:pt x="931" y="165"/>
                </a:lnTo>
                <a:lnTo>
                  <a:pt x="856" y="189"/>
                </a:lnTo>
                <a:lnTo>
                  <a:pt x="777" y="209"/>
                </a:lnTo>
                <a:lnTo>
                  <a:pt x="698" y="216"/>
                </a:lnTo>
                <a:lnTo>
                  <a:pt x="580" y="213"/>
                </a:lnTo>
                <a:lnTo>
                  <a:pt x="473" y="201"/>
                </a:lnTo>
                <a:lnTo>
                  <a:pt x="370" y="185"/>
                </a:lnTo>
                <a:lnTo>
                  <a:pt x="280" y="161"/>
                </a:lnTo>
                <a:lnTo>
                  <a:pt x="201" y="134"/>
                </a:lnTo>
                <a:lnTo>
                  <a:pt x="130" y="106"/>
                </a:lnTo>
                <a:lnTo>
                  <a:pt x="75" y="82"/>
                </a:lnTo>
                <a:lnTo>
                  <a:pt x="35" y="63"/>
                </a:lnTo>
                <a:lnTo>
                  <a:pt x="8" y="47"/>
                </a:lnTo>
                <a:lnTo>
                  <a:pt x="0" y="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114640" y="4640400"/>
            <a:ext cx="136440" cy="106200"/>
          </a:xfrm>
          <a:custGeom>
            <a:avLst/>
            <a:gdLst/>
            <a:ahLst/>
            <a:rect l="l" t="t" r="r" b="b"/>
            <a:pathLst>
              <a:path w="86" h="67">
                <a:moveTo>
                  <a:pt x="86" y="27"/>
                </a:moveTo>
                <a:lnTo>
                  <a:pt x="0" y="0"/>
                </a:lnTo>
                <a:lnTo>
                  <a:pt x="63" y="67"/>
                </a:lnTo>
                <a:lnTo>
                  <a:pt x="86" y="27"/>
                </a:lnTo>
                <a:lnTo>
                  <a:pt x="86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38880" y="4633920"/>
            <a:ext cx="682560" cy="117360"/>
          </a:xfrm>
          <a:custGeom>
            <a:avLst/>
            <a:gdLst/>
            <a:ahLst/>
            <a:rect l="l" t="t" r="r" b="b"/>
            <a:pathLst>
              <a:path w="430" h="74">
                <a:moveTo>
                  <a:pt x="0" y="47"/>
                </a:moveTo>
                <a:lnTo>
                  <a:pt x="4" y="47"/>
                </a:lnTo>
                <a:lnTo>
                  <a:pt x="8" y="51"/>
                </a:lnTo>
                <a:lnTo>
                  <a:pt x="20" y="51"/>
                </a:lnTo>
                <a:lnTo>
                  <a:pt x="32" y="55"/>
                </a:lnTo>
                <a:lnTo>
                  <a:pt x="48" y="59"/>
                </a:lnTo>
                <a:lnTo>
                  <a:pt x="68" y="63"/>
                </a:lnTo>
                <a:lnTo>
                  <a:pt x="87" y="67"/>
                </a:lnTo>
                <a:lnTo>
                  <a:pt x="111" y="71"/>
                </a:lnTo>
                <a:lnTo>
                  <a:pt x="139" y="71"/>
                </a:lnTo>
                <a:lnTo>
                  <a:pt x="162" y="74"/>
                </a:lnTo>
                <a:lnTo>
                  <a:pt x="202" y="71"/>
                </a:lnTo>
                <a:lnTo>
                  <a:pt x="241" y="67"/>
                </a:lnTo>
                <a:lnTo>
                  <a:pt x="277" y="59"/>
                </a:lnTo>
                <a:lnTo>
                  <a:pt x="312" y="47"/>
                </a:lnTo>
                <a:lnTo>
                  <a:pt x="344" y="39"/>
                </a:lnTo>
                <a:lnTo>
                  <a:pt x="371" y="27"/>
                </a:lnTo>
                <a:lnTo>
                  <a:pt x="399" y="15"/>
                </a:lnTo>
                <a:lnTo>
                  <a:pt x="415" y="7"/>
                </a:lnTo>
                <a:lnTo>
                  <a:pt x="427" y="4"/>
                </a:lnTo>
                <a:lnTo>
                  <a:pt x="43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26200" y="4645080"/>
            <a:ext cx="137880" cy="101520"/>
          </a:xfrm>
          <a:custGeom>
            <a:avLst/>
            <a:gdLst/>
            <a:ahLst/>
            <a:rect l="l" t="t" r="r" b="b"/>
            <a:pathLst>
              <a:path w="87" h="64">
                <a:moveTo>
                  <a:pt x="87" y="20"/>
                </a:moveTo>
                <a:lnTo>
                  <a:pt x="0" y="0"/>
                </a:lnTo>
                <a:lnTo>
                  <a:pt x="64" y="64"/>
                </a:lnTo>
                <a:lnTo>
                  <a:pt x="87" y="20"/>
                </a:lnTo>
                <a:lnTo>
                  <a:pt x="87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76880" y="4633920"/>
            <a:ext cx="1803240" cy="243000"/>
          </a:xfrm>
          <a:custGeom>
            <a:avLst/>
            <a:gdLst/>
            <a:ahLst/>
            <a:rect l="l" t="t" r="r" b="b"/>
            <a:pathLst>
              <a:path w="1136" h="153">
                <a:moveTo>
                  <a:pt x="0" y="47"/>
                </a:moveTo>
                <a:lnTo>
                  <a:pt x="4" y="51"/>
                </a:lnTo>
                <a:lnTo>
                  <a:pt x="12" y="55"/>
                </a:lnTo>
                <a:lnTo>
                  <a:pt x="27" y="63"/>
                </a:lnTo>
                <a:lnTo>
                  <a:pt x="43" y="74"/>
                </a:lnTo>
                <a:lnTo>
                  <a:pt x="67" y="86"/>
                </a:lnTo>
                <a:lnTo>
                  <a:pt x="91" y="98"/>
                </a:lnTo>
                <a:lnTo>
                  <a:pt x="122" y="110"/>
                </a:lnTo>
                <a:lnTo>
                  <a:pt x="158" y="126"/>
                </a:lnTo>
                <a:lnTo>
                  <a:pt x="193" y="134"/>
                </a:lnTo>
                <a:lnTo>
                  <a:pt x="233" y="145"/>
                </a:lnTo>
                <a:lnTo>
                  <a:pt x="335" y="153"/>
                </a:lnTo>
                <a:lnTo>
                  <a:pt x="450" y="153"/>
                </a:lnTo>
                <a:lnTo>
                  <a:pt x="568" y="142"/>
                </a:lnTo>
                <a:lnTo>
                  <a:pt x="690" y="122"/>
                </a:lnTo>
                <a:lnTo>
                  <a:pt x="805" y="98"/>
                </a:lnTo>
                <a:lnTo>
                  <a:pt x="911" y="71"/>
                </a:lnTo>
                <a:lnTo>
                  <a:pt x="1002" y="43"/>
                </a:lnTo>
                <a:lnTo>
                  <a:pt x="1073" y="23"/>
                </a:lnTo>
                <a:lnTo>
                  <a:pt x="1120" y="7"/>
                </a:lnTo>
                <a:lnTo>
                  <a:pt x="113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183280" y="4645080"/>
            <a:ext cx="136440" cy="112680"/>
          </a:xfrm>
          <a:custGeom>
            <a:avLst/>
            <a:gdLst/>
            <a:ahLst/>
            <a:rect l="l" t="t" r="r" b="b"/>
            <a:pathLst>
              <a:path w="86" h="71">
                <a:moveTo>
                  <a:pt x="86" y="28"/>
                </a:moveTo>
                <a:lnTo>
                  <a:pt x="0" y="0"/>
                </a:lnTo>
                <a:lnTo>
                  <a:pt x="59" y="71"/>
                </a:lnTo>
                <a:lnTo>
                  <a:pt x="86" y="32"/>
                </a:lnTo>
                <a:lnTo>
                  <a:pt x="86" y="32"/>
                </a:lnTo>
                <a:lnTo>
                  <a:pt x="86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134040" y="4633920"/>
            <a:ext cx="1811520" cy="225360"/>
          </a:xfrm>
          <a:custGeom>
            <a:avLst/>
            <a:gdLst/>
            <a:ahLst/>
            <a:rect l="l" t="t" r="r" b="b"/>
            <a:pathLst>
              <a:path w="1141" h="142">
                <a:moveTo>
                  <a:pt x="0" y="0"/>
                </a:moveTo>
                <a:lnTo>
                  <a:pt x="16" y="7"/>
                </a:lnTo>
                <a:lnTo>
                  <a:pt x="52" y="15"/>
                </a:lnTo>
                <a:lnTo>
                  <a:pt x="107" y="35"/>
                </a:lnTo>
                <a:lnTo>
                  <a:pt x="178" y="55"/>
                </a:lnTo>
                <a:lnTo>
                  <a:pt x="265" y="74"/>
                </a:lnTo>
                <a:lnTo>
                  <a:pt x="363" y="98"/>
                </a:lnTo>
                <a:lnTo>
                  <a:pt x="474" y="118"/>
                </a:lnTo>
                <a:lnTo>
                  <a:pt x="588" y="130"/>
                </a:lnTo>
                <a:lnTo>
                  <a:pt x="707" y="142"/>
                </a:lnTo>
                <a:lnTo>
                  <a:pt x="829" y="142"/>
                </a:lnTo>
                <a:lnTo>
                  <a:pt x="880" y="138"/>
                </a:lnTo>
                <a:lnTo>
                  <a:pt x="931" y="130"/>
                </a:lnTo>
                <a:lnTo>
                  <a:pt x="975" y="122"/>
                </a:lnTo>
                <a:lnTo>
                  <a:pt x="1018" y="110"/>
                </a:lnTo>
                <a:lnTo>
                  <a:pt x="1054" y="98"/>
                </a:lnTo>
                <a:lnTo>
                  <a:pt x="1081" y="82"/>
                </a:lnTo>
                <a:lnTo>
                  <a:pt x="1105" y="71"/>
                </a:lnTo>
                <a:lnTo>
                  <a:pt x="1125" y="63"/>
                </a:lnTo>
                <a:lnTo>
                  <a:pt x="1137" y="55"/>
                </a:lnTo>
                <a:lnTo>
                  <a:pt x="1141" y="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920000" y="4640400"/>
            <a:ext cx="131760" cy="117360"/>
          </a:xfrm>
          <a:custGeom>
            <a:avLst/>
            <a:gdLst/>
            <a:ahLst/>
            <a:rect l="l" t="t" r="r" b="b"/>
            <a:pathLst>
              <a:path w="83" h="74">
                <a:moveTo>
                  <a:pt x="23" y="70"/>
                </a:moveTo>
                <a:lnTo>
                  <a:pt x="83" y="0"/>
                </a:lnTo>
                <a:lnTo>
                  <a:pt x="0" y="35"/>
                </a:lnTo>
                <a:lnTo>
                  <a:pt x="27" y="74"/>
                </a:lnTo>
                <a:lnTo>
                  <a:pt x="27" y="74"/>
                </a:lnTo>
                <a:lnTo>
                  <a:pt x="23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93080" y="4633920"/>
            <a:ext cx="733320" cy="106200"/>
          </a:xfrm>
          <a:custGeom>
            <a:avLst/>
            <a:gdLst/>
            <a:ahLst/>
            <a:rect l="l" t="t" r="r" b="b"/>
            <a:pathLst>
              <a:path w="462" h="67">
                <a:moveTo>
                  <a:pt x="0" y="0"/>
                </a:moveTo>
                <a:lnTo>
                  <a:pt x="4" y="4"/>
                </a:lnTo>
                <a:lnTo>
                  <a:pt x="12" y="7"/>
                </a:lnTo>
                <a:lnTo>
                  <a:pt x="28" y="11"/>
                </a:lnTo>
                <a:lnTo>
                  <a:pt x="47" y="19"/>
                </a:lnTo>
                <a:lnTo>
                  <a:pt x="71" y="27"/>
                </a:lnTo>
                <a:lnTo>
                  <a:pt x="103" y="39"/>
                </a:lnTo>
                <a:lnTo>
                  <a:pt x="134" y="47"/>
                </a:lnTo>
                <a:lnTo>
                  <a:pt x="178" y="55"/>
                </a:lnTo>
                <a:lnTo>
                  <a:pt x="221" y="59"/>
                </a:lnTo>
                <a:lnTo>
                  <a:pt x="272" y="63"/>
                </a:lnTo>
                <a:lnTo>
                  <a:pt x="308" y="67"/>
                </a:lnTo>
                <a:lnTo>
                  <a:pt x="339" y="67"/>
                </a:lnTo>
                <a:lnTo>
                  <a:pt x="367" y="63"/>
                </a:lnTo>
                <a:lnTo>
                  <a:pt x="395" y="59"/>
                </a:lnTo>
                <a:lnTo>
                  <a:pt x="414" y="55"/>
                </a:lnTo>
                <a:lnTo>
                  <a:pt x="430" y="51"/>
                </a:lnTo>
                <a:lnTo>
                  <a:pt x="446" y="47"/>
                </a:lnTo>
                <a:lnTo>
                  <a:pt x="454" y="43"/>
                </a:lnTo>
                <a:lnTo>
                  <a:pt x="462" y="39"/>
                </a:lnTo>
                <a:lnTo>
                  <a:pt x="462" y="3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88240" y="4645080"/>
            <a:ext cx="144360" cy="95040"/>
          </a:xfrm>
          <a:custGeom>
            <a:avLst/>
            <a:gdLst/>
            <a:ahLst/>
            <a:rect l="l" t="t" r="r" b="b"/>
            <a:pathLst>
              <a:path w="91" h="60">
                <a:moveTo>
                  <a:pt x="20" y="60"/>
                </a:moveTo>
                <a:lnTo>
                  <a:pt x="91" y="0"/>
                </a:lnTo>
                <a:lnTo>
                  <a:pt x="0" y="20"/>
                </a:lnTo>
                <a:lnTo>
                  <a:pt x="20" y="60"/>
                </a:lnTo>
                <a:lnTo>
                  <a:pt x="20" y="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64200" y="3436920"/>
            <a:ext cx="1440" cy="60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26040" y="4013280"/>
            <a:ext cx="76320" cy="144360"/>
          </a:xfrm>
          <a:custGeom>
            <a:avLst/>
            <a:gdLst/>
            <a:ahLst/>
            <a:rect l="l" t="t" r="r" b="b"/>
            <a:pathLst>
              <a:path w="48" h="91">
                <a:moveTo>
                  <a:pt x="0" y="0"/>
                </a:moveTo>
                <a:lnTo>
                  <a:pt x="24" y="91"/>
                </a:lnTo>
                <a:lnTo>
                  <a:pt x="4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64200" y="1954080"/>
            <a:ext cx="144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26040" y="2523960"/>
            <a:ext cx="76320" cy="142920"/>
          </a:xfrm>
          <a:custGeom>
            <a:avLst/>
            <a:gdLst/>
            <a:ahLst/>
            <a:rect l="l" t="t" r="r" b="b"/>
            <a:pathLst>
              <a:path w="48" h="90">
                <a:moveTo>
                  <a:pt x="0" y="0"/>
                </a:moveTo>
                <a:lnTo>
                  <a:pt x="24" y="90"/>
                </a:lnTo>
                <a:lnTo>
                  <a:pt x="48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0880" y="4195800"/>
            <a:ext cx="1151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re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41960" y="44467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6560" y="1390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41960" y="16416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31960" y="3851280"/>
            <a:ext cx="2114640" cy="137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631960" y="1711440"/>
            <a:ext cx="2140200" cy="11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22800" y="20001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302160" y="19875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373800" y="2000160"/>
            <a:ext cx="137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macro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57720" y="224316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Y 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19560" y="325764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183000" y="324468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54640" y="325764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acro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58800" y="3508200"/>
            <a:ext cx="162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U 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560" y="4459320"/>
            <a:ext cx="16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83000" y="444672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254640" y="4459320"/>
            <a:ext cx="1265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macro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57720" y="4702320"/>
            <a:ext cx="161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V compon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98480" y="225576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71360" y="2243160"/>
            <a:ext cx="162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183040" y="22557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701720" y="250668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xel reg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144080" y="1549440"/>
            <a:ext cx="105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04840" y="1830240"/>
            <a:ext cx="2089080" cy="3084840"/>
          </a:xfrm>
          <a:custGeom>
            <a:avLst/>
            <a:gdLst/>
            <a:ahLst/>
            <a:rect l="l" t="t" r="r" b="b"/>
            <a:pathLst>
              <a:path w="1316" h="1943">
                <a:moveTo>
                  <a:pt x="1312" y="1943"/>
                </a:moveTo>
                <a:lnTo>
                  <a:pt x="1316" y="0"/>
                </a:lnTo>
                <a:lnTo>
                  <a:pt x="0" y="0"/>
                </a:lnTo>
                <a:lnTo>
                  <a:pt x="0" y="1943"/>
                </a:lnTo>
                <a:lnTo>
                  <a:pt x="1316" y="1943"/>
                </a:lnTo>
                <a:lnTo>
                  <a:pt x="1316" y="19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98760" y="2813040"/>
            <a:ext cx="1039680" cy="1038240"/>
          </a:xfrm>
          <a:custGeom>
            <a:avLst/>
            <a:gdLst/>
            <a:ahLst/>
            <a:rect l="l" t="t" r="r" b="b"/>
            <a:pathLst>
              <a:path w="655" h="654">
                <a:moveTo>
                  <a:pt x="651" y="654"/>
                </a:moveTo>
                <a:lnTo>
                  <a:pt x="655" y="0"/>
                </a:lnTo>
                <a:lnTo>
                  <a:pt x="0" y="0"/>
                </a:lnTo>
                <a:lnTo>
                  <a:pt x="0" y="654"/>
                </a:lnTo>
                <a:lnTo>
                  <a:pt x="655" y="654"/>
                </a:lnTo>
                <a:lnTo>
                  <a:pt x="655" y="6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98760" y="287496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598760" y="294480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598760" y="300672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598760" y="306864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98760" y="313848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98760" y="320040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598760" y="326376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98760" y="333216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598760" y="339408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98760" y="345744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598760" y="352584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598760" y="3589200"/>
            <a:ext cx="1039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98760" y="365112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598760" y="3719520"/>
            <a:ext cx="1039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98760" y="3782880"/>
            <a:ext cx="10396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1662120" y="2813040"/>
            <a:ext cx="46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173052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92440" y="2813040"/>
            <a:ext cx="612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55800" y="281304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92420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1987560" y="2813040"/>
            <a:ext cx="46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596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11788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181240" y="281304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24964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31300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374920" y="281304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44332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2506680" y="281304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568600" y="281304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784760" y="1711440"/>
            <a:ext cx="1038240" cy="1038240"/>
          </a:xfrm>
          <a:custGeom>
            <a:avLst/>
            <a:gdLst/>
            <a:ahLst/>
            <a:rect l="l" t="t" r="r" b="b"/>
            <a:pathLst>
              <a:path w="654" h="654">
                <a:moveTo>
                  <a:pt x="654" y="651"/>
                </a:moveTo>
                <a:lnTo>
                  <a:pt x="654" y="0"/>
                </a:lnTo>
                <a:lnTo>
                  <a:pt x="0" y="0"/>
                </a:lnTo>
                <a:lnTo>
                  <a:pt x="0" y="654"/>
                </a:lnTo>
                <a:lnTo>
                  <a:pt x="654" y="654"/>
                </a:lnTo>
                <a:lnTo>
                  <a:pt x="654" y="6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784760" y="177480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84760" y="183672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84760" y="189864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784760" y="196848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784760" y="203040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84760" y="209376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84760" y="216216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784760" y="222408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784760" y="228744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84760" y="235584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84760" y="241920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84760" y="248760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84760" y="254952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84760" y="261288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84760" y="268128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485316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91652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978440" y="1704960"/>
            <a:ext cx="648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04684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11020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172120" y="1704960"/>
            <a:ext cx="648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24196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30388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365800" y="1704960"/>
            <a:ext cx="648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43564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5497560" y="1704960"/>
            <a:ext cx="648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560920" y="1704960"/>
            <a:ext cx="648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62932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5691240" y="1704960"/>
            <a:ext cx="612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5761080" y="1704960"/>
            <a:ext cx="1440" cy="10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784760" y="2962440"/>
            <a:ext cx="1038240" cy="1039680"/>
          </a:xfrm>
          <a:custGeom>
            <a:avLst/>
            <a:gdLst/>
            <a:ahLst/>
            <a:rect l="l" t="t" r="r" b="b"/>
            <a:pathLst>
              <a:path w="654" h="655">
                <a:moveTo>
                  <a:pt x="654" y="655"/>
                </a:moveTo>
                <a:lnTo>
                  <a:pt x="654" y="0"/>
                </a:lnTo>
                <a:lnTo>
                  <a:pt x="0" y="0"/>
                </a:lnTo>
                <a:lnTo>
                  <a:pt x="0" y="655"/>
                </a:lnTo>
                <a:lnTo>
                  <a:pt x="654" y="655"/>
                </a:lnTo>
                <a:lnTo>
                  <a:pt x="654" y="65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84760" y="308772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84760" y="321948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84760" y="335124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784760" y="348300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784760" y="360684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4760" y="373860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84760" y="387036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916520" y="2962440"/>
            <a:ext cx="144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5046840" y="2962440"/>
            <a:ext cx="144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5172120" y="2962440"/>
            <a:ext cx="64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5303880" y="2962440"/>
            <a:ext cx="144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435640" y="2962440"/>
            <a:ext cx="144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5560920" y="2962440"/>
            <a:ext cx="648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691240" y="2962440"/>
            <a:ext cx="6120" cy="10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84760" y="4183200"/>
            <a:ext cx="1038240" cy="1038240"/>
          </a:xfrm>
          <a:custGeom>
            <a:avLst/>
            <a:gdLst/>
            <a:ahLst/>
            <a:rect l="l" t="t" r="r" b="b"/>
            <a:pathLst>
              <a:path w="654" h="654">
                <a:moveTo>
                  <a:pt x="654" y="654"/>
                </a:moveTo>
                <a:lnTo>
                  <a:pt x="654" y="0"/>
                </a:lnTo>
                <a:lnTo>
                  <a:pt x="0" y="0"/>
                </a:lnTo>
                <a:lnTo>
                  <a:pt x="0" y="654"/>
                </a:lnTo>
                <a:lnTo>
                  <a:pt x="654" y="654"/>
                </a:lnTo>
                <a:lnTo>
                  <a:pt x="654" y="6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784760" y="430848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784760" y="444024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784760" y="457056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784760" y="470232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84760" y="4827600"/>
            <a:ext cx="1038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784760" y="495936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784760" y="5091120"/>
            <a:ext cx="1038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4916520" y="418320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5046840" y="418320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5172120" y="418320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5303880" y="418320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5435640" y="4183200"/>
            <a:ext cx="144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5560920" y="4183200"/>
            <a:ext cx="648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691240" y="4183200"/>
            <a:ext cx="6120" cy="10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923760" y="704880"/>
            <a:ext cx="7072560" cy="568440"/>
          </a:xfrm>
          <a:custGeom>
            <a:avLst/>
            <a:gdLst/>
            <a:ahLst/>
            <a:rect l="l" t="t" r="r" b="b"/>
            <a:pathLst>
              <a:path w="4455" h="358">
                <a:moveTo>
                  <a:pt x="0" y="0"/>
                </a:moveTo>
                <a:lnTo>
                  <a:pt x="4455" y="3"/>
                </a:lnTo>
                <a:lnTo>
                  <a:pt x="4455" y="358"/>
                </a:lnTo>
                <a:lnTo>
                  <a:pt x="0" y="358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773360" y="704880"/>
            <a:ext cx="144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9440" y="704880"/>
            <a:ext cx="504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186000" y="704880"/>
            <a:ext cx="180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35600" y="704880"/>
            <a:ext cx="144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48240" y="704880"/>
            <a:ext cx="180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923760" y="1878120"/>
            <a:ext cx="7072560" cy="568080"/>
          </a:xfrm>
          <a:custGeom>
            <a:avLst/>
            <a:gdLst/>
            <a:ahLst/>
            <a:rect l="l" t="t" r="r" b="b"/>
            <a:pathLst>
              <a:path w="4455" h="358">
                <a:moveTo>
                  <a:pt x="0" y="0"/>
                </a:moveTo>
                <a:lnTo>
                  <a:pt x="4455" y="3"/>
                </a:lnTo>
                <a:lnTo>
                  <a:pt x="4455" y="358"/>
                </a:lnTo>
                <a:lnTo>
                  <a:pt x="0" y="358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773360" y="1878120"/>
            <a:ext cx="144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86000" y="1878120"/>
            <a:ext cx="180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578640" y="1878120"/>
            <a:ext cx="144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923760" y="3057480"/>
            <a:ext cx="7072560" cy="566640"/>
          </a:xfrm>
          <a:custGeom>
            <a:avLst/>
            <a:gdLst/>
            <a:ahLst/>
            <a:rect l="l" t="t" r="r" b="b"/>
            <a:pathLst>
              <a:path w="4455" h="357">
                <a:moveTo>
                  <a:pt x="0" y="0"/>
                </a:moveTo>
                <a:lnTo>
                  <a:pt x="4455" y="0"/>
                </a:lnTo>
                <a:lnTo>
                  <a:pt x="4455" y="357"/>
                </a:lnTo>
                <a:lnTo>
                  <a:pt x="0" y="35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773360" y="3057480"/>
            <a:ext cx="144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86000" y="3057480"/>
            <a:ext cx="180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3048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78640" y="3057480"/>
            <a:ext cx="1440" cy="56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23760" y="4230720"/>
            <a:ext cx="7072560" cy="568440"/>
          </a:xfrm>
          <a:custGeom>
            <a:avLst/>
            <a:gdLst/>
            <a:ahLst/>
            <a:rect l="l" t="t" r="r" b="b"/>
            <a:pathLst>
              <a:path w="4455" h="358">
                <a:moveTo>
                  <a:pt x="0" y="0"/>
                </a:moveTo>
                <a:lnTo>
                  <a:pt x="4455" y="0"/>
                </a:lnTo>
                <a:lnTo>
                  <a:pt x="4455" y="358"/>
                </a:lnTo>
                <a:lnTo>
                  <a:pt x="0" y="358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73360" y="4230720"/>
            <a:ext cx="144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86000" y="4230720"/>
            <a:ext cx="180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48320" y="4267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578640" y="4230720"/>
            <a:ext cx="1440" cy="56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923760" y="1273320"/>
            <a:ext cx="3111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448240" y="1273320"/>
            <a:ext cx="254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923760" y="2446200"/>
            <a:ext cx="22622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99000" y="2446200"/>
            <a:ext cx="339732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923760" y="3619440"/>
            <a:ext cx="226224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599000" y="3619440"/>
            <a:ext cx="339732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23760" y="5403960"/>
            <a:ext cx="7334280" cy="568080"/>
          </a:xfrm>
          <a:custGeom>
            <a:avLst/>
            <a:gdLst/>
            <a:ahLst/>
            <a:rect l="l" t="t" r="r" b="b"/>
            <a:pathLst>
              <a:path w="4620" h="358">
                <a:moveTo>
                  <a:pt x="0" y="0"/>
                </a:moveTo>
                <a:lnTo>
                  <a:pt x="4620" y="3"/>
                </a:lnTo>
                <a:lnTo>
                  <a:pt x="4620" y="358"/>
                </a:lnTo>
                <a:lnTo>
                  <a:pt x="0" y="358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549440" y="5403960"/>
            <a:ext cx="144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162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53000" y="5403960"/>
            <a:ext cx="144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6688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923760" y="4794120"/>
            <a:ext cx="22622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99000" y="4794120"/>
            <a:ext cx="36590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064520" y="909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923480" y="909720"/>
            <a:ext cx="117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26760" y="90972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185720" y="909720"/>
            <a:ext cx="117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of pi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97320" y="909720"/>
            <a:ext cx="91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End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065960" y="2084400"/>
            <a:ext cx="586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P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055640" y="20844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51800" y="20844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663000" y="208440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047000" y="326232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974520" y="3262320"/>
            <a:ext cx="72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381400" y="326232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726000" y="3262320"/>
            <a:ext cx="33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052000" y="443556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36280" y="443556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064880" y="443556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ce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857280" y="4435560"/>
            <a:ext cx="780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975600" y="561024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H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3204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6208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09428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22432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35616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486560" y="5610240"/>
            <a:ext cx="56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78920" y="43020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4302000"/>
            <a:ext cx="2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574240" y="313848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95920" y="3138480"/>
            <a:ext cx="2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574240" y="197964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695920" y="1979640"/>
            <a:ext cx="2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98040" y="78120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219720" y="781200"/>
            <a:ext cx="271440" cy="3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756480" y="1919160"/>
            <a:ext cx="56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26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73440" y="1919160"/>
            <a:ext cx="43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34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11560" y="1919160"/>
            <a:ext cx="43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7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84680" y="19191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7760" y="2368440"/>
            <a:ext cx="1073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00000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7920" y="2368440"/>
            <a:ext cx="42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g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95640" y="236844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i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9720" y="3473280"/>
            <a:ext cx="590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ittle-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60880" y="3473280"/>
            <a:ext cx="72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ndia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06520" y="2282760"/>
            <a:ext cx="5345280" cy="449280"/>
          </a:xfrm>
          <a:custGeom>
            <a:avLst/>
            <a:gdLst/>
            <a:ahLst/>
            <a:rect l="l" t="t" r="r" b="b"/>
            <a:pathLst>
              <a:path w="3367" h="283">
                <a:moveTo>
                  <a:pt x="3367" y="278"/>
                </a:moveTo>
                <a:lnTo>
                  <a:pt x="3367" y="0"/>
                </a:lnTo>
                <a:lnTo>
                  <a:pt x="0" y="0"/>
                </a:lnTo>
                <a:lnTo>
                  <a:pt x="0" y="283"/>
                </a:lnTo>
                <a:lnTo>
                  <a:pt x="3367" y="283"/>
                </a:lnTo>
                <a:lnTo>
                  <a:pt x="3367" y="2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318360" y="2282760"/>
            <a:ext cx="14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6440" y="2282760"/>
            <a:ext cx="180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952880" y="2286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06520" y="3394080"/>
            <a:ext cx="5345280" cy="441360"/>
          </a:xfrm>
          <a:custGeom>
            <a:avLst/>
            <a:gdLst/>
            <a:ahLst/>
            <a:rect l="l" t="t" r="r" b="b"/>
            <a:pathLst>
              <a:path w="3367" h="278">
                <a:moveTo>
                  <a:pt x="3367" y="278"/>
                </a:moveTo>
                <a:lnTo>
                  <a:pt x="3367" y="0"/>
                </a:lnTo>
                <a:lnTo>
                  <a:pt x="0" y="0"/>
                </a:lnTo>
                <a:lnTo>
                  <a:pt x="0" y="278"/>
                </a:lnTo>
                <a:lnTo>
                  <a:pt x="3367" y="278"/>
                </a:lnTo>
                <a:lnTo>
                  <a:pt x="3367" y="27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18360" y="3387600"/>
            <a:ext cx="1440" cy="44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46440" y="3387600"/>
            <a:ext cx="1800" cy="447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52880" y="3429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75640" y="3024360"/>
            <a:ext cx="296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479920" y="3024360"/>
            <a:ext cx="43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7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40000" y="3024360"/>
            <a:ext cx="430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34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51480" y="3024360"/>
            <a:ext cx="564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126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327400" y="3986280"/>
            <a:ext cx="1440" cy="51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4560" y="3857760"/>
            <a:ext cx="85680" cy="156960"/>
          </a:xfrm>
          <a:custGeom>
            <a:avLst/>
            <a:gdLst/>
            <a:ahLst/>
            <a:rect l="l" t="t" r="r" b="b"/>
            <a:pathLst>
              <a:path w="54" h="99">
                <a:moveTo>
                  <a:pt x="54" y="99"/>
                </a:moveTo>
                <a:lnTo>
                  <a:pt x="27" y="0"/>
                </a:lnTo>
                <a:lnTo>
                  <a:pt x="0" y="99"/>
                </a:lnTo>
                <a:lnTo>
                  <a:pt x="54" y="99"/>
                </a:lnTo>
                <a:lnTo>
                  <a:pt x="54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651800" y="3986280"/>
            <a:ext cx="1440" cy="51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08960" y="3857760"/>
            <a:ext cx="85680" cy="156960"/>
          </a:xfrm>
          <a:custGeom>
            <a:avLst/>
            <a:gdLst/>
            <a:ahLst/>
            <a:rect l="l" t="t" r="r" b="b"/>
            <a:pathLst>
              <a:path w="54" h="99">
                <a:moveTo>
                  <a:pt x="54" y="99"/>
                </a:moveTo>
                <a:lnTo>
                  <a:pt x="27" y="0"/>
                </a:lnTo>
                <a:lnTo>
                  <a:pt x="0" y="99"/>
                </a:lnTo>
                <a:lnTo>
                  <a:pt x="54" y="99"/>
                </a:lnTo>
                <a:lnTo>
                  <a:pt x="54" y="9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9160" y="4549680"/>
            <a:ext cx="496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176560" y="4827600"/>
            <a:ext cx="858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0560" y="4549680"/>
            <a:ext cx="4428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44080" y="4827600"/>
            <a:ext cx="858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0992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2404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6696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404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3048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5900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4000" y="34732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844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494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44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4800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194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768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392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844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494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844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2092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418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194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796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624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232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0380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308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958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5292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228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878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3232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20380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308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6732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8792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022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1084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928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578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2932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2784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6428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44840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3400" y="34797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2932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840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340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848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04988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134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7844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49920" y="23749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E07F03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311800" cy="401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98240" y="3156120"/>
            <a:ext cx="80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ype =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84280" y="3513240"/>
            <a:ext cx="47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93680" y="3075120"/>
            <a:ext cx="6720120" cy="912600"/>
          </a:xfrm>
          <a:custGeom>
            <a:avLst/>
            <a:gdLst/>
            <a:ahLst/>
            <a:rect l="l" t="t" r="r" b="b"/>
            <a:pathLst>
              <a:path w="4233" h="575">
                <a:moveTo>
                  <a:pt x="4227" y="575"/>
                </a:moveTo>
                <a:lnTo>
                  <a:pt x="4233" y="0"/>
                </a:lnTo>
                <a:lnTo>
                  <a:pt x="0" y="0"/>
                </a:lnTo>
                <a:lnTo>
                  <a:pt x="0" y="575"/>
                </a:lnTo>
                <a:lnTo>
                  <a:pt x="4233" y="575"/>
                </a:lnTo>
                <a:lnTo>
                  <a:pt x="4233" y="57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12920" y="3065400"/>
            <a:ext cx="1800" cy="922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18400" y="3325680"/>
            <a:ext cx="887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en = 4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635000" y="3325680"/>
            <a:ext cx="1033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value =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06360" y="3325680"/>
            <a:ext cx="97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417892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333600" y="3065400"/>
            <a:ext cx="1800" cy="9223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52840" y="3065400"/>
            <a:ext cx="1800" cy="250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52840" y="3728880"/>
            <a:ext cx="1800" cy="258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81800" y="3065400"/>
            <a:ext cx="1440" cy="250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81800" y="3728880"/>
            <a:ext cx="1440" cy="258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702480" y="3065400"/>
            <a:ext cx="1440" cy="250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02480" y="3728880"/>
            <a:ext cx="1440" cy="258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H="1">
            <a:off x="3378240" y="3287880"/>
            <a:ext cx="628560" cy="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87880" y="3254400"/>
            <a:ext cx="117360" cy="66600"/>
          </a:xfrm>
          <a:custGeom>
            <a:avLst/>
            <a:gdLst/>
            <a:ahLst/>
            <a:rect l="l" t="t" r="r" b="b"/>
            <a:pathLst>
              <a:path w="74" h="42">
                <a:moveTo>
                  <a:pt x="70" y="0"/>
                </a:moveTo>
                <a:lnTo>
                  <a:pt x="0" y="25"/>
                </a:lnTo>
                <a:lnTo>
                  <a:pt x="74" y="42"/>
                </a:lnTo>
                <a:lnTo>
                  <a:pt x="74" y="5"/>
                </a:lnTo>
                <a:lnTo>
                  <a:pt x="74" y="5"/>
                </a:lnTo>
                <a:lnTo>
                  <a:pt x="7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87800" y="3274920"/>
            <a:ext cx="622440" cy="64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583240" y="3247920"/>
            <a:ext cx="125280" cy="58680"/>
          </a:xfrm>
          <a:custGeom>
            <a:avLst/>
            <a:gdLst/>
            <a:ahLst/>
            <a:rect l="l" t="t" r="r" b="b"/>
            <a:pathLst>
              <a:path w="79" h="37">
                <a:moveTo>
                  <a:pt x="0" y="37"/>
                </a:moveTo>
                <a:lnTo>
                  <a:pt x="79" y="17"/>
                </a:lnTo>
                <a:lnTo>
                  <a:pt x="5" y="0"/>
                </a:lnTo>
                <a:lnTo>
                  <a:pt x="5" y="37"/>
                </a:lnTo>
                <a:lnTo>
                  <a:pt x="5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35840" y="1862280"/>
            <a:ext cx="579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ll 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16840" y="301320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26560" y="327492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92320" y="3274920"/>
            <a:ext cx="26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08560" y="4438800"/>
            <a:ext cx="45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33640" y="247644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32560" y="3686040"/>
            <a:ext cx="105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shal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68920" y="3948120"/>
            <a:ext cx="102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92480" y="3006720"/>
            <a:ext cx="981000" cy="55548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46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92480" y="4302000"/>
            <a:ext cx="981000" cy="55584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46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2480" y="1738440"/>
            <a:ext cx="981000" cy="55548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50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895480"/>
            <a:ext cx="65160" cy="117720"/>
          </a:xfrm>
          <a:custGeom>
            <a:avLst/>
            <a:gdLst/>
            <a:ahLst/>
            <a:rect l="l" t="t" r="r" b="b"/>
            <a:pathLst>
              <a:path w="41" h="74">
                <a:moveTo>
                  <a:pt x="0" y="0"/>
                </a:moveTo>
                <a:lnTo>
                  <a:pt x="20" y="74"/>
                </a:lnTo>
                <a:lnTo>
                  <a:pt x="4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480" y="1285920"/>
            <a:ext cx="840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160" y="1547640"/>
            <a:ext cx="1261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criptor f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54600" y="1803240"/>
            <a:ext cx="120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edure 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08560" y="301320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14080" y="327492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03920" y="327492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27760" y="495468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54440" y="2476440"/>
            <a:ext cx="1229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13280" y="3006720"/>
            <a:ext cx="981000" cy="55548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4" y="346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5680" y="2286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51400" y="2882880"/>
            <a:ext cx="66600" cy="117360"/>
          </a:xfrm>
          <a:custGeom>
            <a:avLst/>
            <a:gdLst/>
            <a:ahLst/>
            <a:rect l="l" t="t" r="r" b="b"/>
            <a:pathLst>
              <a:path w="42" h="74">
                <a:moveTo>
                  <a:pt x="0" y="0"/>
                </a:moveTo>
                <a:lnTo>
                  <a:pt x="21" y="74"/>
                </a:lnTo>
                <a:lnTo>
                  <a:pt x="4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43200" y="3581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743200" y="4191120"/>
            <a:ext cx="65160" cy="117360"/>
          </a:xfrm>
          <a:custGeom>
            <a:avLst/>
            <a:gdLst/>
            <a:ahLst/>
            <a:rect l="l" t="t" r="r" b="b"/>
            <a:pathLst>
              <a:path w="41" h="74">
                <a:moveTo>
                  <a:pt x="0" y="0"/>
                </a:moveTo>
                <a:lnTo>
                  <a:pt x="20" y="74"/>
                </a:lnTo>
                <a:lnTo>
                  <a:pt x="4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89120" y="18622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26040" y="301320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49080" y="327492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415200" y="327492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31440" y="4438800"/>
            <a:ext cx="45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56160" y="2476440"/>
            <a:ext cx="1046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55080" y="3686040"/>
            <a:ext cx="1059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rshall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1440" y="3948120"/>
            <a:ext cx="102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15000" y="3006720"/>
            <a:ext cx="981000" cy="55548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46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302000"/>
            <a:ext cx="981000" cy="55584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46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15000" y="1738440"/>
            <a:ext cx="981000" cy="555480"/>
          </a:xfrm>
          <a:custGeom>
            <a:avLst/>
            <a:gdLst/>
            <a:ahLst/>
            <a:rect l="l" t="t" r="r" b="b"/>
            <a:pathLst>
              <a:path w="618" h="350">
                <a:moveTo>
                  <a:pt x="618" y="350"/>
                </a:moveTo>
                <a:lnTo>
                  <a:pt x="618" y="0"/>
                </a:lnTo>
                <a:lnTo>
                  <a:pt x="0" y="0"/>
                </a:lnTo>
                <a:lnTo>
                  <a:pt x="0" y="350"/>
                </a:lnTo>
                <a:lnTo>
                  <a:pt x="618" y="350"/>
                </a:lnTo>
                <a:lnTo>
                  <a:pt x="618" y="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172200" y="36572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3568680"/>
            <a:ext cx="135000" cy="88920"/>
          </a:xfrm>
          <a:custGeom>
            <a:avLst/>
            <a:gdLst/>
            <a:ahLst/>
            <a:rect l="l" t="t" r="r" b="b"/>
            <a:pathLst>
              <a:path w="37" h="74">
                <a:moveTo>
                  <a:pt x="37" y="74"/>
                </a:moveTo>
                <a:lnTo>
                  <a:pt x="21" y="0"/>
                </a:lnTo>
                <a:lnTo>
                  <a:pt x="0" y="74"/>
                </a:lnTo>
                <a:lnTo>
                  <a:pt x="37" y="74"/>
                </a:lnTo>
                <a:lnTo>
                  <a:pt x="37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82800" y="4857840"/>
            <a:ext cx="3416400" cy="379440"/>
          </a:xfrm>
          <a:custGeom>
            <a:avLst/>
            <a:gdLst/>
            <a:ahLst/>
            <a:rect l="l" t="t" r="r" b="b"/>
            <a:pathLst>
              <a:path w="2152" h="239">
                <a:moveTo>
                  <a:pt x="2148" y="61"/>
                </a:moveTo>
                <a:lnTo>
                  <a:pt x="2152" y="239"/>
                </a:lnTo>
                <a:lnTo>
                  <a:pt x="0" y="239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65720" y="4863960"/>
            <a:ext cx="82800" cy="88920"/>
          </a:xfrm>
          <a:custGeom>
            <a:avLst/>
            <a:gdLst/>
            <a:ahLst/>
            <a:rect l="l" t="t" r="r" b="b"/>
            <a:pathLst>
              <a:path w="41" h="74">
                <a:moveTo>
                  <a:pt x="37" y="70"/>
                </a:moveTo>
                <a:lnTo>
                  <a:pt x="21" y="0"/>
                </a:lnTo>
                <a:lnTo>
                  <a:pt x="0" y="74"/>
                </a:lnTo>
                <a:lnTo>
                  <a:pt x="41" y="74"/>
                </a:lnTo>
                <a:lnTo>
                  <a:pt x="41" y="74"/>
                </a:lnTo>
                <a:lnTo>
                  <a:pt x="37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248520" y="2361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48520" y="2286000"/>
            <a:ext cx="58680" cy="117360"/>
          </a:xfrm>
          <a:custGeom>
            <a:avLst/>
            <a:gdLst/>
            <a:ahLst/>
            <a:rect l="l" t="t" r="r" b="b"/>
            <a:pathLst>
              <a:path w="37" h="74">
                <a:moveTo>
                  <a:pt x="37" y="70"/>
                </a:moveTo>
                <a:lnTo>
                  <a:pt x="21" y="0"/>
                </a:lnTo>
                <a:lnTo>
                  <a:pt x="0" y="74"/>
                </a:lnTo>
                <a:lnTo>
                  <a:pt x="37" y="74"/>
                </a:lnTo>
                <a:lnTo>
                  <a:pt x="37" y="74"/>
                </a:lnTo>
                <a:lnTo>
                  <a:pt x="37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8600" y="1168560"/>
            <a:ext cx="1504800" cy="1098360"/>
          </a:xfrm>
          <a:custGeom>
            <a:avLst/>
            <a:gdLst/>
            <a:ahLst/>
            <a:rect l="l" t="t" r="r" b="b"/>
            <a:pathLst>
              <a:path w="948" h="692">
                <a:moveTo>
                  <a:pt x="470" y="688"/>
                </a:moveTo>
                <a:lnTo>
                  <a:pt x="548" y="688"/>
                </a:lnTo>
                <a:lnTo>
                  <a:pt x="622" y="676"/>
                </a:lnTo>
                <a:lnTo>
                  <a:pt x="688" y="655"/>
                </a:lnTo>
                <a:lnTo>
                  <a:pt x="750" y="627"/>
                </a:lnTo>
                <a:lnTo>
                  <a:pt x="808" y="590"/>
                </a:lnTo>
                <a:lnTo>
                  <a:pt x="853" y="548"/>
                </a:lnTo>
                <a:lnTo>
                  <a:pt x="894" y="503"/>
                </a:lnTo>
                <a:lnTo>
                  <a:pt x="923" y="454"/>
                </a:lnTo>
                <a:lnTo>
                  <a:pt x="940" y="404"/>
                </a:lnTo>
                <a:lnTo>
                  <a:pt x="948" y="346"/>
                </a:lnTo>
                <a:lnTo>
                  <a:pt x="940" y="289"/>
                </a:lnTo>
                <a:lnTo>
                  <a:pt x="923" y="235"/>
                </a:lnTo>
                <a:lnTo>
                  <a:pt x="894" y="186"/>
                </a:lnTo>
                <a:lnTo>
                  <a:pt x="853" y="141"/>
                </a:lnTo>
                <a:lnTo>
                  <a:pt x="808" y="103"/>
                </a:lnTo>
                <a:lnTo>
                  <a:pt x="750" y="66"/>
                </a:lnTo>
                <a:lnTo>
                  <a:pt x="688" y="38"/>
                </a:lnTo>
                <a:lnTo>
                  <a:pt x="622" y="17"/>
                </a:lnTo>
                <a:lnTo>
                  <a:pt x="548" y="5"/>
                </a:lnTo>
                <a:lnTo>
                  <a:pt x="474" y="0"/>
                </a:lnTo>
                <a:lnTo>
                  <a:pt x="396" y="5"/>
                </a:lnTo>
                <a:lnTo>
                  <a:pt x="322" y="17"/>
                </a:lnTo>
                <a:lnTo>
                  <a:pt x="256" y="38"/>
                </a:lnTo>
                <a:lnTo>
                  <a:pt x="194" y="66"/>
                </a:lnTo>
                <a:lnTo>
                  <a:pt x="136" y="103"/>
                </a:lnTo>
                <a:lnTo>
                  <a:pt x="91" y="141"/>
                </a:lnTo>
                <a:lnTo>
                  <a:pt x="54" y="186"/>
                </a:lnTo>
                <a:lnTo>
                  <a:pt x="25" y="235"/>
                </a:lnTo>
                <a:lnTo>
                  <a:pt x="4" y="289"/>
                </a:lnTo>
                <a:lnTo>
                  <a:pt x="0" y="346"/>
                </a:lnTo>
                <a:lnTo>
                  <a:pt x="4" y="404"/>
                </a:lnTo>
                <a:lnTo>
                  <a:pt x="25" y="454"/>
                </a:lnTo>
                <a:lnTo>
                  <a:pt x="54" y="503"/>
                </a:lnTo>
                <a:lnTo>
                  <a:pt x="91" y="548"/>
                </a:lnTo>
                <a:lnTo>
                  <a:pt x="136" y="590"/>
                </a:lnTo>
                <a:lnTo>
                  <a:pt x="194" y="627"/>
                </a:lnTo>
                <a:lnTo>
                  <a:pt x="256" y="655"/>
                </a:lnTo>
                <a:lnTo>
                  <a:pt x="322" y="676"/>
                </a:lnTo>
                <a:lnTo>
                  <a:pt x="396" y="688"/>
                </a:lnTo>
                <a:lnTo>
                  <a:pt x="474" y="692"/>
                </a:lnTo>
                <a:lnTo>
                  <a:pt x="474" y="6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49520" y="295416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24600" y="295416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1560600" y="281952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30400" y="2819520"/>
            <a:ext cx="509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32040" y="3075120"/>
            <a:ext cx="6472080" cy="484200"/>
          </a:xfrm>
          <a:custGeom>
            <a:avLst/>
            <a:gdLst/>
            <a:ahLst/>
            <a:rect l="l" t="t" r="r" b="b"/>
            <a:pathLst>
              <a:path w="4077" h="305">
                <a:moveTo>
                  <a:pt x="4073" y="301"/>
                </a:moveTo>
                <a:lnTo>
                  <a:pt x="4077" y="0"/>
                </a:lnTo>
                <a:lnTo>
                  <a:pt x="0" y="0"/>
                </a:lnTo>
                <a:lnTo>
                  <a:pt x="0" y="305"/>
                </a:lnTo>
                <a:lnTo>
                  <a:pt x="4077" y="305"/>
                </a:lnTo>
                <a:lnTo>
                  <a:pt x="4077" y="3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022040" y="2949480"/>
            <a:ext cx="4446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40" y="2922480"/>
            <a:ext cx="101880" cy="55800"/>
          </a:xfrm>
          <a:custGeom>
            <a:avLst/>
            <a:gdLst/>
            <a:ahLst/>
            <a:rect l="l" t="t" r="r" b="b"/>
            <a:pathLst>
              <a:path w="64" h="35">
                <a:moveTo>
                  <a:pt x="61" y="0"/>
                </a:moveTo>
                <a:lnTo>
                  <a:pt x="0" y="17"/>
                </a:lnTo>
                <a:lnTo>
                  <a:pt x="64" y="35"/>
                </a:lnTo>
                <a:lnTo>
                  <a:pt x="64" y="0"/>
                </a:lnTo>
                <a:lnTo>
                  <a:pt x="64" y="0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932040" y="2869920"/>
            <a:ext cx="144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655720" y="2869920"/>
            <a:ext cx="180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655720" y="3070080"/>
            <a:ext cx="1800" cy="47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09960" y="2949480"/>
            <a:ext cx="4489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43040" y="2922480"/>
            <a:ext cx="108000" cy="55800"/>
          </a:xfrm>
          <a:custGeom>
            <a:avLst/>
            <a:gdLst/>
            <a:ahLst/>
            <a:rect l="l" t="t" r="r" b="b"/>
            <a:pathLst>
              <a:path w="68" h="35">
                <a:moveTo>
                  <a:pt x="0" y="35"/>
                </a:moveTo>
                <a:lnTo>
                  <a:pt x="68" y="17"/>
                </a:lnTo>
                <a:lnTo>
                  <a:pt x="3" y="0"/>
                </a:lnTo>
                <a:lnTo>
                  <a:pt x="3" y="35"/>
                </a:lnTo>
                <a:lnTo>
                  <a:pt x="3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2758680" y="2949480"/>
            <a:ext cx="18558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2922480"/>
            <a:ext cx="103320" cy="55800"/>
          </a:xfrm>
          <a:custGeom>
            <a:avLst/>
            <a:gdLst/>
            <a:ahLst/>
            <a:rect l="l" t="t" r="r" b="b"/>
            <a:pathLst>
              <a:path w="65" h="35">
                <a:moveTo>
                  <a:pt x="65" y="0"/>
                </a:moveTo>
                <a:lnTo>
                  <a:pt x="0" y="17"/>
                </a:lnTo>
                <a:lnTo>
                  <a:pt x="65" y="35"/>
                </a:lnTo>
                <a:lnTo>
                  <a:pt x="65" y="0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7397640" y="2869920"/>
            <a:ext cx="648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1320" y="2949480"/>
            <a:ext cx="20494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89640" y="2922480"/>
            <a:ext cx="108000" cy="55800"/>
          </a:xfrm>
          <a:custGeom>
            <a:avLst/>
            <a:gdLst/>
            <a:ahLst/>
            <a:rect l="l" t="t" r="r" b="b"/>
            <a:pathLst>
              <a:path w="68" h="35">
                <a:moveTo>
                  <a:pt x="0" y="35"/>
                </a:moveTo>
                <a:lnTo>
                  <a:pt x="68" y="17"/>
                </a:lnTo>
                <a:lnTo>
                  <a:pt x="0" y="0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94320" y="3200400"/>
            <a:ext cx="96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04720" y="320040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73360" y="3200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10360" y="32004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442840" y="32004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880960" y="32004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19080" y="320040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28760" y="3200400"/>
            <a:ext cx="14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55720" y="3200400"/>
            <a:ext cx="13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363680" y="307008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790640" y="3070080"/>
            <a:ext cx="64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224080" y="3070080"/>
            <a:ext cx="46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1363680" y="344484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790640" y="3444840"/>
            <a:ext cx="64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224080" y="3444840"/>
            <a:ext cx="46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386240" y="3070080"/>
            <a:ext cx="1440" cy="47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3094200" y="307008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527280" y="307008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54600" y="3070080"/>
            <a:ext cx="46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4819680" y="307008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095880" y="304776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5251320" y="307008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5684760" y="307008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094200" y="344484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527280" y="344484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954600" y="3444840"/>
            <a:ext cx="46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819680" y="344484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95880" y="342864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251320" y="344484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684760" y="344484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977160" y="307008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553080" y="342864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977160" y="344484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42040" y="3849840"/>
            <a:ext cx="29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01600" y="4105440"/>
            <a:ext cx="6894720" cy="484200"/>
          </a:xfrm>
          <a:custGeom>
            <a:avLst/>
            <a:gdLst/>
            <a:ahLst/>
            <a:rect l="l" t="t" r="r" b="b"/>
            <a:pathLst>
              <a:path w="4343" h="305">
                <a:moveTo>
                  <a:pt x="4343" y="301"/>
                </a:moveTo>
                <a:lnTo>
                  <a:pt x="4343" y="0"/>
                </a:lnTo>
                <a:lnTo>
                  <a:pt x="0" y="0"/>
                </a:lnTo>
                <a:lnTo>
                  <a:pt x="0" y="305"/>
                </a:lnTo>
                <a:lnTo>
                  <a:pt x="4343" y="305"/>
                </a:lnTo>
                <a:lnTo>
                  <a:pt x="4343" y="30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1186920" y="3979800"/>
            <a:ext cx="3148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08080" y="3951360"/>
            <a:ext cx="101520" cy="57240"/>
          </a:xfrm>
          <a:custGeom>
            <a:avLst/>
            <a:gdLst/>
            <a:ahLst/>
            <a:rect l="l" t="t" r="r" b="b"/>
            <a:pathLst>
              <a:path w="64" h="36">
                <a:moveTo>
                  <a:pt x="64" y="0"/>
                </a:moveTo>
                <a:lnTo>
                  <a:pt x="0" y="18"/>
                </a:lnTo>
                <a:lnTo>
                  <a:pt x="64" y="36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096920" y="3900240"/>
            <a:ext cx="180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820960" y="4100400"/>
            <a:ext cx="1440" cy="478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996320" y="3900240"/>
            <a:ext cx="144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784760" y="3979800"/>
            <a:ext cx="3108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881840" y="3951360"/>
            <a:ext cx="108000" cy="57240"/>
          </a:xfrm>
          <a:custGeom>
            <a:avLst/>
            <a:gdLst/>
            <a:ahLst/>
            <a:rect l="l" t="t" r="r" b="b"/>
            <a:pathLst>
              <a:path w="68" h="36">
                <a:moveTo>
                  <a:pt x="0" y="36"/>
                </a:moveTo>
                <a:lnTo>
                  <a:pt x="68" y="18"/>
                </a:lnTo>
                <a:lnTo>
                  <a:pt x="4" y="0"/>
                </a:lnTo>
                <a:lnTo>
                  <a:pt x="4" y="36"/>
                </a:lnTo>
                <a:lnTo>
                  <a:pt x="4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8600" y="42418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962000" y="410040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1962000" y="447516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572000" y="4114800"/>
            <a:ext cx="0" cy="45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259080" y="410040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124160" y="410040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984920" y="410040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281640" y="4100400"/>
            <a:ext cx="1800" cy="425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416560" y="410040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850000" y="410040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259080" y="447516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4124160" y="447516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4984920" y="44751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6281640" y="447516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416560" y="44751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850000" y="44751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708600" y="4100400"/>
            <a:ext cx="64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7142040" y="410040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08600" y="4475160"/>
            <a:ext cx="64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42040" y="4475160"/>
            <a:ext cx="180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3232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67524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700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8832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13124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5688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22324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6616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496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10600" y="42372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6553080" y="304776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7467480" y="441936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7467480" y="411444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657600" y="4114800"/>
            <a:ext cx="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657600" y="4495680"/>
            <a:ext cx="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438280" y="411444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2438280" y="441936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523880" y="411444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1523880" y="4419360"/>
            <a:ext cx="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5110560" y="3575160"/>
            <a:ext cx="54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7600" y="31240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9600" y="31240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79520" y="312408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25040" y="3124080"/>
            <a:ext cx="54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995560" y="312408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01760" y="3062160"/>
            <a:ext cx="8292960" cy="430200"/>
          </a:xfrm>
          <a:custGeom>
            <a:avLst/>
            <a:gdLst/>
            <a:ahLst/>
            <a:rect l="l" t="t" r="r" b="b"/>
            <a:pathLst>
              <a:path w="5224" h="271">
                <a:moveTo>
                  <a:pt x="5224" y="271"/>
                </a:moveTo>
                <a:lnTo>
                  <a:pt x="5224" y="0"/>
                </a:lnTo>
                <a:lnTo>
                  <a:pt x="0" y="0"/>
                </a:lnTo>
                <a:lnTo>
                  <a:pt x="0" y="271"/>
                </a:lnTo>
                <a:lnTo>
                  <a:pt x="5224" y="271"/>
                </a:lnTo>
                <a:lnTo>
                  <a:pt x="5224" y="2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46520" y="3054240"/>
            <a:ext cx="6120" cy="438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0680" y="3054240"/>
            <a:ext cx="1440" cy="438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304812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143000" y="304812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304812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3870360" y="3276720"/>
            <a:ext cx="33336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45080" y="32353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0"/>
                </a:moveTo>
                <a:lnTo>
                  <a:pt x="0" y="31"/>
                </a:lnTo>
                <a:lnTo>
                  <a:pt x="96" y="57"/>
                </a:lnTo>
                <a:lnTo>
                  <a:pt x="96" y="5"/>
                </a:lnTo>
                <a:lnTo>
                  <a:pt x="96" y="5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935600" y="3270240"/>
            <a:ext cx="3412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241960" y="3228840"/>
            <a:ext cx="160200" cy="82800"/>
          </a:xfrm>
          <a:custGeom>
            <a:avLst/>
            <a:gdLst/>
            <a:ahLst/>
            <a:rect l="l" t="t" r="r" b="b"/>
            <a:pathLst>
              <a:path w="101" h="52">
                <a:moveTo>
                  <a:pt x="0" y="52"/>
                </a:moveTo>
                <a:lnTo>
                  <a:pt x="101" y="26"/>
                </a:lnTo>
                <a:lnTo>
                  <a:pt x="4" y="0"/>
                </a:lnTo>
                <a:lnTo>
                  <a:pt x="4" y="52"/>
                </a:lnTo>
                <a:lnTo>
                  <a:pt x="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288880" y="3743280"/>
            <a:ext cx="2708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57480" y="3700440"/>
            <a:ext cx="158760" cy="90360"/>
          </a:xfrm>
          <a:custGeom>
            <a:avLst/>
            <a:gdLst/>
            <a:ahLst/>
            <a:rect l="l" t="t" r="r" b="b"/>
            <a:pathLst>
              <a:path w="100" h="57">
                <a:moveTo>
                  <a:pt x="100" y="0"/>
                </a:moveTo>
                <a:lnTo>
                  <a:pt x="0" y="27"/>
                </a:lnTo>
                <a:lnTo>
                  <a:pt x="100" y="57"/>
                </a:lnTo>
                <a:lnTo>
                  <a:pt x="100" y="0"/>
                </a:lnTo>
                <a:lnTo>
                  <a:pt x="10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694480" y="3735360"/>
            <a:ext cx="28684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534520" y="3693960"/>
            <a:ext cx="160200" cy="82800"/>
          </a:xfrm>
          <a:custGeom>
            <a:avLst/>
            <a:gdLst/>
            <a:ahLst/>
            <a:rect l="l" t="t" r="r" b="b"/>
            <a:pathLst>
              <a:path w="101" h="52">
                <a:moveTo>
                  <a:pt x="0" y="52"/>
                </a:moveTo>
                <a:lnTo>
                  <a:pt x="101" y="26"/>
                </a:lnTo>
                <a:lnTo>
                  <a:pt x="0" y="0"/>
                </a:lnTo>
                <a:lnTo>
                  <a:pt x="0" y="52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590080" y="3124080"/>
            <a:ext cx="4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611120" y="3124080"/>
            <a:ext cx="54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81640" y="312408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172200" y="304812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016760" y="3054240"/>
            <a:ext cx="1440" cy="438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7156440" y="3276720"/>
            <a:ext cx="33336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031160" y="3235320"/>
            <a:ext cx="152280" cy="90360"/>
          </a:xfrm>
          <a:custGeom>
            <a:avLst/>
            <a:gdLst/>
            <a:ahLst/>
            <a:rect l="l" t="t" r="r" b="b"/>
            <a:pathLst>
              <a:path w="96" h="57">
                <a:moveTo>
                  <a:pt x="96" y="0"/>
                </a:moveTo>
                <a:lnTo>
                  <a:pt x="0" y="31"/>
                </a:lnTo>
                <a:lnTo>
                  <a:pt x="96" y="57"/>
                </a:lnTo>
                <a:lnTo>
                  <a:pt x="96" y="5"/>
                </a:lnTo>
                <a:lnTo>
                  <a:pt x="96" y="5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72360" y="3270240"/>
            <a:ext cx="3906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528040" y="3228840"/>
            <a:ext cx="160200" cy="82800"/>
          </a:xfrm>
          <a:custGeom>
            <a:avLst/>
            <a:gdLst/>
            <a:ahLst/>
            <a:rect l="l" t="t" r="r" b="b"/>
            <a:pathLst>
              <a:path w="101" h="52">
                <a:moveTo>
                  <a:pt x="0" y="52"/>
                </a:moveTo>
                <a:lnTo>
                  <a:pt x="101" y="26"/>
                </a:lnTo>
                <a:lnTo>
                  <a:pt x="4" y="0"/>
                </a:lnTo>
                <a:lnTo>
                  <a:pt x="4" y="52"/>
                </a:lnTo>
                <a:lnTo>
                  <a:pt x="4" y="52"/>
                </a:lnTo>
                <a:lnTo>
                  <a:pt x="0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E07F08" descr=""/>
          <p:cNvPicPr/>
          <p:nvPr/>
        </p:nvPicPr>
        <p:blipFill>
          <a:blip r:embed="rId1"/>
          <a:stretch/>
        </p:blipFill>
        <p:spPr>
          <a:xfrm>
            <a:off x="1752480" y="3200400"/>
            <a:ext cx="550224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E07F09" descr=""/>
          <p:cNvPicPr/>
          <p:nvPr/>
        </p:nvPicPr>
        <p:blipFill>
          <a:blip r:embed="rId1"/>
          <a:stretch/>
        </p:blipFill>
        <p:spPr>
          <a:xfrm>
            <a:off x="1523880" y="2666880"/>
            <a:ext cx="5813640" cy="1833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7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20:53:00Z</dcterms:created>
  <dc:creator>Karyn Johnson</dc:creator>
  <dc:description/>
  <dc:language>en-US</dc:language>
  <cp:lastModifiedBy>Karyn Johnson</cp:lastModifiedBy>
  <dcterms:modified xsi:type="dcterms:W3CDTF">1999-09-16T21:34:16Z</dcterms:modified>
  <cp:revision>3</cp:revision>
  <dc:subject/>
  <dc:title>No Slide Title</dc:title>
</cp:coreProperties>
</file>