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E96-3512-47D9-9D38-3DF426E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350-7929-4E5A-B6F0-79EAB44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547-AC67-4336-8286-F9302C1A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15A-C6AE-4434-8094-CF0C5696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55E-2CAF-4573-BBA7-A5754A2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1B0-C8A0-41A6-A963-D083281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BD7-07AC-4EF5-98A4-78042DF4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946-64DD-4E85-92B6-157742A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AE8-0712-495C-8653-A1C1CCC6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1C1-042E-44E6-A2F3-5DB6D32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D2C-821F-4B45-BC0C-08556DB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134-A6FD-4BF5-8A2B-EEFC1DA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700-A750-419D-868F-520BF403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100-60ED-454E-BBFE-CBC6F29605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inceton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e.princeton.edu, helios.ee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lios.ee.princeton.edu, 128.196.28.166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jupiter.physics.princeton.edu, 128.196.4.1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aturn.physics.princeton.edu, 128.196.4.2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rs.physics.princeton.edu, 128.196.4.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enus.physics.princeton.edu, 128.196.4.4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0A0-C949-48BE-A3C3-0A5DC1F7F3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MX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ltenham.cs.princeton.edu, 192.12.69.6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.cs.princeton.edu, cheltenham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.cs.princeton.edu, optima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kerville.cs.princeton.edu, 192.12.69.3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.cs.princeton.edu, baskerville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6AA-7D55-458F-8F06-AF9800EDD9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Resolu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now root at only one place (not each ho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-wid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523880"/>
            <a:ext cx="6161760" cy="4206600"/>
            <a:chOff x="2057400" y="1523880"/>
            <a:chExt cx="6161760" cy="4206600"/>
          </a:xfrm>
        </p:grpSpPr>
        <p:sp>
          <p:nvSpPr>
            <p:cNvPr id="197" name=""/>
            <p:cNvSpPr/>
            <p:nvPr/>
          </p:nvSpPr>
          <p:spPr>
            <a:xfrm>
              <a:off x="7708680" y="16441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760" y="18136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84920" y="1984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72240" y="33001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8240" y="3473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0600" y="3642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760" y="50364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91760" y="52088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77000" y="5379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54480" y="554832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7880" y="152388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17880" y="3193920"/>
              <a:ext cx="68364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32720" y="3300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6320" y="347220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1560" y="36406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56320" y="3193920"/>
              <a:ext cx="684000" cy="790200"/>
            </a:xfrm>
            <a:custGeom>
              <a:avLst/>
              <a:gdLst/>
              <a:ahLst/>
              <a:rect l="l" t="t" r="r" b="b"/>
              <a:pathLst>
                <a:path w="504" h="559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59"/>
                  </a:lnTo>
                  <a:lnTo>
                    <a:pt x="504" y="559"/>
                  </a:lnTo>
                  <a:lnTo>
                    <a:pt x="504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17880" y="4916160"/>
              <a:ext cx="683640" cy="79452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504" y="559"/>
                  </a:moveTo>
                  <a:lnTo>
                    <a:pt x="504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504" y="562"/>
                  </a:lnTo>
                  <a:lnTo>
                    <a:pt x="504" y="5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3960" y="34948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3374640"/>
              <a:ext cx="754560" cy="425520"/>
            </a:xfrm>
            <a:custGeom>
              <a:avLst/>
              <a:gdLst/>
              <a:ahLst/>
              <a:rect l="l" t="t" r="r" b="b"/>
              <a:pathLst>
                <a:path w="556" h="301">
                  <a:moveTo>
                    <a:pt x="277" y="301"/>
                  </a:moveTo>
                  <a:lnTo>
                    <a:pt x="322" y="301"/>
                  </a:lnTo>
                  <a:lnTo>
                    <a:pt x="368" y="294"/>
                  </a:lnTo>
                  <a:lnTo>
                    <a:pt x="407" y="285"/>
                  </a:lnTo>
                  <a:lnTo>
                    <a:pt x="444" y="273"/>
                  </a:lnTo>
                  <a:lnTo>
                    <a:pt x="474" y="258"/>
                  </a:lnTo>
                  <a:lnTo>
                    <a:pt x="504" y="240"/>
                  </a:lnTo>
                  <a:lnTo>
                    <a:pt x="526" y="219"/>
                  </a:lnTo>
                  <a:lnTo>
                    <a:pt x="544" y="197"/>
                  </a:lnTo>
                  <a:lnTo>
                    <a:pt x="553" y="176"/>
                  </a:lnTo>
                  <a:lnTo>
                    <a:pt x="556" y="152"/>
                  </a:lnTo>
                  <a:lnTo>
                    <a:pt x="553" y="127"/>
                  </a:lnTo>
                  <a:lnTo>
                    <a:pt x="544" y="103"/>
                  </a:lnTo>
                  <a:lnTo>
                    <a:pt x="526" y="82"/>
                  </a:lnTo>
                  <a:lnTo>
                    <a:pt x="504" y="61"/>
                  </a:lnTo>
                  <a:lnTo>
                    <a:pt x="474" y="45"/>
                  </a:lnTo>
                  <a:lnTo>
                    <a:pt x="444" y="30"/>
                  </a:lnTo>
                  <a:lnTo>
                    <a:pt x="407" y="18"/>
                  </a:lnTo>
                  <a:lnTo>
                    <a:pt x="368" y="9"/>
                  </a:lnTo>
                  <a:lnTo>
                    <a:pt x="322" y="3"/>
                  </a:lnTo>
                  <a:lnTo>
                    <a:pt x="277" y="0"/>
                  </a:lnTo>
                  <a:lnTo>
                    <a:pt x="234" y="3"/>
                  </a:lnTo>
                  <a:lnTo>
                    <a:pt x="188" y="9"/>
                  </a:lnTo>
                  <a:lnTo>
                    <a:pt x="149" y="18"/>
                  </a:lnTo>
                  <a:lnTo>
                    <a:pt x="113" y="30"/>
                  </a:lnTo>
                  <a:lnTo>
                    <a:pt x="79" y="45"/>
                  </a:lnTo>
                  <a:lnTo>
                    <a:pt x="52" y="61"/>
                  </a:lnTo>
                  <a:lnTo>
                    <a:pt x="31" y="82"/>
                  </a:lnTo>
                  <a:lnTo>
                    <a:pt x="12" y="103"/>
                  </a:lnTo>
                  <a:lnTo>
                    <a:pt x="3" y="127"/>
                  </a:lnTo>
                  <a:lnTo>
                    <a:pt x="0" y="152"/>
                  </a:lnTo>
                  <a:lnTo>
                    <a:pt x="3" y="176"/>
                  </a:lnTo>
                  <a:lnTo>
                    <a:pt x="12" y="197"/>
                  </a:lnTo>
                  <a:lnTo>
                    <a:pt x="31" y="219"/>
                  </a:lnTo>
                  <a:lnTo>
                    <a:pt x="52" y="240"/>
                  </a:lnTo>
                  <a:lnTo>
                    <a:pt x="79" y="258"/>
                  </a:lnTo>
                  <a:lnTo>
                    <a:pt x="113" y="273"/>
                  </a:lnTo>
                  <a:lnTo>
                    <a:pt x="149" y="285"/>
                  </a:lnTo>
                  <a:lnTo>
                    <a:pt x="188" y="294"/>
                  </a:lnTo>
                  <a:lnTo>
                    <a:pt x="234" y="301"/>
                  </a:lnTo>
                  <a:lnTo>
                    <a:pt x="277" y="301"/>
                  </a:lnTo>
                  <a:lnTo>
                    <a:pt x="277" y="3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7160" y="315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1040" y="3328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06960" y="36943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11640" y="386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03320" y="3549960"/>
              <a:ext cx="186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9400" y="3520080"/>
              <a:ext cx="110880" cy="60840"/>
            </a:xfrm>
            <a:custGeom>
              <a:avLst/>
              <a:gdLst/>
              <a:ahLst/>
              <a:rect l="l" t="t" r="r" b="b"/>
              <a:pathLst>
                <a:path w="82" h="43">
                  <a:moveTo>
                    <a:pt x="0" y="43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82160" y="3666240"/>
              <a:ext cx="1877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1440" y="3636360"/>
              <a:ext cx="110880" cy="6480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79" y="0"/>
                  </a:moveTo>
                  <a:lnTo>
                    <a:pt x="0" y="21"/>
                  </a:lnTo>
                  <a:lnTo>
                    <a:pt x="82" y="4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800000">
              <a:off x="5725440" y="230472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40320" y="2008440"/>
              <a:ext cx="1990440" cy="11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8720" y="1962000"/>
              <a:ext cx="110880" cy="8028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18" y="57"/>
                  </a:moveTo>
                  <a:lnTo>
                    <a:pt x="82" y="0"/>
                  </a:lnTo>
                  <a:lnTo>
                    <a:pt x="0" y="21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531040" y="2069640"/>
              <a:ext cx="197820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52560" y="3224880"/>
              <a:ext cx="111240" cy="8460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58" y="0"/>
                  </a:moveTo>
                  <a:lnTo>
                    <a:pt x="0" y="60"/>
                  </a:lnTo>
                  <a:lnTo>
                    <a:pt x="82" y="3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800000">
              <a:off x="5560920" y="2629080"/>
              <a:ext cx="21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.edu, 128.196.128.2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980000">
              <a:off x="5834160" y="443520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40320" y="3855600"/>
              <a:ext cx="19944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98720" y="5199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0" y="34"/>
                  </a:moveTo>
                  <a:lnTo>
                    <a:pt x="82" y="64"/>
                  </a:lnTo>
                  <a:lnTo>
                    <a:pt x="27" y="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522760" y="4036680"/>
              <a:ext cx="1990440" cy="136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44640" y="3984120"/>
              <a:ext cx="110880" cy="9036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79" y="27"/>
                  </a:moveTo>
                  <a:lnTo>
                    <a:pt x="0" y="0"/>
                  </a:lnTo>
                  <a:lnTo>
                    <a:pt x="58" y="64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7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980000">
              <a:off x="5571360" y="4670280"/>
              <a:ext cx="165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80000">
              <a:off x="5538600" y="459792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6000" y="330948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cada.cs.princeton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43640" y="3640680"/>
              <a:ext cx="19620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52560" y="3611160"/>
              <a:ext cx="111240" cy="6336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2" y="0"/>
                  </a:moveTo>
                  <a:lnTo>
                    <a:pt x="0" y="24"/>
                  </a:lnTo>
                  <a:lnTo>
                    <a:pt x="82" y="45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44640" y="3529080"/>
              <a:ext cx="1962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6120" y="3499200"/>
              <a:ext cx="111240" cy="5904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0" y="42"/>
                  </a:moveTo>
                  <a:lnTo>
                    <a:pt x="82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49480" y="3671640"/>
              <a:ext cx="201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.princeton.edu, 192.12.69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3080" y="173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2240" y="244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4440" y="306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8920" y="390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88920" y="467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8720" y="538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C44-AD43-4D53-8BB4-F92FAECB3A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cs.princeton.edu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: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No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n/fs/fac5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ersus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F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fs/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D09-96BA-45D4-BEE9-C446B34A10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upid Naming Tric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direc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3D-C661-46CF-9D3C-C3AA4EB1ED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name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loc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embership in a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 knowledge of a sec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set of possible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name to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545-A167-44A5-AF70-CBD5363A08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ert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transparent versus location-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versus rel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rchitecture versus by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versus amb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AFC-7262-462F-B05A-333C0215C6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ltenham.cs.princeton.edu    192.12.69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.69.17    80:23:A8:33:5B:9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  (server, file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ry Peterson    llp@cs.princeton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709-9A4B-408D-A47F-BFD53343F1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arby ps printer with short queue and 2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3520" y="1600200"/>
            <a:ext cx="5304960" cy="3514320"/>
            <a:chOff x="1703520" y="1600200"/>
            <a:chExt cx="5304960" cy="3514320"/>
          </a:xfrm>
        </p:grpSpPr>
        <p:sp>
          <p:nvSpPr>
            <p:cNvPr id="56" name=""/>
            <p:cNvSpPr/>
            <p:nvPr/>
          </p:nvSpPr>
          <p:spPr>
            <a:xfrm>
              <a:off x="1904400" y="24051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4760" y="26380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03520" y="2337480"/>
              <a:ext cx="876600" cy="612360"/>
            </a:xfrm>
            <a:custGeom>
              <a:avLst/>
              <a:gdLst/>
              <a:ahLst/>
              <a:rect l="l" t="t" r="r" b="b"/>
              <a:pathLst>
                <a:path w="615" h="436">
                  <a:moveTo>
                    <a:pt x="615" y="436"/>
                  </a:moveTo>
                  <a:lnTo>
                    <a:pt x="615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5" y="436"/>
                  </a:lnTo>
                  <a:lnTo>
                    <a:pt x="615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1080" y="240516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3320" y="26380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2160" y="16002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88600" y="2337480"/>
              <a:ext cx="869400" cy="61236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3400" y="1864080"/>
              <a:ext cx="6840" cy="35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7760" y="2188800"/>
              <a:ext cx="78480" cy="137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13400" y="2950200"/>
              <a:ext cx="68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7760" y="3273120"/>
              <a:ext cx="78480" cy="1389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0" y="0"/>
                  </a:moveTo>
                  <a:lnTo>
                    <a:pt x="30" y="99"/>
                  </a:lnTo>
                  <a:lnTo>
                    <a:pt x="5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640" y="3592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88600" y="3418200"/>
              <a:ext cx="869400" cy="612000"/>
            </a:xfrm>
            <a:custGeom>
              <a:avLst/>
              <a:gdLst/>
              <a:ahLst/>
              <a:rect l="l" t="t" r="r" b="b"/>
              <a:pathLst>
                <a:path w="610" h="436">
                  <a:moveTo>
                    <a:pt x="610" y="436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6"/>
                  </a:lnTo>
                  <a:lnTo>
                    <a:pt x="610" y="436"/>
                  </a:lnTo>
                  <a:lnTo>
                    <a:pt x="610" y="4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6440" y="4672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8600" y="4498200"/>
              <a:ext cx="869400" cy="616320"/>
            </a:xfrm>
            <a:custGeom>
              <a:avLst/>
              <a:gdLst/>
              <a:ahLst/>
              <a:rect l="l" t="t" r="r" b="b"/>
              <a:pathLst>
                <a:path w="610" h="439">
                  <a:moveTo>
                    <a:pt x="610" y="435"/>
                  </a:moveTo>
                  <a:lnTo>
                    <a:pt x="610" y="0"/>
                  </a:lnTo>
                  <a:lnTo>
                    <a:pt x="0" y="0"/>
                  </a:lnTo>
                  <a:lnTo>
                    <a:pt x="0" y="439"/>
                  </a:lnTo>
                  <a:lnTo>
                    <a:pt x="610" y="439"/>
                  </a:lnTo>
                  <a:lnTo>
                    <a:pt x="610" y="43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3400" y="4030200"/>
              <a:ext cx="68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7760" y="4353480"/>
              <a:ext cx="78480" cy="13788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0"/>
                  </a:moveTo>
                  <a:lnTo>
                    <a:pt x="30" y="98"/>
                  </a:lnTo>
                  <a:lnTo>
                    <a:pt x="5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0880" y="1726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11240" y="19666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11960" y="311328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0880" y="3350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4160" y="2266200"/>
              <a:ext cx="1485360" cy="209160"/>
            </a:xfrm>
            <a:custGeom>
              <a:avLst/>
              <a:gdLst/>
              <a:ahLst/>
              <a:rect l="l" t="t" r="r" b="b"/>
              <a:pathLst>
                <a:path w="1042" h="149">
                  <a:moveTo>
                    <a:pt x="1042" y="149"/>
                  </a:moveTo>
                  <a:lnTo>
                    <a:pt x="1037" y="145"/>
                  </a:lnTo>
                  <a:lnTo>
                    <a:pt x="1020" y="132"/>
                  </a:lnTo>
                  <a:lnTo>
                    <a:pt x="995" y="115"/>
                  </a:lnTo>
                  <a:lnTo>
                    <a:pt x="952" y="94"/>
                  </a:lnTo>
                  <a:lnTo>
                    <a:pt x="901" y="73"/>
                  </a:lnTo>
                  <a:lnTo>
                    <a:pt x="837" y="51"/>
                  </a:lnTo>
                  <a:lnTo>
                    <a:pt x="756" y="30"/>
                  </a:lnTo>
                  <a:lnTo>
                    <a:pt x="666" y="13"/>
                  </a:lnTo>
                  <a:lnTo>
                    <a:pt x="563" y="4"/>
                  </a:lnTo>
                  <a:lnTo>
                    <a:pt x="444" y="0"/>
                  </a:lnTo>
                  <a:lnTo>
                    <a:pt x="371" y="4"/>
                  </a:lnTo>
                  <a:lnTo>
                    <a:pt x="299" y="9"/>
                  </a:lnTo>
                  <a:lnTo>
                    <a:pt x="235" y="21"/>
                  </a:lnTo>
                  <a:lnTo>
                    <a:pt x="175" y="34"/>
                  </a:lnTo>
                  <a:lnTo>
                    <a:pt x="124" y="47"/>
                  </a:lnTo>
                  <a:lnTo>
                    <a:pt x="81" y="60"/>
                  </a:lnTo>
                  <a:lnTo>
                    <a:pt x="47" y="73"/>
                  </a:lnTo>
                  <a:lnTo>
                    <a:pt x="21" y="81"/>
                  </a:lnTo>
                  <a:lnTo>
                    <a:pt x="4" y="90"/>
                  </a:lnTo>
                  <a:lnTo>
                    <a:pt x="0" y="9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5880" y="2350080"/>
              <a:ext cx="133560" cy="9540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73" y="0"/>
                  </a:moveTo>
                  <a:lnTo>
                    <a:pt x="0" y="68"/>
                  </a:lnTo>
                  <a:lnTo>
                    <a:pt x="94" y="47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85880" y="2818080"/>
              <a:ext cx="1492560" cy="216000"/>
            </a:xfrm>
            <a:custGeom>
              <a:avLst/>
              <a:gdLst/>
              <a:ahLst/>
              <a:rect l="l" t="t" r="r" b="b"/>
              <a:pathLst>
                <a:path w="1047" h="154">
                  <a:moveTo>
                    <a:pt x="0" y="0"/>
                  </a:moveTo>
                  <a:lnTo>
                    <a:pt x="5" y="4"/>
                  </a:lnTo>
                  <a:lnTo>
                    <a:pt x="22" y="17"/>
                  </a:lnTo>
                  <a:lnTo>
                    <a:pt x="52" y="34"/>
                  </a:lnTo>
                  <a:lnTo>
                    <a:pt x="94" y="55"/>
                  </a:lnTo>
                  <a:lnTo>
                    <a:pt x="146" y="77"/>
                  </a:lnTo>
                  <a:lnTo>
                    <a:pt x="210" y="102"/>
                  </a:lnTo>
                  <a:lnTo>
                    <a:pt x="291" y="119"/>
                  </a:lnTo>
                  <a:lnTo>
                    <a:pt x="380" y="137"/>
                  </a:lnTo>
                  <a:lnTo>
                    <a:pt x="483" y="149"/>
                  </a:lnTo>
                  <a:lnTo>
                    <a:pt x="603" y="154"/>
                  </a:lnTo>
                  <a:lnTo>
                    <a:pt x="675" y="149"/>
                  </a:lnTo>
                  <a:lnTo>
                    <a:pt x="748" y="141"/>
                  </a:lnTo>
                  <a:lnTo>
                    <a:pt x="812" y="132"/>
                  </a:lnTo>
                  <a:lnTo>
                    <a:pt x="872" y="119"/>
                  </a:lnTo>
                  <a:lnTo>
                    <a:pt x="923" y="102"/>
                  </a:lnTo>
                  <a:lnTo>
                    <a:pt x="966" y="90"/>
                  </a:lnTo>
                  <a:lnTo>
                    <a:pt x="1000" y="77"/>
                  </a:lnTo>
                  <a:lnTo>
                    <a:pt x="1025" y="68"/>
                  </a:lnTo>
                  <a:lnTo>
                    <a:pt x="1042" y="60"/>
                  </a:lnTo>
                  <a:lnTo>
                    <a:pt x="1047" y="6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41720" y="2847600"/>
              <a:ext cx="133560" cy="9684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21" y="69"/>
                  </a:moveTo>
                  <a:lnTo>
                    <a:pt x="94" y="0"/>
                  </a:lnTo>
                  <a:lnTo>
                    <a:pt x="0" y="22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4200" y="1895040"/>
              <a:ext cx="220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@ cs.princeton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90800" y="1623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91600" y="3047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25000" y="3039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1600" y="41090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2.12.69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14920" y="4118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92B-A199-49A6-B9CB-DDBD1A8BE5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ain Naming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nstrap.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09F02" descr=""/>
          <p:cNvPicPr/>
          <p:nvPr/>
        </p:nvPicPr>
        <p:blipFill>
          <a:blip r:embed="rId1"/>
          <a:stretch/>
        </p:blipFill>
        <p:spPr>
          <a:xfrm>
            <a:off x="990720" y="2292480"/>
            <a:ext cx="737388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E86-D72F-4361-97C9-11389946FB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Serv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hierarchy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6680" y="3156120"/>
            <a:ext cx="331920" cy="701640"/>
          </a:xfrm>
          <a:custGeom>
            <a:avLst/>
            <a:gdLst/>
            <a:ahLst/>
            <a:rect l="l" t="t" r="r" b="b"/>
            <a:pathLst>
              <a:path w="209" h="442">
                <a:moveTo>
                  <a:pt x="209" y="442"/>
                </a:moveTo>
                <a:lnTo>
                  <a:pt x="209" y="0"/>
                </a:lnTo>
                <a:lnTo>
                  <a:pt x="0" y="0"/>
                </a:lnTo>
                <a:lnTo>
                  <a:pt x="0" y="442"/>
                </a:lnTo>
                <a:lnTo>
                  <a:pt x="209" y="442"/>
                </a:lnTo>
                <a:lnTo>
                  <a:pt x="209" y="442"/>
                </a:ln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5840" y="3156120"/>
            <a:ext cx="753840" cy="701640"/>
          </a:xfrm>
          <a:custGeom>
            <a:avLst/>
            <a:gdLst/>
            <a:ahLst/>
            <a:rect l="l" t="t" r="r" b="b"/>
            <a:pathLst>
              <a:path w="475" h="442">
                <a:moveTo>
                  <a:pt x="475" y="442"/>
                </a:moveTo>
                <a:lnTo>
                  <a:pt x="475" y="0"/>
                </a:lnTo>
                <a:lnTo>
                  <a:pt x="0" y="0"/>
                </a:lnTo>
                <a:lnTo>
                  <a:pt x="0" y="442"/>
                </a:lnTo>
                <a:lnTo>
                  <a:pt x="475" y="442"/>
                </a:lnTo>
                <a:lnTo>
                  <a:pt x="475" y="44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6840" y="2598840"/>
            <a:ext cx="951120" cy="1258920"/>
          </a:xfrm>
          <a:custGeom>
            <a:avLst/>
            <a:gdLst/>
            <a:ahLst/>
            <a:rect l="l" t="t" r="r" b="b"/>
            <a:pathLst>
              <a:path w="599" h="793">
                <a:moveTo>
                  <a:pt x="0" y="0"/>
                </a:moveTo>
                <a:lnTo>
                  <a:pt x="3" y="321"/>
                </a:lnTo>
                <a:lnTo>
                  <a:pt x="272" y="321"/>
                </a:lnTo>
                <a:lnTo>
                  <a:pt x="272" y="793"/>
                </a:lnTo>
                <a:lnTo>
                  <a:pt x="599" y="793"/>
                </a:lnTo>
                <a:lnTo>
                  <a:pt x="599" y="351"/>
                </a:lnTo>
                <a:lnTo>
                  <a:pt x="434" y="351"/>
                </a:lnTo>
                <a:lnTo>
                  <a:pt x="434" y="2"/>
                </a:lnTo>
                <a:lnTo>
                  <a:pt x="3" y="2"/>
                </a:lnTo>
                <a:lnTo>
                  <a:pt x="3" y="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2598840"/>
            <a:ext cx="409680" cy="566640"/>
          </a:xfrm>
          <a:custGeom>
            <a:avLst/>
            <a:gdLst/>
            <a:ahLst/>
            <a:rect l="l" t="t" r="r" b="b"/>
            <a:pathLst>
              <a:path w="258" h="357">
                <a:moveTo>
                  <a:pt x="258" y="354"/>
                </a:moveTo>
                <a:lnTo>
                  <a:pt x="258" y="0"/>
                </a:lnTo>
                <a:lnTo>
                  <a:pt x="0" y="0"/>
                </a:lnTo>
                <a:lnTo>
                  <a:pt x="0" y="357"/>
                </a:lnTo>
                <a:lnTo>
                  <a:pt x="258" y="357"/>
                </a:lnTo>
                <a:lnTo>
                  <a:pt x="258" y="357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5720" y="1757520"/>
            <a:ext cx="5378760" cy="636480"/>
          </a:xfrm>
          <a:custGeom>
            <a:avLst/>
            <a:gdLst/>
            <a:ahLst/>
            <a:rect l="l" t="t" r="r" b="b"/>
            <a:pathLst>
              <a:path w="3388" h="401">
                <a:moveTo>
                  <a:pt x="3388" y="401"/>
                </a:moveTo>
                <a:lnTo>
                  <a:pt x="3388" y="0"/>
                </a:lnTo>
                <a:lnTo>
                  <a:pt x="0" y="0"/>
                </a:lnTo>
                <a:lnTo>
                  <a:pt x="0" y="401"/>
                </a:lnTo>
                <a:lnTo>
                  <a:pt x="3388" y="401"/>
                </a:lnTo>
                <a:lnTo>
                  <a:pt x="3388" y="401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120" y="1817640"/>
            <a:ext cx="906480" cy="314280"/>
          </a:xfrm>
          <a:custGeom>
            <a:avLst/>
            <a:gdLst/>
            <a:ahLst/>
            <a:rect l="l" t="t" r="r" b="b"/>
            <a:pathLst>
              <a:path w="571" h="198">
                <a:moveTo>
                  <a:pt x="0" y="198"/>
                </a:moveTo>
                <a:lnTo>
                  <a:pt x="2" y="0"/>
                </a:lnTo>
                <a:lnTo>
                  <a:pt x="571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3240" y="2149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1160" y="214956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22280" y="2629080"/>
            <a:ext cx="61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cet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8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312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070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9120" y="31478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31720" y="3147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512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7560" y="36669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x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85960" y="314784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82280" y="262908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9268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708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9920" y="262908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0840" y="26290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s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43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3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72680" y="26290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62908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p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564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004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320" y="262908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0480" y="2629080"/>
            <a:ext cx="30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4720" y="260676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0560" y="26067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9200" y="262908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8320" y="2149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9160" y="214956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46600" y="214956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5120" y="2149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80080" y="21495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1040" y="2149560"/>
            <a:ext cx="8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02640" y="234936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2349360"/>
            <a:ext cx="25416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80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0480" y="234936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3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5320" y="2863800"/>
            <a:ext cx="253800" cy="244440"/>
          </a:xfrm>
          <a:custGeom>
            <a:avLst/>
            <a:gdLst/>
            <a:ahLst/>
            <a:rect l="l" t="t" r="r" b="b"/>
            <a:pathLst>
              <a:path w="160" h="154">
                <a:moveTo>
                  <a:pt x="77" y="0"/>
                </a:moveTo>
                <a:lnTo>
                  <a:pt x="0" y="154"/>
                </a:lnTo>
                <a:lnTo>
                  <a:pt x="160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696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80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66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79" y="0"/>
                </a:moveTo>
                <a:lnTo>
                  <a:pt x="0" y="157"/>
                </a:lnTo>
                <a:lnTo>
                  <a:pt x="159" y="157"/>
                </a:lnTo>
                <a:lnTo>
                  <a:pt x="79" y="3"/>
                </a:lnTo>
                <a:lnTo>
                  <a:pt x="79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33840" y="3360600"/>
            <a:ext cx="252360" cy="249480"/>
          </a:xfrm>
          <a:custGeom>
            <a:avLst/>
            <a:gdLst/>
            <a:ahLst/>
            <a:rect l="l" t="t" r="r" b="b"/>
            <a:pathLst>
              <a:path w="159" h="157">
                <a:moveTo>
                  <a:pt x="80" y="0"/>
                </a:moveTo>
                <a:lnTo>
                  <a:pt x="0" y="157"/>
                </a:lnTo>
                <a:lnTo>
                  <a:pt x="159" y="157"/>
                </a:lnTo>
                <a:lnTo>
                  <a:pt x="80" y="3"/>
                </a:lnTo>
                <a:lnTo>
                  <a:pt x="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021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2863800"/>
            <a:ext cx="25272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9" y="0"/>
                </a:moveTo>
                <a:lnTo>
                  <a:pt x="0" y="154"/>
                </a:lnTo>
                <a:lnTo>
                  <a:pt x="159" y="154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2260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1200" y="2863800"/>
            <a:ext cx="257400" cy="244440"/>
          </a:xfrm>
          <a:custGeom>
            <a:avLst/>
            <a:gdLst/>
            <a:ahLst/>
            <a:rect l="l" t="t" r="r" b="b"/>
            <a:pathLst>
              <a:path w="162" h="154">
                <a:moveTo>
                  <a:pt x="80" y="0"/>
                </a:moveTo>
                <a:lnTo>
                  <a:pt x="0" y="154"/>
                </a:lnTo>
                <a:lnTo>
                  <a:pt x="162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28638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80" y="0"/>
                </a:moveTo>
                <a:lnTo>
                  <a:pt x="0" y="154"/>
                </a:lnTo>
                <a:lnTo>
                  <a:pt x="159" y="15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4640" y="2833560"/>
            <a:ext cx="1006560" cy="314280"/>
          </a:xfrm>
          <a:custGeom>
            <a:avLst/>
            <a:gdLst/>
            <a:ahLst/>
            <a:rect l="l" t="t" r="r" b="b"/>
            <a:pathLst>
              <a:path w="634" h="198">
                <a:moveTo>
                  <a:pt x="0" y="198"/>
                </a:moveTo>
                <a:lnTo>
                  <a:pt x="351" y="0"/>
                </a:lnTo>
                <a:lnTo>
                  <a:pt x="634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1920" y="2833560"/>
            <a:ext cx="144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6040" y="2341440"/>
            <a:ext cx="596880" cy="292320"/>
          </a:xfrm>
          <a:custGeom>
            <a:avLst/>
            <a:gdLst/>
            <a:ahLst/>
            <a:rect l="l" t="t" r="r" b="b"/>
            <a:pathLst>
              <a:path w="376" h="184">
                <a:moveTo>
                  <a:pt x="0" y="184"/>
                </a:moveTo>
                <a:lnTo>
                  <a:pt x="192" y="0"/>
                </a:lnTo>
                <a:lnTo>
                  <a:pt x="376" y="18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49680" y="2354400"/>
            <a:ext cx="547560" cy="279360"/>
          </a:xfrm>
          <a:custGeom>
            <a:avLst/>
            <a:gdLst/>
            <a:ahLst/>
            <a:rect l="l" t="t" r="r" b="b"/>
            <a:pathLst>
              <a:path w="345" h="176">
                <a:moveTo>
                  <a:pt x="0" y="176"/>
                </a:moveTo>
                <a:lnTo>
                  <a:pt x="148" y="0"/>
                </a:lnTo>
                <a:lnTo>
                  <a:pt x="345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116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7640" y="2354400"/>
            <a:ext cx="32688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51560" y="2354400"/>
            <a:ext cx="327240" cy="279360"/>
          </a:xfrm>
          <a:custGeom>
            <a:avLst/>
            <a:gdLst/>
            <a:ahLst/>
            <a:rect l="l" t="t" r="r" b="b"/>
            <a:pathLst>
              <a:path w="206" h="176">
                <a:moveTo>
                  <a:pt x="0" y="176"/>
                </a:moveTo>
                <a:lnTo>
                  <a:pt x="104" y="0"/>
                </a:lnTo>
                <a:lnTo>
                  <a:pt x="206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1817640"/>
            <a:ext cx="5103720" cy="314280"/>
          </a:xfrm>
          <a:custGeom>
            <a:avLst/>
            <a:gdLst/>
            <a:ahLst/>
            <a:rect l="l" t="t" r="r" b="b"/>
            <a:pathLst>
              <a:path w="3215" h="198">
                <a:moveTo>
                  <a:pt x="0" y="195"/>
                </a:moveTo>
                <a:lnTo>
                  <a:pt x="1279" y="0"/>
                </a:lnTo>
                <a:lnTo>
                  <a:pt x="3215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9960" y="1817640"/>
            <a:ext cx="3618000" cy="314280"/>
          </a:xfrm>
          <a:custGeom>
            <a:avLst/>
            <a:gdLst/>
            <a:ahLst/>
            <a:rect l="l" t="t" r="r" b="b"/>
            <a:pathLst>
              <a:path w="2279" h="198">
                <a:moveTo>
                  <a:pt x="2279" y="176"/>
                </a:moveTo>
                <a:lnTo>
                  <a:pt x="593" y="0"/>
                </a:lnTo>
                <a:lnTo>
                  <a:pt x="0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1360" y="1817640"/>
            <a:ext cx="2324160" cy="314280"/>
          </a:xfrm>
          <a:custGeom>
            <a:avLst/>
            <a:gdLst/>
            <a:ahLst/>
            <a:rect l="l" t="t" r="r" b="b"/>
            <a:pathLst>
              <a:path w="1464" h="198">
                <a:moveTo>
                  <a:pt x="1464" y="179"/>
                </a:moveTo>
                <a:lnTo>
                  <a:pt x="0" y="0"/>
                </a:lnTo>
                <a:lnTo>
                  <a:pt x="1112" y="19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65360" y="3335400"/>
            <a:ext cx="179280" cy="30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3335400"/>
            <a:ext cx="177840" cy="31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1520" y="476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48320" y="3657600"/>
            <a:ext cx="3581280" cy="2286000"/>
            <a:chOff x="4648320" y="3657600"/>
            <a:chExt cx="3581280" cy="2286000"/>
          </a:xfrm>
        </p:grpSpPr>
        <p:sp>
          <p:nvSpPr>
            <p:cNvPr id="159" name=""/>
            <p:cNvSpPr/>
            <p:nvPr/>
          </p:nvSpPr>
          <p:spPr>
            <a:xfrm>
              <a:off x="6648480" y="36939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38448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3840" y="47052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11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3120" y="47052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03320" y="48546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81040" y="556416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176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1320" y="5564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69680" y="571500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657600"/>
              <a:ext cx="1339920" cy="380880"/>
            </a:xfrm>
            <a:custGeom>
              <a:avLst/>
              <a:gdLst/>
              <a:ahLst/>
              <a:rect l="l" t="t" r="r" b="b"/>
              <a:pathLst>
                <a:path w="1298" h="377">
                  <a:moveTo>
                    <a:pt x="1294" y="377"/>
                  </a:moveTo>
                  <a:lnTo>
                    <a:pt x="1298" y="0"/>
                  </a:lnTo>
                  <a:lnTo>
                    <a:pt x="0" y="0"/>
                  </a:lnTo>
                  <a:lnTo>
                    <a:pt x="0" y="377"/>
                  </a:lnTo>
                  <a:lnTo>
                    <a:pt x="1298" y="377"/>
                  </a:lnTo>
                  <a:lnTo>
                    <a:pt x="1298" y="3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8000" y="4689360"/>
              <a:ext cx="1059120" cy="353880"/>
            </a:xfrm>
            <a:custGeom>
              <a:avLst/>
              <a:gdLst/>
              <a:ahLst/>
              <a:rect l="l" t="t" r="r" b="b"/>
              <a:pathLst>
                <a:path w="921" h="369">
                  <a:moveTo>
                    <a:pt x="917" y="365"/>
                  </a:moveTo>
                  <a:lnTo>
                    <a:pt x="921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21" y="369"/>
                  </a:lnTo>
                  <a:lnTo>
                    <a:pt x="921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5533920"/>
              <a:ext cx="95544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533920"/>
              <a:ext cx="936720" cy="409680"/>
            </a:xfrm>
            <a:custGeom>
              <a:avLst/>
              <a:gdLst/>
              <a:ahLst/>
              <a:rect l="l" t="t" r="r" b="b"/>
              <a:pathLst>
                <a:path w="794" h="369">
                  <a:moveTo>
                    <a:pt x="794" y="365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794" y="369"/>
                  </a:lnTo>
                  <a:lnTo>
                    <a:pt x="794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83440" y="4689360"/>
              <a:ext cx="1046160" cy="352440"/>
            </a:xfrm>
            <a:custGeom>
              <a:avLst/>
              <a:gdLst/>
              <a:ahLst/>
              <a:rect l="l" t="t" r="r" b="b"/>
              <a:pathLst>
                <a:path w="917" h="369">
                  <a:moveTo>
                    <a:pt x="917" y="365"/>
                  </a:moveTo>
                  <a:lnTo>
                    <a:pt x="917" y="0"/>
                  </a:lnTo>
                  <a:lnTo>
                    <a:pt x="0" y="0"/>
                  </a:lnTo>
                  <a:lnTo>
                    <a:pt x="0" y="369"/>
                  </a:lnTo>
                  <a:lnTo>
                    <a:pt x="917" y="369"/>
                  </a:lnTo>
                  <a:lnTo>
                    <a:pt x="917" y="3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229360" y="5037120"/>
              <a:ext cx="47304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76800" y="5449680"/>
              <a:ext cx="81000" cy="84240"/>
            </a:xfrm>
            <a:custGeom>
              <a:avLst/>
              <a:gdLst/>
              <a:ahLst/>
              <a:rect l="l" t="t" r="r" b="b"/>
              <a:pathLst>
                <a:path w="75" h="87">
                  <a:moveTo>
                    <a:pt x="36" y="0"/>
                  </a:moveTo>
                  <a:lnTo>
                    <a:pt x="0" y="87"/>
                  </a:lnTo>
                  <a:lnTo>
                    <a:pt x="75" y="3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8720" y="5041800"/>
              <a:ext cx="41760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23200" y="5449680"/>
              <a:ext cx="82440" cy="795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0" y="27"/>
                  </a:moveTo>
                  <a:lnTo>
                    <a:pt x="75" y="83"/>
                  </a:lnTo>
                  <a:lnTo>
                    <a:pt x="39" y="0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970600" y="4038480"/>
              <a:ext cx="60336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15160" y="4605120"/>
              <a:ext cx="85680" cy="8100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40" y="0"/>
                  </a:moveTo>
                  <a:lnTo>
                    <a:pt x="0" y="84"/>
                  </a:lnTo>
                  <a:lnTo>
                    <a:pt x="79" y="3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5200" y="4033800"/>
              <a:ext cx="59544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5720" y="4610160"/>
              <a:ext cx="87480" cy="79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32"/>
                  </a:moveTo>
                  <a:lnTo>
                    <a:pt x="80" y="84"/>
                  </a:lnTo>
                  <a:lnTo>
                    <a:pt x="40" y="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96000" y="46879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89520" y="55512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945040" y="56275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886200"/>
            <a:ext cx="4495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zone implemented by tw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084-5614-4C70-ABB0-DF1AF0C86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ource Record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ame server maintain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Class, T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/Value: not necessarily host names to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: Value gives domain name for host running name server that knows how to resolve names within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AME: Value gives canonical name for particle host; used to define ali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X: Value gives domain name for host running mail server that accepts messages for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allow other entities to defin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: how long the resource record is 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FC8-C0E6-49CA-97EA-B2135F6627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ot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eton.edu, cit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t.princeton.edu, 128.196.128.23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sco.com, thumper.cisco.com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umper.ciscoe.com, 128.96.32.2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4C7-CABC-42FD-AEFD-CD7390E16A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Ryan Peterson</cp:lastModifiedBy>
  <dcterms:modified xsi:type="dcterms:W3CDTF">2000-02-05T19:26:25Z</dcterms:modified>
  <cp:revision>13</cp:revision>
  <dc:subject/>
  <dc:title>Naming</dc:title>
</cp:coreProperties>
</file>