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88E-7FBB-44F7-AD26-CB905B63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F8E-484B-451F-A9F4-CF09053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5A4-2FCD-41B8-949C-78AD96AF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093-CA19-488E-B4A1-83A331DB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515-2ED4-49C4-AC94-2C562724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85B-F6E6-4E0E-BA86-7421691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147-9F1D-4DCA-BEEA-5CBBD03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207-ACD2-42B0-9F78-73941B9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25D-CD66-4B3B-90E5-3ACDA1CA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FB7-8231-415F-BC61-7C05F91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030-17B9-49D5-A6C0-9190B96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FF1-12CE-447B-8D21-65D48A4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F33-625F-4BA0-B948-F22CC6E65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ements of a Protocol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ub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377-707F-4CF6-8C2E-8B081B89E9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875040"/>
            <a:ext cx="79200" cy="127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5800" y="3740040"/>
            <a:ext cx="6480" cy="209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22680" y="4551480"/>
            <a:ext cx="79200" cy="12672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55800" y="4386240"/>
            <a:ext cx="6480" cy="208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1200" y="4259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716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51080" y="4651200"/>
            <a:ext cx="126720" cy="101880"/>
          </a:xfrm>
          <a:custGeom>
            <a:avLst/>
            <a:gdLst/>
            <a:ahLst/>
            <a:rect l="l" t="t" r="r" b="b"/>
            <a:pathLst>
              <a:path w="99" h="90">
                <a:moveTo>
                  <a:pt x="0" y="43"/>
                </a:moveTo>
                <a:lnTo>
                  <a:pt x="99" y="90"/>
                </a:lnTo>
                <a:lnTo>
                  <a:pt x="37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240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16320" y="4651200"/>
            <a:ext cx="127080" cy="101880"/>
          </a:xfrm>
          <a:custGeom>
            <a:avLst/>
            <a:gdLst/>
            <a:ahLst/>
            <a:rect l="l" t="t" r="r" b="b"/>
            <a:pathLst>
              <a:path w="100" h="90">
                <a:moveTo>
                  <a:pt x="0" y="43"/>
                </a:moveTo>
                <a:lnTo>
                  <a:pt x="100" y="90"/>
                </a:lnTo>
                <a:lnTo>
                  <a:pt x="38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68320" y="2895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3689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3017880"/>
            <a:ext cx="266760" cy="1969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197080" y="3178080"/>
            <a:ext cx="979560" cy="378000"/>
            <a:chOff x="2197080" y="3178080"/>
            <a:chExt cx="979560" cy="378000"/>
          </a:xfrm>
        </p:grpSpPr>
        <p:sp>
          <p:nvSpPr>
            <p:cNvPr id="238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7080" y="3178080"/>
              <a:ext cx="133200" cy="10008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0" y="43"/>
                  </a:moveTo>
                  <a:lnTo>
                    <a:pt x="105" y="90"/>
                  </a:lnTo>
                  <a:lnTo>
                    <a:pt x="43" y="0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0400" y="33116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74640" y="4762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51120" y="47750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92080" y="4762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0120" y="40291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8960" y="4029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3880" y="4029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5600" y="4029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1440" y="40291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14400" y="40291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07240" y="394344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35680" y="379404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07240" y="4560840"/>
            <a:ext cx="63360" cy="11448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35680" y="4410000"/>
            <a:ext cx="18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03880" y="4570560"/>
            <a:ext cx="219240" cy="183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83160" y="4719600"/>
            <a:ext cx="109800" cy="93600"/>
          </a:xfrm>
          <a:custGeom>
            <a:avLst/>
            <a:gdLst/>
            <a:ahLst/>
            <a:rect l="l" t="t" r="r" b="b"/>
            <a:pathLst>
              <a:path w="69" h="59">
                <a:moveTo>
                  <a:pt x="0" y="28"/>
                </a:moveTo>
                <a:lnTo>
                  <a:pt x="69" y="59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0920" y="3102120"/>
            <a:ext cx="21456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40560" y="3251160"/>
            <a:ext cx="104760" cy="98640"/>
          </a:xfrm>
          <a:custGeom>
            <a:avLst/>
            <a:gdLst/>
            <a:ahLst/>
            <a:rect l="l" t="t" r="r" b="b"/>
            <a:pathLst>
              <a:path w="66" h="62">
                <a:moveTo>
                  <a:pt x="0" y="28"/>
                </a:moveTo>
                <a:lnTo>
                  <a:pt x="66" y="62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50240" y="3102120"/>
            <a:ext cx="21888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29520" y="32511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0" y="28"/>
                </a:moveTo>
                <a:lnTo>
                  <a:pt x="69" y="62"/>
                </a:lnTo>
                <a:lnTo>
                  <a:pt x="28" y="0"/>
                </a:lnTo>
                <a:lnTo>
                  <a:pt x="3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14720" y="445608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6920" y="335268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91520" y="3352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1400" y="4102200"/>
            <a:ext cx="283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Reassemble(new, m1, 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1676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553080" y="4724280"/>
            <a:ext cx="833400" cy="266760"/>
            <a:chOff x="6553080" y="4724280"/>
            <a:chExt cx="833400" cy="266760"/>
          </a:xfrm>
        </p:grpSpPr>
        <p:sp>
          <p:nvSpPr>
            <p:cNvPr id="279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00600" y="47462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848-1E31-4680-A22B-B8524A6E91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ent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Timeouts &amp; Book-keeping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 evSchedule(EvFunc fun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argu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CancelReturn evCancel(Event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6C1-7B65-48EA-85F1-039B009FFD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p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 mapCreate(int number,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ing mapBind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mapResolve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void *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6AB-1E0A-4128-99B6-BFB41343EB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e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Open(Protl self, Protl hlp, Part *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*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key, sizeof(key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High level protocol must specify bo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local and remote ASP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ocalport = *((AspPort *) partPop(p[0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remoteport = *((AspPort *) partPop(p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ssume failure until proven otherwis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XK_FAIL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48A-2FC1-4E60-AB55-1478308055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Open session on low-level protoco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 = xOpen(self, xGetDown(self, 0),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l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heck for session in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asp_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not in map; initialize i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asp_init_sessn(self, hlp, &amp;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asp_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 successful ope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rror has occurr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lose(ll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2EC-21DE-40CD-8F25-9A5A1E45E2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State *s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reate a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ate = (SessnState *) s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 = sstate-&gt;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.ulen = msgLen(msg) + HL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ttach header and se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Addr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Store(&amp;hdr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ush(xGetDown(s, 0)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351-F54D-4E69-98B4-A9B1840BD7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Demux(Protl self, Sessn ll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  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       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     act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   pass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 *p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able       *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xtract the header from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Strip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Load(&amp;h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nstruct a demux key from the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activeid, sizeof(activei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ocalport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remoteport = h.s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A1C-8F89-4A3B-BC58-F24D3A152D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e if demux key is in the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act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idn't find an active session,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 check pass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passivemap, &amp;pass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e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rop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rt was enabled, so create a ne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and inform hl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= asp_init_sessn(self, e-&gt;hlp, &amp;active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penDone(e-&gt;hlp, s, sel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p the message to th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op(s, lls, msg, &amp;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B32-9D1B-4BE7-8327-F61545C06A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Pop(Sessn s, Sessn ds, Msg *msg, void *in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*h = (AspHdr *) in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runcate message to length shown in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h-&gt;ulen - HLEN) &lt; msgLen(ms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Truncate(msg, (int) h-&gt;u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ass message up the protocol stac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Demux(xGetUp(s), 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482-1989-407C-A5CB-C33DFDD67B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SOCK_STREAM, SOCK_D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6A5-D1F3-4026-9FDE-FB258CDAAC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6D9-FE95-4711-9CF8-13754A89B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1A9-6396-487F-AD0E-F75B03AA09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360" y="236232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eth protocols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arp protocols=e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p protocols=eth,ar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cm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ud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c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1828800"/>
            <a:ext cx="2706120" cy="3429000"/>
            <a:chOff x="1219320" y="1828800"/>
            <a:chExt cx="2706120" cy="3429000"/>
          </a:xfrm>
        </p:grpSpPr>
        <p:sp>
          <p:nvSpPr>
            <p:cNvPr id="52" name=""/>
            <p:cNvSpPr/>
            <p:nvPr/>
          </p:nvSpPr>
          <p:spPr>
            <a:xfrm>
              <a:off x="121932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004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76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33526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040" y="26668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0040" y="396216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10040" y="48006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1952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916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24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9160" y="31240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9160" y="38098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1600" y="1866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2680" y="1866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87080" y="1866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8280" y="2705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148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960" y="400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4440" y="49021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PL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73D-919C-4F29-A8CE-9B78A05DAD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n xOpen(Protl hlp, 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Enable(Protl hlp,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Done(Protl h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l llp,Sessn s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Demux(Protl hlp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3B9-4D22-4C1A-90B7-1224FDCD67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ssion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nd-point of 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messages and maintain channe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operations for sending and 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ush(Sessn lls,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op(Sessn hls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,void *h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57D-023A-4D36-87E9-73B601734B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971800" y="1752480"/>
            <a:ext cx="3276360" cy="3962520"/>
            <a:chOff x="2971800" y="1752480"/>
            <a:chExt cx="3276360" cy="3962520"/>
          </a:xfrm>
        </p:grpSpPr>
        <p:grpSp>
          <p:nvGrpSpPr>
            <p:cNvPr id="79" name=""/>
            <p:cNvGrpSpPr/>
            <p:nvPr/>
          </p:nvGrpSpPr>
          <p:grpSpPr>
            <a:xfrm>
              <a:off x="3222000" y="1752480"/>
              <a:ext cx="2721240" cy="3823920"/>
              <a:chOff x="3222000" y="1752480"/>
              <a:chExt cx="2721240" cy="3823920"/>
            </a:xfrm>
          </p:grpSpPr>
          <p:sp>
            <p:nvSpPr>
              <p:cNvPr id="80" name=""/>
              <p:cNvSpPr/>
              <p:nvPr/>
            </p:nvSpPr>
            <p:spPr>
              <a:xfrm>
                <a:off x="3284640" y="2676960"/>
                <a:ext cx="108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260160" y="2903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84640" y="1752480"/>
                <a:ext cx="108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60160" y="19746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22360" y="2365200"/>
                <a:ext cx="429480" cy="43308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6"/>
                    </a:lnTo>
                    <a:lnTo>
                      <a:pt x="196" y="291"/>
                    </a:lnTo>
                    <a:lnTo>
                      <a:pt x="216" y="282"/>
                    </a:lnTo>
                    <a:lnTo>
                      <a:pt x="236" y="268"/>
                    </a:lnTo>
                    <a:lnTo>
                      <a:pt x="253" y="253"/>
                    </a:lnTo>
                    <a:lnTo>
                      <a:pt x="268" y="236"/>
                    </a:lnTo>
                    <a:lnTo>
                      <a:pt x="279" y="216"/>
                    </a:lnTo>
                    <a:lnTo>
                      <a:pt x="288" y="196"/>
                    </a:lnTo>
                    <a:lnTo>
                      <a:pt x="294" y="173"/>
                    </a:lnTo>
                    <a:lnTo>
                      <a:pt x="296" y="150"/>
                    </a:lnTo>
                    <a:lnTo>
                      <a:pt x="294" y="124"/>
                    </a:lnTo>
                    <a:lnTo>
                      <a:pt x="288" y="101"/>
                    </a:lnTo>
                    <a:lnTo>
                      <a:pt x="279" y="81"/>
                    </a:lnTo>
                    <a:lnTo>
                      <a:pt x="268" y="61"/>
                    </a:lnTo>
                    <a:lnTo>
                      <a:pt x="253" y="43"/>
                    </a:lnTo>
                    <a:lnTo>
                      <a:pt x="236" y="29"/>
                    </a:lnTo>
                    <a:lnTo>
                      <a:pt x="216" y="17"/>
                    </a:lnTo>
                    <a:lnTo>
                      <a:pt x="196" y="9"/>
                    </a:lnTo>
                    <a:lnTo>
                      <a:pt x="173" y="3"/>
                    </a:lnTo>
                    <a:lnTo>
                      <a:pt x="150" y="0"/>
                    </a:lnTo>
                    <a:lnTo>
                      <a:pt x="124" y="3"/>
                    </a:lnTo>
                    <a:lnTo>
                      <a:pt x="101" y="9"/>
                    </a:lnTo>
                    <a:lnTo>
                      <a:pt x="81" y="17"/>
                    </a:lnTo>
                    <a:lnTo>
                      <a:pt x="61" y="29"/>
                    </a:lnTo>
                    <a:lnTo>
                      <a:pt x="43" y="43"/>
                    </a:lnTo>
                    <a:lnTo>
                      <a:pt x="29" y="61"/>
                    </a:lnTo>
                    <a:lnTo>
                      <a:pt x="18" y="81"/>
                    </a:lnTo>
                    <a:lnTo>
                      <a:pt x="9" y="101"/>
                    </a:lnTo>
                    <a:lnTo>
                      <a:pt x="3" y="124"/>
                    </a:lnTo>
                    <a:lnTo>
                      <a:pt x="0" y="150"/>
                    </a:lnTo>
                    <a:lnTo>
                      <a:pt x="3" y="173"/>
                    </a:lnTo>
                    <a:lnTo>
                      <a:pt x="9" y="196"/>
                    </a:lnTo>
                    <a:lnTo>
                      <a:pt x="18" y="216"/>
                    </a:lnTo>
                    <a:lnTo>
                      <a:pt x="29" y="236"/>
                    </a:lnTo>
                    <a:lnTo>
                      <a:pt x="43" y="253"/>
                    </a:lnTo>
                    <a:lnTo>
                      <a:pt x="61" y="268"/>
                    </a:lnTo>
                    <a:lnTo>
                      <a:pt x="81" y="282"/>
                    </a:lnTo>
                    <a:lnTo>
                      <a:pt x="101" y="291"/>
                    </a:lnTo>
                    <a:lnTo>
                      <a:pt x="124" y="296"/>
                    </a:lnTo>
                    <a:lnTo>
                      <a:pt x="150" y="296"/>
                    </a:lnTo>
                    <a:lnTo>
                      <a:pt x="150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26680" y="2028600"/>
                <a:ext cx="124560" cy="324720"/>
              </a:xfrm>
              <a:custGeom>
                <a:avLst/>
                <a:gdLst/>
                <a:ahLst/>
                <a:rect l="l" t="t" r="r" b="b"/>
                <a:pathLst>
                  <a:path w="86" h="222">
                    <a:moveTo>
                      <a:pt x="84" y="3"/>
                    </a:moveTo>
                    <a:lnTo>
                      <a:pt x="86" y="222"/>
                    </a:lnTo>
                    <a:lnTo>
                      <a:pt x="0" y="22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226680" y="2248200"/>
                <a:ext cx="11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3226680" y="2298240"/>
                <a:ext cx="11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226680" y="2196720"/>
                <a:ext cx="117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22600" y="2815920"/>
                <a:ext cx="126360" cy="32292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0" y="215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26920" y="291672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26920" y="286524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26920" y="296640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284640" y="3589560"/>
                <a:ext cx="108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60160" y="3812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22360" y="3286800"/>
                <a:ext cx="429480" cy="43308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6"/>
                    </a:lnTo>
                    <a:lnTo>
                      <a:pt x="196" y="290"/>
                    </a:lnTo>
                    <a:lnTo>
                      <a:pt x="216" y="281"/>
                    </a:lnTo>
                    <a:lnTo>
                      <a:pt x="236" y="267"/>
                    </a:lnTo>
                    <a:lnTo>
                      <a:pt x="253" y="253"/>
                    </a:lnTo>
                    <a:lnTo>
                      <a:pt x="268" y="235"/>
                    </a:lnTo>
                    <a:lnTo>
                      <a:pt x="279" y="215"/>
                    </a:lnTo>
                    <a:lnTo>
                      <a:pt x="288" y="195"/>
                    </a:lnTo>
                    <a:lnTo>
                      <a:pt x="294" y="172"/>
                    </a:lnTo>
                    <a:lnTo>
                      <a:pt x="296" y="149"/>
                    </a:lnTo>
                    <a:lnTo>
                      <a:pt x="294" y="123"/>
                    </a:lnTo>
                    <a:lnTo>
                      <a:pt x="288" y="100"/>
                    </a:lnTo>
                    <a:lnTo>
                      <a:pt x="279" y="80"/>
                    </a:lnTo>
                    <a:lnTo>
                      <a:pt x="268" y="60"/>
                    </a:lnTo>
                    <a:lnTo>
                      <a:pt x="253" y="43"/>
                    </a:lnTo>
                    <a:lnTo>
                      <a:pt x="236" y="28"/>
                    </a:lnTo>
                    <a:lnTo>
                      <a:pt x="216" y="17"/>
                    </a:lnTo>
                    <a:lnTo>
                      <a:pt x="196" y="8"/>
                    </a:lnTo>
                    <a:lnTo>
                      <a:pt x="173" y="3"/>
                    </a:lnTo>
                    <a:lnTo>
                      <a:pt x="147" y="0"/>
                    </a:lnTo>
                    <a:lnTo>
                      <a:pt x="124" y="3"/>
                    </a:lnTo>
                    <a:lnTo>
                      <a:pt x="101" y="8"/>
                    </a:lnTo>
                    <a:lnTo>
                      <a:pt x="81" y="17"/>
                    </a:lnTo>
                    <a:lnTo>
                      <a:pt x="61" y="28"/>
                    </a:lnTo>
                    <a:lnTo>
                      <a:pt x="43" y="43"/>
                    </a:lnTo>
                    <a:lnTo>
                      <a:pt x="29" y="60"/>
                    </a:lnTo>
                    <a:lnTo>
                      <a:pt x="15" y="80"/>
                    </a:lnTo>
                    <a:lnTo>
                      <a:pt x="6" y="100"/>
                    </a:lnTo>
                    <a:lnTo>
                      <a:pt x="0" y="123"/>
                    </a:lnTo>
                    <a:lnTo>
                      <a:pt x="0" y="149"/>
                    </a:lnTo>
                    <a:lnTo>
                      <a:pt x="0" y="172"/>
                    </a:lnTo>
                    <a:lnTo>
                      <a:pt x="6" y="195"/>
                    </a:lnTo>
                    <a:lnTo>
                      <a:pt x="15" y="215"/>
                    </a:lnTo>
                    <a:lnTo>
                      <a:pt x="29" y="235"/>
                    </a:lnTo>
                    <a:lnTo>
                      <a:pt x="43" y="253"/>
                    </a:lnTo>
                    <a:lnTo>
                      <a:pt x="61" y="267"/>
                    </a:lnTo>
                    <a:lnTo>
                      <a:pt x="81" y="281"/>
                    </a:lnTo>
                    <a:lnTo>
                      <a:pt x="101" y="290"/>
                    </a:lnTo>
                    <a:lnTo>
                      <a:pt x="124" y="296"/>
                    </a:lnTo>
                    <a:lnTo>
                      <a:pt x="147" y="296"/>
                    </a:lnTo>
                    <a:lnTo>
                      <a:pt x="147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22360" y="2950200"/>
                <a:ext cx="126360" cy="32328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87" y="3"/>
                    </a:moveTo>
                    <a:lnTo>
                      <a:pt x="87" y="221"/>
                    </a:lnTo>
                    <a:lnTo>
                      <a:pt x="0" y="2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222000" y="31683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222000" y="32198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222000" y="311868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22600" y="3731760"/>
                <a:ext cx="126360" cy="324720"/>
              </a:xfrm>
              <a:custGeom>
                <a:avLst/>
                <a:gdLst/>
                <a:ahLst/>
                <a:rect l="l" t="t" r="r" b="b"/>
                <a:pathLst>
                  <a:path w="87" h="222">
                    <a:moveTo>
                      <a:pt x="0" y="216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2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26920" y="383256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26920" y="3782880"/>
                <a:ext cx="1220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26920" y="38840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22360" y="4206960"/>
                <a:ext cx="429480" cy="432720"/>
              </a:xfrm>
              <a:custGeom>
                <a:avLst/>
                <a:gdLst/>
                <a:ahLst/>
                <a:rect l="l" t="t" r="r" b="b"/>
                <a:pathLst>
                  <a:path w="296" h="296">
                    <a:moveTo>
                      <a:pt x="147" y="296"/>
                    </a:moveTo>
                    <a:lnTo>
                      <a:pt x="173" y="293"/>
                    </a:lnTo>
                    <a:lnTo>
                      <a:pt x="196" y="287"/>
                    </a:lnTo>
                    <a:lnTo>
                      <a:pt x="216" y="279"/>
                    </a:lnTo>
                    <a:lnTo>
                      <a:pt x="236" y="267"/>
                    </a:lnTo>
                    <a:lnTo>
                      <a:pt x="253" y="253"/>
                    </a:lnTo>
                    <a:lnTo>
                      <a:pt x="268" y="236"/>
                    </a:lnTo>
                    <a:lnTo>
                      <a:pt x="279" y="216"/>
                    </a:lnTo>
                    <a:lnTo>
                      <a:pt x="288" y="195"/>
                    </a:lnTo>
                    <a:lnTo>
                      <a:pt x="294" y="173"/>
                    </a:lnTo>
                    <a:lnTo>
                      <a:pt x="296" y="150"/>
                    </a:lnTo>
                    <a:lnTo>
                      <a:pt x="294" y="124"/>
                    </a:lnTo>
                    <a:lnTo>
                      <a:pt x="288" y="101"/>
                    </a:lnTo>
                    <a:lnTo>
                      <a:pt x="279" y="81"/>
                    </a:lnTo>
                    <a:lnTo>
                      <a:pt x="268" y="60"/>
                    </a:lnTo>
                    <a:lnTo>
                      <a:pt x="253" y="43"/>
                    </a:lnTo>
                    <a:lnTo>
                      <a:pt x="236" y="29"/>
                    </a:lnTo>
                    <a:lnTo>
                      <a:pt x="216" y="17"/>
                    </a:lnTo>
                    <a:lnTo>
                      <a:pt x="196" y="9"/>
                    </a:lnTo>
                    <a:lnTo>
                      <a:pt x="173" y="3"/>
                    </a:lnTo>
                    <a:lnTo>
                      <a:pt x="147" y="0"/>
                    </a:lnTo>
                    <a:lnTo>
                      <a:pt x="124" y="3"/>
                    </a:lnTo>
                    <a:lnTo>
                      <a:pt x="101" y="9"/>
                    </a:lnTo>
                    <a:lnTo>
                      <a:pt x="81" y="17"/>
                    </a:lnTo>
                    <a:lnTo>
                      <a:pt x="61" y="29"/>
                    </a:lnTo>
                    <a:lnTo>
                      <a:pt x="43" y="43"/>
                    </a:lnTo>
                    <a:lnTo>
                      <a:pt x="29" y="60"/>
                    </a:lnTo>
                    <a:lnTo>
                      <a:pt x="15" y="81"/>
                    </a:lnTo>
                    <a:lnTo>
                      <a:pt x="6" y="101"/>
                    </a:lnTo>
                    <a:lnTo>
                      <a:pt x="0" y="124"/>
                    </a:lnTo>
                    <a:lnTo>
                      <a:pt x="0" y="150"/>
                    </a:lnTo>
                    <a:lnTo>
                      <a:pt x="0" y="173"/>
                    </a:lnTo>
                    <a:lnTo>
                      <a:pt x="6" y="195"/>
                    </a:lnTo>
                    <a:lnTo>
                      <a:pt x="15" y="216"/>
                    </a:lnTo>
                    <a:lnTo>
                      <a:pt x="29" y="236"/>
                    </a:lnTo>
                    <a:lnTo>
                      <a:pt x="43" y="253"/>
                    </a:lnTo>
                    <a:lnTo>
                      <a:pt x="61" y="267"/>
                    </a:lnTo>
                    <a:lnTo>
                      <a:pt x="81" y="279"/>
                    </a:lnTo>
                    <a:lnTo>
                      <a:pt x="101" y="287"/>
                    </a:lnTo>
                    <a:lnTo>
                      <a:pt x="124" y="293"/>
                    </a:lnTo>
                    <a:lnTo>
                      <a:pt x="147" y="296"/>
                    </a:lnTo>
                    <a:lnTo>
                      <a:pt x="147" y="2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22360" y="3870720"/>
                <a:ext cx="126360" cy="323280"/>
              </a:xfrm>
              <a:custGeom>
                <a:avLst/>
                <a:gdLst/>
                <a:ahLst/>
                <a:rect l="l" t="t" r="r" b="b"/>
                <a:pathLst>
                  <a:path w="87" h="221">
                    <a:moveTo>
                      <a:pt x="87" y="3"/>
                    </a:moveTo>
                    <a:lnTo>
                      <a:pt x="87" y="221"/>
                    </a:lnTo>
                    <a:lnTo>
                      <a:pt x="0" y="2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222000" y="40899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3222000" y="413532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222000" y="4038840"/>
                <a:ext cx="122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22600" y="4653360"/>
                <a:ext cx="126360" cy="318600"/>
              </a:xfrm>
              <a:custGeom>
                <a:avLst/>
                <a:gdLst/>
                <a:ahLst/>
                <a:rect l="l" t="t" r="r" b="b"/>
                <a:pathLst>
                  <a:path w="87" h="218">
                    <a:moveTo>
                      <a:pt x="0" y="215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2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26920" y="475416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26920" y="4703040"/>
                <a:ext cx="122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26920" y="4803840"/>
                <a:ext cx="122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589560" y="3186000"/>
                <a:ext cx="108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4720" y="310572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6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50320" y="4126320"/>
                <a:ext cx="108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4720" y="401832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585240" y="5019120"/>
                <a:ext cx="396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60400" y="4942800"/>
                <a:ext cx="50400" cy="921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35" y="63"/>
                    </a:moveTo>
                    <a:lnTo>
                      <a:pt x="17" y="0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848920" y="2862360"/>
                <a:ext cx="108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34520" y="278640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29440" y="2369880"/>
                <a:ext cx="613800" cy="412200"/>
              </a:xfrm>
              <a:custGeom>
                <a:avLst/>
                <a:gdLst/>
                <a:ahLst/>
                <a:rect l="l" t="t" r="r" b="b"/>
                <a:pathLst>
                  <a:path w="423" h="282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82"/>
                    </a:lnTo>
                    <a:lnTo>
                      <a:pt x="423" y="282"/>
                    </a:lnTo>
                    <a:lnTo>
                      <a:pt x="423" y="28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25200" y="2782080"/>
                <a:ext cx="1440" cy="42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00360" y="319320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0" y="0"/>
                    </a:moveTo>
                    <a:lnTo>
                      <a:pt x="17" y="6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5200" y="1856160"/>
                <a:ext cx="1440" cy="43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00360" y="226836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848920" y="3775320"/>
                <a:ext cx="108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4520" y="3711240"/>
                <a:ext cx="50400" cy="921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35" y="63"/>
                    </a:moveTo>
                    <a:lnTo>
                      <a:pt x="17" y="0"/>
                    </a:lnTo>
                    <a:lnTo>
                      <a:pt x="0" y="63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848920" y="4688640"/>
                <a:ext cx="108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34520" y="461988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35" y="63"/>
                    </a:moveTo>
                    <a:lnTo>
                      <a:pt x="17" y="0"/>
                    </a:lnTo>
                    <a:lnTo>
                      <a:pt x="0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29440" y="3294360"/>
                <a:ext cx="613800" cy="407880"/>
              </a:xfrm>
              <a:custGeom>
                <a:avLst/>
                <a:gdLst/>
                <a:ahLst/>
                <a:rect l="l" t="t" r="r" b="b"/>
                <a:pathLst>
                  <a:path w="423" h="279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423" y="279"/>
                    </a:lnTo>
                    <a:lnTo>
                      <a:pt x="42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5200" y="3702600"/>
                <a:ext cx="144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00360" y="410616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0"/>
                    </a:moveTo>
                    <a:lnTo>
                      <a:pt x="17" y="6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29440" y="4206960"/>
                <a:ext cx="613800" cy="408240"/>
              </a:xfrm>
              <a:custGeom>
                <a:avLst/>
                <a:gdLst/>
                <a:ahLst/>
                <a:rect l="l" t="t" r="r" b="b"/>
                <a:pathLst>
                  <a:path w="423" h="279">
                    <a:moveTo>
                      <a:pt x="423" y="279"/>
                    </a:moveTo>
                    <a:lnTo>
                      <a:pt x="423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423" y="279"/>
                    </a:lnTo>
                    <a:lnTo>
                      <a:pt x="423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89040" y="53935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78920" y="5393520"/>
                <a:ext cx="18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971800" y="5334120"/>
              <a:ext cx="32763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716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3B7-91A9-44E3-8D53-BC0DBD9150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47200" y="2971800"/>
            <a:ext cx="1844640" cy="2437920"/>
            <a:chOff x="1447200" y="2971800"/>
            <a:chExt cx="1844640" cy="2437920"/>
          </a:xfrm>
        </p:grpSpPr>
        <p:sp>
          <p:nvSpPr>
            <p:cNvPr id="142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46680" y="34318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41587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co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23200" y="41587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2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7320" y="4158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03160" y="41587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1640" y="415872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0360" y="415872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6920" y="436428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Add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2960" y="43642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9440" y="4364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78040" y="436428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55800" y="4364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81880" y="436428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06800" y="39952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0680" y="420876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01960" y="5104080"/>
              <a:ext cx="90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5240" y="383076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160" y="40158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5240" y="4642200"/>
              <a:ext cx="720" cy="21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7160" y="48276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47200" y="4635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4320" y="475812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02160" y="4917600"/>
              <a:ext cx="101520" cy="1051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0" y="37"/>
                  </a:moveTo>
                  <a:lnTo>
                    <a:pt x="87" y="82"/>
                  </a:lnTo>
                  <a:lnTo>
                    <a:pt x="33" y="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2496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01720" y="308844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4520" y="3252960"/>
              <a:ext cx="106560" cy="1000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3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85680" y="2971800"/>
            <a:ext cx="2626920" cy="2133360"/>
            <a:chOff x="5485680" y="2971800"/>
            <a:chExt cx="2626920" cy="2133360"/>
          </a:xfrm>
        </p:grpSpPr>
        <p:sp>
          <p:nvSpPr>
            <p:cNvPr id="179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8120" y="336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53000" y="41079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2760" y="410796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38920" y="4107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Strip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0040" y="41079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92280" y="4107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15760" y="410796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1200" y="386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89320" y="40474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38520" y="483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68480" y="3719160"/>
              <a:ext cx="108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38600" y="38811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8480" y="44330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38600" y="45903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66720" y="4836600"/>
              <a:ext cx="15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04960" y="48366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280" y="483660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47120" y="48366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25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12240" y="48366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12760" y="4436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680" y="4539960"/>
              <a:ext cx="21492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7720" y="468360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3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568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3520" y="3073680"/>
              <a:ext cx="21600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0640" y="321804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57800" y="1981080"/>
            <a:ext cx="243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75D-F573-4B2B-ABDF-49B0AF6074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31:50Z</dcterms:created>
  <dc:creator>Ryan Peterson</dc:creator>
  <dc:description/>
  <dc:language>en-US</dc:language>
  <cp:lastModifiedBy>Larry Peterson</cp:lastModifiedBy>
  <dcterms:modified xsi:type="dcterms:W3CDTF">2000-01-31T16:26:36Z</dcterms:modified>
  <cp:revision>12</cp:revision>
  <dc:subject/>
  <dc:title>Elements of a Protocol Implementation</dc:title>
</cp:coreProperties>
</file>