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3D1-8A3F-4817-A9E6-6FA7027B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551-79F1-45E7-BFCD-1B8A46A1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66F-2DEA-47DE-834F-36305EFF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E9E-B8BB-4575-B657-870E927C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604-CF1F-459E-A197-B41FB565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2F2-E647-4BB9-A259-5894F2E5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0BF-58C6-4254-AD30-F57A3CB0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021-8264-4064-8912-EA442EFF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4F5-2E24-45A7-BF1F-10396FDC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8C9-F5FE-4F44-BAFF-D91F7CDE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91C-BF2B-4DDB-B9A5-30C78A93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C10-CED5-438B-ACB0-44F3A1D0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3D02-F161-4AD8-A428-0391CC1EC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95280" y="3352320"/>
            <a:ext cx="5181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ing Window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oint-to-Point 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4C2-5F7D-49B2-A398-91944746773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proache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frame is 125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SONET: Synchronous Optic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S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TS-1 = 51.84 M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E02F13" descr=""/>
          <p:cNvPicPr/>
          <p:nvPr/>
        </p:nvPicPr>
        <p:blipFill>
          <a:blip r:embed="rId1"/>
          <a:stretch/>
        </p:blipFill>
        <p:spPr>
          <a:xfrm>
            <a:off x="457200" y="3790800"/>
            <a:ext cx="4038480" cy="1810080"/>
          </a:xfrm>
          <a:prstGeom prst="rect">
            <a:avLst/>
          </a:prstGeom>
          <a:ln w="0">
            <a:noFill/>
          </a:ln>
        </p:spPr>
      </p:pic>
      <p:pic>
        <p:nvPicPr>
          <p:cNvPr id="199" name="PE02F14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886200" cy="15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219-BB5C-423C-A2C5-1D42CD094A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yclic Redundancy Chec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s of redundant data to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2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2,000 (1500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message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 degree 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MSG=10011010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degree of some divisor 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2AE1-1A38-4CA8-9017-3F17945E11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RC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at is evenly divisible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 lef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, i.e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remaind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 implies no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remainder zero i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as zero (no error)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xactly divisible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B4D-CDCA-466F-AF60-EC8781E2C4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lecting </a:t>
            </a: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ingle-bit errors, as long a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ms have non-zero coeffici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ouble-bit errors, as long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tains a factor with at least three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odd number of errors, as long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tains the fact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‘burst’ error (i.e., sequence of consecutive error bits) for which the length of the burst is less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burst errors of larger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 can also be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Table 2.6 on page 102 for comm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D13-1321-43C4-B92F-E868E8380C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Checksum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message as a sequence of 16-bit integers; sum using 16-bit ones-complement arithmetic; take ones-complement of th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2870280"/>
            <a:ext cx="586728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sh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ksum(u_short *buf, 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gister u_long sum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count-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*buf++;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um &amp; 0xFFFF0000)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arry occurred, so wrap around */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&amp;= 0xFFFF;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++;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~(sum &amp; 0xFFF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BA9-2E83-4294-B0CD-FA2E470EB6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cknowledgements &amp; Timeou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10" name="PE02F19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2228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155-C9C8-4A8F-99CF-A3A61A0C98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op-and-Wai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keeping the pipe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Mbps lin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5ms RTT = 67.5Kb (8K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KB frames imples 1/8th link ut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905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905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205740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428640" y="243828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29000" y="28195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428640" y="32004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0280" y="15238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8920" y="15238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307-E539-4455-A8A4-9C0528FF2D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iding Windo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multiple outstanding (un-ACKed)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bound on un-ACKed frames,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438280" y="2819520"/>
            <a:ext cx="4300200" cy="3235320"/>
            <a:chOff x="2438280" y="2819520"/>
            <a:chExt cx="4300200" cy="3235320"/>
          </a:xfrm>
        </p:grpSpPr>
        <p:sp>
          <p:nvSpPr>
            <p:cNvPr id="224" name=""/>
            <p:cNvSpPr/>
            <p:nvPr/>
          </p:nvSpPr>
          <p:spPr>
            <a:xfrm>
              <a:off x="3403440" y="281952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36040" y="2819520"/>
              <a:ext cx="80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2498040" y="4572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2395800" y="435420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2000" y="3124440"/>
              <a:ext cx="6120" cy="29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3040" y="3141720"/>
              <a:ext cx="6480" cy="290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72000" y="3367080"/>
              <a:ext cx="2522520" cy="5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75440" y="3905280"/>
              <a:ext cx="154080" cy="7308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0" y="42"/>
                  </a:moveTo>
                  <a:lnTo>
                    <a:pt x="97" y="38"/>
                  </a:lnTo>
                  <a:lnTo>
                    <a:pt x="16" y="0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800160" y="3971880"/>
              <a:ext cx="252252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78120" y="4613400"/>
              <a:ext cx="141480" cy="79200"/>
            </a:xfrm>
            <a:custGeom>
              <a:avLst/>
              <a:gdLst/>
              <a:ahLst/>
              <a:rect l="l" t="t" r="r" b="b"/>
              <a:pathLst>
                <a:path w="89" h="50">
                  <a:moveTo>
                    <a:pt x="77" y="0"/>
                  </a:moveTo>
                  <a:lnTo>
                    <a:pt x="0" y="46"/>
                  </a:lnTo>
                  <a:lnTo>
                    <a:pt x="89" y="50"/>
                  </a:lnTo>
                  <a:lnTo>
                    <a:pt x="81" y="4"/>
                  </a:lnTo>
                  <a:lnTo>
                    <a:pt x="81" y="4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25920" y="3551400"/>
              <a:ext cx="1440" cy="19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89200" y="5456160"/>
              <a:ext cx="73080" cy="13968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0" y="0"/>
                  </a:moveTo>
                  <a:lnTo>
                    <a:pt x="23" y="88"/>
                  </a:lnTo>
                  <a:lnTo>
                    <a:pt x="46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72000" y="3575160"/>
              <a:ext cx="253512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81920" y="4119480"/>
              <a:ext cx="147600" cy="730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42"/>
                  </a:moveTo>
                  <a:lnTo>
                    <a:pt x="93" y="42"/>
                  </a:lnTo>
                  <a:lnTo>
                    <a:pt x="12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800160" y="4192560"/>
              <a:ext cx="2516040" cy="67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78120" y="4827600"/>
              <a:ext cx="141480" cy="7308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77" y="0"/>
                  </a:moveTo>
                  <a:lnTo>
                    <a:pt x="0" y="46"/>
                  </a:lnTo>
                  <a:lnTo>
                    <a:pt x="89" y="46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78120" y="3807000"/>
              <a:ext cx="252252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81920" y="4345200"/>
              <a:ext cx="147600" cy="7272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42"/>
                  </a:moveTo>
                  <a:lnTo>
                    <a:pt x="93" y="42"/>
                  </a:lnTo>
                  <a:lnTo>
                    <a:pt x="12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800160" y="4411800"/>
              <a:ext cx="2516040" cy="68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78120" y="5059440"/>
              <a:ext cx="141480" cy="7308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77" y="0"/>
                  </a:moveTo>
                  <a:lnTo>
                    <a:pt x="0" y="42"/>
                  </a:lnTo>
                  <a:lnTo>
                    <a:pt x="89" y="46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78120" y="4686480"/>
              <a:ext cx="253548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75440" y="5224680"/>
              <a:ext cx="147600" cy="7272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46"/>
                  </a:moveTo>
                  <a:lnTo>
                    <a:pt x="93" y="42"/>
                  </a:lnTo>
                  <a:lnTo>
                    <a:pt x="12" y="0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78120" y="4907160"/>
              <a:ext cx="2546640" cy="5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81920" y="5450040"/>
              <a:ext cx="147600" cy="730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42"/>
                  </a:moveTo>
                  <a:lnTo>
                    <a:pt x="93" y="38"/>
                  </a:lnTo>
                  <a:lnTo>
                    <a:pt x="12" y="0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78120" y="5132520"/>
              <a:ext cx="2535480" cy="57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81920" y="5668920"/>
              <a:ext cx="147600" cy="730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43"/>
                  </a:moveTo>
                  <a:lnTo>
                    <a:pt x="93" y="39"/>
                  </a:lnTo>
                  <a:lnTo>
                    <a:pt x="12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72000" y="4454640"/>
              <a:ext cx="2546280" cy="5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81920" y="4986360"/>
              <a:ext cx="152280" cy="73080"/>
            </a:xfrm>
            <a:custGeom>
              <a:avLst/>
              <a:gdLst/>
              <a:ahLst/>
              <a:rect l="l" t="t" r="r" b="b"/>
              <a:pathLst>
                <a:path w="96" h="46">
                  <a:moveTo>
                    <a:pt x="0" y="46"/>
                  </a:moveTo>
                  <a:lnTo>
                    <a:pt x="96" y="38"/>
                  </a:lnTo>
                  <a:lnTo>
                    <a:pt x="12" y="0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4736880" y="5556600"/>
              <a:ext cx="293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4525920" y="5473440"/>
              <a:ext cx="365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4736880" y="4207320"/>
              <a:ext cx="293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4525920" y="4125600"/>
              <a:ext cx="365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A94-BE66-4592-BEC3-E35B60DCFBD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: Send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sequence number to each fram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three state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window siz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acknowledgment received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frame sent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invariant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CK arr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 up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67000" y="4295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209680" y="3809880"/>
            <a:ext cx="4834080" cy="1215000"/>
            <a:chOff x="2209680" y="3809880"/>
            <a:chExt cx="4834080" cy="1215000"/>
          </a:xfrm>
        </p:grpSpPr>
        <p:sp>
          <p:nvSpPr>
            <p:cNvPr id="260" name=""/>
            <p:cNvSpPr/>
            <p:nvPr/>
          </p:nvSpPr>
          <p:spPr>
            <a:xfrm>
              <a:off x="2548080" y="4233600"/>
              <a:ext cx="4066920" cy="290520"/>
            </a:xfrm>
            <a:custGeom>
              <a:avLst/>
              <a:gdLst/>
              <a:ahLst/>
              <a:rect l="l" t="t" r="r" b="b"/>
              <a:pathLst>
                <a:path w="4380" h="283">
                  <a:moveTo>
                    <a:pt x="57" y="0"/>
                  </a:moveTo>
                  <a:lnTo>
                    <a:pt x="4361" y="0"/>
                  </a:lnTo>
                  <a:lnTo>
                    <a:pt x="4286" y="66"/>
                  </a:lnTo>
                  <a:lnTo>
                    <a:pt x="4347" y="109"/>
                  </a:lnTo>
                  <a:lnTo>
                    <a:pt x="4305" y="142"/>
                  </a:lnTo>
                  <a:lnTo>
                    <a:pt x="4380" y="184"/>
                  </a:lnTo>
                  <a:lnTo>
                    <a:pt x="4314" y="217"/>
                  </a:lnTo>
                  <a:lnTo>
                    <a:pt x="4371" y="283"/>
                  </a:lnTo>
                  <a:lnTo>
                    <a:pt x="61" y="283"/>
                  </a:lnTo>
                  <a:lnTo>
                    <a:pt x="66" y="236"/>
                  </a:lnTo>
                  <a:lnTo>
                    <a:pt x="0" y="203"/>
                  </a:lnTo>
                  <a:lnTo>
                    <a:pt x="66" y="165"/>
                  </a:lnTo>
                  <a:lnTo>
                    <a:pt x="9" y="128"/>
                  </a:lnTo>
                  <a:lnTo>
                    <a:pt x="80" y="85"/>
                  </a:lnTo>
                  <a:lnTo>
                    <a:pt x="33" y="66"/>
                  </a:lnTo>
                  <a:lnTo>
                    <a:pt x="75" y="33"/>
                  </a:lnTo>
                  <a:lnTo>
                    <a:pt x="61" y="0"/>
                  </a:lnTo>
                  <a:lnTo>
                    <a:pt x="61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60760" y="4089240"/>
              <a:ext cx="2163600" cy="106200"/>
            </a:xfrm>
            <a:custGeom>
              <a:avLst/>
              <a:gdLst/>
              <a:ahLst/>
              <a:rect l="l" t="t" r="r" b="b"/>
              <a:pathLst>
                <a:path w="2330" h="104">
                  <a:moveTo>
                    <a:pt x="0" y="95"/>
                  </a:moveTo>
                  <a:lnTo>
                    <a:pt x="0" y="0"/>
                  </a:lnTo>
                  <a:lnTo>
                    <a:pt x="2330" y="0"/>
                  </a:lnTo>
                  <a:lnTo>
                    <a:pt x="2330" y="10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22480" y="4225680"/>
              <a:ext cx="0" cy="295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54400" y="4233600"/>
              <a:ext cx="1440" cy="295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60760" y="4233600"/>
              <a:ext cx="1440" cy="295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59200" y="4225680"/>
              <a:ext cx="4680" cy="295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14880" y="4225680"/>
              <a:ext cx="0" cy="295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83080" y="4225680"/>
              <a:ext cx="324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94120" y="4225680"/>
              <a:ext cx="180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05520" y="4233600"/>
              <a:ext cx="144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18000" y="4225680"/>
              <a:ext cx="504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24360" y="4233600"/>
              <a:ext cx="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31080" y="4233600"/>
              <a:ext cx="144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38880" y="4233600"/>
              <a:ext cx="324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02080" y="380988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39960" y="387180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61960" y="4811400"/>
              <a:ext cx="34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60120" y="481140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398760" y="4655520"/>
              <a:ext cx="1800" cy="125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71760" y="4568760"/>
              <a:ext cx="54000" cy="106200"/>
            </a:xfrm>
            <a:custGeom>
              <a:avLst/>
              <a:gdLst/>
              <a:ahLst/>
              <a:rect l="l" t="t" r="r" b="b"/>
              <a:pathLst>
                <a:path w="57" h="104">
                  <a:moveTo>
                    <a:pt x="57" y="104"/>
                  </a:moveTo>
                  <a:lnTo>
                    <a:pt x="29" y="0"/>
                  </a:lnTo>
                  <a:lnTo>
                    <a:pt x="0" y="104"/>
                  </a:lnTo>
                  <a:lnTo>
                    <a:pt x="57" y="104"/>
                  </a:lnTo>
                  <a:lnTo>
                    <a:pt x="57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575320" y="4660920"/>
              <a:ext cx="0" cy="126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48320" y="4573440"/>
              <a:ext cx="54000" cy="106200"/>
            </a:xfrm>
            <a:custGeom>
              <a:avLst/>
              <a:gdLst/>
              <a:ahLst/>
              <a:rect l="l" t="t" r="r" b="b"/>
              <a:pathLst>
                <a:path w="57" h="104">
                  <a:moveTo>
                    <a:pt x="57" y="104"/>
                  </a:moveTo>
                  <a:lnTo>
                    <a:pt x="28" y="0"/>
                  </a:lnTo>
                  <a:lnTo>
                    <a:pt x="0" y="104"/>
                  </a:lnTo>
                  <a:lnTo>
                    <a:pt x="57" y="104"/>
                  </a:lnTo>
                  <a:lnTo>
                    <a:pt x="57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09680" y="4165560"/>
              <a:ext cx="35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88080" y="4165560"/>
              <a:ext cx="35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846840" y="4295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8724-D22D-4CC2-94B8-2D089487F2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: Recei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three stat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 window siz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st frame acceptabl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frame received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invariant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disc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cumulative AC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7720" y="3117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208960" y="3276720"/>
            <a:ext cx="4802040" cy="1123920"/>
            <a:chOff x="2208960" y="3276720"/>
            <a:chExt cx="4802040" cy="1123920"/>
          </a:xfrm>
        </p:grpSpPr>
        <p:sp>
          <p:nvSpPr>
            <p:cNvPr id="289" name=""/>
            <p:cNvSpPr/>
            <p:nvPr/>
          </p:nvSpPr>
          <p:spPr>
            <a:xfrm>
              <a:off x="2556720" y="3762000"/>
              <a:ext cx="4015080" cy="224280"/>
            </a:xfrm>
            <a:custGeom>
              <a:avLst/>
              <a:gdLst/>
              <a:ahLst/>
              <a:rect l="l" t="t" r="r" b="b"/>
              <a:pathLst>
                <a:path w="4476" h="290">
                  <a:moveTo>
                    <a:pt x="58" y="0"/>
                  </a:moveTo>
                  <a:lnTo>
                    <a:pt x="4456" y="0"/>
                  </a:lnTo>
                  <a:lnTo>
                    <a:pt x="4384" y="68"/>
                  </a:lnTo>
                  <a:lnTo>
                    <a:pt x="4447" y="107"/>
                  </a:lnTo>
                  <a:lnTo>
                    <a:pt x="4403" y="140"/>
                  </a:lnTo>
                  <a:lnTo>
                    <a:pt x="4476" y="189"/>
                  </a:lnTo>
                  <a:lnTo>
                    <a:pt x="4413" y="222"/>
                  </a:lnTo>
                  <a:lnTo>
                    <a:pt x="4471" y="290"/>
                  </a:lnTo>
                  <a:lnTo>
                    <a:pt x="63" y="290"/>
                  </a:lnTo>
                  <a:lnTo>
                    <a:pt x="67" y="242"/>
                  </a:lnTo>
                  <a:lnTo>
                    <a:pt x="0" y="208"/>
                  </a:lnTo>
                  <a:lnTo>
                    <a:pt x="67" y="169"/>
                  </a:lnTo>
                  <a:lnTo>
                    <a:pt x="5" y="126"/>
                  </a:lnTo>
                  <a:lnTo>
                    <a:pt x="82" y="87"/>
                  </a:lnTo>
                  <a:lnTo>
                    <a:pt x="34" y="68"/>
                  </a:lnTo>
                  <a:lnTo>
                    <a:pt x="72" y="34"/>
                  </a:lnTo>
                  <a:lnTo>
                    <a:pt x="63" y="0"/>
                  </a:lnTo>
                  <a:lnTo>
                    <a:pt x="63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57880" y="3646080"/>
              <a:ext cx="2136600" cy="86760"/>
            </a:xfrm>
            <a:custGeom>
              <a:avLst/>
              <a:gdLst/>
              <a:ahLst/>
              <a:rect l="l" t="t" r="r" b="b"/>
              <a:pathLst>
                <a:path w="2383" h="112">
                  <a:moveTo>
                    <a:pt x="0" y="102"/>
                  </a:moveTo>
                  <a:lnTo>
                    <a:pt x="0" y="0"/>
                  </a:lnTo>
                  <a:lnTo>
                    <a:pt x="2383" y="0"/>
                  </a:lnTo>
                  <a:lnTo>
                    <a:pt x="2383" y="11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46600" y="3762000"/>
              <a:ext cx="1440" cy="22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2880" y="3753000"/>
              <a:ext cx="0" cy="222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57880" y="3762000"/>
              <a:ext cx="0" cy="22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46600" y="3753000"/>
              <a:ext cx="2880" cy="22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47200" y="3753000"/>
              <a:ext cx="1440" cy="22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73720" y="3758400"/>
              <a:ext cx="0" cy="22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77560" y="3758400"/>
              <a:ext cx="3240" cy="22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85000" y="3755160"/>
              <a:ext cx="0" cy="227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87400" y="3762000"/>
              <a:ext cx="1800" cy="22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91600" y="3758400"/>
              <a:ext cx="3240" cy="22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98680" y="3762000"/>
              <a:ext cx="1800" cy="22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3240" y="3758400"/>
              <a:ext cx="4680" cy="22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30440" y="327672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03600" y="3383280"/>
              <a:ext cx="46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0920" y="41871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F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39240" y="418716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719160" y="4087440"/>
              <a:ext cx="0" cy="9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92160" y="4016160"/>
              <a:ext cx="52200" cy="86040"/>
            </a:xfrm>
            <a:custGeom>
              <a:avLst/>
              <a:gdLst/>
              <a:ahLst/>
              <a:rect l="l" t="t" r="r" b="b"/>
              <a:pathLst>
                <a:path w="58" h="111">
                  <a:moveTo>
                    <a:pt x="58" y="111"/>
                  </a:moveTo>
                  <a:lnTo>
                    <a:pt x="29" y="0"/>
                  </a:lnTo>
                  <a:lnTo>
                    <a:pt x="0" y="111"/>
                  </a:lnTo>
                  <a:lnTo>
                    <a:pt x="58" y="111"/>
                  </a:lnTo>
                  <a:lnTo>
                    <a:pt x="5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5543640" y="4089240"/>
              <a:ext cx="5040" cy="9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22760" y="4020120"/>
              <a:ext cx="50760" cy="86040"/>
            </a:xfrm>
            <a:custGeom>
              <a:avLst/>
              <a:gdLst/>
              <a:ahLst/>
              <a:rect l="l" t="t" r="r" b="b"/>
              <a:pathLst>
                <a:path w="58" h="111">
                  <a:moveTo>
                    <a:pt x="53" y="106"/>
                  </a:moveTo>
                  <a:lnTo>
                    <a:pt x="29" y="0"/>
                  </a:lnTo>
                  <a:lnTo>
                    <a:pt x="0" y="111"/>
                  </a:lnTo>
                  <a:lnTo>
                    <a:pt x="58" y="111"/>
                  </a:lnTo>
                  <a:lnTo>
                    <a:pt x="58" y="111"/>
                  </a:lnTo>
                  <a:lnTo>
                    <a:pt x="53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08960" y="371088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41640" y="371088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52880" y="49528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5334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F65-FC65-48E6-B6EB-71EF527022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ncoding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s propagate over a physical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e electromagnetic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var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e binary data onto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0 as low signal and 1 as high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as Non-Return to zero (NR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47920" y="4800600"/>
            <a:ext cx="6362640" cy="1120680"/>
            <a:chOff x="1447920" y="4800600"/>
            <a:chExt cx="6362640" cy="1120680"/>
          </a:xfrm>
        </p:grpSpPr>
        <p:sp>
          <p:nvSpPr>
            <p:cNvPr id="46" name=""/>
            <p:cNvSpPr/>
            <p:nvPr/>
          </p:nvSpPr>
          <p:spPr>
            <a:xfrm>
              <a:off x="1601640" y="480060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7920" y="564660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R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6692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1792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6712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1632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6696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1652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5924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1024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5944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100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592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0884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4594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086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596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08880" y="480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5568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13160" y="5102280"/>
              <a:ext cx="144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62360" y="5102280"/>
              <a:ext cx="612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05080" y="5102280"/>
              <a:ext cx="648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6220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05280" y="5102280"/>
              <a:ext cx="144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6240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11600" y="5102280"/>
              <a:ext cx="648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54680" y="5102280"/>
              <a:ext cx="612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0532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5452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13440" y="5099040"/>
              <a:ext cx="144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94320" y="5099040"/>
              <a:ext cx="792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3920" y="5102280"/>
              <a:ext cx="792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61040" y="5102280"/>
              <a:ext cx="180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04120" y="5102280"/>
              <a:ext cx="648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46840" y="5102280"/>
              <a:ext cx="7920" cy="706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98800" y="5457960"/>
              <a:ext cx="5711760" cy="350640"/>
            </a:xfrm>
            <a:custGeom>
              <a:avLst/>
              <a:gdLst/>
              <a:ahLst/>
              <a:rect l="l" t="t" r="r" b="b"/>
              <a:pathLst>
                <a:path w="3598" h="221">
                  <a:moveTo>
                    <a:pt x="3598" y="221"/>
                  </a:moveTo>
                  <a:lnTo>
                    <a:pt x="3346" y="221"/>
                  </a:lnTo>
                  <a:lnTo>
                    <a:pt x="3346" y="0"/>
                  </a:lnTo>
                  <a:lnTo>
                    <a:pt x="3126" y="0"/>
                  </a:lnTo>
                  <a:lnTo>
                    <a:pt x="3126" y="221"/>
                  </a:lnTo>
                  <a:lnTo>
                    <a:pt x="2240" y="221"/>
                  </a:lnTo>
                  <a:lnTo>
                    <a:pt x="2240" y="221"/>
                  </a:lnTo>
                  <a:lnTo>
                    <a:pt x="2240" y="0"/>
                  </a:lnTo>
                  <a:lnTo>
                    <a:pt x="2020" y="0"/>
                  </a:lnTo>
                  <a:lnTo>
                    <a:pt x="2020" y="221"/>
                  </a:lnTo>
                  <a:lnTo>
                    <a:pt x="1803" y="221"/>
                  </a:lnTo>
                  <a:lnTo>
                    <a:pt x="1803" y="221"/>
                  </a:lnTo>
                  <a:lnTo>
                    <a:pt x="1803" y="0"/>
                  </a:lnTo>
                  <a:lnTo>
                    <a:pt x="922" y="0"/>
                  </a:lnTo>
                  <a:lnTo>
                    <a:pt x="922" y="221"/>
                  </a:lnTo>
                  <a:lnTo>
                    <a:pt x="701" y="221"/>
                  </a:lnTo>
                  <a:lnTo>
                    <a:pt x="701" y="221"/>
                  </a:lnTo>
                  <a:lnTo>
                    <a:pt x="701" y="0"/>
                  </a:lnTo>
                  <a:lnTo>
                    <a:pt x="485" y="0"/>
                  </a:lnTo>
                  <a:lnTo>
                    <a:pt x="485" y="221"/>
                  </a:lnTo>
                  <a:lnTo>
                    <a:pt x="0" y="22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F07-89C8-40F9-AB99-023F34D6BE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quence Number Spa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 is finite; sequence numbers wrap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number space must be larger then number of outstanding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SeqNu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ot su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se 3-bi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 (0..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S=RWS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transmit frames 0.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ive successfully, but ACKs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retransmits 0.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expecting 7, 0..5, but receives second incarnation of 0.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MaxSeqNum+1)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rrect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vely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slides” between two halves of sequence numbe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4D16-2D33-4588-ABFA-C956C4503EE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current Logical Channe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x 8 logical channels over a single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stop-and-wait on each logical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three state bits per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bu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equence number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equence number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: 3-bit channel num, 1-bit sequence 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bits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sliding window protoc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iabilit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F68-E4FF-4F81-A6F5-D8C2B30DB5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blem: Consecutive 1s or 0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signal (0) may be interpreted as no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ignal (1) leads to baseline wa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ble to recover c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B4E-2161-46AB-B458-63EFB12A36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ternative Encoding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return to Zero Inverted (NRZ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transition from current signal to encode a one; stay at current signal to encode a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s the problem of consecutive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XOR of the NRZ encoded data and the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50% 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287-73EB-4DCE-9E62-E932FE5B1E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coding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B/5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4 bits of data encoded in a 5-bit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bit codes selected to have no more than one leading 0 and no more than two trailing 0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 never get more than three consecutive 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5-bit codes are transmitted using NRZ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s 80%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DE9-B67A-482C-8EFB-A18B3F24B9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coding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720" y="2162160"/>
            <a:ext cx="7169760" cy="3210840"/>
            <a:chOff x="810720" y="2162160"/>
            <a:chExt cx="7169760" cy="3210840"/>
          </a:xfrm>
        </p:grpSpPr>
        <p:sp>
          <p:nvSpPr>
            <p:cNvPr id="90" name=""/>
            <p:cNvSpPr/>
            <p:nvPr/>
          </p:nvSpPr>
          <p:spPr>
            <a:xfrm>
              <a:off x="1666080" y="2162160"/>
              <a:ext cx="401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06240" y="2982960"/>
              <a:ext cx="496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R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5320" y="371016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0720" y="4378320"/>
              <a:ext cx="1261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nchest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25600" y="5083200"/>
              <a:ext cx="563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RZ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65400" y="4248000"/>
              <a:ext cx="369720" cy="355680"/>
            </a:xfrm>
            <a:custGeom>
              <a:avLst/>
              <a:gdLst/>
              <a:ahLst/>
              <a:rect l="l" t="t" r="r" b="b"/>
              <a:pathLst>
                <a:path w="233" h="224">
                  <a:moveTo>
                    <a:pt x="0" y="224"/>
                  </a:moveTo>
                  <a:lnTo>
                    <a:pt x="119" y="224"/>
                  </a:lnTo>
                  <a:lnTo>
                    <a:pt x="119" y="0"/>
                  </a:lnTo>
                  <a:lnTo>
                    <a:pt x="233" y="0"/>
                  </a:lnTo>
                  <a:lnTo>
                    <a:pt x="233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35120" y="4248000"/>
              <a:ext cx="1285920" cy="355680"/>
            </a:xfrm>
            <a:custGeom>
              <a:avLst/>
              <a:gdLst/>
              <a:ahLst/>
              <a:rect l="l" t="t" r="r" b="b"/>
              <a:pathLst>
                <a:path w="810" h="224">
                  <a:moveTo>
                    <a:pt x="806" y="224"/>
                  </a:moveTo>
                  <a:lnTo>
                    <a:pt x="810" y="0"/>
                  </a:lnTo>
                  <a:lnTo>
                    <a:pt x="572" y="0"/>
                  </a:lnTo>
                  <a:lnTo>
                    <a:pt x="572" y="224"/>
                  </a:lnTo>
                  <a:lnTo>
                    <a:pt x="343" y="224"/>
                  </a:lnTo>
                  <a:lnTo>
                    <a:pt x="343" y="224"/>
                  </a:lnTo>
                  <a:lnTo>
                    <a:pt x="343" y="0"/>
                  </a:lnTo>
                  <a:lnTo>
                    <a:pt x="115" y="0"/>
                  </a:lnTo>
                  <a:lnTo>
                    <a:pt x="115" y="224"/>
                  </a:lnTo>
                  <a:lnTo>
                    <a:pt x="0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14920" y="4248000"/>
              <a:ext cx="537840" cy="355680"/>
            </a:xfrm>
            <a:custGeom>
              <a:avLst/>
              <a:gdLst/>
              <a:ahLst/>
              <a:rect l="l" t="t" r="r" b="b"/>
              <a:pathLst>
                <a:path w="339" h="224">
                  <a:moveTo>
                    <a:pt x="0" y="224"/>
                  </a:moveTo>
                  <a:lnTo>
                    <a:pt x="110" y="224"/>
                  </a:lnTo>
                  <a:lnTo>
                    <a:pt x="110" y="0"/>
                  </a:lnTo>
                  <a:lnTo>
                    <a:pt x="224" y="0"/>
                  </a:lnTo>
                  <a:lnTo>
                    <a:pt x="224" y="224"/>
                  </a:lnTo>
                  <a:lnTo>
                    <a:pt x="339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52760" y="4248000"/>
              <a:ext cx="1263960" cy="355680"/>
            </a:xfrm>
            <a:custGeom>
              <a:avLst/>
              <a:gdLst/>
              <a:ahLst/>
              <a:rect l="l" t="t" r="r" b="b"/>
              <a:pathLst>
                <a:path w="796" h="224">
                  <a:moveTo>
                    <a:pt x="796" y="224"/>
                  </a:moveTo>
                  <a:lnTo>
                    <a:pt x="796" y="0"/>
                  </a:lnTo>
                  <a:lnTo>
                    <a:pt x="572" y="0"/>
                  </a:lnTo>
                  <a:lnTo>
                    <a:pt x="572" y="224"/>
                  </a:lnTo>
                  <a:lnTo>
                    <a:pt x="348" y="224"/>
                  </a:lnTo>
                  <a:lnTo>
                    <a:pt x="343" y="224"/>
                  </a:lnTo>
                  <a:lnTo>
                    <a:pt x="343" y="0"/>
                  </a:lnTo>
                  <a:lnTo>
                    <a:pt x="233" y="0"/>
                  </a:lnTo>
                  <a:lnTo>
                    <a:pt x="233" y="224"/>
                  </a:lnTo>
                  <a:lnTo>
                    <a:pt x="233" y="224"/>
                  </a:lnTo>
                  <a:lnTo>
                    <a:pt x="119" y="224"/>
                  </a:lnTo>
                  <a:lnTo>
                    <a:pt x="119" y="0"/>
                  </a:lnTo>
                  <a:lnTo>
                    <a:pt x="0" y="0"/>
                  </a:lnTo>
                  <a:lnTo>
                    <a:pt x="0" y="224"/>
                  </a:lnTo>
                  <a:lnTo>
                    <a:pt x="0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16720" y="4248000"/>
              <a:ext cx="741240" cy="355680"/>
            </a:xfrm>
            <a:custGeom>
              <a:avLst/>
              <a:gdLst/>
              <a:ahLst/>
              <a:rect l="l" t="t" r="r" b="b"/>
              <a:pathLst>
                <a:path w="467" h="224">
                  <a:moveTo>
                    <a:pt x="0" y="224"/>
                  </a:moveTo>
                  <a:lnTo>
                    <a:pt x="234" y="224"/>
                  </a:lnTo>
                  <a:lnTo>
                    <a:pt x="234" y="0"/>
                  </a:lnTo>
                  <a:lnTo>
                    <a:pt x="348" y="0"/>
                  </a:lnTo>
                  <a:lnTo>
                    <a:pt x="348" y="224"/>
                  </a:lnTo>
                  <a:lnTo>
                    <a:pt x="467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57960" y="4248000"/>
              <a:ext cx="1620720" cy="362160"/>
            </a:xfrm>
            <a:custGeom>
              <a:avLst/>
              <a:gdLst/>
              <a:ahLst/>
              <a:rect l="l" t="t" r="r" b="b"/>
              <a:pathLst>
                <a:path w="1021" h="228">
                  <a:moveTo>
                    <a:pt x="1021" y="228"/>
                  </a:moveTo>
                  <a:lnTo>
                    <a:pt x="1021" y="0"/>
                  </a:lnTo>
                  <a:lnTo>
                    <a:pt x="911" y="0"/>
                  </a:lnTo>
                  <a:lnTo>
                    <a:pt x="911" y="224"/>
                  </a:lnTo>
                  <a:lnTo>
                    <a:pt x="797" y="224"/>
                  </a:lnTo>
                  <a:lnTo>
                    <a:pt x="682" y="224"/>
                  </a:lnTo>
                  <a:lnTo>
                    <a:pt x="682" y="0"/>
                  </a:lnTo>
                  <a:lnTo>
                    <a:pt x="454" y="0"/>
                  </a:lnTo>
                  <a:lnTo>
                    <a:pt x="454" y="224"/>
                  </a:lnTo>
                  <a:lnTo>
                    <a:pt x="339" y="224"/>
                  </a:lnTo>
                  <a:lnTo>
                    <a:pt x="339" y="0"/>
                  </a:lnTo>
                  <a:lnTo>
                    <a:pt x="229" y="0"/>
                  </a:lnTo>
                  <a:lnTo>
                    <a:pt x="229" y="224"/>
                  </a:lnTo>
                  <a:lnTo>
                    <a:pt x="229" y="224"/>
                  </a:lnTo>
                  <a:lnTo>
                    <a:pt x="115" y="224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0" y="22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3352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9712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603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239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875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493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29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765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401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037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6736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060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9420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5780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2140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85000" y="2162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71880" y="2830680"/>
              <a:ext cx="5806800" cy="357120"/>
            </a:xfrm>
            <a:custGeom>
              <a:avLst/>
              <a:gdLst/>
              <a:ahLst/>
              <a:rect l="l" t="t" r="r" b="b"/>
              <a:pathLst>
                <a:path w="3658" h="225">
                  <a:moveTo>
                    <a:pt x="3658" y="225"/>
                  </a:moveTo>
                  <a:lnTo>
                    <a:pt x="3434" y="225"/>
                  </a:lnTo>
                  <a:lnTo>
                    <a:pt x="3434" y="0"/>
                  </a:lnTo>
                  <a:lnTo>
                    <a:pt x="3210" y="0"/>
                  </a:lnTo>
                  <a:lnTo>
                    <a:pt x="3210" y="225"/>
                  </a:lnTo>
                  <a:lnTo>
                    <a:pt x="2289" y="225"/>
                  </a:lnTo>
                  <a:lnTo>
                    <a:pt x="2289" y="0"/>
                  </a:lnTo>
                  <a:lnTo>
                    <a:pt x="2056" y="0"/>
                  </a:lnTo>
                  <a:lnTo>
                    <a:pt x="2056" y="225"/>
                  </a:lnTo>
                  <a:lnTo>
                    <a:pt x="1832" y="225"/>
                  </a:lnTo>
                  <a:lnTo>
                    <a:pt x="1832" y="225"/>
                  </a:lnTo>
                  <a:lnTo>
                    <a:pt x="1832" y="0"/>
                  </a:lnTo>
                  <a:lnTo>
                    <a:pt x="920" y="0"/>
                  </a:lnTo>
                  <a:lnTo>
                    <a:pt x="920" y="225"/>
                  </a:lnTo>
                  <a:lnTo>
                    <a:pt x="687" y="225"/>
                  </a:lnTo>
                  <a:lnTo>
                    <a:pt x="687" y="225"/>
                  </a:lnTo>
                  <a:lnTo>
                    <a:pt x="687" y="0"/>
                  </a:lnTo>
                  <a:lnTo>
                    <a:pt x="463" y="0"/>
                  </a:lnTo>
                  <a:lnTo>
                    <a:pt x="463" y="225"/>
                  </a:lnTo>
                  <a:lnTo>
                    <a:pt x="0" y="225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65400" y="4930920"/>
              <a:ext cx="5813280" cy="363240"/>
            </a:xfrm>
            <a:custGeom>
              <a:avLst/>
              <a:gdLst/>
              <a:ahLst/>
              <a:rect l="l" t="t" r="r" b="b"/>
              <a:pathLst>
                <a:path w="3662" h="229">
                  <a:moveTo>
                    <a:pt x="3662" y="0"/>
                  </a:moveTo>
                  <a:lnTo>
                    <a:pt x="3328" y="0"/>
                  </a:lnTo>
                  <a:lnTo>
                    <a:pt x="3328" y="229"/>
                  </a:lnTo>
                  <a:lnTo>
                    <a:pt x="2179" y="229"/>
                  </a:lnTo>
                  <a:lnTo>
                    <a:pt x="2179" y="0"/>
                  </a:lnTo>
                  <a:lnTo>
                    <a:pt x="1726" y="0"/>
                  </a:lnTo>
                  <a:lnTo>
                    <a:pt x="1726" y="229"/>
                  </a:lnTo>
                  <a:lnTo>
                    <a:pt x="1497" y="229"/>
                  </a:lnTo>
                  <a:lnTo>
                    <a:pt x="1497" y="0"/>
                  </a:lnTo>
                  <a:lnTo>
                    <a:pt x="1263" y="0"/>
                  </a:lnTo>
                  <a:lnTo>
                    <a:pt x="1263" y="229"/>
                  </a:lnTo>
                  <a:lnTo>
                    <a:pt x="1039" y="229"/>
                  </a:lnTo>
                  <a:lnTo>
                    <a:pt x="1039" y="0"/>
                  </a:lnTo>
                  <a:lnTo>
                    <a:pt x="586" y="0"/>
                  </a:lnTo>
                  <a:lnTo>
                    <a:pt x="586" y="229"/>
                  </a:lnTo>
                  <a:lnTo>
                    <a:pt x="467" y="229"/>
                  </a:lnTo>
                  <a:lnTo>
                    <a:pt x="0" y="22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65400" y="3579840"/>
              <a:ext cx="369720" cy="361800"/>
            </a:xfrm>
            <a:custGeom>
              <a:avLst/>
              <a:gdLst/>
              <a:ahLst/>
              <a:rect l="l" t="t" r="r" b="b"/>
              <a:pathLst>
                <a:path w="233" h="228">
                  <a:moveTo>
                    <a:pt x="0" y="224"/>
                  </a:moveTo>
                  <a:lnTo>
                    <a:pt x="119" y="228"/>
                  </a:lnTo>
                  <a:lnTo>
                    <a:pt x="119" y="0"/>
                  </a:lnTo>
                  <a:lnTo>
                    <a:pt x="233" y="0"/>
                  </a:lnTo>
                  <a:lnTo>
                    <a:pt x="233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35120" y="3579840"/>
              <a:ext cx="371520" cy="36180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4"/>
                  </a:moveTo>
                  <a:lnTo>
                    <a:pt x="110" y="228"/>
                  </a:lnTo>
                  <a:lnTo>
                    <a:pt x="110" y="0"/>
                  </a:lnTo>
                  <a:lnTo>
                    <a:pt x="234" y="0"/>
                  </a:lnTo>
                  <a:lnTo>
                    <a:pt x="234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8720" y="3579840"/>
              <a:ext cx="36360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62320" y="3579840"/>
              <a:ext cx="36360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25920" y="3579840"/>
              <a:ext cx="36360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0" y="228"/>
                  </a:lnTo>
                  <a:lnTo>
                    <a:pt x="110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81600" y="3579840"/>
              <a:ext cx="371160" cy="36180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4"/>
                  </a:moveTo>
                  <a:lnTo>
                    <a:pt x="119" y="228"/>
                  </a:lnTo>
                  <a:lnTo>
                    <a:pt x="119" y="0"/>
                  </a:lnTo>
                  <a:lnTo>
                    <a:pt x="234" y="0"/>
                  </a:lnTo>
                  <a:lnTo>
                    <a:pt x="234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52760" y="3579840"/>
              <a:ext cx="370080" cy="361800"/>
            </a:xfrm>
            <a:custGeom>
              <a:avLst/>
              <a:gdLst/>
              <a:ahLst/>
              <a:rect l="l" t="t" r="r" b="b"/>
              <a:pathLst>
                <a:path w="233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33" y="0"/>
                  </a:lnTo>
                  <a:lnTo>
                    <a:pt x="233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16360" y="3579840"/>
              <a:ext cx="36360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79960" y="3579840"/>
              <a:ext cx="355680" cy="361800"/>
            </a:xfrm>
            <a:custGeom>
              <a:avLst/>
              <a:gdLst/>
              <a:ahLst/>
              <a:rect l="l" t="t" r="r" b="b"/>
              <a:pathLst>
                <a:path w="224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24" y="0"/>
                  </a:lnTo>
                  <a:lnTo>
                    <a:pt x="224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35640" y="3579840"/>
              <a:ext cx="369720" cy="361800"/>
            </a:xfrm>
            <a:custGeom>
              <a:avLst/>
              <a:gdLst/>
              <a:ahLst/>
              <a:rect l="l" t="t" r="r" b="b"/>
              <a:pathLst>
                <a:path w="233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33" y="0"/>
                  </a:lnTo>
                  <a:lnTo>
                    <a:pt x="233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9240" y="3579840"/>
              <a:ext cx="369720" cy="361800"/>
            </a:xfrm>
            <a:custGeom>
              <a:avLst/>
              <a:gdLst/>
              <a:ahLst/>
              <a:rect l="l" t="t" r="r" b="b"/>
              <a:pathLst>
                <a:path w="233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33" y="0"/>
                  </a:lnTo>
                  <a:lnTo>
                    <a:pt x="233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62840" y="3579840"/>
              <a:ext cx="377640" cy="361800"/>
            </a:xfrm>
            <a:custGeom>
              <a:avLst/>
              <a:gdLst/>
              <a:ahLst/>
              <a:rect l="l" t="t" r="r" b="b"/>
              <a:pathLst>
                <a:path w="238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38" y="0"/>
                  </a:lnTo>
                  <a:lnTo>
                    <a:pt x="238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40480" y="3579840"/>
              <a:ext cx="355680" cy="361800"/>
            </a:xfrm>
            <a:custGeom>
              <a:avLst/>
              <a:gdLst/>
              <a:ahLst/>
              <a:rect l="l" t="t" r="r" b="b"/>
              <a:pathLst>
                <a:path w="224" h="228">
                  <a:moveTo>
                    <a:pt x="0" y="224"/>
                  </a:moveTo>
                  <a:lnTo>
                    <a:pt x="110" y="228"/>
                  </a:lnTo>
                  <a:lnTo>
                    <a:pt x="110" y="0"/>
                  </a:lnTo>
                  <a:lnTo>
                    <a:pt x="224" y="0"/>
                  </a:lnTo>
                  <a:lnTo>
                    <a:pt x="224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96160" y="3579840"/>
              <a:ext cx="371520" cy="36180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4"/>
                  </a:moveTo>
                  <a:lnTo>
                    <a:pt x="115" y="228"/>
                  </a:lnTo>
                  <a:lnTo>
                    <a:pt x="115" y="0"/>
                  </a:lnTo>
                  <a:lnTo>
                    <a:pt x="234" y="0"/>
                  </a:lnTo>
                  <a:lnTo>
                    <a:pt x="234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59760" y="3579840"/>
              <a:ext cx="36324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4" y="228"/>
                  </a:lnTo>
                  <a:lnTo>
                    <a:pt x="114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15080" y="3579840"/>
              <a:ext cx="363600" cy="361800"/>
            </a:xfrm>
            <a:custGeom>
              <a:avLst/>
              <a:gdLst/>
              <a:ahLst/>
              <a:rect l="l" t="t" r="r" b="b"/>
              <a:pathLst>
                <a:path w="229" h="228">
                  <a:moveTo>
                    <a:pt x="0" y="224"/>
                  </a:moveTo>
                  <a:lnTo>
                    <a:pt x="119" y="228"/>
                  </a:lnTo>
                  <a:lnTo>
                    <a:pt x="119" y="0"/>
                  </a:lnTo>
                  <a:lnTo>
                    <a:pt x="229" y="0"/>
                  </a:lnTo>
                  <a:lnTo>
                    <a:pt x="229" y="22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65400" y="2475000"/>
              <a:ext cx="648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35120" y="2475000"/>
              <a:ext cx="180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81600" y="2475000"/>
              <a:ext cx="79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52760" y="2475000"/>
              <a:ext cx="180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16360" y="2475000"/>
              <a:ext cx="648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79960" y="2475000"/>
              <a:ext cx="180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35640" y="2475000"/>
              <a:ext cx="144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9240" y="2475000"/>
              <a:ext cx="61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68960" y="2475000"/>
              <a:ext cx="180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32560" y="2475000"/>
              <a:ext cx="79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96160" y="2475000"/>
              <a:ext cx="144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59760" y="2475000"/>
              <a:ext cx="79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5080" y="2475000"/>
              <a:ext cx="79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78680" y="2475000"/>
              <a:ext cx="1800" cy="287640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8720" y="2475000"/>
              <a:ext cx="792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62320" y="2475000"/>
              <a:ext cx="144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25920" y="2475000"/>
              <a:ext cx="1440" cy="2884320"/>
            </a:xfrm>
            <a:prstGeom prst="line">
              <a:avLst/>
            </a:prstGeom>
            <a:ln w="144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8CE-304C-47CC-9645-2F684A8564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am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sequence of bits into a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implemented by network ada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90720" y="3276720"/>
            <a:ext cx="7067520" cy="2394000"/>
            <a:chOff x="990720" y="3276720"/>
            <a:chExt cx="7067520" cy="2394000"/>
          </a:xfrm>
        </p:grpSpPr>
        <p:sp>
          <p:nvSpPr>
            <p:cNvPr id="155" name=""/>
            <p:cNvSpPr/>
            <p:nvPr/>
          </p:nvSpPr>
          <p:spPr>
            <a:xfrm>
              <a:off x="3337200" y="4075200"/>
              <a:ext cx="2311200" cy="18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90720" y="3276720"/>
              <a:ext cx="1752840" cy="1569960"/>
            </a:xfrm>
            <a:custGeom>
              <a:avLst/>
              <a:gdLst/>
              <a:ahLst/>
              <a:rect l="l" t="t" r="r" b="b"/>
              <a:pathLst>
                <a:path w="1170" h="989">
                  <a:moveTo>
                    <a:pt x="0" y="0"/>
                  </a:moveTo>
                  <a:lnTo>
                    <a:pt x="1170" y="4"/>
                  </a:lnTo>
                  <a:lnTo>
                    <a:pt x="1170" y="989"/>
                  </a:lnTo>
                  <a:lnTo>
                    <a:pt x="0" y="989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5880" y="3762360"/>
              <a:ext cx="1117800" cy="623880"/>
            </a:xfrm>
            <a:custGeom>
              <a:avLst/>
              <a:gdLst/>
              <a:ahLst/>
              <a:rect l="l" t="t" r="r" b="b"/>
              <a:pathLst>
                <a:path w="704" h="393">
                  <a:moveTo>
                    <a:pt x="0" y="0"/>
                  </a:moveTo>
                  <a:lnTo>
                    <a:pt x="704" y="0"/>
                  </a:lnTo>
                  <a:lnTo>
                    <a:pt x="704" y="393"/>
                  </a:lnTo>
                  <a:lnTo>
                    <a:pt x="0" y="3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01000" y="3289320"/>
              <a:ext cx="1857240" cy="1569960"/>
            </a:xfrm>
            <a:custGeom>
              <a:avLst/>
              <a:gdLst/>
              <a:ahLst/>
              <a:rect l="l" t="t" r="r" b="b"/>
              <a:pathLst>
                <a:path w="1170" h="989">
                  <a:moveTo>
                    <a:pt x="1170" y="0"/>
                  </a:moveTo>
                  <a:lnTo>
                    <a:pt x="0" y="4"/>
                  </a:lnTo>
                  <a:lnTo>
                    <a:pt x="0" y="989"/>
                  </a:lnTo>
                  <a:lnTo>
                    <a:pt x="1170" y="989"/>
                  </a:lnTo>
                  <a:lnTo>
                    <a:pt x="1170" y="4"/>
                  </a:lnTo>
                  <a:lnTo>
                    <a:pt x="1170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2280" y="3762360"/>
              <a:ext cx="1116000" cy="623880"/>
            </a:xfrm>
            <a:custGeom>
              <a:avLst/>
              <a:gdLst/>
              <a:ahLst/>
              <a:rect l="l" t="t" r="r" b="b"/>
              <a:pathLst>
                <a:path w="703" h="393">
                  <a:moveTo>
                    <a:pt x="0" y="0"/>
                  </a:moveTo>
                  <a:lnTo>
                    <a:pt x="703" y="0"/>
                  </a:lnTo>
                  <a:lnTo>
                    <a:pt x="703" y="393"/>
                  </a:lnTo>
                  <a:lnTo>
                    <a:pt x="0" y="3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02240" y="5488200"/>
              <a:ext cx="144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48880" y="5488200"/>
              <a:ext cx="144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2240" y="5540400"/>
              <a:ext cx="149040" cy="77760"/>
            </a:xfrm>
            <a:custGeom>
              <a:avLst/>
              <a:gdLst/>
              <a:ahLst/>
              <a:rect l="l" t="t" r="r" b="b"/>
              <a:pathLst>
                <a:path w="94" h="49">
                  <a:moveTo>
                    <a:pt x="94" y="0"/>
                  </a:moveTo>
                  <a:lnTo>
                    <a:pt x="0" y="25"/>
                  </a:lnTo>
                  <a:lnTo>
                    <a:pt x="94" y="49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93000" y="5540400"/>
              <a:ext cx="149400" cy="77760"/>
            </a:xfrm>
            <a:custGeom>
              <a:avLst/>
              <a:gdLst/>
              <a:ahLst/>
              <a:rect l="l" t="t" r="r" b="b"/>
              <a:pathLst>
                <a:path w="94" h="49">
                  <a:moveTo>
                    <a:pt x="0" y="49"/>
                  </a:moveTo>
                  <a:lnTo>
                    <a:pt x="94" y="25"/>
                  </a:lnTo>
                  <a:lnTo>
                    <a:pt x="0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92600" y="5580360"/>
              <a:ext cx="5059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1040" y="5267520"/>
              <a:ext cx="73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ram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43040" y="376884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i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96160" y="3924360"/>
              <a:ext cx="75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dap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04280" y="3924360"/>
              <a:ext cx="75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dap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80200" y="3924360"/>
              <a:ext cx="72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de 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76040" y="3924360"/>
              <a:ext cx="72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de 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258-A333-44C5-9813-185EC3D382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proach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inel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neate frame with  special pattern: 01111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HDLC, SDLC,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special pattern appears in the 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t stuf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: insert 0 after five consecutive 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: delete 0 that follows five consecutive 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286000" y="3200400"/>
            <a:ext cx="5003640" cy="685800"/>
            <a:chOff x="2286000" y="3200400"/>
            <a:chExt cx="5003640" cy="685800"/>
          </a:xfrm>
        </p:grpSpPr>
        <p:sp>
          <p:nvSpPr>
            <p:cNvPr id="174" name=""/>
            <p:cNvSpPr/>
            <p:nvPr/>
          </p:nvSpPr>
          <p:spPr>
            <a:xfrm>
              <a:off x="5462640" y="3446640"/>
              <a:ext cx="361800" cy="425160"/>
            </a:xfrm>
            <a:custGeom>
              <a:avLst/>
              <a:gdLst/>
              <a:ahLst/>
              <a:rect l="l" t="t" r="r" b="b"/>
              <a:pathLst>
                <a:path w="326" h="447">
                  <a:moveTo>
                    <a:pt x="63" y="447"/>
                  </a:moveTo>
                  <a:lnTo>
                    <a:pt x="326" y="447"/>
                  </a:lnTo>
                  <a:lnTo>
                    <a:pt x="326" y="0"/>
                  </a:lnTo>
                  <a:lnTo>
                    <a:pt x="63" y="0"/>
                  </a:lnTo>
                  <a:lnTo>
                    <a:pt x="0" y="147"/>
                  </a:lnTo>
                  <a:lnTo>
                    <a:pt x="142" y="147"/>
                  </a:lnTo>
                  <a:lnTo>
                    <a:pt x="63" y="447"/>
                  </a:lnTo>
                  <a:lnTo>
                    <a:pt x="63" y="4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62640" y="3446640"/>
              <a:ext cx="361800" cy="425160"/>
            </a:xfrm>
            <a:custGeom>
              <a:avLst/>
              <a:gdLst/>
              <a:ahLst/>
              <a:rect l="l" t="t" r="r" b="b"/>
              <a:pathLst>
                <a:path w="326" h="447">
                  <a:moveTo>
                    <a:pt x="63" y="447"/>
                  </a:moveTo>
                  <a:lnTo>
                    <a:pt x="326" y="447"/>
                  </a:lnTo>
                  <a:lnTo>
                    <a:pt x="326" y="0"/>
                  </a:lnTo>
                  <a:lnTo>
                    <a:pt x="63" y="0"/>
                  </a:lnTo>
                  <a:lnTo>
                    <a:pt x="0" y="147"/>
                  </a:lnTo>
                  <a:lnTo>
                    <a:pt x="142" y="147"/>
                  </a:lnTo>
                  <a:lnTo>
                    <a:pt x="63" y="447"/>
                  </a:lnTo>
                  <a:lnTo>
                    <a:pt x="63" y="44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40080" y="3446640"/>
              <a:ext cx="1292400" cy="425160"/>
            </a:xfrm>
            <a:custGeom>
              <a:avLst/>
              <a:gdLst/>
              <a:ahLst/>
              <a:rect l="l" t="t" r="r" b="b"/>
              <a:pathLst>
                <a:path w="1168" h="447">
                  <a:moveTo>
                    <a:pt x="1094" y="447"/>
                  </a:moveTo>
                  <a:lnTo>
                    <a:pt x="0" y="447"/>
                  </a:lnTo>
                  <a:lnTo>
                    <a:pt x="0" y="0"/>
                  </a:lnTo>
                  <a:lnTo>
                    <a:pt x="1094" y="0"/>
                  </a:lnTo>
                  <a:lnTo>
                    <a:pt x="1010" y="205"/>
                  </a:lnTo>
                  <a:lnTo>
                    <a:pt x="1168" y="205"/>
                  </a:lnTo>
                  <a:lnTo>
                    <a:pt x="1094" y="447"/>
                  </a:lnTo>
                  <a:lnTo>
                    <a:pt x="1094" y="4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40080" y="3446640"/>
              <a:ext cx="1292400" cy="425160"/>
            </a:xfrm>
            <a:custGeom>
              <a:avLst/>
              <a:gdLst/>
              <a:ahLst/>
              <a:rect l="l" t="t" r="r" b="b"/>
              <a:pathLst>
                <a:path w="1168" h="447">
                  <a:moveTo>
                    <a:pt x="1094" y="447"/>
                  </a:moveTo>
                  <a:lnTo>
                    <a:pt x="0" y="447"/>
                  </a:lnTo>
                  <a:lnTo>
                    <a:pt x="0" y="0"/>
                  </a:lnTo>
                  <a:lnTo>
                    <a:pt x="1094" y="0"/>
                  </a:lnTo>
                  <a:lnTo>
                    <a:pt x="1010" y="205"/>
                  </a:lnTo>
                  <a:lnTo>
                    <a:pt x="1168" y="205"/>
                  </a:lnTo>
                  <a:lnTo>
                    <a:pt x="1094" y="447"/>
                  </a:lnTo>
                  <a:lnTo>
                    <a:pt x="1094" y="44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48080" y="3551400"/>
              <a:ext cx="58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97720" y="355140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86000" y="3446640"/>
              <a:ext cx="1954080" cy="425160"/>
            </a:xfrm>
            <a:custGeom>
              <a:avLst/>
              <a:gdLst/>
              <a:ahLst/>
              <a:rect l="l" t="t" r="r" b="b"/>
              <a:pathLst>
                <a:path w="1767" h="447">
                  <a:moveTo>
                    <a:pt x="1762" y="0"/>
                  </a:moveTo>
                  <a:lnTo>
                    <a:pt x="0" y="0"/>
                  </a:lnTo>
                  <a:lnTo>
                    <a:pt x="0" y="447"/>
                  </a:lnTo>
                  <a:lnTo>
                    <a:pt x="1767" y="44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24440" y="3446640"/>
              <a:ext cx="1465200" cy="4251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51480" y="3429000"/>
              <a:ext cx="0" cy="457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74920" y="3441600"/>
              <a:ext cx="4680" cy="430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15480" y="3200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47160" y="3200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56920" y="3205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30200" y="3205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70880" y="3551400"/>
              <a:ext cx="38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47560" y="346536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gin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46120" y="3637080"/>
              <a:ext cx="77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81720" y="3465360"/>
              <a:ext cx="55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79920" y="3632040"/>
              <a:ext cx="77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70E-0E3C-4067-AB90-23E57C67C0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proache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ter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payload length in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DD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unt field corru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catch when CRC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E02F11" descr=""/>
          <p:cNvPicPr/>
          <p:nvPr/>
        </p:nvPicPr>
        <p:blipFill>
          <a:blip r:embed="rId1"/>
          <a:stretch/>
        </p:blipFill>
        <p:spPr>
          <a:xfrm>
            <a:off x="2514600" y="3427560"/>
            <a:ext cx="507852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DB8-9855-46C8-8908-80D3F72948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5T20:31:16Z</dcterms:created>
  <dc:creator>klp</dc:creator>
  <dc:description/>
  <dc:language>en-US</dc:language>
  <cp:lastModifiedBy>Larry Peterson</cp:lastModifiedBy>
  <dcterms:modified xsi:type="dcterms:W3CDTF">2000-01-31T14:20:42Z</dcterms:modified>
  <cp:revision>15</cp:revision>
  <dc:subject/>
  <dc:title>Point-to-Point Links</dc:title>
</cp:coreProperties>
</file>