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AC4A-E756-4AF5-AA76-D081E24A7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38FD-BC45-46EC-B81E-E53E005E2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9E14-723A-4CA7-BCD0-E0177AF6D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D703-9E2D-45B0-8F37-897277CD6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A2B7-5C7F-4DF3-B012-68C229A93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94B4-41F8-4C1A-82DA-4C98314A4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8415-5EC6-4570-9309-737D897B1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4EE5-F198-4D65-969D-B1010C291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EED3-4D4A-4C50-9AD7-65987C036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F92C-3A9C-43FE-9B1A-595E1475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C22A-4A8D-4BA6-8CB6-B7F7AAEB2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7C61-DEC7-401B-9BC7-BF1D852D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B4316-4B61-4FB0-B54A-38D0346728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nternetworking 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5280" y="3276720"/>
            <a:ext cx="51055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li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st Effort Servic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Addressing Sch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8311-4FE3-4CD3-BF4E-38349C5B081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RP Packet Forma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1675800" y="2133720"/>
            <a:ext cx="5803920" cy="3504600"/>
            <a:chOff x="1675800" y="2133720"/>
            <a:chExt cx="5803920" cy="3504600"/>
          </a:xfrm>
        </p:grpSpPr>
        <p:sp>
          <p:nvSpPr>
            <p:cNvPr id="307" name=""/>
            <p:cNvSpPr/>
            <p:nvPr/>
          </p:nvSpPr>
          <p:spPr>
            <a:xfrm>
              <a:off x="3270960" y="482616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359520" y="4826160"/>
              <a:ext cx="2242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rgetHardwareAddr (bytes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709240" y="4826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847120" y="4826160"/>
              <a:ext cx="15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334320" y="52786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424320" y="5278680"/>
              <a:ext cx="2126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rgetProtocolAddr (bytes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649480" y="5278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786640" y="5278680"/>
              <a:ext cx="15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850760" y="4358880"/>
              <a:ext cx="228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ourceProtocolAddr (bytes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244040" y="43588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383720" y="4358880"/>
              <a:ext cx="15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438640" y="2542680"/>
              <a:ext cx="1463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ardware type =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034240" y="2542680"/>
              <a:ext cx="764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tocol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815440" y="2542680"/>
              <a:ext cx="1078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pe = 0x08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783800" y="3904560"/>
              <a:ext cx="2401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ourceHardwareAddr (bytes 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301280" y="3904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438800" y="3904560"/>
              <a:ext cx="15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654080" y="43588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746600" y="4358880"/>
              <a:ext cx="2242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rgetHardwareAddr (bytes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091640" y="43588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234920" y="4358880"/>
              <a:ext cx="15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667760" y="3904560"/>
              <a:ext cx="228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ourceProtocolAddr (bytes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057800" y="3904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201080" y="3904560"/>
              <a:ext cx="15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049840" y="3008160"/>
              <a:ext cx="828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Len = 4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80120" y="3008160"/>
              <a:ext cx="819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Len = 3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586120" y="3008160"/>
              <a:ext cx="784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per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229560" y="3453480"/>
              <a:ext cx="2401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ourceHardwareAddr (bytes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742720" y="3453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883840" y="3453480"/>
              <a:ext cx="15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731240" y="2446200"/>
              <a:ext cx="5659560" cy="3192120"/>
            </a:xfrm>
            <a:custGeom>
              <a:avLst/>
              <a:gdLst/>
              <a:ahLst/>
              <a:rect l="l" t="t" r="r" b="b"/>
              <a:pathLst>
                <a:path w="3693" h="1749">
                  <a:moveTo>
                    <a:pt x="3689" y="1749"/>
                  </a:moveTo>
                  <a:lnTo>
                    <a:pt x="3693" y="0"/>
                  </a:lnTo>
                  <a:lnTo>
                    <a:pt x="0" y="0"/>
                  </a:lnTo>
                  <a:lnTo>
                    <a:pt x="0" y="1749"/>
                  </a:lnTo>
                  <a:lnTo>
                    <a:pt x="3693" y="1749"/>
                  </a:lnTo>
                  <a:lnTo>
                    <a:pt x="3693" y="1749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603320" y="2446200"/>
              <a:ext cx="6120" cy="914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603320" y="3812760"/>
              <a:ext cx="6120" cy="912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726560" y="2900520"/>
              <a:ext cx="5663880" cy="5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726560" y="3360600"/>
              <a:ext cx="56638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726560" y="3812760"/>
              <a:ext cx="56638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726560" y="4273200"/>
              <a:ext cx="56638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726560" y="4725720"/>
              <a:ext cx="56638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726560" y="5178600"/>
              <a:ext cx="5663880" cy="7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214800" y="2894760"/>
              <a:ext cx="0" cy="438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675800" y="2133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165120" y="2133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502520" y="21337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281000" y="21337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4017-B6F1-4718-96CA-B58157E99FA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Internet Control Message Protocol (ICMP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cho (p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irect (from router to source ho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tination unreachable (protocol, port, or ho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TL exceeded (so datagrams don’t cycle forev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sum fail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sembly fai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not frag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C8F2-CFAC-4B45-8BFB-2B9FA5EE75E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IP Internet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atenation of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St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4267080" y="1447920"/>
            <a:ext cx="3591720" cy="2818800"/>
            <a:chOff x="4267080" y="1447920"/>
            <a:chExt cx="3591720" cy="2818800"/>
          </a:xfrm>
        </p:grpSpPr>
        <p:sp>
          <p:nvSpPr>
            <p:cNvPr id="46" name=""/>
            <p:cNvSpPr/>
            <p:nvPr/>
          </p:nvSpPr>
          <p:spPr>
            <a:xfrm>
              <a:off x="6481080" y="3026880"/>
              <a:ext cx="16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453000" y="3000600"/>
              <a:ext cx="193320" cy="207000"/>
            </a:xfrm>
            <a:custGeom>
              <a:avLst/>
              <a:gdLst/>
              <a:ahLst/>
              <a:rect l="l" t="t" r="r" b="b"/>
              <a:pathLst>
                <a:path w="200" h="197">
                  <a:moveTo>
                    <a:pt x="197" y="197"/>
                  </a:moveTo>
                  <a:lnTo>
                    <a:pt x="200" y="0"/>
                  </a:lnTo>
                  <a:lnTo>
                    <a:pt x="0" y="0"/>
                  </a:lnTo>
                  <a:lnTo>
                    <a:pt x="0" y="197"/>
                  </a:lnTo>
                  <a:lnTo>
                    <a:pt x="200" y="197"/>
                  </a:lnTo>
                  <a:lnTo>
                    <a:pt x="200" y="19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6318720" y="3207600"/>
              <a:ext cx="228240" cy="23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96960" y="2779560"/>
              <a:ext cx="16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66000" y="2752200"/>
              <a:ext cx="193320" cy="210240"/>
            </a:xfrm>
            <a:custGeom>
              <a:avLst/>
              <a:gdLst/>
              <a:ahLst/>
              <a:rect l="l" t="t" r="r" b="b"/>
              <a:pathLst>
                <a:path w="200" h="200">
                  <a:moveTo>
                    <a:pt x="200" y="200"/>
                  </a:moveTo>
                  <a:lnTo>
                    <a:pt x="200" y="0"/>
                  </a:lnTo>
                  <a:lnTo>
                    <a:pt x="0" y="0"/>
                  </a:lnTo>
                  <a:lnTo>
                    <a:pt x="0" y="200"/>
                  </a:lnTo>
                  <a:lnTo>
                    <a:pt x="200" y="200"/>
                  </a:lnTo>
                  <a:lnTo>
                    <a:pt x="200" y="20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259960" y="2561760"/>
              <a:ext cx="2520" cy="19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411080" y="3327480"/>
              <a:ext cx="16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385880" y="3299040"/>
              <a:ext cx="193320" cy="210240"/>
            </a:xfrm>
            <a:custGeom>
              <a:avLst/>
              <a:gdLst/>
              <a:ahLst/>
              <a:rect l="l" t="t" r="r" b="b"/>
              <a:pathLst>
                <a:path w="200" h="200">
                  <a:moveTo>
                    <a:pt x="200" y="197"/>
                  </a:moveTo>
                  <a:lnTo>
                    <a:pt x="200" y="0"/>
                  </a:lnTo>
                  <a:lnTo>
                    <a:pt x="0" y="0"/>
                  </a:lnTo>
                  <a:lnTo>
                    <a:pt x="0" y="200"/>
                  </a:lnTo>
                  <a:lnTo>
                    <a:pt x="200" y="200"/>
                  </a:lnTo>
                  <a:lnTo>
                    <a:pt x="200" y="20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677840" y="4084200"/>
              <a:ext cx="16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657680" y="4056480"/>
              <a:ext cx="192960" cy="210240"/>
            </a:xfrm>
            <a:custGeom>
              <a:avLst/>
              <a:gdLst/>
              <a:ahLst/>
              <a:rect l="l" t="t" r="r" b="b"/>
              <a:pathLst>
                <a:path w="200" h="200">
                  <a:moveTo>
                    <a:pt x="197" y="197"/>
                  </a:moveTo>
                  <a:lnTo>
                    <a:pt x="200" y="0"/>
                  </a:lnTo>
                  <a:lnTo>
                    <a:pt x="0" y="0"/>
                  </a:lnTo>
                  <a:lnTo>
                    <a:pt x="0" y="200"/>
                  </a:lnTo>
                  <a:lnTo>
                    <a:pt x="200" y="200"/>
                  </a:lnTo>
                  <a:lnTo>
                    <a:pt x="200" y="20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16200" y="2234520"/>
              <a:ext cx="16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91360" y="2208240"/>
              <a:ext cx="192960" cy="210240"/>
            </a:xfrm>
            <a:custGeom>
              <a:avLst/>
              <a:gdLst/>
              <a:ahLst/>
              <a:rect l="l" t="t" r="r" b="b"/>
              <a:pathLst>
                <a:path w="200" h="200">
                  <a:moveTo>
                    <a:pt x="200" y="197"/>
                  </a:moveTo>
                  <a:lnTo>
                    <a:pt x="200" y="0"/>
                  </a:lnTo>
                  <a:lnTo>
                    <a:pt x="0" y="0"/>
                  </a:lnTo>
                  <a:lnTo>
                    <a:pt x="0" y="200"/>
                  </a:lnTo>
                  <a:lnTo>
                    <a:pt x="200" y="200"/>
                  </a:lnTo>
                  <a:lnTo>
                    <a:pt x="200" y="20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487840" y="2415600"/>
              <a:ext cx="108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16160" y="2231280"/>
              <a:ext cx="16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888440" y="2205000"/>
              <a:ext cx="193320" cy="210240"/>
            </a:xfrm>
            <a:custGeom>
              <a:avLst/>
              <a:gdLst/>
              <a:ahLst/>
              <a:rect l="l" t="t" r="r" b="b"/>
              <a:pathLst>
                <a:path w="200" h="200">
                  <a:moveTo>
                    <a:pt x="200" y="200"/>
                  </a:moveTo>
                  <a:lnTo>
                    <a:pt x="200" y="0"/>
                  </a:lnTo>
                  <a:lnTo>
                    <a:pt x="0" y="0"/>
                  </a:lnTo>
                  <a:lnTo>
                    <a:pt x="0" y="200"/>
                  </a:lnTo>
                  <a:lnTo>
                    <a:pt x="200" y="200"/>
                  </a:lnTo>
                  <a:lnTo>
                    <a:pt x="200" y="20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009400" y="2407320"/>
              <a:ext cx="252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06040" y="2234520"/>
              <a:ext cx="16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385880" y="2208240"/>
              <a:ext cx="193320" cy="210240"/>
            </a:xfrm>
            <a:custGeom>
              <a:avLst/>
              <a:gdLst/>
              <a:ahLst/>
              <a:rect l="l" t="t" r="r" b="b"/>
              <a:pathLst>
                <a:path w="200" h="200">
                  <a:moveTo>
                    <a:pt x="200" y="197"/>
                  </a:moveTo>
                  <a:lnTo>
                    <a:pt x="200" y="0"/>
                  </a:lnTo>
                  <a:lnTo>
                    <a:pt x="0" y="0"/>
                  </a:lnTo>
                  <a:lnTo>
                    <a:pt x="0" y="200"/>
                  </a:lnTo>
                  <a:lnTo>
                    <a:pt x="200" y="200"/>
                  </a:lnTo>
                  <a:lnTo>
                    <a:pt x="200" y="20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498920" y="2407320"/>
              <a:ext cx="288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259960" y="2962440"/>
              <a:ext cx="40320" cy="29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281120" y="2582640"/>
              <a:ext cx="1168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twork 2 (Ethernet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90600" y="1447920"/>
              <a:ext cx="1168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twork 1 (Ethernet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9200" y="3401280"/>
              <a:ext cx="208800" cy="10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4754160" y="3777480"/>
              <a:ext cx="133920" cy="27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043320" y="4084200"/>
              <a:ext cx="16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015960" y="4056480"/>
              <a:ext cx="193320" cy="210240"/>
            </a:xfrm>
            <a:custGeom>
              <a:avLst/>
              <a:gdLst/>
              <a:ahLst/>
              <a:rect l="l" t="t" r="r" b="b"/>
              <a:pathLst>
                <a:path w="200" h="200">
                  <a:moveTo>
                    <a:pt x="200" y="197"/>
                  </a:moveTo>
                  <a:lnTo>
                    <a:pt x="200" y="0"/>
                  </a:lnTo>
                  <a:lnTo>
                    <a:pt x="0" y="0"/>
                  </a:lnTo>
                  <a:lnTo>
                    <a:pt x="0" y="200"/>
                  </a:lnTo>
                  <a:lnTo>
                    <a:pt x="200" y="200"/>
                  </a:lnTo>
                  <a:lnTo>
                    <a:pt x="200" y="20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 flipV="1">
              <a:off x="6052680" y="3889800"/>
              <a:ext cx="5976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189400" y="3509640"/>
              <a:ext cx="986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twork 3 (FDDI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908040" y="2395440"/>
              <a:ext cx="570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twork 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800040" y="2532240"/>
              <a:ext cx="822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point-to-point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534360" y="1740240"/>
              <a:ext cx="193320" cy="210240"/>
            </a:xfrm>
            <a:custGeom>
              <a:avLst/>
              <a:gdLst/>
              <a:ahLst/>
              <a:rect l="l" t="t" r="r" b="b"/>
              <a:pathLst>
                <a:path w="200" h="200">
                  <a:moveTo>
                    <a:pt x="0" y="0"/>
                  </a:moveTo>
                  <a:lnTo>
                    <a:pt x="0" y="200"/>
                  </a:lnTo>
                  <a:lnTo>
                    <a:pt x="200" y="200"/>
                  </a:lnTo>
                  <a:lnTo>
                    <a:pt x="20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6631200" y="1600200"/>
              <a:ext cx="2520" cy="13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560280" y="1766520"/>
              <a:ext cx="16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037280" y="1740240"/>
              <a:ext cx="193320" cy="210240"/>
            </a:xfrm>
            <a:custGeom>
              <a:avLst/>
              <a:gdLst/>
              <a:ahLst/>
              <a:rect l="l" t="t" r="r" b="b"/>
              <a:pathLst>
                <a:path w="200" h="200">
                  <a:moveTo>
                    <a:pt x="0" y="0"/>
                  </a:moveTo>
                  <a:lnTo>
                    <a:pt x="0" y="200"/>
                  </a:lnTo>
                  <a:lnTo>
                    <a:pt x="200" y="200"/>
                  </a:lnTo>
                  <a:lnTo>
                    <a:pt x="20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7130880" y="1604160"/>
              <a:ext cx="720" cy="13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070040" y="1766520"/>
              <a:ext cx="16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539840" y="1740240"/>
              <a:ext cx="193320" cy="210240"/>
            </a:xfrm>
            <a:custGeom>
              <a:avLst/>
              <a:gdLst/>
              <a:ahLst/>
              <a:rect l="l" t="t" r="r" b="b"/>
              <a:pathLst>
                <a:path w="200" h="200">
                  <a:moveTo>
                    <a:pt x="0" y="0"/>
                  </a:moveTo>
                  <a:lnTo>
                    <a:pt x="3" y="200"/>
                  </a:lnTo>
                  <a:lnTo>
                    <a:pt x="200" y="200"/>
                  </a:lnTo>
                  <a:lnTo>
                    <a:pt x="200" y="0"/>
                  </a:lnTo>
                  <a:lnTo>
                    <a:pt x="3" y="0"/>
                  </a:lnTo>
                  <a:lnTo>
                    <a:pt x="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7636680" y="1599840"/>
              <a:ext cx="252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566840" y="1766520"/>
              <a:ext cx="16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267080" y="2561760"/>
              <a:ext cx="1508040" cy="720"/>
            </a:xfrm>
            <a:prstGeom prst="line">
              <a:avLst/>
            </a:prstGeom>
            <a:ln w="205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6343560" y="1600200"/>
              <a:ext cx="1504440" cy="1080"/>
            </a:xfrm>
            <a:prstGeom prst="line">
              <a:avLst/>
            </a:prstGeom>
            <a:ln w="205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63880" y="3238200"/>
              <a:ext cx="1629000" cy="719640"/>
            </a:xfrm>
            <a:custGeom>
              <a:avLst/>
              <a:gdLst/>
              <a:ahLst/>
              <a:rect l="l" t="t" r="r" b="b"/>
              <a:pathLst>
                <a:path w="1685" h="684">
                  <a:moveTo>
                    <a:pt x="826" y="681"/>
                  </a:moveTo>
                  <a:lnTo>
                    <a:pt x="968" y="678"/>
                  </a:lnTo>
                  <a:lnTo>
                    <a:pt x="1101" y="665"/>
                  </a:lnTo>
                  <a:lnTo>
                    <a:pt x="1224" y="645"/>
                  </a:lnTo>
                  <a:lnTo>
                    <a:pt x="1337" y="620"/>
                  </a:lnTo>
                  <a:lnTo>
                    <a:pt x="1437" y="584"/>
                  </a:lnTo>
                  <a:lnTo>
                    <a:pt x="1524" y="542"/>
                  </a:lnTo>
                  <a:lnTo>
                    <a:pt x="1592" y="497"/>
                  </a:lnTo>
                  <a:lnTo>
                    <a:pt x="1643" y="449"/>
                  </a:lnTo>
                  <a:lnTo>
                    <a:pt x="1676" y="394"/>
                  </a:lnTo>
                  <a:lnTo>
                    <a:pt x="1685" y="332"/>
                  </a:lnTo>
                  <a:lnTo>
                    <a:pt x="1676" y="277"/>
                  </a:lnTo>
                  <a:lnTo>
                    <a:pt x="1643" y="226"/>
                  </a:lnTo>
                  <a:lnTo>
                    <a:pt x="1592" y="177"/>
                  </a:lnTo>
                  <a:lnTo>
                    <a:pt x="1524" y="132"/>
                  </a:lnTo>
                  <a:lnTo>
                    <a:pt x="1440" y="93"/>
                  </a:lnTo>
                  <a:lnTo>
                    <a:pt x="1340" y="61"/>
                  </a:lnTo>
                  <a:lnTo>
                    <a:pt x="1230" y="35"/>
                  </a:lnTo>
                  <a:lnTo>
                    <a:pt x="1107" y="16"/>
                  </a:lnTo>
                  <a:lnTo>
                    <a:pt x="975" y="3"/>
                  </a:lnTo>
                  <a:lnTo>
                    <a:pt x="836" y="0"/>
                  </a:lnTo>
                  <a:lnTo>
                    <a:pt x="704" y="6"/>
                  </a:lnTo>
                  <a:lnTo>
                    <a:pt x="574" y="19"/>
                  </a:lnTo>
                  <a:lnTo>
                    <a:pt x="455" y="38"/>
                  </a:lnTo>
                  <a:lnTo>
                    <a:pt x="345" y="64"/>
                  </a:lnTo>
                  <a:lnTo>
                    <a:pt x="245" y="97"/>
                  </a:lnTo>
                  <a:lnTo>
                    <a:pt x="161" y="132"/>
                  </a:lnTo>
                  <a:lnTo>
                    <a:pt x="93" y="174"/>
                  </a:lnTo>
                  <a:lnTo>
                    <a:pt x="41" y="222"/>
                  </a:lnTo>
                  <a:lnTo>
                    <a:pt x="9" y="271"/>
                  </a:lnTo>
                  <a:lnTo>
                    <a:pt x="0" y="323"/>
                  </a:lnTo>
                  <a:lnTo>
                    <a:pt x="9" y="377"/>
                  </a:lnTo>
                  <a:lnTo>
                    <a:pt x="38" y="429"/>
                  </a:lnTo>
                  <a:lnTo>
                    <a:pt x="87" y="481"/>
                  </a:lnTo>
                  <a:lnTo>
                    <a:pt x="151" y="526"/>
                  </a:lnTo>
                  <a:lnTo>
                    <a:pt x="232" y="571"/>
                  </a:lnTo>
                  <a:lnTo>
                    <a:pt x="326" y="607"/>
                  </a:lnTo>
                  <a:lnTo>
                    <a:pt x="435" y="639"/>
                  </a:lnTo>
                  <a:lnTo>
                    <a:pt x="555" y="662"/>
                  </a:lnTo>
                  <a:lnTo>
                    <a:pt x="687" y="678"/>
                  </a:lnTo>
                  <a:lnTo>
                    <a:pt x="826" y="684"/>
                  </a:lnTo>
                  <a:lnTo>
                    <a:pt x="826" y="684"/>
                  </a:lnTo>
                </a:path>
              </a:pathLst>
            </a:custGeom>
            <a:noFill/>
            <a:ln w="2052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6549480" y="1950480"/>
              <a:ext cx="577080" cy="1049760"/>
            </a:xfrm>
            <a:prstGeom prst="line">
              <a:avLst/>
            </a:prstGeom>
            <a:ln w="205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1143000" y="4495680"/>
            <a:ext cx="6095520" cy="1432080"/>
            <a:chOff x="1143000" y="4495680"/>
            <a:chExt cx="6095520" cy="1432080"/>
          </a:xfrm>
        </p:grpSpPr>
        <p:sp>
          <p:nvSpPr>
            <p:cNvPr id="90" name=""/>
            <p:cNvSpPr/>
            <p:nvPr/>
          </p:nvSpPr>
          <p:spPr>
            <a:xfrm>
              <a:off x="2093040" y="4851360"/>
              <a:ext cx="1241640" cy="996840"/>
            </a:xfrm>
            <a:custGeom>
              <a:avLst/>
              <a:gdLst/>
              <a:ahLst/>
              <a:rect l="l" t="t" r="r" b="b"/>
              <a:pathLst>
                <a:path w="1065" h="1129">
                  <a:moveTo>
                    <a:pt x="1065" y="1125"/>
                  </a:moveTo>
                  <a:lnTo>
                    <a:pt x="1065" y="0"/>
                  </a:lnTo>
                  <a:lnTo>
                    <a:pt x="0" y="0"/>
                  </a:lnTo>
                  <a:lnTo>
                    <a:pt x="0" y="1129"/>
                  </a:lnTo>
                  <a:lnTo>
                    <a:pt x="1065" y="1129"/>
                  </a:lnTo>
                  <a:lnTo>
                    <a:pt x="1065" y="1129"/>
                  </a:lnTo>
                  <a:lnTo>
                    <a:pt x="1065" y="1125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113280" y="4859280"/>
              <a:ext cx="19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143000" y="4495680"/>
              <a:ext cx="703800" cy="1352520"/>
            </a:xfrm>
            <a:custGeom>
              <a:avLst/>
              <a:gdLst/>
              <a:ahLst/>
              <a:rect l="l" t="t" r="r" b="b"/>
              <a:pathLst>
                <a:path w="604" h="1532">
                  <a:moveTo>
                    <a:pt x="600" y="1528"/>
                  </a:moveTo>
                  <a:lnTo>
                    <a:pt x="604" y="0"/>
                  </a:lnTo>
                  <a:lnTo>
                    <a:pt x="0" y="0"/>
                  </a:lnTo>
                  <a:lnTo>
                    <a:pt x="0" y="1532"/>
                  </a:lnTo>
                  <a:lnTo>
                    <a:pt x="604" y="1532"/>
                  </a:lnTo>
                  <a:lnTo>
                    <a:pt x="604" y="1532"/>
                  </a:lnTo>
                  <a:lnTo>
                    <a:pt x="600" y="1528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242440" y="556380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847600" y="5561280"/>
              <a:ext cx="355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DD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632320" y="5171760"/>
              <a:ext cx="145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181600" y="5524920"/>
              <a:ext cx="443880" cy="212760"/>
            </a:xfrm>
            <a:custGeom>
              <a:avLst/>
              <a:gdLst/>
              <a:ahLst/>
              <a:rect l="l" t="t" r="r" b="b"/>
              <a:pathLst>
                <a:path w="381" h="241">
                  <a:moveTo>
                    <a:pt x="381" y="241"/>
                  </a:moveTo>
                  <a:lnTo>
                    <a:pt x="381" y="0"/>
                  </a:lnTo>
                  <a:lnTo>
                    <a:pt x="0" y="0"/>
                  </a:lnTo>
                  <a:lnTo>
                    <a:pt x="0" y="241"/>
                  </a:lnTo>
                  <a:lnTo>
                    <a:pt x="381" y="241"/>
                  </a:lnTo>
                  <a:lnTo>
                    <a:pt x="381" y="24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475360" y="5134680"/>
              <a:ext cx="444960" cy="217080"/>
            </a:xfrm>
            <a:custGeom>
              <a:avLst/>
              <a:gdLst/>
              <a:ahLst/>
              <a:rect l="l" t="t" r="r" b="b"/>
              <a:pathLst>
                <a:path w="382" h="246">
                  <a:moveTo>
                    <a:pt x="382" y="242"/>
                  </a:moveTo>
                  <a:lnTo>
                    <a:pt x="382" y="0"/>
                  </a:lnTo>
                  <a:lnTo>
                    <a:pt x="0" y="0"/>
                  </a:lnTo>
                  <a:lnTo>
                    <a:pt x="0" y="246"/>
                  </a:lnTo>
                  <a:lnTo>
                    <a:pt x="382" y="246"/>
                  </a:lnTo>
                  <a:lnTo>
                    <a:pt x="382" y="24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432800" y="5184360"/>
              <a:ext cx="145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74400" y="5148000"/>
              <a:ext cx="443880" cy="217080"/>
            </a:xfrm>
            <a:custGeom>
              <a:avLst/>
              <a:gdLst/>
              <a:ahLst/>
              <a:rect l="l" t="t" r="r" b="b"/>
              <a:pathLst>
                <a:path w="381" h="246">
                  <a:moveTo>
                    <a:pt x="381" y="242"/>
                  </a:moveTo>
                  <a:lnTo>
                    <a:pt x="381" y="0"/>
                  </a:lnTo>
                  <a:lnTo>
                    <a:pt x="0" y="0"/>
                  </a:lnTo>
                  <a:lnTo>
                    <a:pt x="0" y="246"/>
                  </a:lnTo>
                  <a:lnTo>
                    <a:pt x="381" y="246"/>
                  </a:lnTo>
                  <a:lnTo>
                    <a:pt x="381" y="24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802240" y="5524920"/>
              <a:ext cx="443880" cy="212760"/>
            </a:xfrm>
            <a:custGeom>
              <a:avLst/>
              <a:gdLst/>
              <a:ahLst/>
              <a:rect l="l" t="t" r="r" b="b"/>
              <a:pathLst>
                <a:path w="381" h="241">
                  <a:moveTo>
                    <a:pt x="381" y="241"/>
                  </a:moveTo>
                  <a:lnTo>
                    <a:pt x="381" y="0"/>
                  </a:lnTo>
                  <a:lnTo>
                    <a:pt x="0" y="0"/>
                  </a:lnTo>
                  <a:lnTo>
                    <a:pt x="0" y="241"/>
                  </a:lnTo>
                  <a:lnTo>
                    <a:pt x="381" y="241"/>
                  </a:lnTo>
                  <a:lnTo>
                    <a:pt x="381" y="24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339200" y="556380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274400" y="5524920"/>
              <a:ext cx="443880" cy="216360"/>
            </a:xfrm>
            <a:custGeom>
              <a:avLst/>
              <a:gdLst/>
              <a:ahLst/>
              <a:rect l="l" t="t" r="r" b="b"/>
              <a:pathLst>
                <a:path w="381" h="245">
                  <a:moveTo>
                    <a:pt x="381" y="241"/>
                  </a:moveTo>
                  <a:lnTo>
                    <a:pt x="381" y="0"/>
                  </a:lnTo>
                  <a:lnTo>
                    <a:pt x="0" y="0"/>
                  </a:lnTo>
                  <a:lnTo>
                    <a:pt x="0" y="245"/>
                  </a:lnTo>
                  <a:lnTo>
                    <a:pt x="381" y="245"/>
                  </a:lnTo>
                  <a:lnTo>
                    <a:pt x="381" y="24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353240" y="481140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C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274400" y="4775400"/>
              <a:ext cx="443880" cy="212760"/>
            </a:xfrm>
            <a:custGeom>
              <a:avLst/>
              <a:gdLst/>
              <a:ahLst/>
              <a:rect l="l" t="t" r="r" b="b"/>
              <a:pathLst>
                <a:path w="381" h="241">
                  <a:moveTo>
                    <a:pt x="381" y="241"/>
                  </a:moveTo>
                  <a:lnTo>
                    <a:pt x="381" y="0"/>
                  </a:lnTo>
                  <a:lnTo>
                    <a:pt x="0" y="0"/>
                  </a:lnTo>
                  <a:lnTo>
                    <a:pt x="0" y="241"/>
                  </a:lnTo>
                  <a:lnTo>
                    <a:pt x="381" y="241"/>
                  </a:lnTo>
                  <a:lnTo>
                    <a:pt x="381" y="24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2396160" y="5351760"/>
              <a:ext cx="185040" cy="16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819520" y="5352120"/>
              <a:ext cx="202680" cy="16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558960" y="4851360"/>
              <a:ext cx="1246320" cy="996840"/>
            </a:xfrm>
            <a:custGeom>
              <a:avLst/>
              <a:gdLst/>
              <a:ahLst/>
              <a:rect l="l" t="t" r="r" b="b"/>
              <a:pathLst>
                <a:path w="1069" h="1129">
                  <a:moveTo>
                    <a:pt x="1065" y="1125"/>
                  </a:moveTo>
                  <a:lnTo>
                    <a:pt x="1069" y="0"/>
                  </a:lnTo>
                  <a:lnTo>
                    <a:pt x="0" y="0"/>
                  </a:lnTo>
                  <a:lnTo>
                    <a:pt x="0" y="1129"/>
                  </a:lnTo>
                  <a:lnTo>
                    <a:pt x="1069" y="1129"/>
                  </a:lnTo>
                  <a:lnTo>
                    <a:pt x="1069" y="1129"/>
                  </a:lnTo>
                  <a:lnTo>
                    <a:pt x="1065" y="1125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73800" y="4859280"/>
              <a:ext cx="19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687120" y="5563800"/>
              <a:ext cx="355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DD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367160" y="556128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099320" y="5171760"/>
              <a:ext cx="145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647520" y="5524920"/>
              <a:ext cx="443880" cy="212760"/>
            </a:xfrm>
            <a:custGeom>
              <a:avLst/>
              <a:gdLst/>
              <a:ahLst/>
              <a:rect l="l" t="t" r="r" b="b"/>
              <a:pathLst>
                <a:path w="381" h="241">
                  <a:moveTo>
                    <a:pt x="381" y="241"/>
                  </a:moveTo>
                  <a:lnTo>
                    <a:pt x="381" y="0"/>
                  </a:lnTo>
                  <a:lnTo>
                    <a:pt x="0" y="0"/>
                  </a:lnTo>
                  <a:lnTo>
                    <a:pt x="0" y="241"/>
                  </a:lnTo>
                  <a:lnTo>
                    <a:pt x="381" y="241"/>
                  </a:lnTo>
                  <a:lnTo>
                    <a:pt x="381" y="24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942360" y="5134680"/>
              <a:ext cx="443880" cy="217080"/>
            </a:xfrm>
            <a:custGeom>
              <a:avLst/>
              <a:gdLst/>
              <a:ahLst/>
              <a:rect l="l" t="t" r="r" b="b"/>
              <a:pathLst>
                <a:path w="381" h="246">
                  <a:moveTo>
                    <a:pt x="381" y="242"/>
                  </a:moveTo>
                  <a:lnTo>
                    <a:pt x="381" y="0"/>
                  </a:lnTo>
                  <a:lnTo>
                    <a:pt x="0" y="0"/>
                  </a:lnTo>
                  <a:lnTo>
                    <a:pt x="0" y="246"/>
                  </a:lnTo>
                  <a:lnTo>
                    <a:pt x="381" y="246"/>
                  </a:lnTo>
                  <a:lnTo>
                    <a:pt x="381" y="24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267800" y="5524920"/>
              <a:ext cx="448560" cy="212760"/>
            </a:xfrm>
            <a:custGeom>
              <a:avLst/>
              <a:gdLst/>
              <a:ahLst/>
              <a:rect l="l" t="t" r="r" b="b"/>
              <a:pathLst>
                <a:path w="385" h="241">
                  <a:moveTo>
                    <a:pt x="381" y="241"/>
                  </a:moveTo>
                  <a:lnTo>
                    <a:pt x="385" y="0"/>
                  </a:lnTo>
                  <a:lnTo>
                    <a:pt x="0" y="0"/>
                  </a:lnTo>
                  <a:lnTo>
                    <a:pt x="0" y="241"/>
                  </a:lnTo>
                  <a:lnTo>
                    <a:pt x="385" y="241"/>
                  </a:lnTo>
                  <a:lnTo>
                    <a:pt x="385" y="24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3866760" y="5351760"/>
              <a:ext cx="180360" cy="16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285080" y="5352120"/>
              <a:ext cx="198000" cy="16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029200" y="4851360"/>
              <a:ext cx="1241640" cy="996840"/>
            </a:xfrm>
            <a:custGeom>
              <a:avLst/>
              <a:gdLst/>
              <a:ahLst/>
              <a:rect l="l" t="t" r="r" b="b"/>
              <a:pathLst>
                <a:path w="1065" h="1129">
                  <a:moveTo>
                    <a:pt x="1065" y="1125"/>
                  </a:moveTo>
                  <a:lnTo>
                    <a:pt x="1065" y="0"/>
                  </a:lnTo>
                  <a:lnTo>
                    <a:pt x="0" y="0"/>
                  </a:lnTo>
                  <a:lnTo>
                    <a:pt x="0" y="1129"/>
                  </a:lnTo>
                  <a:lnTo>
                    <a:pt x="1065" y="1129"/>
                  </a:lnTo>
                  <a:lnTo>
                    <a:pt x="1065" y="1129"/>
                  </a:lnTo>
                  <a:lnTo>
                    <a:pt x="1065" y="1125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045840" y="4859280"/>
              <a:ext cx="19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08480" y="556380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805000" y="556128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566320" y="5171760"/>
              <a:ext cx="145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13080" y="5524920"/>
              <a:ext cx="448560" cy="212760"/>
            </a:xfrm>
            <a:custGeom>
              <a:avLst/>
              <a:gdLst/>
              <a:ahLst/>
              <a:rect l="l" t="t" r="r" b="b"/>
              <a:pathLst>
                <a:path w="385" h="241">
                  <a:moveTo>
                    <a:pt x="381" y="241"/>
                  </a:moveTo>
                  <a:lnTo>
                    <a:pt x="385" y="0"/>
                  </a:lnTo>
                  <a:lnTo>
                    <a:pt x="0" y="0"/>
                  </a:lnTo>
                  <a:lnTo>
                    <a:pt x="0" y="241"/>
                  </a:lnTo>
                  <a:lnTo>
                    <a:pt x="385" y="241"/>
                  </a:lnTo>
                  <a:lnTo>
                    <a:pt x="385" y="24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407920" y="5134680"/>
              <a:ext cx="448920" cy="217080"/>
            </a:xfrm>
            <a:custGeom>
              <a:avLst/>
              <a:gdLst/>
              <a:ahLst/>
              <a:rect l="l" t="t" r="r" b="b"/>
              <a:pathLst>
                <a:path w="385" h="246">
                  <a:moveTo>
                    <a:pt x="381" y="242"/>
                  </a:moveTo>
                  <a:lnTo>
                    <a:pt x="385" y="0"/>
                  </a:lnTo>
                  <a:lnTo>
                    <a:pt x="0" y="0"/>
                  </a:lnTo>
                  <a:lnTo>
                    <a:pt x="0" y="246"/>
                  </a:lnTo>
                  <a:lnTo>
                    <a:pt x="385" y="246"/>
                  </a:lnTo>
                  <a:lnTo>
                    <a:pt x="385" y="24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38040" y="5524920"/>
              <a:ext cx="443880" cy="212760"/>
            </a:xfrm>
            <a:custGeom>
              <a:avLst/>
              <a:gdLst/>
              <a:ahLst/>
              <a:rect l="l" t="t" r="r" b="b"/>
              <a:pathLst>
                <a:path w="381" h="241">
                  <a:moveTo>
                    <a:pt x="381" y="241"/>
                  </a:moveTo>
                  <a:lnTo>
                    <a:pt x="381" y="0"/>
                  </a:lnTo>
                  <a:lnTo>
                    <a:pt x="0" y="0"/>
                  </a:lnTo>
                  <a:lnTo>
                    <a:pt x="0" y="241"/>
                  </a:lnTo>
                  <a:lnTo>
                    <a:pt x="381" y="241"/>
                  </a:lnTo>
                  <a:lnTo>
                    <a:pt x="381" y="24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5333400" y="5351760"/>
              <a:ext cx="179280" cy="16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751000" y="5352120"/>
              <a:ext cx="202680" cy="16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608120" y="4501440"/>
              <a:ext cx="19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534360" y="4495680"/>
              <a:ext cx="704160" cy="1352520"/>
            </a:xfrm>
            <a:custGeom>
              <a:avLst/>
              <a:gdLst/>
              <a:ahLst/>
              <a:rect l="l" t="t" r="r" b="b"/>
              <a:pathLst>
                <a:path w="604" h="1532">
                  <a:moveTo>
                    <a:pt x="600" y="1528"/>
                  </a:moveTo>
                  <a:lnTo>
                    <a:pt x="604" y="0"/>
                  </a:lnTo>
                  <a:lnTo>
                    <a:pt x="0" y="0"/>
                  </a:lnTo>
                  <a:lnTo>
                    <a:pt x="0" y="1532"/>
                  </a:lnTo>
                  <a:lnTo>
                    <a:pt x="604" y="1532"/>
                  </a:lnTo>
                  <a:lnTo>
                    <a:pt x="604" y="1532"/>
                  </a:lnTo>
                  <a:lnTo>
                    <a:pt x="600" y="1528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824520" y="5184360"/>
              <a:ext cx="145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66120" y="5148000"/>
              <a:ext cx="445320" cy="217080"/>
            </a:xfrm>
            <a:custGeom>
              <a:avLst/>
              <a:gdLst/>
              <a:ahLst/>
              <a:rect l="l" t="t" r="r" b="b"/>
              <a:pathLst>
                <a:path w="382" h="246">
                  <a:moveTo>
                    <a:pt x="382" y="242"/>
                  </a:moveTo>
                  <a:lnTo>
                    <a:pt x="382" y="0"/>
                  </a:lnTo>
                  <a:lnTo>
                    <a:pt x="0" y="0"/>
                  </a:lnTo>
                  <a:lnTo>
                    <a:pt x="0" y="246"/>
                  </a:lnTo>
                  <a:lnTo>
                    <a:pt x="382" y="246"/>
                  </a:lnTo>
                  <a:lnTo>
                    <a:pt x="382" y="24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732000" y="556380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666120" y="5524920"/>
              <a:ext cx="445320" cy="216360"/>
            </a:xfrm>
            <a:custGeom>
              <a:avLst/>
              <a:gdLst/>
              <a:ahLst/>
              <a:rect l="l" t="t" r="r" b="b"/>
              <a:pathLst>
                <a:path w="382" h="245">
                  <a:moveTo>
                    <a:pt x="382" y="241"/>
                  </a:moveTo>
                  <a:lnTo>
                    <a:pt x="382" y="0"/>
                  </a:lnTo>
                  <a:lnTo>
                    <a:pt x="0" y="0"/>
                  </a:lnTo>
                  <a:lnTo>
                    <a:pt x="0" y="245"/>
                  </a:lnTo>
                  <a:lnTo>
                    <a:pt x="382" y="245"/>
                  </a:lnTo>
                  <a:lnTo>
                    <a:pt x="382" y="24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744600" y="481140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C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666120" y="4775400"/>
              <a:ext cx="445320" cy="212760"/>
            </a:xfrm>
            <a:custGeom>
              <a:avLst/>
              <a:gdLst/>
              <a:ahLst/>
              <a:rect l="l" t="t" r="r" b="b"/>
              <a:pathLst>
                <a:path w="382" h="241">
                  <a:moveTo>
                    <a:pt x="382" y="241"/>
                  </a:moveTo>
                  <a:lnTo>
                    <a:pt x="382" y="0"/>
                  </a:lnTo>
                  <a:lnTo>
                    <a:pt x="0" y="0"/>
                  </a:lnTo>
                  <a:lnTo>
                    <a:pt x="0" y="241"/>
                  </a:lnTo>
                  <a:lnTo>
                    <a:pt x="382" y="241"/>
                  </a:lnTo>
                  <a:lnTo>
                    <a:pt x="382" y="24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991560" y="4501440"/>
              <a:ext cx="19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494720" y="5741640"/>
              <a:ext cx="901080" cy="183600"/>
            </a:xfrm>
            <a:custGeom>
              <a:avLst/>
              <a:gdLst/>
              <a:ahLst/>
              <a:rect l="l" t="t" r="r" b="b"/>
              <a:pathLst>
                <a:path w="773" h="208">
                  <a:moveTo>
                    <a:pt x="0" y="0"/>
                  </a:moveTo>
                  <a:lnTo>
                    <a:pt x="3" y="208"/>
                  </a:lnTo>
                  <a:lnTo>
                    <a:pt x="773" y="208"/>
                  </a:lnTo>
                  <a:lnTo>
                    <a:pt x="77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22200" y="5738040"/>
              <a:ext cx="844200" cy="189720"/>
            </a:xfrm>
            <a:custGeom>
              <a:avLst/>
              <a:gdLst/>
              <a:ahLst/>
              <a:rect l="l" t="t" r="r" b="b"/>
              <a:pathLst>
                <a:path w="724" h="215">
                  <a:moveTo>
                    <a:pt x="0" y="0"/>
                  </a:moveTo>
                  <a:lnTo>
                    <a:pt x="0" y="215"/>
                  </a:lnTo>
                  <a:lnTo>
                    <a:pt x="724" y="215"/>
                  </a:lnTo>
                  <a:lnTo>
                    <a:pt x="724" y="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88120" y="5738040"/>
              <a:ext cx="845280" cy="189720"/>
            </a:xfrm>
            <a:custGeom>
              <a:avLst/>
              <a:gdLst/>
              <a:ahLst/>
              <a:rect l="l" t="t" r="r" b="b"/>
              <a:pathLst>
                <a:path w="725" h="215">
                  <a:moveTo>
                    <a:pt x="0" y="0"/>
                  </a:moveTo>
                  <a:lnTo>
                    <a:pt x="0" y="215"/>
                  </a:lnTo>
                  <a:lnTo>
                    <a:pt x="725" y="215"/>
                  </a:lnTo>
                  <a:lnTo>
                    <a:pt x="725" y="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953680" y="5738040"/>
              <a:ext cx="937440" cy="189720"/>
            </a:xfrm>
            <a:custGeom>
              <a:avLst/>
              <a:gdLst/>
              <a:ahLst/>
              <a:rect l="l" t="t" r="r" b="b"/>
              <a:pathLst>
                <a:path w="804" h="215">
                  <a:moveTo>
                    <a:pt x="0" y="0"/>
                  </a:moveTo>
                  <a:lnTo>
                    <a:pt x="4" y="215"/>
                  </a:lnTo>
                  <a:lnTo>
                    <a:pt x="804" y="215"/>
                  </a:lnTo>
                  <a:lnTo>
                    <a:pt x="804" y="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6898320" y="5378040"/>
              <a:ext cx="4680" cy="15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6898320" y="4996440"/>
              <a:ext cx="4680" cy="15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1494720" y="4991400"/>
              <a:ext cx="1080" cy="155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1494720" y="5364720"/>
              <a:ext cx="1080" cy="15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BFB8-665F-45A5-95AD-03B08CA1AE2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ervice Model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onless (datagram-bas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st-effort delivery (unreliable serv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ckets are l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ckets are delivered out of 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plicate copies of a packet are deliv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ckets can be delayed for a long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gram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4038120" y="3505320"/>
            <a:ext cx="3286800" cy="2514240"/>
            <a:chOff x="4038120" y="3505320"/>
            <a:chExt cx="3286800" cy="2514240"/>
          </a:xfrm>
        </p:grpSpPr>
        <p:sp>
          <p:nvSpPr>
            <p:cNvPr id="147" name=""/>
            <p:cNvSpPr/>
            <p:nvPr/>
          </p:nvSpPr>
          <p:spPr>
            <a:xfrm>
              <a:off x="4122000" y="372852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191840" y="3728520"/>
              <a:ext cx="345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rs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671360" y="3728520"/>
              <a:ext cx="302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L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214600" y="3726000"/>
              <a:ext cx="261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310800" y="372600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engt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734720" y="400392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d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730120" y="4003920"/>
              <a:ext cx="309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lag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509880" y="4003920"/>
              <a:ext cx="339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ffs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59680" y="42692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T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144760" y="4269240"/>
              <a:ext cx="464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toco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223680" y="4269240"/>
              <a:ext cx="599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ecksu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353560" y="4533480"/>
              <a:ext cx="668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ourceAdd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241600" y="4804200"/>
              <a:ext cx="898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estinationAdd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838040" y="5073840"/>
              <a:ext cx="999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ptions (variable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66920" y="5024160"/>
              <a:ext cx="224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640560" y="5135400"/>
              <a:ext cx="528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variable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067640" y="3663720"/>
              <a:ext cx="3180960" cy="1878120"/>
            </a:xfrm>
            <a:custGeom>
              <a:avLst/>
              <a:gdLst/>
              <a:ahLst/>
              <a:rect l="l" t="t" r="r" b="b"/>
              <a:pathLst>
                <a:path w="3458" h="2075">
                  <a:moveTo>
                    <a:pt x="3458" y="2071"/>
                  </a:moveTo>
                  <a:lnTo>
                    <a:pt x="3458" y="0"/>
                  </a:lnTo>
                  <a:lnTo>
                    <a:pt x="0" y="0"/>
                  </a:lnTo>
                  <a:lnTo>
                    <a:pt x="0" y="2075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67640" y="3933360"/>
              <a:ext cx="3180960" cy="7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67640" y="4204080"/>
              <a:ext cx="3180960" cy="7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067640" y="4473720"/>
              <a:ext cx="3180960" cy="7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67640" y="4744440"/>
              <a:ext cx="3180960" cy="2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078800" y="5015880"/>
              <a:ext cx="3180960" cy="3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668560" y="3669120"/>
              <a:ext cx="720" cy="817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043960" y="3659760"/>
              <a:ext cx="720" cy="273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068520" y="3933360"/>
              <a:ext cx="720" cy="270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478200" y="5018040"/>
              <a:ext cx="2520" cy="270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043960" y="4204080"/>
              <a:ext cx="720" cy="269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57240" y="3659760"/>
              <a:ext cx="720" cy="273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038120" y="3505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523760" y="3505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009400" y="3505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589000" y="35053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047280" y="35053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184160" y="35053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067640" y="5288400"/>
              <a:ext cx="3180960" cy="368280"/>
            </a:xfrm>
            <a:custGeom>
              <a:avLst/>
              <a:gdLst/>
              <a:ahLst/>
              <a:rect l="l" t="t" r="r" b="b"/>
              <a:pathLst>
                <a:path w="3458" h="407">
                  <a:moveTo>
                    <a:pt x="0" y="375"/>
                  </a:moveTo>
                  <a:lnTo>
                    <a:pt x="0" y="0"/>
                  </a:lnTo>
                  <a:lnTo>
                    <a:pt x="3458" y="0"/>
                  </a:lnTo>
                  <a:lnTo>
                    <a:pt x="3458" y="375"/>
                  </a:lnTo>
                  <a:lnTo>
                    <a:pt x="3217" y="254"/>
                  </a:lnTo>
                  <a:lnTo>
                    <a:pt x="2926" y="349"/>
                  </a:lnTo>
                  <a:lnTo>
                    <a:pt x="2667" y="200"/>
                  </a:lnTo>
                  <a:lnTo>
                    <a:pt x="2481" y="349"/>
                  </a:lnTo>
                  <a:lnTo>
                    <a:pt x="2223" y="276"/>
                  </a:lnTo>
                  <a:lnTo>
                    <a:pt x="1964" y="345"/>
                  </a:lnTo>
                  <a:lnTo>
                    <a:pt x="1716" y="251"/>
                  </a:lnTo>
                  <a:lnTo>
                    <a:pt x="1520" y="367"/>
                  </a:lnTo>
                  <a:lnTo>
                    <a:pt x="1352" y="258"/>
                  </a:lnTo>
                  <a:lnTo>
                    <a:pt x="1155" y="324"/>
                  </a:lnTo>
                  <a:lnTo>
                    <a:pt x="984" y="251"/>
                  </a:lnTo>
                  <a:lnTo>
                    <a:pt x="780" y="407"/>
                  </a:lnTo>
                  <a:lnTo>
                    <a:pt x="612" y="265"/>
                  </a:lnTo>
                  <a:lnTo>
                    <a:pt x="387" y="345"/>
                  </a:lnTo>
                  <a:lnTo>
                    <a:pt x="208" y="265"/>
                  </a:lnTo>
                  <a:lnTo>
                    <a:pt x="0" y="378"/>
                  </a:lnTo>
                  <a:lnTo>
                    <a:pt x="0" y="378"/>
                  </a:lnTo>
                  <a:lnTo>
                    <a:pt x="0" y="375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067640" y="5288400"/>
              <a:ext cx="3180960" cy="368280"/>
            </a:xfrm>
            <a:custGeom>
              <a:avLst/>
              <a:gdLst/>
              <a:ahLst/>
              <a:rect l="l" t="t" r="r" b="b"/>
              <a:pathLst>
                <a:path w="3458" h="407">
                  <a:moveTo>
                    <a:pt x="0" y="375"/>
                  </a:moveTo>
                  <a:lnTo>
                    <a:pt x="0" y="0"/>
                  </a:lnTo>
                  <a:lnTo>
                    <a:pt x="3458" y="0"/>
                  </a:lnTo>
                  <a:lnTo>
                    <a:pt x="3458" y="375"/>
                  </a:lnTo>
                  <a:lnTo>
                    <a:pt x="3217" y="254"/>
                  </a:lnTo>
                  <a:lnTo>
                    <a:pt x="2926" y="349"/>
                  </a:lnTo>
                  <a:lnTo>
                    <a:pt x="2667" y="200"/>
                  </a:lnTo>
                  <a:lnTo>
                    <a:pt x="2481" y="349"/>
                  </a:lnTo>
                  <a:lnTo>
                    <a:pt x="2223" y="276"/>
                  </a:lnTo>
                  <a:lnTo>
                    <a:pt x="1964" y="345"/>
                  </a:lnTo>
                  <a:lnTo>
                    <a:pt x="1716" y="251"/>
                  </a:lnTo>
                  <a:lnTo>
                    <a:pt x="1520" y="367"/>
                  </a:lnTo>
                  <a:lnTo>
                    <a:pt x="1352" y="258"/>
                  </a:lnTo>
                  <a:lnTo>
                    <a:pt x="1155" y="324"/>
                  </a:lnTo>
                  <a:lnTo>
                    <a:pt x="984" y="251"/>
                  </a:lnTo>
                  <a:lnTo>
                    <a:pt x="780" y="407"/>
                  </a:lnTo>
                  <a:lnTo>
                    <a:pt x="612" y="265"/>
                  </a:lnTo>
                  <a:lnTo>
                    <a:pt x="387" y="345"/>
                  </a:lnTo>
                  <a:lnTo>
                    <a:pt x="208" y="265"/>
                  </a:lnTo>
                  <a:lnTo>
                    <a:pt x="0" y="378"/>
                  </a:lnTo>
                  <a:lnTo>
                    <a:pt x="0" y="378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530320" y="5318280"/>
              <a:ext cx="26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071600" y="5568120"/>
              <a:ext cx="3180240" cy="451440"/>
            </a:xfrm>
            <a:custGeom>
              <a:avLst/>
              <a:gdLst/>
              <a:ahLst/>
              <a:rect l="l" t="t" r="r" b="b"/>
              <a:pathLst>
                <a:path w="3457" h="499">
                  <a:moveTo>
                    <a:pt x="0" y="175"/>
                  </a:moveTo>
                  <a:lnTo>
                    <a:pt x="4" y="499"/>
                  </a:lnTo>
                  <a:lnTo>
                    <a:pt x="3457" y="499"/>
                  </a:lnTo>
                  <a:lnTo>
                    <a:pt x="3457" y="171"/>
                  </a:lnTo>
                  <a:lnTo>
                    <a:pt x="3220" y="55"/>
                  </a:lnTo>
                  <a:lnTo>
                    <a:pt x="2929" y="149"/>
                  </a:lnTo>
                  <a:lnTo>
                    <a:pt x="2670" y="0"/>
                  </a:lnTo>
                  <a:lnTo>
                    <a:pt x="2485" y="149"/>
                  </a:lnTo>
                  <a:lnTo>
                    <a:pt x="2226" y="73"/>
                  </a:lnTo>
                  <a:lnTo>
                    <a:pt x="1964" y="146"/>
                  </a:lnTo>
                  <a:lnTo>
                    <a:pt x="1716" y="51"/>
                  </a:lnTo>
                  <a:lnTo>
                    <a:pt x="1519" y="164"/>
                  </a:lnTo>
                  <a:lnTo>
                    <a:pt x="1352" y="58"/>
                  </a:lnTo>
                  <a:lnTo>
                    <a:pt x="1155" y="124"/>
                  </a:lnTo>
                  <a:lnTo>
                    <a:pt x="984" y="51"/>
                  </a:lnTo>
                  <a:lnTo>
                    <a:pt x="780" y="208"/>
                  </a:lnTo>
                  <a:lnTo>
                    <a:pt x="612" y="66"/>
                  </a:lnTo>
                  <a:lnTo>
                    <a:pt x="390" y="146"/>
                  </a:lnTo>
                  <a:lnTo>
                    <a:pt x="211" y="66"/>
                  </a:lnTo>
                  <a:lnTo>
                    <a:pt x="4" y="178"/>
                  </a:lnTo>
                  <a:lnTo>
                    <a:pt x="4" y="178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071600" y="5568120"/>
              <a:ext cx="3180240" cy="451440"/>
            </a:xfrm>
            <a:custGeom>
              <a:avLst/>
              <a:gdLst/>
              <a:ahLst/>
              <a:rect l="l" t="t" r="r" b="b"/>
              <a:pathLst>
                <a:path w="3457" h="499">
                  <a:moveTo>
                    <a:pt x="0" y="175"/>
                  </a:moveTo>
                  <a:lnTo>
                    <a:pt x="4" y="499"/>
                  </a:lnTo>
                  <a:lnTo>
                    <a:pt x="3457" y="499"/>
                  </a:lnTo>
                  <a:lnTo>
                    <a:pt x="3457" y="171"/>
                  </a:lnTo>
                  <a:lnTo>
                    <a:pt x="3220" y="55"/>
                  </a:lnTo>
                  <a:lnTo>
                    <a:pt x="2929" y="149"/>
                  </a:lnTo>
                  <a:lnTo>
                    <a:pt x="2670" y="0"/>
                  </a:lnTo>
                  <a:lnTo>
                    <a:pt x="2485" y="149"/>
                  </a:lnTo>
                  <a:lnTo>
                    <a:pt x="2226" y="73"/>
                  </a:lnTo>
                  <a:lnTo>
                    <a:pt x="1964" y="146"/>
                  </a:lnTo>
                  <a:lnTo>
                    <a:pt x="1716" y="51"/>
                  </a:lnTo>
                  <a:lnTo>
                    <a:pt x="1519" y="164"/>
                  </a:lnTo>
                  <a:lnTo>
                    <a:pt x="1352" y="58"/>
                  </a:lnTo>
                  <a:lnTo>
                    <a:pt x="1155" y="124"/>
                  </a:lnTo>
                  <a:lnTo>
                    <a:pt x="984" y="51"/>
                  </a:lnTo>
                  <a:lnTo>
                    <a:pt x="780" y="208"/>
                  </a:lnTo>
                  <a:lnTo>
                    <a:pt x="612" y="66"/>
                  </a:lnTo>
                  <a:lnTo>
                    <a:pt x="390" y="146"/>
                  </a:lnTo>
                  <a:lnTo>
                    <a:pt x="211" y="66"/>
                  </a:lnTo>
                  <a:lnTo>
                    <a:pt x="4" y="178"/>
                  </a:lnTo>
                  <a:lnTo>
                    <a:pt x="4" y="178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9E1E-55D5-463B-8E60-22718489C2D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Fragmentation and Reassembly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network has some M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e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gment when necessary (MTU &lt; Datagra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y to avoid fragmentation at source h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-fragmentation is possi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gments are self-contained data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CS-PDU (not cells) for A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ay reassembly until destination h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 not recover from lost fragm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4495-B28E-4603-9538-9649BD6D628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Example 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89" name="PE04F04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5257800" cy="2079720"/>
          </a:xfrm>
          <a:prstGeom prst="rect">
            <a:avLst/>
          </a:prstGeom>
          <a:ln w="0">
            <a:noFill/>
          </a:ln>
        </p:spPr>
      </p:pic>
      <p:grpSp>
        <p:nvGrpSpPr>
          <p:cNvPr id="190" name=""/>
          <p:cNvGrpSpPr/>
          <p:nvPr/>
        </p:nvGrpSpPr>
        <p:grpSpPr>
          <a:xfrm>
            <a:off x="6400800" y="1066680"/>
            <a:ext cx="2097000" cy="1027080"/>
            <a:chOff x="6400800" y="1066680"/>
            <a:chExt cx="2097000" cy="1027080"/>
          </a:xfrm>
        </p:grpSpPr>
        <p:sp>
          <p:nvSpPr>
            <p:cNvPr id="191" name=""/>
            <p:cNvSpPr/>
            <p:nvPr/>
          </p:nvSpPr>
          <p:spPr>
            <a:xfrm>
              <a:off x="6680520" y="133956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den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903000" y="1339560"/>
              <a:ext cx="189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= 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9560" y="1339560"/>
              <a:ext cx="307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ffse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76320" y="1339560"/>
              <a:ext cx="195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= 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120440" y="1104840"/>
              <a:ext cx="761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tart of head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681320" y="13442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800" y="1560240"/>
              <a:ext cx="755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st of head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095240" y="1841400"/>
              <a:ext cx="820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400 data byt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400800" y="1066680"/>
              <a:ext cx="2090880" cy="1027080"/>
            </a:xfrm>
            <a:custGeom>
              <a:avLst/>
              <a:gdLst/>
              <a:ahLst/>
              <a:rect l="l" t="t" r="r" b="b"/>
              <a:pathLst>
                <a:path w="1816" h="741">
                  <a:moveTo>
                    <a:pt x="1813" y="741"/>
                  </a:moveTo>
                  <a:lnTo>
                    <a:pt x="1816" y="0"/>
                  </a:lnTo>
                  <a:lnTo>
                    <a:pt x="0" y="0"/>
                  </a:lnTo>
                  <a:lnTo>
                    <a:pt x="0" y="741"/>
                  </a:lnTo>
                  <a:lnTo>
                    <a:pt x="1816" y="741"/>
                  </a:lnTo>
                  <a:lnTo>
                    <a:pt x="1816" y="741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400800" y="1293480"/>
              <a:ext cx="20844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400800" y="1518840"/>
              <a:ext cx="20844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413400" y="1726920"/>
              <a:ext cx="20844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794720" y="1328400"/>
              <a:ext cx="0" cy="200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640640" y="1296720"/>
              <a:ext cx="1440" cy="220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493040" y="1296720"/>
              <a:ext cx="3240" cy="220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350120" y="1296720"/>
              <a:ext cx="1440" cy="220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6400800" y="2743200"/>
            <a:ext cx="2097000" cy="3314520"/>
            <a:chOff x="6400800" y="2743200"/>
            <a:chExt cx="2097000" cy="3314520"/>
          </a:xfrm>
        </p:grpSpPr>
        <p:grpSp>
          <p:nvGrpSpPr>
            <p:cNvPr id="208" name=""/>
            <p:cNvGrpSpPr/>
            <p:nvPr/>
          </p:nvGrpSpPr>
          <p:grpSpPr>
            <a:xfrm>
              <a:off x="6400800" y="2743200"/>
              <a:ext cx="2097000" cy="1028520"/>
              <a:chOff x="6400800" y="2743200"/>
              <a:chExt cx="2097000" cy="1028520"/>
            </a:xfrm>
          </p:grpSpPr>
          <p:sp>
            <p:nvSpPr>
              <p:cNvPr id="209" name=""/>
              <p:cNvSpPr/>
              <p:nvPr/>
            </p:nvSpPr>
            <p:spPr>
              <a:xfrm>
                <a:off x="6680520" y="301752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den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903000" y="3017520"/>
                <a:ext cx="1897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= x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7909560" y="3017520"/>
                <a:ext cx="307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Offse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176320" y="3017520"/>
                <a:ext cx="1958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= 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120440" y="2779560"/>
                <a:ext cx="761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tart of head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681320" y="30175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129800" y="3233520"/>
                <a:ext cx="7552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est of head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122600" y="3514680"/>
                <a:ext cx="7567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512 data byte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400800" y="2743200"/>
                <a:ext cx="2090880" cy="1028520"/>
              </a:xfrm>
              <a:custGeom>
                <a:avLst/>
                <a:gdLst/>
                <a:ahLst/>
                <a:rect l="l" t="t" r="r" b="b"/>
                <a:pathLst>
                  <a:path w="1816" h="742">
                    <a:moveTo>
                      <a:pt x="1813" y="739"/>
                    </a:moveTo>
                    <a:lnTo>
                      <a:pt x="1816" y="0"/>
                    </a:lnTo>
                    <a:lnTo>
                      <a:pt x="0" y="0"/>
                    </a:lnTo>
                    <a:lnTo>
                      <a:pt x="0" y="742"/>
                    </a:lnTo>
                    <a:lnTo>
                      <a:pt x="1816" y="742"/>
                    </a:lnTo>
                    <a:lnTo>
                      <a:pt x="1816" y="742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413400" y="2944800"/>
                <a:ext cx="2084400" cy="2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400800" y="3193920"/>
                <a:ext cx="2084400" cy="32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400800" y="3421080"/>
                <a:ext cx="2084400" cy="4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794720" y="2944800"/>
                <a:ext cx="0" cy="264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640640" y="2970000"/>
                <a:ext cx="1440" cy="2239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493040" y="2970000"/>
                <a:ext cx="3240" cy="2239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350120" y="2970000"/>
                <a:ext cx="1440" cy="2239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6400800" y="3886200"/>
              <a:ext cx="2090520" cy="1028520"/>
              <a:chOff x="6400800" y="3886200"/>
              <a:chExt cx="2090520" cy="1028520"/>
            </a:xfrm>
          </p:grpSpPr>
          <p:sp>
            <p:nvSpPr>
              <p:cNvPr id="226" name=""/>
              <p:cNvSpPr/>
              <p:nvPr/>
            </p:nvSpPr>
            <p:spPr>
              <a:xfrm>
                <a:off x="6680160" y="416088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den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902280" y="4160880"/>
                <a:ext cx="1897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= x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854840" y="4160880"/>
                <a:ext cx="307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Offse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118000" y="4160880"/>
                <a:ext cx="3240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= 51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119720" y="3922560"/>
                <a:ext cx="761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tart of head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680960" y="41608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129080" y="4381560"/>
                <a:ext cx="7552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est of head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122240" y="4657680"/>
                <a:ext cx="7567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512 data byte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400800" y="3886200"/>
                <a:ext cx="2090520" cy="1028520"/>
              </a:xfrm>
              <a:custGeom>
                <a:avLst/>
                <a:gdLst/>
                <a:ahLst/>
                <a:rect l="l" t="t" r="r" b="b"/>
                <a:pathLst>
                  <a:path w="1816" h="742">
                    <a:moveTo>
                      <a:pt x="1813" y="739"/>
                    </a:moveTo>
                    <a:lnTo>
                      <a:pt x="1816" y="0"/>
                    </a:lnTo>
                    <a:lnTo>
                      <a:pt x="0" y="0"/>
                    </a:lnTo>
                    <a:lnTo>
                      <a:pt x="0" y="742"/>
                    </a:lnTo>
                    <a:lnTo>
                      <a:pt x="1816" y="742"/>
                    </a:lnTo>
                    <a:lnTo>
                      <a:pt x="1816" y="742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400800" y="4110120"/>
                <a:ext cx="2084040" cy="2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400800" y="4338720"/>
                <a:ext cx="20840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400800" y="4565520"/>
                <a:ext cx="208404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794360" y="4098960"/>
                <a:ext cx="2880" cy="225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640280" y="4113000"/>
                <a:ext cx="1080" cy="2257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492680" y="4113000"/>
                <a:ext cx="2880" cy="2257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349760" y="4113000"/>
                <a:ext cx="1080" cy="2257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6400800" y="5029200"/>
              <a:ext cx="2097000" cy="1028520"/>
              <a:chOff x="6400800" y="5029200"/>
              <a:chExt cx="2097000" cy="1028520"/>
            </a:xfrm>
          </p:grpSpPr>
          <p:sp>
            <p:nvSpPr>
              <p:cNvPr id="243" name=""/>
              <p:cNvSpPr/>
              <p:nvPr/>
            </p:nvSpPr>
            <p:spPr>
              <a:xfrm>
                <a:off x="6680520" y="530388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den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903000" y="5303880"/>
                <a:ext cx="1897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= x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825320" y="5303880"/>
                <a:ext cx="307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Offse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091360" y="5303880"/>
                <a:ext cx="3877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= 1024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120440" y="5070600"/>
                <a:ext cx="761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tart of head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681320" y="53038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129800" y="5524560"/>
                <a:ext cx="7552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est of head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122600" y="5803920"/>
                <a:ext cx="7567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376 data byte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400800" y="5029200"/>
                <a:ext cx="2090880" cy="1028520"/>
              </a:xfrm>
              <a:custGeom>
                <a:avLst/>
                <a:gdLst/>
                <a:ahLst/>
                <a:rect l="l" t="t" r="r" b="b"/>
                <a:pathLst>
                  <a:path w="1816" h="742">
                    <a:moveTo>
                      <a:pt x="1813" y="742"/>
                    </a:moveTo>
                    <a:lnTo>
                      <a:pt x="1816" y="0"/>
                    </a:lnTo>
                    <a:lnTo>
                      <a:pt x="0" y="0"/>
                    </a:lnTo>
                    <a:lnTo>
                      <a:pt x="0" y="742"/>
                    </a:lnTo>
                    <a:lnTo>
                      <a:pt x="1816" y="742"/>
                    </a:lnTo>
                    <a:lnTo>
                      <a:pt x="1816" y="742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400800" y="5257800"/>
                <a:ext cx="2084400" cy="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413400" y="5451480"/>
                <a:ext cx="20844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400800" y="5711760"/>
                <a:ext cx="208440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794720" y="5251320"/>
                <a:ext cx="3240" cy="220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640640" y="5261040"/>
                <a:ext cx="1440" cy="220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493040" y="5261040"/>
                <a:ext cx="3240" cy="220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350120" y="5261040"/>
                <a:ext cx="1440" cy="220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9" name=""/>
          <p:cNvSpPr/>
          <p:nvPr/>
        </p:nvSpPr>
        <p:spPr>
          <a:xfrm>
            <a:off x="7467480" y="21337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D4BA-0B7F-4975-A20D-6BD86C66A52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Global Addresse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ly un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erarchical: network + 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t N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.3.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8.96.33.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2.12.69.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4190760" y="3124080"/>
            <a:ext cx="4097160" cy="2280960"/>
            <a:chOff x="4190760" y="3124080"/>
            <a:chExt cx="4097160" cy="2280960"/>
          </a:xfrm>
        </p:grpSpPr>
        <p:sp>
          <p:nvSpPr>
            <p:cNvPr id="263" name=""/>
            <p:cNvSpPr/>
            <p:nvPr/>
          </p:nvSpPr>
          <p:spPr>
            <a:xfrm>
              <a:off x="5095800" y="3466440"/>
              <a:ext cx="74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913080" y="3466440"/>
              <a:ext cx="41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o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405400" y="3124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017480" y="31240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734720" y="34664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641480" y="3368520"/>
              <a:ext cx="3646440" cy="403560"/>
            </a:xfrm>
            <a:custGeom>
              <a:avLst/>
              <a:gdLst/>
              <a:ahLst/>
              <a:rect l="l" t="t" r="r" b="b"/>
              <a:pathLst>
                <a:path w="2638" h="330">
                  <a:moveTo>
                    <a:pt x="2638" y="326"/>
                  </a:moveTo>
                  <a:lnTo>
                    <a:pt x="2638" y="0"/>
                  </a:lnTo>
                  <a:lnTo>
                    <a:pt x="0" y="0"/>
                  </a:lnTo>
                  <a:lnTo>
                    <a:pt x="0" y="330"/>
                  </a:lnTo>
                  <a:lnTo>
                    <a:pt x="2638" y="330"/>
                  </a:lnTo>
                  <a:lnTo>
                    <a:pt x="2638" y="33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934520" y="3368520"/>
              <a:ext cx="5400" cy="40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901120" y="3353760"/>
              <a:ext cx="5040" cy="40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194720" y="34430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735160" y="4295880"/>
              <a:ext cx="74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378200" y="4295880"/>
              <a:ext cx="41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o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995800" y="39520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477920" y="39520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734720" y="42958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028480" y="42958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641480" y="4197960"/>
              <a:ext cx="3646440" cy="397440"/>
            </a:xfrm>
            <a:custGeom>
              <a:avLst/>
              <a:gdLst/>
              <a:ahLst/>
              <a:rect l="l" t="t" r="r" b="b"/>
              <a:pathLst>
                <a:path w="2638" h="325">
                  <a:moveTo>
                    <a:pt x="2638" y="321"/>
                  </a:moveTo>
                  <a:lnTo>
                    <a:pt x="2638" y="0"/>
                  </a:lnTo>
                  <a:lnTo>
                    <a:pt x="0" y="0"/>
                  </a:lnTo>
                  <a:lnTo>
                    <a:pt x="0" y="325"/>
                  </a:lnTo>
                  <a:lnTo>
                    <a:pt x="2638" y="325"/>
                  </a:lnTo>
                  <a:lnTo>
                    <a:pt x="2638" y="32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934520" y="4197960"/>
              <a:ext cx="5400" cy="39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222160" y="4197960"/>
              <a:ext cx="1440" cy="39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896160" y="4176000"/>
              <a:ext cx="5040" cy="39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90760" y="427392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00640" y="5100840"/>
              <a:ext cx="74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723800" y="5100840"/>
              <a:ext cx="41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o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441120" y="47570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858800" y="47570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30040" y="51008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033520" y="51008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337000" y="51008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641480" y="5002920"/>
              <a:ext cx="3646440" cy="402120"/>
            </a:xfrm>
            <a:custGeom>
              <a:avLst/>
              <a:gdLst/>
              <a:ahLst/>
              <a:rect l="l" t="t" r="r" b="b"/>
              <a:pathLst>
                <a:path w="2638" h="329">
                  <a:moveTo>
                    <a:pt x="2638" y="326"/>
                  </a:moveTo>
                  <a:lnTo>
                    <a:pt x="2638" y="0"/>
                  </a:lnTo>
                  <a:lnTo>
                    <a:pt x="0" y="0"/>
                  </a:lnTo>
                  <a:lnTo>
                    <a:pt x="0" y="329"/>
                  </a:lnTo>
                  <a:lnTo>
                    <a:pt x="2638" y="329"/>
                  </a:lnTo>
                  <a:lnTo>
                    <a:pt x="2638" y="32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934520" y="5002920"/>
              <a:ext cx="5400" cy="39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568840" y="4998240"/>
              <a:ext cx="1440" cy="39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227560" y="5002920"/>
              <a:ext cx="1440" cy="40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40560" y="5002920"/>
              <a:ext cx="1080" cy="40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201920" y="5091120"/>
              <a:ext cx="20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E1B5-C61A-4852-AB8E-7CEC0FEFE51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Datagram Forwarding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ate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 datagram contains destination’s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rectly connected to destination network, then forward to 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not directly connected to destination network, then forward to some ro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ing table maps network number into next 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host has a default ro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router maintains a forwarding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 (R2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twork Numb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Next H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R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R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interfac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interface 0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029200" y="434340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029200" y="46483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010280" y="43434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7AD5-2F34-4DEA-8C91-C7BCD3AB52F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ddress Translation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p IP addresses into physical addr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tination 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hop ro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chn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ode physical address in host part of IP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-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 of IP to physical address bind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adcast request if IP address not in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 machine responds with its physical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 entries are discarded if not refres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219B-B7C1-454D-8F6B-69F101D7E48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RP Details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es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rdwareType: type of physical network (e.g., Ethern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tocolType: type of higher layer protocol (e.g., I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LEN &amp; PLEN: length of physical and protocol addr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ion: request or respon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urce/Target-Physical/Protocol addr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 entries timeout in about 10 min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table with source when you are the targ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table if already have an en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 not refresh table entries upon 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DB4C-4A28-4622-977A-93AA6CE0BD5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1T02:01:05Z</dcterms:created>
  <dc:creator>klp</dc:creator>
  <dc:description/>
  <dc:language>en-US</dc:language>
  <cp:lastModifiedBy>Larry Peterson</cp:lastModifiedBy>
  <cp:lastPrinted>2000-02-14T14:12:02Z</cp:lastPrinted>
  <dcterms:modified xsi:type="dcterms:W3CDTF">2000-02-14T14:21:24Z</dcterms:modified>
  <cp:revision>11</cp:revision>
  <dc:subject/>
  <dc:title>Internetworking </dc:title>
</cp:coreProperties>
</file>