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732-68C4-4E8E-A356-D2820E64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7C0-3AAA-4F88-89FC-8493DAA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844-364C-46D6-AFB1-D66CE023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C99-E026-4896-8DA3-4D937F7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A9A-21AF-483A-AA39-E8E873BE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FE4-912A-4B79-877A-7281E8D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C26-C668-4392-A691-DF9F51CF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9F2-4957-4C4C-A627-CF678E9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EDE-F048-4F2F-BE60-8D15862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F3E-C66C-45D8-9DA0-639E26B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F22-0AB8-499A-A41B-4836117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A55-3B95-4053-8FAF-11BB527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483-0EDC-46FE-9B55-33BFA9948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gestion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ing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ng to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4BB-86AA-4C84-B5BB-EA9EE1CA61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the source determine whether or not the network is cong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timeou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ignals that a packet wa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seldom lost due to transmiss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packet impli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9A0-7129-4953-A7C2-401EF872CC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 increment a little for each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 = (MSS * MSS)/Congestion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 += 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3560" y="1220760"/>
            <a:ext cx="1753560" cy="2892600"/>
            <a:chOff x="6703560" y="1220760"/>
            <a:chExt cx="1753560" cy="2892600"/>
          </a:xfrm>
        </p:grpSpPr>
        <p:sp>
          <p:nvSpPr>
            <p:cNvPr id="223" name=""/>
            <p:cNvSpPr/>
            <p:nvPr/>
          </p:nvSpPr>
          <p:spPr>
            <a:xfrm>
              <a:off x="6703560" y="12207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3240" y="122076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8960" y="1352880"/>
              <a:ext cx="720" cy="27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98600" y="1357920"/>
              <a:ext cx="360" cy="27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8960" y="145656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8560" y="1681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840000" y="1707480"/>
              <a:ext cx="8578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98960" y="19821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98960" y="2008080"/>
              <a:ext cx="853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48560" y="2236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840000" y="2262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8960" y="25365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98960" y="2106720"/>
              <a:ext cx="85392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48560" y="2334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840000" y="2360160"/>
              <a:ext cx="85788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8960" y="2632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98960" y="25650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8560" y="2793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40000" y="28191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8960" y="309060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98960" y="266112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48560" y="2889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40000" y="291492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98960" y="3189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98960" y="275940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48560" y="29876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840000" y="30135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98960" y="328536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98960" y="3121560"/>
              <a:ext cx="8539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48560" y="33472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840000" y="337320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8960" y="36482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98960" y="32176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48560" y="3445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840000" y="3471840"/>
              <a:ext cx="857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8960" y="3744000"/>
              <a:ext cx="49680" cy="298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63" y="0"/>
                  </a:moveTo>
                  <a:lnTo>
                    <a:pt x="0" y="32"/>
                  </a:lnTo>
                  <a:lnTo>
                    <a:pt x="72" y="35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98960" y="3316320"/>
              <a:ext cx="8539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48560" y="354168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6"/>
                  </a:moveTo>
                  <a:lnTo>
                    <a:pt x="72" y="33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40000" y="356796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98960" y="38419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98960" y="3412080"/>
              <a:ext cx="8539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48560" y="364032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33"/>
                  </a:moveTo>
                  <a:lnTo>
                    <a:pt x="72" y="30"/>
                  </a:lnTo>
                  <a:lnTo>
                    <a:pt x="9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40000" y="3666240"/>
              <a:ext cx="85788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98960" y="3938040"/>
              <a:ext cx="49680" cy="3096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63" y="0"/>
                  </a:moveTo>
                  <a:lnTo>
                    <a:pt x="0" y="33"/>
                  </a:lnTo>
                  <a:lnTo>
                    <a:pt x="72" y="36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7159680" y="39171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7034760" y="3978000"/>
              <a:ext cx="212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0492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acket per RT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wo whenever a timeout occu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icative 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5AA-8EBA-4A13-94E5-975E3F8FB7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: sawtoot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5320" y="3019320"/>
            <a:ext cx="7849440" cy="2232000"/>
            <a:chOff x="625320" y="3019320"/>
            <a:chExt cx="7849440" cy="2232000"/>
          </a:xfrm>
        </p:grpSpPr>
        <p:sp>
          <p:nvSpPr>
            <p:cNvPr id="273" name=""/>
            <p:cNvSpPr/>
            <p:nvPr/>
          </p:nvSpPr>
          <p:spPr>
            <a:xfrm>
              <a:off x="921960" y="3235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1960" y="4092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84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362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5388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200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70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782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9104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94120" y="4740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614160" y="3746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91240" y="50529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9560" y="505296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e (secon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21960" y="3019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21960" y="3876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21960" y="3660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1960" y="3451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21960" y="4308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4000" y="47401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11400" y="3773520"/>
              <a:ext cx="7067520" cy="863640"/>
            </a:xfrm>
            <a:custGeom>
              <a:avLst/>
              <a:gdLst/>
              <a:ahLst/>
              <a:rect l="l" t="t" r="r" b="b"/>
              <a:pathLst>
                <a:path w="4452" h="544">
                  <a:moveTo>
                    <a:pt x="0" y="544"/>
                  </a:moveTo>
                  <a:lnTo>
                    <a:pt x="1423" y="110"/>
                  </a:lnTo>
                  <a:lnTo>
                    <a:pt x="1423" y="340"/>
                  </a:lnTo>
                  <a:lnTo>
                    <a:pt x="2486" y="0"/>
                  </a:lnTo>
                  <a:lnTo>
                    <a:pt x="2486" y="269"/>
                  </a:lnTo>
                  <a:lnTo>
                    <a:pt x="2932" y="136"/>
                  </a:lnTo>
                  <a:lnTo>
                    <a:pt x="2932" y="336"/>
                  </a:lnTo>
                  <a:lnTo>
                    <a:pt x="3967" y="0"/>
                  </a:lnTo>
                  <a:lnTo>
                    <a:pt x="3967" y="272"/>
                  </a:lnTo>
                  <a:lnTo>
                    <a:pt x="4452" y="136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19240" y="3341520"/>
              <a:ext cx="871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9240" y="313200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19240" y="420516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9240" y="398952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9240" y="3773520"/>
              <a:ext cx="87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9240" y="357840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9240" y="442116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90008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608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3163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024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73220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440320" y="46414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14844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5656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566120" y="464148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06360" y="3132000"/>
              <a:ext cx="7067520" cy="1592280"/>
            </a:xfrm>
            <a:custGeom>
              <a:avLst/>
              <a:gdLst/>
              <a:ahLst/>
              <a:rect l="l" t="t" r="r" b="b"/>
              <a:pathLst>
                <a:path w="4452" h="1003">
                  <a:moveTo>
                    <a:pt x="0" y="0"/>
                  </a:moveTo>
                  <a:lnTo>
                    <a:pt x="0" y="951"/>
                  </a:lnTo>
                  <a:lnTo>
                    <a:pt x="4452" y="951"/>
                  </a:lnTo>
                  <a:lnTo>
                    <a:pt x="4452" y="951"/>
                  </a:lnTo>
                  <a:lnTo>
                    <a:pt x="4452" y="10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20F-B08E-43D3-A5F4-6CA17649FF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determine the available capacity in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RTT (increment by 1 packet for each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638760" y="1447920"/>
            <a:ext cx="1974600" cy="3960360"/>
            <a:chOff x="6638760" y="1447920"/>
            <a:chExt cx="1974600" cy="3960360"/>
          </a:xfrm>
        </p:grpSpPr>
        <p:sp>
          <p:nvSpPr>
            <p:cNvPr id="314" name=""/>
            <p:cNvSpPr/>
            <p:nvPr/>
          </p:nvSpPr>
          <p:spPr>
            <a:xfrm>
              <a:off x="6638760" y="144792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7640" y="144792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7920" y="1623960"/>
              <a:ext cx="4680" cy="37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27440" y="1634760"/>
              <a:ext cx="1440" cy="37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47920" y="4068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09720" y="437436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7920" y="39873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9720" y="4290120"/>
              <a:ext cx="113040" cy="496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33"/>
                  </a:moveTo>
                  <a:lnTo>
                    <a:pt x="71" y="42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951600" y="4343400"/>
              <a:ext cx="12758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7280" y="470556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56" y="0"/>
                  </a:moveTo>
                  <a:lnTo>
                    <a:pt x="0" y="38"/>
                  </a:lnTo>
                  <a:lnTo>
                    <a:pt x="71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7920" y="4149360"/>
              <a:ext cx="128520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09720" y="4455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3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2600" y="3295440"/>
              <a:ext cx="127080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09720" y="3601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7920" y="3214440"/>
              <a:ext cx="127548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09720" y="35204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47920" y="253908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09720" y="28414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47920" y="168840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09720" y="199332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7920" y="2447280"/>
              <a:ext cx="12805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720" y="27532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0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2600" y="3376440"/>
              <a:ext cx="128052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09720" y="368604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2600" y="3461040"/>
              <a:ext cx="1280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09720" y="376596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33"/>
                  </a:moveTo>
                  <a:lnTo>
                    <a:pt x="71" y="39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951600" y="4424400"/>
              <a:ext cx="127584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7280" y="478332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51240" y="2803320"/>
              <a:ext cx="1271160" cy="3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7280" y="316908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951600" y="289008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7280" y="324900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951600" y="204336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7280" y="2401920"/>
              <a:ext cx="108360" cy="45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7920" y="4233960"/>
              <a:ext cx="128052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9720" y="45367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0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47920" y="4392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09720" y="4702320"/>
              <a:ext cx="113040" cy="450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29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7920" y="4311360"/>
              <a:ext cx="128052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9720" y="461772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7920" y="4473360"/>
              <a:ext cx="12852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09720" y="477936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32"/>
                  </a:moveTo>
                  <a:lnTo>
                    <a:pt x="71" y="4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7920" y="4557960"/>
              <a:ext cx="128052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09720" y="4860360"/>
              <a:ext cx="113040" cy="453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2"/>
                  </a:moveTo>
                  <a:lnTo>
                    <a:pt x="71" y="38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55920" y="4504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7280" y="486792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946560" y="3569400"/>
              <a:ext cx="128052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7280" y="3935160"/>
              <a:ext cx="108360" cy="496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56" y="0"/>
                  </a:moveTo>
                  <a:lnTo>
                    <a:pt x="0" y="42"/>
                  </a:lnTo>
                  <a:lnTo>
                    <a:pt x="68" y="3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951600" y="3650400"/>
              <a:ext cx="12758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7280" y="4019400"/>
              <a:ext cx="108360" cy="486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56" y="0"/>
                  </a:moveTo>
                  <a:lnTo>
                    <a:pt x="0" y="41"/>
                  </a:lnTo>
                  <a:lnTo>
                    <a:pt x="68" y="35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955920" y="373140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7280" y="410076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946560" y="3812400"/>
              <a:ext cx="12805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7280" y="4185000"/>
              <a:ext cx="108360" cy="4500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56" y="0"/>
                  </a:moveTo>
                  <a:lnTo>
                    <a:pt x="0" y="38"/>
                  </a:lnTo>
                  <a:lnTo>
                    <a:pt x="68" y="3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955920" y="4585320"/>
              <a:ext cx="127116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57280" y="49474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951600" y="4666320"/>
              <a:ext cx="1275840" cy="3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57280" y="5028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51600" y="4747320"/>
              <a:ext cx="127584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7280" y="5105880"/>
              <a:ext cx="108360" cy="4644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56" y="0"/>
                  </a:moveTo>
                  <a:lnTo>
                    <a:pt x="0" y="39"/>
                  </a:lnTo>
                  <a:lnTo>
                    <a:pt x="68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955920" y="4824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7280" y="5190480"/>
              <a:ext cx="113040" cy="4644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56" y="0"/>
                  </a:moveTo>
                  <a:lnTo>
                    <a:pt x="0" y="39"/>
                  </a:lnTo>
                  <a:lnTo>
                    <a:pt x="71" y="3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55920" y="4905720"/>
              <a:ext cx="127116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7280" y="5267880"/>
              <a:ext cx="113040" cy="4860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6" y="0"/>
                  </a:moveTo>
                  <a:lnTo>
                    <a:pt x="0" y="41"/>
                  </a:lnTo>
                  <a:lnTo>
                    <a:pt x="71" y="3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7352280" y="5240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7245000" y="51656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1D5-CE8B-4C4C-AD49-D15100EE00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growth, but slower than all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starting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nection goes dead waiting fo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lose up to hal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worth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42920" y="3581280"/>
            <a:ext cx="6650280" cy="1668960"/>
            <a:chOff x="1042920" y="3581280"/>
            <a:chExt cx="6650280" cy="1668960"/>
          </a:xfrm>
        </p:grpSpPr>
        <p:sp>
          <p:nvSpPr>
            <p:cNvPr id="383" name=""/>
            <p:cNvSpPr/>
            <p:nvPr/>
          </p:nvSpPr>
          <p:spPr>
            <a:xfrm>
              <a:off x="1544760" y="4354560"/>
              <a:ext cx="6053040" cy="627120"/>
            </a:xfrm>
            <a:custGeom>
              <a:avLst/>
              <a:gdLst/>
              <a:ahLst/>
              <a:rect l="l" t="t" r="r" b="b"/>
              <a:pathLst>
                <a:path w="3813" h="395">
                  <a:moveTo>
                    <a:pt x="0" y="395"/>
                  </a:moveTo>
                  <a:lnTo>
                    <a:pt x="57" y="395"/>
                  </a:lnTo>
                  <a:lnTo>
                    <a:pt x="195" y="30"/>
                  </a:lnTo>
                  <a:lnTo>
                    <a:pt x="220" y="30"/>
                  </a:lnTo>
                  <a:lnTo>
                    <a:pt x="220" y="0"/>
                  </a:lnTo>
                  <a:lnTo>
                    <a:pt x="792" y="0"/>
                  </a:lnTo>
                  <a:lnTo>
                    <a:pt x="789" y="387"/>
                  </a:lnTo>
                  <a:lnTo>
                    <a:pt x="857" y="390"/>
                  </a:lnTo>
                  <a:lnTo>
                    <a:pt x="857" y="387"/>
                  </a:lnTo>
                  <a:lnTo>
                    <a:pt x="863" y="385"/>
                  </a:lnTo>
                  <a:lnTo>
                    <a:pt x="868" y="379"/>
                  </a:lnTo>
                  <a:lnTo>
                    <a:pt x="876" y="371"/>
                  </a:lnTo>
                  <a:lnTo>
                    <a:pt x="890" y="363"/>
                  </a:lnTo>
                  <a:lnTo>
                    <a:pt x="906" y="352"/>
                  </a:lnTo>
                  <a:lnTo>
                    <a:pt x="928" y="338"/>
                  </a:lnTo>
                  <a:lnTo>
                    <a:pt x="957" y="322"/>
                  </a:lnTo>
                  <a:lnTo>
                    <a:pt x="990" y="303"/>
                  </a:lnTo>
                  <a:lnTo>
                    <a:pt x="1033" y="284"/>
                  </a:lnTo>
                  <a:lnTo>
                    <a:pt x="1096" y="260"/>
                  </a:lnTo>
                  <a:lnTo>
                    <a:pt x="1172" y="238"/>
                  </a:lnTo>
                  <a:lnTo>
                    <a:pt x="1256" y="217"/>
                  </a:lnTo>
                  <a:lnTo>
                    <a:pt x="1342" y="198"/>
                  </a:lnTo>
                  <a:lnTo>
                    <a:pt x="1432" y="181"/>
                  </a:lnTo>
                  <a:lnTo>
                    <a:pt x="1513" y="168"/>
                  </a:lnTo>
                  <a:lnTo>
                    <a:pt x="1586" y="154"/>
                  </a:lnTo>
                  <a:lnTo>
                    <a:pt x="1643" y="146"/>
                  </a:lnTo>
                  <a:lnTo>
                    <a:pt x="1681" y="141"/>
                  </a:lnTo>
                  <a:lnTo>
                    <a:pt x="1695" y="138"/>
                  </a:lnTo>
                  <a:lnTo>
                    <a:pt x="2275" y="138"/>
                  </a:lnTo>
                  <a:lnTo>
                    <a:pt x="2275" y="379"/>
                  </a:lnTo>
                  <a:lnTo>
                    <a:pt x="2286" y="379"/>
                  </a:lnTo>
                  <a:lnTo>
                    <a:pt x="2324" y="257"/>
                  </a:lnTo>
                  <a:lnTo>
                    <a:pt x="2872" y="111"/>
                  </a:lnTo>
                  <a:lnTo>
                    <a:pt x="3346" y="111"/>
                  </a:lnTo>
                  <a:lnTo>
                    <a:pt x="3346" y="395"/>
                  </a:lnTo>
                  <a:lnTo>
                    <a:pt x="3363" y="395"/>
                  </a:lnTo>
                  <a:lnTo>
                    <a:pt x="3403" y="257"/>
                  </a:lnTo>
                  <a:lnTo>
                    <a:pt x="3813" y="16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58920" y="379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58920" y="4522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114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831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456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31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70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784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5024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2488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79000" y="506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1031760" y="41436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8920" y="361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4336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8920" y="41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397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8920" y="469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7000" y="387360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67000" y="36878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67000" y="46036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67000" y="4419720"/>
              <a:ext cx="745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67000" y="4238640"/>
              <a:ext cx="74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67000" y="4052880"/>
              <a:ext cx="745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67000" y="4789440"/>
              <a:ext cx="74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12920" y="4981320"/>
              <a:ext cx="180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88432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5593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23072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02120" y="4981320"/>
              <a:ext cx="468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57856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4204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926400" y="4981320"/>
              <a:ext cx="14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597800" y="4981320"/>
              <a:ext cx="3240" cy="73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4760" y="3684600"/>
              <a:ext cx="6056280" cy="1297080"/>
            </a:xfrm>
            <a:custGeom>
              <a:avLst/>
              <a:gdLst/>
              <a:ahLst/>
              <a:rect l="l" t="t" r="r" b="b"/>
              <a:pathLst>
                <a:path w="3815" h="817">
                  <a:moveTo>
                    <a:pt x="3815" y="817"/>
                  </a:moveTo>
                  <a:lnTo>
                    <a:pt x="0" y="8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93960" y="3657600"/>
              <a:ext cx="1440" cy="1320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2120" y="3713040"/>
              <a:ext cx="1440" cy="127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22480" y="3713040"/>
              <a:ext cx="50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9728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9960" y="371304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99120" y="3713040"/>
              <a:ext cx="4680" cy="126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27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44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60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0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17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5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10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3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9064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1160" y="3662280"/>
              <a:ext cx="180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3662280"/>
              <a:ext cx="468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51120" y="3662280"/>
              <a:ext cx="1440" cy="1319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43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78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912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08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261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41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563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9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2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197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7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54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2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4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021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9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324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5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65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79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57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13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3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436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0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785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58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8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26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43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56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36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89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0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19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37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546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22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848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024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1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23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500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7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8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975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13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1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436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61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78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96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087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260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4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609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7392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1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070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214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5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7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48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19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53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659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8356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9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6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34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6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42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1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9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12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7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62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80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30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10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280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62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5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92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0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26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406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56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73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91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087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16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38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56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3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86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04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9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37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54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74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024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20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85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89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06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36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4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67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843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00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178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30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8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65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78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955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3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304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308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60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4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082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24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41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54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19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068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94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36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44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670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46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019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177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321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480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656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782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9552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31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304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434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60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783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09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0820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2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16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60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719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892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021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9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370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43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6696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84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018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1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212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49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56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80000" y="3662280"/>
              <a:ext cx="28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58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31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07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4336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606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782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908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085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2580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434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5604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368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895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035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940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704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5432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6728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8456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0220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480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3244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4972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673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7996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97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1308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27480" y="3662280"/>
              <a:ext cx="32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43320" y="3662280"/>
              <a:ext cx="468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60960" y="3662280"/>
              <a:ext cx="14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78240" y="3662280"/>
              <a:ext cx="18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90840" y="3662280"/>
              <a:ext cx="504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71640" y="358128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6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7" y="24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4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22800" y="35812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3" y="29"/>
                  </a:moveTo>
                  <a:lnTo>
                    <a:pt x="18" y="29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6" y="29"/>
                  </a:lnTo>
                  <a:lnTo>
                    <a:pt x="16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6320" y="358128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17" y="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AFB-D738-4D18-B9FE-1EB104AAE6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oarse-grain TCP timeouts lead to idle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transmit: use duplicate ACKs to trigge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178960" y="1676520"/>
            <a:ext cx="2958840" cy="4038120"/>
            <a:chOff x="5178960" y="1676520"/>
            <a:chExt cx="2958840" cy="4038120"/>
          </a:xfrm>
        </p:grpSpPr>
        <p:sp>
          <p:nvSpPr>
            <p:cNvPr id="652" name=""/>
            <p:cNvSpPr/>
            <p:nvPr/>
          </p:nvSpPr>
          <p:spPr>
            <a:xfrm>
              <a:off x="5359680" y="1990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6120" y="19904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59680" y="2240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46120" y="2240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59680" y="24706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6120" y="24706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59680" y="270756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46120" y="270756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59680" y="31946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6120" y="3194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59680" y="347940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6120" y="34794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80040" y="438948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78960" y="45705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57840" y="45705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1760" y="24069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1760" y="2690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91760" y="3653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1760" y="3951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1760" y="49032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95000" y="3155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70240" y="1929240"/>
              <a:ext cx="1440" cy="378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5520" y="1942560"/>
              <a:ext cx="3960" cy="37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70240" y="3574080"/>
              <a:ext cx="1559520" cy="423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5000" y="3966480"/>
              <a:ext cx="11052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40"/>
                  </a:moveTo>
                  <a:lnTo>
                    <a:pt x="82" y="40"/>
                  </a:lnTo>
                  <a:lnTo>
                    <a:pt x="1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79960" y="2559960"/>
              <a:ext cx="573480" cy="15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70240" y="3290400"/>
              <a:ext cx="1567440" cy="426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20400" y="369108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7"/>
                  </a:moveTo>
                  <a:lnTo>
                    <a:pt x="81" y="41"/>
                  </a:lnTo>
                  <a:lnTo>
                    <a:pt x="13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6000" y="2528280"/>
              <a:ext cx="155952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4560" y="2988360"/>
              <a:ext cx="104760" cy="5832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8" y="0"/>
                  </a:moveTo>
                  <a:lnTo>
                    <a:pt x="0" y="44"/>
                  </a:lnTo>
                  <a:lnTo>
                    <a:pt x="78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066000" y="3249360"/>
              <a:ext cx="155376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070320" y="3753720"/>
              <a:ext cx="1555200" cy="492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6800" y="2663640"/>
              <a:ext cx="63000" cy="113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507720" y="2681280"/>
              <a:ext cx="100800" cy="77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70240" y="454644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11040" y="4943160"/>
              <a:ext cx="108720" cy="543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0" y="38"/>
                  </a:moveTo>
                  <a:lnTo>
                    <a:pt x="81" y="41"/>
                  </a:lnTo>
                  <a:lnTo>
                    <a:pt x="14" y="0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70240" y="2798280"/>
              <a:ext cx="155952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5000" y="3190680"/>
              <a:ext cx="114480" cy="5400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0" y="41"/>
                  </a:moveTo>
                  <a:lnTo>
                    <a:pt x="85" y="41"/>
                  </a:lnTo>
                  <a:lnTo>
                    <a:pt x="17" y="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0240" y="207324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15000" y="2469600"/>
              <a:ext cx="110520" cy="5400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7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70240" y="2320560"/>
              <a:ext cx="1559520" cy="42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15000" y="2716920"/>
              <a:ext cx="11052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0" y="38"/>
                  </a:moveTo>
                  <a:lnTo>
                    <a:pt x="82" y="41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070320" y="2776680"/>
              <a:ext cx="1555200" cy="48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74560" y="323172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74560" y="3713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066000" y="4029120"/>
              <a:ext cx="1559520" cy="49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74560" y="4493520"/>
              <a:ext cx="110160" cy="529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68" y="0"/>
                  </a:moveTo>
                  <a:lnTo>
                    <a:pt x="0" y="40"/>
                  </a:lnTo>
                  <a:lnTo>
                    <a:pt x="82" y="4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74560" y="4217760"/>
              <a:ext cx="110160" cy="583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68" y="0"/>
                  </a:moveTo>
                  <a:lnTo>
                    <a:pt x="0" y="44"/>
                  </a:lnTo>
                  <a:lnTo>
                    <a:pt x="82" y="41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6000" y="4997520"/>
              <a:ext cx="1553760" cy="49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74560" y="5461920"/>
              <a:ext cx="110160" cy="543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68" y="0"/>
                  </a:moveTo>
                  <a:lnTo>
                    <a:pt x="0" y="41"/>
                  </a:lnTo>
                  <a:lnTo>
                    <a:pt x="82" y="41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62880" y="16765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49760" y="16765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A6E-6E16-4076-A874-DD8D23882C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the slow star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directly to half the last successfu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57200" y="1676520"/>
            <a:ext cx="8002800" cy="1989720"/>
            <a:chOff x="457200" y="1676520"/>
            <a:chExt cx="8002800" cy="1989720"/>
          </a:xfrm>
        </p:grpSpPr>
        <p:sp>
          <p:nvSpPr>
            <p:cNvPr id="707" name=""/>
            <p:cNvSpPr/>
            <p:nvPr/>
          </p:nvSpPr>
          <p:spPr>
            <a:xfrm>
              <a:off x="1067040" y="2603520"/>
              <a:ext cx="7135560" cy="746280"/>
            </a:xfrm>
            <a:custGeom>
              <a:avLst/>
              <a:gdLst/>
              <a:ahLst/>
              <a:rect l="l" t="t" r="r" b="b"/>
              <a:pathLst>
                <a:path w="4495" h="470">
                  <a:moveTo>
                    <a:pt x="0" y="457"/>
                  </a:moveTo>
                  <a:lnTo>
                    <a:pt x="98" y="457"/>
                  </a:lnTo>
                  <a:lnTo>
                    <a:pt x="323" y="0"/>
                  </a:lnTo>
                  <a:lnTo>
                    <a:pt x="1235" y="0"/>
                  </a:lnTo>
                  <a:lnTo>
                    <a:pt x="1235" y="466"/>
                  </a:lnTo>
                  <a:lnTo>
                    <a:pt x="1235" y="463"/>
                  </a:lnTo>
                  <a:lnTo>
                    <a:pt x="1235" y="460"/>
                  </a:lnTo>
                  <a:lnTo>
                    <a:pt x="1238" y="450"/>
                  </a:lnTo>
                  <a:lnTo>
                    <a:pt x="1245" y="440"/>
                  </a:lnTo>
                  <a:lnTo>
                    <a:pt x="1258" y="430"/>
                  </a:lnTo>
                  <a:lnTo>
                    <a:pt x="1271" y="417"/>
                  </a:lnTo>
                  <a:lnTo>
                    <a:pt x="1294" y="401"/>
                  </a:lnTo>
                  <a:lnTo>
                    <a:pt x="1323" y="385"/>
                  </a:lnTo>
                  <a:lnTo>
                    <a:pt x="1362" y="368"/>
                  </a:lnTo>
                  <a:lnTo>
                    <a:pt x="1408" y="349"/>
                  </a:lnTo>
                  <a:lnTo>
                    <a:pt x="1483" y="329"/>
                  </a:lnTo>
                  <a:lnTo>
                    <a:pt x="1574" y="306"/>
                  </a:lnTo>
                  <a:lnTo>
                    <a:pt x="1682" y="287"/>
                  </a:lnTo>
                  <a:lnTo>
                    <a:pt x="1800" y="264"/>
                  </a:lnTo>
                  <a:lnTo>
                    <a:pt x="1924" y="244"/>
                  </a:lnTo>
                  <a:lnTo>
                    <a:pt x="2048" y="225"/>
                  </a:lnTo>
                  <a:lnTo>
                    <a:pt x="2166" y="209"/>
                  </a:lnTo>
                  <a:lnTo>
                    <a:pt x="2277" y="192"/>
                  </a:lnTo>
                  <a:lnTo>
                    <a:pt x="2371" y="179"/>
                  </a:lnTo>
                  <a:lnTo>
                    <a:pt x="2447" y="169"/>
                  </a:lnTo>
                  <a:lnTo>
                    <a:pt x="2460" y="169"/>
                  </a:lnTo>
                  <a:lnTo>
                    <a:pt x="2473" y="169"/>
                  </a:lnTo>
                  <a:lnTo>
                    <a:pt x="2483" y="169"/>
                  </a:lnTo>
                  <a:lnTo>
                    <a:pt x="2492" y="169"/>
                  </a:lnTo>
                  <a:lnTo>
                    <a:pt x="2502" y="166"/>
                  </a:lnTo>
                  <a:lnTo>
                    <a:pt x="2509" y="169"/>
                  </a:lnTo>
                  <a:lnTo>
                    <a:pt x="2515" y="169"/>
                  </a:lnTo>
                  <a:lnTo>
                    <a:pt x="2522" y="169"/>
                  </a:lnTo>
                  <a:lnTo>
                    <a:pt x="2522" y="169"/>
                  </a:lnTo>
                  <a:lnTo>
                    <a:pt x="2525" y="169"/>
                  </a:lnTo>
                  <a:lnTo>
                    <a:pt x="2525" y="470"/>
                  </a:lnTo>
                  <a:lnTo>
                    <a:pt x="2564" y="470"/>
                  </a:lnTo>
                  <a:lnTo>
                    <a:pt x="2669" y="313"/>
                  </a:lnTo>
                  <a:lnTo>
                    <a:pt x="2672" y="313"/>
                  </a:lnTo>
                  <a:lnTo>
                    <a:pt x="2675" y="313"/>
                  </a:lnTo>
                  <a:lnTo>
                    <a:pt x="2682" y="310"/>
                  </a:lnTo>
                  <a:lnTo>
                    <a:pt x="2688" y="310"/>
                  </a:lnTo>
                  <a:lnTo>
                    <a:pt x="2701" y="306"/>
                  </a:lnTo>
                  <a:lnTo>
                    <a:pt x="2714" y="303"/>
                  </a:lnTo>
                  <a:lnTo>
                    <a:pt x="2728" y="300"/>
                  </a:lnTo>
                  <a:lnTo>
                    <a:pt x="2747" y="297"/>
                  </a:lnTo>
                  <a:lnTo>
                    <a:pt x="2763" y="293"/>
                  </a:lnTo>
                  <a:lnTo>
                    <a:pt x="2786" y="290"/>
                  </a:lnTo>
                  <a:lnTo>
                    <a:pt x="2839" y="280"/>
                  </a:lnTo>
                  <a:lnTo>
                    <a:pt x="2917" y="267"/>
                  </a:lnTo>
                  <a:lnTo>
                    <a:pt x="3015" y="251"/>
                  </a:lnTo>
                  <a:lnTo>
                    <a:pt x="3126" y="231"/>
                  </a:lnTo>
                  <a:lnTo>
                    <a:pt x="3240" y="215"/>
                  </a:lnTo>
                  <a:lnTo>
                    <a:pt x="3355" y="199"/>
                  </a:lnTo>
                  <a:lnTo>
                    <a:pt x="3453" y="182"/>
                  </a:lnTo>
                  <a:lnTo>
                    <a:pt x="3534" y="173"/>
                  </a:lnTo>
                  <a:lnTo>
                    <a:pt x="3590" y="163"/>
                  </a:lnTo>
                  <a:lnTo>
                    <a:pt x="3609" y="160"/>
                  </a:lnTo>
                  <a:lnTo>
                    <a:pt x="3609" y="463"/>
                  </a:lnTo>
                  <a:lnTo>
                    <a:pt x="3675" y="463"/>
                  </a:lnTo>
                  <a:lnTo>
                    <a:pt x="3756" y="306"/>
                  </a:lnTo>
                  <a:lnTo>
                    <a:pt x="4495" y="16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560" y="193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8560" y="2805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576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9916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420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850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264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6940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10880" y="34527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444600" y="246492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560" y="171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560" y="2592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560" y="237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560" y="215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8560" y="3027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63720" y="20336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63720" y="1809720"/>
              <a:ext cx="9216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3720" y="290844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63720" y="269100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63720" y="2468520"/>
              <a:ext cx="921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3720" y="2251080"/>
              <a:ext cx="92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63720" y="3125880"/>
              <a:ext cx="92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0782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1212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1626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20560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2470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90000" y="3349440"/>
              <a:ext cx="468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8331480" y="334944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55880" y="1809720"/>
              <a:ext cx="7275600" cy="1540080"/>
            </a:xfrm>
            <a:custGeom>
              <a:avLst/>
              <a:gdLst/>
              <a:ahLst/>
              <a:rect l="l" t="t" r="r" b="b"/>
              <a:pathLst>
                <a:path w="4583" h="970">
                  <a:moveTo>
                    <a:pt x="4583" y="966"/>
                  </a:moveTo>
                  <a:lnTo>
                    <a:pt x="0" y="97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30920" y="1830600"/>
              <a:ext cx="4680" cy="1512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20040" y="1784520"/>
              <a:ext cx="1440" cy="156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0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9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308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516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72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92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13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34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546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7552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97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183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8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594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84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054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6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46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7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8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8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29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51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72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93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135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34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54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75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96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168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42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62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849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05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26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6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67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88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08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292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501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0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32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53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740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01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21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42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62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8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03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24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45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65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867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072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9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50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706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915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120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3256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58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78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99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0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40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6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8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042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24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453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66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86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008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21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4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2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78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99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020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405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61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024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233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4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5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80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10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216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42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630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84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05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26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46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3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83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041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250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5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660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869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7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2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4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64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85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05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266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47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67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885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09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295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50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6628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868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073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282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501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710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915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120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32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53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69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89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10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31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504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21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34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639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8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1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524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56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6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924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1336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3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0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91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06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27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48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68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84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05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25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41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83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98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19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40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56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76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97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13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33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54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91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11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32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48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6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89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5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26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46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2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3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196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4020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61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816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974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17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38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5288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752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0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30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529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67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78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08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2460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4512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656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148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1768680"/>
              <a:ext cx="612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22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434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592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80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06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16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3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578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73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9424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151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3096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514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72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58784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087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29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497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656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86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70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22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4372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64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0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800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21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37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57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78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94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1508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3560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5612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7232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928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336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29200" y="1768680"/>
              <a:ext cx="50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500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00600" y="167652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32"/>
                  </a:moveTo>
                  <a:lnTo>
                    <a:pt x="20" y="35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6" y="22"/>
                  </a:lnTo>
                  <a:lnTo>
                    <a:pt x="36" y="19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10" y="32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36680" y="1768680"/>
              <a:ext cx="180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6224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7980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05000" y="1768680"/>
              <a:ext cx="64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892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19480" y="1768680"/>
              <a:ext cx="144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4000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76360" y="1768680"/>
              <a:ext cx="180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130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43320" y="1768680"/>
              <a:ext cx="612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79680" y="1768680"/>
              <a:ext cx="1440" cy="157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90840" y="1768680"/>
              <a:ext cx="4680" cy="6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543-4254-4763-A335-42DDAE0771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once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increase load in an effort to find the point at which congestion occurs, and then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n congestion is about to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rate before packets start being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stead of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: DECbit and RED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centric: TCP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097-8472-43DD-9A99-8829C50A95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Cb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binary congestion but to each packe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average queue length over last busy+id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gestion bit if average queue length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balance throughout agains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824840" y="2590920"/>
            <a:ext cx="5121360" cy="2599200"/>
            <a:chOff x="1824840" y="2590920"/>
            <a:chExt cx="5121360" cy="2599200"/>
          </a:xfrm>
        </p:grpSpPr>
        <p:sp>
          <p:nvSpPr>
            <p:cNvPr id="1001" name=""/>
            <p:cNvSpPr/>
            <p:nvPr/>
          </p:nvSpPr>
          <p:spPr>
            <a:xfrm>
              <a:off x="4216680" y="3373560"/>
              <a:ext cx="1312560" cy="1077840"/>
            </a:xfrm>
            <a:custGeom>
              <a:avLst/>
              <a:gdLst/>
              <a:ahLst/>
              <a:rect l="l" t="t" r="r" b="b"/>
              <a:pathLst>
                <a:path w="987" h="979">
                  <a:moveTo>
                    <a:pt x="0" y="979"/>
                  </a:moveTo>
                  <a:lnTo>
                    <a:pt x="8" y="953"/>
                  </a:lnTo>
                  <a:lnTo>
                    <a:pt x="19" y="877"/>
                  </a:lnTo>
                  <a:lnTo>
                    <a:pt x="42" y="767"/>
                  </a:lnTo>
                  <a:lnTo>
                    <a:pt x="72" y="635"/>
                  </a:lnTo>
                  <a:lnTo>
                    <a:pt x="114" y="488"/>
                  </a:lnTo>
                  <a:lnTo>
                    <a:pt x="167" y="344"/>
                  </a:lnTo>
                  <a:lnTo>
                    <a:pt x="231" y="211"/>
                  </a:lnTo>
                  <a:lnTo>
                    <a:pt x="307" y="102"/>
                  </a:lnTo>
                  <a:lnTo>
                    <a:pt x="394" y="26"/>
                  </a:lnTo>
                  <a:lnTo>
                    <a:pt x="496" y="0"/>
                  </a:lnTo>
                  <a:lnTo>
                    <a:pt x="609" y="26"/>
                  </a:lnTo>
                  <a:lnTo>
                    <a:pt x="704" y="102"/>
                  </a:lnTo>
                  <a:lnTo>
                    <a:pt x="783" y="211"/>
                  </a:lnTo>
                  <a:lnTo>
                    <a:pt x="847" y="344"/>
                  </a:lnTo>
                  <a:lnTo>
                    <a:pt x="897" y="488"/>
                  </a:lnTo>
                  <a:lnTo>
                    <a:pt x="931" y="635"/>
                  </a:lnTo>
                  <a:lnTo>
                    <a:pt x="957" y="767"/>
                  </a:lnTo>
                  <a:lnTo>
                    <a:pt x="976" y="877"/>
                  </a:lnTo>
                  <a:lnTo>
                    <a:pt x="984" y="953"/>
                  </a:lnTo>
                  <a:lnTo>
                    <a:pt x="987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7560" y="3373560"/>
              <a:ext cx="1306800" cy="107784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979"/>
                  </a:moveTo>
                  <a:lnTo>
                    <a:pt x="7" y="953"/>
                  </a:lnTo>
                  <a:lnTo>
                    <a:pt x="18" y="877"/>
                  </a:lnTo>
                  <a:lnTo>
                    <a:pt x="41" y="767"/>
                  </a:lnTo>
                  <a:lnTo>
                    <a:pt x="71" y="635"/>
                  </a:lnTo>
                  <a:lnTo>
                    <a:pt x="113" y="488"/>
                  </a:lnTo>
                  <a:lnTo>
                    <a:pt x="166" y="344"/>
                  </a:lnTo>
                  <a:lnTo>
                    <a:pt x="230" y="211"/>
                  </a:lnTo>
                  <a:lnTo>
                    <a:pt x="306" y="102"/>
                  </a:lnTo>
                  <a:lnTo>
                    <a:pt x="393" y="26"/>
                  </a:lnTo>
                  <a:lnTo>
                    <a:pt x="495" y="0"/>
                  </a:lnTo>
                  <a:lnTo>
                    <a:pt x="608" y="26"/>
                  </a:lnTo>
                  <a:lnTo>
                    <a:pt x="703" y="102"/>
                  </a:lnTo>
                  <a:lnTo>
                    <a:pt x="782" y="211"/>
                  </a:lnTo>
                  <a:lnTo>
                    <a:pt x="847" y="344"/>
                  </a:lnTo>
                  <a:lnTo>
                    <a:pt x="892" y="488"/>
                  </a:lnTo>
                  <a:lnTo>
                    <a:pt x="930" y="635"/>
                  </a:lnTo>
                  <a:lnTo>
                    <a:pt x="956" y="767"/>
                  </a:lnTo>
                  <a:lnTo>
                    <a:pt x="971" y="877"/>
                  </a:lnTo>
                  <a:lnTo>
                    <a:pt x="983" y="953"/>
                  </a:lnTo>
                  <a:lnTo>
                    <a:pt x="983" y="97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11200" y="2890080"/>
              <a:ext cx="4052880" cy="1561320"/>
            </a:xfrm>
            <a:custGeom>
              <a:avLst/>
              <a:gdLst/>
              <a:ahLst/>
              <a:rect l="l" t="t" r="r" b="b"/>
              <a:pathLst>
                <a:path w="3048" h="1418">
                  <a:moveTo>
                    <a:pt x="0" y="0"/>
                  </a:moveTo>
                  <a:lnTo>
                    <a:pt x="4" y="1418"/>
                  </a:lnTo>
                  <a:lnTo>
                    <a:pt x="3048" y="14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44280" y="4427280"/>
              <a:ext cx="115200" cy="493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286000" y="2815200"/>
              <a:ext cx="61200" cy="9108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2" y="83"/>
                  </a:moveTo>
                  <a:lnTo>
                    <a:pt x="23" y="0"/>
                  </a:lnTo>
                  <a:lnTo>
                    <a:pt x="0" y="83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6920" y="4551480"/>
              <a:ext cx="108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03440" y="4826880"/>
              <a:ext cx="3600" cy="27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6680" y="4560480"/>
              <a:ext cx="5400" cy="19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277600" y="3693960"/>
              <a:ext cx="547560" cy="6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12800" y="4355640"/>
              <a:ext cx="90360" cy="9108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7" y="0"/>
                  </a:moveTo>
                  <a:lnTo>
                    <a:pt x="0" y="83"/>
                  </a:lnTo>
                  <a:lnTo>
                    <a:pt x="68" y="2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33480" y="4642920"/>
              <a:ext cx="417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25880" y="4618800"/>
              <a:ext cx="115560" cy="49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17480" y="4638600"/>
              <a:ext cx="44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7480" y="4622400"/>
              <a:ext cx="110160" cy="5472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0"/>
                  </a:moveTo>
                  <a:lnTo>
                    <a:pt x="0" y="27"/>
                  </a:lnTo>
                  <a:lnTo>
                    <a:pt x="83" y="50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9920" y="4638600"/>
              <a:ext cx="4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01120" y="4622400"/>
              <a:ext cx="11520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46"/>
                  </a:moveTo>
                  <a:lnTo>
                    <a:pt x="87" y="23"/>
                  </a:lnTo>
                  <a:lnTo>
                    <a:pt x="0" y="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530800" y="4638600"/>
              <a:ext cx="5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52320" y="4622400"/>
              <a:ext cx="115560" cy="547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3" y="0"/>
                  </a:moveTo>
                  <a:lnTo>
                    <a:pt x="0" y="27"/>
                  </a:lnTo>
                  <a:lnTo>
                    <a:pt x="87" y="50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5412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83560" y="4964760"/>
              <a:ext cx="119520" cy="6012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0" y="45"/>
                  </a:moveTo>
                  <a:lnTo>
                    <a:pt x="87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530440" y="5008680"/>
              <a:ext cx="89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67080" y="5008680"/>
              <a:ext cx="127440" cy="5292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3" y="0"/>
                  </a:moveTo>
                  <a:lnTo>
                    <a:pt x="0" y="26"/>
                  </a:lnTo>
                  <a:lnTo>
                    <a:pt x="87" y="49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24840" y="259092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eue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8960" y="33854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45680" y="35506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63520" y="4345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58920" y="43459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19680" y="44766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2552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42720" y="4476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72680" y="464508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17840" y="4816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17200" y="48160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01000" y="49766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203440" y="3181680"/>
              <a:ext cx="3600" cy="134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744-5567-4188-B48F-ABDE3EE24B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 Ho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echoes bit back to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records how many packets resulted in set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ss than 50%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50% or more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0.875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4BE-099E-4E8E-BE85-3485A149C3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the sam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llocate resources so at to avoid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if (and when) is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ints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at the edges of the network (transpor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inside the network (queuing discip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(assume for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ies of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00200" y="2209680"/>
            <a:ext cx="5333760" cy="1752480"/>
            <a:chOff x="1600200" y="2209680"/>
            <a:chExt cx="5333760" cy="1752480"/>
          </a:xfrm>
        </p:grpSpPr>
        <p:sp>
          <p:nvSpPr>
            <p:cNvPr id="46" name=""/>
            <p:cNvSpPr/>
            <p:nvPr/>
          </p:nvSpPr>
          <p:spPr>
            <a:xfrm>
              <a:off x="3585960" y="2839680"/>
              <a:ext cx="766440" cy="400680"/>
            </a:xfrm>
            <a:custGeom>
              <a:avLst/>
              <a:gdLst/>
              <a:ahLst/>
              <a:rect l="l" t="t" r="r" b="b"/>
              <a:pathLst>
                <a:path w="681" h="400">
                  <a:moveTo>
                    <a:pt x="0" y="0"/>
                  </a:moveTo>
                  <a:lnTo>
                    <a:pt x="681" y="0"/>
                  </a:lnTo>
                  <a:lnTo>
                    <a:pt x="681" y="400"/>
                  </a:lnTo>
                  <a:lnTo>
                    <a:pt x="0" y="40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77960" y="287568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0" y="48"/>
                  </a:moveTo>
                  <a:lnTo>
                    <a:pt x="96" y="56"/>
                  </a:lnTo>
                  <a:lnTo>
                    <a:pt x="20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3960" y="2525760"/>
              <a:ext cx="12686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7960" y="3184200"/>
              <a:ext cx="108000" cy="5580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16" y="52"/>
                  </a:moveTo>
                  <a:lnTo>
                    <a:pt x="96" y="0"/>
                  </a:lnTo>
                  <a:lnTo>
                    <a:pt x="0" y="8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249640" y="3204360"/>
              <a:ext cx="1273320" cy="3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81760" y="2995920"/>
              <a:ext cx="107640" cy="478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4"/>
                  </a:moveTo>
                  <a:lnTo>
                    <a:pt x="96" y="24"/>
                  </a:lnTo>
                  <a:lnTo>
                    <a:pt x="4" y="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38000" y="3022920"/>
              <a:ext cx="167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56560" y="2875680"/>
              <a:ext cx="275400" cy="96120"/>
            </a:xfrm>
            <a:custGeom>
              <a:avLst/>
              <a:gdLst/>
              <a:ahLst/>
              <a:rect l="l" t="t" r="r" b="b"/>
              <a:pathLst>
                <a:path w="245" h="96">
                  <a:moveTo>
                    <a:pt x="0" y="0"/>
                  </a:moveTo>
                  <a:lnTo>
                    <a:pt x="245" y="4"/>
                  </a:lnTo>
                  <a:lnTo>
                    <a:pt x="245" y="96"/>
                  </a:lnTo>
                  <a:lnTo>
                    <a:pt x="4" y="96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276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8000" y="2875680"/>
              <a:ext cx="271080" cy="96120"/>
            </a:xfrm>
            <a:custGeom>
              <a:avLst/>
              <a:gdLst/>
              <a:ahLst/>
              <a:rect l="l" t="t" r="r" b="b"/>
              <a:pathLst>
                <a:path w="241" h="96">
                  <a:moveTo>
                    <a:pt x="0" y="0"/>
                  </a:moveTo>
                  <a:lnTo>
                    <a:pt x="241" y="4"/>
                  </a:lnTo>
                  <a:lnTo>
                    <a:pt x="241" y="96"/>
                  </a:lnTo>
                  <a:lnTo>
                    <a:pt x="0" y="9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7760" y="2651400"/>
              <a:ext cx="826200" cy="732960"/>
            </a:xfrm>
            <a:custGeom>
              <a:avLst/>
              <a:gdLst/>
              <a:ahLst/>
              <a:rect l="l" t="t" r="r" b="b"/>
              <a:pathLst>
                <a:path w="734" h="732">
                  <a:moveTo>
                    <a:pt x="365" y="732"/>
                  </a:moveTo>
                  <a:lnTo>
                    <a:pt x="425" y="728"/>
                  </a:lnTo>
                  <a:lnTo>
                    <a:pt x="485" y="716"/>
                  </a:lnTo>
                  <a:lnTo>
                    <a:pt x="538" y="692"/>
                  </a:lnTo>
                  <a:lnTo>
                    <a:pt x="586" y="664"/>
                  </a:lnTo>
                  <a:lnTo>
                    <a:pt x="626" y="628"/>
                  </a:lnTo>
                  <a:lnTo>
                    <a:pt x="662" y="584"/>
                  </a:lnTo>
                  <a:lnTo>
                    <a:pt x="694" y="536"/>
                  </a:lnTo>
                  <a:lnTo>
                    <a:pt x="714" y="484"/>
                  </a:lnTo>
                  <a:lnTo>
                    <a:pt x="730" y="428"/>
                  </a:lnTo>
                  <a:lnTo>
                    <a:pt x="734" y="368"/>
                  </a:lnTo>
                  <a:lnTo>
                    <a:pt x="730" y="308"/>
                  </a:lnTo>
                  <a:lnTo>
                    <a:pt x="714" y="252"/>
                  </a:lnTo>
                  <a:lnTo>
                    <a:pt x="694" y="200"/>
                  </a:lnTo>
                  <a:lnTo>
                    <a:pt x="662" y="152"/>
                  </a:lnTo>
                  <a:lnTo>
                    <a:pt x="626" y="108"/>
                  </a:lnTo>
                  <a:lnTo>
                    <a:pt x="586" y="72"/>
                  </a:lnTo>
                  <a:lnTo>
                    <a:pt x="538" y="40"/>
                  </a:lnTo>
                  <a:lnTo>
                    <a:pt x="485" y="20"/>
                  </a:lnTo>
                  <a:lnTo>
                    <a:pt x="425" y="4"/>
                  </a:lnTo>
                  <a:lnTo>
                    <a:pt x="369" y="0"/>
                  </a:lnTo>
                  <a:lnTo>
                    <a:pt x="309" y="4"/>
                  </a:lnTo>
                  <a:lnTo>
                    <a:pt x="253" y="20"/>
                  </a:lnTo>
                  <a:lnTo>
                    <a:pt x="201" y="40"/>
                  </a:lnTo>
                  <a:lnTo>
                    <a:pt x="153" y="72"/>
                  </a:lnTo>
                  <a:lnTo>
                    <a:pt x="109" y="108"/>
                  </a:lnTo>
                  <a:lnTo>
                    <a:pt x="73" y="152"/>
                  </a:lnTo>
                  <a:lnTo>
                    <a:pt x="41" y="200"/>
                  </a:lnTo>
                  <a:lnTo>
                    <a:pt x="20" y="252"/>
                  </a:lnTo>
                  <a:lnTo>
                    <a:pt x="4" y="308"/>
                  </a:lnTo>
                  <a:lnTo>
                    <a:pt x="0" y="368"/>
                  </a:lnTo>
                  <a:lnTo>
                    <a:pt x="4" y="428"/>
                  </a:lnTo>
                  <a:lnTo>
                    <a:pt x="20" y="484"/>
                  </a:lnTo>
                  <a:lnTo>
                    <a:pt x="41" y="536"/>
                  </a:lnTo>
                  <a:lnTo>
                    <a:pt x="73" y="584"/>
                  </a:lnTo>
                  <a:lnTo>
                    <a:pt x="109" y="628"/>
                  </a:lnTo>
                  <a:lnTo>
                    <a:pt x="153" y="664"/>
                  </a:lnTo>
                  <a:lnTo>
                    <a:pt x="201" y="692"/>
                  </a:lnTo>
                  <a:lnTo>
                    <a:pt x="253" y="716"/>
                  </a:lnTo>
                  <a:lnTo>
                    <a:pt x="309" y="728"/>
                  </a:lnTo>
                  <a:lnTo>
                    <a:pt x="369" y="732"/>
                  </a:lnTo>
                  <a:lnTo>
                    <a:pt x="369" y="7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56000" y="29397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6880" y="305100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-Mbps T1 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1480" y="28767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8080" y="2525760"/>
              <a:ext cx="298440" cy="169200"/>
            </a:xfrm>
            <a:custGeom>
              <a:avLst/>
              <a:gdLst/>
              <a:ahLst/>
              <a:rect l="l" t="t" r="r" b="b"/>
              <a:pathLst>
                <a:path w="265" h="169">
                  <a:moveTo>
                    <a:pt x="36" y="0"/>
                  </a:moveTo>
                  <a:lnTo>
                    <a:pt x="265" y="80"/>
                  </a:lnTo>
                  <a:lnTo>
                    <a:pt x="229" y="169"/>
                  </a:lnTo>
                  <a:lnTo>
                    <a:pt x="0" y="88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12640" y="2397960"/>
              <a:ext cx="298440" cy="17208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32" y="0"/>
                  </a:moveTo>
                  <a:lnTo>
                    <a:pt x="265" y="84"/>
                  </a:lnTo>
                  <a:lnTo>
                    <a:pt x="229" y="172"/>
                  </a:lnTo>
                  <a:lnTo>
                    <a:pt x="0" y="92"/>
                  </a:lnTo>
                  <a:lnTo>
                    <a:pt x="36" y="4"/>
                  </a:lnTo>
                  <a:lnTo>
                    <a:pt x="36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89520" y="2634120"/>
              <a:ext cx="297000" cy="169200"/>
            </a:xfrm>
            <a:custGeom>
              <a:avLst/>
              <a:gdLst/>
              <a:ahLst/>
              <a:rect l="l" t="t" r="r" b="b"/>
              <a:pathLst>
                <a:path w="264" h="169">
                  <a:moveTo>
                    <a:pt x="32" y="0"/>
                  </a:moveTo>
                  <a:lnTo>
                    <a:pt x="264" y="81"/>
                  </a:lnTo>
                  <a:lnTo>
                    <a:pt x="228" y="169"/>
                  </a:lnTo>
                  <a:lnTo>
                    <a:pt x="0" y="89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51760" y="3236400"/>
              <a:ext cx="302760" cy="164160"/>
            </a:xfrm>
            <a:custGeom>
              <a:avLst/>
              <a:gdLst/>
              <a:ahLst/>
              <a:rect l="l" t="t" r="r" b="b"/>
              <a:pathLst>
                <a:path w="269" h="164">
                  <a:moveTo>
                    <a:pt x="0" y="76"/>
                  </a:moveTo>
                  <a:lnTo>
                    <a:pt x="232" y="0"/>
                  </a:lnTo>
                  <a:lnTo>
                    <a:pt x="269" y="88"/>
                  </a:lnTo>
                  <a:lnTo>
                    <a:pt x="36" y="164"/>
                  </a:lnTo>
                  <a:lnTo>
                    <a:pt x="4" y="76"/>
                  </a:lnTo>
                  <a:lnTo>
                    <a:pt x="4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6640" y="3348360"/>
              <a:ext cx="298440" cy="168120"/>
            </a:xfrm>
            <a:custGeom>
              <a:avLst/>
              <a:gdLst/>
              <a:ahLst/>
              <a:rect l="l" t="t" r="r" b="b"/>
              <a:pathLst>
                <a:path w="265" h="168">
                  <a:moveTo>
                    <a:pt x="0" y="80"/>
                  </a:moveTo>
                  <a:lnTo>
                    <a:pt x="229" y="0"/>
                  </a:lnTo>
                  <a:lnTo>
                    <a:pt x="265" y="88"/>
                  </a:lnTo>
                  <a:lnTo>
                    <a:pt x="36" y="168"/>
                  </a:lnTo>
                  <a:lnTo>
                    <a:pt x="0" y="8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75840" y="3107880"/>
              <a:ext cx="297000" cy="1641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0" y="76"/>
                  </a:moveTo>
                  <a:lnTo>
                    <a:pt x="228" y="0"/>
                  </a:lnTo>
                  <a:lnTo>
                    <a:pt x="264" y="88"/>
                  </a:lnTo>
                  <a:lnTo>
                    <a:pt x="36" y="164"/>
                  </a:lnTo>
                  <a:lnTo>
                    <a:pt x="0" y="76"/>
                  </a:lnTo>
                  <a:lnTo>
                    <a:pt x="0" y="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2209680"/>
              <a:ext cx="653760" cy="581760"/>
            </a:xfrm>
            <a:custGeom>
              <a:avLst/>
              <a:gdLst/>
              <a:ahLst/>
              <a:rect l="l" t="t" r="r" b="b"/>
              <a:pathLst>
                <a:path w="581" h="581">
                  <a:moveTo>
                    <a:pt x="305" y="581"/>
                  </a:moveTo>
                  <a:lnTo>
                    <a:pt x="353" y="577"/>
                  </a:lnTo>
                  <a:lnTo>
                    <a:pt x="397" y="561"/>
                  </a:lnTo>
                  <a:lnTo>
                    <a:pt x="441" y="541"/>
                  </a:lnTo>
                  <a:lnTo>
                    <a:pt x="477" y="517"/>
                  </a:lnTo>
                  <a:lnTo>
                    <a:pt x="509" y="485"/>
                  </a:lnTo>
                  <a:lnTo>
                    <a:pt x="537" y="449"/>
                  </a:lnTo>
                  <a:lnTo>
                    <a:pt x="557" y="408"/>
                  </a:lnTo>
                  <a:lnTo>
                    <a:pt x="573" y="368"/>
                  </a:lnTo>
                  <a:lnTo>
                    <a:pt x="581" y="320"/>
                  </a:lnTo>
                  <a:lnTo>
                    <a:pt x="581" y="276"/>
                  </a:lnTo>
                  <a:lnTo>
                    <a:pt x="577" y="228"/>
                  </a:lnTo>
                  <a:lnTo>
                    <a:pt x="561" y="184"/>
                  </a:lnTo>
                  <a:lnTo>
                    <a:pt x="541" y="144"/>
                  </a:lnTo>
                  <a:lnTo>
                    <a:pt x="517" y="108"/>
                  </a:lnTo>
                  <a:lnTo>
                    <a:pt x="485" y="76"/>
                  </a:lnTo>
                  <a:lnTo>
                    <a:pt x="449" y="48"/>
                  </a:lnTo>
                  <a:lnTo>
                    <a:pt x="413" y="24"/>
                  </a:lnTo>
                  <a:lnTo>
                    <a:pt x="369" y="12"/>
                  </a:lnTo>
                  <a:lnTo>
                    <a:pt x="325" y="0"/>
                  </a:lnTo>
                  <a:lnTo>
                    <a:pt x="277" y="0"/>
                  </a:lnTo>
                  <a:lnTo>
                    <a:pt x="229" y="8"/>
                  </a:lnTo>
                  <a:lnTo>
                    <a:pt x="184" y="20"/>
                  </a:lnTo>
                  <a:lnTo>
                    <a:pt x="144" y="40"/>
                  </a:lnTo>
                  <a:lnTo>
                    <a:pt x="108" y="64"/>
                  </a:lnTo>
                  <a:lnTo>
                    <a:pt x="76" y="96"/>
                  </a:lnTo>
                  <a:lnTo>
                    <a:pt x="48" y="132"/>
                  </a:lnTo>
                  <a:lnTo>
                    <a:pt x="24" y="172"/>
                  </a:lnTo>
                  <a:lnTo>
                    <a:pt x="12" y="212"/>
                  </a:lnTo>
                  <a:lnTo>
                    <a:pt x="4" y="260"/>
                  </a:lnTo>
                  <a:lnTo>
                    <a:pt x="0" y="308"/>
                  </a:lnTo>
                  <a:lnTo>
                    <a:pt x="8" y="352"/>
                  </a:lnTo>
                  <a:lnTo>
                    <a:pt x="20" y="396"/>
                  </a:lnTo>
                  <a:lnTo>
                    <a:pt x="40" y="441"/>
                  </a:lnTo>
                  <a:lnTo>
                    <a:pt x="68" y="477"/>
                  </a:lnTo>
                  <a:lnTo>
                    <a:pt x="96" y="509"/>
                  </a:lnTo>
                  <a:lnTo>
                    <a:pt x="132" y="537"/>
                  </a:lnTo>
                  <a:lnTo>
                    <a:pt x="172" y="557"/>
                  </a:lnTo>
                  <a:lnTo>
                    <a:pt x="216" y="573"/>
                  </a:lnTo>
                  <a:lnTo>
                    <a:pt x="261" y="581"/>
                  </a:lnTo>
                  <a:lnTo>
                    <a:pt x="309" y="581"/>
                  </a:lnTo>
                  <a:lnTo>
                    <a:pt x="309" y="5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0360" y="3536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7840" y="369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540000">
              <a:off x="1703880" y="23799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000">
              <a:off x="1882800" y="2543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4520" y="3376440"/>
              <a:ext cx="653760" cy="585720"/>
            </a:xfrm>
            <a:custGeom>
              <a:avLst/>
              <a:gdLst/>
              <a:ahLst/>
              <a:rect l="l" t="t" r="r" b="b"/>
              <a:pathLst>
                <a:path w="581" h="585">
                  <a:moveTo>
                    <a:pt x="277" y="581"/>
                  </a:moveTo>
                  <a:lnTo>
                    <a:pt x="329" y="581"/>
                  </a:lnTo>
                  <a:lnTo>
                    <a:pt x="373" y="573"/>
                  </a:lnTo>
                  <a:lnTo>
                    <a:pt x="417" y="557"/>
                  </a:lnTo>
                  <a:lnTo>
                    <a:pt x="453" y="533"/>
                  </a:lnTo>
                  <a:lnTo>
                    <a:pt x="489" y="505"/>
                  </a:lnTo>
                  <a:lnTo>
                    <a:pt x="521" y="473"/>
                  </a:lnTo>
                  <a:lnTo>
                    <a:pt x="545" y="437"/>
                  </a:lnTo>
                  <a:lnTo>
                    <a:pt x="565" y="397"/>
                  </a:lnTo>
                  <a:lnTo>
                    <a:pt x="577" y="353"/>
                  </a:lnTo>
                  <a:lnTo>
                    <a:pt x="581" y="305"/>
                  </a:lnTo>
                  <a:lnTo>
                    <a:pt x="581" y="257"/>
                  </a:lnTo>
                  <a:lnTo>
                    <a:pt x="573" y="213"/>
                  </a:lnTo>
                  <a:lnTo>
                    <a:pt x="557" y="169"/>
                  </a:lnTo>
                  <a:lnTo>
                    <a:pt x="533" y="132"/>
                  </a:lnTo>
                  <a:lnTo>
                    <a:pt x="505" y="96"/>
                  </a:lnTo>
                  <a:lnTo>
                    <a:pt x="473" y="64"/>
                  </a:lnTo>
                  <a:lnTo>
                    <a:pt x="437" y="40"/>
                  </a:lnTo>
                  <a:lnTo>
                    <a:pt x="393" y="20"/>
                  </a:lnTo>
                  <a:lnTo>
                    <a:pt x="349" y="8"/>
                  </a:lnTo>
                  <a:lnTo>
                    <a:pt x="305" y="0"/>
                  </a:lnTo>
                  <a:lnTo>
                    <a:pt x="257" y="4"/>
                  </a:lnTo>
                  <a:lnTo>
                    <a:pt x="212" y="12"/>
                  </a:lnTo>
                  <a:lnTo>
                    <a:pt x="168" y="28"/>
                  </a:lnTo>
                  <a:lnTo>
                    <a:pt x="128" y="52"/>
                  </a:lnTo>
                  <a:lnTo>
                    <a:pt x="92" y="80"/>
                  </a:lnTo>
                  <a:lnTo>
                    <a:pt x="64" y="112"/>
                  </a:lnTo>
                  <a:lnTo>
                    <a:pt x="40" y="148"/>
                  </a:lnTo>
                  <a:lnTo>
                    <a:pt x="20" y="189"/>
                  </a:lnTo>
                  <a:lnTo>
                    <a:pt x="8" y="233"/>
                  </a:lnTo>
                  <a:lnTo>
                    <a:pt x="0" y="281"/>
                  </a:lnTo>
                  <a:lnTo>
                    <a:pt x="4" y="329"/>
                  </a:lnTo>
                  <a:lnTo>
                    <a:pt x="12" y="373"/>
                  </a:lnTo>
                  <a:lnTo>
                    <a:pt x="28" y="417"/>
                  </a:lnTo>
                  <a:lnTo>
                    <a:pt x="48" y="457"/>
                  </a:lnTo>
                  <a:lnTo>
                    <a:pt x="76" y="489"/>
                  </a:lnTo>
                  <a:lnTo>
                    <a:pt x="112" y="521"/>
                  </a:lnTo>
                  <a:lnTo>
                    <a:pt x="148" y="545"/>
                  </a:lnTo>
                  <a:lnTo>
                    <a:pt x="188" y="565"/>
                  </a:lnTo>
                  <a:lnTo>
                    <a:pt x="233" y="577"/>
                  </a:lnTo>
                  <a:lnTo>
                    <a:pt x="281" y="585"/>
                  </a:lnTo>
                  <a:lnTo>
                    <a:pt x="281" y="58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400000">
              <a:off x="2376360" y="342504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-Mbps 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">
              <a:off x="2244960" y="2721960"/>
              <a:ext cx="121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-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24640" y="3060000"/>
              <a:ext cx="311400" cy="111960"/>
            </a:xfrm>
            <a:custGeom>
              <a:avLst/>
              <a:gdLst/>
              <a:ahLst/>
              <a:rect l="l" t="t" r="r" b="b"/>
              <a:pathLst>
                <a:path w="277" h="112">
                  <a:moveTo>
                    <a:pt x="0" y="0"/>
                  </a:moveTo>
                  <a:lnTo>
                    <a:pt x="277" y="4"/>
                  </a:lnTo>
                  <a:lnTo>
                    <a:pt x="277" y="112"/>
                  </a:lnTo>
                  <a:lnTo>
                    <a:pt x="0" y="1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080" y="3063960"/>
              <a:ext cx="7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8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2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6720" y="3063960"/>
              <a:ext cx="432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4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28320" y="3063960"/>
              <a:ext cx="108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4E0-9155-430F-AA6E-826E6CCA7C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ndom Early Detection (RED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is implic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drop the packet (TCP will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make explicit by marking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ndom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wait for queue to become full, drop each arriving packet with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queue length exceed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D49-3923-4A71-837B-1846C0464A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verage queu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gLen = (1 - Weight) * AvgLe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* Sampl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 (usually 0.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queue length each time a packet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2282760" y="3581280"/>
            <a:ext cx="4471560" cy="2454480"/>
            <a:chOff x="2282760" y="3581280"/>
            <a:chExt cx="4471560" cy="2454480"/>
          </a:xfrm>
        </p:grpSpPr>
        <p:sp>
          <p:nvSpPr>
            <p:cNvPr id="1043" name=""/>
            <p:cNvSpPr/>
            <p:nvPr/>
          </p:nvSpPr>
          <p:spPr>
            <a:xfrm>
              <a:off x="5209920" y="391896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3800" y="3925080"/>
              <a:ext cx="7200" cy="15544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82760" y="3581280"/>
              <a:ext cx="161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x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78400" y="3581280"/>
              <a:ext cx="154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87640" y="57304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8480" y="57304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79600" y="4263120"/>
              <a:ext cx="4374720" cy="858960"/>
            </a:xfrm>
            <a:custGeom>
              <a:avLst/>
              <a:gdLst/>
              <a:ahLst/>
              <a:rect l="l" t="t" r="r" b="b"/>
              <a:pathLst>
                <a:path w="2892" h="572">
                  <a:moveTo>
                    <a:pt x="0" y="0"/>
                  </a:moveTo>
                  <a:lnTo>
                    <a:pt x="2892" y="0"/>
                  </a:lnTo>
                  <a:lnTo>
                    <a:pt x="2892" y="572"/>
                  </a:lnTo>
                  <a:lnTo>
                    <a:pt x="5" y="57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31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443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9316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405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817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302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7900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202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6904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58720" y="4263120"/>
              <a:ext cx="108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0572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74696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9576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444200" y="4263120"/>
              <a:ext cx="144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85440" y="4263120"/>
              <a:ext cx="7200" cy="85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4311360" y="5225760"/>
              <a:ext cx="0" cy="43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49440" y="5129640"/>
              <a:ext cx="93600" cy="1681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52" y="109"/>
                  </a:moveTo>
                  <a:lnTo>
                    <a:pt x="29" y="0"/>
                  </a:lnTo>
                  <a:lnTo>
                    <a:pt x="0" y="109"/>
                  </a:lnTo>
                  <a:lnTo>
                    <a:pt x="57" y="109"/>
                  </a:lnTo>
                  <a:lnTo>
                    <a:pt x="57" y="109"/>
                  </a:lnTo>
                  <a:lnTo>
                    <a:pt x="52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48A-EAA9-4448-A646-09D2CA393A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eue length thres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vgLen &lt;= Min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inThreshold &lt; AvgLen &lt; Max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ulate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 with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anThreshold &lt;= AvgLen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D21-3409-4B16-A191-511FE38AC6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abili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P = MaxP * (AvgLen - MinThreshold)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axThreshold - MinThres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TempP/(1 - count * Tem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Probabilit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2421720" y="3500280"/>
            <a:ext cx="3769200" cy="2514960"/>
            <a:chOff x="2421720" y="3500280"/>
            <a:chExt cx="3769200" cy="2514960"/>
          </a:xfrm>
        </p:grpSpPr>
        <p:sp>
          <p:nvSpPr>
            <p:cNvPr id="1072" name=""/>
            <p:cNvSpPr/>
            <p:nvPr/>
          </p:nvSpPr>
          <p:spPr>
            <a:xfrm>
              <a:off x="2840040" y="4576680"/>
              <a:ext cx="2838600" cy="1225800"/>
            </a:xfrm>
            <a:custGeom>
              <a:avLst/>
              <a:gdLst/>
              <a:ahLst/>
              <a:rect l="l" t="t" r="r" b="b"/>
              <a:pathLst>
                <a:path w="1788" h="772">
                  <a:moveTo>
                    <a:pt x="0" y="770"/>
                  </a:moveTo>
                  <a:lnTo>
                    <a:pt x="454" y="772"/>
                  </a:lnTo>
                  <a:lnTo>
                    <a:pt x="1087" y="587"/>
                  </a:lnTo>
                  <a:lnTo>
                    <a:pt x="1087" y="0"/>
                  </a:lnTo>
                  <a:lnTo>
                    <a:pt x="1788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560760" y="573084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840040" y="3794040"/>
              <a:ext cx="1440" cy="200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4480" y="37130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59"/>
                  </a:moveTo>
                  <a:lnTo>
                    <a:pt x="16" y="0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6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0040" y="5799240"/>
              <a:ext cx="3063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81680" y="57769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30"/>
                  </a:moveTo>
                  <a:lnTo>
                    <a:pt x="62" y="16"/>
                  </a:lnTo>
                  <a:lnTo>
                    <a:pt x="3" y="0"/>
                  </a:lnTo>
                  <a:lnTo>
                    <a:pt x="3" y="32"/>
                  </a:lnTo>
                  <a:lnTo>
                    <a:pt x="3" y="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0040" y="4576680"/>
              <a:ext cx="73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40040" y="5505480"/>
              <a:ext cx="730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4565520" y="573084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16120" y="35002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87680" y="44798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1720" y="5411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17680" y="58323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09840" y="583236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Th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85840" y="5556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72600" y="55562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C0F-275B-4B9D-A835-95ECAA6D29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uning R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dropping a particular flow’s packet(s) is roughly proportional to the share of the bandwidth that flow is currently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ypically set to 0.02, meaning that when the average queue size is halfway between the two thresholds, the gateway drops roughly one out of 50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ffic id bursty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sufficiently large to allow link utilization to be maintained at an acceptably high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two thresholds should be larger than the typical increase in the calculated average queue length in one RTT; set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wi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asonable for traffic on today’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y Box for Off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181-0389-48DD-91AA-E28490488D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urce watches for some sign that router’s queue is building up and congestion will happen too;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rate flatt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PE06F18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2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92B-8102-464A-ADF9-429AB4D532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minimum of all measured RTTs (commonly the RTT of the first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overflowing the connection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Rate = CongestionWindow/Bas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alculates sending rat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mpa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ExpectedRate - Actual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iff &l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Diff &g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ve CongestionWindow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6AD-90D4-4C5D-A0A0-489FCD6DD8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faster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ine-grained timestamps for each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timeout on first duplicat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E06F19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9C2-DF72-4C8B-8B28-CAA1E01B49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e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packets sent between source/destination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 versus host-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-based versus feedback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-based versus rat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05120" y="2286000"/>
            <a:ext cx="4237200" cy="2438280"/>
            <a:chOff x="1905120" y="2286000"/>
            <a:chExt cx="4237200" cy="2438280"/>
          </a:xfrm>
        </p:grpSpPr>
        <p:sp>
          <p:nvSpPr>
            <p:cNvPr id="84" name=""/>
            <p:cNvSpPr/>
            <p:nvPr/>
          </p:nvSpPr>
          <p:spPr>
            <a:xfrm>
              <a:off x="3157920" y="277632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57920" y="3765960"/>
              <a:ext cx="511200" cy="456480"/>
            </a:xfrm>
            <a:custGeom>
              <a:avLst/>
              <a:gdLst/>
              <a:ahLst/>
              <a:rect l="l" t="t" r="r" b="b"/>
              <a:pathLst>
                <a:path w="471" h="470">
                  <a:moveTo>
                    <a:pt x="471" y="466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0"/>
                  </a:lnTo>
                  <a:lnTo>
                    <a:pt x="471" y="470"/>
                  </a:lnTo>
                  <a:lnTo>
                    <a:pt x="471" y="470"/>
                  </a:lnTo>
                  <a:lnTo>
                    <a:pt x="471" y="46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3240" y="3270600"/>
              <a:ext cx="511200" cy="457200"/>
            </a:xfrm>
            <a:custGeom>
              <a:avLst/>
              <a:gdLst/>
              <a:ahLst/>
              <a:rect l="l" t="t" r="r" b="b"/>
              <a:pathLst>
                <a:path w="471" h="471">
                  <a:moveTo>
                    <a:pt x="471" y="467"/>
                  </a:moveTo>
                  <a:lnTo>
                    <a:pt x="471" y="0"/>
                  </a:lnTo>
                  <a:lnTo>
                    <a:pt x="0" y="0"/>
                  </a:lnTo>
                  <a:lnTo>
                    <a:pt x="0" y="471"/>
                  </a:lnTo>
                  <a:lnTo>
                    <a:pt x="471" y="471"/>
                  </a:lnTo>
                  <a:lnTo>
                    <a:pt x="471" y="471"/>
                  </a:lnTo>
                  <a:lnTo>
                    <a:pt x="471" y="46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18760" y="283536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5120" y="228600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5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9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5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5" y="189"/>
                  </a:lnTo>
                  <a:lnTo>
                    <a:pt x="529" y="150"/>
                  </a:lnTo>
                  <a:lnTo>
                    <a:pt x="506" y="112"/>
                  </a:lnTo>
                  <a:lnTo>
                    <a:pt x="479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5" y="4"/>
                  </a:lnTo>
                  <a:lnTo>
                    <a:pt x="282" y="0"/>
                  </a:lnTo>
                  <a:lnTo>
                    <a:pt x="236" y="4"/>
                  </a:lnTo>
                  <a:lnTo>
                    <a:pt x="193" y="11"/>
                  </a:lnTo>
                  <a:lnTo>
                    <a:pt x="151" y="31"/>
                  </a:lnTo>
                  <a:lnTo>
                    <a:pt x="116" y="54"/>
                  </a:lnTo>
                  <a:lnTo>
                    <a:pt x="81" y="81"/>
                  </a:lnTo>
                  <a:lnTo>
                    <a:pt x="54" y="112"/>
                  </a:lnTo>
                  <a:lnTo>
                    <a:pt x="31" y="150"/>
                  </a:lnTo>
                  <a:lnTo>
                    <a:pt x="16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6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6" y="505"/>
                  </a:lnTo>
                  <a:lnTo>
                    <a:pt x="151" y="528"/>
                  </a:lnTo>
                  <a:lnTo>
                    <a:pt x="193" y="544"/>
                  </a:lnTo>
                  <a:lnTo>
                    <a:pt x="236" y="555"/>
                  </a:lnTo>
                  <a:lnTo>
                    <a:pt x="282" y="559"/>
                  </a:lnTo>
                  <a:lnTo>
                    <a:pt x="282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20320" y="34131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4840" y="355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09520" y="2435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71160" y="2579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18080" y="3263760"/>
              <a:ext cx="608040" cy="542520"/>
            </a:xfrm>
            <a:custGeom>
              <a:avLst/>
              <a:gdLst/>
              <a:ahLst/>
              <a:rect l="l" t="t" r="r" b="b"/>
              <a:pathLst>
                <a:path w="560" h="559">
                  <a:moveTo>
                    <a:pt x="278" y="559"/>
                  </a:moveTo>
                  <a:lnTo>
                    <a:pt x="324" y="555"/>
                  </a:lnTo>
                  <a:lnTo>
                    <a:pt x="367" y="544"/>
                  </a:lnTo>
                  <a:lnTo>
                    <a:pt x="409" y="528"/>
                  </a:lnTo>
                  <a:lnTo>
                    <a:pt x="444" y="505"/>
                  </a:lnTo>
                  <a:lnTo>
                    <a:pt x="478" y="478"/>
                  </a:lnTo>
                  <a:lnTo>
                    <a:pt x="506" y="443"/>
                  </a:lnTo>
                  <a:lnTo>
                    <a:pt x="529" y="409"/>
                  </a:lnTo>
                  <a:lnTo>
                    <a:pt x="544" y="366"/>
                  </a:lnTo>
                  <a:lnTo>
                    <a:pt x="556" y="324"/>
                  </a:lnTo>
                  <a:lnTo>
                    <a:pt x="560" y="277"/>
                  </a:lnTo>
                  <a:lnTo>
                    <a:pt x="556" y="235"/>
                  </a:lnTo>
                  <a:lnTo>
                    <a:pt x="544" y="189"/>
                  </a:lnTo>
                  <a:lnTo>
                    <a:pt x="529" y="150"/>
                  </a:lnTo>
                  <a:lnTo>
                    <a:pt x="506" y="115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1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1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5"/>
                  </a:lnTo>
                  <a:lnTo>
                    <a:pt x="31" y="150"/>
                  </a:lnTo>
                  <a:lnTo>
                    <a:pt x="11" y="189"/>
                  </a:lnTo>
                  <a:lnTo>
                    <a:pt x="4" y="235"/>
                  </a:lnTo>
                  <a:lnTo>
                    <a:pt x="0" y="277"/>
                  </a:lnTo>
                  <a:lnTo>
                    <a:pt x="4" y="324"/>
                  </a:lnTo>
                  <a:lnTo>
                    <a:pt x="11" y="366"/>
                  </a:lnTo>
                  <a:lnTo>
                    <a:pt x="31" y="409"/>
                  </a:lnTo>
                  <a:lnTo>
                    <a:pt x="54" y="443"/>
                  </a:lnTo>
                  <a:lnTo>
                    <a:pt x="81" y="478"/>
                  </a:lnTo>
                  <a:lnTo>
                    <a:pt x="112" y="505"/>
                  </a:lnTo>
                  <a:lnTo>
                    <a:pt x="150" y="528"/>
                  </a:lnTo>
                  <a:lnTo>
                    <a:pt x="189" y="544"/>
                  </a:lnTo>
                  <a:lnTo>
                    <a:pt x="235" y="555"/>
                  </a:lnTo>
                  <a:lnTo>
                    <a:pt x="278" y="559"/>
                  </a:lnTo>
                  <a:lnTo>
                    <a:pt x="278" y="5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0320" y="43272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84840" y="447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18080" y="4177800"/>
              <a:ext cx="608040" cy="546480"/>
            </a:xfrm>
            <a:custGeom>
              <a:avLst/>
              <a:gdLst/>
              <a:ahLst/>
              <a:rect l="l" t="t" r="r" b="b"/>
              <a:pathLst>
                <a:path w="560" h="563">
                  <a:moveTo>
                    <a:pt x="278" y="559"/>
                  </a:moveTo>
                  <a:lnTo>
                    <a:pt x="324" y="559"/>
                  </a:lnTo>
                  <a:lnTo>
                    <a:pt x="367" y="548"/>
                  </a:lnTo>
                  <a:lnTo>
                    <a:pt x="409" y="529"/>
                  </a:lnTo>
                  <a:lnTo>
                    <a:pt x="444" y="509"/>
                  </a:lnTo>
                  <a:lnTo>
                    <a:pt x="478" y="478"/>
                  </a:lnTo>
                  <a:lnTo>
                    <a:pt x="506" y="448"/>
                  </a:lnTo>
                  <a:lnTo>
                    <a:pt x="529" y="409"/>
                  </a:lnTo>
                  <a:lnTo>
                    <a:pt x="544" y="370"/>
                  </a:lnTo>
                  <a:lnTo>
                    <a:pt x="556" y="328"/>
                  </a:lnTo>
                  <a:lnTo>
                    <a:pt x="560" y="282"/>
                  </a:lnTo>
                  <a:lnTo>
                    <a:pt x="556" y="235"/>
                  </a:lnTo>
                  <a:lnTo>
                    <a:pt x="544" y="193"/>
                  </a:lnTo>
                  <a:lnTo>
                    <a:pt x="529" y="150"/>
                  </a:lnTo>
                  <a:lnTo>
                    <a:pt x="506" y="116"/>
                  </a:lnTo>
                  <a:lnTo>
                    <a:pt x="478" y="81"/>
                  </a:lnTo>
                  <a:lnTo>
                    <a:pt x="444" y="54"/>
                  </a:lnTo>
                  <a:lnTo>
                    <a:pt x="409" y="31"/>
                  </a:lnTo>
                  <a:lnTo>
                    <a:pt x="367" y="15"/>
                  </a:lnTo>
                  <a:lnTo>
                    <a:pt x="324" y="4"/>
                  </a:lnTo>
                  <a:lnTo>
                    <a:pt x="278" y="0"/>
                  </a:lnTo>
                  <a:lnTo>
                    <a:pt x="235" y="4"/>
                  </a:lnTo>
                  <a:lnTo>
                    <a:pt x="189" y="15"/>
                  </a:lnTo>
                  <a:lnTo>
                    <a:pt x="150" y="31"/>
                  </a:lnTo>
                  <a:lnTo>
                    <a:pt x="112" y="54"/>
                  </a:lnTo>
                  <a:lnTo>
                    <a:pt x="81" y="81"/>
                  </a:lnTo>
                  <a:lnTo>
                    <a:pt x="54" y="116"/>
                  </a:lnTo>
                  <a:lnTo>
                    <a:pt x="31" y="150"/>
                  </a:lnTo>
                  <a:lnTo>
                    <a:pt x="11" y="193"/>
                  </a:lnTo>
                  <a:lnTo>
                    <a:pt x="4" y="235"/>
                  </a:lnTo>
                  <a:lnTo>
                    <a:pt x="0" y="282"/>
                  </a:lnTo>
                  <a:lnTo>
                    <a:pt x="4" y="328"/>
                  </a:lnTo>
                  <a:lnTo>
                    <a:pt x="11" y="370"/>
                  </a:lnTo>
                  <a:lnTo>
                    <a:pt x="31" y="409"/>
                  </a:lnTo>
                  <a:lnTo>
                    <a:pt x="54" y="448"/>
                  </a:lnTo>
                  <a:lnTo>
                    <a:pt x="81" y="478"/>
                  </a:lnTo>
                  <a:lnTo>
                    <a:pt x="112" y="509"/>
                  </a:lnTo>
                  <a:lnTo>
                    <a:pt x="150" y="529"/>
                  </a:lnTo>
                  <a:lnTo>
                    <a:pt x="189" y="548"/>
                  </a:lnTo>
                  <a:lnTo>
                    <a:pt x="235" y="559"/>
                  </a:lnTo>
                  <a:lnTo>
                    <a:pt x="278" y="563"/>
                  </a:lnTo>
                  <a:lnTo>
                    <a:pt x="278" y="5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18760" y="38260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9040" y="33307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76600" y="393084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90160" y="40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0320" y="3709440"/>
              <a:ext cx="763200" cy="677520"/>
            </a:xfrm>
            <a:custGeom>
              <a:avLst/>
              <a:gdLst/>
              <a:ahLst/>
              <a:rect l="l" t="t" r="r" b="b"/>
              <a:pathLst>
                <a:path w="703" h="698">
                  <a:moveTo>
                    <a:pt x="351" y="698"/>
                  </a:moveTo>
                  <a:lnTo>
                    <a:pt x="409" y="694"/>
                  </a:lnTo>
                  <a:lnTo>
                    <a:pt x="463" y="683"/>
                  </a:lnTo>
                  <a:lnTo>
                    <a:pt x="513" y="659"/>
                  </a:lnTo>
                  <a:lnTo>
                    <a:pt x="560" y="632"/>
                  </a:lnTo>
                  <a:lnTo>
                    <a:pt x="602" y="598"/>
                  </a:lnTo>
                  <a:lnTo>
                    <a:pt x="637" y="555"/>
                  </a:lnTo>
                  <a:lnTo>
                    <a:pt x="664" y="509"/>
                  </a:lnTo>
                  <a:lnTo>
                    <a:pt x="687" y="459"/>
                  </a:lnTo>
                  <a:lnTo>
                    <a:pt x="699" y="405"/>
                  </a:lnTo>
                  <a:lnTo>
                    <a:pt x="703" y="351"/>
                  </a:lnTo>
                  <a:lnTo>
                    <a:pt x="699" y="293"/>
                  </a:lnTo>
                  <a:lnTo>
                    <a:pt x="687" y="239"/>
                  </a:lnTo>
                  <a:lnTo>
                    <a:pt x="664" y="189"/>
                  </a:lnTo>
                  <a:lnTo>
                    <a:pt x="637" y="143"/>
                  </a:lnTo>
                  <a:lnTo>
                    <a:pt x="602" y="100"/>
                  </a:lnTo>
                  <a:lnTo>
                    <a:pt x="560" y="65"/>
                  </a:lnTo>
                  <a:lnTo>
                    <a:pt x="513" y="38"/>
                  </a:lnTo>
                  <a:lnTo>
                    <a:pt x="463" y="15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7" y="4"/>
                  </a:lnTo>
                  <a:lnTo>
                    <a:pt x="243" y="15"/>
                  </a:lnTo>
                  <a:lnTo>
                    <a:pt x="193" y="38"/>
                  </a:lnTo>
                  <a:lnTo>
                    <a:pt x="147" y="65"/>
                  </a:lnTo>
                  <a:lnTo>
                    <a:pt x="104" y="100"/>
                  </a:lnTo>
                  <a:lnTo>
                    <a:pt x="70" y="143"/>
                  </a:lnTo>
                  <a:lnTo>
                    <a:pt x="43" y="189"/>
                  </a:lnTo>
                  <a:lnTo>
                    <a:pt x="19" y="239"/>
                  </a:lnTo>
                  <a:lnTo>
                    <a:pt x="8" y="293"/>
                  </a:lnTo>
                  <a:lnTo>
                    <a:pt x="0" y="351"/>
                  </a:lnTo>
                  <a:lnTo>
                    <a:pt x="8" y="405"/>
                  </a:lnTo>
                  <a:lnTo>
                    <a:pt x="19" y="459"/>
                  </a:lnTo>
                  <a:lnTo>
                    <a:pt x="43" y="509"/>
                  </a:lnTo>
                  <a:lnTo>
                    <a:pt x="70" y="555"/>
                  </a:lnTo>
                  <a:lnTo>
                    <a:pt x="104" y="598"/>
                  </a:lnTo>
                  <a:lnTo>
                    <a:pt x="147" y="632"/>
                  </a:lnTo>
                  <a:lnTo>
                    <a:pt x="193" y="659"/>
                  </a:lnTo>
                  <a:lnTo>
                    <a:pt x="243" y="683"/>
                  </a:lnTo>
                  <a:lnTo>
                    <a:pt x="297" y="694"/>
                  </a:lnTo>
                  <a:lnTo>
                    <a:pt x="351" y="698"/>
                  </a:lnTo>
                  <a:lnTo>
                    <a:pt x="351" y="6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69040" y="288396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80440" y="303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6000" y="2663640"/>
              <a:ext cx="763200" cy="678600"/>
            </a:xfrm>
            <a:custGeom>
              <a:avLst/>
              <a:gdLst/>
              <a:ahLst/>
              <a:rect l="l" t="t" r="r" b="b"/>
              <a:pathLst>
                <a:path w="703" h="699">
                  <a:moveTo>
                    <a:pt x="348" y="699"/>
                  </a:moveTo>
                  <a:lnTo>
                    <a:pt x="409" y="695"/>
                  </a:lnTo>
                  <a:lnTo>
                    <a:pt x="463" y="683"/>
                  </a:lnTo>
                  <a:lnTo>
                    <a:pt x="514" y="660"/>
                  </a:lnTo>
                  <a:lnTo>
                    <a:pt x="560" y="633"/>
                  </a:lnTo>
                  <a:lnTo>
                    <a:pt x="598" y="598"/>
                  </a:lnTo>
                  <a:lnTo>
                    <a:pt x="633" y="556"/>
                  </a:lnTo>
                  <a:lnTo>
                    <a:pt x="664" y="510"/>
                  </a:lnTo>
                  <a:lnTo>
                    <a:pt x="683" y="459"/>
                  </a:lnTo>
                  <a:lnTo>
                    <a:pt x="699" y="405"/>
                  </a:lnTo>
                  <a:lnTo>
                    <a:pt x="703" y="348"/>
                  </a:lnTo>
                  <a:lnTo>
                    <a:pt x="699" y="294"/>
                  </a:lnTo>
                  <a:lnTo>
                    <a:pt x="683" y="240"/>
                  </a:lnTo>
                  <a:lnTo>
                    <a:pt x="664" y="189"/>
                  </a:lnTo>
                  <a:lnTo>
                    <a:pt x="633" y="143"/>
                  </a:lnTo>
                  <a:lnTo>
                    <a:pt x="598" y="101"/>
                  </a:lnTo>
                  <a:lnTo>
                    <a:pt x="560" y="66"/>
                  </a:lnTo>
                  <a:lnTo>
                    <a:pt x="514" y="39"/>
                  </a:lnTo>
                  <a:lnTo>
                    <a:pt x="463" y="16"/>
                  </a:lnTo>
                  <a:lnTo>
                    <a:pt x="409" y="4"/>
                  </a:lnTo>
                  <a:lnTo>
                    <a:pt x="351" y="0"/>
                  </a:lnTo>
                  <a:lnTo>
                    <a:pt x="294" y="4"/>
                  </a:lnTo>
                  <a:lnTo>
                    <a:pt x="240" y="16"/>
                  </a:lnTo>
                  <a:lnTo>
                    <a:pt x="189" y="39"/>
                  </a:lnTo>
                  <a:lnTo>
                    <a:pt x="143" y="66"/>
                  </a:lnTo>
                  <a:lnTo>
                    <a:pt x="104" y="101"/>
                  </a:lnTo>
                  <a:lnTo>
                    <a:pt x="70" y="143"/>
                  </a:lnTo>
                  <a:lnTo>
                    <a:pt x="39" y="189"/>
                  </a:lnTo>
                  <a:lnTo>
                    <a:pt x="20" y="240"/>
                  </a:lnTo>
                  <a:lnTo>
                    <a:pt x="4" y="294"/>
                  </a:lnTo>
                  <a:lnTo>
                    <a:pt x="0" y="348"/>
                  </a:lnTo>
                  <a:lnTo>
                    <a:pt x="4" y="405"/>
                  </a:lnTo>
                  <a:lnTo>
                    <a:pt x="20" y="459"/>
                  </a:lnTo>
                  <a:lnTo>
                    <a:pt x="39" y="510"/>
                  </a:lnTo>
                  <a:lnTo>
                    <a:pt x="70" y="556"/>
                  </a:lnTo>
                  <a:lnTo>
                    <a:pt x="104" y="598"/>
                  </a:lnTo>
                  <a:lnTo>
                    <a:pt x="143" y="633"/>
                  </a:lnTo>
                  <a:lnTo>
                    <a:pt x="189" y="660"/>
                  </a:lnTo>
                  <a:lnTo>
                    <a:pt x="240" y="683"/>
                  </a:lnTo>
                  <a:lnTo>
                    <a:pt x="294" y="695"/>
                  </a:lnTo>
                  <a:lnTo>
                    <a:pt x="351" y="699"/>
                  </a:lnTo>
                  <a:lnTo>
                    <a:pt x="351" y="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7480" y="2574000"/>
              <a:ext cx="2832840" cy="929160"/>
            </a:xfrm>
            <a:custGeom>
              <a:avLst/>
              <a:gdLst/>
              <a:ahLst/>
              <a:rect l="l" t="t" r="r" b="b"/>
              <a:pathLst>
                <a:path w="2609" h="957">
                  <a:moveTo>
                    <a:pt x="0" y="0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8" y="4"/>
                  </a:lnTo>
                  <a:lnTo>
                    <a:pt x="58" y="7"/>
                  </a:lnTo>
                  <a:lnTo>
                    <a:pt x="77" y="19"/>
                  </a:lnTo>
                  <a:lnTo>
                    <a:pt x="100" y="35"/>
                  </a:lnTo>
                  <a:lnTo>
                    <a:pt x="123" y="58"/>
                  </a:lnTo>
                  <a:lnTo>
                    <a:pt x="147" y="89"/>
                  </a:lnTo>
                  <a:lnTo>
                    <a:pt x="166" y="127"/>
                  </a:lnTo>
                  <a:lnTo>
                    <a:pt x="193" y="181"/>
                  </a:lnTo>
                  <a:lnTo>
                    <a:pt x="220" y="231"/>
                  </a:lnTo>
                  <a:lnTo>
                    <a:pt x="247" y="270"/>
                  </a:lnTo>
                  <a:lnTo>
                    <a:pt x="278" y="305"/>
                  </a:lnTo>
                  <a:lnTo>
                    <a:pt x="305" y="332"/>
                  </a:lnTo>
                  <a:lnTo>
                    <a:pt x="332" y="355"/>
                  </a:lnTo>
                  <a:lnTo>
                    <a:pt x="363" y="374"/>
                  </a:lnTo>
                  <a:lnTo>
                    <a:pt x="390" y="389"/>
                  </a:lnTo>
                  <a:lnTo>
                    <a:pt x="413" y="401"/>
                  </a:lnTo>
                  <a:lnTo>
                    <a:pt x="436" y="409"/>
                  </a:lnTo>
                  <a:lnTo>
                    <a:pt x="494" y="420"/>
                  </a:lnTo>
                  <a:lnTo>
                    <a:pt x="563" y="428"/>
                  </a:lnTo>
                  <a:lnTo>
                    <a:pt x="644" y="428"/>
                  </a:lnTo>
                  <a:lnTo>
                    <a:pt x="733" y="432"/>
                  </a:lnTo>
                  <a:lnTo>
                    <a:pt x="830" y="432"/>
                  </a:lnTo>
                  <a:lnTo>
                    <a:pt x="922" y="436"/>
                  </a:lnTo>
                  <a:lnTo>
                    <a:pt x="1015" y="447"/>
                  </a:lnTo>
                  <a:lnTo>
                    <a:pt x="1104" y="463"/>
                  </a:lnTo>
                  <a:lnTo>
                    <a:pt x="1181" y="486"/>
                  </a:lnTo>
                  <a:lnTo>
                    <a:pt x="1247" y="524"/>
                  </a:lnTo>
                  <a:lnTo>
                    <a:pt x="1293" y="567"/>
                  </a:lnTo>
                  <a:lnTo>
                    <a:pt x="1335" y="609"/>
                  </a:lnTo>
                  <a:lnTo>
                    <a:pt x="1370" y="652"/>
                  </a:lnTo>
                  <a:lnTo>
                    <a:pt x="1397" y="698"/>
                  </a:lnTo>
                  <a:lnTo>
                    <a:pt x="1420" y="741"/>
                  </a:lnTo>
                  <a:lnTo>
                    <a:pt x="1443" y="779"/>
                  </a:lnTo>
                  <a:lnTo>
                    <a:pt x="1463" y="818"/>
                  </a:lnTo>
                  <a:lnTo>
                    <a:pt x="1486" y="852"/>
                  </a:lnTo>
                  <a:lnTo>
                    <a:pt x="1509" y="879"/>
                  </a:lnTo>
                  <a:lnTo>
                    <a:pt x="1532" y="903"/>
                  </a:lnTo>
                  <a:lnTo>
                    <a:pt x="1563" y="918"/>
                  </a:lnTo>
                  <a:lnTo>
                    <a:pt x="1594" y="933"/>
                  </a:lnTo>
                  <a:lnTo>
                    <a:pt x="1629" y="941"/>
                  </a:lnTo>
                  <a:lnTo>
                    <a:pt x="1667" y="949"/>
                  </a:lnTo>
                  <a:lnTo>
                    <a:pt x="1706" y="953"/>
                  </a:lnTo>
                  <a:lnTo>
                    <a:pt x="1748" y="957"/>
                  </a:lnTo>
                  <a:lnTo>
                    <a:pt x="1791" y="957"/>
                  </a:lnTo>
                  <a:lnTo>
                    <a:pt x="1829" y="957"/>
                  </a:lnTo>
                  <a:lnTo>
                    <a:pt x="1868" y="957"/>
                  </a:lnTo>
                  <a:lnTo>
                    <a:pt x="1907" y="957"/>
                  </a:lnTo>
                  <a:lnTo>
                    <a:pt x="1941" y="957"/>
                  </a:lnTo>
                  <a:lnTo>
                    <a:pt x="1980" y="957"/>
                  </a:lnTo>
                  <a:lnTo>
                    <a:pt x="2019" y="953"/>
                  </a:lnTo>
                  <a:lnTo>
                    <a:pt x="2057" y="945"/>
                  </a:lnTo>
                  <a:lnTo>
                    <a:pt x="2100" y="937"/>
                  </a:lnTo>
                  <a:lnTo>
                    <a:pt x="2146" y="926"/>
                  </a:lnTo>
                  <a:lnTo>
                    <a:pt x="2192" y="914"/>
                  </a:lnTo>
                  <a:lnTo>
                    <a:pt x="2239" y="899"/>
                  </a:lnTo>
                  <a:lnTo>
                    <a:pt x="2289" y="879"/>
                  </a:lnTo>
                  <a:lnTo>
                    <a:pt x="2339" y="856"/>
                  </a:lnTo>
                  <a:lnTo>
                    <a:pt x="2370" y="841"/>
                  </a:lnTo>
                  <a:lnTo>
                    <a:pt x="2401" y="822"/>
                  </a:lnTo>
                  <a:lnTo>
                    <a:pt x="2435" y="802"/>
                  </a:lnTo>
                  <a:lnTo>
                    <a:pt x="2474" y="779"/>
                  </a:lnTo>
                  <a:lnTo>
                    <a:pt x="2509" y="760"/>
                  </a:lnTo>
                  <a:lnTo>
                    <a:pt x="2540" y="737"/>
                  </a:lnTo>
                  <a:lnTo>
                    <a:pt x="2567" y="721"/>
                  </a:lnTo>
                  <a:lnTo>
                    <a:pt x="2590" y="706"/>
                  </a:lnTo>
                  <a:lnTo>
                    <a:pt x="2605" y="698"/>
                  </a:lnTo>
                  <a:lnTo>
                    <a:pt x="2609" y="6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25480" y="3211200"/>
              <a:ext cx="96480" cy="5904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23" y="61"/>
                  </a:moveTo>
                  <a:lnTo>
                    <a:pt x="89" y="0"/>
                  </a:lnTo>
                  <a:lnTo>
                    <a:pt x="0" y="23"/>
                  </a:lnTo>
                  <a:lnTo>
                    <a:pt x="23" y="61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70840" y="3248280"/>
              <a:ext cx="92160" cy="6768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24" y="66"/>
                  </a:moveTo>
                  <a:lnTo>
                    <a:pt x="85" y="0"/>
                  </a:lnTo>
                  <a:lnTo>
                    <a:pt x="0" y="27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9360" y="3286080"/>
              <a:ext cx="2874960" cy="1164960"/>
            </a:xfrm>
            <a:custGeom>
              <a:avLst/>
              <a:gdLst/>
              <a:ahLst/>
              <a:rect l="l" t="t" r="r" b="b"/>
              <a:pathLst>
                <a:path w="2648" h="1200">
                  <a:moveTo>
                    <a:pt x="0" y="1196"/>
                  </a:moveTo>
                  <a:lnTo>
                    <a:pt x="0" y="1200"/>
                  </a:lnTo>
                  <a:lnTo>
                    <a:pt x="8" y="1200"/>
                  </a:lnTo>
                  <a:lnTo>
                    <a:pt x="20" y="1200"/>
                  </a:lnTo>
                  <a:lnTo>
                    <a:pt x="31" y="1200"/>
                  </a:lnTo>
                  <a:lnTo>
                    <a:pt x="43" y="1196"/>
                  </a:lnTo>
                  <a:lnTo>
                    <a:pt x="58" y="1196"/>
                  </a:lnTo>
                  <a:lnTo>
                    <a:pt x="74" y="1192"/>
                  </a:lnTo>
                  <a:lnTo>
                    <a:pt x="93" y="1188"/>
                  </a:lnTo>
                  <a:lnTo>
                    <a:pt x="108" y="1180"/>
                  </a:lnTo>
                  <a:lnTo>
                    <a:pt x="120" y="1177"/>
                  </a:lnTo>
                  <a:lnTo>
                    <a:pt x="139" y="1161"/>
                  </a:lnTo>
                  <a:lnTo>
                    <a:pt x="159" y="1146"/>
                  </a:lnTo>
                  <a:lnTo>
                    <a:pt x="174" y="1126"/>
                  </a:lnTo>
                  <a:lnTo>
                    <a:pt x="193" y="1103"/>
                  </a:lnTo>
                  <a:lnTo>
                    <a:pt x="213" y="1080"/>
                  </a:lnTo>
                  <a:lnTo>
                    <a:pt x="228" y="1057"/>
                  </a:lnTo>
                  <a:lnTo>
                    <a:pt x="247" y="1030"/>
                  </a:lnTo>
                  <a:lnTo>
                    <a:pt x="263" y="1007"/>
                  </a:lnTo>
                  <a:lnTo>
                    <a:pt x="282" y="984"/>
                  </a:lnTo>
                  <a:lnTo>
                    <a:pt x="301" y="964"/>
                  </a:lnTo>
                  <a:lnTo>
                    <a:pt x="321" y="941"/>
                  </a:lnTo>
                  <a:lnTo>
                    <a:pt x="340" y="922"/>
                  </a:lnTo>
                  <a:lnTo>
                    <a:pt x="359" y="903"/>
                  </a:lnTo>
                  <a:lnTo>
                    <a:pt x="375" y="887"/>
                  </a:lnTo>
                  <a:lnTo>
                    <a:pt x="390" y="876"/>
                  </a:lnTo>
                  <a:lnTo>
                    <a:pt x="406" y="864"/>
                  </a:lnTo>
                  <a:lnTo>
                    <a:pt x="421" y="856"/>
                  </a:lnTo>
                  <a:lnTo>
                    <a:pt x="440" y="845"/>
                  </a:lnTo>
                  <a:lnTo>
                    <a:pt x="464" y="833"/>
                  </a:lnTo>
                  <a:lnTo>
                    <a:pt x="487" y="822"/>
                  </a:lnTo>
                  <a:lnTo>
                    <a:pt x="521" y="810"/>
                  </a:lnTo>
                  <a:lnTo>
                    <a:pt x="560" y="802"/>
                  </a:lnTo>
                  <a:lnTo>
                    <a:pt x="603" y="798"/>
                  </a:lnTo>
                  <a:lnTo>
                    <a:pt x="653" y="795"/>
                  </a:lnTo>
                  <a:lnTo>
                    <a:pt x="699" y="795"/>
                  </a:lnTo>
                  <a:lnTo>
                    <a:pt x="741" y="795"/>
                  </a:lnTo>
                  <a:lnTo>
                    <a:pt x="780" y="798"/>
                  </a:lnTo>
                  <a:lnTo>
                    <a:pt x="811" y="798"/>
                  </a:lnTo>
                  <a:lnTo>
                    <a:pt x="830" y="802"/>
                  </a:lnTo>
                  <a:lnTo>
                    <a:pt x="838" y="802"/>
                  </a:lnTo>
                  <a:lnTo>
                    <a:pt x="842" y="802"/>
                  </a:lnTo>
                  <a:lnTo>
                    <a:pt x="857" y="802"/>
                  </a:lnTo>
                  <a:lnTo>
                    <a:pt x="884" y="802"/>
                  </a:lnTo>
                  <a:lnTo>
                    <a:pt x="915" y="802"/>
                  </a:lnTo>
                  <a:lnTo>
                    <a:pt x="950" y="802"/>
                  </a:lnTo>
                  <a:lnTo>
                    <a:pt x="989" y="798"/>
                  </a:lnTo>
                  <a:lnTo>
                    <a:pt x="1027" y="798"/>
                  </a:lnTo>
                  <a:lnTo>
                    <a:pt x="1066" y="791"/>
                  </a:lnTo>
                  <a:lnTo>
                    <a:pt x="1100" y="787"/>
                  </a:lnTo>
                  <a:lnTo>
                    <a:pt x="1135" y="775"/>
                  </a:lnTo>
                  <a:lnTo>
                    <a:pt x="1162" y="768"/>
                  </a:lnTo>
                  <a:lnTo>
                    <a:pt x="1185" y="760"/>
                  </a:lnTo>
                  <a:lnTo>
                    <a:pt x="1209" y="752"/>
                  </a:lnTo>
                  <a:lnTo>
                    <a:pt x="1232" y="741"/>
                  </a:lnTo>
                  <a:lnTo>
                    <a:pt x="1251" y="733"/>
                  </a:lnTo>
                  <a:lnTo>
                    <a:pt x="1270" y="721"/>
                  </a:lnTo>
                  <a:lnTo>
                    <a:pt x="1286" y="706"/>
                  </a:lnTo>
                  <a:lnTo>
                    <a:pt x="1305" y="690"/>
                  </a:lnTo>
                  <a:lnTo>
                    <a:pt x="1324" y="675"/>
                  </a:lnTo>
                  <a:lnTo>
                    <a:pt x="1340" y="652"/>
                  </a:lnTo>
                  <a:lnTo>
                    <a:pt x="1382" y="602"/>
                  </a:lnTo>
                  <a:lnTo>
                    <a:pt x="1413" y="559"/>
                  </a:lnTo>
                  <a:lnTo>
                    <a:pt x="1440" y="524"/>
                  </a:lnTo>
                  <a:lnTo>
                    <a:pt x="1463" y="497"/>
                  </a:lnTo>
                  <a:lnTo>
                    <a:pt x="1479" y="474"/>
                  </a:lnTo>
                  <a:lnTo>
                    <a:pt x="1494" y="459"/>
                  </a:lnTo>
                  <a:lnTo>
                    <a:pt x="1506" y="443"/>
                  </a:lnTo>
                  <a:lnTo>
                    <a:pt x="1517" y="436"/>
                  </a:lnTo>
                  <a:lnTo>
                    <a:pt x="1529" y="424"/>
                  </a:lnTo>
                  <a:lnTo>
                    <a:pt x="1544" y="413"/>
                  </a:lnTo>
                  <a:lnTo>
                    <a:pt x="1579" y="389"/>
                  </a:lnTo>
                  <a:lnTo>
                    <a:pt x="1618" y="370"/>
                  </a:lnTo>
                  <a:lnTo>
                    <a:pt x="1660" y="355"/>
                  </a:lnTo>
                  <a:lnTo>
                    <a:pt x="1706" y="343"/>
                  </a:lnTo>
                  <a:lnTo>
                    <a:pt x="1749" y="332"/>
                  </a:lnTo>
                  <a:lnTo>
                    <a:pt x="1788" y="328"/>
                  </a:lnTo>
                  <a:lnTo>
                    <a:pt x="1826" y="320"/>
                  </a:lnTo>
                  <a:lnTo>
                    <a:pt x="1857" y="316"/>
                  </a:lnTo>
                  <a:lnTo>
                    <a:pt x="1880" y="316"/>
                  </a:lnTo>
                  <a:lnTo>
                    <a:pt x="1896" y="316"/>
                  </a:lnTo>
                  <a:lnTo>
                    <a:pt x="1938" y="308"/>
                  </a:lnTo>
                  <a:lnTo>
                    <a:pt x="1984" y="301"/>
                  </a:lnTo>
                  <a:lnTo>
                    <a:pt x="2035" y="293"/>
                  </a:lnTo>
                  <a:lnTo>
                    <a:pt x="2085" y="278"/>
                  </a:lnTo>
                  <a:lnTo>
                    <a:pt x="2135" y="266"/>
                  </a:lnTo>
                  <a:lnTo>
                    <a:pt x="2185" y="247"/>
                  </a:lnTo>
                  <a:lnTo>
                    <a:pt x="2235" y="231"/>
                  </a:lnTo>
                  <a:lnTo>
                    <a:pt x="2282" y="212"/>
                  </a:lnTo>
                  <a:lnTo>
                    <a:pt x="2328" y="189"/>
                  </a:lnTo>
                  <a:lnTo>
                    <a:pt x="2370" y="170"/>
                  </a:lnTo>
                  <a:lnTo>
                    <a:pt x="2413" y="143"/>
                  </a:lnTo>
                  <a:lnTo>
                    <a:pt x="2451" y="119"/>
                  </a:lnTo>
                  <a:lnTo>
                    <a:pt x="2490" y="96"/>
                  </a:lnTo>
                  <a:lnTo>
                    <a:pt x="2529" y="73"/>
                  </a:lnTo>
                  <a:lnTo>
                    <a:pt x="2559" y="54"/>
                  </a:lnTo>
                  <a:lnTo>
                    <a:pt x="2590" y="35"/>
                  </a:lnTo>
                  <a:lnTo>
                    <a:pt x="2614" y="19"/>
                  </a:lnTo>
                  <a:lnTo>
                    <a:pt x="2633" y="8"/>
                  </a:lnTo>
                  <a:lnTo>
                    <a:pt x="2644" y="0"/>
                  </a:lnTo>
                  <a:lnTo>
                    <a:pt x="26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26120" y="3056760"/>
              <a:ext cx="2790360" cy="794160"/>
            </a:xfrm>
            <a:custGeom>
              <a:avLst/>
              <a:gdLst/>
              <a:ahLst/>
              <a:rect l="l" t="t" r="r" b="b"/>
              <a:pathLst>
                <a:path w="2570" h="818">
                  <a:moveTo>
                    <a:pt x="2570" y="818"/>
                  </a:moveTo>
                  <a:lnTo>
                    <a:pt x="2570" y="818"/>
                  </a:lnTo>
                  <a:lnTo>
                    <a:pt x="2562" y="815"/>
                  </a:lnTo>
                  <a:lnTo>
                    <a:pt x="2547" y="803"/>
                  </a:lnTo>
                  <a:lnTo>
                    <a:pt x="2528" y="791"/>
                  </a:lnTo>
                  <a:lnTo>
                    <a:pt x="2501" y="772"/>
                  </a:lnTo>
                  <a:lnTo>
                    <a:pt x="2474" y="757"/>
                  </a:lnTo>
                  <a:lnTo>
                    <a:pt x="2447" y="737"/>
                  </a:lnTo>
                  <a:lnTo>
                    <a:pt x="2416" y="714"/>
                  </a:lnTo>
                  <a:lnTo>
                    <a:pt x="2385" y="695"/>
                  </a:lnTo>
                  <a:lnTo>
                    <a:pt x="2350" y="676"/>
                  </a:lnTo>
                  <a:lnTo>
                    <a:pt x="2300" y="645"/>
                  </a:lnTo>
                  <a:lnTo>
                    <a:pt x="2250" y="622"/>
                  </a:lnTo>
                  <a:lnTo>
                    <a:pt x="2196" y="602"/>
                  </a:lnTo>
                  <a:lnTo>
                    <a:pt x="2138" y="587"/>
                  </a:lnTo>
                  <a:lnTo>
                    <a:pt x="2088" y="575"/>
                  </a:lnTo>
                  <a:lnTo>
                    <a:pt x="2038" y="568"/>
                  </a:lnTo>
                  <a:lnTo>
                    <a:pt x="1991" y="560"/>
                  </a:lnTo>
                  <a:lnTo>
                    <a:pt x="1953" y="556"/>
                  </a:lnTo>
                  <a:lnTo>
                    <a:pt x="1926" y="552"/>
                  </a:lnTo>
                  <a:lnTo>
                    <a:pt x="1906" y="552"/>
                  </a:lnTo>
                  <a:lnTo>
                    <a:pt x="1899" y="552"/>
                  </a:lnTo>
                  <a:lnTo>
                    <a:pt x="1875" y="552"/>
                  </a:lnTo>
                  <a:lnTo>
                    <a:pt x="1841" y="548"/>
                  </a:lnTo>
                  <a:lnTo>
                    <a:pt x="1798" y="544"/>
                  </a:lnTo>
                  <a:lnTo>
                    <a:pt x="1748" y="541"/>
                  </a:lnTo>
                  <a:lnTo>
                    <a:pt x="1698" y="533"/>
                  </a:lnTo>
                  <a:lnTo>
                    <a:pt x="1648" y="525"/>
                  </a:lnTo>
                  <a:lnTo>
                    <a:pt x="1601" y="517"/>
                  </a:lnTo>
                  <a:lnTo>
                    <a:pt x="1559" y="506"/>
                  </a:lnTo>
                  <a:lnTo>
                    <a:pt x="1524" y="490"/>
                  </a:lnTo>
                  <a:lnTo>
                    <a:pt x="1501" y="475"/>
                  </a:lnTo>
                  <a:lnTo>
                    <a:pt x="1474" y="460"/>
                  </a:lnTo>
                  <a:lnTo>
                    <a:pt x="1455" y="436"/>
                  </a:lnTo>
                  <a:lnTo>
                    <a:pt x="1435" y="417"/>
                  </a:lnTo>
                  <a:lnTo>
                    <a:pt x="1416" y="394"/>
                  </a:lnTo>
                  <a:lnTo>
                    <a:pt x="1401" y="367"/>
                  </a:lnTo>
                  <a:lnTo>
                    <a:pt x="1385" y="344"/>
                  </a:lnTo>
                  <a:lnTo>
                    <a:pt x="1370" y="313"/>
                  </a:lnTo>
                  <a:lnTo>
                    <a:pt x="1354" y="286"/>
                  </a:lnTo>
                  <a:lnTo>
                    <a:pt x="1339" y="255"/>
                  </a:lnTo>
                  <a:lnTo>
                    <a:pt x="1327" y="236"/>
                  </a:lnTo>
                  <a:lnTo>
                    <a:pt x="1316" y="217"/>
                  </a:lnTo>
                  <a:lnTo>
                    <a:pt x="1300" y="193"/>
                  </a:lnTo>
                  <a:lnTo>
                    <a:pt x="1285" y="174"/>
                  </a:lnTo>
                  <a:lnTo>
                    <a:pt x="1269" y="151"/>
                  </a:lnTo>
                  <a:lnTo>
                    <a:pt x="1250" y="132"/>
                  </a:lnTo>
                  <a:lnTo>
                    <a:pt x="1235" y="108"/>
                  </a:lnTo>
                  <a:lnTo>
                    <a:pt x="1212" y="89"/>
                  </a:lnTo>
                  <a:lnTo>
                    <a:pt x="1192" y="74"/>
                  </a:lnTo>
                  <a:lnTo>
                    <a:pt x="1173" y="62"/>
                  </a:lnTo>
                  <a:lnTo>
                    <a:pt x="1150" y="47"/>
                  </a:lnTo>
                  <a:lnTo>
                    <a:pt x="1127" y="39"/>
                  </a:lnTo>
                  <a:lnTo>
                    <a:pt x="1100" y="27"/>
                  </a:lnTo>
                  <a:lnTo>
                    <a:pt x="1073" y="20"/>
                  </a:lnTo>
                  <a:lnTo>
                    <a:pt x="1038" y="12"/>
                  </a:lnTo>
                  <a:lnTo>
                    <a:pt x="999" y="8"/>
                  </a:lnTo>
                  <a:lnTo>
                    <a:pt x="953" y="4"/>
                  </a:lnTo>
                  <a:lnTo>
                    <a:pt x="895" y="0"/>
                  </a:lnTo>
                  <a:lnTo>
                    <a:pt x="833" y="0"/>
                  </a:lnTo>
                  <a:lnTo>
                    <a:pt x="756" y="4"/>
                  </a:lnTo>
                  <a:lnTo>
                    <a:pt x="698" y="8"/>
                  </a:lnTo>
                  <a:lnTo>
                    <a:pt x="648" y="12"/>
                  </a:lnTo>
                  <a:lnTo>
                    <a:pt x="606" y="24"/>
                  </a:lnTo>
                  <a:lnTo>
                    <a:pt x="567" y="35"/>
                  </a:lnTo>
                  <a:lnTo>
                    <a:pt x="536" y="47"/>
                  </a:lnTo>
                  <a:lnTo>
                    <a:pt x="509" y="62"/>
                  </a:lnTo>
                  <a:lnTo>
                    <a:pt x="486" y="78"/>
                  </a:lnTo>
                  <a:lnTo>
                    <a:pt x="463" y="97"/>
                  </a:lnTo>
                  <a:lnTo>
                    <a:pt x="443" y="112"/>
                  </a:lnTo>
                  <a:lnTo>
                    <a:pt x="424" y="132"/>
                  </a:lnTo>
                  <a:lnTo>
                    <a:pt x="405" y="147"/>
                  </a:lnTo>
                  <a:lnTo>
                    <a:pt x="386" y="170"/>
                  </a:lnTo>
                  <a:lnTo>
                    <a:pt x="366" y="193"/>
                  </a:lnTo>
                  <a:lnTo>
                    <a:pt x="343" y="220"/>
                  </a:lnTo>
                  <a:lnTo>
                    <a:pt x="320" y="244"/>
                  </a:lnTo>
                  <a:lnTo>
                    <a:pt x="297" y="271"/>
                  </a:lnTo>
                  <a:lnTo>
                    <a:pt x="274" y="298"/>
                  </a:lnTo>
                  <a:lnTo>
                    <a:pt x="250" y="321"/>
                  </a:lnTo>
                  <a:lnTo>
                    <a:pt x="227" y="344"/>
                  </a:lnTo>
                  <a:lnTo>
                    <a:pt x="208" y="363"/>
                  </a:lnTo>
                  <a:lnTo>
                    <a:pt x="173" y="390"/>
                  </a:lnTo>
                  <a:lnTo>
                    <a:pt x="142" y="413"/>
                  </a:lnTo>
                  <a:lnTo>
                    <a:pt x="111" y="433"/>
                  </a:lnTo>
                  <a:lnTo>
                    <a:pt x="84" y="444"/>
                  </a:lnTo>
                  <a:lnTo>
                    <a:pt x="61" y="456"/>
                  </a:lnTo>
                  <a:lnTo>
                    <a:pt x="42" y="467"/>
                  </a:lnTo>
                  <a:lnTo>
                    <a:pt x="23" y="471"/>
                  </a:lnTo>
                  <a:lnTo>
                    <a:pt x="11" y="475"/>
                  </a:lnTo>
                  <a:lnTo>
                    <a:pt x="3" y="479"/>
                  </a:lnTo>
                  <a:lnTo>
                    <a:pt x="0" y="4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5960" y="3832560"/>
              <a:ext cx="87840" cy="7056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35"/>
                  </a:moveTo>
                  <a:lnTo>
                    <a:pt x="81" y="73"/>
                  </a:lnTo>
                  <a:lnTo>
                    <a:pt x="31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742-65A0-4A6D-B306-345CC4DF65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(ratio of throughput to 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28880" y="3124080"/>
            <a:ext cx="3419640" cy="2645280"/>
            <a:chOff x="2828880" y="3124080"/>
            <a:chExt cx="3419640" cy="2645280"/>
          </a:xfrm>
        </p:grpSpPr>
        <p:sp>
          <p:nvSpPr>
            <p:cNvPr id="114" name=""/>
            <p:cNvSpPr/>
            <p:nvPr/>
          </p:nvSpPr>
          <p:spPr>
            <a:xfrm>
              <a:off x="3157560" y="3425760"/>
              <a:ext cx="2889000" cy="1783080"/>
            </a:xfrm>
            <a:custGeom>
              <a:avLst/>
              <a:gdLst/>
              <a:ahLst/>
              <a:rect l="l" t="t" r="r" b="b"/>
              <a:pathLst>
                <a:path w="2258" h="1418">
                  <a:moveTo>
                    <a:pt x="0" y="1418"/>
                  </a:moveTo>
                  <a:lnTo>
                    <a:pt x="427" y="215"/>
                  </a:lnTo>
                  <a:lnTo>
                    <a:pt x="427" y="207"/>
                  </a:lnTo>
                  <a:lnTo>
                    <a:pt x="431" y="191"/>
                  </a:lnTo>
                  <a:lnTo>
                    <a:pt x="443" y="170"/>
                  </a:lnTo>
                  <a:lnTo>
                    <a:pt x="455" y="142"/>
                  </a:lnTo>
                  <a:lnTo>
                    <a:pt x="475" y="109"/>
                  </a:lnTo>
                  <a:lnTo>
                    <a:pt x="500" y="77"/>
                  </a:lnTo>
                  <a:lnTo>
                    <a:pt x="528" y="48"/>
                  </a:lnTo>
                  <a:lnTo>
                    <a:pt x="565" y="24"/>
                  </a:lnTo>
                  <a:lnTo>
                    <a:pt x="605" y="8"/>
                  </a:lnTo>
                  <a:lnTo>
                    <a:pt x="650" y="0"/>
                  </a:lnTo>
                  <a:lnTo>
                    <a:pt x="670" y="0"/>
                  </a:lnTo>
                  <a:lnTo>
                    <a:pt x="690" y="4"/>
                  </a:lnTo>
                  <a:lnTo>
                    <a:pt x="711" y="8"/>
                  </a:lnTo>
                  <a:lnTo>
                    <a:pt x="735" y="16"/>
                  </a:lnTo>
                  <a:lnTo>
                    <a:pt x="755" y="28"/>
                  </a:lnTo>
                  <a:lnTo>
                    <a:pt x="776" y="44"/>
                  </a:lnTo>
                  <a:lnTo>
                    <a:pt x="796" y="61"/>
                  </a:lnTo>
                  <a:lnTo>
                    <a:pt x="816" y="81"/>
                  </a:lnTo>
                  <a:lnTo>
                    <a:pt x="837" y="105"/>
                  </a:lnTo>
                  <a:lnTo>
                    <a:pt x="853" y="130"/>
                  </a:lnTo>
                  <a:lnTo>
                    <a:pt x="869" y="158"/>
                  </a:lnTo>
                  <a:lnTo>
                    <a:pt x="885" y="183"/>
                  </a:lnTo>
                  <a:lnTo>
                    <a:pt x="902" y="211"/>
                  </a:lnTo>
                  <a:lnTo>
                    <a:pt x="918" y="239"/>
                  </a:lnTo>
                  <a:lnTo>
                    <a:pt x="938" y="280"/>
                  </a:lnTo>
                  <a:lnTo>
                    <a:pt x="963" y="329"/>
                  </a:lnTo>
                  <a:lnTo>
                    <a:pt x="991" y="390"/>
                  </a:lnTo>
                  <a:lnTo>
                    <a:pt x="1023" y="467"/>
                  </a:lnTo>
                  <a:lnTo>
                    <a:pt x="1068" y="560"/>
                  </a:lnTo>
                  <a:lnTo>
                    <a:pt x="1121" y="678"/>
                  </a:lnTo>
                  <a:lnTo>
                    <a:pt x="1194" y="824"/>
                  </a:lnTo>
                  <a:lnTo>
                    <a:pt x="1271" y="946"/>
                  </a:lnTo>
                  <a:lnTo>
                    <a:pt x="1352" y="1048"/>
                  </a:lnTo>
                  <a:lnTo>
                    <a:pt x="1438" y="1133"/>
                  </a:lnTo>
                  <a:lnTo>
                    <a:pt x="1523" y="1198"/>
                  </a:lnTo>
                  <a:lnTo>
                    <a:pt x="1604" y="1251"/>
                  </a:lnTo>
                  <a:lnTo>
                    <a:pt x="1677" y="1288"/>
                  </a:lnTo>
                  <a:lnTo>
                    <a:pt x="1742" y="1316"/>
                  </a:lnTo>
                  <a:lnTo>
                    <a:pt x="1799" y="1332"/>
                  </a:lnTo>
                  <a:lnTo>
                    <a:pt x="1840" y="1340"/>
                  </a:lnTo>
                  <a:lnTo>
                    <a:pt x="1876" y="1345"/>
                  </a:lnTo>
                  <a:lnTo>
                    <a:pt x="1921" y="1353"/>
                  </a:lnTo>
                  <a:lnTo>
                    <a:pt x="1974" y="1353"/>
                  </a:lnTo>
                  <a:lnTo>
                    <a:pt x="2031" y="1357"/>
                  </a:lnTo>
                  <a:lnTo>
                    <a:pt x="2087" y="1361"/>
                  </a:lnTo>
                  <a:lnTo>
                    <a:pt x="2140" y="1361"/>
                  </a:lnTo>
                  <a:lnTo>
                    <a:pt x="2185" y="1361"/>
                  </a:lnTo>
                  <a:lnTo>
                    <a:pt x="2226" y="1365"/>
                  </a:lnTo>
                  <a:lnTo>
                    <a:pt x="2250" y="1365"/>
                  </a:lnTo>
                  <a:lnTo>
                    <a:pt x="2258" y="136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080" y="3244680"/>
              <a:ext cx="2910240" cy="1979280"/>
            </a:xfrm>
            <a:custGeom>
              <a:avLst/>
              <a:gdLst/>
              <a:ahLst/>
              <a:rect l="l" t="t" r="r" b="b"/>
              <a:pathLst>
                <a:path w="2303" h="1593">
                  <a:moveTo>
                    <a:pt x="0" y="0"/>
                  </a:moveTo>
                  <a:lnTo>
                    <a:pt x="4" y="1593"/>
                  </a:lnTo>
                  <a:lnTo>
                    <a:pt x="2303" y="15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6720" y="5192640"/>
              <a:ext cx="120240" cy="615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8080" y="3124080"/>
              <a:ext cx="61200" cy="12060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89"/>
                  </a:moveTo>
                  <a:lnTo>
                    <a:pt x="24" y="0"/>
                  </a:lnTo>
                  <a:lnTo>
                    <a:pt x="0" y="94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984120" y="3225240"/>
              <a:ext cx="144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5800" y="531108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ptim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1600" y="550980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6120" y="5401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2116080" y="3987360"/>
              <a:ext cx="1684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roughput/del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0CA-DB95-488F-9B3F-D71BE9C1FA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uing Discip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In-First-Out (FI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iscriminate between traff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Queuing (F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segregates traffic based 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no flow captures more than its shar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: weighted fair queuing (WF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56160" y="3429000"/>
            <a:ext cx="3264480" cy="2590560"/>
            <a:chOff x="3656160" y="3429000"/>
            <a:chExt cx="3264480" cy="2590560"/>
          </a:xfrm>
        </p:grpSpPr>
        <p:sp>
          <p:nvSpPr>
            <p:cNvPr id="126" name=""/>
            <p:cNvSpPr/>
            <p:nvPr/>
          </p:nvSpPr>
          <p:spPr>
            <a:xfrm>
              <a:off x="3901680" y="5650200"/>
              <a:ext cx="1121760" cy="36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1680" y="5650200"/>
              <a:ext cx="0" cy="36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1680" y="3429000"/>
              <a:ext cx="1121760" cy="36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01680" y="3429000"/>
              <a:ext cx="0" cy="36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6160" y="35042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160" y="42487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6160" y="4985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6160" y="57240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w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78600" y="445716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-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06840" y="46519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596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6600" y="342900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400" y="342900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7240" y="342900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01680" y="417024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7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596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416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660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9400" y="4170240"/>
              <a:ext cx="50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72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0040" y="4170240"/>
              <a:ext cx="39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6440" y="41702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0320" y="4170240"/>
              <a:ext cx="432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7440" y="4170240"/>
              <a:ext cx="108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01680" y="4912920"/>
              <a:ext cx="1121760" cy="365040"/>
            </a:xfrm>
            <a:custGeom>
              <a:avLst/>
              <a:gdLst/>
              <a:ahLst/>
              <a:rect l="l" t="t" r="r" b="b"/>
              <a:pathLst>
                <a:path w="959" h="312">
                  <a:moveTo>
                    <a:pt x="0" y="308"/>
                  </a:moveTo>
                  <a:lnTo>
                    <a:pt x="959" y="312"/>
                  </a:lnTo>
                  <a:lnTo>
                    <a:pt x="95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596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416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46600" y="490896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9400" y="490896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7240" y="490896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0040" y="490896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3596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416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6600" y="5650200"/>
              <a:ext cx="108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9400" y="5650200"/>
              <a:ext cx="50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72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040" y="5650200"/>
              <a:ext cx="396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6440" y="5650200"/>
              <a:ext cx="144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0320" y="5650200"/>
              <a:ext cx="4320" cy="36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46240" y="4196160"/>
              <a:ext cx="63000" cy="11196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0" y="0"/>
                  </a:moveTo>
                  <a:lnTo>
                    <a:pt x="29" y="96"/>
                  </a:lnTo>
                  <a:lnTo>
                    <a:pt x="5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98200" y="3486960"/>
              <a:ext cx="1205280" cy="2498400"/>
            </a:xfrm>
            <a:custGeom>
              <a:avLst/>
              <a:gdLst/>
              <a:ahLst/>
              <a:rect l="l" t="t" r="r" b="b"/>
              <a:pathLst>
                <a:path w="1030" h="2138">
                  <a:moveTo>
                    <a:pt x="1030" y="1407"/>
                  </a:moveTo>
                  <a:lnTo>
                    <a:pt x="1009" y="1532"/>
                  </a:lnTo>
                  <a:lnTo>
                    <a:pt x="976" y="1648"/>
                  </a:lnTo>
                  <a:lnTo>
                    <a:pt x="939" y="1752"/>
                  </a:lnTo>
                  <a:lnTo>
                    <a:pt x="893" y="1847"/>
                  </a:lnTo>
                  <a:lnTo>
                    <a:pt x="843" y="1930"/>
                  </a:lnTo>
                  <a:lnTo>
                    <a:pt x="789" y="2001"/>
                  </a:lnTo>
                  <a:lnTo>
                    <a:pt x="727" y="2059"/>
                  </a:lnTo>
                  <a:lnTo>
                    <a:pt x="665" y="2100"/>
                  </a:lnTo>
                  <a:lnTo>
                    <a:pt x="598" y="2129"/>
                  </a:lnTo>
                  <a:lnTo>
                    <a:pt x="532" y="2138"/>
                  </a:lnTo>
                  <a:lnTo>
                    <a:pt x="445" y="2121"/>
                  </a:lnTo>
                  <a:lnTo>
                    <a:pt x="362" y="2084"/>
                  </a:lnTo>
                  <a:lnTo>
                    <a:pt x="287" y="2017"/>
                  </a:lnTo>
                  <a:lnTo>
                    <a:pt x="216" y="1930"/>
                  </a:lnTo>
                  <a:lnTo>
                    <a:pt x="154" y="1822"/>
                  </a:lnTo>
                  <a:lnTo>
                    <a:pt x="104" y="1698"/>
                  </a:lnTo>
                  <a:lnTo>
                    <a:pt x="59" y="1561"/>
                  </a:lnTo>
                  <a:lnTo>
                    <a:pt x="25" y="1407"/>
                  </a:lnTo>
                  <a:lnTo>
                    <a:pt x="9" y="1241"/>
                  </a:lnTo>
                  <a:lnTo>
                    <a:pt x="0" y="1067"/>
                  </a:lnTo>
                  <a:lnTo>
                    <a:pt x="9" y="897"/>
                  </a:lnTo>
                  <a:lnTo>
                    <a:pt x="25" y="731"/>
                  </a:lnTo>
                  <a:lnTo>
                    <a:pt x="59" y="577"/>
                  </a:lnTo>
                  <a:lnTo>
                    <a:pt x="104" y="436"/>
                  </a:lnTo>
                  <a:lnTo>
                    <a:pt x="154" y="311"/>
                  </a:lnTo>
                  <a:lnTo>
                    <a:pt x="216" y="208"/>
                  </a:lnTo>
                  <a:lnTo>
                    <a:pt x="287" y="120"/>
                  </a:lnTo>
                  <a:lnTo>
                    <a:pt x="362" y="54"/>
                  </a:lnTo>
                  <a:lnTo>
                    <a:pt x="445" y="13"/>
                  </a:lnTo>
                  <a:lnTo>
                    <a:pt x="532" y="0"/>
                  </a:lnTo>
                  <a:lnTo>
                    <a:pt x="590" y="8"/>
                  </a:lnTo>
                  <a:lnTo>
                    <a:pt x="648" y="25"/>
                  </a:lnTo>
                  <a:lnTo>
                    <a:pt x="702" y="58"/>
                  </a:lnTo>
                  <a:lnTo>
                    <a:pt x="756" y="104"/>
                  </a:lnTo>
                  <a:lnTo>
                    <a:pt x="806" y="158"/>
                  </a:lnTo>
                  <a:lnTo>
                    <a:pt x="852" y="220"/>
                  </a:lnTo>
                  <a:lnTo>
                    <a:pt x="897" y="295"/>
                  </a:lnTo>
                  <a:lnTo>
                    <a:pt x="935" y="378"/>
                  </a:lnTo>
                  <a:lnTo>
                    <a:pt x="968" y="469"/>
                  </a:lnTo>
                  <a:lnTo>
                    <a:pt x="997" y="569"/>
                  </a:lnTo>
                  <a:lnTo>
                    <a:pt x="1009" y="6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136-AADE-478B-BC6A-22DE3DE80D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Q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lock ticks each time a bit i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length of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start to transmit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finish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es router start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efore router finished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from this flow, then immediately after last b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urrent packets for this flow, then start transmitting when arrives (call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1B3-D65E-406C-9D82-A6BBC9919D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Q 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ultip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packet that arrives on eac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s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packet to transmit is one with lowest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fect: can’t preempt curren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5920" y="4343400"/>
            <a:ext cx="7474320" cy="1732680"/>
            <a:chOff x="835920" y="4343400"/>
            <a:chExt cx="7474320" cy="1732680"/>
          </a:xfrm>
        </p:grpSpPr>
        <p:sp>
          <p:nvSpPr>
            <p:cNvPr id="173" name=""/>
            <p:cNvSpPr/>
            <p:nvPr/>
          </p:nvSpPr>
          <p:spPr>
            <a:xfrm>
              <a:off x="129384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95880" y="454176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700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9040" y="58626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276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1600" y="455292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920" y="52182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6640" y="517680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5920" y="541800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04520" y="51814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12640" y="5479920"/>
              <a:ext cx="41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5280" y="5380200"/>
              <a:ext cx="528480" cy="115560"/>
            </a:xfrm>
            <a:custGeom>
              <a:avLst/>
              <a:gdLst/>
              <a:ahLst/>
              <a:rect l="l" t="t" r="r" b="b"/>
              <a:pathLst>
                <a:path w="333" h="73">
                  <a:moveTo>
                    <a:pt x="330" y="70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3" y="73"/>
                  </a:lnTo>
                  <a:lnTo>
                    <a:pt x="333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5495760"/>
              <a:ext cx="528480" cy="220680"/>
            </a:xfrm>
            <a:custGeom>
              <a:avLst/>
              <a:gdLst/>
              <a:ahLst/>
              <a:rect l="l" t="t" r="r" b="b"/>
              <a:pathLst>
                <a:path w="333" h="139">
                  <a:moveTo>
                    <a:pt x="330" y="135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3" y="139"/>
                  </a:lnTo>
                  <a:lnTo>
                    <a:pt x="333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72160"/>
              <a:ext cx="528480" cy="6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  <a:lnTo>
                    <a:pt x="331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74640" y="5295960"/>
              <a:ext cx="525600" cy="42048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1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1" y="265"/>
                  </a:lnTo>
                  <a:lnTo>
                    <a:pt x="331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  <a:lnTo>
                    <a:pt x="330" y="7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1120" y="5380200"/>
              <a:ext cx="523800" cy="115560"/>
            </a:xfrm>
            <a:custGeom>
              <a:avLst/>
              <a:gdLst/>
              <a:ahLst/>
              <a:rect l="l" t="t" r="r" b="b"/>
              <a:pathLst>
                <a:path w="330" h="73">
                  <a:moveTo>
                    <a:pt x="330" y="70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0" y="73"/>
                  </a:lnTo>
                  <a:lnTo>
                    <a:pt x="330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  <a:lnTo>
                    <a:pt x="330" y="13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1120" y="5495760"/>
              <a:ext cx="523800" cy="220680"/>
            </a:xfrm>
            <a:custGeom>
              <a:avLst/>
              <a:gdLst/>
              <a:ahLst/>
              <a:rect l="l" t="t" r="r" b="b"/>
              <a:pathLst>
                <a:path w="330" h="139">
                  <a:moveTo>
                    <a:pt x="330" y="135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330" y="139"/>
                  </a:lnTo>
                  <a:lnTo>
                    <a:pt x="330" y="1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  <a:lnTo>
                    <a:pt x="330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1120" y="4960800"/>
              <a:ext cx="523800" cy="419400"/>
            </a:xfrm>
            <a:custGeom>
              <a:avLst/>
              <a:gdLst/>
              <a:ahLst/>
              <a:rect l="l" t="t" r="r" b="b"/>
              <a:pathLst>
                <a:path w="330" h="264">
                  <a:moveTo>
                    <a:pt x="330" y="261"/>
                  </a:moveTo>
                  <a:lnTo>
                    <a:pt x="330" y="0"/>
                  </a:lnTo>
                  <a:lnTo>
                    <a:pt x="0" y="0"/>
                  </a:lnTo>
                  <a:lnTo>
                    <a:pt x="0" y="264"/>
                  </a:lnTo>
                  <a:lnTo>
                    <a:pt x="330" y="264"/>
                  </a:lnTo>
                  <a:lnTo>
                    <a:pt x="330" y="26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44640" y="4776840"/>
              <a:ext cx="530280" cy="183960"/>
            </a:xfrm>
            <a:custGeom>
              <a:avLst/>
              <a:gdLst/>
              <a:ahLst/>
              <a:rect l="l" t="t" r="r" b="b"/>
              <a:pathLst>
                <a:path w="334" h="116">
                  <a:moveTo>
                    <a:pt x="0" y="0"/>
                  </a:moveTo>
                  <a:lnTo>
                    <a:pt x="4" y="116"/>
                  </a:lnTo>
                  <a:lnTo>
                    <a:pt x="334" y="116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588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73360" y="4552920"/>
              <a:ext cx="70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51720" y="43434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91080" y="455292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transmitt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  <a:lnTo>
                    <a:pt x="330" y="7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2000" y="5600520"/>
              <a:ext cx="529920" cy="11592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330" y="73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334" y="73"/>
                  </a:lnTo>
                  <a:lnTo>
                    <a:pt x="334" y="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2000" y="4776840"/>
              <a:ext cx="529920" cy="823680"/>
            </a:xfrm>
            <a:custGeom>
              <a:avLst/>
              <a:gdLst/>
              <a:ahLst/>
              <a:rect l="l" t="t" r="r" b="b"/>
              <a:pathLst>
                <a:path w="334" h="519">
                  <a:moveTo>
                    <a:pt x="0" y="0"/>
                  </a:moveTo>
                  <a:lnTo>
                    <a:pt x="0" y="519"/>
                  </a:lnTo>
                  <a:lnTo>
                    <a:pt x="334" y="519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  <a:lnTo>
                    <a:pt x="327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62520" y="5302080"/>
              <a:ext cx="525600" cy="414360"/>
            </a:xfrm>
            <a:custGeom>
              <a:avLst/>
              <a:gdLst/>
              <a:ahLst/>
              <a:rect l="l" t="t" r="r" b="b"/>
              <a:pathLst>
                <a:path w="331" h="261">
                  <a:moveTo>
                    <a:pt x="327" y="261"/>
                  </a:moveTo>
                  <a:lnTo>
                    <a:pt x="331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331" y="261"/>
                  </a:lnTo>
                  <a:lnTo>
                    <a:pt x="331" y="26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7840" y="4776840"/>
              <a:ext cx="530280" cy="525240"/>
            </a:xfrm>
            <a:custGeom>
              <a:avLst/>
              <a:gdLst/>
              <a:ahLst/>
              <a:rect l="l" t="t" r="r" b="b"/>
              <a:pathLst>
                <a:path w="334" h="331">
                  <a:moveTo>
                    <a:pt x="0" y="0"/>
                  </a:moveTo>
                  <a:lnTo>
                    <a:pt x="0" y="331"/>
                  </a:lnTo>
                  <a:lnTo>
                    <a:pt x="334" y="331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  <a:lnTo>
                    <a:pt x="334" y="6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9960" y="5181480"/>
              <a:ext cx="530280" cy="114480"/>
            </a:xfrm>
            <a:custGeom>
              <a:avLst/>
              <a:gdLst/>
              <a:ahLst/>
              <a:rect l="l" t="t" r="r" b="b"/>
              <a:pathLst>
                <a:path w="334" h="72">
                  <a:moveTo>
                    <a:pt x="334" y="69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34" y="72"/>
                  </a:lnTo>
                  <a:lnTo>
                    <a:pt x="334" y="7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  <a:lnTo>
                    <a:pt x="334" y="2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9960" y="5295960"/>
              <a:ext cx="530280" cy="420480"/>
            </a:xfrm>
            <a:custGeom>
              <a:avLst/>
              <a:gdLst/>
              <a:ahLst/>
              <a:rect l="l" t="t" r="r" b="b"/>
              <a:pathLst>
                <a:path w="334" h="265">
                  <a:moveTo>
                    <a:pt x="334" y="261"/>
                  </a:moveTo>
                  <a:lnTo>
                    <a:pt x="334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334" y="265"/>
                  </a:lnTo>
                  <a:lnTo>
                    <a:pt x="334" y="2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5280" y="4782960"/>
              <a:ext cx="534960" cy="398520"/>
            </a:xfrm>
            <a:custGeom>
              <a:avLst/>
              <a:gdLst/>
              <a:ahLst/>
              <a:rect l="l" t="t" r="r" b="b"/>
              <a:pathLst>
                <a:path w="337" h="251">
                  <a:moveTo>
                    <a:pt x="0" y="0"/>
                  </a:moveTo>
                  <a:lnTo>
                    <a:pt x="3" y="251"/>
                  </a:lnTo>
                  <a:lnTo>
                    <a:pt x="337" y="251"/>
                  </a:lnTo>
                  <a:lnTo>
                    <a:pt x="3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9960" y="4776840"/>
              <a:ext cx="530280" cy="519120"/>
            </a:xfrm>
            <a:custGeom>
              <a:avLst/>
              <a:gdLst/>
              <a:ahLst/>
              <a:rect l="l" t="t" r="r" b="b"/>
              <a:pathLst>
                <a:path w="334" h="327">
                  <a:moveTo>
                    <a:pt x="0" y="0"/>
                  </a:moveTo>
                  <a:lnTo>
                    <a:pt x="3" y="327"/>
                  </a:lnTo>
                  <a:lnTo>
                    <a:pt x="334" y="327"/>
                  </a:lnTo>
                  <a:lnTo>
                    <a:pt x="334" y="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6F2-12FF-45FC-9083-5FAC3275B2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Congestion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best-effort network (FIFO or FQ routers)each source determines network capacity fo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mplici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s pace transmiss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c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available capacity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242-6E09-45AE-853A-87FCAC8727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itive Increase/Multiplicative Decre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adjust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te variable per connectio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how much data source ha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Win = MIN(CongestionWindow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vertisedWind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Win = MaxWin - (LastByteSent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Ack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91D-3E58-41EB-812D-82DBCC0A82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21:42:18Z</dcterms:created>
  <dc:creator>Ryan Peterson</dc:creator>
  <dc:description/>
  <dc:language>en-US</dc:language>
  <cp:lastModifiedBy>Larry Peterson</cp:lastModifiedBy>
  <dcterms:modified xsi:type="dcterms:W3CDTF">2000-02-07T16:00:56Z</dcterms:modified>
  <cp:revision>19</cp:revision>
  <dc:subject/>
  <dc:title>Congestion Control</dc:title>
</cp:coreProperties>
</file>