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CCB-ED44-48A3-9D65-D2B9291E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A0B-9EA8-4F57-9F2E-FF717263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F6E-C113-4370-9407-18CB4F3A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6A6-1832-4A45-BCBD-123AAF3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811-6A03-4474-BE04-298FFA2A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011-10DA-4656-8785-99BEFB4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166-56A1-4A25-B59E-ABC1828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0A1-5C07-45BB-BE43-67574F9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804-89CF-45C1-AB07-CE3F4D9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780-34CF-4029-884B-EEC379F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233-1186-4EB4-ADD5-67CD722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BF3-605C-4E26-A027-18DD488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966-9282-4802-A5EC-36FEC727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ared Access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(802.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F60-0A6A-4242-912C-9F4D81AB71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easures TRT between successive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gt; TTRT: token is late so don’t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lt; TTRT: token is early so OK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asse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: can always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can send only if token i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case: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between seei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-to-back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rotation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670-303E-4D3E-8380-D7FCA92D77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Mainten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ken when initializing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corrupts toke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holding token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a Token (and agreeing on 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when join ring or suspect 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 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ncludes the node’s TT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claim frame, update the bid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claim frame makes it all the way around the 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id was the 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nsert new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D25-EBB2-4CB6-9AFF-580F717450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intenanc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for a Valid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eriodically see valid transmission (frame or 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gap = ring latency  + max frame &lt; = 2.5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imer at 2.5ms and send claim frame if it f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1D7-6AF2-40FC-A18D-194F545DE1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 or 2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radio (2.4G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d infrared (1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4EA-3586-44DE-B8BC-62B25824D3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ignal over wider frequency band tha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igned to thwart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over random sequence of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and receiver sh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uses 7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MHz-wide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886-0DA8-4160-A482-76519C9E69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it, send XOR of that bi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known to both sender and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pp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fines an 11-bit chipp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080" y="4038480"/>
            <a:ext cx="7774560" cy="1774440"/>
            <a:chOff x="685080" y="4038480"/>
            <a:chExt cx="7774560" cy="1774440"/>
          </a:xfrm>
        </p:grpSpPr>
        <p:sp>
          <p:nvSpPr>
            <p:cNvPr id="171" name=""/>
            <p:cNvSpPr/>
            <p:nvPr/>
          </p:nvSpPr>
          <p:spPr>
            <a:xfrm>
              <a:off x="835560" y="409428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771" y="0"/>
                  </a:lnTo>
                  <a:lnTo>
                    <a:pt x="771" y="253"/>
                  </a:lnTo>
                  <a:lnTo>
                    <a:pt x="1540" y="253"/>
                  </a:lnTo>
                  <a:lnTo>
                    <a:pt x="1540" y="0"/>
                  </a:lnTo>
                  <a:lnTo>
                    <a:pt x="2311" y="0"/>
                  </a:lnTo>
                  <a:lnTo>
                    <a:pt x="2311" y="253"/>
                  </a:lnTo>
                  <a:lnTo>
                    <a:pt x="3079" y="253"/>
                  </a:lnTo>
                  <a:lnTo>
                    <a:pt x="307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5560" y="4752000"/>
              <a:ext cx="4392720" cy="32904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50"/>
                  </a:moveTo>
                  <a:lnTo>
                    <a:pt x="192" y="253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253"/>
                  </a:lnTo>
                  <a:lnTo>
                    <a:pt x="771" y="253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540" y="253"/>
                  </a:lnTo>
                  <a:lnTo>
                    <a:pt x="1732" y="253"/>
                  </a:lnTo>
                  <a:lnTo>
                    <a:pt x="1732" y="0"/>
                  </a:lnTo>
                  <a:lnTo>
                    <a:pt x="1924" y="0"/>
                  </a:lnTo>
                  <a:lnTo>
                    <a:pt x="1924" y="253"/>
                  </a:lnTo>
                  <a:lnTo>
                    <a:pt x="2116" y="253"/>
                  </a:lnTo>
                  <a:lnTo>
                    <a:pt x="2116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5560" y="5410800"/>
              <a:ext cx="4392720" cy="329400"/>
            </a:xfrm>
            <a:custGeom>
              <a:avLst/>
              <a:gdLst/>
              <a:ahLst/>
              <a:rect l="l" t="t" r="r" b="b"/>
              <a:pathLst>
                <a:path w="3079" h="253">
                  <a:moveTo>
                    <a:pt x="0" y="249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53"/>
                  </a:lnTo>
                  <a:lnTo>
                    <a:pt x="384" y="253"/>
                  </a:lnTo>
                  <a:lnTo>
                    <a:pt x="384" y="0"/>
                  </a:lnTo>
                  <a:lnTo>
                    <a:pt x="771" y="0"/>
                  </a:lnTo>
                  <a:lnTo>
                    <a:pt x="963" y="0"/>
                  </a:lnTo>
                  <a:lnTo>
                    <a:pt x="963" y="253"/>
                  </a:lnTo>
                  <a:lnTo>
                    <a:pt x="1155" y="253"/>
                  </a:lnTo>
                  <a:lnTo>
                    <a:pt x="1155" y="0"/>
                  </a:lnTo>
                  <a:lnTo>
                    <a:pt x="1540" y="0"/>
                  </a:lnTo>
                  <a:lnTo>
                    <a:pt x="1732" y="0"/>
                  </a:lnTo>
                  <a:lnTo>
                    <a:pt x="1732" y="253"/>
                  </a:lnTo>
                  <a:lnTo>
                    <a:pt x="1924" y="253"/>
                  </a:lnTo>
                  <a:lnTo>
                    <a:pt x="1924" y="0"/>
                  </a:lnTo>
                  <a:lnTo>
                    <a:pt x="2116" y="0"/>
                  </a:lnTo>
                  <a:lnTo>
                    <a:pt x="2116" y="253"/>
                  </a:lnTo>
                  <a:lnTo>
                    <a:pt x="2311" y="253"/>
                  </a:lnTo>
                  <a:lnTo>
                    <a:pt x="2311" y="0"/>
                  </a:lnTo>
                  <a:lnTo>
                    <a:pt x="2503" y="0"/>
                  </a:lnTo>
                  <a:lnTo>
                    <a:pt x="2503" y="253"/>
                  </a:lnTo>
                  <a:lnTo>
                    <a:pt x="2887" y="253"/>
                  </a:lnTo>
                  <a:lnTo>
                    <a:pt x="2887" y="0"/>
                  </a:lnTo>
                  <a:lnTo>
                    <a:pt x="3079" y="0"/>
                  </a:lnTo>
                  <a:lnTo>
                    <a:pt x="3079" y="25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76880" y="4942080"/>
              <a:ext cx="318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dom sequence: 010010110101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1560" y="4282920"/>
              <a:ext cx="146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stream: 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7240" y="5599440"/>
              <a:ext cx="28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OR of the two: 1011101110101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080" y="4942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080" y="559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080" y="4282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080" y="5354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080" y="4695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080" y="4038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C09-3BEC-48A9-9735-2608326E7A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E02F3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753000" cy="26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AB7-7D59-435E-8E35-937D5985B2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A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ransmi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ear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TS: keep 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RTS but not CTS: ok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sends ACK when ha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silent until se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llisions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when don’t receive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C32-C30A-4FB7-828A-E577F642F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porting Mobilit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bile node associates with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E02F39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65880" cy="31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E56-7D36-47A4-B19C-06DBCB934C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bilit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(selecting an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’s w/in reach reply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lects one AP; sends 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e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ion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 informs old AP via tethe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: when join or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: AP periodically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a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742-80D8-4B13-8C18-E6F2B3C6DB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Xerox PARC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s in Aloha packet-radi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by Xerox, DEC, and Intel in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05120" y="5153040"/>
            <a:ext cx="5638680" cy="931680"/>
            <a:chOff x="1905120" y="5153040"/>
            <a:chExt cx="5638680" cy="931680"/>
          </a:xfrm>
        </p:grpSpPr>
        <p:sp>
          <p:nvSpPr>
            <p:cNvPr id="46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32720" y="5478480"/>
              <a:ext cx="241200" cy="581040"/>
            </a:xfrm>
            <a:custGeom>
              <a:avLst/>
              <a:gdLst/>
              <a:ahLst/>
              <a:rect l="l" t="t" r="r" b="b"/>
              <a:pathLst>
                <a:path w="200" h="448">
                  <a:moveTo>
                    <a:pt x="63" y="448"/>
                  </a:moveTo>
                  <a:lnTo>
                    <a:pt x="200" y="448"/>
                  </a:lnTo>
                  <a:lnTo>
                    <a:pt x="200" y="0"/>
                  </a:lnTo>
                  <a:lnTo>
                    <a:pt x="63" y="0"/>
                  </a:lnTo>
                  <a:lnTo>
                    <a:pt x="0" y="148"/>
                  </a:lnTo>
                  <a:lnTo>
                    <a:pt x="142" y="148"/>
                  </a:lnTo>
                  <a:lnTo>
                    <a:pt x="63" y="448"/>
                  </a:lnTo>
                  <a:lnTo>
                    <a:pt x="63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3440" y="5478480"/>
              <a:ext cx="1065240" cy="581040"/>
            </a:xfrm>
            <a:custGeom>
              <a:avLst/>
              <a:gdLst/>
              <a:ahLst/>
              <a:rect l="l" t="t" r="r" b="b"/>
              <a:pathLst>
                <a:path w="884" h="448">
                  <a:moveTo>
                    <a:pt x="811" y="448"/>
                  </a:moveTo>
                  <a:lnTo>
                    <a:pt x="0" y="448"/>
                  </a:lnTo>
                  <a:lnTo>
                    <a:pt x="0" y="0"/>
                  </a:lnTo>
                  <a:lnTo>
                    <a:pt x="811" y="0"/>
                  </a:lnTo>
                  <a:lnTo>
                    <a:pt x="726" y="201"/>
                  </a:lnTo>
                  <a:lnTo>
                    <a:pt x="884" y="201"/>
                  </a:lnTo>
                  <a:lnTo>
                    <a:pt x="811" y="448"/>
                  </a:lnTo>
                  <a:lnTo>
                    <a:pt x="811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6840" y="55213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37200" y="5751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05120" y="5478480"/>
              <a:ext cx="5638680" cy="581040"/>
            </a:xfrm>
            <a:custGeom>
              <a:avLst/>
              <a:gdLst/>
              <a:ahLst/>
              <a:rect l="l" t="t" r="r" b="b"/>
              <a:pathLst>
                <a:path w="4684" h="448">
                  <a:moveTo>
                    <a:pt x="4684" y="448"/>
                  </a:moveTo>
                  <a:lnTo>
                    <a:pt x="4684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4684" y="448"/>
                  </a:lnTo>
                  <a:lnTo>
                    <a:pt x="4684" y="44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32280" y="5478480"/>
              <a:ext cx="144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7800" y="5511960"/>
              <a:ext cx="648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43440" y="5478480"/>
              <a:ext cx="1800" cy="58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05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369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3736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37640" y="5622840"/>
              <a:ext cx="49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32920" y="562284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am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7480" y="55119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8200" y="57610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4680" y="5511960"/>
              <a:ext cx="6120" cy="572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05520" y="56228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22800" y="56228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5153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19A-1E6D-4FF5-9BFF-C28F08E2B0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, 48-bit unicast address assigned to each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:0:e4:b1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first bit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0Mbps, 100Mbps, 1G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: 2500m (500m segments with 4 repe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Distributed algorithm that provides fai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96B-F32A-4AE2-BF9A-73F8039DD4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nsmi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id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ound message size of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wait 9.6us between back-to-bac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bus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idle and transmi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ersis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cial c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per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14C-5479-4E49-BF41-74135B289B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for 32 bits, then stop transmitting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frame is 64 bytes (header + 46 bytes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time: 0 or 51.2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time: 0, 51.2, or 102.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time51.2, 102.4, or 153.6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1.2us, for randomly sel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.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p after several tries (usually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AFF-94D2-44C6-9FC9-6C45FD6E1C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3400" y="2422440"/>
            <a:ext cx="4208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73360" y="239220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1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6640" y="167652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00320" y="203508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06880" y="1743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67560" y="167652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8920" y="203364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8960" y="221148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06800" y="2335320"/>
            <a:ext cx="64764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5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0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6640" y="2870280"/>
            <a:ext cx="392040" cy="35856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0320" y="3228840"/>
            <a:ext cx="64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6880" y="2938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67560" y="2870280"/>
            <a:ext cx="388800" cy="3585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200400"/>
            <a:ext cx="46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58960" y="340524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3200" y="3608280"/>
            <a:ext cx="42516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6920" y="35877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0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15040" y="3530520"/>
            <a:ext cx="649080" cy="17784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2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30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6640" y="406548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00320" y="4424400"/>
            <a:ext cx="648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06880" y="41338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67560" y="406548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8920" y="4417920"/>
            <a:ext cx="46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8960" y="4600440"/>
            <a:ext cx="3497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59440" y="4821120"/>
            <a:ext cx="43956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4720" y="4782960"/>
            <a:ext cx="119160" cy="6192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4724280"/>
            <a:ext cx="650880" cy="177840"/>
          </a:xfrm>
          <a:custGeom>
            <a:avLst/>
            <a:gdLst/>
            <a:ahLst/>
            <a:rect l="l" t="t" r="r" b="b"/>
            <a:pathLst>
              <a:path w="426" h="126">
                <a:moveTo>
                  <a:pt x="426" y="126"/>
                </a:moveTo>
                <a:lnTo>
                  <a:pt x="0" y="126"/>
                </a:lnTo>
                <a:lnTo>
                  <a:pt x="0" y="0"/>
                </a:lnTo>
                <a:lnTo>
                  <a:pt x="426" y="0"/>
                </a:lnTo>
                <a:lnTo>
                  <a:pt x="426" y="126"/>
                </a:lnTo>
                <a:lnTo>
                  <a:pt x="426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7240" y="4721400"/>
            <a:ext cx="326880" cy="18072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7440" y="4809960"/>
            <a:ext cx="93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3840" y="4782960"/>
            <a:ext cx="114480" cy="61920"/>
          </a:xfrm>
          <a:custGeom>
            <a:avLst/>
            <a:gdLst/>
            <a:ahLst/>
            <a:rect l="l" t="t" r="r" b="b"/>
            <a:pathLst>
              <a:path w="75" h="44">
                <a:moveTo>
                  <a:pt x="75" y="0"/>
                </a:moveTo>
                <a:lnTo>
                  <a:pt x="0" y="20"/>
                </a:lnTo>
                <a:lnTo>
                  <a:pt x="75" y="4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30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6640" y="5259240"/>
            <a:ext cx="392040" cy="35892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0320" y="5618160"/>
            <a:ext cx="64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06880" y="53262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7560" y="5259240"/>
            <a:ext cx="388800" cy="35892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638680"/>
            <a:ext cx="468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58960" y="5796000"/>
            <a:ext cx="3497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0320" y="5915160"/>
            <a:ext cx="328680" cy="18072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67000" y="6005520"/>
            <a:ext cx="92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977080"/>
            <a:ext cx="119160" cy="63360"/>
          </a:xfrm>
          <a:custGeom>
            <a:avLst/>
            <a:gdLst/>
            <a:ahLst/>
            <a:rect l="l" t="t" r="r" b="b"/>
            <a:pathLst>
              <a:path w="78" h="45">
                <a:moveTo>
                  <a:pt x="74" y="0"/>
                </a:moveTo>
                <a:lnTo>
                  <a:pt x="0" y="21"/>
                </a:lnTo>
                <a:lnTo>
                  <a:pt x="78" y="45"/>
                </a:lnTo>
                <a:lnTo>
                  <a:pt x="78" y="0"/>
                </a:lnTo>
                <a:lnTo>
                  <a:pt x="78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C85-8AE9-4FBC-9F21-CC79F3256F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Mbps IEEE 802.5 (based on earlier IBM 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bps Fiber Distributed Data Interface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E02F29" descr=""/>
          <p:cNvPicPr/>
          <p:nvPr/>
        </p:nvPicPr>
        <p:blipFill>
          <a:blip r:embed="rId1"/>
          <a:stretch/>
        </p:blipFill>
        <p:spPr>
          <a:xfrm>
            <a:off x="3276720" y="3430440"/>
            <a:ext cx="2506680" cy="24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F66-86F5-493E-AA23-CDF429FEB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flow in one direction: upstream to down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bit pattern (token) rotates around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apture token befor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token after don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your frame when it comes back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get round-rob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5257800"/>
            <a:ext cx="6643440" cy="691920"/>
            <a:chOff x="1295280" y="5257800"/>
            <a:chExt cx="6643440" cy="691920"/>
          </a:xfrm>
        </p:grpSpPr>
        <p:sp>
          <p:nvSpPr>
            <p:cNvPr id="126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  <a:lnTo>
                    <a:pt x="44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46960" y="5510520"/>
              <a:ext cx="284760" cy="439200"/>
            </a:xfrm>
            <a:custGeom>
              <a:avLst/>
              <a:gdLst/>
              <a:ahLst/>
              <a:rect l="l" t="t" r="r" b="b"/>
              <a:pathLst>
                <a:path w="216" h="341">
                  <a:moveTo>
                    <a:pt x="44" y="341"/>
                  </a:moveTo>
                  <a:lnTo>
                    <a:pt x="216" y="341"/>
                  </a:lnTo>
                  <a:lnTo>
                    <a:pt x="216" y="0"/>
                  </a:lnTo>
                  <a:lnTo>
                    <a:pt x="48" y="0"/>
                  </a:lnTo>
                  <a:lnTo>
                    <a:pt x="0" y="113"/>
                  </a:lnTo>
                  <a:lnTo>
                    <a:pt x="108" y="113"/>
                  </a:lnTo>
                  <a:lnTo>
                    <a:pt x="48" y="341"/>
                  </a:lnTo>
                  <a:lnTo>
                    <a:pt x="48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  <a:lnTo>
                    <a:pt x="818" y="34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5510520"/>
              <a:ext cx="1157040" cy="439200"/>
            </a:xfrm>
            <a:custGeom>
              <a:avLst/>
              <a:gdLst/>
              <a:ahLst/>
              <a:rect l="l" t="t" r="r" b="b"/>
              <a:pathLst>
                <a:path w="878" h="341">
                  <a:moveTo>
                    <a:pt x="818" y="341"/>
                  </a:moveTo>
                  <a:lnTo>
                    <a:pt x="0" y="341"/>
                  </a:lnTo>
                  <a:lnTo>
                    <a:pt x="0" y="0"/>
                  </a:lnTo>
                  <a:lnTo>
                    <a:pt x="822" y="0"/>
                  </a:lnTo>
                  <a:lnTo>
                    <a:pt x="758" y="153"/>
                  </a:lnTo>
                  <a:lnTo>
                    <a:pt x="878" y="153"/>
                  </a:lnTo>
                  <a:lnTo>
                    <a:pt x="822" y="341"/>
                  </a:lnTo>
                  <a:lnTo>
                    <a:pt x="822" y="3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5360" y="561492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5280" y="5505120"/>
              <a:ext cx="3252240" cy="444600"/>
            </a:xfrm>
            <a:custGeom>
              <a:avLst/>
              <a:gdLst/>
              <a:ahLst/>
              <a:rect l="l" t="t" r="r" b="b"/>
              <a:pathLst>
                <a:path w="2468" h="345">
                  <a:moveTo>
                    <a:pt x="2468" y="0"/>
                  </a:moveTo>
                  <a:lnTo>
                    <a:pt x="0" y="4"/>
                  </a:lnTo>
                  <a:lnTo>
                    <a:pt x="0" y="345"/>
                  </a:lnTo>
                  <a:lnTo>
                    <a:pt x="2468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20920" y="5510520"/>
              <a:ext cx="2017800" cy="439200"/>
            </a:xfrm>
            <a:custGeom>
              <a:avLst/>
              <a:gdLst/>
              <a:ahLst/>
              <a:rect l="l" t="t" r="r" b="b"/>
              <a:pathLst>
                <a:path w="1531" h="341">
                  <a:moveTo>
                    <a:pt x="0" y="341"/>
                  </a:moveTo>
                  <a:lnTo>
                    <a:pt x="1531" y="341"/>
                  </a:lnTo>
                  <a:lnTo>
                    <a:pt x="1531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05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9840" y="5510520"/>
              <a:ext cx="50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01040" y="5510520"/>
              <a:ext cx="1080" cy="43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2296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4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1400" y="525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4084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8800" y="561888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4320" y="5533560"/>
              <a:ext cx="57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61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9160" y="55335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9520" y="571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5800" y="553356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9580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5520" y="5510520"/>
              <a:ext cx="1440" cy="43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1120" y="56188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356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75720" y="5257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0280" y="5533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9560" y="5718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7960" y="5505120"/>
              <a:ext cx="50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86760" y="56188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2760" y="52628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48C-72A5-4190-86C2-3B39FCCA7E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d Toke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Holding Time (T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how long a station can hold th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otation Time (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it takes the token to traverse the 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ng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ken Rotation Time (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-upon upper bound on 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1FB-0F9A-4ACA-8915-BA5CB2157A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1:29:11Z</dcterms:created>
  <dc:creator>klp</dc:creator>
  <dc:description/>
  <dc:language>en-US</dc:language>
  <cp:lastModifiedBy>Larry Peterson</cp:lastModifiedBy>
  <dcterms:modified xsi:type="dcterms:W3CDTF">2000-02-07T15:57:07Z</dcterms:modified>
  <cp:revision>21</cp:revision>
  <dc:subject/>
  <dc:title>No Slide Title</dc:title>
</cp:coreProperties>
</file>